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096-28DD-4BBD-8E55-6A9DF112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C59-9112-49CC-9E39-6A208F9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CE7-05D0-466D-AE1B-3E91A536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CAA-4D2F-48C8-8148-C20761AF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4B5-9B70-49F9-87EA-AD7C6441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F35-FEDD-47BD-9348-D8F7622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C1C-A7F4-40B2-8CA3-D8442BA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770-2CDC-4881-B90A-6828BE86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B7A-D2F8-41B1-BA2C-A4C26C34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B1B-E2A5-46E7-AC9F-F858410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C7D-A5CD-4DD3-96A7-3EE034B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C9A-647D-49DA-850D-664E88E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CD93-6445-4EB6-89C4-80F354534BB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720" y="764640"/>
            <a:ext cx="9016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ezentace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– Management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807876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ém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ostindustriální spole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ým č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lenové tý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Marie Med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Jitka Kon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c. Petr Cí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činy úspěchu mcdonaliz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fektiv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počítate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pověditel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Bauerovy příčiny mnoha fenoménů dnešní do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dostatečné vzdělání, chybějící nadhled a znalost reálných souvislos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goismus. Vlastní prospěch je dogmatem podniků, politických uskupení, odborů a vlá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radoxnost systémového chování. Podobně jako lze vypnout stroj stisknutím tlačítka, vypíná se i člověk v určité době působením zčásti protismyslných záko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istuje cesta v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uerova doporu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ýšení skutečně lidské spoluprá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dukce neosobního ego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at dříve, než se objeví probl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vazovat se pouze k tomu, co jsme schopni sami spl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itzerova 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bydlete v sídlištních by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ýbejte se ruti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 nejvíce věcí dělejte s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acejte se na místní a lokální podnikatele, lékař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vpusťte mcdonalizaci do škol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alší doporuč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rvale udržitelný vývoj (sustainable develop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rategie přežití (strategy of surviv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ěkujeme Vám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981000"/>
            <a:ext cx="8028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1) BAUER, W.M.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yranie blahobyt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Volvo Globator, 1997. ISBN 80-7207-033-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2) BELL, D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ulturní rozpory kapitalism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Sociologické nakladatelství, 1999. ISBN 80-85850-84-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3) RITZER, G.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cdonaldizace společnosti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Praha: Academia, 1996. ISBN 80-200-0571-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4) ZEMAN, J. Problémy globálního trvale udržitelného rozvoje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arath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[online]. 2005, č.3/1998. Dostupný na WWW: &lt; http://misc.eunet.cz/marathon&gt;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ělení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le Bella se společnosti dělí podle stupně své industrializace 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industriální (agrární), kde převládá zeměděl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dustriální, kde převládá průmyslový se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industriální, kde největší počet zaměstnaných pohltí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harakteristiky postindustriální společn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muje se zcela nová vládnoucí e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acovní síla se přesouvá do sektoru služeb (tuto společnost později nazývá také společností služeb nebo společností „osobních služeb“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chnologie se stává hybnou silou sociální změ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důležitějším typem vědění se stává teoretické poznání, institucionálním symbolem postindustriální společnosti je univerz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měny ve struktuře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nik globální ekonom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ný trh kapitálu, zboží, kvalifikované pracovní síly a technologi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zvoj komun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vázanost světa pomocí propojení optickými vlákny, kabelovou televizí, satelity, elektronickou sítí (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sou motorem globální ekonomiky, boří hranice mezi jednotlivými ekonomickými aktivi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auerův popis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vádí tři základní východiska, z nichž vychází. Zdůrazňuje nutnost jistoty v životě jednotlivce, kterou mu však dnešní společnost neposkyt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řemi nejvýraznějšími faktory, které se společně podílejí na ztrátě jistoty v životě jednotlivce, jsou přizpůsobení resp. ústup individua, ztráta identity a problém identif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Jistota v životě jednotliv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místo jistoty se obvyklým pocitem stává prázdnota a nejist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ázdnota a nejistota je nahrazována pseudohodnotami (materiální hodnoty, úspěch, postaven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usseau „Člověk se rodí svobodný a přesto žije v okovech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ázka potř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utnost rozlišovat tzv. pravé a nepravé potře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avé lidské potřeby jsou ty, které slouží zdravým fyziologickým potřebám, kulturním a sociálním potřebám, při jejichž výrobě a spotřebě nedochází k větším ztrátám společnosti než je prospěch jednotlivého spotřebi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é lidské potřeby jsou všechny ostatní formy potřeb, které jsou pak v nejlepším případě neužiteč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itzerovo pojetí spole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itzer navazuje na Weberovu teorii racionalizačního proce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elem racionality v moderním světě jsou rychloobslužné restaurace, které se staly nejdůležitějším projevem racionalizačního procesu a Ritzer  tento proces nazývá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cdonalizac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5:13:53Z</dcterms:created>
  <dc:creator>Prf</dc:creator>
  <dc:description/>
  <dc:language>en-US</dc:language>
  <cp:lastModifiedBy>Petr Cícha</cp:lastModifiedBy>
  <dcterms:modified xsi:type="dcterms:W3CDTF">2005-12-02T09:24:09Z</dcterms:modified>
  <cp:revision>81</cp:revision>
  <dc:subject/>
  <dc:title>Bez nadpisu</dc:title>
</cp:coreProperties>
</file>