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6D5A4A-7D12-4A22-8A31-437BBE8C3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987742-10A6-4E94-B482-9000AC7C1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49F88C-E7A5-429C-86FD-57DF70BD2A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D69C56-1DCE-4B9C-91B8-3482F0F18D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5BFD5-3E2B-442A-9C8A-EBD9C2C6D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C93EB-89DC-4FB1-994C-B41DE739C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FB497-FCB3-4277-A619-8612510E5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F6D71-2513-4CAE-92E4-28A31119D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38844-074C-4F10-B20F-534BA963D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71B20-3333-4BE5-8D6B-691764C9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111E1-4DF6-435D-856E-05B701893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1CC5C-EBC5-4105-9026-9609801F9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17494-01B8-47F1-BFB9-6DAAB2F28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043E9-3092-4986-89FD-602EAB65E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69C0-7C93-43AA-B43A-D7C4A5C72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BBEC0D-856F-4419-923F-D5125324B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1B656-EF94-433E-985E-3999C937D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C7A38E-A87D-45C5-9B24-A8697B92D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D285D0-C208-40EE-8C17-81B6B84AA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317F2C-3660-4C00-942E-D6F89F4E6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2A47C7-C867-4E5A-A61F-260EA50E0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9CB40-12AC-4E5E-BF25-4B409421F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1FFEA4-62D7-469D-BDCA-3F5B79D91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E09ED-5BF6-42A5-B3E0-D1361616F8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473E-EECB-497D-9450-A3BFDD9FDA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18F6-6417-4421-9389-C547F9C838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ývoj řízení společenských systémů</a:t>
            </a:r>
            <a:r>
              <a:rPr b="0" lang="en-US" sz="4000" spc="-1" strike="noStrike">
                <a:solidFill>
                  <a:srgbClr val="ffffff"/>
                </a:solidFill>
                <a:latin typeface="Arial"/>
              </a:rPr>
              <a:t>	</a:t>
            </a:r>
            <a:r>
              <a:rPr b="0" lang="en-US" sz="4500" spc="-1" strike="noStrike">
                <a:solidFill>
                  <a:srgbClr val="ffffff"/>
                </a:solidFill>
                <a:latin typeface="Arial"/>
              </a:rPr>
              <a:t>	</a:t>
            </a:r>
            <a:endParaRPr b="0" lang="en-US" sz="45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ytváření řádu ve společnosti</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yšlenka na závěr</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uha po slávě, moci nebo majetku nutí člověka prosadit se mezi svými bližními, které sice nemůže vystát, ale přece od nich nemůže odejít. Skrze tuto honbu za uznáním se uskutečňují první kroky od barbarství ke kultuře, která ve skutečnosti spočívá ve společenské hodnotě člověka.</a:t>
            </a:r>
            <a:endParaRPr b="0" lang="en-US" sz="2800" spc="-1" strike="noStrike">
              <a:solidFill>
                <a:srgbClr val="ffffff"/>
              </a:solidFill>
              <a:latin typeface="Arial"/>
            </a:endParaRPr>
          </a:p>
          <a:p>
            <a:pPr lvl="4" marL="2057400" indent="-228600">
              <a:spcBef>
                <a:spcPts val="499"/>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mmanuel K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Literatura</a:t>
            </a:r>
            <a:endParaRPr b="0" lang="en-US" sz="3900" spc="-1" strike="noStrike">
              <a:solidFill>
                <a:srgbClr val="ffffff"/>
              </a:solidFill>
              <a:latin typeface="Arial"/>
            </a:endParaRPr>
          </a:p>
        </p:txBody>
      </p:sp>
      <p:sp>
        <p:nvSpPr>
          <p:cNvPr id="13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obert Wright – „Víc než nic – Logika lidského osud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F.A.Hayek – „Právo, zákonodárství a svobod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osef Šmajs – „Konflikt přirozené a kulturní evolu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a pozornost děkují:</a:t>
            </a:r>
            <a:endParaRPr b="0" lang="en-US" sz="3900" spc="-1" strike="noStrike">
              <a:solidFill>
                <a:srgbClr val="ffffff"/>
              </a:solidFill>
              <a:latin typeface="Arial"/>
            </a:endParaRPr>
          </a:p>
        </p:txBody>
      </p:sp>
      <p:sp>
        <p:nvSpPr>
          <p:cNvPr id="13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 Pávková</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árka Pospíšilová</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mila Králov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Úvod</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naší prezentaci bychom rádi udělali krátký průřez vývojem společenských systémů. Chtěli bychom posluchače seznámit s jednotlivými typy systémů od nejmenších jednotek společenské organizace po nejsložitější. Budeme se zabývat popisem jednotlivých systémů a jejich fungováním. A jelikož nás zajímá hlavně vývoj společnosti, uvedeme příčiny přeměn organizace společnosti ve složitější a organizovanější uspořádá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upně vývoje řízení společnosti</a:t>
            </a:r>
            <a:r>
              <a:rPr b="0" lang="en-US" sz="3900" spc="-1" strike="noStrike">
                <a:solidFill>
                  <a:srgbClr val="ffffff"/>
                </a:solidFill>
                <a:latin typeface="Arial"/>
              </a:rPr>
              <a:t>	</a:t>
            </a:r>
            <a:endParaRPr b="0" lang="en-US" sz="3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dina</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nosti řízené „Velkým mužem“</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áčelnictví</a:t>
            </a:r>
            <a:endParaRPr b="0" lang="en-US" sz="2800" spc="-1" strike="noStrike">
              <a:solidFill>
                <a:srgbClr val="ffffff"/>
              </a:solidFill>
              <a:latin typeface="Arial"/>
            </a:endParaRPr>
          </a:p>
          <a:p>
            <a:pPr marL="533520" indent="-5335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3348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odina</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jjednodušší organizační jednotk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čele rodiny je muž</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obživy nevede k potřebě vyšší organiz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polečnosti řízené „Velkým mužem“</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hý stupeň vývoj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Život ve vesnicíc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koordinace při lovu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přerozdělov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nost vedení</a:t>
            </a:r>
            <a:r>
              <a:rPr b="0" lang="en-US" sz="2800" spc="-1" strike="noStrike">
                <a:solidFill>
                  <a:srgbClr val="ffffff"/>
                </a:solidFill>
                <a:latin typeface="Arial"/>
              </a:rPr>
              <a:t>	</a:t>
            </a:r>
            <a:r>
              <a:rPr b="0" lang="en-US" sz="2800" spc="-1" strike="noStrike">
                <a:solidFill>
                  <a:srgbClr val="ffffff"/>
                </a:solidFill>
                <a:latin typeface="Arial"/>
              </a:rPr>
              <a:t>, velký muž funguje jako náhrada trh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Náčelnictví</a:t>
            </a:r>
            <a:endParaRPr b="0" lang="en-US" sz="3900" spc="-1" strike="noStrike">
              <a:solidFill>
                <a:srgbClr val="ffffff"/>
              </a:solidFill>
              <a:latin typeface="Arial"/>
            </a:endParaRPr>
          </a:p>
        </p:txBody>
      </p:sp>
      <p:sp>
        <p:nvSpPr>
          <p:cNvPr id="1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ěkolik vesnic se společným vůdcem</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odářská spolupráce, dělba 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technologií a zemědělstv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 řízení společnosti je autoritativní, božská síla náčelníků vede k vykořisťo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tát</a:t>
            </a: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znik písma a posun v přenášení informac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áda zákona, právní řá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voj obchodu a spoluprá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ývoj od starověku po současnos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říčiny kulturní evoluce lidstva</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ké nadán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vláštnosti přírodního prostředí</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lon k výměně, dbalost vlastního zájmu</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lečenské postavení jedin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álky, ozbrojený boj</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likost a hustota popul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Závěr</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hodnocení cílů prezenta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obnost kulturní evoluce s přirozenou biologickou evolucí</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18:25:18Z</dcterms:created>
  <dc:creator>Eva Pávková</dc:creator>
  <dc:description/>
  <dc:language>en-US</dc:language>
  <cp:lastModifiedBy>Eva Pávková</cp:lastModifiedBy>
  <dcterms:modified xsi:type="dcterms:W3CDTF">2005-11-27T15:35:19Z</dcterms:modified>
  <cp:revision>6</cp:revision>
  <dc:subject/>
  <dc:title>Vývoj a řízení společenských systémů  </dc:title>
</cp:coreProperties>
</file>