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1A9-AD9B-4F82-A67E-69E36A0C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8C6-66D5-4F59-814C-09E64A4A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B5E-CABD-4CF5-928D-7AFD158B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946-60C4-4126-B9D0-9422318D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8447-B195-4986-B51D-3501B1E9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DFFA-A321-4892-8505-2A4681B7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9E58-DCA8-47EE-9DD5-B7FE401D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CFE9-E57D-4FE8-A12F-BFE1B493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D72-A189-4BC5-A4F5-CAEBD1F6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353B-34E4-4343-9650-E7325C3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1D5B-D3F8-4D02-B757-5B2229E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D6E-97EF-4BF1-9E05-578A560C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02B6-D991-4EFE-959C-DE81019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8CC2-70A9-4941-B77F-9D2CF53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0819-C658-4794-A19A-E063A87A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670E-CC55-4559-89F0-653EA7EE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A3E-BF91-4BCA-B863-358627EF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BBC-5E29-449E-B7E1-D136391C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267-89BF-49CB-836E-4ED6F589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AFF-0EDB-4CEF-BA13-4E1616CE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9A3-C0D3-4113-B528-45016D4A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CC9-5FE7-4BEB-A7BD-E8F3966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749-8095-4C71-A974-ADBC1CE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BEB-E4CA-4DBA-8C36-E0B4467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E5F7-6F38-4A5D-AB04-90550CDBEA09}" type="slidenum">
              <a:rPr b="0" lang="cs-CZ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3B5F-0613-4A33-B840-E54CBC359EC8}" type="slidenum">
              <a:rPr b="0" lang="cs-CZ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94600"/>
            <a:ext cx="76788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VÝ STUPEŇ CIVILIZAC</a:t>
            </a:r>
            <a:r>
              <a:rPr b="0" lang="cs-CZ" sz="4200" spc="-1" strike="noStrike">
                <a:solidFill>
                  <a:srgbClr val="003366"/>
                </a:solidFill>
                <a:latin typeface="Times New Roman"/>
              </a:rPr>
              <a:t>E</a:t>
            </a:r>
            <a:endParaRPr b="0" lang="en-US" sz="4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ř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la Kozelk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ora Krivdov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 Kubátová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8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ý nárůst inovací ve všech odvětvích, stále rychlejší životní tempo =&gt; pro úspěch je nezbytná schopnost pružně reagovat na změny okolního prostřed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9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terializm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ší důraz na duchovnost všech oblastí života člověka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10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chod od neomezeného růstu k trvale udržitelnému rozvoj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ědomění si limitovanosti zdrojů Země (minimalizac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an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bnovitelných zdrojů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un od využití přírody k soužití s ní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11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ůstání rozdílu mezi bohatstvím zemí adaptujících se na podmínky třetí vlny a chudobou zemí nacházejících se ve fázi druhé nebo první vlny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Negativní dopady informatizace a technologické inovac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enormní nárůst množství informací =&gt; obtížná orientace v záplavě dat, složitá selekce těch důležitých + příp.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chopnost dát si je 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do souvislostí =&gt; ztrácejí smysl a využit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vnoměrný přístup k informacím + zneužitelnost informac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Times New Roman"/>
              </a:rPr>
              <a:t>Zdroj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ffler, A.; Toffler, H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á civilizace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ha : Dokořán, 2001. ISBN 80-86569-00-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vydání. Brno: Masarykova univerzita, 2003. ISBN 80-210-3265-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sbitt, J; Aburdenová, P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trendy 200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atislava: Bradlo, 1992. ISBN 80-7127-050-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cs-CZ" sz="3400" spc="-1" strike="noStrike">
                <a:solidFill>
                  <a:srgbClr val="003366"/>
                </a:solidFill>
                <a:latin typeface="Times New Roman"/>
              </a:rPr>
              <a:t>Současný stav</a:t>
            </a:r>
            <a:endParaRPr b="0" lang="en-US" sz="3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celerace civilizačních změn =&gt; neslučitelnost s doznívající předchozí vlnou =&gt; diskontinuita =&gt; problémy s adaptací na nová pravidla fungování civilizace =&gt; narušení hodnotových orientací jednotlivce i společnosti =&gt; nárůst negativních jevů ve společnosti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646200"/>
            <a:ext cx="8163000" cy="97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ákladní 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</a:rPr>
              <a:t>CHARAKTERISTIKY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přechodu od industriální společnosti ke společnosti informační</a:t>
            </a:r>
            <a:r>
              <a:rPr b="0" lang="cs-CZ" sz="2900" spc="-1" strike="noStrike">
                <a:solidFill>
                  <a:srgbClr val="003366"/>
                </a:solidFill>
                <a:latin typeface="Times New Roman"/>
              </a:rPr>
              <a:t> (1)</a:t>
            </a:r>
            <a:endParaRPr b="0" lang="en-US" sz="29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stup moderní informační technologie – určuje charakter informační společnosti – informatizace, komputerizace, digitalizac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CHARAKTERISTIKY (2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ěřítko produktivity podniku se přesouvá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hmotných aktiv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suroviny, práce, kapitál) k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hmotným hodnotám (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vědění v podobě dat, informací a symbolů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padů a patentů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ozhodujícími aktivy firem jsou symboly uložené v hlavách jejich zaměstnanc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ická ekonomika“ - nový systém vytváření bohatství - hlavními vstupy a výstupy ekonomiky se stávají informace a znal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3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prava pracovních sil na duševní prá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éra služeb se dostává do popřed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ektualizace společnosti - ekonomika se propojuje do sítí a vzniká síťová inteligen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4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sovosti k individualitě a heterogenitě, rozmanit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masové výroby k produkci vysoce kvalitního zboží mnoha druhů, 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sokou mírou přizpůsobení klientov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sifikace komunikačních prostředků (soukromé vnitropodnikové i mezipodnikové informační systémy)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5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a integrace - jednotlivé části jako jsou regiony, státy apod. jsou propojovány do jednoho celku globální vzájemně propojené světové ekonomik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áteří infrastruktury ekonomiky období třetí vlny se stávají celosvětové sítě „informačních dálnic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6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reorganizace fir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odklon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hierarchických struktur a od byrokratiza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klon od maximalizace, od „přerostlých mamutích“ podnik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ůstá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význam malých fir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nášení úkolů a odpovědnosti na externí subdodavatele - smluvní spojení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073160"/>
            <a:ext cx="8163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3366"/>
                </a:solidFill>
                <a:latin typeface="Times New Roman"/>
              </a:rPr>
              <a:t>CHARAKTERISTIKY (7)</a:t>
            </a:r>
            <a:endParaRPr b="0" lang="en-US" sz="3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ace – snaha přenést co největší množství rozhodnutí shora dolů, protože lidé “dole” mívají lepší informace a jsou flexibilnější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09:26Z</dcterms:created>
  <dc:creator>Miroslav Sedláček</dc:creator>
  <dc:description/>
  <dc:language>en-US</dc:language>
  <cp:lastModifiedBy>Pavla Kozelková</cp:lastModifiedBy>
  <dcterms:modified xsi:type="dcterms:W3CDTF">2005-12-02T11:39:39Z</dcterms:modified>
  <cp:revision>18</cp:revision>
  <dc:subject/>
  <dc:title>NOVÝ STUPEŇ CIVILIZACE</dc:title>
</cp:coreProperties>
</file>