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09A-01C7-40EE-B7C8-9816AC43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3AD-EDEA-4350-A863-51AFDA4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DBD-B6C4-47DF-A9A8-1726A71B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BA-693C-43EF-B4FA-77201DA7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4D466-7B62-498A-9FE7-E6DD02CA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4A1D-44BF-453B-BAA1-1BC7722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69DF-C1E3-4BBB-8D33-0C858605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1EAFC-438B-40A4-BE82-686852A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575F9-4565-4D5D-91D6-4CACA32B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00C38-ADFA-40EC-A26C-7948ACDA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884B5-0557-4D44-8AEF-45352AA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D7C-AEDC-4303-94D7-7961B7A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32027-37CA-4A28-95A8-13BABC6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B1481-7130-4E3F-A494-9A563063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48C0D-A3DD-4F29-BDB2-E74223BD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36D6F-B2F3-4681-9771-69D8D7BA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30E91-56F6-4DD6-B9E8-EA6CF7C2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BDC-42F9-44B5-9501-FD2C945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48D-3653-46AD-8E44-58BC9AD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277-D057-4FCB-A422-9AA038B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773-4FB5-49AA-80A5-6DF4DE7C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26C-78F4-466D-8561-8F86E19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89-64B1-4A95-9755-0A2D66BF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657-8FBA-4BB4-8A9F-F7496A77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48CF-AAE3-4CA5-B282-8FD31D84B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E4A6-8AC3-4FC4-B501-552F30272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ulturní a přirozená evolu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560" y="3141720"/>
            <a:ext cx="6697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por, který mezi přirozen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 kulturní evolucí nas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o podkladový materiál slouží myšlenky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f. Šmajse, které publikoval ve svých knihá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ůmyslová r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dký vývoj abiotické techniky a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y podporuje produktivně zaměřená přírodní vě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továren nepřizpůsobených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romadné čerpání neobnovitelných přírodní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ůsledkem je znečištěná a poškozená planeta, destabilizovaná biosf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industriální fá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 postoje člověka k přírodě se příliš neměn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dyž vznikají nové technologie šetřící energii, ohleduplnější způsoby výroby, odpadové a bezodpadové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nik konzumního způsobu živo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upřednostňuje právo a blaho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respektuje práva jiných živých bytostí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 nároky na prostou existenci ostatní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irozených struktur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alizace lidské kultu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planetární pohyb lidí, globální trh, výměna technologií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 systém je nastaven na zisk a tržní vzta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votně se nezajišťuje lidské přežití, ale úspěch a růst moci i peněžního bohat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íroda se brání snadnou zranitelností a nerovnováhou – na to nejsme připrave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lobální ekologická kri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 přirozeného a kulturního řá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statou krize je systémový konflikt protipřírodní kultury se Zem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á se o krizi kulturní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gram změn v kultuře 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(prof. Šmaj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lověk musí uchovat značnou část původní přírody, nemůže pokračovat v dobývání přirozených ekosysté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zemskou přírodu je třeba začít vnímat nově. Člověk je součástí přír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vrch Země je konečný. Systém biosféry se zbavuje nejsložitějších struktur a mohl by obětovat i člověka – důvod k opatrnosti a poko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Člověk není na této planetě jedinou bytostí na níž zálež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d protipřírodní kultura příliš ublíží životu na Zemi, zbytečně předčasně zanik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ádná vesmírná moc při obnově pomoci nemůž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ím dříve toto lidé pochopí, tím dříve se jim podaří zachránit ohrožené místní kultury a i vzácnou rozmanitost biosfé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majs, J.: Drama evoluce. 1. vyd. Praha: Nakladatelství Hynek, 2000. ISBN 80-86202-77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majs, J.: Konflikt přirozené a kulturní evoluce. 1. vydání. Brno: Masarykova univerzita v Brně, 1997. ISBN 80-210-1506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uchtová, B.: Člověk – psychsomatická bytost. 3. vydání. Brno: Masarykova univerzita v Brně, 2001. ISBN 80-210-2730-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éma zpracová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arta Krauso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Petrá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, v jehož průběhu se z méně dokonale uspořádaných systémů vytvářejí systémy uspořádané dokonale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irozená 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čala vznikem ves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ravd. před 15 miliardami l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e se vyví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nikají všechny dnešní struktury svět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aše planeta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ulturní (umělá) 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azuje na evoluci přirozenou, ale není jejím přímým pokrač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initelem kultury je vědomá aktivita lidsk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ěňuje a rozšiřuje se syst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tváří se nové prvky, části a subsystémy – instituce, organizace, technické prostředk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Člověk – normální živočišný dr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 biologická existence závisí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struktuře, rozsahu a celkovém vztahu přirozen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 však předpoklady pro záměrné a rychlé přizpůsobování svého okolí svým potřeb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čal kulturní evolu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530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nenápadný proces kulturní evoluce svým rozsahem a charakterem přírodu překvapi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rategie zužitkování přírody pr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to strategie není dobrá. Destabilizovaná biosféra kulturu existenčně ohrožuj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nebylo tomu tak vž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611280" y="836640"/>
            <a:ext cx="7920000" cy="5040000"/>
            <a:chOff x="611280" y="836640"/>
            <a:chExt cx="7920000" cy="5040000"/>
          </a:xfrm>
        </p:grpSpPr>
        <p:cxnSp>
          <p:nvCxnSpPr>
            <p:cNvPr id="96" name="_s52240"/>
            <p:cNvCxnSpPr>
              <a:stCxn id="97" idx="1"/>
              <a:endCxn id="98" idx="2"/>
            </p:cNvCxnSpPr>
            <p:nvPr/>
          </p:nvCxnSpPr>
          <p:spPr>
            <a:xfrm rot="10800000">
              <a:off x="2986560" y="1555920"/>
              <a:ext cx="792720" cy="396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52236"/>
            <p:cNvCxnSpPr>
              <a:stCxn id="100" idx="1"/>
              <a:endCxn id="98" idx="2"/>
            </p:cNvCxnSpPr>
            <p:nvPr/>
          </p:nvCxnSpPr>
          <p:spPr>
            <a:xfrm rot="10800000">
              <a:off x="2986560" y="1555920"/>
              <a:ext cx="792720" cy="2883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52235"/>
            <p:cNvCxnSpPr>
              <a:stCxn id="102" idx="1"/>
              <a:endCxn id="98" idx="2"/>
            </p:cNvCxnSpPr>
            <p:nvPr/>
          </p:nvCxnSpPr>
          <p:spPr>
            <a:xfrm rot="10800000">
              <a:off x="2986560" y="1555920"/>
              <a:ext cx="792720" cy="180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52234"/>
            <p:cNvCxnSpPr>
              <a:stCxn id="104" idx="1"/>
              <a:endCxn id="98" idx="2"/>
            </p:cNvCxnSpPr>
            <p:nvPr/>
          </p:nvCxnSpPr>
          <p:spPr>
            <a:xfrm rot="10800000">
              <a:off x="2986560" y="1555920"/>
              <a:ext cx="792720" cy="72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8" name="_s52230"/>
            <p:cNvSpPr/>
            <p:nvPr/>
          </p:nvSpPr>
          <p:spPr>
            <a:xfrm>
              <a:off x="611280" y="83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Kulturní evoluc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2231"/>
            <p:cNvSpPr/>
            <p:nvPr/>
          </p:nvSpPr>
          <p:spPr>
            <a:xfrm>
              <a:off x="3779280" y="191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řírodní národ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2232"/>
            <p:cNvSpPr/>
            <p:nvPr/>
          </p:nvSpPr>
          <p:spPr>
            <a:xfrm>
              <a:off x="3779280" y="299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Neolitická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2233"/>
            <p:cNvSpPr/>
            <p:nvPr/>
          </p:nvSpPr>
          <p:spPr>
            <a:xfrm>
              <a:off x="3779280" y="407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růmyslová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52239"/>
            <p:cNvSpPr/>
            <p:nvPr/>
          </p:nvSpPr>
          <p:spPr>
            <a:xfrm>
              <a:off x="3779280" y="5156640"/>
              <a:ext cx="4752000" cy="7200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Postindustriální revoluc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írodní nár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echn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ita a trad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a se rozvíjela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ovala se přirozená rovnováha mezi člověkem a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olitická revolu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obí, během kterého vznikly téměř všechny dnes známé druhy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ystém původní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 další rozšiřování kultury byly stále ještě k dispozici původní přirozené eko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0:25:03Z</dcterms:created>
  <dc:creator>T-Mobile CZ, a.s.</dc:creator>
  <dc:description/>
  <dc:language>en-US</dc:language>
  <cp:lastModifiedBy>T-Mobile CZ, a.s.</cp:lastModifiedBy>
  <dcterms:modified xsi:type="dcterms:W3CDTF">2005-11-30T13:30:57Z</dcterms:modified>
  <cp:revision>7</cp:revision>
  <dc:subject/>
  <dc:title>Snímek 1</dc:title>
</cp:coreProperties>
</file>