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16765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16765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0248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0248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0248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16765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CE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 CE"/>
              </a:rPr>
              <a:t>Management - Industriální společn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6440" y="6400800"/>
            <a:ext cx="839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62320" y="655308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77320" y="655308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trana </a:t>
            </a:r>
            <a:fld id="{7B8ADC52-A515-45D3-BCC6-8A3820D8514C}" type="slidenum">
              <a:rPr b="1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CE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5840" y="1989000"/>
            <a:ext cx="88585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dustriální spol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livy, proměny, nová budouc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12.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ypracovali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ichal Crhonek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man Šikuta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omáš Tala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028000" y="5589720"/>
          <a:ext cx="9428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28000" y="5589720"/>
                    <a:ext cx="942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Adaptabilita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ém s přizpůsobení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ervozita z novéh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šok z oko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os z přemíry informac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Strategie přežití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čněme užívat to, čeho se bojí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rach je spojene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ebuďme otro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važujme, co chc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ustriální společnost - hlavní rysy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ukleární rodin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masový vzdělávací systé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obří korporac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masové odbor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centralizovaný národní stát a politiku pseudoreprezentativní vlád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ustriální společnost - budoucn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turbulence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rozpad starých struktur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vytvoření nových struktur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lokální odbor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ovost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rozmanito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Turbulence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chází k všeobecnému zrychlení. Technologický vývoj a stupeň poznání přináší s sebou přirozenou nutnost pohybu. Pohyb kupředu a touha po poznání je motor, který napomáhá k vytváření nových vizí „zrychlení světa“ Mnohé z těchto vizí jsou již realitou, např. doprava komunikační technologie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dé mezi sebou soupeří ve způsobu života a hlavně v možnostech jeho ulehčení a vylepšení. Prakticky neexistuje žádný pevný bod, ke kterému by bylo možno trvaleji se upnout. Dnešní bod je nahrazen bodem zítřejším, který je posunut zase o kus dál. Důvodem je zde podvědomá touha být první – být „vůdcem tlup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míjiv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edání nového vede společnost k pokusům vytvářet nové standardy a modely výrobků a nové způsoby chování a nahlížení na ně.  V dnešní době informační turbulence je pro jedince mnohdy výhodnější věc přímo nevlastnit, ale mít ji pouze v pronáj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ky a technologie stárnou rychleji. Člověk se nemůže příliš zasypávat věcmi, které nevyužije. Dochází v do jisté míry k chaosu, protože tradiční hodnoty vlastnění majetku dostávají trhli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ť žije ekonomická turbul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Kolik vajec do košíku?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liš narostlá hierarchie. Lpění na malém okruhu samostatného rozhod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ledkem je zahlcenost rozhodováním (v literatuře se používá obrat "přetížená dicize"), kdy úzký vrchol hierarchie není schopen činit optimální rozhodnutí protože je jich příliš mnoho a zároveň neexistuje možnost, jak v úzkém počtu osob (např. Parlament + poradci) zpracovat obrovské množství všech relevantních informací. Volání po větším počtu košíků - tedy přenesení rozhodování směrem dol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íjivost hierarchií. Neustálý tlak na jejich efektiv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Už Tě nechci, chci někoho, kdo mi rozumí!</a:t>
            </a:r>
            <a:endParaRPr b="1" lang="en-US" sz="32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3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ak, jako podnikové a řídicí hierarchie, pomíjí i lidské vzta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padají se tradiční velké svaz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ansformují se do malých skupin s úzkým zaměření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tší tlak na individualis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adnější adaptabil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Nov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apojení zvířat – splynutí člověka s přírodou, využití ve výrobním proc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biologických továren – výroba kyslíku za pomocí rostlin v masovém měřítku, využití rostlin a mikroorganismů, jako čistícího faktor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onová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ace orgánů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á inteligence – stroj sám získává nové informa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měrné popírání změn – účel světí prostředky, skromnost vzbudí pozor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 vytváření světů a zábav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mulace reálného světa – virtuální realita, člověk může být vším podle svého přání a je mu vytvořen svět, dle jeho př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Rozmanitost</a:t>
            </a:r>
            <a:endParaRPr b="1" lang="en-US" sz="3600" spc="-1" strike="noStrike">
              <a:solidFill>
                <a:srgbClr val="ffffff"/>
              </a:solidFill>
              <a:latin typeface="Arial CE"/>
            </a:endParaRPr>
          </a:p>
        </p:txBody>
      </p:sp>
      <p:sp>
        <p:nvSpPr>
          <p:cNvPr id="69" name=""/>
          <p:cNvSpPr/>
          <p:nvPr/>
        </p:nvSpPr>
        <p:spPr>
          <a:xfrm>
            <a:off x="6084720" y="1557360"/>
            <a:ext cx="24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noho stejných výrobků na jedné, nepatrné odlišn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ky šité na mí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 nových a stále více si podobných oborů ve školstv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ace na určité skupiny, přizpůsobení potřeb –dle pohlaví, barvy pleti apod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ace na et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 subkultur, životních styl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6:18:54Z</dcterms:created>
  <dc:creator>Project Controlling</dc:creator>
  <dc:description/>
  <dc:language>en-US</dc:language>
  <cp:lastModifiedBy>AEZ</cp:lastModifiedBy>
  <cp:lastPrinted>2002-09-04T08:57:56Z</cp:lastPrinted>
  <dcterms:modified xsi:type="dcterms:W3CDTF">2005-11-30T09:23:51Z</dcterms:modified>
  <cp:revision>792</cp:revision>
  <dc:subject/>
  <dc:title>Project Proposal - presentation for PD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32374330</vt:r8>
  </property>
  <property fmtid="{D5CDD505-2E9C-101B-9397-08002B2CF9AE}" pid="3" name="_AuthorEmail">
    <vt:lpwstr>crhonekm@atlas.cz</vt:lpwstr>
  </property>
  <property fmtid="{D5CDD505-2E9C-101B-9397-08002B2CF9AE}" pid="4" name="_AuthorEmailDisplayName">
    <vt:lpwstr>Michal Crhonek</vt:lpwstr>
  </property>
  <property fmtid="{D5CDD505-2E9C-101B-9397-08002B2CF9AE}" pid="5" name="_EmailSubject">
    <vt:lpwstr>První kolo prezentací</vt:lpwstr>
  </property>
  <property fmtid="{D5CDD505-2E9C-101B-9397-08002B2CF9AE}" pid="6" name="_PreviousAdHocReviewCycleID">
    <vt:r8>-639365758</vt:r8>
  </property>
</Properties>
</file>