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F73D6-C29D-4E5B-8F3E-EB22A1D3C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E7A25-CB30-4AC1-A0DC-86BB4F0F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DF436-DC15-4274-92E5-6087330D4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B0F62-CB5C-4D99-9CCE-01085670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1B60-619D-4F29-9D0B-961899544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09A7-2ABB-456B-AD79-2E197629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C6B5-DA3F-46AA-91FE-400405E2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4228-77AA-41B1-97AF-001A3538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DA6A-0D4B-4B7C-842C-1A9D8D96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2134-6BB8-47E3-8A83-F55FBA30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0858-1B9F-47D0-93C9-381F8D83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6DE42-9102-421A-9E65-2949CD03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36EE-DDB7-456A-97EE-B534B2F8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0879-F82D-4DAA-8B44-CD4A7085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0932-F0D1-4BF9-9837-F173AAAD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0DB7-0E05-438F-B858-DD8231FD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BE7A-DFE2-44A4-8338-2C7D4CC9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D7D8B-1394-43AF-9F05-3961E8F0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C3A9B-CF5D-4E25-8D64-76408260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4F870-ECE3-4E5B-B374-0E84BC16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C5BD4-2176-436D-9ED9-B63BC849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52558-EFA4-4203-B76A-A8DA23F3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475B4-AB25-46D6-8CFF-47BEFB28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92BE1-2381-4CCB-9B1C-10FCB02F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3E83-FA20-464C-B144-83DEF37855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191A-7F49-4737-AE3A-13A213E09C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xrefer.com/" TargetMode="External"/><Relationship Id="rId2" Type="http://schemas.openxmlformats.org/officeDocument/2006/relationships/hyperlink" Target="http://www.socioweb.cz/" TargetMode="External"/><Relationship Id="rId3" Type="http://schemas.openxmlformats.org/officeDocument/2006/relationships/hyperlink" Target="http://www.socioweb.cz/" TargetMode="External"/><Relationship Id="rId4" Type="http://schemas.openxmlformats.org/officeDocument/2006/relationships/hyperlink" Target="http://www.socioweb.cz/" TargetMode="External"/><Relationship Id="rId5" Type="http://schemas.openxmlformats.org/officeDocument/2006/relationships/hyperlink" Target="http://www.socioweb.cz/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Vliv náboženství na ekonomiku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ucie Šál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věta Filip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rtin Voldř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áboženstv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ýznamný zdroj kul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ování princip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kazy a příkaz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iv na ekonomi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ování spole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lišné cí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da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teistické nábože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lom ve 13.stol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óra  - 600 příkaz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pravedlnitelnost bohat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řesťanstv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znik z judais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stote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áce je „Boží trest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lvin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ro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l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rok Moha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nnité (90%) a Šíité (1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r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azy, např. burzovní operace, živ.po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gitimní obchodní zisk x lich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ndu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ůzný poh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nkarn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stovní systé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lečná rod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ezení obcho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ižování vlivu náboženstv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znik nových nábože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tika náboženstv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čekávání budoucího výv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užitá 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RONĚK, I. Kultura v mezinárodním podnikání. Praha: Grada Publishing, spol. s r.o., 2001, ISBN 80-247-00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AMERON, R. Stručné ekonomické dějiny světa. Praha: Victoria Publishing, 1996, ISBN 80-85865-2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IDDENS, A. Sociologie. Praha: Argo, 1999, ISBN 80-7203-12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N, A. Etika a ekonomie, Praha: Praha Vyšehrad, 2002, ISBN 80-7021-54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ZŘICKÝ, V. Globalizace, Praha: Praha Portál, 2003, ISBN 80-7178-74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xrefer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socioweb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22:09:47Z</dcterms:created>
  <dc:creator>Lucka</dc:creator>
  <dc:description/>
  <dc:language>en-US</dc:language>
  <cp:lastModifiedBy>Lucka</cp:lastModifiedBy>
  <dcterms:modified xsi:type="dcterms:W3CDTF">2005-12-01T22:03:39Z</dcterms:modified>
  <cp:revision>9</cp:revision>
  <dc:subject/>
  <dc:title>Vliv náboženství na ekonomik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61681475</vt:r8>
  </property>
  <property fmtid="{D5CDD505-2E9C-101B-9397-08002B2CF9AE}" pid="3" name="_AuthorEmail">
    <vt:lpwstr>michal.franek@canon.cz</vt:lpwstr>
  </property>
  <property fmtid="{D5CDD505-2E9C-101B-9397-08002B2CF9AE}" pid="4" name="_AuthorEmailDisplayName">
    <vt:lpwstr>Michal Franek</vt:lpwstr>
  </property>
  <property fmtid="{D5CDD505-2E9C-101B-9397-08002B2CF9AE}" pid="5" name="_EmailSubject">
    <vt:lpwstr>škola volá ... :-)</vt:lpwstr>
  </property>
</Properties>
</file>