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8922-C584-44BC-A288-7744927B9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954E-2AEB-4E4E-B504-52ABE3D86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ED35-8525-4185-99F4-F2D563F5B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D82D-D155-4EBE-9794-87F7CE61E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1CB7-6948-452B-A163-00CB0731C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E64D-31A0-40D5-8480-42882653D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1B95-1085-450A-A2E2-F1985C631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647B-A4C7-4170-9FF5-F19FE3261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4407-6178-4C61-958C-4C84C3BB2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6B15-3D86-4F78-8399-CA63121EC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D603-9A9B-452C-A6CD-1D80B6F44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7F01-7126-42E4-9860-FD802E3E8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60101-E22A-42EC-8FCF-FF245BF2D3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park.cz/article.asp?itm=106" TargetMode="External"/><Relationship Id="rId2" Type="http://schemas.openxmlformats.org/officeDocument/2006/relationships/hyperlink" Target="http://www.park.cz/article.asp?itm=106" TargetMode="External"/><Relationship Id="rId3" Type="http://schemas.openxmlformats.org/officeDocument/2006/relationships/hyperlink" Target="http://www.park.cz/article.asp?itm=106" TargetMode="External"/><Relationship Id="rId4" Type="http://schemas.openxmlformats.org/officeDocument/2006/relationships/hyperlink" Target="http://www.park.cz/article.asp?itm=106" TargetMode="External"/><Relationship Id="rId5" Type="http://schemas.openxmlformats.org/officeDocument/2006/relationships/hyperlink" Target="http://www.park.cz/article.asp?itm=106" TargetMode="External"/><Relationship Id="rId6" Type="http://schemas.openxmlformats.org/officeDocument/2006/relationships/hyperlink" Target="http://www.park.cz/article.asp?itm=106" TargetMode="External"/><Relationship Id="rId7" Type="http://schemas.openxmlformats.org/officeDocument/2006/relationships/hyperlink" Target="http://www.park.cz/article.asp?itm=106" TargetMode="External"/><Relationship Id="rId8" Type="http://schemas.openxmlformats.org/officeDocument/2006/relationships/hyperlink" Target="http://www.park.cz/article.asp?itm=106" TargetMode="External"/><Relationship Id="rId9" Type="http://schemas.openxmlformats.org/officeDocument/2006/relationships/hyperlink" Target="http://www.park.cz/article.asp?itm=106" TargetMode="External"/><Relationship Id="rId10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000000"/>
                </a:solidFill>
                <a:latin typeface="Arial"/>
              </a:rPr>
              <a:t>Prezentace</a:t>
            </a:r>
            <a:br>
              <a:rPr sz="7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kupiny č.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50920" y="1916280"/>
            <a:ext cx="86868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cc3300"/>
                </a:solidFill>
                <a:latin typeface="Arial"/>
              </a:rPr>
              <a:t>Benediktová Petr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cc3300"/>
                </a:solidFill>
                <a:latin typeface="Arial"/>
              </a:rPr>
              <a:t>Hušková Markéta</a:t>
            </a:r>
            <a:r>
              <a:rPr b="1" lang="en-US" sz="2100" spc="-1" strike="noStrike">
                <a:solidFill>
                  <a:srgbClr val="cc3300"/>
                </a:solidFill>
                <a:latin typeface="Arial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cc3300"/>
                </a:solidFill>
                <a:latin typeface="Arial"/>
              </a:rPr>
              <a:t>Navrátilová Lenk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Arial"/>
              </a:rPr>
              <a:t>Třetí vlna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3333cc"/>
                </a:solidFill>
                <a:latin typeface="Arial"/>
              </a:rPr>
              <a:t>Příchod převratných změn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0473-F860-4F35-A7A2-9741B9DD6D37}" type="slidenum">
              <a:t>1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Arial"/>
              </a:rPr>
              <a:t>Hlavní rysy ekonomiky</a:t>
            </a:r>
            <a:br>
              <a:rPr sz="4800"/>
            </a:br>
            <a:r>
              <a:rPr b="1" lang="en-US" sz="4800" spc="-1" strike="noStrike">
                <a:solidFill>
                  <a:srgbClr val="3333cc"/>
                </a:solidFill>
                <a:latin typeface="Arial"/>
              </a:rPr>
              <a:t>třetí vln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Demasifikac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avádění automatizovaných výrobních systémů = nekonečná a nenákladná druhová rozmanitost výrobní produk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Organizace a systémová integr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ledání nových forem organizace / zbavení se byrokratických struktur 2. vl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ložitosti ekonomiky, měnící potřeby spotřebitelů,rychlé změny na trhu = nutná systémová integr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4EAA-AC3F-4CC4-815E-9D0084821D3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Arial"/>
              </a:rPr>
              <a:t>Hlavní rysy ekonomiky</a:t>
            </a:r>
            <a:br>
              <a:rPr sz="4800"/>
            </a:br>
            <a:r>
              <a:rPr b="1" lang="en-US" sz="4800" spc="-1" strike="noStrike">
                <a:solidFill>
                  <a:srgbClr val="3333cc"/>
                </a:solidFill>
                <a:latin typeface="Arial"/>
              </a:rPr>
              <a:t>třetí vln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á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zaměnitelností profesí (x 2. vlna – charakteristická nízká úroveň dovednosti, lehká zaměnitelnos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měna poměru mezi „přímou“ a „nepřímou“ prac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přímí vytvářejí hodnotu jako přím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945A-425F-43A7-A795-C16D10A0D74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Arial"/>
              </a:rPr>
              <a:t>Hlavní rysy ekonomiky</a:t>
            </a:r>
            <a:br>
              <a:rPr sz="4800"/>
            </a:br>
            <a:r>
              <a:rPr b="1" lang="en-US" sz="4800" spc="-1" strike="noStrike">
                <a:solidFill>
                  <a:srgbClr val="3333cc"/>
                </a:solidFill>
                <a:latin typeface="Arial"/>
              </a:rPr>
              <a:t>třetí vln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ov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vé výrobky, technologie, marketing nebo fin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ěřítk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acovní jednotky se zmenšují, rozsah operací se minimalizu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EC41-096B-40D2-85FA-E1F4F5B4D2C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Arial"/>
              </a:rPr>
              <a:t>Hlavní rysy ekonomiky</a:t>
            </a:r>
            <a:br>
              <a:rPr sz="4800"/>
            </a:br>
            <a:r>
              <a:rPr b="1" lang="en-US" sz="4800" spc="-1" strike="noStrike">
                <a:solidFill>
                  <a:srgbClr val="3333cc"/>
                </a:solidFill>
                <a:latin typeface="Arial"/>
              </a:rPr>
              <a:t>třetí vln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frastruktur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ytvoření elektronických sítí = propojení informační techniko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Zrychlen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vyšování rychlosti operací a transakc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úspory plynoucí s rychlost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čas jedním z nejdůležitějších ekonomických zdrojů a stává se tzv. skrytým vstup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18DE-9580-4A54-A728-E5BF78A5224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Politické struktury 21. stolet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emokracie a třetí vl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měna politické struktury společnosti = nové požadavky proměňující se do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ávrh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ílení moci menš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lopřímé demokraci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ělby deciz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802E-1300-4110-8E45-114571D6601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Politické struktury 21. stolet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cialismus ve střetu s třetí vln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usměrňování a kontroly poznán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řetí vlna ohrožuje tři pilíře socialistické víry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měrnění“ soukromého vlastnictv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trální plánování (směr ze shora dolů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nížení významu duševní práce a služeb, podezřívavost vůči zemědělstv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0794-9F6A-4AE9-AAEA-182E7A89861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Hlavní konflik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va základní táb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ozdělením světa do dvou, resp. tří oddělených odlišných vl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hyb odlišnou rychlostí - nestejnoměrně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oces změny není ještě někde dokonč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ijak prostorově vymezen – makro x sub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měna kulturních hod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7D49-D856-4307-AF75-1A063B0F026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Závě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řezkoumání hodnot naší kultu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yřazení koncepcí, které se přeži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řizpůsobení se tempu změ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nalost základních parametrů toho, co se má stát součástí našeho živo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hopení, že právě nyní zuří zápas mezi těmi, kdo se snaží uchovat industrialismus a těmi, kdo by ho chtěli překon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1686-A225-4B89-872B-08A59047923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offler, A., Tofflerová, H. Nová Civiliz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offler, A. Nečekají nás krvavé revolu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5050"/>
                </a:solidFill>
                <a:uFillTx/>
                <a:latin typeface="Arial"/>
                <a:hlinkClick r:id="rId1"/>
              </a:rPr>
              <a:t>http://www.park.</a:t>
            </a:r>
            <a:r>
              <a:rPr b="0" lang="cs-CZ" sz="3200" spc="-1" strike="noStrike" u="sng">
                <a:solidFill>
                  <a:srgbClr val="ff5050"/>
                </a:solidFill>
                <a:uFillTx/>
                <a:latin typeface="Arial"/>
                <a:hlinkClick r:id="rId2"/>
              </a:rPr>
              <a:t>cz</a:t>
            </a:r>
            <a:r>
              <a:rPr b="0" lang="cs-CZ" sz="3200" spc="-1" strike="noStrike" u="sng">
                <a:solidFill>
                  <a:srgbClr val="ff5050"/>
                </a:solidFill>
                <a:uFillTx/>
                <a:latin typeface="Arial"/>
                <a:hlinkClick r:id="rId3"/>
              </a:rPr>
              <a:t>/</a:t>
            </a:r>
            <a:r>
              <a:rPr b="0" lang="cs-CZ" sz="3200" spc="-1" strike="noStrike" u="sng">
                <a:solidFill>
                  <a:srgbClr val="ff5050"/>
                </a:solidFill>
                <a:uFillTx/>
                <a:latin typeface="Arial"/>
                <a:hlinkClick r:id="rId4"/>
              </a:rPr>
              <a:t>article</a:t>
            </a:r>
            <a:r>
              <a:rPr b="0" lang="cs-CZ" sz="3200" spc="-1" strike="noStrike" u="sng">
                <a:solidFill>
                  <a:srgbClr val="ff5050"/>
                </a:solidFill>
                <a:uFillTx/>
                <a:latin typeface="Arial"/>
                <a:hlinkClick r:id="rId5"/>
              </a:rPr>
              <a:t>.</a:t>
            </a:r>
            <a:r>
              <a:rPr b="0" lang="cs-CZ" sz="3200" spc="-1" strike="noStrike" u="sng">
                <a:solidFill>
                  <a:srgbClr val="ff5050"/>
                </a:solidFill>
                <a:uFillTx/>
                <a:latin typeface="Arial"/>
                <a:hlinkClick r:id="rId6"/>
              </a:rPr>
              <a:t>asp</a:t>
            </a:r>
            <a:r>
              <a:rPr b="0" lang="cs-CZ" sz="3200" spc="-1" strike="noStrike" u="sng">
                <a:solidFill>
                  <a:srgbClr val="ff5050"/>
                </a:solidFill>
                <a:uFillTx/>
                <a:latin typeface="Arial"/>
                <a:hlinkClick r:id="rId7"/>
              </a:rPr>
              <a:t>?</a:t>
            </a:r>
            <a:r>
              <a:rPr b="0" lang="cs-CZ" sz="3200" spc="-1" strike="noStrike" u="sng">
                <a:solidFill>
                  <a:srgbClr val="ff5050"/>
                </a:solidFill>
                <a:uFillTx/>
                <a:latin typeface="Arial"/>
                <a:hlinkClick r:id="rId8"/>
              </a:rPr>
              <a:t>itm</a:t>
            </a:r>
            <a:r>
              <a:rPr b="0" lang="cs-CZ" sz="3200" spc="-1" strike="noStrike" u="sng">
                <a:solidFill>
                  <a:srgbClr val="ff5050"/>
                </a:solidFill>
                <a:uFillTx/>
                <a:latin typeface="Arial"/>
                <a:hlinkClick r:id="rId9"/>
              </a:rPr>
              <a:t>=1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chs, K., Tuleja, P. Mikroekonomie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7DDE-88D3-4A7D-864B-5A8D39F16CC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84aad"/>
                </a:solidFill>
                <a:latin typeface="Arial"/>
              </a:rPr>
              <a:t>Děkujeme za pozornost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6ABB-2890-447F-B95E-BF03B9432F4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298080"/>
            <a:ext cx="807732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Arial"/>
              </a:rPr>
              <a:t>Třetí vlna.</a:t>
            </a:r>
            <a:br>
              <a:rPr sz="4800"/>
            </a:br>
            <a:r>
              <a:rPr b="1" lang="en-US" sz="4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4500" spc="-1" strike="noStrike">
                <a:solidFill>
                  <a:srgbClr val="3333cc"/>
                </a:solidFill>
                <a:latin typeface="Arial"/>
              </a:rPr>
              <a:t>Příchod převratných změn</a:t>
            </a:r>
            <a:r>
              <a:rPr b="1" lang="en-US" sz="4800" spc="-1" strike="noStrike">
                <a:solidFill>
                  <a:srgbClr val="3333cc"/>
                </a:solidFill>
                <a:latin typeface="Arial"/>
              </a:rPr>
              <a:t>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2205000"/>
            <a:ext cx="82296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Úv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Kvantové skoky vpř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Tři vl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 Hlavní rysy ekonomiky třetí vl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 Politické struktury 21. stole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. Hlavní konflik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. Závě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FB50-B8DB-493D-A9D3-6B0D7D51AAF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Arial"/>
              </a:rPr>
              <a:t>1. Úvo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objasnit pojem třetí vl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odlišnosti od předchozích et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hlavní rys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návrhy změn politických strukt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hlavní konflikty / způsoby implementace a pochop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D824-C417-4853-94DA-0D736C5373E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Arial"/>
              </a:rPr>
              <a:t>2. Kvantové skoky vpře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 dnešní dobu je typické zrychlující se tempo změ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mpo i množství změn v historii lidstva se nepohybuje lineárn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hyb změn v „kvantových skocích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C563-F3EB-4136-B1F4-F42076EFDDF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Arial"/>
              </a:rPr>
              <a:t>3. Tři vln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První vlna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- zemědělská revolu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čátek cca 8 000 let před Krist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často migrující skupi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oposud sběračství, rybaření, lov, pastevectv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echod k obdělávání půdy, vznik vesni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eště doznívá, existují i oblasti nezasažené (např. předagrární kmeny v Jižní Americe nebo v papuánské Nové Guinej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íla velké první vlny se v zásadě vyčerpa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7BE4-D716-4DA7-9362-9AB3839B2AB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Arial"/>
              </a:rPr>
              <a:t>3. Tři vln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ruhá vln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– průmyslová revolu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nec 17. století, Evropa (trvání tři sta le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ba měst, průmyslové výroby a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asovéh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konzum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fikovaná výroba, elektrifikace a automobilismu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sud nevyčerpala, v částech světa se stále šíř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FFE7-B154-46A1-9DB4-E23E851AC1D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Arial"/>
              </a:rPr>
              <a:t>3. Tři vln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řetí vln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– technická revolu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ačátek sahá do 60. let 20. stolet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kem 1955 počet bílých límečků poprvé převýšil počet dělnických modrých límečk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oluce ve zpracování a používání informa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dklon od standardizace, synchronizace, centralizace a masov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63DF-FB4B-4F32-B211-B23D9B1CF0B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Arial"/>
              </a:rPr>
              <a:t>Hlavní rysy ekonomiky</a:t>
            </a:r>
            <a:br>
              <a:rPr sz="4800"/>
            </a:br>
            <a:r>
              <a:rPr b="1" lang="en-US" sz="4800" spc="-1" strike="noStrike">
                <a:solidFill>
                  <a:srgbClr val="3333cc"/>
                </a:solidFill>
                <a:latin typeface="Arial"/>
              </a:rPr>
              <a:t>třetí vln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0172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lavní zdroj - poznání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drojem je poznání, tj. data, informace, obrazy, symboly atd. (x 2.vlna – půda, práce a kapitá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znání je prakticky nevyčerpateln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třeba méně kapitál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akteristické podniky tzv. intelektuál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řesun akcentu z bohatství jako tradičních zdrojů moci na pohotové využívání informac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1CA5-70DB-4F19-BB46-67F738DE6E5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Arial"/>
              </a:rPr>
              <a:t>Hlavní rysy ekonomiky</a:t>
            </a:r>
            <a:br>
              <a:rPr sz="4800"/>
            </a:br>
            <a:r>
              <a:rPr b="1" lang="en-US" sz="4800" spc="-1" strike="noStrike">
                <a:solidFill>
                  <a:srgbClr val="3333cc"/>
                </a:solidFill>
                <a:latin typeface="Arial"/>
              </a:rPr>
              <a:t>třetí vln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hmotné hodno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dnota podniku firem třetí vlny = schopnosti získávat, generovat a distribuovat a aplikovat poznatk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pitál je stále více založen na nehmotných hodnotá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FB31-98E2-4953-AA1A-1BF35E9A306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9T07:49:34Z</dcterms:created>
  <dc:creator>Allianz pojišťovna, a.s.</dc:creator>
  <dc:description/>
  <dc:language>en-US</dc:language>
  <cp:lastModifiedBy>uživatel</cp:lastModifiedBy>
  <dcterms:modified xsi:type="dcterms:W3CDTF">2005-12-01T23:26:26Z</dcterms:modified>
  <cp:revision>10</cp:revision>
  <dc:subject/>
  <dc:title>Prezentace skupina č. 6</dc:title>
</cp:coreProperties>
</file>