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72A-A3BF-444B-A341-5B4B597E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A83-7852-41F0-8FA4-FC168BB7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BE0-2213-438A-9E08-FEA68130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82A-C3FC-4B72-9653-A15F97A0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DCC43-B664-4BB4-B905-05E7D9C5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8EBDA-18DF-42E7-ACB9-D79AEC30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DD28F-AB24-40D5-AA87-F3EE8B6D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EEC43-141F-4E2C-9965-C63E1EAF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37723-E3CF-4A9C-9838-78925C98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26C0B-1CCC-41E0-8583-51E684A7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8555A-DFFA-4307-9794-54584BF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F87-E677-4E14-8D77-D1AF33A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EF1DA-0CBA-448C-86B7-0A8BCDA7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483F6-0EC7-4300-8B47-358552CE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54FB2-AD18-4572-BB5B-03A8802B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E7ED5-2B3F-451B-8E44-AD5800F8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B34A5-DD2D-456F-BE90-4FE99376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5C0-0275-4B26-BC6D-9BB64D14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DF4-59D6-47DE-B424-F0411169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47F-4C95-4457-8554-EC3AD592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50A-72FC-4EED-BEBD-BF5AA605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01E-2802-4B3B-8F09-D690D3D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3C5-1625-4299-AF03-C6392E49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66C-B843-43CD-949D-C6FE2704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021A-3374-4261-AA60-2B799652D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835F-8D30-40EA-B9F4-DC5FD25D6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ulturní a přirozená evoluc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560" y="3141720"/>
            <a:ext cx="6697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por, který mezi přirozen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kulturní evolucí nas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o podkladový materiál slouží myšlenky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f. Šmajse, které publikoval ve svých knihá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ůmyslová r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udký vývoj abiotické techniky a techno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y podporuje produktivně zaměřená přírodní vě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 továren nepřizpůsobených přírod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romadné čerpání neobnovitelných přírodní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ůsledkem je znečištěná a poškozená planeta, destabilizovaná biosfé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industriální fá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kter postoje člověka k přírodě se příliš nemění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dyž vznikají nové technologie šetřící energii, ohleduplnější způsoby výroby, odpadové a bezodpadové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znik konzumního způsobu živo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přednostňuje právo a blaho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erespektuje práva jiných živých bytostí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 nároky na prostou existenci ostatních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irozených struktur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obalizace lidské kultu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oplanetární pohyb lidí, globální trh, výměna technologií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 systém je nastaven na zisk a tržní vzt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votně se nezajišťuje lidské přežití, ale úspěch a růst moci i peněžního bohat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íroda se brání snadnou zranitelností a nerovnováhou – na to nejsme připrave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obální ekologická kri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likt přirozeného a kulturního řá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statou krize je systémový konflikt protipřírodní kultury se Zem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á se o krizi kulturní 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ogram změn v kultuře 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(prof. Šmaj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lověk musí uchovat značnou část původní přírody, nemůže pokračovat v dobývání přirozených ekosystém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zemskou přírodu je třeba začít vnímat nově. Člověk je součástí příro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rch Země je konečný. Systém biosféry se zbavuje nejsložitějších struktur a mohl by obětovat i člověka – důvod k opatrnosti a pokoř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Člověk není na této planetě jedinou bytostí na níž zálež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ud protipřírodní kultura příliš ublíží životu na Zemi, zbytečně předčasně zanik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ádná vesmírná moc při obnově pomoci nemůž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ím dříve toto lidé pochopí, tím dříve se jim podaří zachránit ohrožené místní kultury a i vzácnou rozmanitost biosfé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užitá literatura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majs, J.: Drama evoluce. 1. vyd. Praha: Nakladatelství Hynek, 2000. ISBN 80-86202-77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majs, J.: Konflikt přirozené a kulturní evoluce. 1. vydání. Brno: Masarykova univerzita v Brně, 1997. ISBN 80-210-1506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uchtová, B.: Člověk – psychsomatická bytost. 3. vydání. Brno: Masarykova univerzita v Brně, 2001. ISBN 80-210-2730-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éma zpracová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arta Krauso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Petrá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, v jehož průběhu se z méně dokonale uspořádaných systémů vytvářejí systémy uspořádané dokonale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irozená 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počala vznikem vesmí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ravd. před 15 miliardami l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stále se vyví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nikají všechny dnešní struktury svět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naše planeta Zem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ulturní (umělá) 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vazuje na evoluci přirozenou, ale není jejím přímým pokrač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initelem kultury je vědomá aktivita lidsk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ěňuje a rozšiřuje se systé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tváří se nové prvky, části a subsystémy – instituce, organizace, technické prostředk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Člověk – normální živočišný dr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 biologická existence závisí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struktuře, rozsahu a celkovém vztahu přirozený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 však předpoklady pro záměrné a rychlé přizpůsobování svého okolí svým potřeb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počal kulturní evolu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530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nenápadný proces kulturní evoluce svým rozsahem a charakterem přírodu překvapi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rategie zužitkování přírody pr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to strategie není dobrá. Destabilizovaná biosféra kulturu existenčně ohrožuj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nebylo tomu tak vž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611280" y="836640"/>
            <a:ext cx="7920000" cy="5040000"/>
            <a:chOff x="611280" y="836640"/>
            <a:chExt cx="7920000" cy="5040000"/>
          </a:xfrm>
        </p:grpSpPr>
        <p:cxnSp>
          <p:nvCxnSpPr>
            <p:cNvPr id="96" name="_s52240"/>
            <p:cNvCxnSpPr>
              <a:stCxn id="97" idx="1"/>
              <a:endCxn id="98" idx="2"/>
            </p:cNvCxnSpPr>
            <p:nvPr/>
          </p:nvCxnSpPr>
          <p:spPr>
            <a:xfrm rot="10800000">
              <a:off x="2986560" y="1555920"/>
              <a:ext cx="792720" cy="396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52236"/>
            <p:cNvCxnSpPr>
              <a:stCxn id="100" idx="1"/>
              <a:endCxn id="98" idx="2"/>
            </p:cNvCxnSpPr>
            <p:nvPr/>
          </p:nvCxnSpPr>
          <p:spPr>
            <a:xfrm rot="10800000">
              <a:off x="2986560" y="1555920"/>
              <a:ext cx="792720" cy="2883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52235"/>
            <p:cNvCxnSpPr>
              <a:stCxn id="102" idx="1"/>
              <a:endCxn id="98" idx="2"/>
            </p:cNvCxnSpPr>
            <p:nvPr/>
          </p:nvCxnSpPr>
          <p:spPr>
            <a:xfrm rot="10800000">
              <a:off x="2986560" y="1555920"/>
              <a:ext cx="792720" cy="180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52234"/>
            <p:cNvCxnSpPr>
              <a:stCxn id="104" idx="1"/>
              <a:endCxn id="98" idx="2"/>
            </p:cNvCxnSpPr>
            <p:nvPr/>
          </p:nvCxnSpPr>
          <p:spPr>
            <a:xfrm rot="10800000">
              <a:off x="2986560" y="1555920"/>
              <a:ext cx="792720" cy="72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8" name="_s52230"/>
            <p:cNvSpPr/>
            <p:nvPr/>
          </p:nvSpPr>
          <p:spPr>
            <a:xfrm>
              <a:off x="611280" y="83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Kulturní evoluc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2231"/>
            <p:cNvSpPr/>
            <p:nvPr/>
          </p:nvSpPr>
          <p:spPr>
            <a:xfrm>
              <a:off x="3779280" y="191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Přírodní národ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2232"/>
            <p:cNvSpPr/>
            <p:nvPr/>
          </p:nvSpPr>
          <p:spPr>
            <a:xfrm>
              <a:off x="3779280" y="299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Neolitická revoluc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52233"/>
            <p:cNvSpPr/>
            <p:nvPr/>
          </p:nvSpPr>
          <p:spPr>
            <a:xfrm>
              <a:off x="3779280" y="407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Průmyslová revoluc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52239"/>
            <p:cNvSpPr/>
            <p:nvPr/>
          </p:nvSpPr>
          <p:spPr>
            <a:xfrm>
              <a:off x="3779280" y="515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Postindustriální revoluc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írodní náro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echn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ita a trad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a se rozvíjela poma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držovala se přirozená rovnováha mezi člověkem a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olitická r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obí, během kterého vznikly téměř všechny dnes známé druhy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ystém původní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 další rozšiřování kultury byly stále ještě k dispozici původní přirozené ekosyst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0:25:03Z</dcterms:created>
  <dc:creator>T-Mobile CZ, a.s.</dc:creator>
  <dc:description/>
  <dc:language>en-US</dc:language>
  <cp:lastModifiedBy>T-Mobile CZ, a.s.</cp:lastModifiedBy>
  <dcterms:modified xsi:type="dcterms:W3CDTF">2005-11-30T13:30:57Z</dcterms:modified>
  <cp:revision>7</cp:revision>
  <dc:subject/>
  <dc:title>Snímek 1</dc:title>
</cp:coreProperties>
</file>