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ECEB-53B3-401E-BC2C-8D480E5D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F4F7-14B6-42CD-9B01-DDE6094E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B9AB-F767-4D5E-A1D3-2FF4540E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5D44-0A05-4F8B-AF01-AF65598F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55E5-4CAE-4036-8F4E-5BEAECAB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CCC0-A29F-4F5B-A6C4-68A4C33E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1BC1-F822-4AA6-90DF-033DED46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4A03-F3F0-430C-A510-509D07EE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DF52-742C-4D88-85E6-686D5010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4246-4922-4FAB-A022-148E36A3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6E5D-2483-4227-803A-1BF2F955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3EBA-085F-4F7C-9154-1F0FCCA2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FD34-D0FD-4280-86C7-98036A69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D885-3F0F-4726-8CA5-A05490D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D290-1040-4A9F-B1E4-D275E10A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7598-AA07-457A-8E71-1BE03647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88AF-D809-41FF-BCD5-D042B653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7D87-1AB1-440C-922C-B6B59FB4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E051-2969-492C-88D5-D7185975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ABC7-07A4-4FBE-8368-FB10DEDC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8F67-3F8E-4597-862A-76D22710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26E6-684E-444A-AFF5-E87C9A84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4D80-B808-4DB1-A613-E1848AA6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1F91B-8065-4B9D-A6B3-240D8A21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C231-CAE2-47C9-9BEF-FCD3D6C1B6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CBFB-5542-4D95-BF86-A6E663B003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xrefer.com/" TargetMode="External"/><Relationship Id="rId2" Type="http://schemas.openxmlformats.org/officeDocument/2006/relationships/hyperlink" Target="http://www.socioweb.cz/" TargetMode="External"/><Relationship Id="rId3" Type="http://schemas.openxmlformats.org/officeDocument/2006/relationships/hyperlink" Target="http://www.socioweb.cz/" TargetMode="External"/><Relationship Id="rId4" Type="http://schemas.openxmlformats.org/officeDocument/2006/relationships/hyperlink" Target="http://www.socioweb.cz/" TargetMode="External"/><Relationship Id="rId5" Type="http://schemas.openxmlformats.org/officeDocument/2006/relationships/hyperlink" Target="http://www.socioweb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Vliv náboženství na ekonomiku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ucie Šál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ěta Filip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rtin Voldř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ábožen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znamný zdroj kul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ování princip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azy a příka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iv na ekonom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ování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išné cí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a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teistické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om ve 13.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ra  - 600 příkaz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ravedlnitelnost bohat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řesťan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 z juda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stote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áce je „Boží tres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lvin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r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rok Moh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nnité (90%) a Šíité (1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r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azy, např. burzovní operace, živ.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gitimní obchodní zisk x lich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ůzný poh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karn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tovní syst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lečná ro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ení obch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žování vlivu náboženstv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 nových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tika nábož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čekávání budoucího výv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RONĚK, I. Kultura v mezinárodním podnikání. Praha: Grada Publishing, spol. s r.o., 2001, ISBN 80-247-00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MERON, R. Stručné ekonomické dějiny světa. Praha: Victoria Publishing, 1996, ISBN 80-85865-2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DDENS, A. Sociologie. Praha: Argo, 1999, ISBN 80-7203-12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, A. Etika a ekonomie, Praha: Praha Vyšehrad, 2002, ISBN 80-7021-54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ŘICKÝ, V. Globalizace, Praha: Praha Portál, 2003, ISBN 80-7178-74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xrefe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socioweb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22:09:47Z</dcterms:created>
  <dc:creator>Lucka</dc:creator>
  <dc:description/>
  <dc:language>en-US</dc:language>
  <cp:lastModifiedBy>Lucka</cp:lastModifiedBy>
  <dcterms:modified xsi:type="dcterms:W3CDTF">2005-12-01T22:03:39Z</dcterms:modified>
  <cp:revision>9</cp:revision>
  <dc:subject/>
  <dc:title>Vliv náboženství na ekonomi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61681475</vt:r8>
  </property>
  <property fmtid="{D5CDD505-2E9C-101B-9397-08002B2CF9AE}" pid="3" name="_AuthorEmail">
    <vt:lpwstr>michal.franek@canon.cz</vt:lpwstr>
  </property>
  <property fmtid="{D5CDD505-2E9C-101B-9397-08002B2CF9AE}" pid="4" name="_AuthorEmailDisplayName">
    <vt:lpwstr>Michal Franek</vt:lpwstr>
  </property>
  <property fmtid="{D5CDD505-2E9C-101B-9397-08002B2CF9AE}" pid="5" name="_EmailSubject">
    <vt:lpwstr>škola volá ... :-)</vt:lpwstr>
  </property>
</Properties>
</file>