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2ED4FF-9BCF-4020-992F-90DAD3153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52F7AF-93C9-462A-8DC0-451053833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245DED-9597-4BD1-8A1D-22CE4A5EBD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BDE90A-AFDD-420B-9319-89386AE517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6AF0A-AE1B-4D75-9ABB-D2DFA5877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E5C38-10CB-4110-BB8B-257CA2DF1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53CC6-C434-4693-B9AC-0363E1658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60318-F912-44BB-8464-0BDE66744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26E49-C9CE-4A53-91D5-35F528454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1F596-F332-433B-B9A8-992850404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DA20B-B9FA-4052-935B-C37DF62B3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F83936-7C3E-41FE-99FA-E64F12482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CF5F6-D394-40C5-9F2C-2EAA96717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E238C-E63B-47A8-931D-8AB7259C5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3FCB9-3C51-40EB-85CB-DEC65BA96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25C62-5389-4FC1-B7B5-928698A25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35DC8-F020-4FA9-BE6C-907E8A2D3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13F42B-8C4B-4628-85C2-B1EEA0613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6CE55A-593B-4E0E-BC93-188F71236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2CCFC4-E7A3-43AD-9EB2-F2752AEB8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40876F-B925-4F60-A23F-065F196B4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2DE12C-F125-4B76-B98C-DBAC2EC23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27AC13-3DE8-4920-BE90-42C62F7A0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4A14B6-5126-4D93-8554-4591A8818B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5435-F81E-4B57-AE58-0C00185D5B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8F89-5D70-408C-A32E-65C08C54BF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ývoj řízení společenských systémů</a:t>
            </a:r>
            <a:r>
              <a:rPr b="0" lang="en-US" sz="4000" spc="-1" strike="noStrike">
                <a:solidFill>
                  <a:srgbClr val="ffffff"/>
                </a:solidFill>
                <a:latin typeface="Arial"/>
              </a:rPr>
              <a:t>	</a:t>
            </a:r>
            <a:r>
              <a:rPr b="0" lang="en-US" sz="4500" spc="-1" strike="noStrike">
                <a:solidFill>
                  <a:srgbClr val="ffffff"/>
                </a:solidFill>
                <a:latin typeface="Arial"/>
              </a:rPr>
              <a:t>	</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ytváření řádu ve společnosti</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yšlenka na závěr</a:t>
            </a: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ouha po slávě, moci nebo majetku nutí člověka prosadit se mezi svými bližními, které sice nemůže vystát, ale přece od nich nemůže odejít. Skrze tuto honbu za uznáním se uskutečňují první kroky od barbarství ke kultuře, která ve skutečnosti spočívá ve společenské hodnotě člověka.</a:t>
            </a:r>
            <a:endParaRPr b="0" lang="en-US" sz="2800" spc="-1" strike="noStrike">
              <a:solidFill>
                <a:srgbClr val="ffffff"/>
              </a:solidFill>
              <a:latin typeface="Arial"/>
            </a:endParaRPr>
          </a:p>
          <a:p>
            <a:pPr lvl="4" marL="2057400" indent="-228600">
              <a:spcBef>
                <a:spcPts val="499"/>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mmanuel Ka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Literatura</a:t>
            </a:r>
            <a:endParaRPr b="0" lang="en-US" sz="3900" spc="-1" strike="noStrike">
              <a:solidFill>
                <a:srgbClr val="ffffff"/>
              </a:solidFill>
              <a:latin typeface="Arial"/>
            </a:endParaRPr>
          </a:p>
        </p:txBody>
      </p:sp>
      <p:sp>
        <p:nvSpPr>
          <p:cNvPr id="13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Robert Wright – „Víc než nic – Logika lidského osud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F.A.Hayek – „Právo, zákonodárství a svobod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osef Šmajs – „Konflikt přirozené a kulturní evolu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Za pozornost děkují:</a:t>
            </a:r>
            <a:endParaRPr b="0" lang="en-US" sz="3900" spc="-1" strike="noStrike">
              <a:solidFill>
                <a:srgbClr val="ffffff"/>
              </a:solidFill>
              <a:latin typeface="Arial"/>
            </a:endParaRPr>
          </a:p>
        </p:txBody>
      </p:sp>
      <p:sp>
        <p:nvSpPr>
          <p:cNvPr id="13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 Pávková</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Šárka Pospíšilová</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mila Králov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Úvod</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naší prezentaci bychom rádi udělali krátký průřez vývojem společenských systémů. Chtěli bychom posluchače seznámit s jednotlivými typy systémů od nejmenších jednotek společenské organizace po nejsložitější. Budeme se zabývat popisem jednotlivých systémů a jejich fungováním. A jelikož nás zajímá hlavně vývoj společnosti, uvedeme příčiny přeměn organizace společnosti ve složitější a organizovanější uspořádán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upně vývoje řízení společnosti</a:t>
            </a:r>
            <a:r>
              <a:rPr b="0" lang="en-US" sz="3900" spc="-1" strike="noStrike">
                <a:solidFill>
                  <a:srgbClr val="ffffff"/>
                </a:solidFill>
                <a:latin typeface="Arial"/>
              </a:rPr>
              <a:t>	</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dina</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lečnosti řízené „Velkým mužem“</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áčelnictví</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3348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odina</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jjednodušší organizační jednotk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čele rodiny je muž</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působ obživy nevede k potřebě vyšší organiz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polečnosti řízené „Velkým mužem“</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hý stupeň vývoj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Život ve vesnicíc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nost koordinace při lovu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nost přerozdělován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nost vedení</a:t>
            </a:r>
            <a:r>
              <a:rPr b="0" lang="en-US" sz="2800" spc="-1" strike="noStrike">
                <a:solidFill>
                  <a:srgbClr val="ffffff"/>
                </a:solidFill>
                <a:latin typeface="Arial"/>
              </a:rPr>
              <a:t>	</a:t>
            </a:r>
            <a:r>
              <a:rPr b="0" lang="en-US" sz="2800" spc="-1" strike="noStrike">
                <a:solidFill>
                  <a:srgbClr val="ffffff"/>
                </a:solidFill>
                <a:latin typeface="Arial"/>
              </a:rPr>
              <a:t>, velký muž funguje jako náhrada trh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áčelnictví</a:t>
            </a:r>
            <a:endParaRPr b="0" lang="en-US" sz="39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ěkolik vesnic se společným vůdcem</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odářská spolupráce, dělba prá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zvoj technologií a zemědělstv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působ řízení společnosti je autoritativní, božská síla náčelníků vede k vykořisťo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át</a:t>
            </a:r>
            <a:endParaRPr b="0" lang="en-US" sz="39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znik písma a posun v přenášení informac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láda zákona, právní řá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zvoj obchodu a spoluprá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ývoj od starověku po současnos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říčiny kulturní evoluce lidstva</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ké nadán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vláštnosti přírodního prostřed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lon k výměně, dbalost vlastního zájm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lečenské postavení jedin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álky, ozbrojený boj</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likost a hustota popul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Závěr</a:t>
            </a:r>
            <a:endParaRPr b="0" lang="en-US" sz="3900" spc="-1" strike="noStrike">
              <a:solidFill>
                <a:srgbClr val="ffffff"/>
              </a:solidFill>
              <a:latin typeface="Arial"/>
            </a:endParaRPr>
          </a:p>
        </p:txBody>
      </p:sp>
      <p:sp>
        <p:nvSpPr>
          <p:cNvPr id="1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hodnocení cílů prezenta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obnost kulturní evoluce s přirozenou biologickou evolucí</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18:25:18Z</dcterms:created>
  <dc:creator>Eva Pávková</dc:creator>
  <dc:description/>
  <dc:language>en-US</dc:language>
  <cp:lastModifiedBy>Eva Pávková</cp:lastModifiedBy>
  <dcterms:modified xsi:type="dcterms:W3CDTF">2005-11-27T15:35:19Z</dcterms:modified>
  <cp:revision>6</cp:revision>
  <dc:subject/>
  <dc:title>Vývoj a řízení společenských systémů  </dc:title>
</cp:coreProperties>
</file>