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F069-9C73-4FE6-97D3-25B6BF94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D569-A751-4C17-BDFB-09F1F0C1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3354-3CFD-46FC-8CCF-D6297BC7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DA79-FC9E-46F2-838A-5B9E58CC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DC8-9D34-484E-86C1-1660AE34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01A-FB77-45F8-8902-E4C7EAA3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141B-DB7C-4B96-833C-BC6EACFB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40FB-0237-4090-8428-65E8A0EA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CF4-C31F-4325-A04B-FAD51D31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F09A-EB96-4983-8BC7-E5751F14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4E34-A10F-44A7-AEC6-F78EF5DC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3A1-AD41-4638-97DA-89260FEB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FF32-E568-45EA-A8CD-AF0BAC132D7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720" y="764640"/>
            <a:ext cx="9016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rezentace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– Management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1844280"/>
            <a:ext cx="8078760" cy="438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ém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ostindustriální společ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ým č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lenové tý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c. Marie Med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c. Jitka Kon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c. Petr Cí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činy úspěchu mcdonaliz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fektiv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počítatel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edpověditel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Bauerovy příčiny mnoha fenoménů dnešní do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dostatečné vzdělání, chybějící nadhled a znalost reálných souvislost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goismus. Vlastní prospěch je dogmatem podniků, politických uskupení, odborů a vlá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radoxnost systémového chování. Podobně jako lze vypnout stroj stisknutím tlačítka, vypíná se i člověk v určité době působením zčásti protismyslných zákon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istuje cesta v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uerova doporučen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výšení skutečně lidské spoluprá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dukce neosobního egois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nat dříve, než se objeví problé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vazovat se pouze k tomu, co jsme schopni sami spl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itzerova doporuč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bydlete v sídlištních byt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ýbejte se rutin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 nejvíce věcí dělejte sa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bracejte se na místní a lokální podnikatele, lékaře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vpusťte mcdonalizaci do školstv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alší doporuč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rvale udržitelný vývoj (sustainable develop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rategie přežití (strategy of survival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ěkujeme Vám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981000"/>
            <a:ext cx="80280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1) BAUER, W.M.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yranie blahobytu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 Praha: Volvo Globator, 1997. ISBN 80-7207-033-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2) BELL, D.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ulturní rozpory kapitalismu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 Praha: Sociologické nakladatelství, 1999. ISBN 80-85850-84-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3) RITZER, G.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cdonaldizace společnosti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 Praha: Academia, 1996. ISBN 80-200-0571-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4) ZEMAN, J. Problémy globálního trvale udržitelného rozvoje.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aratho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[online]. 2005, č.3/1998. Dostupný na WWW: &lt; http://misc.eunet.cz/marathon&gt;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ělení spole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le Bella se společnosti dělí podle stupně své industrializace 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edindustriální (agrární), kde převládá zemědělstv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dustriální, kde převládá průmyslový sek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industriální, kde největší počet zaměstnaných pohltí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harakteristiky postindustriální společnos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muje se zcela nová vládnoucí el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acovní síla se přesouvá do sektoru služeb (tuto společnost později nazývá také společností služeb nebo společností „osobních služeb“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echnologie se stává hybnou silou sociální změ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jdůležitějším typem vědění se stává teoretické poznání, institucionálním symbolem postindustriální společnosti je univerz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měny ve struktuře spole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znik globální ekonomi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tný trh kapitálu, zboží, kvalifikované pracovní síly a technologi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zvoj komun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vázanost světa pomocí propojení optickými vlákny, kabelovou televizí, satelity, elektronickou sítí (inter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echn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sou motorem globální ekonomiky, boří hranice mezi jednotlivými ekonomickými aktivit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auerův popis spole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vádí tři základní východiska, z nichž vychází. Zdůrazňuje nutnost jistoty v životě jednotlivce, kterou mu však dnešní společnost neposkytu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řemi nejvýraznějšími faktory, které se společně podílejí na ztrátě jistoty v životě jednotlivce, jsou přizpůsobení resp. ústup individua, ztráta identity a problém identif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Jistota v životě jednotliv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místo jistoty se obvyklým pocitem stává prázdnota a nejist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ázdnota a nejistota je nahrazována pseudohodnotami (materiální hodnoty, úspěch, postaven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ousseau „Člověk se rodí svobodný a přesto žije v okovech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tázka potř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utnost rozlišovat tzv. pravé a nepravé potře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avé lidské potřeby jsou ty, které slouží zdravým fyziologickým potřebám, kulturním a sociálním potřebám, při jejichž výrobě a spotřebě nedochází k větším ztrátám společnosti než je prospěch jednotlivého spotřebi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pravé lidské potřeby jsou všechny ostatní formy potřeb, které jsou pak v nejlepším případě neužitečn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itzerovo pojetí spole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itzer navazuje na Weberovu teorii racionalizačního proce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elem racionality v moderním světě jsou rychloobslužné restaurace, které se staly nejdůležitějším projevem racionalizačního procesu a Ritzer  tento proces nazývá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cdonalizac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5:13:53Z</dcterms:created>
  <dc:creator>Prf</dc:creator>
  <dc:description/>
  <dc:language>en-US</dc:language>
  <cp:lastModifiedBy>Petr Cícha</cp:lastModifiedBy>
  <dcterms:modified xsi:type="dcterms:W3CDTF">2005-12-02T09:24:09Z</dcterms:modified>
  <cp:revision>81</cp:revision>
  <dc:subject/>
  <dc:title>Bez nadpisu</dc:title>
</cp:coreProperties>
</file>