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59A-6B65-45E1-AED9-07423C0F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9C1E-9D3A-4816-92BD-808AE731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576-6E2D-4467-B36A-83E0BCD6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08F-411E-4E8C-807D-CE6D0A9D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D74-402B-49F5-9C95-15226328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B95-833A-40DB-98A4-2DF7F6DF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A73-3940-450A-9F9C-576C9067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EFB-1AD2-4D54-AFE7-89F23851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0B9-4D7C-4D1A-8F3F-EA7AF39B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709-61CA-427D-8D52-641F501C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217-537F-4F6C-8527-92F0E6AF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2C9-2BDD-487A-AF56-B0954365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3783-8F5C-4F52-AE7B-E78A650B2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ark.cz/article.asp?itm=106" TargetMode="External"/><Relationship Id="rId2" Type="http://schemas.openxmlformats.org/officeDocument/2006/relationships/hyperlink" Target="http://www.park.cz/article.asp?itm=106" TargetMode="External"/><Relationship Id="rId3" Type="http://schemas.openxmlformats.org/officeDocument/2006/relationships/hyperlink" Target="http://www.park.cz/article.asp?itm=106" TargetMode="External"/><Relationship Id="rId4" Type="http://schemas.openxmlformats.org/officeDocument/2006/relationships/hyperlink" Target="http://www.park.cz/article.asp?itm=106" TargetMode="External"/><Relationship Id="rId5" Type="http://schemas.openxmlformats.org/officeDocument/2006/relationships/hyperlink" Target="http://www.park.cz/article.asp?itm=106" TargetMode="External"/><Relationship Id="rId6" Type="http://schemas.openxmlformats.org/officeDocument/2006/relationships/hyperlink" Target="http://www.park.cz/article.asp?itm=106" TargetMode="External"/><Relationship Id="rId7" Type="http://schemas.openxmlformats.org/officeDocument/2006/relationships/hyperlink" Target="http://www.park.cz/article.asp?itm=106" TargetMode="External"/><Relationship Id="rId8" Type="http://schemas.openxmlformats.org/officeDocument/2006/relationships/hyperlink" Target="http://www.park.cz/article.asp?itm=106" TargetMode="External"/><Relationship Id="rId9" Type="http://schemas.openxmlformats.org/officeDocument/2006/relationships/hyperlink" Target="http://www.park.cz/article.asp?itm=106" TargetMode="Externa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Prezentace</a:t>
            </a:r>
            <a:br>
              <a:rPr sz="7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kupiny č.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86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3300"/>
                </a:solidFill>
                <a:latin typeface="Arial"/>
              </a:rPr>
              <a:t>Benediktová Pet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3300"/>
                </a:solidFill>
                <a:latin typeface="Arial"/>
              </a:rPr>
              <a:t>Hušková Markéta</a:t>
            </a:r>
            <a:r>
              <a:rPr b="1" lang="en-US" sz="21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3300"/>
                </a:solidFill>
                <a:latin typeface="Arial"/>
              </a:rPr>
              <a:t>Navrátilová Len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Třetí vln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Arial"/>
              </a:rPr>
              <a:t>Příchod převratných změ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9D1-B745-4DE7-BD91-CBA3C3B94A90}" type="slidenum">
              <a:t>1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lavní rysy ekonomiky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emasifik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vádění automatizovaných výrobních systémů = nekonečná a nenákladná druhová rozmanitost výrobní produk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rganizace a systémová inte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edání nových forem organizace / zbavení se byrokratických struktur 2. vl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žitosti ekonomiky, měnící potřeby spotřebitelů,rychlé změny na trhu = nutná systémová inte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ABB-D582-43CB-B82A-B4715188AB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lavní rysy ekonomiky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á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zaměnitelností profesí (x 2. vlna – charakteristická nízká úroveň dovednosti, lehká zaměniteln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měna poměru mezi „přímou“ a „nepřímou“ pr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římí vytvářejí hodnotu jako přím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ECE-D6D8-47EF-B85F-A58E96D336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lavní rysy ekonomiky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o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é výrobky, technologie, marketing nebo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ěřít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ovní jednotky se zmenšují, rozsah operací se minimalizu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EE9-6B6D-4434-A573-5F33CAC902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lavní rysy ekonomiky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rastrukt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tvoření elektronických sítí = propojení informační technik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rychle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vyšování rychlosti operací a transak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spory plynoucí s rych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 jedním z nejdůležitějších ekonomických zdrojů a stává se tzv. skrytým vstup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9CD-5176-498C-9C30-CCF1A1B193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olitické struktury 21. stole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mokracie a třetí vl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a politické struktury společnosti = nové požadavky proměňující se d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ílení moci menš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přímé demokrac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lby dec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1D3-F9F1-4D16-A206-E25FE8A866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olitické struktury 21. stole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ismus ve střetu s třetí vl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usměrňování a kontroly pozná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řetí vlna ohrožuje tři pilíře socialistické vír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měrnění“ soukromého vlastni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ální plánování (směr ze shora dol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ížení významu duševní práce a služeb, podezřívavost vůči zeměděl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637-DE80-4968-867C-85486B3A8E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Hlavní konflik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va základní táb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dělením světa do dvou, resp. tří oddělených odlišných v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hyb odlišnou rychlostí - nestejnoměrn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ces změny není ještě někde dokonč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ijak prostorově vymezen – makro x sub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a kulturních hod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26A-6C9B-49B0-9DCD-B03BDBF8DC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Závě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zkoumání hodnot naší kul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řazení koncepcí, které se přež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způsobení se tempu zm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lost základních parametrů toho, co se má stát součástí našeho živ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opení, že právě nyní zuří zápas mezi těmi, kdo se snaží uchovat industrialismus a těmi, kdo by ho chtěli překon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46C-10C7-47D2-85B8-980DB6DC38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ffler, A., Tofflerová, H. Nová Civi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ffler, A. Nečekají nás krvavé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park.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cz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/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4"/>
              </a:rPr>
              <a:t>article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6"/>
              </a:rPr>
              <a:t>asp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7"/>
              </a:rPr>
              <a:t>?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8"/>
              </a:rPr>
              <a:t>itm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9"/>
              </a:rPr>
              <a:t>=1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chs, K., Tuleja, P. Mikroekonomi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A83D-A182-4E9A-BEF5-E01789F226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84aad"/>
                </a:solidFill>
                <a:latin typeface="Arial"/>
              </a:rPr>
              <a:t>Děkujeme za pozorno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EC2-4F0B-41F5-8232-0D429EBF11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732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a.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3333cc"/>
                </a:solidFill>
                <a:latin typeface="Arial"/>
              </a:rPr>
              <a:t>Příchod převratných změn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Kvantové skoky vpř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ři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Hlavní rysy ekonomiky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Politické struktury 21. 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Hlavní konfli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BDF-83A1-447F-B100-7FE9826F14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. Úv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bjasnit pojem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dlišnosti od předchozích e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hlavní ry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návrhy změn politických stru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hlavní konflikty / způsoby implementace a pochop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662-37C4-4753-9E42-4735D0572D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2. Kvantové skoky vpř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dnešní dobu je typické zrychlující se tempo zm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 i množství změn v historii lidstva se nepohybuje lineár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hyb změn v „kvantových skocích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240-9200-4E3D-ADEF-2856A9EFDA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. Tři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vní vlna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zemědělská revol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átek cca 8 000 let před Kri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to migrující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osud sběračství, rybaření, lov, pasteve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chod k obdělávání půdy, vznik vesn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ště doznívá, existují i oblasti nezasažené (např. předagrární kmeny v Jižní Americe nebo v papuánské Nové Guinej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la velké první vlny se v zásadě vyčer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C2CF-2C30-4055-A505-CF93C4DEF3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. Tři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uhá vl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průmyslová revolu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ec 17. století, Evropa (trvání tři sta 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a měst, průmyslové výroby a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sové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nzum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ikovaná výroba, elektrifikace a automobilism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ud nevyčerpala, v částech světa se stále šíř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9BD-6D67-4F34-80BF-DCD7B22C8F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. Tři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řetí vl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technická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čátek sahá do 60. let 20. stole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kem 1955 počet bílých límečků poprvé převýšil počet dělnických modrých límeč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ce ve zpracování a používání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klon od standardizace, synchronizace, centralizace a masov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FE9-B0F6-4061-A29F-CFC276BF30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lavní rysy ekonomiky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lavní zdroj - pozná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m je poznání, tj. data, informace, obrazy, symboly atd. (x 2.vlna – půda, práce a kapitá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znání je prakticky nevyčerpatel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méně kapitál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kteristické podniky tzv. intelektu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sun akcentu z bohatství jako tradičních zdrojů moci na pohotové využívání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D5D-C7A3-428B-8849-2EDC60489F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lavní rysy ekonomiky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hmotné hodno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dnota podniku firem třetí vlny = schopnosti získávat, generovat a distribuovat a aplikovat poznat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itál je stále více založen na nehmotných hodnotá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18F-1FEA-4E88-B939-A0E8B20BBC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7:49:34Z</dcterms:created>
  <dc:creator>Allianz pojišťovna, a.s.</dc:creator>
  <dc:description/>
  <dc:language>en-US</dc:language>
  <cp:lastModifiedBy>uživatel</cp:lastModifiedBy>
  <dcterms:modified xsi:type="dcterms:W3CDTF">2005-12-01T23:26:26Z</dcterms:modified>
  <cp:revision>10</cp:revision>
  <dc:subject/>
  <dc:title>Prezentace skupina č. 6</dc:title>
</cp:coreProperties>
</file>