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C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4024800"/>
            <a:ext cx="8381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C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52000" y="16765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02480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52000" y="402480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C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2698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90760" y="1676520"/>
            <a:ext cx="2698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4680" y="1676520"/>
            <a:ext cx="2698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4024800"/>
            <a:ext cx="2698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90760" y="4024800"/>
            <a:ext cx="2698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4680" y="4024800"/>
            <a:ext cx="2698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C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67652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C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C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52000" y="167652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C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C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2000" y="167652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402480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C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2000" y="16765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52000" y="402480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C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52000" y="16765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4024800"/>
            <a:ext cx="8381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67652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cc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 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 C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 C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 C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cc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CE"/>
              </a:rPr>
              <a:t> </a:t>
            </a:r>
            <a:r>
              <a:rPr b="1" lang="cs-CZ" sz="1100" spc="-1" strike="noStrike">
                <a:solidFill>
                  <a:srgbClr val="000000"/>
                </a:solidFill>
                <a:latin typeface="Arial CE"/>
              </a:rPr>
              <a:t>Management - Industriální společno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36440" y="6400800"/>
            <a:ext cx="839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362320" y="6553080"/>
            <a:ext cx="4572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77320" y="6553080"/>
            <a:ext cx="990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strana </a:t>
            </a:r>
            <a:fld id="{5BA0EB8F-6070-4D5F-8682-379A04FEC8D4}" type="slidenum">
              <a:rPr b="1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CE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 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05840" y="1989000"/>
            <a:ext cx="8858520" cy="46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Industriální společ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livy, proměny, nová budouc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3.12.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Vypracovali: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Michal Crhonek</a:t>
            </a:r>
            <a:br>
              <a:rPr sz="1200"/>
            </a:b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Roman Šikuta </a:t>
            </a:r>
            <a:br>
              <a:rPr sz="1200"/>
            </a:b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Tomáš Tala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8028000" y="5589720"/>
          <a:ext cx="942840" cy="99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28000" y="5589720"/>
                    <a:ext cx="94284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ffff"/>
                </a:solidFill>
                <a:latin typeface="Arial"/>
              </a:rPr>
              <a:t>Adaptabilita</a:t>
            </a:r>
            <a:endParaRPr b="1" lang="en-US" sz="3600" spc="-1" strike="noStrike">
              <a:solidFill>
                <a:srgbClr val="ffffff"/>
              </a:solidFill>
              <a:latin typeface="Arial CE"/>
            </a:endParaRPr>
          </a:p>
        </p:txBody>
      </p:sp>
      <p:sp>
        <p:nvSpPr>
          <p:cNvPr id="72" name=""/>
          <p:cNvSpPr/>
          <p:nvPr/>
        </p:nvSpPr>
        <p:spPr>
          <a:xfrm>
            <a:off x="6084720" y="1557360"/>
            <a:ext cx="2448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686800" cy="51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oblém s přizpůsobením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ervozita z novéh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šok z okolí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haos z přemíry informac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ffff"/>
                </a:solidFill>
                <a:latin typeface="Arial"/>
              </a:rPr>
              <a:t>Strategie přežití</a:t>
            </a:r>
            <a:endParaRPr b="1" lang="en-US" sz="3600" spc="-1" strike="noStrike">
              <a:solidFill>
                <a:srgbClr val="ffffff"/>
              </a:solidFill>
              <a:latin typeface="Arial CE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1557360"/>
            <a:ext cx="2448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686800" cy="51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ačněme užívat to, čeho se bojím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trach je spojenec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ebuďme otrok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važujme, co chce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Industriální společnost - hlavní rysy</a:t>
            </a:r>
            <a:endParaRPr b="1" lang="en-US" sz="3600" spc="-1" strike="noStrike">
              <a:solidFill>
                <a:srgbClr val="ffffff"/>
              </a:solidFill>
              <a:latin typeface="Arial C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893080" cy="46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200000"/>
              </a:lnSpc>
              <a:spcBef>
                <a:spcPts val="524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nukleární rodina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524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masový vzdělávací systém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524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obří korporace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524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masové odbory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524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centralizovaný národní stát a politiku pseudoreprezentativní vlády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84720" y="1557360"/>
            <a:ext cx="2448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Industriální společnost - budoucnost</a:t>
            </a:r>
            <a:endParaRPr b="1" lang="en-US" sz="3600" spc="-1" strike="noStrike">
              <a:solidFill>
                <a:srgbClr val="ffffff"/>
              </a:solidFill>
              <a:latin typeface="Arial C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893080" cy="46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200000"/>
              </a:lnSpc>
              <a:spcBef>
                <a:spcPts val="524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turbulence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524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rozpad starých struktur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524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vytvoření nových struktur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524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lokální odbory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524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novost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524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rozmanitost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84720" y="1557360"/>
            <a:ext cx="2448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Turbulence</a:t>
            </a:r>
            <a:endParaRPr b="1" lang="en-US" sz="3600" spc="-1" strike="noStrike">
              <a:solidFill>
                <a:srgbClr val="ffffff"/>
              </a:solidFill>
              <a:latin typeface="Arial CE"/>
            </a:endParaRPr>
          </a:p>
        </p:txBody>
      </p:sp>
      <p:sp>
        <p:nvSpPr>
          <p:cNvPr id="54" name=""/>
          <p:cNvSpPr/>
          <p:nvPr/>
        </p:nvSpPr>
        <p:spPr>
          <a:xfrm>
            <a:off x="6084720" y="1557360"/>
            <a:ext cx="2448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chází k všeobecnému zrychlení. Technologický vývoj a stupeň poznání přináší s sebou přirozenou nutnost pohybu. Pohyb kupředu a touha po poznání je motor, který napomáhá k vytváření nových vizí „zrychlení světa“ Mnohé z těchto vizí jsou již realitou, např. doprava komunikační technologie ap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idé mezi sebou soupeří ve způsobu života a hlavně v možnostech jeho ulehčení a vylepšení. Prakticky neexistuje žádný pevný bod, ke kterému by bylo možno trvaleji se upnout. Dnešní bod je nahrazen bodem zítřejším, který je posunut zase o kus dál. Důvodem je zde podvědomá touha být první – být „vůdcem tlupy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Pomíjivost</a:t>
            </a:r>
            <a:endParaRPr b="1" lang="en-US" sz="3600" spc="-1" strike="noStrike">
              <a:solidFill>
                <a:srgbClr val="ffffff"/>
              </a:solidFill>
              <a:latin typeface="Arial CE"/>
            </a:endParaRPr>
          </a:p>
        </p:txBody>
      </p:sp>
      <p:sp>
        <p:nvSpPr>
          <p:cNvPr id="57" name=""/>
          <p:cNvSpPr/>
          <p:nvPr/>
        </p:nvSpPr>
        <p:spPr>
          <a:xfrm>
            <a:off x="6084720" y="1557360"/>
            <a:ext cx="2448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ledání nového vede společnost k pokusům vytvářet nové standardy a modely výrobků a nové způsoby chování a nahlížení na ně.  V dnešní době informační turbulence je pro jedince mnohdy výhodnější věc přímo nevlastnit, ale mít ji pouze v pronájm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robky a technologie stárnou rychleji. Člověk se nemůže příliš zasypávat věcmi, které nevyužije. Dochází v do jisté míry k chaosu, protože tradiční hodnoty vlastnění majetku dostávají trhlin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ť žije ekonomická turbulenc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Kolik vajec do košíku?</a:t>
            </a:r>
            <a:endParaRPr b="1" lang="en-US" sz="3600" spc="-1" strike="noStrike">
              <a:solidFill>
                <a:srgbClr val="ffffff"/>
              </a:solidFill>
              <a:latin typeface="Arial CE"/>
            </a:endParaRPr>
          </a:p>
        </p:txBody>
      </p:sp>
      <p:sp>
        <p:nvSpPr>
          <p:cNvPr id="60" name=""/>
          <p:cNvSpPr/>
          <p:nvPr/>
        </p:nvSpPr>
        <p:spPr>
          <a:xfrm>
            <a:off x="6084720" y="1557360"/>
            <a:ext cx="2448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liš narostlá hierarchie. Lpění na malém okruhu samostatného rozhodová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sledkem je zahlcenost rozhodováním (v literatuře se používá obrat "přetížená dicize"), kdy úzký vrchol hierarchie není schopen činit optimální rozhodnutí protože je jich příliš mnoho a zároveň neexistuje možnost, jak v úzkém počtu osob (např. Parlament + poradci) zpracovat obrovské množství všech relevantních informací. Volání po větším počtu košíků - tedy přenesení rozhodování směrem dol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míjivost hierarchií. Neustálý tlak na jejich efektivn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"/>
              </a:rPr>
              <a:t>Už Tě nechci, chci někoho, kdo mi rozumí!</a:t>
            </a:r>
            <a:endParaRPr b="1" lang="en-US" sz="3200" spc="-1" strike="noStrike">
              <a:solidFill>
                <a:srgbClr val="ffffff"/>
              </a:solidFill>
              <a:latin typeface="Arial CE"/>
            </a:endParaRPr>
          </a:p>
        </p:txBody>
      </p:sp>
      <p:sp>
        <p:nvSpPr>
          <p:cNvPr id="63" name=""/>
          <p:cNvSpPr/>
          <p:nvPr/>
        </p:nvSpPr>
        <p:spPr>
          <a:xfrm>
            <a:off x="6084720" y="1557360"/>
            <a:ext cx="2448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8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Tak, jako podnikové a řídicí hierarchie, pomíjí i lidské vztah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zpadají se tradiční velké svazk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ransformují se do malých skupin s úzkým zaměření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ětší tlak na individualism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nadnější adaptabili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ffff"/>
                </a:solidFill>
                <a:latin typeface="Arial"/>
              </a:rPr>
              <a:t>Novost</a:t>
            </a:r>
            <a:endParaRPr b="1" lang="en-US" sz="3600" spc="-1" strike="noStrike">
              <a:solidFill>
                <a:srgbClr val="ffffff"/>
              </a:solidFill>
              <a:latin typeface="Arial CE"/>
            </a:endParaRPr>
          </a:p>
        </p:txBody>
      </p:sp>
      <p:sp>
        <p:nvSpPr>
          <p:cNvPr id="66" name=""/>
          <p:cNvSpPr/>
          <p:nvPr/>
        </p:nvSpPr>
        <p:spPr>
          <a:xfrm>
            <a:off x="6084720" y="1557360"/>
            <a:ext cx="2448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686800" cy="51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tapojení zvířat – splynutí člověka s přírodou, využití ve výrobním proces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nik biologických továren – výroba kyslíku za pomocí rostlin v masovém měřítku, využití rostlin a mikroorganismů, jako čistícího faktor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lonování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ransformace orgánů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mělá inteligence – stroj sám získává nové informa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áměrné popírání změn – účel světí prostředky, skromnost vzbudí pozornos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měle vytváření světů a zábav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imulace reálného světa – virtuální realita, člověk může být vším podle svého přání a je mu vytvořen svět, dle jeho přá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ffff"/>
                </a:solidFill>
                <a:latin typeface="Arial"/>
              </a:rPr>
              <a:t>Rozmanitost</a:t>
            </a:r>
            <a:endParaRPr b="1" lang="en-US" sz="3600" spc="-1" strike="noStrike">
              <a:solidFill>
                <a:srgbClr val="ffffff"/>
              </a:solidFill>
              <a:latin typeface="Arial CE"/>
            </a:endParaRPr>
          </a:p>
        </p:txBody>
      </p:sp>
      <p:sp>
        <p:nvSpPr>
          <p:cNvPr id="69" name=""/>
          <p:cNvSpPr/>
          <p:nvPr/>
        </p:nvSpPr>
        <p:spPr>
          <a:xfrm>
            <a:off x="6084720" y="1557360"/>
            <a:ext cx="2448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686800" cy="51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mnoho stejných výrobků na jedné, nepatrné odlišnost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robky šité na míru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nik nových a stále více si podobných oborů ve školství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rientace na určité skupiny, přizpůsobení potřeb –dle pohlaví, barvy pleti apod.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rientace na etnik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nik subkultur, životních styl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8T16:18:54Z</dcterms:created>
  <dc:creator>Project Controlling</dc:creator>
  <dc:description/>
  <dc:language>en-US</dc:language>
  <cp:lastModifiedBy>AEZ</cp:lastModifiedBy>
  <cp:lastPrinted>2002-09-04T08:57:56Z</cp:lastPrinted>
  <dcterms:modified xsi:type="dcterms:W3CDTF">2005-11-30T09:23:51Z</dcterms:modified>
  <cp:revision>792</cp:revision>
  <dc:subject/>
  <dc:title>Project Proposal - presentation for PDC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32374330</vt:r8>
  </property>
  <property fmtid="{D5CDD505-2E9C-101B-9397-08002B2CF9AE}" pid="3" name="_AuthorEmail">
    <vt:lpwstr>crhonekm@atlas.cz</vt:lpwstr>
  </property>
  <property fmtid="{D5CDD505-2E9C-101B-9397-08002B2CF9AE}" pid="4" name="_AuthorEmailDisplayName">
    <vt:lpwstr>Michal Crhonek</vt:lpwstr>
  </property>
  <property fmtid="{D5CDD505-2E9C-101B-9397-08002B2CF9AE}" pid="5" name="_EmailSubject">
    <vt:lpwstr>První kolo prezentací</vt:lpwstr>
  </property>
  <property fmtid="{D5CDD505-2E9C-101B-9397-08002B2CF9AE}" pid="6" name="_PreviousAdHocReviewCycleID">
    <vt:r8>-639365758</vt:r8>
  </property>
</Properties>
</file>