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63E-1818-4833-BD11-AB26374C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29C-D30C-4935-84BA-754AF173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094-B0ED-478E-A0E0-077AA2E8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D22-4356-497F-9380-A3C147F2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AAF0-9CEE-446B-A818-80B37987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2089-54C8-424E-92E5-800D7B0F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1EAD-B136-4C81-82A6-33CD908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0CAC-7DF6-417B-A165-7B0CE63E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ADD2-19E1-4127-B6D9-D249BB7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3941-BB62-4EFD-8605-86E67D7F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5BA5-905A-45E8-B28B-7A2A2618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3BA-65EC-4201-BBFC-3CD68B8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97A3-9BE6-48A7-A2E6-63DFD38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0A13-C40F-47A5-859E-A9BC2D0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CFD4-33EF-4E84-8969-ADE50532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4C26-2E6B-4721-B098-7FA0C30B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EC63-9422-400D-A305-4A57B82E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310-1493-45D0-B9C7-F9CA7D55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20C-E280-492D-AB78-4724534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302-BF2C-40BD-BEF0-9E854083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C6F-588B-4DFA-A0EE-E464D752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339-556C-4FD9-9DCB-653D9F0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F3F-307D-4182-845E-7F4BC5D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ED9-3A17-4E15-AF23-7A4DD76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3FEB-24FF-4475-922B-010D360080B0}" type="slidenum">
              <a:rPr b="0" lang="cs-CZ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7906-23F6-4931-B91A-21360F921476}" type="slidenum">
              <a:rPr b="0" lang="cs-CZ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94600"/>
            <a:ext cx="76788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VÝ STUPEŇ CIVILIZAC</a:t>
            </a:r>
            <a:r>
              <a:rPr b="0" lang="cs-CZ" sz="4200" spc="-1" strike="noStrike">
                <a:solidFill>
                  <a:srgbClr val="003366"/>
                </a:solidFill>
                <a:latin typeface="Times New Roman"/>
              </a:rPr>
              <a:t>E</a:t>
            </a:r>
            <a:endParaRPr b="0" lang="en-US" sz="4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ř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la Kozelk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ora Krivd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 Kubátová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8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ý nárůst inovací ve všech odvětvích, stále rychlejší životní tempo =&gt; pro úspěch je nezbytná schopnost pružně reagovat na změny okolního prostřed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9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terializm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ší důraz na duchovnost všech oblastí života člověk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10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chod od neomezeného růstu k trvale udržitelnému rozvo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ědomění si limitovanosti zdrojů Země (minimalizac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an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bnovitelných zdrojů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un od využití přírody k soužití s n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11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ůstání rozdílu mezi bohatstvím zemí adaptujících se na podmínky třetí vlny a chudobou zemí nacházejících se ve fázi druhé nebo první vlny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Negativní dopady informatizace a technologické inovac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enormní nárůst množství informací =&gt; obtížná orientace v záplavě dat, složitá selekce těch důležitých + příp.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chopnost dát si je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do souvislostí =&gt; ztrácejí smysl a využit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vnoměrný přístup k informacím + zneužitelnost informac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droj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ffler, A.; Toffler, H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á civilizace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ha : Dokořán, 2001. ISBN 80-86569-00-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vydání. Brno: Masarykova univerzita, 2003. ISBN 80-210-3265-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sbitt, J; Aburdenová, P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trendy 200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atislava: Bradlo, 1992. ISBN 80-7127-050-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cs-CZ" sz="3400" spc="-1" strike="noStrike">
                <a:solidFill>
                  <a:srgbClr val="003366"/>
                </a:solidFill>
                <a:latin typeface="Times New Roman"/>
              </a:rPr>
              <a:t>Současný stav</a:t>
            </a:r>
            <a:endParaRPr b="0" lang="en-US" sz="3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celerace civilizačních změn =&gt; neslučitelnost s doznívající předchozí vlnou =&gt; diskontinuita =&gt; problémy s adaptací na nová pravidla fungování civilizace =&gt; narušení hodnotových orientací jednotlivce i společnosti =&gt; nárůst negativních jevů ve společnosti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646200"/>
            <a:ext cx="8163000" cy="97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ákladní 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</a:rPr>
              <a:t>CHARAKTERISTIKY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přechodu od industriální společnosti ke společnosti informační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</a:rPr>
              <a:t> (1)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stup moderní informační technologie – určuje charakter informační společnosti – informatizace, komputerizace, digitalizac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CHARAKTERISTIKY (2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ěřítko produktivity podniku se přesouvá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hmotných aktiv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suroviny, práce, kapitál) k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hmotným hodnotám (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vědění v podobě dat, informací a symbolů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padů a patentů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ozhodujícími aktivy firem jsou symboly uložené v hlavách jejich zaměstnanc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ická ekonomika“ - nový systém vytváření bohatství - hlavními vstupy a výstupy ekonomiky se stávají informace a znal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3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prava pracovních sil na duševní prá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éra služeb se dostává do popřed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ektualizace společnosti - ekonomika se propojuje do sítí a vzniká síťová inteligen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4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sovosti k individualitě a heterogenitě, rozmanit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masové výroby k produkci vysoce kvalitního zboží mnoha druhů, 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sokou mírou přizpůsobení klientov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sifikace komunikačních prostředků (soukromé vnitropodnikové i mezipodnikové informační systémy)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5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a integrace - jednotlivé části jako jsou regiony, státy apod. jsou propojovány do jednoho celku globální vzájemně propojené světové ekonomik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áteří infrastruktury ekonomiky období třetí vlny se stávají celosvětové sítě „informačních dálnic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6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reorganizace fir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odklon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hierarchických struktur a od byrokratiza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ximalizace, od „přerostlých mamutích“ podnik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ůstá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význam malých fir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nášení úkolů a odpovědnosti na externí subdodavatele - smluvní spojení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7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ace – snaha přenést co největší množství rozhodnutí shora dolů, protože lidé “dole” mívají lepší informace a jsou flexibilnějš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09:26Z</dcterms:created>
  <dc:creator>Miroslav Sedláček</dc:creator>
  <dc:description/>
  <dc:language>en-US</dc:language>
  <cp:lastModifiedBy>Pavla Kozelková</cp:lastModifiedBy>
  <dcterms:modified xsi:type="dcterms:W3CDTF">2005-12-02T11:39:39Z</dcterms:modified>
  <cp:revision>18</cp:revision>
  <dc:subject/>
  <dc:title>NOVÝ STUPEŇ CIVILIZACE</dc:title>
</cp:coreProperties>
</file>