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CA3-8837-4BA0-9792-C9FA8CE0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880-729C-4B87-96F3-8711860A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028-B3BD-4185-B6A9-8C534498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0A3-F0EE-45DD-BADB-D6E54499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8CC-A138-41AD-BA8D-4174990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748-C62B-4538-B299-241B61F2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1C4-9193-4031-8574-7EAC5EE2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AB0-8D07-48B0-B74B-D2A368D3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C39-3CA5-4F36-9FE7-76F9BF58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9C9-CA00-4DF8-A688-6EFE65D5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4B9-6610-4B7E-AF50-B9DB99E9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7B3-86BB-4E4B-AE4B-3C7D314A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3B90-824E-4C00-A1A6-4A202523A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ark.cz/article.asp?itm=106" TargetMode="External"/><Relationship Id="rId2" Type="http://schemas.openxmlformats.org/officeDocument/2006/relationships/hyperlink" Target="http://www.park.cz/article.asp?itm=106" TargetMode="External"/><Relationship Id="rId3" Type="http://schemas.openxmlformats.org/officeDocument/2006/relationships/hyperlink" Target="http://www.park.cz/article.asp?itm=106" TargetMode="External"/><Relationship Id="rId4" Type="http://schemas.openxmlformats.org/officeDocument/2006/relationships/hyperlink" Target="http://www.park.cz/article.asp?itm=106" TargetMode="External"/><Relationship Id="rId5" Type="http://schemas.openxmlformats.org/officeDocument/2006/relationships/hyperlink" Target="http://www.park.cz/article.asp?itm=106" TargetMode="External"/><Relationship Id="rId6" Type="http://schemas.openxmlformats.org/officeDocument/2006/relationships/hyperlink" Target="http://www.park.cz/article.asp?itm=106" TargetMode="External"/><Relationship Id="rId7" Type="http://schemas.openxmlformats.org/officeDocument/2006/relationships/hyperlink" Target="http://www.park.cz/article.asp?itm=106" TargetMode="External"/><Relationship Id="rId8" Type="http://schemas.openxmlformats.org/officeDocument/2006/relationships/hyperlink" Target="http://www.park.cz/article.asp?itm=106" TargetMode="External"/><Relationship Id="rId9" Type="http://schemas.openxmlformats.org/officeDocument/2006/relationships/hyperlink" Target="http://www.park.cz/article.asp?itm=106" TargetMode="Externa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Prezentace</a:t>
            </a:r>
            <a:br>
              <a:rPr sz="7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upiny č.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86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3300"/>
                </a:solidFill>
                <a:latin typeface="Arial"/>
              </a:rPr>
              <a:t>Benediktová Pet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3300"/>
                </a:solidFill>
                <a:latin typeface="Arial"/>
              </a:rPr>
              <a:t>Hušková Markéta</a:t>
            </a:r>
            <a:r>
              <a:rPr b="1" lang="en-US" sz="21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3300"/>
                </a:solidFill>
                <a:latin typeface="Arial"/>
              </a:rPr>
              <a:t>Navrátilová Le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Třetí vln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Arial"/>
              </a:rPr>
              <a:t>Příchod převratných změ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FC4-EE85-4A87-B1BD-C982F3C85F37}" type="slidenum">
              <a:t>1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emasifik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vádění automatizovaných výrobních systémů = nekonečná a nenákladná druhová rozmanitost výrobní produk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rganizace a systémová inte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edání nových forem organizace / zbavení se byrokratických struktur 2. vl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žitosti ekonomiky, měnící potřeby spotřebitelů,rychlé změny na trhu = nutná systémová inte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39E-4BA2-40F2-BEF9-5C27F5B658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á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zaměnitelností profesí (x 2. vlna – charakteristická nízká úroveň dovednosti, lehká zaměnitel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ěna poměru mezi „přímou“ a „nepřímou“ pr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římí vytvářejí hodnotu jako přím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830-3C45-44AD-82CD-18CD7EDA01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é výrobky, technologie, marketing nebo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ěřít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ní jednotky se zmenšují, rozsah operací se minimalizu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EEE-4B84-4324-BB88-5779AD4E7D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strukt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oření elektronických sítí = propojení informační technik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rychl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yšování rychlosti operací a transak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y plynoucí s rych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 jedním z nejdůležitějších ekonomických zdrojů a stává se tzv. skrytým vstup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094-E97A-4F88-81A9-4418378F9C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olitické struktury 21. stole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mokracie a třetí v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a politické struktury společnosti = nové požadavky proměňující se d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ení moci menš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přímé demokrac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lby dec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2EC-240A-4AD5-9592-BDF1B3297C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olitické struktury 21. stole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ismus ve střetu s třetí vl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usměrňování a kontroly pozná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řetí vlna ohrožuje tři pilíře socialistické ví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měrnění“ soukromého vlast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ální plánování (směr ze shora dol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ení významu duševní práce a služeb, podezřívavost vůči zemědě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13B-5612-4F5B-9C66-C3651047EC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Hlavní konflik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va základní táb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dělením světa do dvou, resp. tří oddělených odlišných v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 odlišnou rychlostí - nestejnoměr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ces změny není ještě někde dokonč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ijak prostorově vymezen – makro x sub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a kulturních hod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2C7-4556-4B77-B8F2-1080D4EBB7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Závě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zkoumání hodnot naší kul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řazení koncepcí, které se přež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způsobení se tempu zm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lost základních parametrů toho, co se má stát součástí našeho živ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opení, že právě nyní zuří zápas mezi těmi, kdo se snaží uchovat industrialismus a těmi, kdo by ho chtěli překon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91A-9645-4CD2-BCF0-E8B5120729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ffler, A., Tofflerová, H. Nová Civi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ffler, A. Nečekají nás krva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park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cz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/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4"/>
              </a:rPr>
              <a:t>article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6"/>
              </a:rPr>
              <a:t>asp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7"/>
              </a:rPr>
              <a:t>?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8"/>
              </a:rPr>
              <a:t>itm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9"/>
              </a:rPr>
              <a:t>=1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chs, K., Tuleja, P. Mikroekonomi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977-14C1-4CB6-8E35-0EA42B44F0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84aad"/>
                </a:solidFill>
                <a:latin typeface="Arial"/>
              </a:rPr>
              <a:t>Děkujeme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386-112B-4102-8209-614F141D3A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732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a.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3333cc"/>
                </a:solidFill>
                <a:latin typeface="Arial"/>
              </a:rPr>
              <a:t>Příchod převratných změn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Kvantové skoky vpř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ři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Hlavní rysy ekonomiky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Politické struktury 21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lavní konfl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3E7-1362-46B0-ACB0-0215C25254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. Úv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bjasnit pojem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dlišnosti od předchozích e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hlavní ry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návrhy změn politických stru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hlavní konflikty / způsoby implementace a pochop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4B0-D492-492E-8FCA-ED87DDDCBC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. Kvantové skoky vpř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dnešní dobu je typické zrychlující se tempo zm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 i množství změn v historii lidstva se nepohybuje lineár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yb změn v „kvantových skocích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20A-2132-410B-8A0D-92FD43690B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. Tři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vní vln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zemědělská revol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átek cca 8 000 let před Kri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o migrující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osud sběračství, rybaření, lov, pasteve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chod k obdělávání půdy, vznik ves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ště doznívá, existují i oblasti nezasažené (např. předagrární kmeny v Jižní Americe nebo v papuánské Nové Guine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a velké první vlny se v zásadě vyčer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9DA-EDA3-4435-820B-4779DC791C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. Tři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uhá vl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průmyslová revolu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ec 17. století, Evropa (trvání tři sta 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a měst, průmyslové výroby a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sové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nzu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ikovaná výroba, elektrifikace a automobilism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ud nevyčerpala, v částech světa se stále šíř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A35-51A9-44FF-839F-56EFD9EDC5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. Tři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řetí vl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technic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čátek sahá do 60. let 20. stole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kem 1955 počet bílých límečků poprvé převýšil počet dělnických modrých límeč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ce ve zpracování a používání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klon od standardizace, synchronizace, centralizace a masov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516-EDE2-42C0-A68C-19BD9B0F76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lavní zdroj - pozn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m je poznání, tj. data, informace, obrazy, symboly atd. (x 2.vlna – půda, práce a kapitá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nání je prakticky nevyčerpatel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méně kapitál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cké podniky tzv. intelektu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sun akcentu z bohatství jako tradičních zdrojů moci na pohotové využívání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29F-01E0-4760-BE21-9D2E5B923A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hmotné hodn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dnota podniku firem třetí vlny = schopnosti získávat, generovat a distribuovat a aplikovat poznat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ál je stále více založen na nehmotných hodnotá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661-93AF-4B49-83C2-419A13DEA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7:49:34Z</dcterms:created>
  <dc:creator>Allianz pojišťovna, a.s.</dc:creator>
  <dc:description/>
  <dc:language>en-US</dc:language>
  <cp:lastModifiedBy>uživatel</cp:lastModifiedBy>
  <dcterms:modified xsi:type="dcterms:W3CDTF">2005-12-01T23:26:26Z</dcterms:modified>
  <cp:revision>10</cp:revision>
  <dc:subject/>
  <dc:title>Prezentace skupina č. 6</dc:title>
</cp:coreProperties>
</file>