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438-1F1B-43EE-BB6B-7AB7916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AB4-FBA8-4534-97A8-EA8E7B2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8AC-1A71-4982-B7A0-7C24F430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B77-DF69-4741-9E83-4F3CC909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183AB-3149-4A72-9190-4C6D43DA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925DA-8277-4832-B9C4-F59D7F59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B5E43-6581-415C-8D96-D301C9C4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C2CA6-D4C8-4415-9F6A-61B6C280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3FA4-40C6-4779-A0A9-917ACCB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C7F60-6615-4463-88EA-0A1F012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4145-6194-4EA9-887B-FA30915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DC8-CCD2-4035-955E-B25588D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D88D-61DB-4A4F-BB52-947A857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509C1-5209-4071-AEBA-91E07B5E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807D4-570E-42CD-9732-D10DBC39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557AE-0C64-4EAD-847F-92638C00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BCBC-15C5-4FE0-B7C0-EB671A9A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200-F81F-4DD3-AE18-DDD2ED3E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171-4C2C-4BE5-B5B6-DB560321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2E3-AE09-4436-B80A-4423DB9D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5B6-1B31-4F43-90A9-36515B0A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CBA-8AC9-4D4C-B0AE-5946BB4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3F1-DFA1-4F93-9C90-F441CFE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1FB-C4DC-4C70-902D-D382D89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DF8-31DC-4B01-9E21-3CFA52E4A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7CAD-37C1-4CC3-8FFE-D806E1B06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ulturní a přirozená evolu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141720"/>
            <a:ext cx="6697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por, který mezi přirozen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kulturní evolucí nas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o podkladový materiál slouží myšlenky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f. Šmajse, které publikoval ve svých knihá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ůmyslová r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dký vývoj abiotické techniky a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y podporuje produktivně zaměřená přírodní vě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továren nepřizpůsobených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romadné čerpání neobnovitelných přírodní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ůsledkem je znečištěná a poškozená planeta, destabilizovaná biosf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industriální fá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 postoje člověka k přírodě se příliš neměn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dyž vznikají nové technologie šetřící energii, ohleduplnější způsoby výroby, odpadové a bezodpadové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nik konzumního způsobu živo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přednostňuje právo a blaho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respektuje práva jiných živých bytostí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 nároky na prostou existenci ostatní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irozených struktur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alizace lidské kultu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planetární pohyb lidí, globální trh, výměna technologií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 systém je nastaven na zisk a tržní vzt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votně se nezajišťuje lidské přežití, ale úspěch a růst moci i peněžního bohat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íroda se brání snadnou zranitelností a nerovnováhou – na to nejsme připrave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ální ekologická kr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 přirozeného a kulturního řá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statou krize je systémový konflikt protipřírodní kultury se Zem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á se o krizi kulturní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gram změn v kultuře 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(prof. Šmaj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lověk musí uchovat značnou část původní přírody, nemůže pokračovat v dobývání přirozených ekosysté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zemskou přírodu je třeba začít vnímat nově. Člověk je součástí přír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rch Země je konečný. Systém biosféry se zbavuje nejsložitějších struktur a mohl by obětovat i člověka – důvod k opatrnosti a poko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Člověk není na této planetě jedinou bytostí na níž zálež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d protipřírodní kultura příliš ublíží životu na Zemi, zbytečně předčasně zanik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ádná vesmírná moc při obnově pomoci nemůž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ím dříve toto lidé pochopí, tím dříve se jim podaří zachránit ohrožené místní kultury a i vzácnou rozmanitost biosfé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majs, J.: Drama evoluce. 1. vyd. Praha: Nakladatelství Hynek, 2000. ISBN 80-86202-77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majs, J.: Konflikt přirozené a kulturní evoluce. 1. vydání. Brno: Masarykova univerzita v Brně, 1997. ISBN 80-210-1506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uchtová, B.: Člověk – psychsomatická bytost. 3. vydání. Brno: Masarykova univerzita v Brně, 2001. ISBN 80-210-2730-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éma zpracová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arta Kraus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Petrá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, v jehož průběhu se z méně dokonale uspořádaných systémů vytvářejí systémy uspořádané dokonale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irozená 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čala vznikem ves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ravd. před 15 miliardami l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e se vyví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nikají všechny dnešní struktury svět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aše planeta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ulturní (umělá) 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zuje na evoluci přirozenou, ale není jejím přímým pokrač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initelem kultury je vědomá aktivita lidsk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ěňuje a rozšiřuje se syst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tváří se nové prvky, části a subsystémy – instituce, organizace, technické prostředk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Člověk – normální živočišný dr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 biologická existence závisí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struktuře, rozsahu a celkovém vztahu přirozen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 však předpoklady pro záměrné a rychlé přizpůsobování svého okolí svým potřeb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čal kulturní evolu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530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nenápadný proces kulturní evoluce svým rozsahem a charakterem přírodu překvapi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rategie zužitkování přírody pr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to strategie není dobrá. Destabilizovaná biosféra kulturu existenčně ohrožuj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nebylo tomu tak vž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11280" y="836640"/>
            <a:ext cx="7920000" cy="5040000"/>
            <a:chOff x="611280" y="836640"/>
            <a:chExt cx="7920000" cy="5040000"/>
          </a:xfrm>
        </p:grpSpPr>
        <p:cxnSp>
          <p:nvCxnSpPr>
            <p:cNvPr id="96" name="_s52240"/>
            <p:cNvCxnSpPr>
              <a:stCxn id="97" idx="1"/>
              <a:endCxn id="98" idx="2"/>
            </p:cNvCxnSpPr>
            <p:nvPr/>
          </p:nvCxnSpPr>
          <p:spPr>
            <a:xfrm rot="10800000">
              <a:off x="2986560" y="1555920"/>
              <a:ext cx="792720" cy="396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52236"/>
            <p:cNvCxnSpPr>
              <a:stCxn id="100" idx="1"/>
              <a:endCxn id="98" idx="2"/>
            </p:cNvCxnSpPr>
            <p:nvPr/>
          </p:nvCxnSpPr>
          <p:spPr>
            <a:xfrm rot="10800000">
              <a:off x="2986560" y="1555920"/>
              <a:ext cx="792720" cy="2883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52235"/>
            <p:cNvCxnSpPr>
              <a:stCxn id="102" idx="1"/>
              <a:endCxn id="98" idx="2"/>
            </p:cNvCxnSpPr>
            <p:nvPr/>
          </p:nvCxnSpPr>
          <p:spPr>
            <a:xfrm rot="10800000">
              <a:off x="2986560" y="1555920"/>
              <a:ext cx="792720" cy="180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2234"/>
            <p:cNvCxnSpPr>
              <a:stCxn id="104" idx="1"/>
              <a:endCxn id="98" idx="2"/>
            </p:cNvCxnSpPr>
            <p:nvPr/>
          </p:nvCxnSpPr>
          <p:spPr>
            <a:xfrm rot="10800000">
              <a:off x="2986560" y="1555920"/>
              <a:ext cx="792720" cy="72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8" name="_s52230"/>
            <p:cNvSpPr/>
            <p:nvPr/>
          </p:nvSpPr>
          <p:spPr>
            <a:xfrm>
              <a:off x="611280" y="83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Kulturní evoluc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2231"/>
            <p:cNvSpPr/>
            <p:nvPr/>
          </p:nvSpPr>
          <p:spPr>
            <a:xfrm>
              <a:off x="3779280" y="191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řírodní národ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2232"/>
            <p:cNvSpPr/>
            <p:nvPr/>
          </p:nvSpPr>
          <p:spPr>
            <a:xfrm>
              <a:off x="3779280" y="299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Neolitická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2233"/>
            <p:cNvSpPr/>
            <p:nvPr/>
          </p:nvSpPr>
          <p:spPr>
            <a:xfrm>
              <a:off x="3779280" y="407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růmyslová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2239"/>
            <p:cNvSpPr/>
            <p:nvPr/>
          </p:nvSpPr>
          <p:spPr>
            <a:xfrm>
              <a:off x="3779280" y="515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ostindustriální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írodní nár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echn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ita a tra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a se rozvíjela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ovala se přirozená rovnováha mezi člověkem a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olitická r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obí, během kterého vznikly téměř všechny dnes známé druhy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ystém původní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další rozšiřování kultury byly stále ještě k dispozici původní přirozené eko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25:03Z</dcterms:created>
  <dc:creator>T-Mobile CZ, a.s.</dc:creator>
  <dc:description/>
  <dc:language>en-US</dc:language>
  <cp:lastModifiedBy>T-Mobile CZ, a.s.</cp:lastModifiedBy>
  <dcterms:modified xsi:type="dcterms:W3CDTF">2005-11-30T13:30:57Z</dcterms:modified>
  <cp:revision>7</cp:revision>
  <dc:subject/>
  <dc:title>Snímek 1</dc:title>
</cp:coreProperties>
</file>