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E157-36C4-4152-AA40-FD517B05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E7DA-6502-4FDB-ADF8-58518AF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1F7E-136F-4775-98AD-6423EE24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249F-549F-4B1D-ADB4-081D3D67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7F4C-18AB-456F-8913-1007676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F0D-9C9D-45AE-9A08-1280DD5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5A1-41B8-4EBF-AF51-89E4EA9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D15-2DAA-493B-B719-8480ECB6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F0DF-AB92-4671-9E85-A2BB66F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075-68A4-409C-9A22-653FD6AC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F21-C921-4B91-A486-854006A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2A1A-2BE9-44FF-BCEE-8AA9D9E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0E06-4423-4C3E-AE29-53313BA7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732D-14E8-47DD-8C3B-EF3076D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026C-4F41-44FE-9CEA-0414E007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D9CB-DB3D-4421-8FA5-A37750DE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960-2499-4087-815D-815FDC7F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D2D8-9A4B-4136-BC94-6EB5F9A3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6A21-E7DF-4A14-BE7D-58C72C1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5FC4-44AC-4C8F-A733-94E208B9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45DF-E898-4D22-8323-D703069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D92D-5FD2-4BC9-829C-CA170A2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0FEE-7D83-45F9-BB98-9838388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47BA-CFB8-4216-AD77-66A4BD65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DF1-7814-48A5-80D3-64617F428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727-1093-457A-B961-5D7255D3F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xrefer.com/" TargetMode="External"/><Relationship Id="rId2" Type="http://schemas.openxmlformats.org/officeDocument/2006/relationships/hyperlink" Target="http://www.socioweb.cz/" TargetMode="External"/><Relationship Id="rId3" Type="http://schemas.openxmlformats.org/officeDocument/2006/relationships/hyperlink" Target="http://www.socioweb.cz/" TargetMode="External"/><Relationship Id="rId4" Type="http://schemas.openxmlformats.org/officeDocument/2006/relationships/hyperlink" Target="http://www.socioweb.cz/" TargetMode="External"/><Relationship Id="rId5" Type="http://schemas.openxmlformats.org/officeDocument/2006/relationships/hyperlink" Target="http://www.socioweb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liv náboženství na ekonomik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cie Šál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ěta Filip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in Voldř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bož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znamný zdroj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princi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azy a pří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iv na ekonom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ování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išné cí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eistické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om ve 13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ra  - 600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ravedlnitelnost bohat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esť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z juda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e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je „Boží tres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vi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r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rok Mo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nnité (90%) a Šíité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azy, např. burzovní operace, živ.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gitimní obchodní zisk x lich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zný poh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kar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tov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á 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í ob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žování vlivu náboženstv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nových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ka nábož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čekávání budoucí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RONĚK, I. Kultura v mezinárodním podnikání. Praha: Grada Publishing, spol. s r.o., 2001,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MERON, R. Stručné ekonomické dějiny světa. Praha: Victoria Publishing, 1996, ISBN 80-85865-2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DDENS, A. Sociologie. Praha: Argo, 1999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, A. Etika a ekonomie, Praha: Praha Vyšehrad, 2002, ISBN 80-7021-54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ŘICKÝ, V. Globalizace, Praha: Praha Portál, 2003, ISBN 80-7178-74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xrefe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ocioweb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2:09:47Z</dcterms:created>
  <dc:creator>Lucka</dc:creator>
  <dc:description/>
  <dc:language>en-US</dc:language>
  <cp:lastModifiedBy>Lucka</cp:lastModifiedBy>
  <dcterms:modified xsi:type="dcterms:W3CDTF">2005-12-01T22:03:39Z</dcterms:modified>
  <cp:revision>9</cp:revision>
  <dc:subject/>
  <dc:title>Vliv náboženství na ekonomi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1681475</vt:r8>
  </property>
  <property fmtid="{D5CDD505-2E9C-101B-9397-08002B2CF9AE}" pid="3" name="_AuthorEmail">
    <vt:lpwstr>michal.franek@canon.cz</vt:lpwstr>
  </property>
  <property fmtid="{D5CDD505-2E9C-101B-9397-08002B2CF9AE}" pid="4" name="_AuthorEmailDisplayName">
    <vt:lpwstr>Michal Franek</vt:lpwstr>
  </property>
  <property fmtid="{D5CDD505-2E9C-101B-9397-08002B2CF9AE}" pid="5" name="_EmailSubject">
    <vt:lpwstr>škola volá ... :-)</vt:lpwstr>
  </property>
</Properties>
</file>