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697-DB98-4E9E-A12C-BD34824A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851-D74A-4D92-BC5C-451CDAD9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2AF-D6C2-4A09-A8BD-11C98577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593-27CF-4E71-8968-CCD1AB48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053-36AD-4116-9B71-379E9A32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B35-1F32-4E23-9A31-EFF995A4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BAB-729E-4335-89B0-35B99338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D5A-5196-4B4E-B4C9-5309665A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0CC-C4EE-4F6F-B6A7-65F837A1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919-BBB0-47CE-86D2-8CDF773B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0CD-530E-41AB-A4D1-54913FF0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227-F104-408C-8287-EEBE06D8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F634-A7CB-4D03-89DB-9FA7C079052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720" y="764640"/>
            <a:ext cx="9016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rezentace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– Management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807876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ém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stindustriální společ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ým č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lenové tý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c. Marie Med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c. Jitka Kon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c. Petr Cí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činy úspěchu mcdonaliz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fektiv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počítate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pověditel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Bauerovy příčiny mnoha fenoménů dnešní do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dostatečné vzdělání, chybějící nadhled a znalost reálných souvislos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goismus. Vlastní prospěch je dogmatem podniků, politických uskupení, odborů a vlá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radoxnost systémového chování. Podobně jako lze vypnout stroj stisknutím tlačítka, vypíná se i člověk v určité době působením zčásti protismyslných zákon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istuje cesta v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uerova doporučen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ýšení skutečně lidské spoluprá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dukce neosobního ego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nat dříve, než se objeví problé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vazovat se pouze k tomu, co jsme schopni sami spl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itzerova doporuč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bydlete v sídlištních byt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ýbejte se ruti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 nejvíce věcí dělejte s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racejte se na místní a lokální podnikatele, lékař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vpusťte mcdonalizaci do škols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alší doporuč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rvale udržitelný vývoj (sustainable develop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rategie přežití (strategy of survival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ěkujeme Vám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981000"/>
            <a:ext cx="80280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1) BAUER, W.M.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yranie blahobytu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Praha: Volvo Globator, 1997. ISBN 80-7207-033-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2) BELL, D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ulturní rozpory kapitalismu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Praha: Sociologické nakladatelství, 1999. ISBN 80-85850-84-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3) RITZER, G.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cdonaldizace společnosti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Praha: Academia, 1996. ISBN 80-200-0571-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4) ZEMAN, J. Problémy globálního trvale udržitelného rozvoje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arath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[online]. 2005, č.3/1998. Dostupný na WWW: &lt; http://misc.eunet.cz/marathon&gt;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ělení spole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le Bella se společnosti dělí podle stupně své industrializace 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industriální (agrární), kde převládá zeměděls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dustriální, kde převládá průmyslový sek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industriální, kde největší počet zaměstnaných pohltí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harakteristiky postindustriální společnos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muje se zcela nová vládnoucí e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acovní síla se přesouvá do sektoru služeb (tuto společnost později nazývá také společností služeb nebo společností „osobních služeb“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echnologie se stává hybnou silou sociální změ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jdůležitějším typem vědění se stává teoretické poznání, institucionálním symbolem postindustriální společnosti je univerz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měny ve struktuře spole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znik globální ekonomi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tný trh kapitálu, zboží, kvalifikované pracovní síly a technologi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zvoj komun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vázanost světa pomocí propojení optickými vlákny, kabelovou televizí, satelity, elektronickou sítí (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ech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sou motorem globální ekonomiky, boří hranice mezi jednotlivými ekonomickými aktivi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auerův popis spole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vádí tři základní východiska, z nichž vychází. Zdůrazňuje nutnost jistoty v životě jednotlivce, kterou mu však dnešní společnost neposkyt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řemi nejvýraznějšími faktory, které se společně podílejí na ztrátě jistoty v životě jednotlivce, jsou přizpůsobení resp. ústup individua, ztráta identity a problém identif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Jistota v životě jednotliv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místo jistoty se obvyklým pocitem stává prázdnota a nejist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ázdnota a nejistota je nahrazována pseudohodnotami (materiální hodnoty, úspěch, postaven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usseau „Člověk se rodí svobodný a přesto žije v okovech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ázka potř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utnost rozlišovat tzv. pravé a nepravé potře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avé lidské potřeby jsou ty, které slouží zdravým fyziologickým potřebám, kulturním a sociálním potřebám, při jejichž výrobě a spotřebě nedochází k větším ztrátám společnosti než je prospěch jednotlivého spotřebi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ravé lidské potřeby jsou všechny ostatní formy potřeb, které jsou pak v nejlepším případě neužiteč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itzerovo pojetí spole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itzer navazuje na Weberovu teorii racionalizačního proce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elem racionality v moderním světě jsou rychloobslužné restaurace, které se staly nejdůležitějším projevem racionalizačního procesu a Ritzer  tento proces nazývá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cdonalizac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5:13:53Z</dcterms:created>
  <dc:creator>Prf</dc:creator>
  <dc:description/>
  <dc:language>en-US</dc:language>
  <cp:lastModifiedBy>Petr Cícha</cp:lastModifiedBy>
  <dcterms:modified xsi:type="dcterms:W3CDTF">2005-12-02T09:24:09Z</dcterms:modified>
  <cp:revision>81</cp:revision>
  <dc:subject/>
  <dc:title>Bez nadpisu</dc:title>
</cp:coreProperties>
</file>