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95F-F7A7-4A6E-B25B-AFDF7897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7E6-289A-4A67-A65F-37A85CE1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B6B-6FCF-453F-9028-34028800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395-5596-4267-BA19-EACB1F63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B45F-8497-42E3-8D6C-1D7DB439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683B-08B8-4BB3-8660-57C9061B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1638-9516-4FE4-9FE9-E08FC5CF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9A45-6102-4CF6-A7C8-4F890F61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5046-E679-4A75-A398-EFDD30F0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8D20-58E9-48C3-BF7F-7BF8760F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57C8-13BA-479D-9364-2A0DD944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D30-9240-4CAD-A65F-F834216E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39A3-5167-4C97-9174-78546A2C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21D9-FA5C-402B-AD8C-3EFACA74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FB48-0122-4F62-840B-42C92333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5CDF-D655-4405-99B5-66A33F2F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E067-504E-4FC7-97E1-C2AF048B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869-ADB1-4A01-BBA8-92F9A1FC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6E3-84A0-4903-88C4-4C3FCB30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7C9-6363-4B21-8B06-B0A1C4EB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46C-C2BF-4FB1-8615-EE053EEC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E8B-65CA-4E00-8E97-E7CD6458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141-5BEE-476E-A12B-5251C8F0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BDA-F770-4C8C-BA94-916D2F9D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14DE-626C-4F65-B4D4-951318A1A3AE}" type="slidenum">
              <a:rPr b="0" lang="cs-CZ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697E-5419-4757-966F-3467D45488CA}" type="slidenum">
              <a:rPr b="0" lang="cs-CZ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94600"/>
            <a:ext cx="76788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VÝ STUPEŇ CIVILIZAC</a:t>
            </a:r>
            <a:r>
              <a:rPr b="0" lang="cs-CZ" sz="4200" spc="-1" strike="noStrike">
                <a:solidFill>
                  <a:srgbClr val="003366"/>
                </a:solidFill>
                <a:latin typeface="Times New Roman"/>
              </a:rPr>
              <a:t>E</a:t>
            </a:r>
            <a:endParaRPr b="0" lang="en-US" sz="4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ři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la Kozelkov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bora Krivdov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a Kubátová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8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ychlý nárůst inovací ve všech odvětvích, stále rychlejší životní tempo =&gt; pro úspěch je nezbytná schopnost pružně reagovat na změny okolního prostředí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9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klon od materializm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ětší důraz na duchovnost všech oblastí života člověka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10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chod od neomezeného růstu k trvale udržitelnému rozvoj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ědomění si limitovanosti zdrojů Země (minimalizac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ívaní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bnovitelných zdrojů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un od využití přírody k soužití s ní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11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ůstání rozdílu mezi bohatstvím zemí adaptujících se na podmínky třetí vlny a chudobou zemí nacházejících se ve fázi druhé nebo první vlny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43236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Times New Roman"/>
              </a:rPr>
              <a:t>Negativní dopady informatizace a technologické inovace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enormní nárůst množství informací =&gt; obtížná orientace v záplavě dat, složitá selekce těch důležitých + příp.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chopnost dát si je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do souvislostí =&gt; ztrácejí smysl a využití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ovnoměrný přístup k informacím + zneužitelnost informací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Times New Roman"/>
              </a:rPr>
              <a:t>Zdroje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ffler, A.; Toffler, H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á civilizace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ha : Dokořán, 2001. ISBN 80-86569-00-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gner, I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z pohledu všeobecného a celostníh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. vydání. Brno: Masarykova univerzita, 2003. ISBN 80-210-3265-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sbitt, J; Aburdenová, P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atrendy 200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ratislava: Bradlo, 1992. ISBN 80-7127-050-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cs-CZ" sz="3400" spc="-1" strike="noStrike">
                <a:solidFill>
                  <a:srgbClr val="003366"/>
                </a:solidFill>
                <a:latin typeface="Times New Roman"/>
              </a:rPr>
              <a:t>Současný stav</a:t>
            </a:r>
            <a:endParaRPr b="0" lang="en-US" sz="3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celerace civilizačních změn =&gt; neslučitelnost s doznívající předchozí vlnou =&gt; diskontinuita =&gt; problémy s adaptací na nová pravidla fungování civilizace =&gt; narušení hodnotových orientací jednotlivce i společnosti =&gt; nárůst negativních jevů ve společnosti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646200"/>
            <a:ext cx="8163000" cy="97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Základní </a:t>
            </a:r>
            <a:r>
              <a:rPr b="0" lang="cs-CZ" sz="2900" spc="-1" strike="noStrike">
                <a:solidFill>
                  <a:srgbClr val="003366"/>
                </a:solidFill>
                <a:latin typeface="Times New Roman"/>
              </a:rPr>
              <a:t>CHARAKTERISTIKY</a:t>
            </a:r>
            <a:r>
              <a:rPr b="0" lang="cs-CZ" sz="29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přechodu od industriální společnosti ke společnosti informační</a:t>
            </a:r>
            <a:r>
              <a:rPr b="0" lang="cs-CZ" sz="2900" spc="-1" strike="noStrike">
                <a:solidFill>
                  <a:srgbClr val="003366"/>
                </a:solidFill>
                <a:latin typeface="Times New Roman"/>
              </a:rPr>
              <a:t> (1)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stup moderní informační technologie – určuje charakter informační společnosti – informatizace, komputerizace, digitalizac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10422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CHARAKTERISTIKY (2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měřítko produktivity podniku se přesouvá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hmotných aktiv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suroviny, práce, kapitál) k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hmotným hodnotám (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vědění v podobě dat, informací a symbolů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padů a patentů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ozhodujícími aktivy firem jsou symboly uložené v hlavách jejich zaměstnanc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ická ekonomika“ - nový systém vytváření bohatství - hlavními vstupy a výstupy ekonomiky se stávají informace a znal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3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prava pracovních sil na duševní prác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éra služeb se dostává do popředí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ektualizace společnosti - ekonomika se propojuje do sítí a vzniká síťová inteligenc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4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klon od masovosti k individualitě a heterogenitě, rozmanitost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klo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d masové výroby k produkci vysoce kvalitního zboží mnoha druhů, 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ysokou mírou přizpůsobení klientov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sifikace komunikačních prostředků (soukromé vnitropodnikové i mezipodnikové informační systémy)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5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ra integrace - jednotlivé části jako jsou regiony, státy apod. jsou propojovány do jednoho celku globální vzájemně propojené světové ekonomik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áteří infrastruktury ekonomiky období třetí vlny se stávají celosvětové sítě „informačních dálnic“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6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reorganizace fir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odklon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hierarchických struktur a od byrokratiza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klon od maximalizace, od „přerostlých mamutích“ podniků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ůstá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význam malých fir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nášení úkolů a odpovědnosti na externí subdodavatele - smluvní spojení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7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ntralizace – snaha přenést co největší množství rozhodnutí shora dolů, protože lidé “dole” mívají lepší informace a jsou flexibilnější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0:09:26Z</dcterms:created>
  <dc:creator>Miroslav Sedláček</dc:creator>
  <dc:description/>
  <dc:language>en-US</dc:language>
  <cp:lastModifiedBy>Pavla Kozelková</cp:lastModifiedBy>
  <dcterms:modified xsi:type="dcterms:W3CDTF">2005-12-02T11:39:39Z</dcterms:modified>
  <cp:revision>18</cp:revision>
  <dc:subject/>
  <dc:title>NOVÝ STUPEŇ CIVILIZACE</dc:title>
</cp:coreProperties>
</file>