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2B124-EB4E-415D-944C-D8ABC4DAE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9A9EC-2BF2-4340-A899-667A382A8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5564D-E453-4404-BB46-3AD643FED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94730-238A-4193-8051-EAED67FF8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C7474-A684-4D43-AB30-E3AD91F13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482F1-0321-4693-A045-B3305229C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4F3F1-DE8E-4E8A-B714-B61009DD4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A31C2-E977-44BB-A0F7-8C8205F41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83771-A621-451A-AE5E-22A343FC7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7C283-AAA6-448D-8EC3-147571828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750E0-765C-4823-A2B7-377EA6DA5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BD423-FAAF-4D51-8B19-BD806D2E7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DFD3F-4B3C-4E07-85C2-DE23B8036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BB4AD-9E50-4ADE-825F-1E320CCE8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97E5B-3FAA-46BE-B2EC-90A88887A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86C56-B359-45A7-9D5D-6CE48F2DB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AFEFB-7C68-4515-96FA-C791AE15A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32256-2CAE-4E72-961F-70D038BA3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F9B3E-7166-48BB-8B24-CD0BB2900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84156-7851-4443-8F2D-0A557B79D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9025B-FA3F-4911-B87E-436D001E2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7D7DF-70D1-4F18-AEE3-FE25574A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B9D3F-D8CB-4C1F-A13F-7F3DF9BBA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B930-7F36-4C0A-889C-41C6EE2FD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8554-856E-4C45-BB15-21F92D04F0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5715-A0E9-4F43-A3F2-B45378AB79F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20640"/>
            <a:ext cx="7678800" cy="173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Verdana"/>
              </a:rPr>
              <a:t>Řád</a:t>
            </a:r>
            <a:br>
              <a:rPr sz="5400"/>
            </a:br>
            <a:endParaRPr b="0" lang="en-US" sz="5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616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Zpracova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Tereza Hofmannová</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Radek Gertner</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Jaroslav Kotul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vky spontánních řádů se podrobují jistým pravidlům</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vky dodržují určitou pravidelnost, tedy pravidla chování</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musejí jim být známa</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kce pravidel</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avidla musejí podněcovat k tvorbě řádu</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 společenských řádů – dohodnutá pravidla – hranice přípustného chování – právní pravidla</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vky spontánních řádů</a:t>
            </a:r>
            <a:br>
              <a:rPr sz="4400"/>
            </a:br>
            <a:r>
              <a:rPr b="0" lang="en-US" sz="4400" spc="-1" strike="noStrike">
                <a:solidFill>
                  <a:srgbClr val="003366"/>
                </a:solidFill>
                <a:latin typeface="Verdana"/>
              </a:rPr>
              <a:t>(jednotlivci a organizace)</a:t>
            </a: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lupráce lidí – zčásti spontánní a zčásti vytvořený řád</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nizace – účelovost vzniku</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Členství prvků v několika řádech, podřádech, organizacích a skupinách</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láda jako zvláštní organizací</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zv. údržba fungování řádu, poskytování specifických služeb)</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avidla spontánních řádů a organizace</a:t>
            </a: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Pravidla - obecný charakter</a:t>
            </a:r>
            <a:r>
              <a:rPr b="0" lang="en-US" sz="3200" spc="-1" strike="noStrike">
                <a:solidFill>
                  <a:srgbClr val="000000"/>
                </a:solidFill>
                <a:latin typeface="Verdana"/>
              </a:rPr>
              <a:t>;</a:t>
            </a:r>
            <a:r>
              <a:rPr b="0" lang="cs-CZ" sz="3200" spc="-1" strike="noStrike">
                <a:solidFill>
                  <a:srgbClr val="000000"/>
                </a:solidFill>
                <a:latin typeface="Verdana"/>
              </a:rPr>
              <a:t> shodná pro člena skupiny</a:t>
            </a:r>
            <a:r>
              <a:rPr b="0" lang="en-US" sz="3200" spc="-1" strike="noStrike">
                <a:solidFill>
                  <a:srgbClr val="000000"/>
                </a:solidFill>
                <a:latin typeface="Verdana"/>
              </a:rPr>
              <a:t>;</a:t>
            </a:r>
            <a:r>
              <a:rPr b="0" lang="cs-CZ" sz="3200" spc="-1" strike="noStrike">
                <a:solidFill>
                  <a:srgbClr val="000000"/>
                </a:solidFill>
                <a:latin typeface="Verdana"/>
              </a:rPr>
              <a:t> využívají schopností lidí</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Příkazy – vytyčení cíle a metody práce</a:t>
            </a:r>
            <a:r>
              <a:rPr b="0" lang="en-US" sz="3200" spc="-1" strike="noStrike">
                <a:solidFill>
                  <a:srgbClr val="000000"/>
                </a:solidFill>
                <a:latin typeface="Verdana"/>
              </a:rPr>
              <a:t>;</a:t>
            </a:r>
            <a:r>
              <a:rPr b="0" lang="cs-CZ" sz="3200" spc="-1" strike="noStrike">
                <a:solidFill>
                  <a:srgbClr val="000000"/>
                </a:solidFill>
                <a:latin typeface="Verdana"/>
              </a:rPr>
              <a:t> jsou nadřízeny pravidlům</a:t>
            </a:r>
            <a:r>
              <a:rPr b="0" lang="en-US" sz="3200" spc="-1" strike="noStrike">
                <a:solidFill>
                  <a:srgbClr val="000000"/>
                </a:solidFill>
                <a:latin typeface="Verdana"/>
              </a:rPr>
              <a:t>;</a:t>
            </a:r>
            <a:r>
              <a:rPr b="0" lang="cs-CZ" sz="3200" spc="-1" strike="noStrike">
                <a:solidFill>
                  <a:srgbClr val="000000"/>
                </a:solidFill>
                <a:latin typeface="Verdana"/>
              </a:rPr>
              <a:t> rozdílná podle funkce</a:t>
            </a:r>
            <a:r>
              <a:rPr b="0" lang="en-US" sz="3200" spc="-1" strike="noStrike">
                <a:solidFill>
                  <a:srgbClr val="000000"/>
                </a:solidFill>
                <a:latin typeface="Verdana"/>
              </a:rPr>
              <a:t>;</a:t>
            </a:r>
            <a:r>
              <a:rPr b="0" lang="cs-CZ"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ermíny organismus a organizace</a:t>
            </a: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Organismus – specifický druh spontánního řádu</a:t>
            </a:r>
            <a:r>
              <a:rPr b="0" lang="en-US" sz="3200" spc="-1" strike="noStrike">
                <a:solidFill>
                  <a:srgbClr val="000000"/>
                </a:solidFill>
                <a:latin typeface="Verdana"/>
              </a:rPr>
              <a:t>;</a:t>
            </a:r>
            <a:r>
              <a:rPr b="0" lang="cs-CZ" sz="3200" spc="-1" strike="noStrike">
                <a:solidFill>
                  <a:srgbClr val="000000"/>
                </a:solidFill>
                <a:latin typeface="Verdana"/>
              </a:rPr>
              <a:t> zachování prostorového uspořádání při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cs-CZ" sz="3200" spc="-1" strike="noStrike">
                <a:solidFill>
                  <a:srgbClr val="000000"/>
                </a:solidFill>
                <a:latin typeface="Verdana"/>
              </a:rPr>
              <a:t>změně prvků</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Organizace – určena k dosažení určitého účelu</a:t>
            </a:r>
            <a:r>
              <a:rPr b="0" lang="en-US" sz="3200" spc="-1" strike="noStrike">
                <a:solidFill>
                  <a:srgbClr val="000000"/>
                </a:solidFill>
                <a:latin typeface="Verdana"/>
              </a:rPr>
              <a:t>; </a:t>
            </a:r>
            <a:r>
              <a:rPr b="0" lang="cs-CZ" sz="3200" spc="-1" strike="noStrike">
                <a:solidFill>
                  <a:srgbClr val="000000"/>
                </a:solidFill>
                <a:latin typeface="Verdana"/>
              </a:rPr>
              <a:t>omezení růstu složitosti organizace</a:t>
            </a:r>
            <a:r>
              <a:rPr b="0" lang="en-US"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ztah řádu ke svobodě, ekonomii a trhu a právu</a:t>
            </a:r>
            <a:endParaRPr b="0" lang="en-US" sz="4400" spc="-1" strike="noStrike">
              <a:solidFill>
                <a:srgbClr val="003366"/>
              </a:solidFill>
              <a:latin typeface="Verdana"/>
            </a:endParaRPr>
          </a:p>
        </p:txBody>
      </p:sp>
      <p:sp>
        <p:nvSpPr>
          <p:cNvPr id="237" name="PlaceHolder 2"/>
          <p:cNvSpPr>
            <a:spLocks noGrp="1"/>
          </p:cNvSpPr>
          <p:nvPr>
            <p:ph/>
          </p:nvPr>
        </p:nvSpPr>
        <p:spPr>
          <a:xfrm>
            <a:off x="685440" y="2666880"/>
            <a:ext cx="8077320" cy="320040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a příkazů a omezení</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znik nepředvídaných stavů</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lší omezení jako reakce </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lší nepředvídatelné následné stav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Hypotéza  </a:t>
            </a:r>
            <a:endParaRPr b="0" lang="en-US" sz="4400" spc="-1" strike="noStrike">
              <a:solidFill>
                <a:srgbClr val="003366"/>
              </a:solidFill>
              <a:latin typeface="Verdana"/>
            </a:endParaRPr>
          </a:p>
        </p:txBody>
      </p:sp>
      <p:sp>
        <p:nvSpPr>
          <p:cNvPr id="239" name="PlaceHolder 2"/>
          <p:cNvSpPr>
            <a:spLocks noGrp="1"/>
          </p:cNvSpPr>
          <p:nvPr>
            <p:ph/>
          </p:nvPr>
        </p:nvSpPr>
        <p:spPr>
          <a:xfrm>
            <a:off x="609480" y="3200040"/>
            <a:ext cx="803448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obectví jako hybná síla rozvoje společenského řádu.</a:t>
            </a:r>
            <a:endParaRPr b="0" lang="en-US" sz="3200" spc="-1" strike="noStrike">
              <a:solidFill>
                <a:srgbClr val="000000"/>
              </a:solidFill>
              <a:latin typeface="Verdan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Hayek, F.A.  Osudná domýšlivost. </a:t>
            </a:r>
            <a:r>
              <a:rPr b="0" lang="cs-CZ" sz="3200" spc="-1" strike="noStrike">
                <a:solidFill>
                  <a:srgbClr val="000000"/>
                </a:solidFill>
                <a:latin typeface="Times New Roman"/>
              </a:rPr>
              <a:t>Praha: Sociologické nakladatelství, 1995, ISBN 80-85850-05-2</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just">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ea typeface="Times New Roman"/>
              </a:rPr>
              <a:t>Ježek, T. Základy liberálního řádu. </a:t>
            </a:r>
            <a:r>
              <a:rPr b="0" lang="cs-CZ" sz="3200" spc="-1" strike="noStrike">
                <a:solidFill>
                  <a:srgbClr val="000000"/>
                </a:solidFill>
                <a:latin typeface="Times New Roman"/>
                <a:ea typeface="Times New Roman"/>
              </a:rPr>
              <a:t>Praha: Academia, nakladatelství Akademie věd ČR, 2001. ISBN 80-200-0852-7</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0"/>
            <a:ext cx="816264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ěkujeme Vám za pozornost a následné dotazy.</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80640" y="6069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Zdroje:</a:t>
            </a:r>
            <a:endParaRPr b="0" lang="en-US" sz="4400" spc="-1" strike="noStrike">
              <a:solidFill>
                <a:srgbClr val="003366"/>
              </a:solidFill>
              <a:latin typeface="Verdana"/>
            </a:endParaRPr>
          </a:p>
        </p:txBody>
      </p:sp>
      <p:sp>
        <p:nvSpPr>
          <p:cNvPr id="213" name="PlaceHolder 2"/>
          <p:cNvSpPr>
            <a:spLocks noGrp="1"/>
          </p:cNvSpPr>
          <p:nvPr>
            <p:ph/>
          </p:nvPr>
        </p:nvSpPr>
        <p:spPr>
          <a:xfrm>
            <a:off x="609480" y="1905120"/>
            <a:ext cx="8413920" cy="44193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Hayek F.A., Právo, zákonodárství a svoboda. </a:t>
            </a:r>
            <a:r>
              <a:rPr b="1" i="1" lang="cs-CZ" sz="2400" spc="-1" strike="noStrike">
                <a:solidFill>
                  <a:srgbClr val="000000"/>
                </a:solidFill>
                <a:latin typeface="Times New Roman"/>
              </a:rPr>
              <a:t>Nový výklad liberálních principů spravedlnosti a politické ekonomie. Svazek 1 Pravidla a řád</a:t>
            </a:r>
            <a:r>
              <a:rPr b="1" lang="cs-CZ" sz="2400" spc="-1" strike="noStrike">
                <a:solidFill>
                  <a:srgbClr val="000000"/>
                </a:solidFill>
                <a:latin typeface="Times New Roman"/>
              </a:rPr>
              <a:t>.  Praha:  Academia, nakladatelství československé akademie věd, 1991. ISBN 80-200-0279-0</a:t>
            </a: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Hayek, F.A.</a:t>
            </a:r>
            <a:r>
              <a:rPr b="1" lang="cs-CZ" sz="2400" spc="-1" strike="noStrike">
                <a:solidFill>
                  <a:srgbClr val="000000"/>
                </a:solidFill>
                <a:latin typeface="Times New Roman"/>
              </a:rPr>
              <a:t>, </a:t>
            </a:r>
            <a:r>
              <a:rPr b="1" lang="cs-CZ" sz="2400" spc="-1" strike="noStrike">
                <a:solidFill>
                  <a:srgbClr val="000000"/>
                </a:solidFill>
                <a:latin typeface="Times New Roman"/>
                <a:ea typeface="Times New Roman"/>
              </a:rPr>
              <a:t>Osudná domýšlivost. Praha: Sociologické nakladatelství, 1995, ISBN 80-85850-05-2</a:t>
            </a: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Ježek, T.</a:t>
            </a:r>
            <a:r>
              <a:rPr b="1" lang="cs-CZ" sz="2400" spc="-1" strike="noStrike">
                <a:solidFill>
                  <a:srgbClr val="000000"/>
                </a:solidFill>
                <a:latin typeface="Times New Roman"/>
              </a:rPr>
              <a:t>, </a:t>
            </a:r>
            <a:r>
              <a:rPr b="1" lang="cs-CZ" sz="2400" spc="-1" strike="noStrike">
                <a:solidFill>
                  <a:srgbClr val="000000"/>
                </a:solidFill>
                <a:latin typeface="Times New Roman"/>
                <a:ea typeface="Times New Roman"/>
              </a:rPr>
              <a:t>Základy liberálního řádu. Praha: Academia, nakladatelství Akademie věd ČR, 2001. ISBN 80-200-0852-7</a:t>
            </a: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efinice řádu</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e F.A.Hayeka: </a:t>
            </a:r>
            <a:r>
              <a:rPr b="0" i="1" lang="cs-CZ" sz="2400" spc="-1" strike="noStrike">
                <a:solidFill>
                  <a:srgbClr val="000000"/>
                </a:solidFill>
                <a:latin typeface="Verdana"/>
              </a:rPr>
              <a:t>„</a:t>
            </a:r>
            <a:r>
              <a:rPr b="0" i="1" lang="cs-CZ" sz="2400" spc="-1" strike="noStrike">
                <a:solidFill>
                  <a:srgbClr val="000000"/>
                </a:solidFill>
                <a:latin typeface="Verdana"/>
                <a:ea typeface="Times New Roman"/>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e I.Kanta: </a:t>
            </a:r>
            <a:r>
              <a:rPr b="0" i="1" lang="cs-CZ" sz="2400" spc="-1" strike="noStrike">
                <a:solidFill>
                  <a:srgbClr val="000000"/>
                </a:solidFill>
                <a:latin typeface="Verdana"/>
              </a:rPr>
              <a:t>„</a:t>
            </a:r>
            <a:r>
              <a:rPr b="0" i="1" lang="cs-CZ" sz="2400" spc="-1" strike="noStrike">
                <a:solidFill>
                  <a:srgbClr val="000000"/>
                </a:solidFill>
                <a:latin typeface="Verdana"/>
                <a:ea typeface="Times New Roman"/>
              </a:rPr>
              <a:t>Řád jest spojením podle pravidel“</a:t>
            </a:r>
            <a:r>
              <a:rPr b="0" lang="cs-CZ"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e L.S.Stebbingové </a:t>
            </a:r>
            <a:r>
              <a:rPr b="0" i="1" lang="cs-CZ" sz="2400" spc="-1" strike="noStrike">
                <a:solidFill>
                  <a:srgbClr val="000000"/>
                </a:solidFill>
                <a:latin typeface="Verdana"/>
              </a:rPr>
              <a:t>„Když víme jak je soubor prvků uspořádán, máme základ pro zasahován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ázvosloví</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72428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Řád </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ém, vzorec, struktura</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osmo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x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ntánní řád – vyrostl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ytvořený řá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ozdíly ve východiscích</a:t>
            </a:r>
            <a:endParaRPr b="0" lang="en-US" sz="4400" spc="-1" strike="noStrike">
              <a:solidFill>
                <a:srgbClr val="003366"/>
              </a:solidFill>
              <a:latin typeface="Verdana"/>
            </a:endParaRPr>
          </a:p>
        </p:txBody>
      </p:sp>
      <p:sp>
        <p:nvSpPr>
          <p:cNvPr id="219" name="PlaceHolder 2"/>
          <p:cNvSpPr>
            <a:spLocks noGrp="1"/>
          </p:cNvSpPr>
          <p:nvPr>
            <p:ph/>
          </p:nvPr>
        </p:nvSpPr>
        <p:spPr>
          <a:xfrm>
            <a:off x="609480" y="2133360"/>
            <a:ext cx="811080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řirozený řád – vytvořený přírodou</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Umělý řád – lidská aktivita</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evoluční teoretikové)</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Všechny společenské řády jsou vytvořeny lidskou činností</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racionální konstruktivisté)</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řirozený řád – vytvořený přírodou i lidmi (bez zřejmého úmyslu)</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Umělý řád – vytvořený lidskou činností za jistým účelem</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F.A.Hayek)</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va zdroje řádu</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Kosmos – spontánní řád, vyrostlý, samoutvářející se systém pravid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Taxis – vytvořený řád, řád jenž byl vytvořený za určitým účele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dlišující vlastnosti spontánních řádů</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ělé řády – jednoduché , mají určitý úkol (účel), mají omezený rozsah</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ntánní řády – mohou nabývat jakékoliv složitosti, nemají exogenně přidělený účel existence, mohou dosáhnout libovolné složitosti, osvojené chování vedoucí k zachování a rozvoji řád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pontánní řády v přírodě</a:t>
            </a:r>
            <a:endParaRPr b="0" lang="en-US" sz="4400" spc="-1" strike="noStrike">
              <a:solidFill>
                <a:srgbClr val="003366"/>
              </a:solidFill>
              <a:latin typeface="Verdana"/>
            </a:endParaRPr>
          </a:p>
        </p:txBody>
      </p:sp>
      <p:sp>
        <p:nvSpPr>
          <p:cNvPr id="225" name="PlaceHolder 2"/>
          <p:cNvSpPr>
            <a:spLocks noGrp="1"/>
          </p:cNvSpPr>
          <p:nvPr>
            <p:ph/>
          </p:nvPr>
        </p:nvSpPr>
        <p:spPr>
          <a:xfrm>
            <a:off x="912960" y="2895480"/>
            <a:ext cx="8231040" cy="320040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yzikální a chemické jevy</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videlnost v chování</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ecný charakter řádu, bez detailů</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ýsledek závisí na prvotním rozestavení prvků a stavu okolí</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554760"/>
            <a:ext cx="819648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Rozšíření a omezení moci řízení při spolehnutí se  na  spontánní řády</a:t>
            </a:r>
            <a:endParaRPr b="0" lang="en-US" sz="32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vlivňování spontánního řádu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eznalost všech prků a prvotního stavu)</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Řízení pomocí omezujících podmínek</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rušení samoutvářecích a samoorganizujích se si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06:05:13Z</dcterms:created>
  <dc:creator>Radek Gertner</dc:creator>
  <dc:description/>
  <dc:language>en-US</dc:language>
  <cp:lastModifiedBy>Gertnerovi</cp:lastModifiedBy>
  <dcterms:modified xsi:type="dcterms:W3CDTF">2005-12-03T23:23:45Z</dcterms:modified>
  <cp:revision>18</cp:revision>
  <dc:subject/>
  <dc:title>Řád </dc:title>
</cp:coreProperties>
</file>