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640D-861B-4E11-B7A2-A4E2824C1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5F84-3992-489F-95C2-95E9C1BA4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5D41-6018-401F-AA53-B1B7E71EE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91D0-09F1-4672-8346-293636908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04D2-9D0B-438F-B2E5-EA16DF8EF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EC7F-E1AD-41E6-8759-3D63B83C3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D914-8E7F-44CB-BB71-FC654EBFE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2D25-7378-4E6A-97C3-F8B4F959D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35D7-AEA4-4791-BBF0-15903EE8B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93D0-92D9-4761-88E0-5EFBA579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A496-0390-4E84-AA6B-40A78081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968C-4C7D-49AC-A627-E8A20E62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5D930-4AFD-408B-908F-BA548B111A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5800" y="876240"/>
          <a:ext cx="7772400" cy="5105520"/>
        </p:xfrm>
        <a:graphic>
          <a:graphicData uri="http://schemas.openxmlformats.org/drawingml/2006/table">
            <a:tbl>
              <a:tblPr/>
              <a:tblGrid>
                <a:gridCol w="2475000"/>
                <a:gridCol w="5297400"/>
              </a:tblGrid>
              <a:tr h="31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ysílatel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ýrob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upina výrobc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chod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užst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pad – hlavně 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děle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rmativní – pouze informu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formační – mění posto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itucionální, vládní kampa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lektivní nebo obecně použitelné = podpora konkrétní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atické nebo zaměřené na druh, kategorii produktů =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landský sýr,belgické pralinky, jihoamerické hověz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jem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kaz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zipodnikové     prostřed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d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diovizuální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sk                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místa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má              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09:06Z</dcterms:created>
  <dc:creator>kozakova</dc:creator>
  <dc:description/>
  <dc:language>en-US</dc:language>
  <cp:lastModifiedBy>kozakova</cp:lastModifiedBy>
  <dcterms:modified xsi:type="dcterms:W3CDTF">2005-12-05T12:09:38Z</dcterms:modified>
  <cp:revision>1</cp:revision>
  <dc:subject/>
  <dc:title>Prezentace aplikace PowerPoint</dc:title>
</cp:coreProperties>
</file>