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E55C-3DC8-4399-92FE-C9755316A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5C5F-1C4C-453E-A64E-4C61EF5BE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142C-8C3E-4CC1-84E9-341819ED2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7EF6-38D5-47DA-95EF-502BA5B30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2C47-BE01-4461-B9BD-73E4A624B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D08F-ED1E-4623-AC07-E5D4218AB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78E9-7BA2-4F86-B8E5-084D4C3E4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5C5A-0CFE-4373-8237-C4EF0D56D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4984-F5D4-4F74-9D4F-278F3BEE4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AD5A-F1F7-47A2-9E8B-9432BEC6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6915-60C8-44C4-B7C3-17E0AE271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DE07-95DC-4BA6-A2D6-DF6F91A8A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C6970-1A5F-4801-8925-4F6D64C4D0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3880" y="1407960"/>
          <a:ext cx="6096240" cy="40420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né strán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abé strán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ležitos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rozb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T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51:44Z</dcterms:created>
  <dc:creator>kozakova</dc:creator>
  <dc:description/>
  <dc:language>en-US</dc:language>
  <cp:lastModifiedBy>kozakova</cp:lastModifiedBy>
  <dcterms:modified xsi:type="dcterms:W3CDTF">2005-12-02T13:51:56Z</dcterms:modified>
  <cp:revision>1</cp:revision>
  <dc:subject/>
  <dc:title>Prezentace aplikace PowerPoint</dc:title>
</cp:coreProperties>
</file>