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BA6D-C789-424F-845F-87A822EF5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84B9-D3CA-4974-86AF-E7C0086DE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B635-9EE8-411C-8D63-ABCA90958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DA6E-CB9A-43B9-ADD6-6A8F75F23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95AD-09CA-4C29-B097-2FBA124EF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145C-9630-421A-8BD5-14D018CC0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AA6F-7E32-412A-9C8C-B6225B283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A63E-B6FF-40E0-B1DF-285867879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8C13-D85A-467E-8EA3-CA7012B9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8817-B63C-46E3-A7E6-1C8F697A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BDD8-95E7-4D8F-8574-97835797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D0A1-24A1-42D1-BFA7-D5A2253F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A1B76-8F2F-4112-A50E-CE9E3C77D2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87400"/>
          <a:ext cx="7769520" cy="5083200"/>
        </p:xfrm>
        <a:graphic>
          <a:graphicData uri="http://schemas.openxmlformats.org/drawingml/2006/table">
            <a:tbl>
              <a:tblPr/>
              <a:tblGrid>
                <a:gridCol w="3884760"/>
                <a:gridCol w="38847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gnitivní, poznávací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řeby v dané kategorii produk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vědomí o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nalost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ektivní, emocionální a smyslov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city vyvolané reklam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 reklam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liba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zor na znač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okojenost se značk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nativní, behaviorál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zámě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akovaný 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ajalita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0:50Z</dcterms:created>
  <dc:creator>kozakova</dc:creator>
  <dc:description/>
  <dc:language>en-US</dc:language>
  <cp:lastModifiedBy>kozakova</cp:lastModifiedBy>
  <dcterms:modified xsi:type="dcterms:W3CDTF">2005-12-05T12:11:04Z</dcterms:modified>
  <cp:revision>1</cp:revision>
  <dc:subject/>
  <dc:title>Prezentace aplikace PowerPoint</dc:title>
</cp:coreProperties>
</file>