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80E7-E85B-4416-B155-34383E353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B72F-BC4F-4954-8345-9D29BC403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30D5-A118-4DCE-9A67-263EF0F80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94FD-52DB-4D4C-98F4-8645546F1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9100-048D-48FD-829C-6B6DB38F3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1A08-09C7-4688-A1DD-0EFF040EA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9F74-AC36-42FC-93CC-CCDE3DE13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A33D-1BD5-49D2-81AB-856C8858D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C386-C7C5-4598-AAE8-84F3DD13B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1B6A-A753-4A68-BD11-784B9E06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ACBF-1E71-477B-9AFA-4B773AF86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10EF-5B30-49AA-95BA-1A0F0014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B5B75-0081-4010-824E-EC5F39DC263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ormační šumy v marketingové komunikac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zpor mezi očekáváním klienta a vnímáním poskytovatele služ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8120" y="3124080"/>
            <a:ext cx="281916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čekávaná služ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2286000"/>
            <a:ext cx="17528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ázory jiný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2286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obní potře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00800" y="2286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kuše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4114800"/>
            <a:ext cx="3886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nímání poskytnuté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62520" y="4724280"/>
            <a:ext cx="38862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kytnutí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5334120"/>
            <a:ext cx="3886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kace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5943600"/>
            <a:ext cx="65534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nímání tohoto očekávání poskytovate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81080" y="27432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9568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5714640" y="27432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5680" y="4495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35053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35053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181480" y="5714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181480" y="5105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181480" y="449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9120" y="3622680"/>
            <a:ext cx="107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zp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(R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53200" y="55278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24600" y="4917960"/>
            <a:ext cx="7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53200" y="43084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66880" y="3733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4:36:12Z</dcterms:created>
  <dc:creator>simona</dc:creator>
  <dc:description/>
  <dc:language>en-US</dc:language>
  <cp:lastModifiedBy>simona</cp:lastModifiedBy>
  <dcterms:modified xsi:type="dcterms:W3CDTF">2005-11-28T14:36:30Z</dcterms:modified>
  <cp:revision>1</cp:revision>
  <dc:subject/>
  <dc:title>Informační šumy v marketingové komunikaci</dc:title>
</cp:coreProperties>
</file>