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DA6C4-EABD-40AC-B625-036B6EA31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5ED3D-C038-494C-B6A8-A585FB60C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F26E6-2172-4BEA-B2A9-E11FBA413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3D2F5-DFDF-4B6C-AA7B-86343DAF8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3BAE3-3EF9-4F4E-98F2-936168821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FE65F-B9CB-48C4-8E02-3F0846241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E3C80-D4ED-4C08-AE79-69C7E2183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3BEDD-2C17-482E-9C5D-0D3B9790B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B8EAD-625C-40B4-B344-19F4EFC30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A3E16-1B47-46C3-B690-0269EC166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BEA27-7C9D-4044-B7B6-92A0DEC64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DF097-931F-44B1-A41A-D69AAC2BC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70332-33EE-4599-AD20-598F249C21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3880" y="1407960"/>
          <a:ext cx="6096240" cy="40420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3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lné stránk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labé stránk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říležitost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 strategi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O strategi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rozb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 strategi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T strategi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2T13:51:44Z</dcterms:created>
  <dc:creator>kozakova</dc:creator>
  <dc:description/>
  <dc:language>en-US</dc:language>
  <cp:lastModifiedBy>kozakova</cp:lastModifiedBy>
  <dcterms:modified xsi:type="dcterms:W3CDTF">2005-12-02T13:51:56Z</dcterms:modified>
  <cp:revision>1</cp:revision>
  <dc:subject/>
  <dc:title>Prezentace aplikace PowerPoint</dc:title>
</cp:coreProperties>
</file>