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C2F1-0D4D-4A68-A4A4-8A4122D97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5173-FCFD-498A-A34A-759BF840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340F-7743-4995-8793-6B93B31D7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0EB5-7C11-4288-BF41-F533581D3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A7C7-C959-4923-BF13-A27DEAED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6D2F-9095-4857-BD2A-3F2A2ECF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F190-F54D-402B-A8C0-D0C297A6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9575-BF21-42C3-9923-35584E4B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5618-40F1-49F8-B5D2-A4524B2F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7B4B-7E1F-4AD8-89AC-33FC24D2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592F-C0DE-42EC-B306-03FC9155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4FE4-CC75-4342-9250-B1C04271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8739-3791-446E-BB0F-751BE5BA1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2590920"/>
            <a:ext cx="2438280" cy="2666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33526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m se chceme dos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124080"/>
            <a:ext cx="2514600" cy="14479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429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k se tam dostan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666880"/>
            <a:ext cx="236196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e js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676520"/>
            <a:ext cx="914400" cy="533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48:50Z</dcterms:created>
  <dc:creator>kozakova</dc:creator>
  <dc:description/>
  <dc:language>en-US</dc:language>
  <cp:lastModifiedBy>kozakova</cp:lastModifiedBy>
  <dcterms:modified xsi:type="dcterms:W3CDTF">2005-12-02T13:49:30Z</dcterms:modified>
  <cp:revision>1</cp:revision>
  <dc:subject/>
  <dc:title>Prezentace aplikace PowerPoint</dc:title>
</cp:coreProperties>
</file>