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ECB-C7FB-48CC-BEF2-67D6F3650C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RP 2002-2006 ……………………….17,5 mld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= 3,9 % rozpočtu EU (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% veřejných prostředků EU na výzk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A90-0BC8-430B-AF5B-FBC45F36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D97-A18F-4795-98AD-549813BD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A58-834B-4DED-AAE7-D19A2758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3D4-03B3-4AB2-8D4B-C3A25BEF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2714-4819-4887-8BBF-2E28FC78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B2B2-CD01-4321-9523-4D83B08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B55-B14F-4445-A19C-1DA31E8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723F-21B9-4EBF-B304-152D157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85D-8FEB-4AFB-95AE-0EA4CB2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9A1E-5124-429A-8EE6-46473F31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968B-A6DC-4D49-81EE-D28FB8F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7EE-790A-4BA3-8659-F56D9C7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C65-C5A2-4D55-8417-EE8B8F8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4278-9532-45B6-8024-2D713B7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F482-781A-44F6-A876-E2D290A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11F-3845-428C-8826-FD682C14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A63-3D3B-466B-8D8A-485A01E1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936-F8A1-47E9-A117-FCEAA1D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700-9B34-4765-97E1-F7369DD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E20-BAE3-4384-9EA4-6591A4E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6FE-FC09-4C95-AF07-FB8DAEA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9D7-6F8F-45B0-8F3C-2FED1C3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8F5-749E-402A-8E14-84E3912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415-135C-498B-B472-6DCAF33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0EF-8DA4-44EC-94A6-7F09A6A0AE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AB4-BE91-4DD6-82E5-6BD8333694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p6.cordis.lu/fp6/partners.cfm" TargetMode="External"/><Relationship Id="rId2" Type="http://schemas.openxmlformats.org/officeDocument/2006/relationships/hyperlink" Target="http://www.kowi.de/services/IPS/igloservic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921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DPORA VĚDECKÉ PRÁ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2852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400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5373720"/>
            <a:ext cx="4105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droj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ÁRODNÍ INFORMAČNÍ CENTRUM PRO EVROPSKÝ VÝZK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1125360"/>
            <a:ext cx="37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egrované projek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 – vytvořit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ou znalos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rámci tematických priorit 6.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osáhnout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mbiciózních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 jasně definovaných vědeckých a technologických cíl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ojekty zahrnující výzkumné, vývojové, demonstrační, školicí  aktivity, adekvátní řídící struktura, využití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ástroj pro podporu cílově orientovaného výzkumu „evropské dimenze“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projektu až desítky Meur, trvání 3-5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– grant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1. výzva TP1 –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účastníků IP – 23, příspěvek 15 M€, TP5 – příspěv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3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1268280"/>
            <a:ext cx="3310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ítě excelence (No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ástroj k překonání fragmentace evropského výzkumu – hlavním výstupem bude vytvoření trvalé struktury s vysokou mírou integrace výzkumných aktiv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em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osílit „excelenci“ v evropském výzkum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prioritních oblast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trvalá integrac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výzkumných kapac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společný program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tiv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louhodobé cíle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vah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ysoká úroveň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utonomi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řízen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stupná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integrace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acovních program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ůležitým úkolem bude  „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šířit excelenci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“ vně sít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až desítky M€, po dobu 5 i více (maximálně 7)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-  fixní grant pro integraci, v prvních výzvách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1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126828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Článek 16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5653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možňuje ES účastnit se ve výzkumných programech uskutečňovaných několika členskými státy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gruje „národní programy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 určité oblasti výzku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yžaduje společnou iniciativu národních programů a Komise – výsledkem návrh – předkládá Komi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louhodobý a komplexní rozhodovací proces, spolurozhoduje Parlament a R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981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y zaměřené výzkumné projekty (STRE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2565360"/>
            <a:ext cx="777240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ýzku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 jasně stanovenými cíli, (vývoj nebo zlepšení produktů, procesů, služeb, demonstrace ověření životaschopnosti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Účastníci: min. 3 ze 3 různých členských nebo asociovaných zemí (z toho 2 z MS nebo ACS), v prvních výzvách průměrně vyšší jednotky účastník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vání: 2-3 ro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zpočet: několik M€, v prvních výzvách průměrné příspěvky cca 3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spěvek EK má formu grantu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268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oordinační akce (C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2276640"/>
            <a:ext cx="7772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podpora vytváření sítí a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oordin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jejich výzkumných a inovačních aktivit (organizace a řízení společných aktivit, konference, meetingy, studie, školicí aktivity, expertní skupiny, a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kračování tematických sítí z 5. 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ční podpora – grant k rozpočtu (až do 100% nákladů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1197000"/>
            <a:ext cx="54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é podpůrné akce (SS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70828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dpor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mplementace cílů RP v tématických prioritá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prava budoucích výzkumných politik a aktivit (konference, semináře, soutěže a ceny, pracovní skupiny, informační a komunikační aktiv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apojení MSP, spolupráce s CC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ování: grant k rozpočtu (až 100% nákladů akce), první výzvy  průměrně 0,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360" y="242100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operativního výzkumu - CRAF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polupráce mezi SME a výzkumnými organizacemi (vyvinout novou technologii nebo produkt, který není komerčně dostupný, vyřešit technický problém, dokončit vývoj prototypu, nového výrob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MSP formulují a zadávají výzkumný úko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výzkumné organizace provádí výzkum na základě zadání konsorcia M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do 2 mil. EUR, 2 roky, více než 50% příspěvek 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lektivního výzkum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zkum prováděný výzkumnými organizacemi na základě požadavků evropských průmyslovýc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sociací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nebo národních asociací v zájmu určitého společenství (řešení společných problémů, výzku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osílení technologické báze daného sektoru(ů)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hnolog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cký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ransfer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2-5 mil. EUR,2-3 rok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5840" y="1052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ecifické projekty pro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92360" y="1052640"/>
            <a:ext cx="65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kce Marie Curie – lidské zdroje a mobil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700280"/>
            <a:ext cx="748980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školící mí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výzkumné školíc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začín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výměnu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konference a školen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individuální stáž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vědce ze třetích zem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stáže ve třetích zemích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dpora a ocenění vynikající vědecké 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granty pro vynikající vědecké tým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ceny pro vynik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profesury Marie Cu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reintegrační (návratové)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mezinárodní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5960" y="1553760"/>
            <a:ext cx="5184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ŘÍPRAVA PROJEKT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3429000"/>
            <a:ext cx="316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téma/nástr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konzorc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vlastní návr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16360" y="404640"/>
            <a:ext cx="28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Konzorc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1989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í zajistit vzájemně se doplňující spektrum odborností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sciplín, zemí a lidských zdroj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šichni se podílí na projekt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ředchozí zkušenost s projekty EU výhod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čekává se dlouhodobá/trvalá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olu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268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nzorcium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in.3 právní subjekty ze 3 států – EU, ACC, AC (VÚ, univerzity, průmysl včetně MSP, asociace, apod.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3645000"/>
            <a:ext cx="763272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ordinátor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kušenosti s evropskými projekty (u IP a NoE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artneři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osobní kontakty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konference, publikace, síť NCP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lužby „partner search“: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fp6.cordis.lu/fp6/partners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EoI: </a:t>
            </a: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http://eoi.cordis.lu/search_form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projektů kontrahovaných v minulost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cc99"/>
                </a:solidFill>
                <a:latin typeface="Arial"/>
              </a:rPr>
              <a:t>http://dbs.cordis.lu/search/en/simple/EN_PROJ_simple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, např. IGLO Project Search:    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kowi.de/services/IPS/igloservice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ezinárodní informační d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UREKA – Evropská spolupráce v oblasti aplikovaného a průmyslového výzkumu a vývo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EUREKA byl vyhlášen v roce 1985 s cílem podporovat nadnárodní spolupráci mezi průmyslovými podniky, výzkumnými ústavy a vysokými školami a vytvářet tak podmínky pro růst výkonnosti a konkurenceschopnosti evropského průmyslu a rozvoje jeho společné infrastruktury. Komerční využití výsledků řešení položilo zároveň důraz na aktivní zapojení výzkumu a vývoje do tržní ekonomiky.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kty EUREKY mají výhradně civilní charakter a jsou zaměřeny na oblast soukromého i veřejného sektoru. Jejich výstupem musí být nové, inovované špičkové výrobky, technologie či progresivní služby, schopné prosadit se na světovém trhu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 současné době EUREKA sdružuje 33 států a řádným členem je rovněž Komise Evropské unie. Z bývalých socialistických zemí jsou členy Česká republika, Maďarsko, Polsko, Rusko, Slovinsko, Rumunsko a Litva, Bulharsko, Estonsko, Lotyšsko, Slovensko, Ukrajina, bývalá Federace Jugoslávi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4120" y="762120"/>
            <a:ext cx="4991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očet účastníků v projektech 6. RP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77043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77043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Zaměření projektů programu EUREK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nformační technologie 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ové materiály   život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středí   biotechnologie a technologie ve zdravotnictví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botika a automatizace výroby   komunikač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e   energetik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prava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aser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3366"/>
                </a:solidFill>
                <a:uFillTx/>
                <a:latin typeface="Trebuchet MS"/>
              </a:rPr>
              <a:t>Program EUREKA a Česká republ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rebuchet MS"/>
              </a:rPr>
              <a:t>V období 1992-200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účast v 164 projektech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řešiteli více než 300 organizací – převažují průmyslové podniky (MSP i VP) dále výzkumné organizace, univerz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(spojení český podnik-univerzita-zahraniční partneři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finanční náklady projektů představují cca 369,0 MEur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z toho podíl českých organizací 66,0 MEur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(2 110 mil. Kč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vlastní finanční zdroje organizací 1 560 mil. K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spolufinancování z účelových prostředků na mezinárodní spolupráci ve VaV 550 mil. Kč (od roku 199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RÁMCOVÝ PROGRAM E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708280"/>
            <a:ext cx="79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ytvořit nástroj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které povedou k silnějšímu propojení národních, regionálních a dalších evropských aktivi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ajistit vysokou efektivitu řešení výzkumných problémů a patřičnou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tonomii řešitelských tým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ožnit takové strukturování výzkumu, které zajistí Evropě významnou pozici v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zvíjení lidských zdroj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 v mezinárodní spolupráci ve vědě a výzkum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ovat výzku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ve vybraných tematických prioritách, ve kterých by Evropa měla dosáhnout vysoké přidané  hodno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080" y="234936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Základní principy 6. RP (2002 – 2006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ubory aktivit 6. R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aměření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 integrace výzkum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7 priorit a specifické aktivity zahrnující širší oblast výzkumu – MSP, INCO, NEST, podpora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85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rukturování Evropského výzkumného prostoru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 655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mobility, výzkumné infrastruktury,výzkum a inovace, věda a společnos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ilování základů Evropského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ýzkumného prostor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330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koordinace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elkem 6. R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6 27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ozpočet programu EURAT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 23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5156280"/>
            <a:ext cx="763272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ru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kturování Evropského výzkumného prostoru (2605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413000"/>
            <a:ext cx="76327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I. Zaměření a integrace výzkumu EU (13 345 M€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156960" y="3531960"/>
            <a:ext cx="24861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feSciHealth 22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85640" y="352872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36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457080" y="3516120"/>
            <a:ext cx="24768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izen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12140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no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3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684080" y="352404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107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32632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68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894040" y="3519360"/>
            <a:ext cx="24732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tainable dev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1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979640"/>
            <a:ext cx="3961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tic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ké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priori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y (11 285 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49228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icy support 2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57192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4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07664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CO 3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458136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R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760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2997360"/>
            <a:ext cx="3529080" cy="38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5516640"/>
          <a:ext cx="7632360" cy="304560"/>
        </p:xfrm>
        <a:graphic>
          <a:graphicData uri="http://schemas.openxmlformats.org/drawingml/2006/table">
            <a:tbl>
              <a:tblPr/>
              <a:tblGrid>
                <a:gridCol w="2040120"/>
                <a:gridCol w="1776240"/>
                <a:gridCol w="2171160"/>
                <a:gridCol w="1644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. and Innov. 29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-mobility 15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structures 6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 and Soc. 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00000" y="6021360"/>
          <a:ext cx="7632720" cy="428760"/>
        </p:xfrm>
        <a:graphic>
          <a:graphicData uri="http://schemas.openxmlformats.org/drawingml/2006/table">
            <a:tbl>
              <a:tblPr/>
              <a:tblGrid>
                <a:gridCol w="3527640"/>
                <a:gridCol w="1584360"/>
                <a:gridCol w="252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I. Posilování ERA (320 M€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– NET 27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. dev. of  policies 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348000" y="76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ktura 6R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5440" y="1979640"/>
            <a:ext cx="35272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Horizontální aktivity (2160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55640" y="692280"/>
          <a:ext cx="7924680" cy="52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92468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92280"/>
            <a:ext cx="52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ie rámcových programů E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8360" y="1125360"/>
            <a:ext cx="8207280" cy="4339440"/>
            <a:chOff x="468360" y="1125360"/>
            <a:chExt cx="8207280" cy="4339440"/>
          </a:xfrm>
        </p:grpSpPr>
        <p:graphicFrame>
          <p:nvGraphicFramePr>
            <p:cNvPr id="140" name=""/>
            <p:cNvGraphicFramePr/>
            <p:nvPr/>
          </p:nvGraphicFramePr>
          <p:xfrm>
            <a:off x="468360" y="1125360"/>
            <a:ext cx="8207280" cy="420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125360"/>
                      <a:ext cx="8207280" cy="42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372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2-06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80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6-10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2920" y="515772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998-200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28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99"/>
                  </a:solidFill>
                  <a:latin typeface="Arial"/>
                </a:rPr>
                <a:t>1994-98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764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90-9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0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7-9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2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4-87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47640" y="5672160"/>
            <a:ext cx="2835360" cy="291960"/>
          </a:xfrm>
          <a:prstGeom prst="rect">
            <a:avLst/>
          </a:prstGeom>
          <a:noFill/>
          <a:ln w="1260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ČR - program INCO (243 projekty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6920" y="6083280"/>
            <a:ext cx="3628080" cy="291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ČR – „pod dohledem týmů EU“ (661 projekt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57680" y="5661000"/>
            <a:ext cx="2073600" cy="29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ČR – rovnoprávná účast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805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9" idx="3"/>
            <a:endCxn id="145" idx="2"/>
          </p:cNvCxnSpPr>
          <p:nvPr/>
        </p:nvCxnSpPr>
        <p:spPr>
          <a:xfrm flipV="1">
            <a:off x="4382640" y="5461920"/>
            <a:ext cx="462600" cy="362520"/>
          </a:xfrm>
          <a:prstGeom prst="bentConnector2">
            <a:avLst/>
          </a:prstGeom>
          <a:ln w="1908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0" idx="0"/>
            <a:endCxn id="144" idx="2"/>
          </p:cNvCxnSpPr>
          <p:nvPr/>
        </p:nvCxnSpPr>
        <p:spPr>
          <a:xfrm flipV="1" rot="16200000">
            <a:off x="5570280" y="5771880"/>
            <a:ext cx="621000" cy="2160"/>
          </a:xfrm>
          <a:prstGeom prst="bentConnector3">
            <a:avLst>
              <a:gd name="adj1" fmla="val 49883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286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y nástrojů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é nástroje (80% rozpočt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Integrované projekty (I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ítě excelence (No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Článek 169 (společná implementace národních programů Va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radiční nástr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rojekty cílově orientovaného výzkumu (STRE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ordinační akce (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odpůrné akce (SS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rojekty pro MSP a asociace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RAF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lektivní výzk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kce Marie Cur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18:07Z</dcterms:created>
  <dc:creator>doma</dc:creator>
  <dc:description/>
  <dc:language>en-US</dc:language>
  <cp:lastModifiedBy>snoopy</cp:lastModifiedBy>
  <dcterms:modified xsi:type="dcterms:W3CDTF">2005-12-06T10:53:29Z</dcterms:modified>
  <cp:revision>5</cp:revision>
  <dc:subject/>
  <dc:title>6. RÁMCOVÝ PROGRAM EU  PODPORA VĚDECKÉ PRÁCE</dc:title>
</cp:coreProperties>
</file>