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E85-A4EC-4DA0-A72C-91CA486A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882-5166-4AD3-B2D1-24267FE0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AB8-2BDB-468D-8AFB-53BC7CB2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A27-C5F3-4C6E-ADFE-21D7F719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10C1-9CDE-4614-8462-A9753B08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C007-EA16-44DF-9696-5BF6CA22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79C-23E8-41A0-9476-6BCA2C0C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C78F-552B-48D5-A784-47466270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CC45-59DB-4A1B-93FD-DC68B3C9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C3E1-6AA5-40AA-B883-E0C55688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41BC-6199-4165-9595-DD4F09E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547-F5B5-487E-ADC3-74973C7F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0C27-79FA-480B-AA36-E940A674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B136-2175-4E9A-8B71-B5DA9AD1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7E3C-9DEC-4CC6-9D4B-9C004CB0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1C24-98D0-44CB-AF13-ED1D2B7E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AEB6-7403-454B-BD5D-9A3411B7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01E-D244-46CF-924F-4208D92F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0E1-A187-401C-A44A-8E74D5A9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A26-F15A-4E1F-B7EB-C52419CE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3AB-B2F5-4DA1-B6D4-6819BD0D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63A-0832-48EC-B212-5B66CC8A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169-6BE2-4F29-AADB-18194C4B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C45-0A8F-48A2-9636-69B30245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5FD3-67D2-4646-8D6A-880ABE817D0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7360-5D43-4573-9930-E45761A38C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rc.cz/technologicke-burzy-site-irc/" TargetMode="External"/><Relationship Id="rId2" Type="http://schemas.openxmlformats.org/officeDocument/2006/relationships/hyperlink" Target="http://www.intas.be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irc.cz/" TargetMode="External"/><Relationship Id="rId2" Type="http://schemas.openxmlformats.org/officeDocument/2006/relationships/hyperlink" Target="http://www.circ.cz/" TargetMode="External"/><Relationship Id="rId3" Type="http://schemas.openxmlformats.org/officeDocument/2006/relationships/hyperlink" Target="http://www.circ.cz/" TargetMode="External"/><Relationship Id="rId4" Type="http://schemas.openxmlformats.org/officeDocument/2006/relationships/hyperlink" Target="http://www.circ.cz/" TargetMode="External"/><Relationship Id="rId5" Type="http://schemas.openxmlformats.org/officeDocument/2006/relationships/hyperlink" Target="http://www.circ.cz/" TargetMode="External"/><Relationship Id="rId6" Type="http://schemas.openxmlformats.org/officeDocument/2006/relationships/hyperlink" Target="http://www.circ.cz/" TargetMode="External"/><Relationship Id="rId7" Type="http://schemas.openxmlformats.org/officeDocument/2006/relationships/hyperlink" Target="http://irc.cordis.lu/" TargetMode="External"/><Relationship Id="rId8" Type="http://schemas.openxmlformats.org/officeDocument/2006/relationships/hyperlink" Target="http://www.casavo.cz/www" TargetMode="External"/><Relationship Id="rId9" Type="http://schemas.openxmlformats.org/officeDocument/2006/relationships/hyperlink" Target="http://www.casavo.cz/" TargetMode="Externa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novační proces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ansfer technologií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5734080"/>
            <a:ext cx="359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573408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® 2005 – přednáš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kce transferu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cká výzv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ispívá k realizaci změn ve výrobní sféře (řešit nezaměstnanost 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oskytování servisu pro producenty nových techn. a potenciální klien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oncipování a rozvoj technologického trhu doma i mezinárodn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ytváření sítě transferů a jejich zahraniční propoj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ferový projek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sahuje přesný popis předmětu transferu technologie, etapy, jeho realizace, povinnosti a práva zúčastněných stran, předpokládaný výsledek, přínos transferu a další údaje pro uzavření smlou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dpoklad pro transf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oskytovat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ipravenost a ochota před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oskytnutí kompletní informace o ekonomické a společenské hodnotě dodávané technologi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oskytnutí porovnání vlastní nové tech. S konkurenčními a stávající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evod KNOW HOW, ale i materiální stránky technologi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Vzdělanostní audit u příjem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ohoda o trvalejší spoluprá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ferový projek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íjem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hopnost pojmout nové řešení ( lidský potenciál, materiální…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chota se zapojit do transferové sít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ovační potenciál – zapojení do Va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hopný management – zavedení výrobků na tr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y transfer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decké výzkumné instituce nabízejí svá řeš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niky si objednají řeš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vod licencí, práv k využití paten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kládání nových firem výzkumnými institucemi (US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obr.2 Systém inovačního podnikání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děje na úspě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Závisí na několika faktore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valita technolo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valita management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valita investo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Image fir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č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Pu = Qt x Qm x Qinv x 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valita technolo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dnocení vysoké – pokud má vysokou inovativní pozici, silnou patentovou a copyrightovou ochranu, zcela nový produkt či služba nebo podstatné zlepšení stávající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valita management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íčový fak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držuje vyrovnanou  bilanci podni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sná strategie zavedení na tr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hodlání a zkuše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valita investo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zují h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iž úspěšné založené pod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ítě potenciálních odběratel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íra osobní angažova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kladní poj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chnologie 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deckotechnické poznatky o produktech, návody na konstrukci, technologické postupy výroby do oblastí praktického užití, případně jako další článek inovačního proces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kladní poj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ransfer vertikální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převod technologií z fáze výzkumné do fáze ověření výroby a následná sériová výrob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ransfer horizontální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kompletizace technologií z různých oborů ( např. v rámci vývoje se kompletuje mechanická část s elektronickou, kooperace mezi vývojovými institucemi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fer technologi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ces, který zprostředkovává pohyb výsledků VaV ve hmotné a nehmotné podobě od jejich vzniku po jeho konečné využit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Širší pojetí – hmotný i nehmotný trasf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žší pojetí – nehmotný transf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konomické hledisk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 úplatu  x bez úpl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cenční smlouva, prodejní smlouva, kooperač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vod – patentových práv, známkových, vzorových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chanizmus transfer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fer informační – poskytnutí informací o nové technologi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fer personální – založen na výměně zkušeností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chnologicko-inovační tr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ouhrn nabídek a poptávek po inovačních technologií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cké burz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ýstavy a  trhy nových technologí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pecializované konference</a:t>
            </a:r>
            <a:r>
              <a:rPr b="0" lang="cs-CZ" sz="1600" spc="-1" strike="noStrike">
                <a:solidFill>
                  <a:srgbClr val="003366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cké soutěž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circ.cz/technologicke-burzy-site-irc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intas.b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ěkteré příkla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Technologické centrum koordinuje projekt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zech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Innovation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Relay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Centre (CIRC)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, který je zaměřen na mezinárodní transfer technologií a na zavádění nových technologií do malých a středních podniků. Projekt je začleněn do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evropské sítě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68 spolupracujících center (IRC), která zahrnují více než 250 organizací ve 30 zemích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Technologické centrum dále koordinuje projekt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Cílený výzkum a vývoj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, jehož cílem je zpřístupňovat výsledky cíleného výzkumu a vývoje financovaného z veřejných prostředků širokému okruhu zájemců z komerční sféry a iniciovat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společné výzkumné projekty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akademického a aplikovaného výzkumu. 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dpoklady pro využit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gující sítě poradenství MSP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znik databází pro evidenci a párování inovací a potenciálních výrobc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výhodnění pro inovační fi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stupný rizikový kapitál ( bussines angel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chrana životního prostřední ( trvale udržitelný rozvoj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7:18:49Z</dcterms:created>
  <dc:creator>doma</dc:creator>
  <dc:description/>
  <dc:language>en-US</dc:language>
  <cp:lastModifiedBy>ciboch</cp:lastModifiedBy>
  <dcterms:modified xsi:type="dcterms:W3CDTF">2005-11-15T10:08:50Z</dcterms:modified>
  <cp:revision>7</cp:revision>
  <dc:subject/>
  <dc:title>Inovační procesy</dc:title>
</cp:coreProperties>
</file>