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A4E-A64E-4554-8D4E-E555C299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BE8-8734-444B-873F-C72B195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191-3FB6-4949-A5E3-408F1D71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57F-1540-4562-8316-90577405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4CE-AAB1-48CD-AD83-2DEE0C52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BDC-16C5-4D16-8A8B-6DC4680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0A8-3C60-4A69-8D27-6369C27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4E6-E6BA-4068-9E0B-AA9F8C2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3A7-AE8E-4322-875A-159D3D6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716-175D-4772-A12E-AB270EC0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A4E-A7BC-431A-8948-3F27458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FD1-DF47-4A97-B984-3D2D3EA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827B-CAC2-4C4F-B7BC-40A67EFF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vtp.cz/search.php3?search=1&amp;output=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® 2005 – přednáška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stitucionální regionální infrastruk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kubátory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ště pomáhající při startu inovačních M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kytují techniku, poradenské služby, marketing, záruky pro úvě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é park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sou orientovány na vývoj malých firem, ale provádí se komplexní výzkum – vývojové řešení – konstrukční zpracování -  ověření výroby – zavedení výroby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vtp.cz/search.php3?search=1&amp;output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ční cen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decký park (centr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ý park (centr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atelské a inovační centrum (mezi nimi členové sítě European Business and Innovation Centre Network - BIC)</a:t>
            </a:r>
            <a:br>
              <a:rPr sz="2800"/>
            </a:br>
            <a:br>
              <a:rPr sz="500"/>
            </a:br>
            <a:r>
              <a:rPr b="0" lang="cs-CZ" sz="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157720"/>
            <a:ext cx="79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ladateli VTP jsou státní a regionální orgány, univerzity,výzkumné a vývojové organizace, průmyslové podniky, hospodářské komory, finanční instituce, soukromé firmy, sdružení a svazy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jekty inovačního podnik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ány státní správy a samos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zy, agentury, sdružení a nad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iště V+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hraniční agentury a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, klienti, spotřebitelská veřej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52680" y="4495680"/>
            <a:ext cx="17528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905120"/>
            <a:ext cx="2590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ěda a ekonomika ve společ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98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ěda a výz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648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895480"/>
            <a:ext cx="19810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971800"/>
            <a:ext cx="19810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zn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76520" y="2286000"/>
            <a:ext cx="25898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5520" y="2209680"/>
            <a:ext cx="28944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651320" y="3196440"/>
            <a:ext cx="3400920" cy="168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0" y="1"/>
                </a:moveTo>
                <a:arcTo wR="10800" hR="10800" stAng="-5352105" swAng="4767144"/>
                <a:lnTo>
                  <a:pt x="10800" y="10800"/>
                </a:lnTo>
                <a:close/>
              </a:path>
              <a:path fill="none" w="21600" h="21600">
                <a:moveTo>
                  <a:pt x="10950" y="1"/>
                </a:moveTo>
                <a:arcTo wR="10800" hR="10800" stAng="-5352105" swAng="4767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00760" y="3499560"/>
            <a:ext cx="38091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32" y="25"/>
                </a:moveTo>
                <a:arcTo wR="10800" hR="10800" stAng="-5166968" swAng="5166968"/>
                <a:lnTo>
                  <a:pt x="10800" y="10800"/>
                </a:lnTo>
                <a:close/>
              </a:path>
              <a:path fill="none" w="21600" h="21600">
                <a:moveTo>
                  <a:pt x="11532" y="25"/>
                </a:moveTo>
                <a:arcTo wR="10800" hR="10800" stAng="-5166968" swAng="51669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105160" y="4876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765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181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ržitelno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zavřením cyklu společnost bohatne a může více investovat do vě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819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211400"/>
            <a:ext cx="84247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23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obr.2 Systém inovačního podnikání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dostatky inovačního systému ČR (1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ka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áv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standardní podnikatelské prostředí, nevynutitelnost práva, nedostatek politické vůle právo vůbec vynuc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ízká podnikatelská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kompetence politiků při přípravě zákonů, pramenící  z nezájmu o problematiku přinášející výsledky až za horizontem volebního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řednost zájmům skupinovým před zájmy společenský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ologie převažuje nad věcnou analýzou zahraničních zkuše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77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ionální regionální infrastrukturu tvoří organizace (instituce), které v regionu prosazují cíle veřejného zá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16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dpoklady úspěš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429264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toupení privátního sektoru v říédících a rozhodovacích orgá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itucionální uznání struktur v rámci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í z podrobné soc.-ek. analýzy potřeb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opnost prosadit se, zavést nové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3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dostatky inovačního systému ČR (2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ční služ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Špatné zákony upravující specifické formy financování inovací (zejména směrem k fondům rizikového kapitá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ochota bank zabývat se záležitostmi, jimž nerozumějí – chybí jim odborná expertíza nezbytná pro rozhodnutí o financování technologický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áměrně nerozvinutý kapitálový trh (v Praze nelze na burze kótovat malou technologickou firmu – 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nky dávají přednost operacím v zahraničí, kde je právní prostředí standardní, pak chybějí peníze pro domácí průmysl („krev“ ekonomiky, ta je spíše chudokrev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vláštní nástroj podpory inovací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kubátory, technologické par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júčinnější přenos výsledků výzkumu do praxe je osobou výzkum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jvhodnější formou: založení firmy typu spin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ypická situace: kvalifikovaný a zkušený technik bez podnikatelských dovedností a bez peně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kubátory: vytvořit chráněné prostředí (snížené nájemné, sdílené služby, mentoring, odborné poradenství, vzdělávání v podnikatelských dovednost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řístup k finančním nástrojům (mikropůjčky, seed kapit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459640" cy="445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k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RA – Centrum pro regionální ro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resní obchodní a hospodářské ko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a poradenská informační centra R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Euro Info Ce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620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rostředkovatelská 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ůzných státech jiná právní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ČR tzv. něme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149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lavní činnosti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infra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e, které vytvářejí podmínky pro podnikatelské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á rozvojová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ální ekonomické zóny a exportní zó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inkub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vební objekty, ve kterých se zřizují inovační pracoviště, zpravidla  inkub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y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čelově uspořádané architektonické komplexy budov – výzkumně vývojových a laboratorních objektů, projekčních a konstrukčních kanceláří, výrobních h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25:16Z</dcterms:created>
  <dc:creator>jiri</dc:creator>
  <dc:description/>
  <dc:language>en-US</dc:language>
  <cp:lastModifiedBy>ciboch</cp:lastModifiedBy>
  <dcterms:modified xsi:type="dcterms:W3CDTF">2005-03-11T17:55:47Z</dcterms:modified>
  <cp:revision>6</cp:revision>
  <dc:subject/>
  <dc:title>Snímek 1</dc:title>
</cp:coreProperties>
</file>