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7CFB-E619-47DE-A62A-5FFEF535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710-CD04-4CE2-87CC-741C08D8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216-732A-4581-BEB3-F8E8A677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519-B97E-41B0-AFCF-25E63F27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21B-435D-4EC1-A0AE-D1B1A0DA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EC1-8F5C-4DA8-B44F-99F15756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FB1-01FB-4164-AFFC-CA5A8E47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27A-F885-49C5-B223-A130B2DD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015-0D77-41CF-A2A4-1D639B5A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373-E7A5-45F1-8C0C-A15080BE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A91-8251-4ADA-B391-3D404C89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6EE-3F6E-4954-A0D9-A03AF9C0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EC33-9412-415E-816E-A7E2E6E8C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ciboch@econ.muni.cz" TargetMode="External"/><Relationship Id="rId3" Type="http://schemas.openxmlformats.org/officeDocument/2006/relationships/hyperlink" Target="mailto:ciboch@econ.muni.cz" TargetMode="External"/><Relationship Id="rId4" Type="http://schemas.openxmlformats.org/officeDocument/2006/relationships/hyperlink" Target="mailto:ciboch@econ.muni.cz" TargetMode="External"/><Relationship Id="rId5" Type="http://schemas.openxmlformats.org/officeDocument/2006/relationships/hyperlink" Target="mailto:ciboch@econ.muni.cz" TargetMode="External"/><Relationship Id="rId6" Type="http://schemas.openxmlformats.org/officeDocument/2006/relationships/hyperlink" Target="mailto:ciboch@econ.muni.cz" TargetMode="External"/><Relationship Id="rId7" Type="http://schemas.openxmlformats.org/officeDocument/2006/relationships/hyperlink" Target="mailto:ciboch@econ.muni.cz" TargetMode="External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2004 – přednáška č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53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Úvod do problemati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KLADNÍ FAKTORY VŠESTRANNÉHO EKONOMICKÉHO ROZVOJ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Půda, přírodní bohatství (kvantitativní a kvalitativní poh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Kapitál (množství financí, kvalita používání kapitá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Lidská práce (nejdůležitější faktor, překážkou je problém kvantity a kvality prá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Podnikavost (schopnost, znalost, pí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ok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měna způsobu výroby a změna výrobního prostředku, změna společnosti - byla dána nějakým novým myšlenkovým pochodem, vynálezem, novou znalostí … zdokonalení nářadí pro polní práce, zapojení síly domácích zvířat do polních prací,  využívání síly vodního toku; vynález parního stroje, zapojení síly páry do průmyslové výroby, vynález elektrického stroje – generátoru a motoru – zapojení síly elektrického proudu do výroby; vynález pásové výro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myslová revolu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mesla se začala měnit v zárodky průmyslové výrob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odujícím výrobním faktorem byla půda a rozhodující část vytvořeného přebytku si přivlastňovali vlastníci půdy (v Anglii landlordi). Ti ovšem nebyli schopni tento přebytek použít produktivně, sloužil jim k neproduktivní spotřebě, demonstrování výs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st produktivity práce v rodícím se průmyslovém sek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lom nastal ve chvíli, kdy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výšení intenzity technologických a výrobkových inov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vace vedla k prudkému nárůstu produktivity prá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ktor průmyslu začal svými výstupy vstupovat do oblasti zemědělství a zvyšoval produktivitu práce v zemědělství i produktivitu využití pů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ší zdokonalování průmyslové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le se rozšiřující oblast potřeb obyvatelstva byla uspokojována průmyslovou produkc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3743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oseph  Alois  Schumpeter</a:t>
            </a:r>
            <a:br>
              <a:rPr sz="44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(1883-195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kladatel teorie inov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7240" y="5012640"/>
            <a:ext cx="61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osef Alois Schumpeter se narodil 8. února 1883 v Třeš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odině německého podnikat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"Theorie der wirtschaftlichen Entwicklung"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91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"Business Cycles"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93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"History of Economic Analysis"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95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9080" y="77256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ublikace 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kladní premisy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cký vývoj je založený na inovacích a vychází zevnitř systé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klický vývoj ekonomi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oufázový model 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mach x de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činy cyklických kolís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terní (institucionáloní změny, revoluce, války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ktory ekonomického růstu (akumulace, demografické změn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ov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LISABONSKÝ  PROCES</a:t>
            </a:r>
            <a:br>
              <a:rPr sz="53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ummit Evropské rady -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y EU se stanou do roku 2010 nejkonkurenceschopnější a nejdynamičtější znalostní ekonomikou, schopnou udržitelného růstu s více a s lepšími pracovními místy a s více posílenou sociální soudržností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ří Cib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ncelář na katedře KRES – č.  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zultační hodiny – Út 9:00 – 11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 -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iboch@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con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un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b, pošta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klady, přednášky…úk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pomínky, náměty, otáz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finice</a:t>
            </a:r>
            <a:br>
              <a:rPr sz="4800"/>
            </a:br>
            <a:r>
              <a:rPr b="0" i="1" lang="en-US" sz="3200" spc="-1" strike="noStrike">
                <a:solidFill>
                  <a:srgbClr val="66ff33"/>
                </a:solidFill>
                <a:latin typeface="Arial"/>
              </a:rPr>
              <a:t>Evropská k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vace je obnova a rozšíření škály výrobků a služeb a s nimi spojených trhů, vytvoření nových metod výroby, dodávek a distribuce zavedení změn řízení, organizace práce, pracovních podmínek a kvalifikace pracovní sí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32000" y="2492280"/>
            <a:ext cx="59767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ce inov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ké x Netechnick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4320" y="450756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robkové a technologick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4320" y="4507920"/>
            <a:ext cx="30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ční a podnikatel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nažerské) inov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771640" y="3645000"/>
            <a:ext cx="4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364500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20" y="621612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lo manual - navrhované směrnice pro sběr a interpreta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dajů o technických inovacích OECD/Eurostat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dělení inov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4400" y="2498760"/>
            <a:ext cx="4911480" cy="2994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81280" y="17524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ýrob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37339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571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042920" y="1197000"/>
          <a:ext cx="7345440" cy="522288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   Počty evropských patentů registrovaných v Evropě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   Počty evropských patentů registrovaných v 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   Počty evropských patentů v oblasti high-tech registrovaných v Evrop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   Počty evropských patentů v oblasti high-tech registrovaných v 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   Veřejné výdaje na výzkum a vývoj (podíl na HD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   Podnikové výdaje na výzkum a vývoj (podíl na HD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   Počty vysokoškolských absolventů v přírodovědných a technických obor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   Počty obyvatel s dokončeným terciárním vzdělání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   Výdaje na informační a telekomunikační technologi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CT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podíl na H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Rizikový kapitál </a:t>
                      </a: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arly stage venture capital)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podíl na H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Přidaná hodnota v high-tech průmyslových odvětvíc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835280" y="33336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azatele pokroku v inovací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vinná literatura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kurenceschopnost, inovace a klastry (Doc.Ing. Karel Skokan, Ph.D.; Repronis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poručená lit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ovace a odnikavost, Petr F. Druck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nagement Press, Praha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ovační centra, Konečný M.,Skokan K., Zamarský V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á univerzita Ostrava,  Ostrava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2637000"/>
            <a:ext cx="842472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ypnout mobilní pří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ní-li něco jasné nebojte se a ptejte 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e jinak prosím o zachování kli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1413000"/>
            <a:ext cx="60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a přednášká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on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počet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ární práce – cca 10 s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ísemný test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ná znalost skript přednáše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nice 75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oručuji učit se průběžně  8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 předmě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í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známit se základy vývoje, tvorby a  dopadů inovačních procesů na hospodář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y ve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vislosti – věda, vý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iv inovací na regionální t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absolvování kurzu byste mě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dět proč je inovační proces důležitý –     podpo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épe rozumět hospodářské strategii EU a ČR Lisabonský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nás čeká a nemin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 Inovační procesy a region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egie inovačních procesů  a hospodářská politika (nástroje, projevy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ovační procesy v podnikání (Knowledge managemen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10880" y="1196280"/>
            <a:ext cx="35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ovační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fi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7280" y="1915200"/>
            <a:ext cx="42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ovační podniká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560" y="3859920"/>
            <a:ext cx="44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ffsetové progra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2720" y="3212280"/>
            <a:ext cx="15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la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1280" y="4580640"/>
            <a:ext cx="20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pin-off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49840" y="5372640"/>
            <a:ext cx="44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nsfer technologi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280" y="2564640"/>
            <a:ext cx="50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ědeckotechnický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3640" y="40464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užívaná terminologie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63640" y="2924280"/>
            <a:ext cx="5554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lečnost a tvorba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360" y="184464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2T21:47:13Z</dcterms:created>
  <dc:creator>jiri</dc:creator>
  <dc:description/>
  <dc:language>en-US</dc:language>
  <cp:lastModifiedBy>ciboch</cp:lastModifiedBy>
  <dcterms:modified xsi:type="dcterms:W3CDTF">2005-02-26T11:46:00Z</dcterms:modified>
  <cp:revision>4</cp:revision>
  <dc:subject/>
  <dc:title>Snímek 1</dc:title>
</cp:coreProperties>
</file>