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CD4-17E2-4E71-B4BC-90190C35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0F8-7451-4CF8-8EA9-DB91A878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D1B-890E-415B-AED0-862B5BB5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E97-353E-4F9F-BD8E-12F81817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B52-8593-4FB4-8934-911BDD89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270-4984-401D-A994-83EE98A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9D4-A290-4C22-8894-86B4C92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FE0-AD22-4F25-9828-442B8DA3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EC9-B57A-4B74-87AD-4DDA5B63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2CE-B234-411E-9410-A16DBA2B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E95-7244-4A7C-93DD-09F4020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48B-F743-4ADC-8A33-B91A88F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3F8-0C69-41DB-B6FB-8F81393A4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dely inovací – v R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24680" y="1484280"/>
            <a:ext cx="43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eočekávaná udál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8680" y="2833560"/>
            <a:ext cx="540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ý úspě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ý neúspě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á vnější udá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71640" y="1557000"/>
            <a:ext cx="33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Rozpo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90000" y="32457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oulad s ekonomickou realit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960" y="378864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por mezi skutečností a předpoklady o 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200" y="4580640"/>
            <a:ext cx="84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por mezi předpokládaným a skutečným chováním zákazníka a jeho hodnot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95640" y="1699920"/>
            <a:ext cx="5689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Změna výrobního postu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30675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ou výrobního postupu rozumí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okonalení existujícího postup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hrazení jeho slabého člán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56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7 zdrojů podle Druk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9240" y="1769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truktura průmyslu a trh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5240"/>
            <a:ext cx="956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átory změ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ychlý růst odvě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lezení nových segmentů tr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ce technologií ( počítače v telekomunikací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ychlá změna oboru a z ní vyplývající potřeba strukturál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ě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565360"/>
            <a:ext cx="82296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82880" y="14461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3976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é, kteří včas dokáží reagovat na demografické změny jako jsou např. vlny zvýšené porodnosti nebo naopak posun věkové struktury směrem k vyšším věkovým skupinám, byli a budou úspěšní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0560" y="314064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sklenice je poloprázdná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7280" y="31406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sklenice je poloplná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126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 Změna postoj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  Nové zna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0720" y="287856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člivá analýza všech faktor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349920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centrace na získání strategické pozice na trh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vělý ná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ce založené na skvělých nápadech jsou asi početnější než všechny ostatní. Přitom jsou nejriskantnějším zdroj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OVAČ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kum a vývoj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aV), který vytvář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pa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základní a aplikovaný výzkum a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transformace vstupů ve výstupy podle návodů vytvořených vývo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á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uvedení produktu na t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č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5280" y="2349360"/>
            <a:ext cx="532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E INO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hnologickými inovacemi rozumíme nové produkty a procesy a významné technologické změny produktů a procesů. Inovaci pokládáme za uskutečněnou, pokud byla uvedena na trh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ovace produk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nebo použita v produkčním procesu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ovace proce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Inovace tedy zahrnuje řadu vědeckých, technologických, organizačních, finančních a komerčních činností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ár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864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le výzkumu a výv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zkum a vývoj (VaV) je pouze jednou z těchto činností a může probíhat v různých fázích inovačního procesu.  Vystupuje nejen  v roli originálního zdroje invenčních nápadů, ale i rámce řešení problémů, k němuž se lze obrátit v libovolné fázi implementac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ECD, Frascati Manual 1992” Proposed Standard Practice for Survey of Research and Experimental Development, September 1992, český překlad Ministerstvo školství, Praha, 1999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ineár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y difů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olog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ě specif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ě-specif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ce a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fikovaná prac.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žby pro podniky (poradenství, průzkum trhu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dodavatelů k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vyvinutého tr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á infra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stup ke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gislativa ( patenty, duševní vlastnictví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lost prostředí ( vytváření podmí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20" y="1673280"/>
            <a:ext cx="907416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79640" y="549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ovační mod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ém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ní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kální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erarch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myslové okresy s pružnou specializ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okr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é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77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pně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řírůstkové (inkrementální)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éně významné nápady, které jsou důležité při zdokonalování produktů a procesů (nová typová řada počítačů, automobilů apod., nalezení nového trh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kální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ýznamné nápady, které ovlivňují nebo způsobují významné změny v celém odvětví (zavedení tranzistoru, proudový letecký motor, přenos dat po optických kabelec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ové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ápady, k jejichž realizaci je zapotřebí různých zdrojů a značného úsilí (komunikační sítě, penzijní systé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ologické a sociální inov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cké inovace – založené na konkrétní technologii, vynálezu, objevu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ální inovace – v kritických historických obdobích důležitější než technologické (pošta, vzdělávací systém, sociální systém, zdravotnictví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69080" y="145152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nitřní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6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droje inova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85264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349360"/>
            <a:ext cx="820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očekávané udál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vace založená na změně pracovního postu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ěna struktury odvětví neb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189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260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droje inova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1484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852640"/>
            <a:ext cx="653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grafické změ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v pohledu na svě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é znal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51:07Z</dcterms:created>
  <dc:creator>jiri</dc:creator>
  <dc:description/>
  <dc:language>en-US</dc:language>
  <cp:lastModifiedBy>ciboch</cp:lastModifiedBy>
  <dcterms:modified xsi:type="dcterms:W3CDTF">2004-10-19T08:25:45Z</dcterms:modified>
  <cp:revision>7</cp:revision>
  <dc:subject/>
  <dc:title>Snímek 1</dc:title>
</cp:coreProperties>
</file>