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680-6F11-477D-B62F-172FB89D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663-6959-4B8E-A9D3-566559D0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C30-7360-4D71-88CC-B0EB138E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BB4-6568-4148-B100-44AA6572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9AE-F759-42D7-B299-B8F54D03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157-9F74-4CCC-8594-8125C4E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BE3-01FE-4638-8CA6-C0558DFC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78D-815B-458F-ADD8-1D2D2D2D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BCD-3951-488C-A0C5-BE14F736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25B-5B49-4093-99E8-7EC2BD74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6B0-AB95-48EE-A282-350E1764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73C-F093-4F7C-9FA3-F92D5D42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4D8-8407-4DBD-BB9A-2A5D140A9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4 – přednáška č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53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orie ekonomického růst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ktory ekonomické úrovně regio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okalizace fir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a vnitroregionálních vaz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ční forma fir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ografická situ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č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42920" y="2781360"/>
            <a:ext cx="5554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ck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nviroment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1989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ůvody js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55960" y="68976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GENNÍ REGIONÁLNÍ POLIT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198160"/>
            <a:ext cx="8308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pojenost s neoklasickou a keynesiánskou teor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redistribuční př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litika orientovaná na vnější rozvojové impulsy představované intervencemi st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litika založená na všeobecné koordinaci vztahů mezi odvětvími a regi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centrálně řízené přerozdělování zdrojů do zaostalých regi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rientace na ovlivnění mobility výrobních faktorů (kapitálu a práce) z vyspělých regionů do regionů zaostal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měřování kapitálu do oblasti s levnou pracovní sil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ákladním prvkem jsou státní zásahy, sub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naha o snížení dlouhodobé nezaměstnanosti v problémových region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 vytváření regionálních příjmů uplatňování procedury směrem shora do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ýskyt v Evropě do poloviny 70.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ce a směry 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nástrojů a prostředků státní regionální hospodářské poli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možnosti programu rozvoje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nástrojů a prostředků státního programu aktivní politiky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možností zahraničních programů finanční pom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7040" y="61668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GENNÍ REGIONÁLNÍ POLIT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914120"/>
            <a:ext cx="856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růstový př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ložena na předpokladu ostrého kontrastu mezi zvyšující se mobilitou statků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bilitou regionálního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aměřena na plném využití a produktivitě lokálních zd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fekt vytváření vhodné produkce lokálními firmami v individuálních oblas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měření na analýzu faktorů regionální lokalizace (práce, znalosti, sociáln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aložena na uvolňování a mobilizaci vnitřních regionálních fa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tní účast hlavně formou pomoci soukromému sektoru na vytvoření vhodného ek.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raz kladen na schopnosti managerů podniků, obcí a měst, na jejich spolupráci a společné formulaci vize regionu, obce a mě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určení a zapojení veřejných a privátních činitelů - projev politiky partnerství (P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 vytváření regionálních příjmů procedura zdola nah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55960" y="105156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ěry orientace endogenní politi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240" y="227556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rientace na lidský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299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rientace na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1400" y="3788280"/>
            <a:ext cx="79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rientace na organizační a institucionální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časný stav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binace te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aha ne o řešení následků, ale spíše o řešení příčin vzniku meziregionálních rozdíl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stro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odpora S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podpora tvorby a šíření inovac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regulační opatřen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decentralizační opatřen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celá řada lokálních či regionálních iniciat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gionalizace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ost sladit s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ální politika zaměřená na vyrovnávání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ěřené obce, kraje, NUTS, Euroregi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360" y="184464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2924280"/>
            <a:ext cx="88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čné shrnutí  regionálních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zvojových teor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a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íl 1 - Podpora rozvoje a strukturálních změn zaostávajících regionů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íl 2 - Podpora hospodářské a sociální konverze regionů, které čelí strukturálním obtíží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íl 3 - Podpora přizpůsobování a modernizace politik a systémů vzdělávání, rekvalifikací a zaměstnanosti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zace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ální fo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roje podpory 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fektivní řízení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P ( privat public 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ální roz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204280"/>
            <a:ext cx="28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vergenč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2160" y="290196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enční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8120" y="2923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ie regionální nerovno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4320" y="220428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ie regionální rovno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57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genní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ie rovnovážného rozvoje, teorie polar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4437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genní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ie vnitřního potenc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2340000"/>
                <a:gridCol w="2808360"/>
                <a:gridCol w="399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ecný přís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važující teorie regionálního vývo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ální poli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klasick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20-19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e reg. rovnováhy (zejm. tzv. neoklasické mod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kladní idea -“dělníci za prací”, hlavní nástroje - nástroje zvyšující mobilitu pracovních si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nesiánsk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50-19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teorie kumulativních příčin, teorie pólů růs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za dělníky”, nástroje podporující příliv investic ze soukromého i veřejného sektoru do problémových regionů (investiční dotace, relokace institucí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arxistický (1970 - 19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teorie prostorových děleb prá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vrhy na opatření neomarxisté neformulovali (v soc. zemích byla reg. politika velmi účinná, ale za cenu ztráty vnější konkurenceschopnos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konzervativní (1975 -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</a:t>
                      </a: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 dependence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ová teorie růs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pora lokální iniciativy”, podpora malých a stř. firem, decentralizace kompetencí, deregulační opatření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institucionální (1980 -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teorie průmyslového okresu, teorie učících se region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lupráce a inovace”, podpora malých a stř. firem, šíření inovací, </a:t>
                      </a: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,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adualistická proměna místních institucí, založená na učen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0" y="5949360"/>
            <a:ext cx="56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zv. Brandtova linie vymezující země jádra a perife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ST -  změn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kvantitativ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kterist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říjmová úroveň regionu, zaměstnanost, kapacity technické infrastru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kvalitativní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kterist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valifikační úroveň, zlepšení dopravní situace, zlepšení kvality životního prostře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ální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4963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bor cílů a opatření, které mají za cíl snižování rozdílů v sociálně ekonomické úrovni region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5589720"/>
            <a:ext cx="60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čátek regionální politiky v moder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etí lze datovat na přelom 20. a 30.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bnárodní – část ú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dnárodní – seskupení stá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nsnárodní – euroregiony části stá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mogenní  x heterogen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čně vymezen na základě krité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58920" y="314100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xistence meziregionálních rozdíl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3080" y="393300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ké kli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000" y="472356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konomická síla státu vyrovnávat meziregionální dispari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8200" y="14119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mínky pro vznik 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2:44:42Z</dcterms:created>
  <dc:creator>jiri</dc:creator>
  <dc:description/>
  <dc:language>en-US</dc:language>
  <cp:lastModifiedBy>ciboch</cp:lastModifiedBy>
  <dcterms:modified xsi:type="dcterms:W3CDTF">2005-02-26T11:51:27Z</dcterms:modified>
  <cp:revision>11</cp:revision>
  <dc:subject/>
  <dc:title>Snímek 1</dc:title>
</cp:coreProperties>
</file>