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94A-71A4-4005-8B14-CBA1F2CD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9F5-4FAA-4A01-9C5B-23ED597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89A-4F21-4694-BD04-A58362AA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280-725F-4AE4-BCB3-D8EDC496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387-CDDA-421C-A50C-A712705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F30-977E-45C6-BE91-16FF26C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243-03AD-4470-95B5-F148C74C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A13-23B2-43EC-BA0A-F8FD1C4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E43-7EC8-457D-BF13-49C6E75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372-704A-4D98-9E09-49D999E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BB1-8E50-48FE-80E1-DCA9DDD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D5D-1EE0-4385-B460-7159908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80EA-6061-4819-8887-780BADEE9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yzkum.cz/RedirectorSekce.aspx?idsekce=954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5 – přednáška č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V  - politika, podpora,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052640"/>
          <a:ext cx="820728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2072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050920" y="40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obyvatelstva s VŠ vzděláním na celkovém počtu obyvatelst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8893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3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0920" y="1196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daje na VaV celkem (% HDP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181080" y="0"/>
          <a:ext cx="9180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918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506920" y="263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íl veřejných zdrojů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ových výdajích na VaV (%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hlášky pat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ělené pat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ované výzkumné zámě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PV, EPO, US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355640" y="54864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dělené patenty EPO (počet/mil. obyv.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cování Va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ové financován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nt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é půj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přímé financ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: - daňové úlevy, pobídky, odpisy, snížení soc. a zdrav. za zaměstnance VaV apod.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S 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VaV má tyto datové obla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projektů výzkumu a vývoje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výzkumných záměrů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Rejstřík informací o výsledcích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Evidence veřejných soutěží ve výzkumu a vývoji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148428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 tvořen 4 základními pilíři, které na sebe vzájemně působ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Řídící slož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dělávací syst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5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43000"/>
          <a:ext cx="885672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856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1928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ové členění projektů VaV v letech 2000–2002 podle jejich poč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žití rizikového kapitálu v oblasti VaV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0"/>
          <a:ext cx="8137800" cy="6718320"/>
        </p:xfrm>
        <a:graphic>
          <a:graphicData uri="http://schemas.openxmlformats.org/drawingml/2006/table">
            <a:tbl>
              <a:tblPr/>
              <a:tblGrid>
                <a:gridCol w="2033640"/>
                <a:gridCol w="2036880"/>
                <a:gridCol w="2033640"/>
                <a:gridCol w="2033640"/>
              </a:tblGrid>
              <a:tr h="77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ě/r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ce rizikového kapitálu do oblasti high-tech</a:t>
                      </a:r>
                      <a:br>
                        <a:rPr sz="1500"/>
                      </a:b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kové investice rizikového kapitálu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á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o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m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zozem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kou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jené královstv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 - prů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ďar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íklady mimořádných výsledků VaV v AV Č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é metody neinvazivní diagnostiky nervových a kardiovaskulárních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v prosinci 2002 přihlášen v USA k paten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ék proti hepatitidě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teriálové modely betonu pro posuzování nadprojektových havárií jaderných elektrá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á právně chráněná odrůda jabloně "Rubinstep" zaváděná do pěstování v E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on č. 130/2002 Sb., o podpoře výzkumu a vývoje z veřejných prostředků a o změně některých souvisejících zákonů (zákon o podpoře výzkumu a vývoje) byl dne 12. dubna 2002 vyhlášen ve Sbírce zákonů s účinností ode dne 1. července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 pro výzkum a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řízena v roce 1992 – zákonem České národní rady č. 300/1992 Sb., o státní podpoře vědecké   činnosti a vývoje technologi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odborným a poradním orgánem vlády České republi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ází se jednou za tři týd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ukazatele výzkumu a výv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kladní ukazatele vyjadřující ekonomickou úroveň dané zem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resp. vliv VaV na tuto úroveň (HDP/obyv.; zahraniční obchod s vyspělými výrobky, technologiemi a službami; zaměstnanost v průmyslu a službách s vyspělými technologi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idské zdroje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daje na VaV a jejich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ruktura užití prostředků na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e třech hlavních sektorech: podnikatelském, veřejném (vládním) a na vysokých škol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21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-171360"/>
          <a:ext cx="853416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-171360"/>
                    <a:ext cx="853416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l vývozu produktů z oborů high-tech na celkovém vývozu (%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476280"/>
          <a:ext cx="8785440" cy="69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78544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zaměstnanců VaV (FTE) (osob/1000 pracovních si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89000"/>
          <a:ext cx="8388360" cy="69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8388360" cy="69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2:35Z</dcterms:created>
  <dc:creator>doma</dc:creator>
  <dc:description/>
  <dc:language>en-US</dc:language>
  <cp:lastModifiedBy>ciboch</cp:lastModifiedBy>
  <dcterms:modified xsi:type="dcterms:W3CDTF">2005-11-01T10:11:31Z</dcterms:modified>
  <cp:revision>14</cp:revision>
  <dc:subject/>
  <dc:title>Snímek 1</dc:title>
</cp:coreProperties>
</file>