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3EC-0614-4991-9369-0AACFA74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90D-CB77-4200-B747-03F71627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4E4-BD80-4306-8751-D39F795D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2DA-B0A8-407B-B2F5-8D1F73C5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6A1-4187-4355-B463-7E61CA3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0A4-1319-402C-BA86-B45CEAB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737-04EB-4862-BB30-93F2F2F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752-4327-4C7B-BA17-18F1BBD9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8A6-4661-4247-B6AC-21DBEE5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BB5-1315-4E3D-98F7-8EE58E2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1CF-AFD5-4E48-98AC-4BD5D10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DC0-3792-459B-82A8-CB25FA4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6DF-D6BB-4CA2-B53F-66DB80430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ciboch@econ.muni.cz" TargetMode="External"/><Relationship Id="rId3" Type="http://schemas.openxmlformats.org/officeDocument/2006/relationships/hyperlink" Target="mailto:ciboch@econ.muni.cz" TargetMode="External"/><Relationship Id="rId4" Type="http://schemas.openxmlformats.org/officeDocument/2006/relationships/hyperlink" Target="mailto:ciboch@econ.muni.cz" TargetMode="External"/><Relationship Id="rId5" Type="http://schemas.openxmlformats.org/officeDocument/2006/relationships/hyperlink" Target="mailto:ciboch@econ.muni.cz" TargetMode="External"/><Relationship Id="rId6" Type="http://schemas.openxmlformats.org/officeDocument/2006/relationships/hyperlink" Target="mailto:ciboch@econ.muni.cz" TargetMode="External"/><Relationship Id="rId7" Type="http://schemas.openxmlformats.org/officeDocument/2006/relationships/hyperlink" Target="mailto:ciboch@econ.muni.cz" TargetMode="Externa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060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ovační proce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7340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® 2004 – přednáška č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64500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Úvod do problemati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LADNÍ FAKTORY VŠESTRANNÉHO EKONOMICKÉHO ROZVOJ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ůda, přírodní bohatství (kvantitativní a kvalitativní poh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apitál (množství financí, kvalita používání kapitá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Lidská práce (nejdůležitější faktor, překážkou je problém kvantity a kvality prá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Podnikavost (schopnost, znalost, pí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k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způsobu výroby a změna výrobního prostředku, změna společnosti - byla dána nějakým novým myšlenkovým pochodem, vynálezem, novou znalostí … zdokonalení nářadí pro polní práce, zapojení síly domácích zvířat do polních prací,  využívání síly vodního toku; vynález parního stroje, zapojení síly páry do průmyslové výroby, vynález elektrického stroje – generátoru a motoru – zapojení síly elektrického proudu do výroby; vynález pásové výro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mesla se začala měnit v zárodky průmyslové výrob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ujícím výrobním faktorem byla půda a rozhodující část vytvořeného přebytku si přivlastňovali vlastníci půdy (v Anglii landlordi). Ti ovšem nebyli schopni tento přebytek použít produktivně, sloužil jim k neproduktivní spotřebě, demonstrování výs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produktivity práce v rodícím se průmyslovém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lom nastal ve chvíli, kdy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ýšení intenzity technologických a výrobkových ino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vace vedla k prudkému nárůstu produktivity prá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ktor průmyslu začal svými výstupy vstupovat do oblasti zemědělství a zvyšoval produktivitu práce v zemědělství i produktivitu využití pů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ší zdokonalování průmyslové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se rozšiřující oblast potřeb obyvatelstva byla uspokojována průmyslovou produkc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3743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oseph  Alois  Schumpeter</a:t>
            </a:r>
            <a:br>
              <a:rPr sz="44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(1883-195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ladatel teorie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7240" y="5012640"/>
            <a:ext cx="61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osef Alois Schumpeter se narodil 8. února 1883 v Třeš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odině německého podnika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Theorie der wirtschaftlichen Entwicklung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1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Business Cycles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3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"History of Economic Analysis"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5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9080" y="7725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ublikace 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premisy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cký vývoj je založený na inovacích a vychází zevnitř systé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klický vývoj ekonom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oufázový model 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mach x de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cyklických kolís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terní (institucionáloní změny, revoluce, válk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ktory ekonomického růstu (akumulace, demografické změ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LISABONSKÝ  PROCES</a:t>
            </a:r>
            <a:br>
              <a:rPr sz="53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ummit Evropské rady -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y EU se stanou do roku 2010 nejkonkurenceschopnější a nejdynamičtější znalostní ekonomikou, schopnou udržitelného růstu s více a s lepšími pracovními místy a s více posílenou sociální soudržností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ří Cib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ncelář na katedře KRES – č.  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ultační hodiny – Út 9:00 –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 -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boch@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co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un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, pošta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klady, přednášky…ú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pomínky, náměty,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Definice</a:t>
            </a:r>
            <a:br>
              <a:rPr sz="4800"/>
            </a:br>
            <a:r>
              <a:rPr b="0" i="1" lang="en-US" sz="3200" spc="-1" strike="noStrike">
                <a:solidFill>
                  <a:srgbClr val="66ff33"/>
                </a:solidFill>
                <a:latin typeface="Arial"/>
              </a:rPr>
              <a:t>Evropská k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vace je obnova a rozšíření škály výrobků a služeb a s nimi spojených trhů, vytvoření nových metod výroby, dodávek a distribuce zavedení změn řízení, organizace práce, pracovních podmínek a kvalifikace pracovní sí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2492280"/>
            <a:ext cx="5976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ce inov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ké x Netechnick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4320" y="450756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kové a technologic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4320" y="450792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ční a podnikatel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nažerské) inov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71640" y="3645000"/>
            <a:ext cx="4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364500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20" y="621612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lo manual - navrhované směrnice pro sběr a interpreta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dajů o technických inovacích OECD/Eurostat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zdělení inov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4400" y="2498760"/>
            <a:ext cx="4911480" cy="299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1752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ýrob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733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1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1197000"/>
          <a:ext cx="7345440" cy="52228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 Počty evropských patentů registrovaných v Evropě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  Počty evropských patentů registrovaných v 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  Počty evropských patentů v oblasti high-tech registrovaných v Evrop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   Počty evropských patentů v oblasti high-tech registrovaných v 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   Veřejné výdaje na výzkum a vývoj (podíl na H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   Podnikové výdaje na výzkum a vývoj (podíl na H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   Počty vysokoškolských absolventů v přírodovědných a technických obor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   Počty obyvatel s dokončeným terciárním vzdělání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   Výdaje na informační a telekomunikační technologi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CT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díl na H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Rizikový kapitál </a:t>
                      </a: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arly stage venture capital)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díl na H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Přidaná hodnota v high-tech průmyslových odvětvíc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835280" y="333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azatele pokroku v inovací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vinná literatur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kurenceschopnost, inovace a klastry (Doc.Ing. Karel Skokan, Ph.D.; Repronis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ce a odnikavost, Petr F. Druck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agement Press, Praha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ovační centra, Konečný M.,Skokan K., Zamarský V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univerzita Ostrava,  Ostrava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37000"/>
            <a:ext cx="842472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ypnout mobilní pří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ní-li něco jasné nebojte se a ptejte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e jinak prosím o zachování kl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413000"/>
            <a:ext cx="60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 přednášká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on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poče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ární práce – cca 10 s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ísemný test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á znalost skript přednáše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nice 75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oručuji učit se průběžně  8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 předmě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í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známit se základy vývoje, tvorby a  dopadů inovačních procesů na hospodá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y ve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vislosti – věda, vý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v inovací na regionální t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absolvování kurzu byste mě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ět proč je inovační proces důležitý –     podp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rozumět hospodářské strategii EU a ČR Lisabonsk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nás čeká a nemin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 Inovační procesy a regio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e inovačních procesů  a hospodářská politika (nástroje, projev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ční procesy v podnikání (Knowledge managemen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10880" y="1196280"/>
            <a:ext cx="35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ovační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i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7280" y="1915200"/>
            <a:ext cx="42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ovační podnik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560" y="3859920"/>
            <a:ext cx="44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fsetové progra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2720" y="3212280"/>
            <a:ext cx="15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la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1280" y="4580640"/>
            <a:ext cx="20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pin-of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49840" y="5372640"/>
            <a:ext cx="44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fer technologi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280" y="2564640"/>
            <a:ext cx="50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ědeckotechnický 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404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užívaná terminologi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63640" y="2924280"/>
            <a:ext cx="55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lečnost a tvorb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1844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21:47:13Z</dcterms:created>
  <dc:creator>jiri</dc:creator>
  <dc:description/>
  <dc:language>en-US</dc:language>
  <cp:lastModifiedBy>ciboch</cp:lastModifiedBy>
  <dcterms:modified xsi:type="dcterms:W3CDTF">2005-02-26T11:46:00Z</dcterms:modified>
  <cp:revision>4</cp:revision>
  <dc:subject/>
  <dc:title>Snímek 1</dc:title>
</cp:coreProperties>
</file>