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23B1-0DD7-4175-AB60-6593A1EA1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A309-CF63-45EC-835A-B1134426C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28EE-87DD-46BA-93A7-F7068D2CE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EBAD-2326-4A47-8300-30A4A9429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9D3B-D513-4A5A-9831-A7CC140FE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4CD9-6DFA-4E5B-A242-62531A490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E746-1D4C-4906-BF2F-27336885C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F8B0-8693-4500-9718-2808E5971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F0F1-88E1-48E3-8FEA-7DAEFCEBB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AB6D-C200-4247-B030-7DBF23BCA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0549-1B22-484A-869F-2ACC9C06A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8CF2-1B6E-4E41-AEE7-384456DC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FEA05-3FEC-4551-938A-7583F22C04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alfaplastik.cz/" TargetMode="External"/><Relationship Id="rId3" Type="http://schemas.openxmlformats.org/officeDocument/2006/relationships/hyperlink" Target="http://www.arsystem/" TargetMode="External"/><Relationship Id="rId4" Type="http://schemas.openxmlformats.org/officeDocument/2006/relationships/hyperlink" Target="http://www.bestquality.cz/" TargetMode="External"/><Relationship Id="rId5" Type="http://schemas.openxmlformats.org/officeDocument/2006/relationships/hyperlink" Target="http://www.vagonka.cz/" TargetMode="External"/><Relationship Id="rId6" Type="http://schemas.openxmlformats.org/officeDocument/2006/relationships/hyperlink" Target="http://www.daas.cz/" TargetMode="External"/><Relationship Id="rId7" Type="http://schemas.openxmlformats.org/officeDocument/2006/relationships/hyperlink" Target="http://www.ecmg.cz/" TargetMode="External"/><Relationship Id="rId8" Type="http://schemas.openxmlformats.org/officeDocument/2006/relationships/hyperlink" Target="http://www.ecmg.cz/" TargetMode="External"/><Relationship Id="rId9" Type="http://schemas.openxmlformats.org/officeDocument/2006/relationships/hyperlink" Target="http://www.ecmg.cz/" TargetMode="External"/><Relationship Id="rId10" Type="http://schemas.openxmlformats.org/officeDocument/2006/relationships/hyperlink" Target="http://www.ecmg.cz/" TargetMode="External"/><Relationship Id="rId11" Type="http://schemas.openxmlformats.org/officeDocument/2006/relationships/hyperlink" Target="http://www.ferrcomp.cz/" TargetMode="External"/><Relationship Id="rId12" Type="http://schemas.openxmlformats.org/officeDocument/2006/relationships/hyperlink" Target="http://www.ftzu.cz/" TargetMode="External"/><Relationship Id="rId13" Type="http://schemas.openxmlformats.org/officeDocument/2006/relationships/hyperlink" Target="http://www.hmpartners.cz/" TargetMode="External"/><Relationship Id="rId14" Type="http://schemas.openxmlformats.org/officeDocument/2006/relationships/hyperlink" Target="http://www.hutniprojekt.cz/" TargetMode="External"/><Relationship Id="rId15" Type="http://schemas.openxmlformats.org/officeDocument/2006/relationships/hyperlink" Target="http://www.hydac.cz/" TargetMode="External"/><Relationship Id="rId16" Type="http://schemas.openxmlformats.org/officeDocument/2006/relationships/hyperlink" Target="http://www.hydac.cz/" TargetMode="External"/><Relationship Id="rId1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valcovna-nh.cz/" TargetMode="External"/><Relationship Id="rId3" Type="http://schemas.openxmlformats.org/officeDocument/2006/relationships/hyperlink" Target="http://www.hz.cz/" TargetMode="External"/><Relationship Id="rId4" Type="http://schemas.openxmlformats.org/officeDocument/2006/relationships/hyperlink" Target="http://www.nmunion.cz/" TargetMode="External"/><Relationship Id="rId5" Type="http://schemas.openxmlformats.org/officeDocument/2006/relationships/hyperlink" Target="http://www.smpas.cz/" TargetMode="External"/><Relationship Id="rId6" Type="http://schemas.openxmlformats.org/officeDocument/2006/relationships/hyperlink" Target="http://www.silvaart.cz/" TargetMode="External"/><Relationship Id="rId7" Type="http://schemas.openxmlformats.org/officeDocument/2006/relationships/hyperlink" Target="http://www.silvaart.cz/" TargetMode="External"/><Relationship Id="rId8" Type="http://schemas.openxmlformats.org/officeDocument/2006/relationships/hyperlink" Target="http://www.strojferr.cz/" TargetMode="External"/><Relationship Id="rId9" Type="http://schemas.openxmlformats.org/officeDocument/2006/relationships/hyperlink" Target="http://www.trz.cz/" TargetMode="External"/><Relationship Id="rId10" Type="http://schemas.openxmlformats.org/officeDocument/2006/relationships/hyperlink" Target="http://www.trz.cz/sv" TargetMode="External"/><Relationship Id="rId11" Type="http://schemas.openxmlformats.org/officeDocument/2006/relationships/hyperlink" Target="http://www.lahvarna.cz/" TargetMode="External"/><Relationship Id="rId12" Type="http://schemas.openxmlformats.org/officeDocument/2006/relationships/hyperlink" Target="http://www.vitkovice.cz/" TargetMode="External"/><Relationship Id="rId13" Type="http://schemas.openxmlformats.org/officeDocument/2006/relationships/hyperlink" Target="http://www.vitkovice.cz/" TargetMode="External"/><Relationship Id="rId14" Type="http://schemas.openxmlformats.org/officeDocument/2006/relationships/hyperlink" Target="http://www.vsb.cz/" TargetMode="External"/><Relationship Id="rId1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2060640"/>
            <a:ext cx="806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novační proces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63640" y="5734080"/>
            <a:ext cx="5329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® 2005 – přednáš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87280" y="3645000"/>
            <a:ext cx="705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Klastr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roč být v klastr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form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munik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olu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zděláván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radenství a lobb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 a mark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duktiv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ov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ternacionaliz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nkurenceschop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íkl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ný klastr zahrnující všechny subjekty na daném teritoriu od chovu skotu, přes jatka, zpracující průmysl, stroje, obalové technologie včetně konzervárenství, výzkumu, hygieny, veterinářství až po obchod a třeba i krmivo pro domácí mazlíč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klastrnabytku.cz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klastr.lesnictvi.cz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působy identifik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kro – národní úroveň ( vazby skupi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dvětví jako celk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ezzo – úroveň odvě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ikro – firemní úrove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oeficient lokaliz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340000" y="1341360"/>
            <a:ext cx="3159000" cy="18050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95280" y="3357720"/>
            <a:ext cx="8137440" cy="29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Qi = koeficient lokalizace pro i-té odvě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= zaměstnanost v i-tém odvvětví regio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= zaměstnanost v itém odvětví ve st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  =  celková zaměstna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ategie vytváření klastr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cké strategie klastr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lantační strategie klastr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bridní strate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le vlá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lepšuje kvalitu základních vstupů pro firmy ( lidské zdroje, fyzická a technická infrastruktura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tváří pravid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poruje začleňování lokálních, regionálních a národních klastrů do strategií a program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poruje ustavení tzv. klastrovýách iniciativ a podílí se na poč. financo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yšuje povědomí místních firem a občanů regionu o problematice rozvoje region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216000"/>
            <a:ext cx="9144000" cy="66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406960" y="500760"/>
            <a:ext cx="38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 CE"/>
              </a:rPr>
              <a:t>Členská základ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1391760"/>
            <a:ext cx="860400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 CE"/>
              </a:rPr>
              <a:t>Členská základna </a:t>
            </a:r>
            <a:r>
              <a:rPr b="1" lang="en-US" sz="1600" spc="-1" strike="noStrike">
                <a:solidFill>
                  <a:srgbClr val="000000"/>
                </a:solidFill>
                <a:latin typeface="Verdana CE"/>
              </a:rPr>
              <a:t>MSSK</a:t>
            </a:r>
            <a:r>
              <a:rPr b="0" lang="en-US" sz="1600" spc="-1" strike="noStrike">
                <a:solidFill>
                  <a:srgbClr val="000000"/>
                </a:solidFill>
                <a:latin typeface="Verdana CE"/>
              </a:rPr>
              <a:t> je ke dni 20.1.2004 tvořena 34 subjekty. Členská základna v sobě zahrnuje velké, střední i malé podniky zabývající se materiální výrobou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 CE"/>
              </a:rPr>
              <a:t>organizacemi zabývajícími se poskytování služeb pro průmysl, fyzické osoby, sdružení a vysokou škol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0" y="2997360"/>
          <a:ext cx="8964360" cy="3522600"/>
        </p:xfrm>
        <a:graphic>
          <a:graphicData uri="http://schemas.openxmlformats.org/drawingml/2006/table">
            <a:tbl>
              <a:tblPr/>
              <a:tblGrid>
                <a:gridCol w="236520"/>
                <a:gridCol w="5502600"/>
                <a:gridCol w="322524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 CE"/>
                        </a:rPr>
                        <a:t>Název organiz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 CE"/>
                        </a:rPr>
                        <a:t>Měs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Verdana CE"/>
                          <a:hlinkClick r:id="rId2"/>
                        </a:rPr>
                        <a:t>Alfa Plastik, a.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 CE"/>
                        </a:rPr>
                        <a:t>Bruntá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dcdc"/>
                    </a:solidFill>
                  </a:tcPr>
                </a:tc>
              </a:tr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Verdana CE"/>
                          <a:hlinkClick r:id="rId3"/>
                        </a:rPr>
                        <a:t>AŘ Systém a.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 CE"/>
                        </a:rPr>
                        <a:t>Ostra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dcdc"/>
                    </a:solidFill>
                  </a:tcPr>
                </a:tc>
              </a:tr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Verdana CE"/>
                          <a:hlinkClick r:id="rId4"/>
                        </a:rPr>
                        <a:t>BEST QUALITY, s.r.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 CE"/>
                        </a:rPr>
                        <a:t>Ostrava - Vítkov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dcdc"/>
                    </a:solidFill>
                  </a:tcPr>
                </a:tc>
              </a:tr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Verdana CE"/>
                          <a:hlinkClick r:id="rId5"/>
                        </a:rPr>
                        <a:t>ČKD VAGONKA, a.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 CE"/>
                        </a:rPr>
                        <a:t>Ostrava - Vítkov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dcdc"/>
                    </a:solidFill>
                  </a:tcPr>
                </a:tc>
              </a:tr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Verdana CE"/>
                          <a:hlinkClick r:id="rId6"/>
                        </a:rPr>
                        <a:t>Dodávky automatizace, spol. s r.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 CE"/>
                        </a:rPr>
                        <a:t>Ostrava - Vítkov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dcdc"/>
                    </a:solidFill>
                  </a:tcPr>
                </a:tc>
              </a:tr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 u="sng">
                          <a:solidFill>
                            <a:srgbClr val="009999"/>
                          </a:solidFill>
                          <a:uFillTx/>
                          <a:latin typeface="Verdana CE"/>
                          <a:hlinkClick r:id="rId7"/>
                        </a:rPr>
                        <a:t>ecmg</a:t>
                      </a:r>
                      <a:r>
                        <a:rPr b="0" lang="cs-CZ" sz="1200" spc="-1" strike="noStrike" u="sng">
                          <a:solidFill>
                            <a:srgbClr val="009999"/>
                          </a:solidFill>
                          <a:uFillTx/>
                          <a:latin typeface="Verdana CE"/>
                          <a:hlinkClick r:id="rId8"/>
                        </a:rPr>
                        <a:t> </a:t>
                      </a:r>
                      <a:r>
                        <a:rPr b="0" lang="cs-CZ" sz="1200" spc="-1" strike="noStrike" u="sng">
                          <a:solidFill>
                            <a:srgbClr val="009999"/>
                          </a:solidFill>
                          <a:uFillTx/>
                          <a:latin typeface="Verdana CE"/>
                          <a:hlinkClick r:id="rId9"/>
                        </a:rPr>
                        <a:t>consulting</a:t>
                      </a:r>
                      <a:r>
                        <a:rPr b="0" lang="cs-CZ" sz="1200" spc="-1" strike="noStrike" u="sng">
                          <a:solidFill>
                            <a:srgbClr val="009999"/>
                          </a:solidFill>
                          <a:uFillTx/>
                          <a:latin typeface="Verdana CE"/>
                          <a:hlinkClick r:id="rId10"/>
                        </a:rPr>
                        <a:t>, s.r.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 CE"/>
                        </a:rPr>
                        <a:t>Český Těší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dcdc"/>
                    </a:solidFill>
                  </a:tcPr>
                </a:tc>
              </a:tr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Verdana CE"/>
                          <a:hlinkClick r:id="rId11"/>
                        </a:rPr>
                        <a:t>FERRCOMP, a.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Verdana CE"/>
                        </a:rPr>
                        <a:t>Frýdlant n. Ost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dcdc"/>
                    </a:solidFill>
                  </a:tcPr>
                </a:tc>
              </a:tr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Verdana CE"/>
                          <a:hlinkClick r:id="rId12"/>
                        </a:rPr>
                        <a:t>FYZIKÁLNĚ TECHNICKÝ ZKUŠEBNÍ ÚSTAV, státní podni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Verdana CE"/>
                        </a:rPr>
                        <a:t>Ostrava - Radvan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dcdc"/>
                    </a:solidFill>
                  </a:tcPr>
                </a:tc>
              </a:tr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Verdana CE"/>
                          <a:hlinkClick r:id="rId13"/>
                        </a:rPr>
                        <a:t>HM PARTNERS s.r.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 CE"/>
                        </a:rPr>
                        <a:t>Ostra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dcdc"/>
                    </a:solidFill>
                  </a:tcPr>
                </a:tc>
              </a:tr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Verdana CE"/>
                          <a:hlinkClick r:id="rId14"/>
                        </a:rPr>
                        <a:t>HUTNÍ PROJEKT OSTRAVA akciová společno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 CE"/>
                        </a:rPr>
                        <a:t>Ostra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dcdc"/>
                    </a:solidFill>
                  </a:tcPr>
                </a:tc>
              </a:tr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 u="sng">
                          <a:solidFill>
                            <a:srgbClr val="009999"/>
                          </a:solidFill>
                          <a:uFillTx/>
                          <a:latin typeface="Verdana CE"/>
                          <a:hlinkClick r:id="rId15"/>
                        </a:rPr>
                        <a:t>Hydac</a:t>
                      </a:r>
                      <a:r>
                        <a:rPr b="0" lang="cs-CZ" sz="1200" spc="-1" strike="noStrike" u="sng">
                          <a:solidFill>
                            <a:srgbClr val="009999"/>
                          </a:solidFill>
                          <a:uFillTx/>
                          <a:latin typeface="Verdana CE"/>
                          <a:hlinkClick r:id="rId16"/>
                        </a:rPr>
                        <a:t> spol. s r.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Verdana CE"/>
                        </a:rPr>
                        <a:t>Planá n.Luž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dc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250920" y="189000"/>
          <a:ext cx="8713440" cy="6335280"/>
        </p:xfrm>
        <a:graphic>
          <a:graphicData uri="http://schemas.openxmlformats.org/drawingml/2006/table">
            <a:tbl>
              <a:tblPr/>
              <a:tblGrid>
                <a:gridCol w="5492880"/>
                <a:gridCol w="3220560"/>
              </a:tblGrid>
              <a:tr h="33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 CE"/>
                        </a:rPr>
                        <a:t>INGELECTRIC A.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Verdana CE"/>
                        </a:rPr>
                        <a:t>Ostrava - Porub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33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 CE"/>
                        </a:rPr>
                        <a:t>Jan Počta - CS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 CE"/>
                        </a:rPr>
                        <a:t>Ostra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33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 CE"/>
                        </a:rPr>
                        <a:t>KOMAS spol. s r.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Verdana CE"/>
                        </a:rPr>
                        <a:t>Opava - komáro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33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Verdana CE"/>
                        </a:rPr>
                        <a:t>Květoslav Baši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 CE"/>
                        </a:rPr>
                        <a:t>Krno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33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 CE"/>
                        </a:rPr>
                        <a:t>LICHNA TRADE CZ, s.r.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 CE"/>
                        </a:rPr>
                        <a:t>Frýdek - Míste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33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Verdana CE"/>
                        </a:rPr>
                        <a:t>Lichtgitter CZ spol. s r.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 CE"/>
                        </a:rPr>
                        <a:t>Horní Such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33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 CE"/>
                        </a:rPr>
                        <a:t>MEDIUM SOFT a.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 CE"/>
                        </a:rPr>
                        <a:t>Ostra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33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Verdana CE"/>
                          <a:hlinkClick r:id="rId2"/>
                        </a:rPr>
                        <a:t>NOVÁ HUŤ - Válcovna za studena, spol. s r.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 CE"/>
                        </a:rPr>
                        <a:t>Ostrava - Vítkov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33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Verdana CE"/>
                          <a:hlinkClick r:id="rId3"/>
                        </a:rPr>
                        <a:t>Odvětvový svaz hutnictví želez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 CE"/>
                        </a:rPr>
                        <a:t>Prah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33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Verdana CE"/>
                          <a:hlinkClick r:id="rId4"/>
                        </a:rPr>
                        <a:t>Sdružení pro rozvoj Moravskoslezského kra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Verdana CE"/>
                        </a:rPr>
                        <a:t>Ostrava - Mar. Ho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33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Verdana CE"/>
                          <a:hlinkClick r:id="rId5"/>
                        </a:rPr>
                        <a:t>Severomoravská plynárenská, a.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 CE"/>
                        </a:rPr>
                        <a:t>Ostra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33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 u="sng">
                          <a:solidFill>
                            <a:srgbClr val="009999"/>
                          </a:solidFill>
                          <a:uFillTx/>
                          <a:latin typeface="Verdana CE"/>
                          <a:hlinkClick r:id="rId6"/>
                        </a:rPr>
                        <a:t>Silva</a:t>
                      </a:r>
                      <a:r>
                        <a:rPr b="0" lang="cs-CZ" sz="1200" spc="-1" strike="noStrike" u="sng">
                          <a:solidFill>
                            <a:srgbClr val="009999"/>
                          </a:solidFill>
                          <a:uFillTx/>
                          <a:latin typeface="Verdana CE"/>
                          <a:hlinkClick r:id="rId7"/>
                        </a:rPr>
                        <a:t> ART, spol. s r.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 CE"/>
                        </a:rPr>
                        <a:t>Český Těší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33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Verdana CE"/>
                          <a:hlinkClick r:id="rId8"/>
                        </a:rPr>
                        <a:t>STROJFERR, s.r.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Verdana CE"/>
                        </a:rPr>
                        <a:t>Frýdlant n. Ost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33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Verdana CE"/>
                          <a:hlinkClick r:id="rId9"/>
                        </a:rPr>
                        <a:t>TŘINECKÉ ŽELEZÁRNY, a.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 CE"/>
                        </a:rPr>
                        <a:t>Třine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33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Verdana CE"/>
                          <a:hlinkClick r:id="rId10"/>
                        </a:rPr>
                        <a:t>TŘINECKÉ ŽELEZÁRNY - strojírenská výroba, a.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 CE"/>
                        </a:rPr>
                        <a:t>Třine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33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Verdana CE"/>
                          <a:hlinkClick r:id="rId11"/>
                        </a:rPr>
                        <a:t>VÍTKOVICE Lahvárna, a.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 CE"/>
                        </a:rPr>
                        <a:t>Ostrava - Vítkov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33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Verdana CE"/>
                          <a:hlinkClick r:id="rId12"/>
                        </a:rPr>
                        <a:t>VÍTKOVICE STROJÍRENSTVÍ, a.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 CE"/>
                        </a:rPr>
                        <a:t>Ostrava - Vítkov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33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Verdana CE"/>
                          <a:hlinkClick r:id="rId13"/>
                        </a:rPr>
                        <a:t>VÍTKOVICE - Údržba, spol. s r.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 CE"/>
                        </a:rPr>
                        <a:t>Ostrava - Vítkov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33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Verdana CE"/>
                          <a:hlinkClick r:id="rId14"/>
                        </a:rPr>
                        <a:t>Vysoká škola báňská - Technická univerzita Ostra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cdc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Verdana CE"/>
                        </a:rPr>
                        <a:t>Ostrava - Porub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cdc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0" y="765000"/>
          <a:ext cx="8929800" cy="6177240"/>
        </p:xfrm>
        <a:graphic>
          <a:graphicData uri="http://schemas.openxmlformats.org/drawingml/2006/table">
            <a:tbl>
              <a:tblPr/>
              <a:tblGrid>
                <a:gridCol w="1616040"/>
                <a:gridCol w="7313760"/>
              </a:tblGrid>
              <a:tr h="305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72b51"/>
                          </a:solidFill>
                          <a:latin typeface="Arial CE"/>
                        </a:rPr>
                        <a:t>Forma podpo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ce2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nevratná dota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72b51"/>
                          </a:solidFill>
                          <a:latin typeface="Arial CE"/>
                        </a:rPr>
                        <a:t>Výše podpo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ce2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projekt vyhledávání vhodných firem pro klastry</a:t>
                      </a: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maximálně 75 % uznatelných nákladů</a:t>
                      </a: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0,2 mil Kč – 1 mil K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 CE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projekt založení a rozvoje klastru</a:t>
                      </a: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maximálně 75 % (1. rok), 50 % (2. rok), 25 % (3. rok) uznatelných nákladů</a:t>
                      </a: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celkem maximálně 50 % uznatelných nákladů</a:t>
                      </a: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3 mil Kč – 45 mil K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72b51"/>
                          </a:solidFill>
                          <a:latin typeface="Arial CE"/>
                        </a:rPr>
                        <a:t>Příjemce podpo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ce2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kraj nebo jím určená organizace, instituce terciárního vzdělávání, výzkumný ústav (vyhledávání vhodných firem pro klastry)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 CE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právnická osoba podle § 18 zákona č. 40/1964 Sb., občanského zákoníku,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zřízená za účelem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podpory inovací a zvýšení konkurenceschopnosti v oboru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 (zakládání a rozvoj klastrů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9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72b51"/>
                          </a:solidFill>
                          <a:latin typeface="Arial CE"/>
                        </a:rPr>
                        <a:t>Uznatelné náklad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ce2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vyhledávání vhodných firem pro klastry</a:t>
                      </a: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 CE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náklady na vyhledávání vhodných firem pro klast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 CE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zakládání a rozvoj klastrů</a:t>
                      </a: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 CE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pronájem a vybavení kanceláří</a:t>
                      </a: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 CE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pořízení hmotného a nehmotného majetku</a:t>
                      </a: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 CE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poradenské služby</a:t>
                      </a: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 CE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průzkum trhů a konkurence</a:t>
                      </a: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 CE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propagace klastru a jeho aktivit</a:t>
                      </a: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 CE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mzdové a cestovní náklady</a:t>
                      </a: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 CE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benchmark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72b51"/>
                          </a:solidFill>
                          <a:latin typeface="Arial CE"/>
                        </a:rPr>
                        <a:t>Specifika a omeze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ce2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vyjádření zájmu o zpracování studie minimálně 10 firem, univerzity nebo krajského úřadu</a:t>
                      </a: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 CE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(vyhledávání vhodných firem pro klastry)</a:t>
                      </a: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 CE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klastr musí obsahovat minimálně 15 samostatných organizací</a:t>
                      </a: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 CE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minimálně 60 % členů tvoří MSP a instituce terciárního vzdělávání nebo výzkumné organizace (zakládání a rozvoj klastrů)</a:t>
                      </a: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 CE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předpoklad udržitelnosti klastr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72b51"/>
                          </a:solidFill>
                          <a:latin typeface="Arial CE"/>
                        </a:rPr>
                        <a:t>Podporované činnos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ce2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průmyslová výroba a služby dle OKEČ vymezených v příloze programu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 CE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zaměření na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inova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 a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zvýšení export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 Klastry - dot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t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„ 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e geograficky blízké seskupení vzájemně provázaných firem, specializovaných dodavatelů, poskytovatelů služeb a souvisejících institucí v konkrétním oboru i firem v příbuzných oborech, které spolu soutěží, ale také spolupracují, mají společné znaky a také se doplňují.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or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ichael E. Porter v knize Konkurenční výhoda národů (199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jem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růmyslový klastr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anglicky cluster = seskupení, shlu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ho teorie dává klastrům prominentní roli v ekonomickém rozvoji spojeném s konkrétním geografickým mís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sou založeny  na systémových vztazí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sou geograficky vázá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í „životní cyklus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astry nejsou definovány členství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astry produkují novou kolektivní infrastruktu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69228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ákladní charakteristiky klastr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1989000"/>
            <a:ext cx="910584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ypy vazeb v klastr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tikální vazba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dběratelsko-dodavatelské vzta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rizontální vazb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operace odvět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ologie klastr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tikální výrobní řetěz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skupení propojených odvě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onální klast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í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ovační prostřed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lší dělení 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vozená z životního cyklu – embryonální-zralost (zaměřeno na dynamiku zaměstnanost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větví – automobilový, strojírenský, textilní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tenciál klastrů – vertikální a horizontální dimenz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hloubka vztahů (hluboký, mělký) x šířk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Hustota firem – hustý  x  řidk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ůvody vzniku klastr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vyšují produktivi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vyšují inovační kapaci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mulují rychlejší tvorbu nových fir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5T21:32:51Z</dcterms:created>
  <dc:creator>jiri</dc:creator>
  <dc:description/>
  <dc:language>en-US</dc:language>
  <cp:lastModifiedBy>snoopy</cp:lastModifiedBy>
  <dcterms:modified xsi:type="dcterms:W3CDTF">2005-11-22T11:23:43Z</dcterms:modified>
  <cp:revision>11</cp:revision>
  <dc:subject/>
  <dc:title>Klastr</dc:title>
</cp:coreProperties>
</file>