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946-9A7E-48B1-9C08-A8F4EAE7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145-27FD-4291-A277-4CD04236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3DF-BC13-4DC6-A852-1909126B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3AC-7CB9-496A-8997-8CB0B756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93C-A3C1-4B1D-BE32-197FAF1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F36-EDB5-404C-B0A2-116FDDD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1FD-703B-475D-92A6-008DDEF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C32-25BC-415E-8C14-A6A500C2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298-5F36-47BD-B87E-A2F00E7F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1BF-FC36-46F4-B76E-BF1EA59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C7A-6D33-4306-B305-6A42304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88F-EA33-4A77-93C1-ABA5677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03E8-C7F1-4110-AAA5-9148B1C73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orie ekonomického růs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ktory ekonomické úrovně regio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okalizace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a vnitroregionálních vaz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ční forma fir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ografická situ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42920" y="2781360"/>
            <a:ext cx="5554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nviro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198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ůvody js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55960" y="68976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198160"/>
            <a:ext cx="8308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pojenost s neoklasickou a keynesiánskou teor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edistribuční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orientovaná na vnější rozvojové impulsy představované intervencemi st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litika založená na všeobecné koordinaci vztahů mezi odvětvími a regi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centrálně řízené přerozdělování zdrojů do zaostalých regi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rientace na ovlivnění mobility výrobních faktorů (kapitálu a práce) z vyspělých regionů do regionů zaostal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měřování kapitálu do oblasti s levnou pracovní sil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ákladním prvkem jsou státní zásahy, sub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naha o snížení dlouhodobé nezaměstnanosti v problémových regio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uplatňování procedury směrem shora d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výskyt v Evropě do poloviny 70.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ce a směry 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 regionální hospodářské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i programu rozvoje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nástrojů a prostředků státního programu aktivní politiky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ání možností zahraničních programů finanční po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7040" y="61668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REGIONÁLNÍ POLI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9141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růstov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ložena na předpokladu ostrého kontrastu mezi zvyšující se mobilitou statků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bilitou regionáln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měřena na plném využití a produktivitě lokál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fekt vytváření vhodné produkce lokálními firmami v individuálních oblas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ření na analýzu faktorů regionální lokalizace (práce, znalosti, sociál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aložena na uvolňování a mobilizaci vnitřních regionálních fak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tní účast hlavně formou pomoci soukromému sektoru na vytvoření vhodného ek.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raz kladen na schopnosti managerů podniků, obcí a měst, na jejich spolupráci a společné formulaci vize regionu, obce a mě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rčení a zapojení veřejných a privátních činitelů - projev politiky partnerství (P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 vytváření regionálních příjmů procedura zdola nah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5960" y="105156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ěry orientace endogenní polit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240" y="227556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rientace na lidský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299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rientace na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1400" y="3788280"/>
            <a:ext cx="79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ientace na organizační a institucion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časný stav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te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aha ne o řešení následků, ale spíše o řešení příčin vzniku meziregionálních rozdíl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stro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odpora S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podpora tvorby a šíření inovac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regul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decentralizační opatření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celá řada lokálních či regionálních iniciat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gionalizace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st sladit s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ální politika zaměřená na vyrovnávání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ěřené obce, kraje, NUTS, Euroregi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184464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292428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čné shrnutí  regionálních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zvojových teor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a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1 - Podpora rozvoje a strukturálních změn zaostávajících regionů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2 - Podpora hospodářské a sociální konverze regionů, které čelí strukturálním obtíží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 3 - Podpora přizpůsobování a modernizace politik a systémů vzdělávání, rekvalifikací a zaměstnanosti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ace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ální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e podpory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fektivní ří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P ( privat public 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ro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204280"/>
            <a:ext cx="28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rg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2160" y="290196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ční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8120" y="2923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ne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4320" y="220428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ie regionální rovno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7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rovnovážného rozvoje, teorie polar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443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genní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e vnitřního potenc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drawingml/2006/table">
            <a:tbl>
              <a:tblPr/>
              <a:tblGrid>
                <a:gridCol w="2340000"/>
                <a:gridCol w="2808360"/>
                <a:gridCol w="399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ý přís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važující teorie regionálního vývo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ální poli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lasic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20-1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e reg. rovnováhy (zejm. tzv. neoklasické mod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kladní idea -“dělníci za prací”, hlavní nástroje - nástroje zvyšující mobilitu pracovních s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nesiánsk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50-19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kumulativních příčin, teorie pólů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za dělníky”, nástroje podporující příliv investic ze soukromého i veřejného sektoru do problémových regionů (investiční dotace, relokace institucí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marxistický (1970 - 19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ostorových děleb prá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vrhy na opatření neomarxisté neformulovali (v soc. zemích byla reg. politika velmi účinná, ale za cenu ztráty vnější konkurenceschopnos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konzervativní (1975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dependence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vá teorie růst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ora lokální iniciativy”, podpora malých a stř. firem, decentralizace kompetencí, deregulační opatření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institucionální (1980 -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orie reg. nerovnováhy (např. teorie průmyslového okresu, teorie učících se regionů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práce a inovace”, podpora malých a stř. firem, šíření inovací,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,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adualistická proměna místních institucí, založená na učen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0" y="594936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zv. Brandtova linie vymezující země jádra a perife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ST -  změn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vantitativ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říjmová úroveň regionu, zaměstnanost, kapacity technické infrastru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kvalitativní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kterist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valifikační úroveň, zlepšení dopravní situace, zlepšení kvality životního prostře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ální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4963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bor cílů a opatření, které mají za cíl snižování rozdílů v sociálně ekonomické úrovni region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58972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čátek regionální politiky v moder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etí lze datovat na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bnárodní – část úze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dnárodní – seskupení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nsnárodní – euroregiony části st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mogenní  x heterogen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čně vymezen na základě krité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58920" y="314100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xistence meziregionálních rozdíl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3080" y="393300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ké kl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000" y="4723560"/>
            <a:ext cx="65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konomická síla státu vyrovnávat meziregionální dispari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8200" y="14119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mínky pro vznik 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2:44:42Z</dcterms:created>
  <dc:creator>jiri</dc:creator>
  <dc:description/>
  <dc:language>en-US</dc:language>
  <cp:lastModifiedBy>ciboch</cp:lastModifiedBy>
  <dcterms:modified xsi:type="dcterms:W3CDTF">2005-02-26T11:51:27Z</dcterms:modified>
  <cp:revision>11</cp:revision>
  <dc:subject/>
  <dc:title>Snímek 1</dc:title>
</cp:coreProperties>
</file>