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20E-CF62-4772-8743-7C1E8568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A23-3EB0-407E-8A32-8151814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DBE-CFD2-4AA4-BDC5-490789DD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EC8-F9FB-4958-90A5-EBE833D0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FB9-01C7-4757-A100-4C4F3C7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43F-67B9-418A-8F0A-4EFCFD7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56E-668A-449F-8755-B58C793B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0BF-04F7-4B59-B4A8-3BE03FB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A6A-8E3F-4660-9B78-96EDD623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576-374B-481C-B521-9C865D9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EE8-194A-4903-B817-DD506CB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58F-C971-4DB7-97BE-882BF2F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85C-C0E4-4C97-A103-CEE730C71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dely inovací – v R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24680" y="1484280"/>
            <a:ext cx="43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eočekávaná udál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8680" y="2833560"/>
            <a:ext cx="540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ý úspě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ý neúspě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očekávaná vnější udá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71640" y="1557000"/>
            <a:ext cx="33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Rozpo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90000" y="32457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oulad s ekonomickou realit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960" y="378864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por mezi skutečností a předpoklady o 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200" y="4580640"/>
            <a:ext cx="84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por mezi předpokládaným a skutečným chováním zákazníka a jeho hodnot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95640" y="1699920"/>
            <a:ext cx="5689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Změna výrobního postu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30675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ou výrobního postupu rozumí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okonalení existujícího postup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hrazení jeho slabého člán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56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7 zdrojů podle Druk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9240" y="17694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truktura průmyslu a trh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5240"/>
            <a:ext cx="956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átory změ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ychlý růst odvě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lezení nových segmentů tr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ce technologií ( počítače v telekomunikací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ychlá změna oboru a z ní vyplývající potřeba strukturál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ě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565360"/>
            <a:ext cx="82296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82880" y="14461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3976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é, kteří včas dokáží reagovat na demografické změny jako jsou např. vlny zvýšené porodnosti nebo naopak posun věkové struktury směrem k vyšším věkovým skupinám, byli a budou úspěšní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10560" y="314064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sklenice je poloprázdná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7280" y="314064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sklenice je poloplná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126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 Změna postoj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  Nové zna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0720" y="287856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člivá analýza všech faktor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349920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centrace na získání strategické pozice na trh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vělý ná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ce založené na skvělých nápadech jsou asi početnější než všechny ostatní. Přitom jsou nejriskantnějším zdroj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OVAČ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kum a vývoj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aV), který vytvář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pa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základní a aplikovaný výzkum a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transformace vstupů ve výstupy podle návodů vytvořených vývo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á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uvedení produktu na t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č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5280" y="2349360"/>
            <a:ext cx="532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E INO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hnologickými inovacemi rozumíme nové produkty a procesy a významné technologické změny produktů a procesů. Inovaci pokládáme za uskutečněnou, pokud byla uvedena na trh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ovace produk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nebo použita v produkčním procesu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ovace proce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 Inovace tedy zahrnuje řadu vědeckých, technologických, organizačních, finančních a komerčních činností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ár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864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le výzkumu a výv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zkum a vývoj (VaV) je pouze jednou z těchto činností a může probíhat v různých fázích inovačního procesu.  Vystupuje nejen  v roli originálního zdroje invenčních nápadů, ale i rámce řešení problémů, k němuž se lze obrátit v libovolné fázi implementac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ECD, Frascati Manual 1992” Proposed Standard Practice for Survey of Research and Experimental Development, September 1992, český překlad Ministerstvo školství, Praha, 1999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ineárn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y difů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olog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yslově specif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ě-specif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vace a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fikovaná prac.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užby pro podniky (poradenství, průzkum trhu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dodavatelů k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vyvinutého tr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á infra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stup ke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gislativa ( patenty, duševní vlastnictví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ralost prostředí ( vytváření podmí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20" y="1673280"/>
            <a:ext cx="907416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79640" y="549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ovační mod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ém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átní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kální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erarch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myslové okresy s pružnou specializ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okr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é inovač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77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pně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řírůstkové (inkrementální)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éně významné nápady, které jsou důležité při zdokonalování produktů a procesů (nová typová řada počítačů, automobilů apod., nalezení nového trh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kální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ýznamné nápady, které ovlivňují nebo způsobují významné změny v celém odvětví (zavedení tranzistoru, proudový letecký motor, přenos dat po optických kabelec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ové inov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ápady, k jejichž realizaci je zapotřebí různých zdrojů a značného úsilí (komunikační sítě, penzijní systé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ologické a sociální inov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cké inovace – založené na konkrétní technologii, vynálezu, objevu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ální inovace – v kritických historických obdobích důležitější než technologické (pošta, vzdělávací systém, sociální systém, zdravotnictví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69080" y="1451520"/>
            <a:ext cx="16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nitřní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6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droje inova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85264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349360"/>
            <a:ext cx="820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očekávané udál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ovace založená na změně pracovního postu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měna struktury odvětví nebo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189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260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droje inovac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14842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852640"/>
            <a:ext cx="653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grafické změ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v pohledu na svě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é znal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51:07Z</dcterms:created>
  <dc:creator>jiri</dc:creator>
  <dc:description/>
  <dc:language>en-US</dc:language>
  <cp:lastModifiedBy>ciboch</cp:lastModifiedBy>
  <dcterms:modified xsi:type="dcterms:W3CDTF">2004-10-19T08:25:45Z</dcterms:modified>
  <cp:revision>7</cp:revision>
  <dc:subject/>
  <dc:title>Snímek 1</dc:title>
</cp:coreProperties>
</file>