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F5C-0DEA-4B0E-9217-175EF7F8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9D1-AD3B-42A9-ACC2-4B2B627F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67F-42F0-4762-A417-1915DD77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EF9-D18F-429A-9482-F97CC21C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18C-B8AB-4E25-AB02-F82082B9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0F1-C1CA-41A6-8909-EFC17C37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598D-5B34-480F-83A6-C1B6A160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B7E-629E-427F-B1FB-56FDDDE0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137-7F9B-4566-B14A-3709E677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3AD-B94B-45A6-A84A-A988B325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F1A-45D9-4C41-8599-96CE7214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B90-1EF4-4061-BD9D-BC35FC09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3802-FFDB-4499-A810-025632B89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vtp.cz/search.php3?search=1&amp;output=1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® 2005 – přednáška č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stitucionální regionální infrastruk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fi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kubátory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oviště pomáhající při startu inovačních MS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kytují techniku, poradenské služby, marketing, záruky pro úvě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fika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ědecké parky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sou orientovány na vývoj malých firem, ale provádí se komplexní výzkum – vývojové řešení – konstrukční zpracování -  ověření výroby – zavedení výroby ve fir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vtp.cz/search.php3?search=1&amp;output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vační cen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decký park (centru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ologický park (centr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ikatelské a inovační centrum (mezi nimi členové sítě European Business and Innovation Centre Network - BIC)</a:t>
            </a:r>
            <a:br>
              <a:rPr sz="2800"/>
            </a:br>
            <a:br>
              <a:rPr sz="500"/>
            </a:br>
            <a:r>
              <a:rPr b="0" lang="cs-CZ" sz="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157720"/>
            <a:ext cx="79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ladateli VTP jsou státní a regionální orgány, univerzity,výzkumné a vývojové organizace, průmyslové podniky, hospodářské komory, finanční instituce, soukromé firmy, sdružení a svazy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bjekty inovačního podnik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ány státní správy a samos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ní ko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zy, agentury, sdružení a nad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iště V+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hraniční agentury a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kazníci, klienti, spotřebitelská veřej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352680" y="4495680"/>
            <a:ext cx="175284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1905120"/>
            <a:ext cx="2590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ěda a ekonomika ve společn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9810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ěda a výzk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4648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o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895480"/>
            <a:ext cx="19810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í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971800"/>
            <a:ext cx="19810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3276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zna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676520" y="2286000"/>
            <a:ext cx="25898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5520" y="2209680"/>
            <a:ext cx="289440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1651320" y="3196440"/>
            <a:ext cx="3400920" cy="168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0" y="1"/>
                </a:moveTo>
                <a:arcTo wR="10800" hR="10800" stAng="-5352105" swAng="4767144"/>
                <a:lnTo>
                  <a:pt x="10800" y="10800"/>
                </a:lnTo>
                <a:close/>
              </a:path>
              <a:path fill="none" w="21600" h="21600">
                <a:moveTo>
                  <a:pt x="10950" y="1"/>
                </a:moveTo>
                <a:arcTo wR="10800" hR="10800" stAng="-5352105" swAng="4767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200760" y="3499560"/>
            <a:ext cx="3809160" cy="137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32" y="25"/>
                </a:moveTo>
                <a:arcTo wR="10800" hR="10800" stAng="-5166968" swAng="5166968"/>
                <a:lnTo>
                  <a:pt x="10800" y="10800"/>
                </a:lnTo>
                <a:close/>
              </a:path>
              <a:path fill="none" w="21600" h="21600">
                <a:moveTo>
                  <a:pt x="11532" y="25"/>
                </a:moveTo>
                <a:arcTo wR="10800" hR="10800" stAng="-5166968" swAng="516696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22860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105160" y="4876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676520" y="39621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18148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ržitelno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zavřením cyklu společnost bohatne a může více investovat do vě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2819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1211400"/>
            <a:ext cx="842472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23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obr.2 Systém inovačního podnikání"/>
          <p:cNvPicPr/>
          <p:nvPr/>
        </p:nvPicPr>
        <p:blipFill>
          <a:blip r:embed="rId1"/>
          <a:stretch/>
        </p:blipFill>
        <p:spPr>
          <a:xfrm>
            <a:off x="684360" y="620640"/>
            <a:ext cx="7416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dostatky inovačního systému ČR (1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ka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áv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standardní podnikatelské prostředí, nevynutitelnost práva, nedostatek politické vůle právo vůbec vynuc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ízká podnikatelská morá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kompetence politiků při přípravě zákonů, pramenící  z nezájmu o problematiku přinášející výsledky až za horizontem volebního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řednost zájmům skupinovým před zájmy společenský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deologie převažuje nad věcnou analýzou zahraničních zkuše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1773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cionální regionální infrastrukturu tvoří organizace (instituce), které v regionu prosazují cíle veřejného záj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716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edpoklady úspěš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4292640"/>
            <a:ext cx="784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stoupení privátního sektoru v říédících a rozhodovacích orgán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titucionální uznání struktur v rámci reg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vození z podrobné soc.-ek. analýzy potřeb reg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chopnost prosadit se, zavést nové služ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333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itu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dostatky inovačního systému ČR (2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ční služ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Špatné zákony upravující specifické formy financování inovací (zejména směrem k fondům rizikového kapitá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ochota bank zabývat se záležitostmi, jimž nerozumějí – chybí jim odborná expertíza nezbytná pro rozhodnutí o financování technologický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Záměrně nerozvinutý kapitálový trh (v Praze nelze na burze kótovat malou technologickou firmu – 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nky dávají přednost operacím v zahraničí, kde je právní prostředí standardní, pak chybějí peníze pro domácí průmysl („krev“ ekonomiky, ta je spíše chudokrevn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vláštní nástroj podpory inovací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kubátory, technologické par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ejúčinnější přenos výsledků výzkumu do praxe je osobou výzkumní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ejvhodnější formou: založení firmy typu spin-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ypická situace: kvalifikovaný a zkušený technik bez podnikatelských dovedností a bez peně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Inkubátory: vytvořit chráněné prostředí (snížené nájemné, sdílené služby, mentoring, odborné poradenství, vzdělávání v podnikatelských dovednoste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Přístup k finančním nástrojům (mikropůjčky, seed kapitá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459640" cy="445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84360" y="33336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k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RA – Centrum pro regionální ro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kresní obchodní a hospodářské ko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gionální a poradenská informační centra R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gionální Euro Info Cen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620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rostředkovatelská infrastruk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různých státech jiná právní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ČR tzv. německý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41497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lavní činnosti 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ská infrastruk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ce, které vytvářejí podmínky pro podnikatelské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myslová rozvojová úze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ální ekonomické zóny a exportní zó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ské inkubač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fi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vební objekty, ve kterých se zřizují inovační pracoviště, zpravidla  inkub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ifi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y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čelově uspořádané architektonické komplexy budov – výzkumně vývojových a laboratorních objektů, projekčních a konstrukčních kanceláří, výrobních h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25:16Z</dcterms:created>
  <dc:creator>jiri</dc:creator>
  <dc:description/>
  <dc:language>en-US</dc:language>
  <cp:lastModifiedBy>ciboch</cp:lastModifiedBy>
  <dcterms:modified xsi:type="dcterms:W3CDTF">2005-03-11T17:55:47Z</dcterms:modified>
  <cp:revision>6</cp:revision>
  <dc:subject/>
  <dc:title>Snímek 1</dc:title>
</cp:coreProperties>
</file>