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897-A60D-49DA-B927-95455894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603-DA19-4577-837C-26498AE0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06B-0F64-46C1-860F-02B3E6DC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0CD-CB79-4E5A-9A12-C05D8A55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70D-4C1D-4803-95FE-C94A31E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9AA-F7E5-4D53-A23E-A3AC27FF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7ED-EC3D-4E87-AD37-2731BFF8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D1A-7C9D-4C37-B383-CCC79CC2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185-3EAB-41CA-B880-B895294F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A88-CA8B-4ABF-B09F-24CBF4E6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E6D-2F34-4937-B9D5-4588BC1C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2E3-306A-494B-9CC3-52934A4F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9D9F-A2AF-4308-B36A-A2009E54D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yzkum.cz/RedirectorSekce.aspx?idsekce=954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5 – přednáška č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V  - politika, podpora,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052640"/>
          <a:ext cx="8207280" cy="55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052640"/>
                    <a:ext cx="820728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050920" y="404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íl obyvatelstva s VŠ vzděláním na celkovém počtu obyvatelst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8893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93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50920" y="119664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daje na VaV celkem (% HDP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-181080" y="0"/>
          <a:ext cx="9180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0"/>
                    <a:ext cx="9180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506920" y="263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díl veřejných zdrojů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kových výdajích na VaV (%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sledky výzku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hlášky pat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ělené pat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ované výzkumné zámě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PV, EPO, US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355640" y="54864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dělené patenty EPO (počet/mil. obyv.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inancování Va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čelové financování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ntové proj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gramové projek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titucionální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né půj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přímé financ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: - daňové úlevy, pobídky, odpisy, snížení soc. a zdrav. za zaměstnance VaV apod.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S V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S VaV má tyto datové obla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(Centrální evidence projektů výzkumu a vývoje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E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(Centrální evidence výzkumných záměrů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I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(Rejstřík informací o výsledcích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Evidence veřejných soutěží ve výzkumu a vývoji)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http://www.vyzkum.cz/FrontClanek.aspx?idsekce=95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58920" y="1484280"/>
            <a:ext cx="68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e tvořen 4 základními pilíři, které na sebe vzájemně působ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Řídící slož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zdělávací systé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ovační podnik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54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ční systé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143000"/>
          <a:ext cx="885672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885672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619280" y="40464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ové členění projektů VaV v letech 2000–2002 podle jejich poč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žití rizikového kapitálu v oblasti VaV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39640" y="0"/>
          <a:ext cx="8137800" cy="6718320"/>
        </p:xfrm>
        <a:graphic>
          <a:graphicData uri="http://schemas.openxmlformats.org/drawingml/2006/table">
            <a:tbl>
              <a:tblPr/>
              <a:tblGrid>
                <a:gridCol w="2033640"/>
                <a:gridCol w="2036880"/>
                <a:gridCol w="2033640"/>
                <a:gridCol w="2033640"/>
              </a:tblGrid>
              <a:tr h="778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ě/ro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ice rizikového kapitálu do oblasti high-tech</a:t>
                      </a:r>
                      <a:br>
                        <a:rPr sz="1500"/>
                      </a:br>
                      <a:r>
                        <a:rPr b="1" i="1" lang="cs-C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 HDP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kové investice rizikového kapitálu</a:t>
                      </a:r>
                      <a:br>
                        <a:rPr sz="1500"/>
                      </a:b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 HDP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á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o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mec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zozem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kou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ec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jené královstv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daje nejsou vykazová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 - prů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ďar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e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insk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íklady mimořádných výsledků VaV v AV ČR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ové metody neinvazivní diagnostiky nervových a kardiovaskulárních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v prosinci 2002 přihlášen v USA k patent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ék proti hepatitidě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teriálové modely betonu pro posuzování nadprojektových havárií jaderných elektrá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ová právně chráněná odrůda jabloně "Rubinstep" zaváděná do pěstování v EU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on č. 130/2002 Sb., o podpoře výzkumu a vývoje z veřejných prostředků a o změně některých souvisejících zákonů (zákon o podpoře výzkumu a vývoje) byl dne 12. dubna 2002 vyhlášen ve Sbírce zákonů s účinností ode dne 1. července 200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a pro výzkum a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řízena v roce 1992 – zákonem České národní rady č. 300/1992 Sb., o státní podpoře vědecké   činnosti a vývoje technologi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odborným a poradním orgánem vlády České republi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ází se jednou za tři týd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ukazatele výzkumu a vývo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ákladní ukazatele vyjadřující ekonomickou úroveň dané zem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resp. vliv VaV na tuto úroveň (HDP/obyv.; zahraniční obchod s vyspělými výrobky, technologiemi a službami; zaměstnanost v průmyslu a službách s vyspělými technologi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Lidské zdroje Va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ýdaje na VaV a jejich 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ruktura užití prostředků na Va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e třech hlavních sektorech: podnikatelském, veřejném (vládním) a na vysokých škol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-21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-171360"/>
          <a:ext cx="8534160" cy="72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-171360"/>
                    <a:ext cx="8534160" cy="72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íl vývozu produktů z oborů high-tech na celkovém vývozu (%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476280"/>
          <a:ext cx="8785440" cy="69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6280"/>
                    <a:ext cx="8785440" cy="69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zaměstnanců VaV (FTE) (osob/1000 pracovních sil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2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189000"/>
          <a:ext cx="8388360" cy="69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8388360" cy="69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2:35Z</dcterms:created>
  <dc:creator>doma</dc:creator>
  <dc:description/>
  <dc:language>en-US</dc:language>
  <cp:lastModifiedBy>ciboch</cp:lastModifiedBy>
  <dcterms:modified xsi:type="dcterms:W3CDTF">2005-11-01T10:11:31Z</dcterms:modified>
  <cp:revision>14</cp:revision>
  <dc:subject/>
  <dc:title>Snímek 1</dc:title>
</cp:coreProperties>
</file>