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460D-802A-4A1F-A3BC-723142777E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RP 2002-2006 ……………………….17,5 mld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= 3,9 % rozpočtu EU (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6% veřejných prostředků EU na výzk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EF6-E665-4BAC-8D1E-A5293580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28F-7633-44E3-8093-35F4CE3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314-2D55-4318-A851-D23DFA08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03B-FC84-4CF5-B626-4981D29F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807E-FE59-49D2-B902-E874E2B7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8874-B719-4AB7-9733-8ED709BF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9F4E-F2FA-40B9-A0DC-681F0B0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AF8-0E30-4B3D-B94E-FD970062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C113-4048-4F31-AD63-27DFBA6D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5E39-B7E9-453C-A126-23C5DB2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AEC-5971-457F-BC94-156F901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D61-B586-45C1-A3B6-0DE8C7E9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1CF-1B32-4FC0-8AD3-8C105C0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2FF1-AE38-46FA-BD88-43EE6F0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936F-F209-41C5-A6D1-31E74AD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1AEE-DF74-469E-B27D-4E0C77FB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6FFA-57C7-469E-AAD1-D67961C3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DA5-DA53-4B6A-85E6-E87A960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865-A10D-4808-BE37-EC042A3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E10-E681-443C-87FB-127E745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5EA-2FD5-485B-8EA7-BA625E0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EB5-D33A-465F-9A75-228CD2ED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D79-ED4B-4987-940F-9415F5E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085-CD1C-45B5-9390-60C4C70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A37-368F-421E-8444-AF8B81D705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A06-268E-4679-82EA-03DF32ECC6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fp6.cordis.lu/fp6/partners.cfm" TargetMode="External"/><Relationship Id="rId2" Type="http://schemas.openxmlformats.org/officeDocument/2006/relationships/hyperlink" Target="http://www.kowi.de/services/IPS/igloservic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921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DPORA VĚDECKÉ PRÁ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2852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400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ovační proces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5373720"/>
            <a:ext cx="4105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droj 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ÁRODNÍ INFORMAČNÍ CENTRUM PRO EVROPSKÝ VÝZK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1125360"/>
            <a:ext cx="37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tegrované projek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 – vytvořit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ou znalos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rámci tematických priorit 6.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osáhnout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mbiciózních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 jasně definovaných vědeckých a technologických cíl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ojekty zahrnující výzkumné, vývojové, demonstrační, školicí  aktivity, adekvátní řídící struktura, využití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ástroj pro podporu cílově orientovaného výzkumu „evropské dimenze“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projektu až desítky Meur, trvání 3-5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– grant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1. výzva TP1 –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účastníků IP – 23, příspěvek 15 M€, TP5 – příspěv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3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26920" y="1268280"/>
            <a:ext cx="3310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ítě excelence (No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ástroj k překonání fragmentace evropského výzkumu – hlavním výstupem bude vytvoření trvalé struktury s vysokou mírou integrace výzkumných aktiv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Cílem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osílit „excelenci“ v evropském výzkum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v prioritních oblaste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trvalá integrac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výzkumných kapac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společný program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aktiv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dlouhodobé cíle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multidisciplinární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vah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vysoká úroveň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autonomie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řízen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ostupná </a:t>
            </a:r>
            <a:r>
              <a:rPr b="1" lang="cs-CZ" sz="1800" spc="-1" strike="noStrike">
                <a:solidFill>
                  <a:srgbClr val="003366"/>
                </a:solidFill>
                <a:latin typeface="Arial"/>
              </a:rPr>
              <a:t>integrace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pracovních program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ůležitým úkolem bude  „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šířit excelenci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“ vně sít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ozpočet až desítky M€, po dobu 5 i více (maximálně 7) l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Příspěvek EK -  fixní grant pro integraci, v prvních výzvách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1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126828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Článek 16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5653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možňuje ES účastnit se ve výzkumných programech uskutečňovaných několika členskými státy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gruje „národní programy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v určité oblasti výzku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yžaduje společnou iniciativu národních programů a Komise – výsledkem návrh – předkládá Komi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louhodobý a komplexní rozhodovací proces, spolurozhoduje Parlament a R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981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y zaměřené výzkumné projekty (STRE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2565360"/>
            <a:ext cx="777240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ýzku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 jasně stanovenými cíli, (vývoj nebo zlepšení produktů, procesů, služeb, demonstrace ověření životaschopnosti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Účastníci: min. 3 ze 3 různých členských nebo asociovaných zemí (z toho 2 z MS nebo ACS), v prvních výzvách průměrně vyšší jednotky účastník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vání: 2-3 ro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zpočet: několik M€, v prvních výzvách průměrné příspěvky cca 3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spěvek EK má formu grantu k rozpoč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6920" y="1268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oordinační akce (C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2276640"/>
            <a:ext cx="7772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podpora vytváření sítí a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oordin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jejich výzkumných a inovačních aktivit (organizace a řízení společných aktivit, konference, meetingy, studie, školicí aktivity, expertní skupiny, at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kračování tematických sítí z 5. R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ční podpora – grant k rozpočtu (až do 100% nákladů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1197000"/>
            <a:ext cx="54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fické podpůrné akce (SS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70828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dpor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mplementace cílů RP v tématických prioritá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íprava budoucích výzkumných politik a aktivit (konference, semináře, soutěže a ceny, pracovní skupiny, informační a komunikační aktivit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apojení MSP, spolupráce s CC,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nancování: grant k rozpočtu (až 100% nákladů akce), první výzvy  průměrně 0,5 M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360" y="242100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operativního výzkumu - CRAF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polupráce mezi SME a výzkumnými organizacemi (vyvinout novou technologii nebo produkt, který není komerčně dostupný, vyřešit technický problém, dokončit vývoj prototypu, nového výrob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MSP formulují a zadávají výzkumný úko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výzkumné organizace provádí výzkum na základě zadání konsorcia MS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do 2 mil. EUR, 2 roky, více než 50% příspěvek 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jekty kolektivního výzkumu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zkum prováděný výzkumnými organizacemi na základě požadavků evropských průmyslovýc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sociací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nebo národních asociací v zájmu určitého společenství (řešení společných problémů, výzkum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osílení technologické báze daného sektoru(ů)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chnolog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cký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ransfer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- 2-5 mil. EUR,2-3 rok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5840" y="1052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ecifické projekty pro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92360" y="1052640"/>
            <a:ext cx="65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kce Marie Curie – lidské zdroje a mobil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700280"/>
            <a:ext cx="748980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školící mí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výzkumné školící sít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začín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školící místa pro výměnu znalost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konference a školen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individuální stáž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stáže pro vědce ze třetích zem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stáže ve třetích zemích pro evropské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odpora a ocenění vynikající vědecké 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granty pro vynikající vědecké tým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ceny pro vynikající věd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profesury Marie Curi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reintegrační (návratové)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evropské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790640" indent="-4428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  <a:ea typeface="Arial"/>
              </a:rPr>
              <a:t>mezinárodní reintegrační gran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5960" y="1553760"/>
            <a:ext cx="51847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ŘÍPRAVA PROJEKTŮ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3429000"/>
            <a:ext cx="316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téma/nástr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konzorc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vlastní návr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16360" y="404640"/>
            <a:ext cx="28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Konzorc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1989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í zajistit vzájemně se doplňující spektrum odborností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sciplín, zemí a lidských zdroj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šichni se podílí na projekt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ředchozí zkušenost s projekty EU výhod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čekává se dlouhodobá/trvalá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oluprá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268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nzorcium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in.3 právní subjekty ze 3 států – EU, ACC, AC (VÚ, univerzity, průmysl včetně MSP, asociace, apod.)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3645000"/>
            <a:ext cx="763272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koordinátor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kušenosti s evropskými projekty (u IP a NoE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partneři: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osobní kontakty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konference, publikace, síť NCP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lužby „partner search“: 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fp6.cordis.lu/fp6/partners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EoI: </a:t>
            </a: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http://eoi.cordis.lu/search_form.cf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 projektů kontrahovaných v minulost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cc99"/>
                </a:solidFill>
                <a:latin typeface="Arial"/>
              </a:rPr>
              <a:t>http://dbs.cordis.lu/search/en/simple/EN_PROJ_simple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atabáze, např. IGLO Project Search:    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kowi.de/services/IPS/igloservice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66760" indent="-266760"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mezinárodní informační d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UREKA – Evropská spolupráce v oblasti aplikovaného a průmyslového výzkumu a vývo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EUREKA byl vyhlášen v roce 1985 s cílem podporovat nadnárodní spolupráci mezi průmyslovými podniky, výzkumnými ústavy a vysokými školami a vytvářet tak podmínky pro růst výkonnosti a konkurenceschopnosti evropského průmyslu a rozvoje jeho společné infrastruktury. Komerční využití výsledků řešení položilo zároveň důraz na aktivní zapojení výzkumu a vývoje do tržní ekonomiky.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kty EUREKY mají výhradně civilní charakter a jsou zaměřeny na oblast soukromého i veřejného sektoru. Jejich výstupem musí být nové, inovované špičkové výrobky, technologie či progresivní služby, schopné prosadit se na světovém trhu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 současné době EUREKA sdružuje 33 států a řádným členem je rovněž Komise Evropské unie. Z bývalých socialistických zemí jsou členy Česká republika, Maďarsko, Polsko, Rusko, Slovinsko, Rumunsko a Litva, Bulharsko, Estonsko, Lotyšsko, Slovensko, Ukrajina, bývalá Federace Jugoslávi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44120" y="762120"/>
            <a:ext cx="4991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očet účastníků v projektech 6. RP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77043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77043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Zaměření projektů programu EUREK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nformační technologie 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ové materiály   život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rostředí   biotechnologie a technologie ve zdravotnictví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robotika a automatizace výroby   komunikač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technologie   energetik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doprava 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aser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3366"/>
                </a:solidFill>
                <a:uFillTx/>
                <a:latin typeface="Trebuchet MS"/>
              </a:rPr>
              <a:t>Program EUREKA a Česká republ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Trebuchet MS"/>
              </a:rPr>
              <a:t>V období 1992-200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účast v 164 projektech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řešiteli více než 300 organizací – převažují průmyslové podniky (MSP i VP) dále výzkumné organizace, univerzity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(spojení český podnik-univerzita-zahraniční partneři)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366"/>
                </a:solidFill>
                <a:latin typeface="Trebuchet MS"/>
              </a:rPr>
              <a:t>finanční náklady projektů představují cca 369,0 MEur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z toho podíl českých organizací 66,0 MEur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(2 110 mil. Kč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vlastní finanční zdroje organizací 1 560 mil. K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rebuchet MS"/>
              </a:rPr>
              <a:t>spolufinancování z účelových prostředků na mezinárodní spolupráci ve VaV 550 mil. Kč (od roku 199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RÁMCOVÝ PROGRAM E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708280"/>
            <a:ext cx="79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ytvořit nástroj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které povedou k silnějšímu propojení národních, regionálních a dalších evropských aktivi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ajistit vysokou efektivitu řešení výzkumných problémů a patřičnou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tonomii řešitelských tým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ožnit takové strukturování výzkumu, které zajistí Evropě významnou pozici v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zvíjení lidských zdrojů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 v mezinárodní spolupráci ve vědě a výzkum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ovat výzku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ve vybraných tematických prioritách, ve kterých by Evropa měla dosáhnout vysoké přidané  hodno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080" y="2349360"/>
            <a:ext cx="41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Základní principy 6. RP (2002 – 2006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ubory aktivit 6. R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aměření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 integrace výzkum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7 priorit a specifické aktivity zahrnující širší oblast výzkumu – MSP, INCO, NEST, podpora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3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85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Strukturování Evropského výzkumného prostoru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 655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mobility, výzkumné infrastruktury,výzkum a inovace, věda a společnos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ilování základů Evropského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ýzkumného prostor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330 mil. 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koordinace politi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elkem 6. R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6 27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ozpočet programu EURAT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 230 mil. €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5156280"/>
            <a:ext cx="7632720" cy="3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ru</a:t>
            </a:r>
            <a:r>
              <a:rPr b="1" lang="cs-CZ" sz="2000" spc="-1" strike="noStrike">
                <a:solidFill>
                  <a:srgbClr val="cc3300"/>
                </a:solidFill>
                <a:latin typeface="Arial"/>
              </a:rPr>
              <a:t>kturování Evropského výzkumného prostoru (2605 M€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413000"/>
            <a:ext cx="76327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I. Zaměření a integrace výzkumu EU (13 345 M€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-156960" y="3531960"/>
            <a:ext cx="248616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feSciHealth 225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85640" y="352872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36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457080" y="3516120"/>
            <a:ext cx="24768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izen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12140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no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3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684080" y="3524040"/>
            <a:ext cx="2479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107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326320" y="3523320"/>
            <a:ext cx="24782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68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894040" y="3519360"/>
            <a:ext cx="247320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tainable dev.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1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979640"/>
            <a:ext cx="3961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atic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ké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priorit</a:t>
            </a: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y (11 285 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49228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licy support 2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57192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43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407664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CO 3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4581360"/>
            <a:ext cx="35290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R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760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2997360"/>
            <a:ext cx="3529080" cy="388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23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5516640"/>
          <a:ext cx="7632360" cy="304560"/>
        </p:xfrm>
        <a:graphic>
          <a:graphicData uri="http://schemas.openxmlformats.org/drawingml/2006/table">
            <a:tbl>
              <a:tblPr/>
              <a:tblGrid>
                <a:gridCol w="2040120"/>
                <a:gridCol w="1776240"/>
                <a:gridCol w="2171160"/>
                <a:gridCol w="1644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. and Innov. 29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-mobility 15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rastructures 65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 and Soc. 8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00000" y="6021360"/>
          <a:ext cx="7632720" cy="428760"/>
        </p:xfrm>
        <a:graphic>
          <a:graphicData uri="http://schemas.openxmlformats.org/drawingml/2006/table">
            <a:tbl>
              <a:tblPr/>
              <a:tblGrid>
                <a:gridCol w="3527640"/>
                <a:gridCol w="1584360"/>
                <a:gridCol w="252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I. Posilování ERA (320 M€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– NET 27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. dev. of  policies 50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2880">
                      <a:solidFill>
                        <a:srgbClr val="003366"/>
                      </a:solidFill>
                    </a:lnR>
                    <a:lnT w="2880">
                      <a:solidFill>
                        <a:srgbClr val="003366"/>
                      </a:solidFill>
                    </a:lnT>
                    <a:lnB w="2880">
                      <a:solidFill>
                        <a:srgbClr val="0033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348000" y="76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uktura 6R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5440" y="1979640"/>
            <a:ext cx="35272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66"/>
                </a:solidFill>
                <a:latin typeface="Arial"/>
              </a:rPr>
              <a:t>Horizontální aktivity (2160M€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55640" y="692280"/>
          <a:ext cx="7924680" cy="52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924680" cy="52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92280"/>
            <a:ext cx="52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ie rámcových programů E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8360" y="1125360"/>
            <a:ext cx="8207280" cy="4339440"/>
            <a:chOff x="468360" y="1125360"/>
            <a:chExt cx="8207280" cy="4339440"/>
          </a:xfrm>
        </p:grpSpPr>
        <p:graphicFrame>
          <p:nvGraphicFramePr>
            <p:cNvPr id="140" name=""/>
            <p:cNvGraphicFramePr/>
            <p:nvPr/>
          </p:nvGraphicFramePr>
          <p:xfrm>
            <a:off x="468360" y="1125360"/>
            <a:ext cx="8207280" cy="420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8360" y="1125360"/>
                      <a:ext cx="8207280" cy="42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372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2-06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8000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2006-10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62920" y="515772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998-200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28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99"/>
                  </a:solidFill>
                  <a:latin typeface="Arial"/>
                </a:rPr>
                <a:t>1994-98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764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90-9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0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7-9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2920" y="515772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1984-87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47640" y="5672160"/>
            <a:ext cx="2835360" cy="291960"/>
          </a:xfrm>
          <a:prstGeom prst="rect">
            <a:avLst/>
          </a:prstGeom>
          <a:noFill/>
          <a:ln w="1260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ČR - program INCO (243 projekty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6920" y="6083280"/>
            <a:ext cx="3628080" cy="291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Arial"/>
              </a:rPr>
              <a:t>ČR – „pod dohledem týmů EU“ (661 projekt)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57680" y="5661000"/>
            <a:ext cx="2073600" cy="29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ČR – rovnoprávná účast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805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9" idx="3"/>
            <a:endCxn id="145" idx="2"/>
          </p:cNvCxnSpPr>
          <p:nvPr/>
        </p:nvCxnSpPr>
        <p:spPr>
          <a:xfrm flipV="1">
            <a:off x="4382640" y="5461920"/>
            <a:ext cx="462600" cy="362520"/>
          </a:xfrm>
          <a:prstGeom prst="bentConnector2">
            <a:avLst/>
          </a:prstGeom>
          <a:ln w="1908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0" idx="0"/>
            <a:endCxn id="144" idx="2"/>
          </p:cNvCxnSpPr>
          <p:nvPr/>
        </p:nvCxnSpPr>
        <p:spPr>
          <a:xfrm flipV="1" rot="16200000">
            <a:off x="5570280" y="5771880"/>
            <a:ext cx="621000" cy="2160"/>
          </a:xfrm>
          <a:prstGeom prst="bentConnector3">
            <a:avLst>
              <a:gd name="adj1" fmla="val 49883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286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y nástrojů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Nové nástroje (80% rozpočt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Integrované projekty (I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ítě excelence (No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Článek 169 (společná implementace národních programů Va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radiční nástr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rojekty cílově orientovaného výzkumu (STREP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ordinační akce (C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Specifické podpůrné akce (SS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Projekty pro MSP a asociace M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CRAF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Kolektivní výzk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kce Marie Cur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18:07Z</dcterms:created>
  <dc:creator>doma</dc:creator>
  <dc:description/>
  <dc:language>en-US</dc:language>
  <cp:lastModifiedBy>snoopy</cp:lastModifiedBy>
  <dcterms:modified xsi:type="dcterms:W3CDTF">2005-12-06T10:53:29Z</dcterms:modified>
  <cp:revision>5</cp:revision>
  <dc:subject/>
  <dc:title>6. RÁMCOVÝ PROGRAM EU  PODPORA VĚDECKÉ PRÁCE</dc:title>
</cp:coreProperties>
</file>