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0F4-E971-4B4A-A815-87E2EBB2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35D-63C4-49BB-99BA-B3764035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8FB-31BD-4A5B-B3DC-63C284E3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292-DBB8-4E85-9A8D-DA38FEE6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B77B-3D00-477E-B1F5-461BDB19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60AE-AB32-44C4-9073-640EFD3A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2820-2EB2-42B2-94F0-EAFB1347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D4B0-753F-453C-9E87-85D8245E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0C91-4A9B-46DB-B2AE-2BB521C0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6BB3-4E80-40A5-82DB-FAAD67E1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C115-7DAA-45DE-8D10-73835649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6D0-F081-4573-AFB3-6437F9DA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57CF-CFC1-44F6-B8AB-18A0369B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950D-F1AC-4C8C-BAE2-C7BABE41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CD12-49C2-4958-8525-74D9ED1C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AE77-3C6C-4411-AA8A-C79E97E2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B936-8347-4C40-9374-A87849C5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451-4294-4CD2-A33D-3CD1CD28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F5EC-868B-4793-8EF5-21636023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112-12A8-49F2-8378-9A4AE337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7B1-1D96-4196-804D-1F806CDD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2FF-EA8F-4166-B9DB-F01C1C18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195-6E43-4333-ADBD-4530F2F8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5E9-47FF-4CB8-B8E0-5B2D6C6B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081A-D88C-4E4D-B30B-05E6BE9E429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327C-99DD-4E48-A00B-08C2A5CE0AE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irc.cz/technologicke-burzy-site-irc/" TargetMode="External"/><Relationship Id="rId2" Type="http://schemas.openxmlformats.org/officeDocument/2006/relationships/hyperlink" Target="http://www.intas.be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irc.cz/" TargetMode="External"/><Relationship Id="rId2" Type="http://schemas.openxmlformats.org/officeDocument/2006/relationships/hyperlink" Target="http://www.circ.cz/" TargetMode="External"/><Relationship Id="rId3" Type="http://schemas.openxmlformats.org/officeDocument/2006/relationships/hyperlink" Target="http://www.circ.cz/" TargetMode="External"/><Relationship Id="rId4" Type="http://schemas.openxmlformats.org/officeDocument/2006/relationships/hyperlink" Target="http://www.circ.cz/" TargetMode="External"/><Relationship Id="rId5" Type="http://schemas.openxmlformats.org/officeDocument/2006/relationships/hyperlink" Target="http://www.circ.cz/" TargetMode="External"/><Relationship Id="rId6" Type="http://schemas.openxmlformats.org/officeDocument/2006/relationships/hyperlink" Target="http://www.circ.cz/" TargetMode="External"/><Relationship Id="rId7" Type="http://schemas.openxmlformats.org/officeDocument/2006/relationships/hyperlink" Target="http://irc.cordis.lu/" TargetMode="External"/><Relationship Id="rId8" Type="http://schemas.openxmlformats.org/officeDocument/2006/relationships/hyperlink" Target="http://www.casavo.cz/www" TargetMode="External"/><Relationship Id="rId9" Type="http://schemas.openxmlformats.org/officeDocument/2006/relationships/hyperlink" Target="http://www.casavo.cz/" TargetMode="Externa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novační proces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ansfer technologií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5734080"/>
            <a:ext cx="359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573408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® 2005 – přednáš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kce transferu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echnologická výzv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ispívá k realizaci změn ve výrobní sféře (řešit nezaměstnanost 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oskytování servisu pro producenty nových techn. a potenciální klien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oncipování a rozvoj technologického trhu doma i mezinárodn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ytváření sítě transferů a jejich zahraniční propoj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ferový projek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sahuje přesný popis předmětu transferu technologie, etapy, jeho realizace, povinnosti a práva zúčastněných stran, předpokládaný výsledek, přínos transferu a další údaje pro uzavření smlouv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dpoklad pro transf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oskytovat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řipravenost a ochota před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oskytnutí kompletní informace o ekonomické a společenské hodnotě dodávané technologi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oskytnutí porovnání vlastní nové tech. S konkurenčními a stávajícím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řevod KNOW HOW, ale i materiální stránky technologi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Vzdělanostní audit u příjem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ohoda o trvalejší spoluprác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ferový projek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íjem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chopnost pojmout nové řešení ( lidský potenciál, materiální…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chota se zapojit do transferové sít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ovační potenciál – zapojení do Va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chopný management – zavedení výrobků na tr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y transfer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ědecké výzkumné instituce nabízejí svá řeše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dniky si objednají řeše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evod licencí, práv k využití patent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akládání nových firem výzkumnými institucemi (US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obr.2 Systém inovačního podnikání"/>
          <p:cNvPicPr/>
          <p:nvPr/>
        </p:nvPicPr>
        <p:blipFill>
          <a:blip r:embed="rId1"/>
          <a:stretch/>
        </p:blipFill>
        <p:spPr>
          <a:xfrm>
            <a:off x="250920" y="765000"/>
            <a:ext cx="856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aděje na úspě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Závisí na několika faktore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valita technolo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valita management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valita investo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Image fir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č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Pu = Qt x Qm x Qinv x 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valita technolog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dnocení vysoké – pokud má vysokou inovativní pozici, silnou patentovou a copyrightovou ochranu, zcela nový produkt či služba nebo podstatné zlepšení stávajícíh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valita management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líčový fak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držuje vyrovnanou  bilanci podnik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sná strategie zavedení na tr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dhodlání a zkušen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valita investo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rakterizují h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iž úspěšné založené podn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ítě potenciálních odběratel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íra osobní angažovan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ákladní pojm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chnologie 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ědeckotechnické poznatky o produktech, návody na konstrukci, technologické postupy výroby do oblastí praktického užití, případně jako další článek inovačního proces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ákladní pojm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ransfer vertikální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– převod technologií z fáze výzkumné do fáze ověření výroby a následná sériová výrob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ransfer horizontální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– kompletizace technologií z různých oborů ( např. v rámci vývoje se kompletuje mechanická část s elektronickou, kooperace mezi vývojovými institucemi…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fer technologi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ces, který zprostředkovává pohyb výsledků VaV ve hmotné a nehmotné podobě od jejich vzniku po jeho konečné využit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Širší pojetí – hmotný i nehmotný trasf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žší pojetí – nehmotný transf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konomické hledisk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a úplatu  x bez úpla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cenční smlouva, prodejní smlouva, kooperačn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evod – patentových práv, známkových, vzorových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chanizmus transfer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fer informační – poskytnutí informací o nové technologi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fer personální – založen na výměně zkušeností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chnologicko-inovační tr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ouhrn nabídek a poptávek po inovačních technologií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echnologické burz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ýstavy a  trhy nových technologí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pecializované konference</a:t>
            </a:r>
            <a:r>
              <a:rPr b="0" lang="cs-CZ" sz="1600" spc="-1" strike="noStrike">
                <a:solidFill>
                  <a:srgbClr val="003366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echnologické soutěž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circ.cz/technologicke-burzy-site-irc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intas.be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ěkteré příkla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Technologické centrum koordinuje projekt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zech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Innovation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Relay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 Centre (CIRC)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, který je zaměřen na mezinárodní transfer technologií a na zavádění nových technologií do malých a středních podniků. Projekt je začleněn do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evropské sítě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68 spolupracujících center (IRC), která zahrnují více než 250 organizací ve 30 zemích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Technologické centrum dále koordinuje projekt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Cílený výzkum a vývoj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, jehož cílem je zpřístupňovat výsledky cíleného výzkumu a vývoje financovaného z veřejných prostředků širokému okruhu zájemců z komerční sféry a iniciovat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společné výzkumné projekty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akademického a aplikovaného výzkumu. 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dpoklady pro využit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ungující sítě poradenství MSP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znik databází pro evidenci a párování inovací a potenciálních výrobc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výhodnění pro inovační firm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stupný rizikový kapitál ( bussines angel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chrana životního prostřední ( trvale udržitelný rozvoj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07:18:49Z</dcterms:created>
  <dc:creator>doma</dc:creator>
  <dc:description/>
  <dc:language>en-US</dc:language>
  <cp:lastModifiedBy>ciboch</cp:lastModifiedBy>
  <dcterms:modified xsi:type="dcterms:W3CDTF">2005-11-15T10:08:50Z</dcterms:modified>
  <cp:revision>7</cp:revision>
  <dc:subject/>
  <dc:title>Inovační procesy</dc:title>
</cp:coreProperties>
</file>