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39192-ABDD-4164-AE75-E267545D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CBAF-7A54-4B07-9778-EC59934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EFAD-0463-4301-A763-9174CE98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AC23-4218-421D-9930-3EC9969A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BF30-54A6-4289-917B-1B9E8DB3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6C1D-F30F-4066-864C-121E1317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1B63-511B-47AF-B7B5-039D9AA0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4BF-4B90-4439-AA2B-2B054FC0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72FB-6385-4448-A3BD-A550BBEF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EEDA-6C15-407F-BCB2-72519BB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FC08-7A79-43BD-AD18-765B4803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B8A5F-2AB0-48BB-A026-747C5A64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576-8D8F-4D5E-AC25-444BFD47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7B8A-714C-4B52-B6C0-99533C31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4C83-AE78-40A0-BB73-275ECBAA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ACB-A037-4460-AFDC-04FBFBCD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D9F8-F07B-4D9C-88AD-ABF884F6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278B-99D5-4670-A7D5-7F9BF4B8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E0F6-3A17-4535-8249-B97EAB54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93CF-455F-40AC-8BFD-92C24B75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5B8C-301B-46DC-8A82-19C87AE4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6B88-F437-4708-BBC8-424171C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6BF6B-9F65-4BA2-91F8-8D31306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991E-0118-44D9-8487-39F1A08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724B-CB10-49E9-A760-6F1CF1EEB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FD2C-42ED-4D3E-8C4D-9BA31C6F5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87440" y="1969560"/>
            <a:ext cx="568476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Vysoce zhodnocující podniky</a:t>
            </a:r>
            <a:br>
              <a:rPr sz="4600"/>
            </a:br>
            <a:br>
              <a:rPr sz="4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G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03280" y="4365360"/>
            <a:ext cx="594036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artina F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arie Kvasni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ana Pospíši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va Tu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87640" y="1483920"/>
            <a:ext cx="547056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ysoce zhodnocující podnik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rní způsoby řízení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entace na zákazní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 je říze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zákazník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chod od klasického modelu liniově řízeného podniku k podniku řízeného zákazní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významnější otázka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í vůbec zákazník, jak podnik správně řídit zejména z pohledu vhodného pro podnik?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nflik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zi preferencemi zákazníka a cíly podni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zákazník vyžaduje co nejnižší cenu, snížení ceny pod úroveň nákladů však není a ani nemůže být dlouhodobě cílem podn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 podnik řízený zákazníkem = takový podnik, který vychází z potřeb svých zákazníků a snaží se je maximálně uspokoj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Customer relationship manageme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odobé systémové opatření naplňující zákaznický imper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hrn aktivit jako permanentní, interakční a cyklický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my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ojetí 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stata úspě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 celopodnikové strategie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ilná podniková k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Customer relationship manageme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lavní kompon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y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pora tvorby vztahů se zákaz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! promítnutí a návaznost do celého podniku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ní je dialog mezi podnikem a zákazní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dské zdroje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jcennější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rientace „zákazník náš pá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rní technologie 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zbytnou součástí C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vs. efektivita vs. ! integrac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innost s ostatními komponenty, tj.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da"/>
                </a:solidFill>
                <a:latin typeface="Arial"/>
              </a:rPr>
              <a:t>… </a:t>
            </a:r>
            <a:r>
              <a:rPr b="0" lang="cs-CZ" sz="2000" spc="-1" strike="noStrike">
                <a:solidFill>
                  <a:srgbClr val="0000da"/>
                </a:solidFill>
                <a:latin typeface="Arial"/>
              </a:rPr>
              <a:t>důležité nepřeceňovat význam kterékoliv z nich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da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da"/>
                </a:solidFill>
                <a:latin typeface="Arial"/>
              </a:rPr>
              <a:t>„</a:t>
            </a:r>
            <a:r>
              <a:rPr b="1" lang="cs-CZ" sz="2000" spc="-1" strike="noStrike">
                <a:solidFill>
                  <a:srgbClr val="0000da"/>
                </a:solidFill>
                <a:latin typeface="Arial"/>
              </a:rPr>
              <a:t>V jednotě je síla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CR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Customer relationship manageme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ezprostřední přínosy zavedení 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problémový průběh obchodních proces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 individuálních kontaktů se zákazní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íce času na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urenční výho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lepšená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informacím v reálném č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hlivé a rychlé předpově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unikace mezi marketingem, odbytem a služb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soká kval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en produ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 i služeb, které s distribucí produktů souvisí. To dělá produkt jedinečným a může tak lépe plnit kritéria a požadavky zákaz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ílení vize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anci se ztotožňují s podnikovou vizí – vtažení všech zaměstnanců do děje v organiza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potřeba upustit od liniově uspořádaného managem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dpořit silnou podnikovou kultur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pnosti úspěšných fi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opnost rychle řešit problém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opnost dovést zákazníka k pochopení jeho potře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vyložit mu, jak lze individuálně přizpůsobeným výrobkem potřeby uspokojit. Prodej a marketing produktů na mír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lexibilně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aguje na informace z trhu, potřeby zákaz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nutí závě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isky neplynou z velkovýroby, nýbrž z průběžného objevování nových spojení mezi různými řešeními a potřeb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n výroba, ale i služ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spokojuje jedinečné potřeby zákazníků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riérou není objem výroby ani cena, ale schopnost najít správný vztah mezi konkrétními postupy a konkrétními potřeba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ní vnějších zdrojů (outsourc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 se tedy nesnaží ovlivňovat poptávku nabídkou, ale právě naopak: svou nabídku přizpůsobuje specifické poptáv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 nemá tendenci svou produkci neustále zvyšovat, produkuje pouze takové množství, které zaručí uspokojení poptávky bez převisu nabíd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ří Dědina, Milan Nový, Moderní organizační architektura, Alfa Publish, s.r.o., 2005, ISBN: 80-86851-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mes H. Donnelly, Jr., Management, Grada, 1997, ISBN: 80-7169-42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essling, H., Aktivní vztah k zákazníkům pomocí CRM: strategie, praktické příklady a scéná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uneček, J.: Znalostní podnik ve znalostní společnosti, Professional Publishing, 2003, ISN: 80-86419-3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ber B. Reich, Dílo národů. http://sociologie.unas.cz/2002_2003/Reich_Dilonarodu.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art Grainer, Moderní management – Základní myšlenkové směry, 3.vydání, Financial Times Professional Ltd, 1998, ISN 80-7261-019-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arakteristika vysoce zhodnocujících podniků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entr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 v minulosti = pyramidická hierarc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porace dnes = „pavoučí síť“ jednotlivých poměrně autonomních skupin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ysoce zhodnocující podnik není tedy organizován jako pyramida, ale jako síť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Informace musí plynout rychle a nezkresle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dniková síť může experimentovat, protože v podnikové síti jsou široce rozložená rizika i výno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dílení se na rizicích a výnosech je silným tvůrčím podnětem. Na vnějších okrajích sítě jsou dodavatelé standardních vstupů (továrny, vybavení, kanceláře, účetnictví, ostraha budov atd), s nimiž jsou uzavírány doh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stup od velkovýro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chod od velkovýroby k vysokému zhodnocení (Reich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sun od velkovýroby mnoha zcela identických výrobků ke specializaci =&gt; snaha vyhovět konkrétnímu zákazník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rý rozdíl mezi „zbožím“ a „službami“ ztratil smysl, neboť značná část hodnoty vytvářené úspěšným podnikem zahrnuje mnoho typů služeb: specializovaný výzkum, výrobní a konstrukční služby nezbytné k řešení problémů, specializované prodejní, marketingové a konzultační služby nezbytné k identifikaci problémů a specializované strategické, finanční a manažerské služby….“(Reich, str.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námka: velkovýroba se přesouvá do rozvojových zemích, protože tamější pracovní síla, která vykonává nekvalifikovanou práci, je levnější (než. Např. práce nekvalifikovaného Američ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ýmová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vodem uplatňování je schopnost týmu plnit náročné úkoly a rychlá reakce na požadavky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hody - zkušenosti a kvalifikace členů roste rychleji, zvyšuje se motivace, flex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rod pracovní skupiny v tý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 by měl mít heterogenní strukturu a dobrého vůdce, který umí vést pracovní skup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ové práci se je třeba nauč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utsour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hrazení vlastní aktivity, vykonávané dosud v rámci podniku, aktivitou získanou napříště vně podn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zi relevantní důvody pro provádění outsourcingu můžeme zařad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it zaměření na hlavní činnosti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nění zdrojů pro jiné úč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ení pru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dílení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un peněz odprodejem ak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olnění kapitálo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ení celkových nákladů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ální organ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časně vytvořená síť teritoriálně rozptýlených firem, která je založena na intenzivním používání moderních  informačních technologií jejímž účelem je efektivně a rychle využít podnikatelské příležit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íčové znaky jsou: flexibilita, pragmatismus, kvalita na světové úrovni, informační technologie, partnerství, neomezené hranice, důvěra, respekt vůči zákazníků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cházení nových s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ázení nových výrobních postup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á strategie nákupu a prode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á propag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ledání kliček k obcházení nejrůznějších ome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operace s celým svě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létání sítí v rámci celého svět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rodní korporace přestávají existovat, nejsou již totiž závislé už jen na 1 st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9:35:38Z</dcterms:created>
  <dc:creator>u3510</dc:creator>
  <dc:description/>
  <dc:language>en-US</dc:language>
  <cp:lastModifiedBy>u3510</cp:lastModifiedBy>
  <dcterms:modified xsi:type="dcterms:W3CDTF">2007-01-12T13:02:16Z</dcterms:modified>
  <cp:revision>24</cp:revision>
  <dc:subject/>
  <dc:title>Vysoce zhodnocující podniky MNG II</dc:title>
</cp:coreProperties>
</file>