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6CD-9E1A-4868-85D1-D543BC20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5A2-17E9-4CD9-ADE5-F39396F5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670-F8B2-4BE2-A72D-8AB35603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386-9566-4E42-89C1-6E411593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5EAE-583E-4FE4-9511-B3E379D0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F1BF-DDCC-494C-B379-AE0B7980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351D-1003-4399-984C-B427D926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BE63-D65C-4A25-92D2-DA48FAD0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763B-4A2C-4700-95BC-C0F9AD30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0130-59BC-4467-88A7-4E1F4090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43D8-6B52-4CCC-B048-1C38803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2F3-75D7-46C0-9C9F-315CBFB9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05A5-8C9D-45B7-8060-0D54A8B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8744-5758-413C-BC75-6CDD49F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B108-1EF1-40B3-A28C-44DF9104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C04A-B68C-4157-9A46-59958B75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A1C-4336-4E4E-9F49-33E19746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690-8C53-441B-A80A-5AE7F13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A77-174D-426A-B6DD-B18EC4A6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DBD-CA82-4DC8-B668-F59D1990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1C0-2FE2-4C47-B5CC-7A2197EC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EB8-73BF-40C4-96D3-3CD780DB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4D6-A372-42E3-92CD-F731F445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6E0-89CA-485E-B775-0449A8B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ECDE-6BCA-4661-BC77-B725F7EDF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76CC-93DB-43C9-A3B0-49E0C04D7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42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agement znalost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5280" y="4797000"/>
            <a:ext cx="733752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Vypracoval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Leona Doušk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Jana Hrbotick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Jaromír Šká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ra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20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guje na potřeby prax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žadavek souvislého a soustavného u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ibilní struk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How to easy…learn 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existuje snadný způsob „ učení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tížné zvládnutí tacitních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izualiz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íbě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aktické probl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95640" y="1484280"/>
            <a:ext cx="8780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jímavo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tec managementu změn je i otcem všech zmat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sijci vynikají v tacitních znaloste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atedry v USA a UK si vyučováním zvyšují svoji kredibili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40160" y="4417920"/>
            <a:ext cx="18860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ashledano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3840" y="5087880"/>
            <a:ext cx="7392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teratura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ládkova, L: Management znalostí; Sborník příspěvků; Podniková ekonomika a management; 1. vyd. Brno, Masarykova univerzita v Brně,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avan, M.: Výrobní a provozní management, 1. vyd. Praha Grada Publishing, 200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Šuleř, O.: Manažerské techniky, 1. vyd. Olomouc, Rubico 199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agement znalost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29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větví managementu zaměřené na zna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ří mezi tzv. měkké nástroje 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 působit na 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de k optimalizaci a vyšší efektiv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92360" y="5013360"/>
            <a:ext cx="1636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nalost nebo informac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e: údaj, fakt, datum, velič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bsahuje faktický údaj, který 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čerpává jeho sdělení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bje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lost : komplexní svazek doved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informace je pouze jeho součá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bjektiv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nalost pod drobnohled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plicitní čá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formační část zna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vyslovením se dovídáme o zna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acitní čá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nitřní část znal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 vlastní nositeli zna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927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 je management znalost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metod a postup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 zvýšit využití znalos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á zlepšit využití znal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ředevším má objevit znal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65420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hod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é výsled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é příno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133056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lostní strateg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ležité zna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íčoví pracovní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výšení úrovně komunik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růchodnění komunikačních kanál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výh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namená kontrolu nad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lze s ním kontrolovat znal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hodovac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ladá disciplí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04000" y="1989000"/>
            <a:ext cx="17938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ámitk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losti nelze říd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de o informační systé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značení pro měkké nástroje 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v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24360" y="4010040"/>
            <a:ext cx="183996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romír Škára</cp:lastModifiedBy>
  <dcterms:modified xsi:type="dcterms:W3CDTF">2007-01-12T15:52:24Z</dcterms:modified>
  <cp:revision>52</cp:revision>
  <dc:subject/>
  <dc:title>Management znalostí</dc:title>
</cp:coreProperties>
</file>