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412-5A72-4B83-ABF4-F3D58D63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5A9-BC64-4773-A151-354C71CD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0D4-7692-4C8B-B358-243F3233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52F-746F-4FC5-B7F1-8CBF4BDB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E632-C202-42A1-8D91-8042BCDB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DA3-12BF-473C-BF3C-D04B8DA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AB1-C5B1-406F-A429-5A962F65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E95E-27FD-4493-AE20-C0AFD5F3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7C5-C01B-4C90-9F80-27158BDC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A154-A7B9-4BC4-8235-5DA29527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273A-7168-4A61-B6AD-8F2800BE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EFC0-DD1D-40E5-B8B7-A537616A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5A1A-D367-47A6-B2E1-69F81255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356-6F4C-4E5A-9991-ADC364B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ED45-76ED-461B-8451-E3022276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509C-EA2A-41AD-BD1E-E1786D82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02D-F20A-439C-AAE6-4831F499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7EC-8823-4B7F-90D9-D53230FC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6C5-3A02-49CC-9426-A638929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BDC-9ECB-4154-9EE2-3692A846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A6CC-2647-43E5-9C47-0BA7039A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BF0-54B3-4BEE-98B0-57A07B2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B3C-5EE0-487E-90B7-81BF5A07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F47-5AF0-4F63-A3E3-A20FF4F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C879-8890-48F1-8660-F247343210F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61ED-DFEF-471C-93E0-F008CA2D6BD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cc66"/>
                </a:solidFill>
                <a:latin typeface="Arial"/>
              </a:rPr>
              <a:t>Management I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Projektové řízen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68360" y="4149720"/>
            <a:ext cx="453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Zpracovali: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Dita Jirk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Jan Slavíče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ndrea Klimasov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7. Realizace projek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ahrnuje řízení a kontrolu pro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Řízení probíhá v reálném čase podle plánu a kontrolují se odchylky od plánu (v čase, nákladech či kvalitě). Na základě těchto zjištění se přijímají potřebná korekční opatřen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chodiskem pro realizaci projektu je  dobře zpracovaný plán projek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8B1-8F1E-4C5C-A37C-989256DFF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8. Předání a vyhodnocení projektu 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Fáze předání uzavírá projekt jeho předáním uživatel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Tzn., že v této fázi je projekt spouštěn do provozu a testován, je ověřováno, zda byl problém skutečně vyřeš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Tuto závěrečnou etapu je možné rozčleni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BBC-A247-4729-8475-B2A1CD3ED9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8. Předání a vyhodnocení projektu I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2944800"/>
            <a:ext cx="7716240" cy="205776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hodnoc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Předání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Vyhodnoc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jekt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projekt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pro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stová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řed.protok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- managemen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zkušební provo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utinní provoz        - ekonomický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72000" indent="-20772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arance projektu       výsledk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5516640"/>
            <a:ext cx="56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cc66"/>
                </a:solidFill>
                <a:latin typeface="Times New Roman"/>
              </a:rPr>
              <a:t>Obr.č.1: Předání a vyhodnocení projekt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cc66"/>
                </a:solidFill>
                <a:latin typeface="Times New Roman"/>
              </a:rPr>
              <a:t>Zdroj: Jaromír Veber, Management, str.6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CD0-F028-449B-A36A-73B611DDA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8. Předání a vyhodnocení projektu II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ředmětem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vyhodnocení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projektového řízení jso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hodnocení plánovací et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analýza etapy realiz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yhodnocení ekonomick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993-8910-4D28-A7FE-D24D8D756F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9. Rizika projekt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Rizi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– týkají se průběhu realizace projektu i konečné podoby projektu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-  je třeba tato rizika určit, analyzovat a reagovat na ně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Procesy směřující k minimalizaci rizi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určení potenciálních rizikových situací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- mohou se týkat jak projektu, tak řízení, a mohou mít charakter interní nebo exter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ohodnocení rizik -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posouzení jejich možných důsledků pro výsledný projekt, a to především u rizikových stavů s vysokou pravděpodobnos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stanovení protirizikov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realizace těchto opatření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– posilování informovanosti, využití osvědčených postupů, kvalifikovaní řešitelé, postupné rozhodování, pojištění rizik apo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2F3-C9D1-4E01-AED2-28CA3E7F17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10. Řízení rizi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Při této fázi projektu se uvažují 3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typy protirizikových opatře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předcházení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= vyloučení potenciálního rizika vytipované rizikové události vyloučením jeho známých příč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zmírňování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= tlumení účinků případné vytipované rizikové události přijetím opatřen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imes New Roman"/>
              </a:rPr>
              <a:t>záchrana, smíření se s následky nežádoucí událost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= rezerv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Pokud dojde k rizikové události, je před použitím konkrétního protirizikového opatření nutné analyzovat vzniklou situaci. Dle této analýzy je možné určit, zda uvažovaná opatření jsou či nejsou vhodná a případně přijmout další doplňková opatřen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Po realizaci těchto opatření je třeba vyhodnotit jejich účinnost s ohledem na cíle a plán projekt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9737-8685-4CA5-8F17-D5EE9C4C51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11. Použitá literatur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VEBER, J., </a:t>
            </a: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Management. Základy, prosperita, globalizace,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Praha: Management Press, 2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HRUDINA, L., </a:t>
            </a: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Projektové řízení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, 1. vydání, Praha: ČSAV, nakl. a vyd. ARCH, 199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ĚMEC, V., </a:t>
            </a: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Projektový management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, 1. vydání, Praha: Grada Publishing a.s., 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FIALA, P., </a:t>
            </a: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Projektové řízení – modely, metody, analýzy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, 1. vydání, Praha: Professional Publishing, 2004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DOLANSKÝ V., MĚKOTA, V., NĚMEC, V., </a:t>
            </a: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Projektový management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, 1. vydání, Praha:  Grada Publishing spol. s r.o., 199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CAC-78D9-4AA6-A9B6-D6D4B5A2F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AE0-8033-463C-9934-9B2F1BE71D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1. Projektové říz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rojektový management (projektové řízení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je přístupem řízení při prosazování zásadních změn, které představují s ohledem na svou složitost, délku trvání a nutnost koordinace obtížný realizační úkol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rojektové řízení se uplatňuje všude tam, kde: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je nutné implementovat významné z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de má management zájem na rychlé realizaci těchto změ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 zároveň kde je zřejmé, že k úspěšné realizaci změn je třeba překonat útvarovou uzavřenost a pružně zapojit pracovníky z různých útvarů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Uplatnění projektového řízen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jekty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vývojov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jekty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engineeringové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jekty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manažerské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odnikatelské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projek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B2B-53C3-4C9C-8ED2-0D855EC2F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2.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rojekt</a:t>
            </a:r>
            <a:r>
              <a:rPr b="0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– specifický způsob dosažení změny, dočasná aktivita, která sjednocuje a organizuje úsilí různých odborností na vytvoření záměru. Jde zpravidla o jednorázový úkol se specifickými časovými a nákladovými cí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rojektové řízení  (projektový management)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– uplatnění specifických nástrojů, technik, znalostí a dovedností v projektových činnostech s cílem splnit úkoly stanovené projek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lán projektu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– formální, schválený dokument používaný pro řízení a kontrolu realizace proje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Vedoucí projektu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– osoba vybavená příslušnou působností, pravomocí a odpovědností, která organizuje a koordinuje úsilí k dosažení záměrů projektu. Měla by disponovat vhodnými osobními vlastnost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172-45DB-4B1B-A260-76057FBF3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2. Základní pojmy -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pokračová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jekt </a:t>
            </a:r>
            <a:r>
              <a:rPr b="1" i="1" lang="cs-CZ" sz="3200" spc="-1" strike="noStrike">
                <a:solidFill>
                  <a:srgbClr val="ffcc66"/>
                </a:solidFill>
                <a:latin typeface="Times New Roman"/>
              </a:rPr>
              <a:t>zahrnuje 3 dimenze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- tzv. </a:t>
            </a:r>
            <a:r>
              <a:rPr b="1" i="1" lang="cs-CZ" sz="3200" spc="-1" strike="noStrike">
                <a:solidFill>
                  <a:srgbClr val="ffcc66"/>
                </a:solidFill>
                <a:latin typeface="Times New Roman"/>
              </a:rPr>
              <a:t>trojimperativ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, a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věcnou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- CO se musí udělat, (JAK kvalitně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ou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- KDY se to má uděl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nákladovou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- ZA KOLIK se to musí udělat, (spotřebovaná práce, finan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D0A-FA83-4985-951F-DE9B2527AB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3. Vlastnosti projek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řed započetím rozsáhlejší pracovní činnosti je vhodné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zpracovat 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projek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- vědět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co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,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kdy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,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jak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,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kde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,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za kolik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získat informace o potřebných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zdrojích, časovém horizontu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a požadované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kvalitě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Možnost měnit průběh projektu s ohledem na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neočekávané události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Dosažení požadovaných cílů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Lze určit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stav i termín začátku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,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dobu trvání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(která je konečná) a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termín dokončení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je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jekty se zpravidla člení do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dílčích procesů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, které mohou probíhat paralelně, či následn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oordinací procesů, jejich kontrolou i operativním řešením vzniklých problémů se zabývá právě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projektový managemen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Cílem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projektového managementu je zajistit, aby projekty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dodržely časový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harmonogram, rozpoče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a byly zpracovány v požadované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kvalitě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FF2-A367-418B-B061-78E19F7989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4. Náležitosti projek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innosti nutné k realizaci projektu jsou obvykle jedinečné, časově omezené, nicméně je možné shrnout je 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4 základních etap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35C-07F6-44E2-8CFC-D3EBE09313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5. Vymezení projek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Je týmová analýza problému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, který je třeba řešit, identifikují se potřeby a cíle, generují možná řešení, stanovuje strategie, hodnotí se úroveň rizika, odhadují se požadavky na zdroj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Důvody pro vznik projektu mohou bý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externí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– poptávka na trhu, požadavek zákazníka, legislativní změn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interní</a:t>
            </a:r>
            <a:r>
              <a:rPr b="0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– řešení vývojového problému, implementace opatření zaměřeného na zlepšení podnikových procesů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Dříve, než se zpracuje definitivní podoba zadání projektu, je třeba provést </a:t>
            </a: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vyhodnocení zvoleného návrhu</a:t>
            </a:r>
            <a:r>
              <a:rPr b="1" lang="cs-CZ" sz="1800" spc="-1" strike="noStrike">
                <a:solidFill>
                  <a:srgbClr val="ffcc66"/>
                </a:solidFill>
                <a:latin typeface="Times New Roman"/>
              </a:rPr>
              <a:t>.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yhodnocení může být impulsem pro doplnění či upravení podkladů nebo pro postoupení návrhu přímo k dalšímu řízen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C06-19E7-403E-ABEF-BF0A44A341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6. Plánování projektu 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ýstupem procesu plánování je plán projektu, vymezující jednotlivé dimenze projekt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Určení </a:t>
            </a:r>
            <a:r>
              <a:rPr b="0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věcné dimenze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znamená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ymezit všechny činnosti nutné k naplnění proje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tanovení pořadí jednotlivých činností a jejich návazn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lánování </a:t>
            </a:r>
            <a:r>
              <a:rPr b="0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časové dimenze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určit časové intervaly, termíny začátku a dokončení jednotlivých činno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aždé činnosti přiřazuje několik časových hodn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Možné techniky ke stanovení celkového časového harmonogramu projektu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9810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Ganttovy diagra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981080" indent="-60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íťové analýz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BFC-BA4C-44B2-91DC-0B14F6ED96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6. Plánování projektu II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Nákladová dimenz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ymezení zdrojů nutných k realizaci jednotlivých činnost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odhad náklad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tanovení rozpočtu náklad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Pro úspěšnou realizaci projektu je třeba stanovit i </a:t>
            </a:r>
            <a:r>
              <a:rPr b="0" i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organizační dimenz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ymezit realizační týmy, stanovit kompetence a odpovědnost za realizaci celkového projektu, ale i za splnění jednotlivých dílčích činností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cc66"/>
                </a:solidFill>
                <a:uFillTx/>
                <a:latin typeface="Times New Roman"/>
              </a:rPr>
              <a:t>Výstup etapy plánování projektu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musí vyjasni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dy začne a kdy skončí realizace proje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jaké budou dílčí činnosti a jejich výstupy a jaký je celkový rozpočet projekt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teré činnosti jsou „rizikové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 jakými rezervami projekt počít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které útvary a kteří pracovníci jsou odpovědni za realizaci projek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ktové řízení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375-5A49-402F-AE25-A4DEADBC7C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8:56:12Z</dcterms:created>
  <dc:creator>Andrea</dc:creator>
  <dc:description/>
  <cp:keywords/>
  <dc:language>en-US</dc:language>
  <cp:lastModifiedBy>Andrea</cp:lastModifiedBy>
  <dcterms:modified xsi:type="dcterms:W3CDTF">2006-12-27T20:56:47Z</dcterms:modified>
  <cp:revision>9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21029</vt:lpwstr>
  </property>
</Properties>
</file>