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2.png" ContentType="image/png"/>
  <Override PartName="/ppt/media/image10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53D6-DB44-4FB3-8DC4-11BF7059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68E5-8A45-4430-AB84-5636C505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4A3-4491-4557-A514-815DAE59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A1F1-FFDD-4C85-9EEF-4C730D6F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7985-EF2C-4D5A-8CC8-91A1490F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B365-18C4-48A1-A4C2-5C450A2F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551D-6698-4CBC-A7B4-6A096E82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A637-5167-4341-9FAC-26FDC678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8769-0BE1-4EA1-A03D-D4BF9E4E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588D-A7AF-49A5-87D7-BEE63F7C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C1AA-B54D-4D54-A7B4-9CEA3B45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72D-3F8E-47B6-94B4-5F402FD8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5BB8-89E6-4E55-A067-83367D97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DAC1-823D-435D-BA36-9875F502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1DDF-E3CE-44F4-AA0B-BCAC0861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AA50-DC21-426F-A7CA-D63E6287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8B3B-AB35-4161-AB8D-84A5BE4F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C26-7B58-4AE9-BF80-87D7CD7F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E3FC-401B-4D1C-895D-6FE43971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420-FACB-433E-A4D1-542CE748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38F-A906-43EA-A808-1A29FB2E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F0E-F14D-41D7-ACF7-04530726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977F-89F1-43A9-B088-66F6F186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E181-FE4A-4D01-B474-C73DA0AE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6785-F654-4F7C-B4EF-BB3CCD0638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ED1A-6160-422D-AFA9-9244C9158C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2000"/>
            </a:b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Zpracovaly:</a:t>
            </a: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Bc. Julie Motyčková</a:t>
            </a: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leden ’07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Bc. Petra Mlčochová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Verdana"/>
              </a:rPr>
              <a:t>Bc. Dagmar Fraitová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198900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278136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TAKEHOLDERSK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OJETÍ  PODNI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156360" y="2421000"/>
            <a:ext cx="228600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568-F2BD-41E1-A3A9-3B8A13BF9F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429000"/>
            <a:ext cx="90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ěkujeme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027-0576-4872-B59A-39580324D7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Stakeholderské pojetí podnik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užitá literatur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NEUMAIEROVÁ, I. – NEUMAIER, I. </a:t>
            </a:r>
            <a:r>
              <a:rPr b="1" i="1" lang="cs-CZ" sz="1200" spc="-1" strike="noStrike">
                <a:solidFill>
                  <a:srgbClr val="000000"/>
                </a:solidFill>
                <a:latin typeface="Verdana"/>
              </a:rPr>
              <a:t>Výkonnost a tržní hodnota firmy.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1. vyd. Praha : Grada, 2002. 215 s. ISBN 80-2470-125-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YNEK, M. a kol. </a:t>
            </a:r>
            <a:r>
              <a:rPr b="1" i="1" lang="cs-CZ" sz="1200" spc="-1" strike="noStrike">
                <a:solidFill>
                  <a:srgbClr val="000000"/>
                </a:solidFill>
                <a:latin typeface="Verdana"/>
              </a:rPr>
              <a:t>Podniková ekonomika.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3. vyd. Praha : C. H. Beck, 2002. 479 s. ISBN 80-7179-736-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Verdana"/>
              </a:rPr>
              <a:t>VÁGNER, I., Management z pohledu všeobecného a celostního. 3 vyd. Brno: 2004. 608 s. ISBN 80-210-3536-6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BLAŽEK, L. - DOLEŽALOVÁ K. - KLAPALOVÁ A. – ŠIŠKA, L. </a:t>
            </a:r>
            <a:r>
              <a:rPr b="1" i="1" lang="cs-CZ" sz="1200" spc="-1" strike="noStrike">
                <a:solidFill>
                  <a:srgbClr val="000000"/>
                </a:solidFill>
                <a:latin typeface="Verdana"/>
              </a:rPr>
              <a:t>WP č. 11/2005 : Metodická východiska zkoumání a řízení inovační výkonnosti podniku.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ISSN 1801-4496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ARMSTRONG, M. -</a:t>
            </a:r>
            <a:r>
              <a:rPr b="1" i="1" lang="cs-CZ" sz="1200" spc="-1" strike="noStrike">
                <a:solidFill>
                  <a:srgbClr val="000000"/>
                </a:solidFill>
                <a:latin typeface="Verdana"/>
              </a:rPr>
              <a:t>Řízení lidských zdrojů.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8. vyd. Praha: Grada Publishing, 2001. 815</a:t>
            </a:r>
            <a:r>
              <a:rPr b="1" i="1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. ISBN 80-247-0469-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D92-F450-4BE6-B376-76BAB68442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Stakeholderské pojetí podniku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hareholderské pojetí podnik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keholderské pojetí podnik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859280" y="2708280"/>
            <a:ext cx="3463920" cy="3246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AD0F-42A6-4E90-B894-C86508D4F3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Stakeholderské pojetí podniku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752480"/>
            <a:ext cx="482436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keholder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ájmové skupiny,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Tři obecné rys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isponují něčím, čeho se firmě nedostává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ávají toto své vlastnictví jako vklad, tím se zároveň stávají závislí na činnosti firmy a současně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sou pro firmu určitým způsobem významní, případně firmu ohrožují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3084480" cy="35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59F-6E25-445A-9AFB-E9D33F2333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Stakeholderské pojetí podniku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924360" y="1773360"/>
            <a:ext cx="5904000" cy="424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10920" y="1844280"/>
            <a:ext cx="4537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členění stakeholder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užší pojetí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: závisí na nich trvalá existence podnik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širší pojetí</a:t>
            </a: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šichni, kdo mohou ovlivnit dosažení cíle podnik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3 sféry podniku</a:t>
            </a:r>
            <a:r>
              <a:rPr b="1" lang="cs-CZ" sz="13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drojová základna, odvětví a sociálně-politické okolí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5BB-8618-4EE9-A98A-6FD941A42E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Typologie teorie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takeholderského pojetí podniku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439092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rmativ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my by se měly chov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rčitým způsob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rumentál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dyž splní normy a použi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rčité nástroje dosáhno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épe svého cí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kriptiv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dniky se chovají určitý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způsob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2664000" cy="1130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724360" y="2997360"/>
            <a:ext cx="2664000" cy="154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66400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1C2-A3C0-4F36-82C5-23E52E5C98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Verdana"/>
              </a:rPr>
              <a:t>Stakeholderské pojetí podniku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Čtyři formy chování firem vůči stakeholderů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aktivn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způsobiv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brann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eaktivn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356000" y="1557360"/>
          <a:ext cx="460872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557360"/>
                    <a:ext cx="460872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E44-3E19-416B-9095-110F4C11BE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takeholderská skupina - zákazní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2420640"/>
            <a:ext cx="6093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TQM (ISO 9001), EFQM Excellence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2240" indent="-350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trategick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22240" indent="-3506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perativní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stomer servi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ntr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22240" indent="-3506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nalytický (SQL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Finanční management (ABC, CLTV, TC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Logistický management-vytváření hodnoty (KP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Kombinované metody (BS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659640" y="3789360"/>
            <a:ext cx="2260440" cy="2057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1793880"/>
            <a:ext cx="10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ůzné možnosti přístupu řízení vztahů se zákazn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5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C5B-8851-4BCC-864D-4E18483F89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takeholderská skupina - zaměstnan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001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dnocení a motivace zaměstnanc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fektivní odměňování zaměstnanc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zdělávání zaměstnanc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rganizační kul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agement znalost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32720" y="4076640"/>
            <a:ext cx="2016000" cy="2014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-469087200" y="-464743800"/>
            <a:ext cx="14801760" cy="14630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-469087200" y="-464743800"/>
            <a:ext cx="3925800" cy="387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6443640" y="981000"/>
            <a:ext cx="2462400" cy="16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AE59-2622-46A3-BF87-ACD8AC2AC8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trategické řízení lidských zdrojů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54734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3 hlavní přístup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Existuje  jediná nejlepší strategie řízení lidských zdroj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trategie HRM „šitá na mír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„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figurační přístup k H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651640" y="1989000"/>
            <a:ext cx="3348000" cy="34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A4CB-4EDD-4ED4-BC2E-4D2658CD39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7:44:47Z</dcterms:created>
  <dc:creator>dfraitova</dc:creator>
  <dc:description/>
  <dc:language>en-US</dc:language>
  <cp:lastModifiedBy>PaT</cp:lastModifiedBy>
  <dcterms:modified xsi:type="dcterms:W3CDTF">2007-01-12T14:53:45Z</dcterms:modified>
  <cp:revision>23</cp:revision>
  <dc:subject/>
  <dc:title>Snímek 1</dc:title>
</cp:coreProperties>
</file>