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186D-FAE2-4153-B28A-EA9BA818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8D1A-4BE4-4EAB-90DE-80787346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CD81-9C81-4D51-A224-1A6D9009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DDFC-D053-44C6-8522-4D0A852D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41E3-026D-47FB-B369-0EF1DF6A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2764-D359-4986-9A3E-148B984D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7862-F02B-4AB5-97DB-831420F6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EF2F-25CD-4879-B671-A7937145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F611-FE11-4695-B0AC-30C25119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CABC-18D5-4B9F-886D-0C1C9026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0F66-E71B-472C-819A-4FB8E039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AC61-FAA1-4A9D-98BC-B51C17E1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0825-C15A-4BA6-8E1C-6497540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EDF9-4BC6-4BD0-B293-A83774CF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68A0-F591-4954-842D-18A6687E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E4E9-202D-46B4-B9FC-B7F6CCAF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5786-8E0C-4186-BB33-3BA55D9C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27B6-221D-4878-928D-E5E1DD94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BFEC-A96D-4A51-89B5-48FA571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3DD63-8672-4241-8EE3-4BE0E294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74678-D3FA-4801-AA2C-56F67B27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2F50-376C-4F3C-B579-3AFEF715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1978-3CD7-4BE5-BB48-CE1E6113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47580-BA19-41F3-874A-6437C7C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B577-7751-40E4-B55B-71228241E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197D-DDFD-46F3-9AEF-06452AC51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of.cz/" TargetMode="External"/><Relationship Id="rId2" Type="http://schemas.openxmlformats.org/officeDocument/2006/relationships/hyperlink" Target="http://www.sof.cz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Společenská odpovědnost fire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Management II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c. Jana Kračma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řináší CSR firmám a jejich zaměstnancům v prax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pší image a posílení věrnosti znač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lepšení výkonu tým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 při odlišení od konku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fektivní rozvoj manažerských dovednost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lepšuje morálku, buduje loajalitu překonáváním odstupu mezi firmou a komunit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ůsob jak ukázat, že firma je seriozní celkově - zvýšení úrovně firemní kul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užíté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of.</a:t>
            </a:r>
            <a:r>
              <a:rPr b="0" lang="cs-CZ" sz="2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blf.cz/csr/cz/vyzkum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sof.cz/download/Napric-SOF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sof.cz/download/co-je-sof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http://www.sof.cz/download/781_03_aisis%20brožura%20sof.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Děkuji za pozornost!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je společenská odpovědnost firem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SR je dobrovolné integrování sociálních a ekologických hledisek do každodenních firemních operací a interakcí s firemními stakeholders.  (Evropská unie, Zelená kniha 20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SR je způsob podnikání, který odpovídá či jde nad rámec etických, zákonných, komerčních a společenských očekávání. (Nevládní organizace Business for Social Responsibilit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SR je kontinuální závazek podniků chovat se eticky a přispívat k ekonomickému růstu a zároveň se zasazovat o zlepšování kvality života zaměstnanců a jejich rodin, stejně jako lokální komunity a společnosti jako celku. (World Business Council for Sustainable Development, 199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incip triple bottom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SR v ekonomické obl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SR v sociální obl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SR v environmentální obl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CSR ne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SR je mylně zaměňováno za dárcovství nebo za prosté chování v souladu se zákon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ště obtížnější je odlišení CSR od Public Relations a marketingu.  (Jisté překrývání PR aktivit se CSR je však přirozené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R v zemích Evropské u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SR Europe (1996) - Jacques De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sabonský summit v březnu 2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elená kni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rovolnost C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organizace či organizace zastupující zájmy firem trvají na dobrovolnosti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ivné nevládní organizace tlačí na povinný a právně vymahatelný rámec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dobrovolnost CR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vidí jako nemožné nalezení jednotné CSR šabl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povinný rámec CS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vidí hlavní hrozbu v redukci CSR na pouhé firemní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to se tedy hovoří o možnosti "třetí cesty" mezi regulací a dobrovolným přístupem, tzv.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"smart regulation"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která by spočívala v definování závazných minimálních standardů za současného ponechání prostoru pro variabilitu a flexibili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 objektivně hodnotit společenskou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povědnost jednotlivých fir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ě jsou vyvíjeny snahy ke sjednocení, standardizaci a transparentnosti CSR aktivit a k nalezení přímé a jednoduché cesty komunikace těchto informací spotřebitel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jednotných kritérií CSR často podporují i firmy samotné, neboť mají zájem dodat svému CSR patřičnou kredibili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známějšími a skutečně globálními iniciativami na tomto poli js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ECD Guidelines for Multinational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lobal Reporting Initiative (GR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bě mají dobrovolný charak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dpora st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át či vláda mohou šíření tohoto trendu podpořit tím, že vytvoří odpovídající podmínky pro jeho hlubší zakoře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tvoření vhodného legislativního rám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dávání veřejných zakáze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pora formou propag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ci a komunikaci mezinárodních iniciat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S z pohledu malých a středních podnik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ní možné, aby se celá věc odehrávala pouze na úrovni korporací. Pro rozšíření a zakořenění CSR je zásadní, aby byla relevantní i pro malé a střední podnik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dávný průzkum v rámci EU ukázal, že 50% evropských malých a středních podniků již vyvíjí aktivity, které spadají do oblasti CSR. (zejména dárcovství do oblasti kultury, sportu a obecně prospěšných projekt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ístup MSP je charakteristický svou lokálností, občasností a minimální či nulovou provázaností s podnikovou strategi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19:17:43Z</dcterms:created>
  <dc:creator>Worker</dc:creator>
  <dc:description/>
  <dc:language>en-US</dc:language>
  <cp:lastModifiedBy>Ing. Radim Jančura</cp:lastModifiedBy>
  <dcterms:modified xsi:type="dcterms:W3CDTF">2007-01-11T17:57:45Z</dcterms:modified>
  <cp:revision>15</cp:revision>
  <dc:subject/>
  <dc:title>Společenská odpovědnost firem</dc:title>
</cp:coreProperties>
</file>