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1E63-9A09-4B8F-A20B-81C8EBDF6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41C5-8E56-4AB7-8FDF-6E5CF8C51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9FFF-7C85-402C-8F71-0F81D7B33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5053-D30F-462A-9220-6B9FA9B45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B321-F317-4804-8328-CEFD7402C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4AFB-2D2D-4D84-8B8A-F2FFED382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F1EA-3D49-444C-8C32-32BA9317F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995D-8834-453E-A822-EF99A1AD8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D19F-7BD5-4D3E-9F44-D0DE83277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C7BD-74A7-4010-9CCF-F12C6ADAB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16B4-CDF6-4349-A246-9727A8571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E46D-17BA-47ED-B655-E3B1CE196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2A2E4-BBF3-48DA-8F6D-624A2A4978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87240" y="887400"/>
          <a:ext cx="7769520" cy="5083200"/>
        </p:xfrm>
        <a:graphic>
          <a:graphicData uri="http://schemas.openxmlformats.org/drawingml/2006/table">
            <a:tbl>
              <a:tblPr/>
              <a:tblGrid>
                <a:gridCol w="3884760"/>
                <a:gridCol w="388476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gnitivní, poznávací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třeby v dané kategorii produkt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vědomí o znač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nalost znač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fektivní, emocionální a smyslov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city vyvolané reklamo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toj k reklamě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liba znač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toj ke znač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zor na značk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okojenost se značko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nativní, behavioráln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kupní zámě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k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pakovaný nák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ajalita ke znač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12:10:50Z</dcterms:created>
  <dc:creator>kozakova</dc:creator>
  <dc:description/>
  <dc:language>en-US</dc:language>
  <cp:lastModifiedBy>kozakova</cp:lastModifiedBy>
  <dcterms:modified xsi:type="dcterms:W3CDTF">2005-12-05T12:11:04Z</dcterms:modified>
  <cp:revision>1</cp:revision>
  <dc:subject/>
  <dc:title>Prezentace aplikace PowerPoint</dc:title>
</cp:coreProperties>
</file>