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693B-77B0-451E-9030-C6C87F0C2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8D89-5FAC-44F0-8E39-246B09D5F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9AC8-4025-46C3-8F4F-6694B8DA1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27A3-FB58-45A1-A82F-BE044D655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F73C-9745-4F7C-B814-15487733E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D247-6702-4A81-B6AE-CC2976369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3CD6-8F5F-4A1D-9117-3C9530B70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9994-E2FF-4F12-A18D-7AFE73B48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1EF2-C784-468C-B503-7475F3E59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A1EE-D999-4CB5-9905-35887535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715A-4401-4C9C-8832-8A91F0F8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5E30-DE32-4DE7-95A3-F722187D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DD930-DDFC-4533-B619-1C0F04B767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48520" y="2590920"/>
            <a:ext cx="2438280" cy="26668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324480" y="33526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am se chceme dost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3124080"/>
            <a:ext cx="2514600" cy="144792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34290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ak se tam dostane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2666880"/>
            <a:ext cx="2361960" cy="2514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3581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de js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676520"/>
            <a:ext cx="914400" cy="5331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0572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1752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34320" y="1828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1828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48:50Z</dcterms:created>
  <dc:creator>kozakova</dc:creator>
  <dc:description/>
  <dc:language>en-US</dc:language>
  <cp:lastModifiedBy>kozakova</cp:lastModifiedBy>
  <dcterms:modified xsi:type="dcterms:W3CDTF">2005-12-02T13:49:30Z</dcterms:modified>
  <cp:revision>1</cp:revision>
  <dc:subject/>
  <dc:title>Prezentace aplikace PowerPoint</dc:title>
</cp:coreProperties>
</file>