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74D3-75F9-4873-85D3-ED826B189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4701-1D9F-41A4-868C-BD037FC91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B517-B7BC-4C1A-BF00-91579A718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A070-E624-41D8-818D-56FE97C67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7821-4981-48B9-94D7-3A5B80AF8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27F6-4B3B-4E61-BA28-6649D29A9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3429-D198-4A6D-AD47-076FE4BB6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3BA3-FB75-48D9-B5B1-2DC3225D2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D5B4-E4DD-4591-843A-5636C7EB9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9064-23E4-414E-9645-142DB078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1E8B-1671-4C9A-A7C7-6642CBFD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83A8-814E-410F-9E7C-F40BF13F9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60B7F-8648-444F-A348-57CD9625B2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248520" y="2590920"/>
            <a:ext cx="2438280" cy="26668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324480" y="335268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am se chceme dost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3124080"/>
            <a:ext cx="2514600" cy="144792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05320" y="34290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ak se tam dostane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2666880"/>
            <a:ext cx="2361960" cy="2514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3581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de js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676520"/>
            <a:ext cx="914400" cy="5331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705720" y="1752480"/>
            <a:ext cx="914400" cy="533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9880" y="1752480"/>
            <a:ext cx="914400" cy="533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1752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934320" y="1828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1828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48:50Z</dcterms:created>
  <dc:creator>kozakova</dc:creator>
  <dc:description/>
  <dc:language>en-US</dc:language>
  <cp:lastModifiedBy>kozakova</cp:lastModifiedBy>
  <dcterms:modified xsi:type="dcterms:W3CDTF">2005-12-02T13:49:30Z</dcterms:modified>
  <cp:revision>1</cp:revision>
  <dc:subject/>
  <dc:title>Prezentace aplikace PowerPoint</dc:title>
</cp:coreProperties>
</file>