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E95-F743-4FB2-8063-B89709EA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E98-58CA-4C1E-BB39-0383EB5F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E25-15EC-43BA-8C73-7222B074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6A1-A2D3-41C8-A6C4-5E325927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20B5-262A-4127-BF6A-AC0ABA12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2572-F7A0-466F-BB77-C40DFB83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D822-3D79-4EA5-8395-1E2589C4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57C2-C6E5-444B-B6A6-1F51AE16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7C91-504B-4DB5-AB2E-CDFE7A13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441D-C613-4FD4-A628-3C001684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2B68-8150-4404-A321-BE05CAF1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155-028F-4CA9-891B-A3B70E96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1FEF-67E0-4487-BA2A-3A7B69E6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A8EC-E466-40EC-9840-4EB102CE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8157-0652-47AB-9A89-A3122D84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13F5-6674-42BD-93AB-0F272AD3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EB2A-561A-49FE-ABFC-7D20185F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976-6D9B-42DC-B126-DDEC12CE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9D7-F9A4-4BD5-9A78-2DD08E22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85D-9C00-4481-B039-6311B075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1E5-2093-4F5A-8881-C3789B8C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554-29C0-4C07-BA24-2406CDC6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CA4-FBA7-434E-B3F8-0F6BD84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2B8-7DB0-4169-85DF-86B416B9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D6D9-FCE1-4244-803D-10BD22143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B6A8-4BBB-479D-B634-99B88B00010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0920" y="12952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86950"/>
                </a:solidFill>
                <a:latin typeface="Times New Roman"/>
              </a:rPr>
              <a:t>Strategické aliance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876920" y="29714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Vypracovali: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Ondřej Chlup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         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Petr Procházka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         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Lukáš Przybylski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redukci konkurenčních střetů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čátky od pol. 80.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víjení spolupráce dřívějších klasických konkure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M –  Toyot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montáž automobil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M –  Daewoo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robní kooperace součástí a díl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emens –  Philips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voj mikroelektroni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emens –  Fujits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nákup PC a částí PC technolog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d –  Mazd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prodej náhr. dílů partnera na svém domácím tr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ěžko kontrolovatelné nadnárodní vztahy (strategické aliance uzavřené často neformálními dohodami) vedly k ohrožení volné soutěž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876920"/>
            <a:ext cx="9907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259-26EF-4DC6-834B-209DA54673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Teoretické východisko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 články uveřejněné v časopis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rvard Business Revie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Gary Hamel, Yves L. Doz a C.K. Prahala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Collaborate with Your Competitors – and W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Spolupracuj se svými konkurenty – a vyhraj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Kenichi Ohma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The Global Logic of Strategic Allianc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Globální logika strategických aliancí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Rosabeth Moss Kantero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Collaborative Advantage: The Art of Allianc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Výhoda spolupráce: Umění aliancí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ztrácet síly vzájemným bojem. Obejít střety s konkurenty vytvářením společných strategických aliancí. Účelem nejen vyhnout se „krvácení v konkurenčním zápolení“, ale i posílit vlastní pozi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886200"/>
            <a:ext cx="10666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10B-5C99-4A71-A383-8CB2BEC713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Základní obecná doporučení ke spolupráci s konkurenc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artneři se mohou snažit vás odzbroj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ěkteré konflikty a nebezpečí motivují manažery ke zlepšení jejich výk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aždá kooperace má svá omezení a vyžaduje umění dělat kompromis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olupráce s konkurenty může být velmi hodnotným zdrojem učení 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trategická aliance umožňuje monitorovat konkurentovy schopnosti, silné a slabé stránk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ůže být dočasným partnerstvím v boji proti jinému silnějšímu konkurentov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179-2E93-4F36-BB0F-BBDFE2F239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íťové alianc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dříve dvojstranné aliance s konkur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es bilaterálnost nahrazována mnohostranností, vznikají různé typy síťových alia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ko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tvořit kritický potenciál pro prosazení určité podnikatelské strategické politiky sítě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jistit nebo zlepšit ochranu partnerů před ostatní konkure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CE2-1CF9-4F7C-9EB5-B423754029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Uzlová pozice v síťové alianci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lná strategická pozice firmy na „uzlové pozici“ v síti („nodal position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ožňuje firmě být lídrem rozvoje dané oblasti podnikání a získat hlavní podíl zis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ganizace v uzlové pozici si klade cíle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at existující, popř. vytvářet nové podnikatelské příležitos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ískat včas do své sítě potenciální i reálné konkuren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abilizovat si rychle uzlovou pozici a stát se lídrem určité oblasti s ofenzivní strategií („first mover“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tom je nutné, aby pro partnery bylo výhodné být součástí sí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3CB-3B40-4552-89FB-226633D40A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vznik, přenos a využití znalost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deckotech. rozvoj v 2.pol. 90.let      inovační rozvoj podnikatelské činnosti v globální společnosti         tendence rozvoje strategických alia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lání aliancí se rozšiřuje o umění získávat, sdílet, osvojovat si a hlavně zhodnocovat data, informace a znalosti pro podnikatelskou čin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užití internetu k usnadnění a zrychlení propojení partnerů v alianci, systémy e–business, e–banking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irma, která si vytvoří přednostní přístup k potřebným informacím a disponuje relevantním znalostmi, má ve stále větší míře rozhodující konkurenční výho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21337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4382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13716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3DA-7789-4F2D-B28D-0C63217B1D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Typické možnosti využit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rychlit inovační a další změny výrobního programu transferem technologií a dalších relevantních znalostí part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ychle a účinně zlepšit profesní a kvalifikační profil managem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lepšit image organizace vůči zákazníků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užitím informací a informačních kanálů partnera snadněji získat potřebné informace a znal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at potřebné informace o samotném partnerovi pro případ budoucího rozchodu, meržingu a akviz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AAE-D7ED-4C0D-8A67-F9B5D5ACCC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406-0D32-40DC-B659-0D8F8DB9B5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oužitá literatura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ÁČEK, L., VODÁČKOVÁ, O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ké aliance se zahraničními partne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aha : Management Press, 2002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EBER, J. a kol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ment. Základy, prosperita, globaliz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Praha: Management Press, 2000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GNER, I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z pohledu všeobecného a celostníh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rno : Masarykova univerzita, 200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N HRON, IVANA TICHÁ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trategické aliance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ha: Česká zemědělská univerzita, 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F4A-8060-4696-8EE8-C5C4976D38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Definice pojmu „Strategické aliance“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uje větší počet defini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ce, kterou uvádějí Jassica Lipnacková a Jaffrey Stamps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„Podniky vytvářejí aliance, aby si zajistily specifické podnikatelské potřeby a mohly zareagovat na příležitosti, které nemohou zvládnout interními silami. Společně pracují na dosažení svých strategických cílů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020-FD66-4643-B5A4-E044E695D5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roblém s názvoslovím v literatuř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egic 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operative V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operation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firm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rporate 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llaborative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egic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816-B182-444A-968B-49809CADDB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Základní formy strategických alianc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olné“ form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příležitostná spolupráce, „tiché“ neformální doh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rategické alia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v užším pojet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oint v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ěsné form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fúze, splynutí, akviz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6F7-7FBE-40A8-8012-730B0FCA11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Rozdělení strategických aliancí podle různých kritéri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unkč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výrobní, marketingové, výzkumné a vývojové, prodejní, finanční, investiční…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eritoriál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tuzemské, zahraniční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Organizač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horizontální, vertikální, síťov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Vlastnické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soukromé, veřejno-právní alia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Hledisko cílové orientac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ziskové, neziskov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Hledisko trvání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příležitostné, krátkodobé, dlouhodob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C52-8283-4EA2-8231-11888B5C28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Strategické aliance v moderním podnikán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dnikán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realizací lidské vlastnosti podnikavosti, tj. schop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vit (identifikovat), a/ne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měrně vytvoř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k návazně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čel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účin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užít příležitosti, které podnikatelskému subjektu vznikají z aktivní spolupráce s okol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 spolupráce (kooperace) s podnikatelským okolí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zitivní koope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ní kooper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715-3592-4370-84A1-F2CB8889BB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istenc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izi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neurčitost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pro podnikání typická. Přiměřená rizikovost je jedním z hlavních kritérií zda partnerství uzavřít či neuzavří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pomáhají úspěchu jak vnějšího („enterpreneurship“), tak vnitřního („intrapreneurship“) podnikání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Strategické aliance v moderním podnikán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C42-DA0A-4887-AD7F-6349E6A363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Klasifikační uspořádání strategických alianc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dílení činností a zdrojů partnerů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od poč. 80. let min.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dukci konkurenčních střetů (negativní kooperace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přelom 80. a 90. let min.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znik, přenos a využití znalost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od poč. 90.let min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64F-0BC1-4F94-8CF0-DB9A86A1C4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sdílení činností a zdrojů partnerů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Teorie integrovaného řízení – systematické řízení procesu účelného a účinného přiřazování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ných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činnos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ných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zdroj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Uvažované procesy přiřazování činností a zdrojů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robíhají v prostoru a ča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hodná volba procesů =&gt;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ozitivní integrační, popř. synergické efekty spoluprá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37B-E390-401F-80ED-4D66C42B6B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2:09:41Z</dcterms:created>
  <dc:creator>Nada Chlupova</dc:creator>
  <dc:description/>
  <dc:language>en-US</dc:language>
  <cp:lastModifiedBy>99900</cp:lastModifiedBy>
  <dcterms:modified xsi:type="dcterms:W3CDTF">2006-10-18T09:52:58Z</dcterms:modified>
  <cp:revision>12</cp:revision>
  <dc:subject/>
  <dc:title>Strategické aliance</dc:title>
</cp:coreProperties>
</file>