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451-C75F-4BB3-A5F9-C5820809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2DF-88EA-43AE-8219-B9C6AC5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09C-D049-4500-925F-BA31AAE2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B76-A991-4CC6-9088-F8691549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73D4-FAE7-4B4B-976E-EC2159B3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14F-BEFA-47E0-8340-77168B2D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1BBF-9E11-4390-9F3D-71AA4D54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5E74-377A-47B2-8EA1-EC5D091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B971-FA08-4829-88F9-511031B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197F-804E-4ADD-9395-2911F6AB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332-B758-412D-9F9A-C24A32F1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5DF-B715-4567-BFBE-228DFE09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F362-284A-4DE0-8965-9C86AAB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ACC3-143B-4494-A9CE-EBCFB31D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976-05F6-40EF-BF20-07E67B99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D42A-F7B9-4F4E-858A-891F6029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48F2-338E-45BB-80E9-B56AF497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643-828A-4C1A-BDB2-44C29415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B1C-01F2-448D-9886-D146C17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C2F-B429-451F-9B73-3CD0462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004-214B-4738-8D3E-AC76B37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5DF-CC53-4D71-869C-07835A3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D10-A21F-47A1-9EAB-A168DE5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834-B5FC-4E20-B2DE-B74B982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0F2A-07C5-437E-ADA6-2D23F8880C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DF1-0370-4096-8AD1-1D65F3D326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SVĚT ZMĚ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a 3.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druhé vlny není ještě vyčerpá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y mezi společnostmi druhé a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rychlující se svě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á existence 50000 let – 800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0 generací člověk strávil v jesky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ledních 70 generací komunikuje písm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generací zná tištěné sl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generace umí přesně měřit č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generace používají elektrický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. g. vynalezla většinu věcí denní potře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třeba energ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ovinu energie spotřebované za posledních 2000 let člověk spotřeboval za poslední stol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třeba energie je 10x vyšší než před 20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Šok z budouc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, TOFFLEROVÁ, H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Nová civilizac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ha : Dokořán 2001. ISBN 80-86569-00-4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ývoj lidské společnos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INDUSTRIÁLNÍ společ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PRVN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DRUHÉ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CIÁLNÍ VERZE VLNOVÉ ANALÝZ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ímá dějiny jako sled valících se vln    z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řuje pozornos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diskontinuitu děj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ov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lomové body (prům. revolu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N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jena se zemědělsk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800 let př. n. 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světově vyčerpána až na přelomu 17. a 18. století – trvala tisíc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prvn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da představuje základ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ované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ezená smě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oduchá dělb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avení člověka dáno jeho půvo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itářská pravo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HÁ VLNA a její příč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před 3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na zejména průmyslov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várny a parní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čtu a migrace obyvat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rokové společenské a politické myšle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komunikace s vynálezem knihtis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druhé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trhu a s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sová výroba v továr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lba práce a růst produk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služeb specializovaných instit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železnice a automobil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izační konflik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ŘET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před 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racování vl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náší naprosto nový způsob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třet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ojem ekonomiky je poznání– nevyčerpatelné zdro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sun od masových výrob ke special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měnitelnost profe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neustálých inov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integrace společnosti a stá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y v rodině, jiný typ nezaměstn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0-18T19:32:55Z</dcterms:modified>
  <cp:revision>5</cp:revision>
  <dc:subject/>
  <dc:title>SVĚT ZMĚN</dc:title>
</cp:coreProperties>
</file>