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45124-180A-4014-B999-42E1BB107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46712-B221-49FA-9F71-FD0EC932D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18210-16F6-412F-B623-AA7FC16A2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9477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242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2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9477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242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BE474-DAE2-4D2F-A19A-80B510C37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29789-89F9-46FE-9F5E-429C9D9AB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8B6FD-0E87-48A9-8A24-5B1F0A4A9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5E193-821A-4117-B606-180E8F547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9EB5A-05DF-4CE6-98D2-DB5092A2D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166E3-CC7A-474D-BC8A-84D4C4AD3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371240" y="533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46498-F6B3-4DAE-8652-DEB7A6E02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92207-5D65-4448-BE8F-1CC27A1D3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69FC7-7480-4853-B54F-016843138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45458-8361-47DC-8238-39C024CCA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791F6-9CA7-406C-A66F-6D0BD99CF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8A3D5-AD03-440E-93AB-DB769C9EA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45D28-C69B-42B1-9609-A61E0A060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9477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5242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3712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9477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5242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71D3A-2985-46E3-AE84-144145E73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3B4BA-190C-48B2-BA66-42BE7C0CC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7C61E-1790-44A0-86EC-0AC66F3F1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D15A2-FC00-403C-9091-173F2C22F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371240" y="533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0D4C0-62F2-49DF-A38B-BCAFD4AE2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7C10B-1FFB-4C5F-9594-4C3C0ADE1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23874-CB8B-4B73-9943-FCFC56E80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4F806-7B74-4C4E-B178-2336C7C26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3712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342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D2A2C-0915-41F2-AA70-CD57A6A3C7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19320" cy="68580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8695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F7A83-FBE0-48A7-8876-A50F0D7A1EFB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8695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580920" y="1295280"/>
            <a:ext cx="525780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786950"/>
                </a:solidFill>
                <a:latin typeface="Times New Roman"/>
              </a:rPr>
              <a:t>Strategické aliance</a:t>
            </a:r>
            <a:endParaRPr b="0" lang="en-US" sz="48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876920" y="2971440"/>
            <a:ext cx="411480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786950"/>
                </a:solidFill>
                <a:latin typeface="Times New Roman"/>
              </a:rPr>
              <a:t>Vypracovali:</a:t>
            </a: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78695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786950"/>
                </a:solidFill>
                <a:latin typeface="Times New Roman"/>
              </a:rPr>
              <a:t>Ondřej Chlup</a:t>
            </a: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786950"/>
                </a:solidFill>
                <a:latin typeface="Times New Roman"/>
              </a:rPr>
              <a:t>         </a:t>
            </a:r>
            <a:r>
              <a:rPr b="0" lang="cs-CZ" sz="3200" spc="-1" strike="noStrike">
                <a:solidFill>
                  <a:srgbClr val="786950"/>
                </a:solidFill>
                <a:latin typeface="Times New Roman"/>
              </a:rPr>
              <a:t>Petr Procházka</a:t>
            </a: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786950"/>
                </a:solidFill>
                <a:latin typeface="Times New Roman"/>
              </a:rPr>
              <a:t>         </a:t>
            </a:r>
            <a:r>
              <a:rPr b="0" lang="cs-CZ" sz="3200" spc="-1" strike="noStrike">
                <a:solidFill>
                  <a:srgbClr val="786950"/>
                </a:solidFill>
                <a:latin typeface="Times New Roman"/>
              </a:rPr>
              <a:t>Lukáš Przybylski</a:t>
            </a: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6600"/>
                </a:solidFill>
                <a:latin typeface="Times New Roman"/>
              </a:rPr>
              <a:t>Strategické aliance zaměřené na </a:t>
            </a:r>
            <a:r>
              <a:rPr b="1" lang="en-US" sz="3600" spc="-1" strike="noStrike">
                <a:solidFill>
                  <a:srgbClr val="996600"/>
                </a:solidFill>
                <a:latin typeface="Times New Roman"/>
              </a:rPr>
              <a:t>redukci konkurenčních střetů</a:t>
            </a:r>
            <a:endParaRPr b="0" lang="en-US" sz="36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očátky od pol. 80.le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rozvíjení spolupráce dřívějších klasických konkurentů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GM –  Toyota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(montáž automobilů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GM –  Daewoo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(výrobní kooperace součástí a dílů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iemens –  Philips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(vývoj mikroelektronik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iemens –  Fujitsu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(nákup PC a částí PC technologi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Ford –  Mazda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(prodej náhr. dílů partnera na svém domácím trhu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Těžko kontrolovatelné nadnárodní vztahy (strategické aliance uzavřené často neformálními dohodami) vedly k ohrožení volné soutěže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495680" y="4876920"/>
            <a:ext cx="99072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727de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rategické alian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99B7C-F9D3-4313-8B49-A3FDF148474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6600"/>
                </a:solidFill>
                <a:latin typeface="Times New Roman"/>
              </a:rPr>
              <a:t>Teoretické východisko</a:t>
            </a:r>
            <a:endParaRPr b="0" lang="en-US" sz="36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1066680"/>
            <a:ext cx="7315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99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 články uveřejněné v časopise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Harvard Business Review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d54f41"/>
                </a:solidFill>
                <a:latin typeface="Times New Roman"/>
              </a:rPr>
              <a:t>Gary Hamel, Yves L. Doz a C.K. Prahalad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„</a:t>
            </a:r>
            <a:r>
              <a:rPr b="0" lang="cs-CZ" sz="2000" spc="-1" strike="noStrike">
                <a:solidFill>
                  <a:srgbClr val="cc0000"/>
                </a:solidFill>
                <a:latin typeface="Times New Roman"/>
              </a:rPr>
              <a:t>Collaborate with Your Competitors – and Win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“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„Spolupracuj se svými konkurenty – a vyhraj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r. 198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d54f41"/>
                </a:solidFill>
                <a:latin typeface="Times New Roman"/>
              </a:rPr>
              <a:t>Kenichi Ohmae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„</a:t>
            </a:r>
            <a:r>
              <a:rPr b="0" lang="cs-CZ" sz="2000" spc="-1" strike="noStrike">
                <a:solidFill>
                  <a:srgbClr val="cc0000"/>
                </a:solidFill>
                <a:latin typeface="Times New Roman"/>
              </a:rPr>
              <a:t>The Global Logic of Strategic Alliances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“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„Globální logika strategických aliancí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r. 198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d54f41"/>
                </a:solidFill>
                <a:latin typeface="Times New Roman"/>
              </a:rPr>
              <a:t>Rosabeth Moss Kanterová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„</a:t>
            </a:r>
            <a:r>
              <a:rPr b="0" lang="cs-CZ" sz="2000" spc="-1" strike="noStrike">
                <a:solidFill>
                  <a:srgbClr val="cc0000"/>
                </a:solidFill>
                <a:latin typeface="Times New Roman"/>
              </a:rPr>
              <a:t>Collaborative Advantage: The Art of Alliances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„Výhoda spolupráce: Umění aliancí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r. 199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Neztrácet síly vzájemným bojem. Obejít střety s konkurenty vytvářením společných strategických aliancí. Účelem nejen vyhnout se „krvácení v konkurenčním zápolení“, ale i posílit vlastní pozic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343400" y="3886200"/>
            <a:ext cx="1066680" cy="5335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727de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rategické alian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4A271-62BA-472F-8B9F-B046AD75FE5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6600"/>
                </a:solidFill>
                <a:latin typeface="Times New Roman"/>
              </a:rPr>
              <a:t>Základní obecná doporučení ke spolupráci s konkurencí</a:t>
            </a:r>
            <a:endParaRPr b="0" lang="en-US" sz="36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partneři se mohou snažit vás odzbrojit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některé konflikty a nebezpečí motivují manažery ke zlepšení jejich výkonu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každá kooperace má svá omezení a vyžaduje umění dělat kompromisy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spolupráce s konkurenty může být velmi hodnotným zdrojem učení s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strategická aliance umožňuje monitorovat konkurentovy schopnosti, silné a slabé stránky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může být dočasným partnerstvím v boji proti jinému silnějšímu konkurentovi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rategické alian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C6127-DAF9-4893-923A-E8A60A934AD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94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6600"/>
                </a:solidFill>
                <a:latin typeface="Times New Roman"/>
              </a:rPr>
              <a:t>Síťové aliance</a:t>
            </a:r>
            <a:endParaRPr b="0" lang="en-US" sz="36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jdříve dvojstranné aliance s konkuren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es bilaterálnost nahrazována mnohostranností, vznikají různé typy síťových alianc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úkol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ytvořit kritický potenciál pro prosazení určité podnikatelské strategické politiky sítě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ajistit nebo zlepšit ochranu partnerů před ostatní konkurenc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rategické alian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0EF9E-896B-43D3-BCF1-9A675130066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6600"/>
                </a:solidFill>
                <a:latin typeface="Times New Roman"/>
              </a:rPr>
              <a:t>Uzlová pozice v síťové alianci</a:t>
            </a:r>
            <a:endParaRPr b="0" lang="en-US" sz="36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ilná strategická pozice firmy na „uzlové pozici“ v síti („nodal position“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umožňuje firmě být lídrem rozvoje dané oblasti podnikání a získat hlavní podíl zisk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Organizace v uzlové pozici si klade cíle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využívat existující, popř. vytvářet nové podnikatelské příležitosti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získat včas do své sítě potenciální i reálné konkurenty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stabilizovat si rychle uzlovou pozici a stát se lídrem určité oblasti s ofenzivní strategií („first mover“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itom je nutné, aby pro partnery bylo výhodné být součástí sít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rategické alian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44EB9-7340-4F64-BB02-531C3767C0A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6600"/>
                </a:solidFill>
                <a:latin typeface="Times New Roman"/>
              </a:rPr>
              <a:t>Strategické aliance zaměřené na </a:t>
            </a:r>
            <a:r>
              <a:rPr b="1" lang="en-US" sz="3600" spc="-1" strike="noStrike">
                <a:solidFill>
                  <a:srgbClr val="996600"/>
                </a:solidFill>
                <a:latin typeface="Times New Roman"/>
              </a:rPr>
              <a:t>vznik, přenos a využití znalostí</a:t>
            </a:r>
            <a:endParaRPr b="0" lang="en-US" sz="36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ědeckotech. rozvoj v 2.pol. 90.let      inovační rozvoj podnikatelské činnosti v globální společnosti         tendence rozvoje strategických alianc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oslání aliancí se rozšiřuje o umění získávat, sdílet, osvojovat si a hlavně zhodnocovat data, informace a znalosti pro podnikatelskou činn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yužití internetu k usnadnění a zrychlení propojení partnerů v alianci, systémy e–business, e–banking,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Firma, která si vytvoří přednostní přístup k potřebným informacím a disponuje relevantním znalostmi, má ve stále větší míře rozhodující konkurenční výhodu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019920" y="2133720"/>
            <a:ext cx="380880" cy="152280"/>
          </a:xfrm>
          <a:prstGeom prst="rightArrow">
            <a:avLst>
              <a:gd name="adj1" fmla="val 50000"/>
              <a:gd name="adj2" fmla="val 62530"/>
            </a:avLst>
          </a:prstGeom>
          <a:solidFill>
            <a:srgbClr val="727de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315200" y="2438280"/>
            <a:ext cx="380880" cy="152640"/>
          </a:xfrm>
          <a:prstGeom prst="rightArrow">
            <a:avLst>
              <a:gd name="adj1" fmla="val 50000"/>
              <a:gd name="adj2" fmla="val 62382"/>
            </a:avLst>
          </a:prstGeom>
          <a:solidFill>
            <a:srgbClr val="727de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191120" y="4876920"/>
            <a:ext cx="137160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727de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rategické alian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0F1A0-BF97-4E75-8AA0-08FB3FAE61D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6600"/>
                </a:solidFill>
                <a:latin typeface="Times New Roman"/>
              </a:rPr>
              <a:t>Typické možnosti využití</a:t>
            </a:r>
            <a:endParaRPr b="0" lang="en-US" sz="36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371600" y="1447560"/>
            <a:ext cx="7315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urychlit inovační a další změny výrobního programu transferem technologií a dalších relevantních znalostí partne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rychle a účinně zlepšit profesní a kvalifikační profil managemen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zlepšit image organizace vůči zákazníků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yužitím informací a informačních kanálů partnera snadněji získat potřebné informace a znalos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získat potřebné informace o samotném partnerovi pro případ budoucího rozchodu, meržingu a akviz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rategické alian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59A72-9640-463B-BD18-F360D43B877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80880" y="281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KONEC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rategické alianc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FDD8D-4E0F-4FE5-9E07-7ADDC5CA6AC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94920" y="22860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6600"/>
                </a:solidFill>
                <a:latin typeface="Times New Roman"/>
              </a:rPr>
              <a:t>Použitá literatura</a:t>
            </a:r>
            <a:endParaRPr b="0" lang="en-US" sz="36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94920" y="1447560"/>
            <a:ext cx="76201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DÁČEK, L., VODÁČKOVÁ, O.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ategické aliance se zahraničními partnery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Praha : Management Press, 2002.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VEBER, J. a kol.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Management. Základy, prosperita, globalizac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. Praha: Management Press, 2000.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ÁGNER, I.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ment z pohledu všeobecného a celostního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Brno : Masarykova univerzita, 2004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AN HRON, IVANA TICHÁ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Strategické aliance.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raha: Česká zemědělská univerzita, 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rategické alian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0CA1B-AD6D-4993-B2AD-757DE90AA71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6600"/>
                </a:solidFill>
                <a:latin typeface="Times New Roman"/>
              </a:rPr>
              <a:t>Definice pojmu „Strategické aliance“</a:t>
            </a:r>
            <a:endParaRPr b="0" lang="en-US" sz="36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istuje větší počet defini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efinice, kterou uvádějí Jassica Lipnacková a Jaffrey Stamps: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„Podniky vytvářejí aliance, aby si zajistily specifické podnikatelské potřeby a mohly zareagovat na příležitosti, které nemohou zvládnout interními silami. Společně pracují na dosažení svých strategických cílů.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rategické alian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1B1A7-6F66-44FA-AE0A-AFFBE867FE3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6600"/>
                </a:solidFill>
                <a:latin typeface="Times New Roman"/>
              </a:rPr>
              <a:t>Problém s názvoslovím v literatuře</a:t>
            </a:r>
            <a:endParaRPr b="0" lang="en-US" sz="36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rategic allia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operative Vent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operation Agre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firm Relationshi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ali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rporate Allia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llaborative Agre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rategic Partne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rategické alian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DEA3A-BF28-44BA-BD5F-11CEB4ED382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6600"/>
                </a:solidFill>
                <a:latin typeface="Times New Roman"/>
              </a:rPr>
              <a:t>Základní formy strategických aliancí</a:t>
            </a:r>
            <a:endParaRPr b="0" lang="en-US" sz="36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„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Volné“ formy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(příležitostná spolupráce, „tiché“ neformální dohod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trategické aliance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(v užším pojetí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Joint vent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Těsné formy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(fúze, splynutí, akvizi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rategické alian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E3BAD-828B-45F2-87CA-BD71ECD7667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6600"/>
                </a:solidFill>
                <a:latin typeface="Times New Roman"/>
              </a:rPr>
              <a:t>Rozdělení strategických aliancí podle různých kritérií</a:t>
            </a:r>
            <a:endParaRPr b="0" lang="en-US" sz="36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Funkční hledisko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(výrobní, marketingové, výzkumné a vývojové, prodejní, finanční, investiční….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Teritoriální hledisko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(tuzemské, zahraniční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Organizační hledisko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(horizontální, vertikální, síťové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Vlastnické hledisko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(soukromé, veřejno-právní aliance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Hledisko cílové orientace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(ziskové, neziskové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Hledisko trvání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(příležitostné, krátkodobé, dlouhodobé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rategické alian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E316C-6B8E-4798-B14E-6FAD7774531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6600"/>
                </a:solidFill>
                <a:latin typeface="Times New Roman"/>
              </a:rPr>
              <a:t>Strategické aliance v moderním podnikání</a:t>
            </a:r>
            <a:endParaRPr b="0" lang="en-US" sz="40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odnikání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 realizací lidské vlastnosti podnikavosti, tj. schopnos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vit (identifikovat), a/neb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měrně vytvořit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pak návazně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účelně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účinně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yužít příležitosti, které podnikatelskému subjektu vznikají z aktivní spolupráce s okolím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rakter spolupráce (kooperace) s podnikatelským okolí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ozitivní kooper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egativní koopera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rategické alian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E64B5-56D8-48D8-8768-29DA13C9B40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Existence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izik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neurčitostí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je pro podnikání typická. Přiměřená rizikovost je jedním z hlavních kritérií zda partnerství uzavřít či neuzavří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trategické aliance pomáhají úspěchu jak vnějšího („enterpreneurship“), tak vnitřního („intrapreneurship“) podnikání.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6600"/>
                </a:solidFill>
                <a:latin typeface="Times New Roman"/>
              </a:rPr>
              <a:t>Strategické aliance v moderním podnikání</a:t>
            </a:r>
            <a:endParaRPr b="0" lang="en-US" sz="40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rategické alian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21A8F-1D5D-42B5-AE7C-763259F04E9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6600"/>
                </a:solidFill>
                <a:latin typeface="Times New Roman"/>
              </a:rPr>
              <a:t>Klasifikační uspořádání strategických aliancí</a:t>
            </a:r>
            <a:endParaRPr b="0" lang="en-US" sz="40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spcBef>
                <a:spcPts val="6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trategické aliance zaměřené na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sdílení činností a zdrojů partnerů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– (od poč. 80. let min. století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spcBef>
                <a:spcPts val="6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trategické aliance zaměřené na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edukci konkurenčních střetů (negativní kooperace)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– (přelom 80. a 90. let min. století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spcBef>
                <a:spcPts val="6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trategické aliance zaměřené na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vznik, přenos a využití znalostí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– (od poč. 90.let min století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rategické alian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69B7B-9058-4F4F-A3DF-578C0A94C96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6600"/>
                </a:solidFill>
                <a:latin typeface="Times New Roman"/>
              </a:rPr>
              <a:t>Strategické aliance zaměřené na </a:t>
            </a:r>
            <a:r>
              <a:rPr b="1" lang="en-US" sz="3600" spc="-1" strike="noStrike">
                <a:solidFill>
                  <a:srgbClr val="996600"/>
                </a:solidFill>
                <a:latin typeface="Times New Roman"/>
              </a:rPr>
              <a:t>sdílení činností a zdrojů partnerů</a:t>
            </a:r>
            <a:endParaRPr b="0" lang="en-US" sz="36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Teorie integrovaného řízení – systematické řízení procesu účelného a účinného přiřazování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potřebných 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činností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potřebných 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zdrojů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Uvažované procesy přiřazování činností a zdrojů 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probíhají v prostoru a čas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Vhodná volba procesů =&gt; 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pozitivní integrační, popř. synergické efekty spoluprác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rategické alian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FABE7-F9E0-43C7-B089-2C05BC1C999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4T12:09:41Z</dcterms:created>
  <dc:creator>Nada Chlupova</dc:creator>
  <dc:description/>
  <dc:language>en-US</dc:language>
  <cp:lastModifiedBy>99900</cp:lastModifiedBy>
  <dcterms:modified xsi:type="dcterms:W3CDTF">2006-10-18T09:52:58Z</dcterms:modified>
  <cp:revision>12</cp:revision>
  <dc:subject/>
  <dc:title>Strategické aliance</dc:title>
</cp:coreProperties>
</file>