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DAD-C38E-4D7A-9556-00C5DD07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D3B-E47F-4DA7-9D39-B3957A7A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8C8-4461-470D-B787-0639B63B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3B6-2D6B-442C-A601-9F246D8D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B056-50BC-4470-ADC0-30CB3A86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DBFC-0576-4272-B250-8728F6F4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F83E-1DFC-4C01-B662-018601B0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B75C-02E7-4FCD-8C66-1301E972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E088-7AE3-41F7-B193-5300BFEA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1DF4-F9C8-4818-BEE1-DCD6B473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A3CE-5AF0-4B41-BFCA-285DFC9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D73-D689-41C2-8A9D-2612CFD5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692B-6BE3-46E8-B7A1-F366A004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EB0C-CF5D-4085-B596-5F250A90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BAA6-047D-4035-A4B4-159E42A5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7ACE-6737-43BA-8B41-83AB0AEB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F065-9F34-4F7E-87BD-E54FE9E2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6D4-7020-432F-BFBF-F541D8C2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C6F-091A-40BA-BA49-5CDC2B1E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5A4-50CF-4C4A-AB7E-39740750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27C-1C8E-48E2-99AE-E8E6D836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510-CFFA-43A4-9E49-2E5E7D3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1BC-B8A1-400A-953F-804486A2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C0C-3D3F-48A1-8B16-D33A27D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0EAC-AC94-47E4-8100-BF35A4496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08C4-2A29-497B-996A-81D27DA1014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0920" y="12952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</a:rPr>
              <a:t>Strategické aliance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76920" y="29714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Vypracovali: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Ondřej Chlup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Petr Procházka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Lukáš Przybylski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redukci konkurenčních střet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čátky od pol. 80.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víjení spolupráce dřívějších klasických konkure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Toyo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montáž automobi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Daewoo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robní kooperace součástí a dí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Philip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voj mikroelektroni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Fujits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nákup PC a částí PC technolog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d –  Mazd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rodej náhr. dílů partnera na svém domácím tr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ěžko kontrolovatelné nadnárodní vztahy (strategické aliance uzavřené často neformálními dohodami) vedly k ohrožení volné soutěž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876920"/>
            <a:ext cx="9907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FCC-96D1-4F38-9B83-4E3191DBB9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eoretické východisk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 články uveřejněné v časopis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rvard Business Revie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Gary Hamel, Yves L. Doz a C.K. Prahal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e with Your Competitors – and W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Spolupracuj se svými konkurenty – a vyhraj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Kenichi Ohma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The Global Logic of Strategic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Globální logika strategických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Rosabeth Moss Kanter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ive Advantage: The Art of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Výhoda spolupráce: Umění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ztrácet síly vzájemným bojem. Obejít střety s konkurenty vytvářením společných strategických aliancí. Účelem nejen vyhnout se „krvácení v konkurenčním zápolení“, ale i posílit vlastní poz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886200"/>
            <a:ext cx="10666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B74-9C09-47CE-B8FD-CFAC30569F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obecná doporučení ke spolupráci s konkure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artneři se mohou snažit vás odzbroj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ěkteré konflikty a nebezpečí motivují manažery ke zlepšení jejich výk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aždá kooperace má svá omezení a vyžaduje umění dělat kompromis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olupráce s konkurenty může být velmi hodnotným zdrojem učení 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trategická aliance umožňuje monitorovat konkurentovy schopnosti, silné a slabé stránk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ůže být dočasným partnerstvím v boji proti jinému silnějšímu konkurentov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05C-805F-489E-8C5B-E36B3BB8D8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íťové alianc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dříve dvojstranné aliance s konkur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s bilaterálnost nahrazována mnohostranností, vznikají různé typy síťov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ko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tvořit kritický potenciál pro prosazení určité podnikatelské strategické politiky sítě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istit nebo zlepšit ochranu partnerů před ostatní konkure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A2C-C46D-43F9-A5C3-FECC53BBAC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Uzlová pozice v síťové alianci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strategická pozice firmy na „uzlové pozici“ v síti („nodal position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firmě být lídrem rozvoje dané oblasti podnikání a získat hlavní podíl zis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anizace v uzlové pozici si klade cíl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at existující, popř. vytvářet nové podnikatelské příležitos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t včas do své sítě potenciální i reálné konkuren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bilizovat si rychle uzlovou pozici a stát se lídrem určité oblasti s ofenzivní strategií („first mover“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tom je nutné, aby pro partnery bylo výhodné být součástí s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468-4B58-4D72-979E-37AC23401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vznik, přenos a využití znalos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deckotech. rozvoj v 2.pol. 90.let      inovační rozvoj podnikatelské činnosti v globální společnosti         tendence rozvoje strategick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ání aliancí se rozšiřuje o umění získávat, sdílet, osvojovat si a hlavně zhodnocovat data, informace a znalosti pro podnikatelskou čin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 internetu k usnadnění a zrychlení propojení partnerů v alianci, systémy e–business, e–banking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irma, která si vytvoří přednostní přístup k potřebným informacím a disponuje relevantním znalostmi, má ve stále větší míře rozhodující konkurenční výh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1337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4382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13716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6A6-47E9-406F-8B65-B2841E19DF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ypické možnosti využi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ychlit inovační a další změny výrobního programu transferem technologií a dalších relevantních znalostí part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ychle a účinně zlepšit profesní a kvalifikační profil manage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epšit image organizace vůči zákazník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m informací a informačních kanálů partnera snadněji získat potřebné informace a znal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at potřebné informace o samotném partnerovi pro případ budoucího rozchodu, meržingu a akviz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B7B-8BF9-4004-B702-E269F0EB25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571-1BA0-497E-B24F-09DC78F352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oužitá literatur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ÁČEK, L., VODÁČKOVÁ, O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aha : Management Press, 2002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EBER, J. a kol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Praha: Management Press, 2000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GNER, I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z pohledu všeobecného a celostníh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rno : Masarykova univerzita,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N HRON, IVANA TICHÁ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trategické aliance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ha: Česká zemědělská univerzita, 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284-285C-47FF-989D-054087742F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efinice pojmu „Strategické aliance“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uje větší počet defini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, kterou uvádějí Jassica Lipnacková a Jaffrey Stamps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Podniky vytvářejí aliance, aby si zajistily specifické podnikatelské potřeby a mohly zareagovat na příležitosti, které nemohou zvládnout interními silami. Společně pracují na dosažení svých strategických cílů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BAE-197D-438B-9B74-1E0A1D1120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roblém s názvoslovím v literatuř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ve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on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firm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rporate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llaborative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E30-E454-4C79-B1FD-2A15F14C08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formy strategických alia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olné“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příležitostná spolupráce, „tiché“ neformální doh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rategické alia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v užším poje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oint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ěsné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fúze, splynutí, akviz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AC0-1797-4A82-90BD-96CCB2FEC7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Rozdělení strategických aliancí podle různých kritéri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unk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výrobní, marketingové, výzkumné a vývojové, prodejní, finanční, investiční…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eritoriál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tuzemské, zahraniční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Organiza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horizontální, vertikální, síť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lastnické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soukromé, veřejno-právní alia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cílové orientac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ziskové, nezisk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trvá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příležitostné, krátkodobé, dlouhodob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BCD-AA3A-4382-A373-99C13B9EAA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niká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realizací lidské vlastnosti podnikavosti, tj. schop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vit (identifikovat), a/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měrně vytvoř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k návazně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čel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účin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užít příležitosti, které podnikatelskému subjektu vznikají z aktivní spolupráce s okol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 spolupráce (kooperace) s podnikatelským okolí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zitivní koope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ní koope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536-E4AD-4493-B263-2714F745E5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enc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izi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neurčitos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o podnikání typická. Přiměřená rizikovost je jedním z hlavních kritérií zda partnerství uzavřít či neuzavř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pomáhají úspěchu jak vnějšího („enterpreneurship“), tak vnitřního („intrapreneurship“) podnikání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8ED-8CDE-4AE2-80C9-ED428D068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Klasifikační uspořádání strategických alianc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dílení činností a zdrojů partnerů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8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dukci konkurenčních střetů (negativní kooperace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přelom 80. a 9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znik, přenos a využití znalost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90.let min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98E-C398-47FE-A4C3-D01D0739A8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sdílení činností a zdrojů partner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eorie integrovaného řízení – systematické řízení procesu účelného a účinného přiřazován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činnos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droj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Uvažované procesy přiřazování činností a zdrojů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robíhají v prostoru a ča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hodná volba procesů =&gt;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ozitivní integrační, popř. synergické efekty spoluprá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CE2-46BA-45F4-9629-F3158B8327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09:41Z</dcterms:created>
  <dc:creator>Nada Chlupova</dc:creator>
  <dc:description/>
  <dc:language>en-US</dc:language>
  <cp:lastModifiedBy>99900</cp:lastModifiedBy>
  <dcterms:modified xsi:type="dcterms:W3CDTF">2006-10-18T09:52:58Z</dcterms:modified>
  <cp:revision>12</cp:revision>
  <dc:subject/>
  <dc:title>Strategické aliance</dc:title>
</cp:coreProperties>
</file>