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77B-3C07-4136-A1B1-2BC9ABBC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1F7-1E0B-4F73-9FD1-77103F55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14E-B13D-4138-BED7-F823A463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68E-FBC6-4D81-917B-37DB01F1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586A-3A7D-4E10-9961-7B56FB8A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3C53-F028-484B-8F7A-FC7FCBFE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E1B7-A856-406E-B421-124BB938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0C13-3640-4A32-8F4C-7D830970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383A-C3CC-43FB-8D42-00880FB4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62B6-4A48-44AE-883B-5EAA0686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7812-E58A-4254-A2CC-3C8A000D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108-9E54-4E7E-82C0-CDE822C0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AD8A-A0D2-4637-B019-40C02F14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B495-DDA3-43D1-98ED-31204806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23C0-2960-40DA-BEFA-200C43E4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2CBB-8F24-453B-9800-27EAC411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94C0-21DC-46FD-B5D2-5C193629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46A-B60B-4A17-9ADE-EF3C75FF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15A-D638-4926-A866-BCBDCFE7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420-F67F-42BB-8AF2-0BE8C821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134-8DAF-4528-A31F-C0A45041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1B6-42FD-4DDD-898F-CF29CEA9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977-5DB3-459E-A8F4-DEBE534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25F-847B-4C71-99A3-C30F7D86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FFE7-2B4B-476D-B16E-CA0A225EC8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7248-6A11-4D1C-BB2E-22D89C705F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Nová ekonomika a její důsledk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Seminární skupina č.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ina Cah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minik Zbí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ub Fiš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ará ekonom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íčové korporace plánovaly a realizovaly výrobu velkého množství zbož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kovýroba vedla ke značným úsporá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ížení jednotkových nákladů na výro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chá dohoda mezi všemi zúčastněnými: manažery firem, investory, odbory a veřejnosti zastupované vládou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vá ekonom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é formy komunikace, nové způsoby prodeje, nová konkurence z jiných částí svě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ychlý růst produktivity způsoben rozvojem informačních technolog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na poptávky nabývá v tržních vztazích dominantní postavení a významně ovlivňuje strukturu nabízených výrobků a služe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ýhody a nevýhody nové ekonomik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é podniky mohou pracovat mnohem efektivněji než dří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íky internetu přímý přístup na trh i pro podniky ze třetích zem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konomický růst v jiných částech světa má za následek zvýšenou konkurenci pro podniky d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dniky v nové ekonom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ční hierarchické struktury se začínají rozvolňovat a mění se na uspořádání pružnějšího typ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soce zhodnocující podniky se podobají pavoučí síti, kde v prostředku jsou strategičtí zprostředkovatelé a v každém místě sítě pracuje poměrně malý počet li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ektivnost vysoce zhodnocující podniku je založena na neustálém hledání a řešení nových příležitost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ůsledky nové ekonomik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evírání platových nůžek mezi vysoce a málo kvalifikovanými profesem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tráta zaměstnání a pokles reálných mezd u zaměstnanců s nedostatečnou kvalifik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ychle měnící se ekonomika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roky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podniky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 nároky na zaměstnance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dloužení pracovní d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á ekonomika nabízí nové příležitosti a neustále širší výběr úžasných obcho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 produktivita, lepší, rychlejší, lacinější výrobky všeho druh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šak vyšší intenzita práce u vysoce kvalifikovaných pracov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Životy lidí se stávají méně předvídatelné, méně zajištěné, ekonomicky divergentnější a sociálně stratifikova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ich, B.R. Slušná společnost. Praha: Moraviapress, 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pping, R.CH. Průvodce globální ekonomikou. Praha: Portál, 20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lektiv autorů. Management 2: Průvodce studi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7:49:02Z</dcterms:created>
  <dc:creator>KUBA</dc:creator>
  <dc:description/>
  <dc:language>en-US</dc:language>
  <cp:lastModifiedBy>KUBA</cp:lastModifiedBy>
  <dcterms:modified xsi:type="dcterms:W3CDTF">2006-10-24T21:37:42Z</dcterms:modified>
  <cp:revision>5</cp:revision>
  <dc:subject/>
  <dc:title>Nová ekonomika a její důsledky</dc:title>
</cp:coreProperties>
</file>