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6A01-ABDC-44A2-A510-1C2B83BC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7860-D5A3-4A07-8DEF-A646F3CF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08F9-E812-4ABC-88CE-006FC4C5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0E72-29EF-4585-850B-77A3EB70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BE60-0B6F-4D99-AB87-D0B4A92E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146F-A1A3-45D6-A5F1-AAD11E50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C14A-BEC8-4C05-BE0C-24F569F2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ACA7-F2FE-4B8A-808A-18EF5B5E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E0AA-B393-438F-9BA7-C8C54E57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7124-A38A-4B58-A97D-81E37AD6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DFC3-4A69-4637-8662-AB3143D4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6441-FD08-4C8F-9F9D-F0F38754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9F84-4265-49C1-BD05-61AC6AD0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9885-D3AB-49BE-A9A0-21EF69DC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EE29-6032-46E2-B759-FB457739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D69E-CBC7-4FBA-8E64-2BCA22DD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AE1B-55E6-41F4-8D08-8661C06A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867-96BB-4F69-9669-D2A56D95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8842-2083-41A3-8F7E-41BBF0E3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C807-CFB2-437A-89B2-9BAAB9F4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723A-F9CB-410A-BE38-A09046B8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78A6-4BF4-4F07-92B3-36ACB397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C7DB-4F69-4747-B10D-A649F665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6DF2-2D8A-4D09-87CA-116E0664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F9B9-5BA8-43DF-AC8D-7C9590AE8F49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72C6-120A-48F6-9FCF-3E6CD737BD72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rategické alia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ára Kozlová, Veronika Paďourová, Barbora Vincenec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A zaměřené na redukci konkurenční střetů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merická General Motors-japonská Toyota (montáž automobilů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merická General Motors-korejská Daewoo (výroba součástí a dílů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ěmecká Siemens-nizozemská Philips (vývoj v obl.mikroelektronik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aponská Canon-americká Kodak (výroba kopírovacích zařízení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merická Motorola-japonská Toshiba (společné distribuční sítě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ouzská Thompson-japonská JVC (výroba videorekordérů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merická Ford-japonská Mazda (prodej náhradních dílů partnera na svém domácím trhu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ritská Rover-japonská Honda (vývoj technologie pro malé automobil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merická IBM-japonská Fujitsu (ověřování softwaru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2C75-32ED-4E73-8DD7-92ECEA463916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A zaměřené na vznik, přenos a využití znalost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vlivněny vědeckotechnickým rozvojem v 2.pol. 90. 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ýhodná cesta zapojení se do globální světové ekonomi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3E3A-4140-42C1-831B-030796A034A2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irtuální organiza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irtuální organiza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bilnější než strategická alia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časná síť samostatných podniků, propojených informacemi, aby sdílely dovednosti, náklady a přístup na vlastní trh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ychlé spojení za účelem využití specifické příležitost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časová omeze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zivní použití moderní počítačové a komunikační technologi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7890-2987-4F5B-B8CD-FBFFDC7A38A8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irtuální organiza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ility je dosaženo pomocí více či méně autonomní organizace důležitých procesů a týmovou organizací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vedení virtuálního modelu znamená restrukturalizaci organizace i jejího managementu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ílem virtuální organizace je integrace moderního know-how spolupracujících firem k tvorbě přidané hodnoty pro zákazník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árním cílem je dosažení silného konkurenčního postavení (růst, zisk, podíl na světovém trhu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6653-6B75-4621-9248-8B94CC51B0ED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formace firmy probíhá v těchto vývojových stupních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chod od hierarchické organizační struktury k ploché organizační struktuř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výšení mobility pracovník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užití moderní počítačové a komunikační technolo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centrace firmy na nejdůležitější podnikové proces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vorba virtuálních sítí k dosažení mimořádné hodnoty pro zákazník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687B-BDC6-458F-B422-0F294E37766D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kračování 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 dalších letech bude docházet stále více k navazování různých forem spolupráce a zejména k vytváření virtuálních podniků omezených časem, složením a počtem partnerů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jdůležitější prvkem v globální konkurenci se stávají znalost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tuální model firmy je vhodný pro novou ekonomiku na prahu 21. století. Implementace tohoto modelu však není jednoduchá, vyžaduje zejména podstatnou změnu myšlení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C211-4E61-448A-A6C4-9B6515B2F668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užitá literatur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odáček, Vodáčková (2002)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Strategické aliance se zahraničními partner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raha, Management P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eber, J. a kol. (2000)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Management. Základy, prosperita, globaliza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raha: Management P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atedra podnikového hospodářství (2006)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Management II, průvodce studie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[online] Dostupné na: https://is.muni.cz/auth/el/1456/podzim2006/PHMAII/um/PHMAII_Pruvodce_studiem.doc?fakulta=1456;obdobi=3364;studium=208265;kod=PHMAII [Nalezeno dne 23.10.2006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CA10-47BE-472C-A37E-F2B12A847D06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ěkujeme za pozornost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ymezení pojmu strategická alia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odáčková, Vodáček (2000): „Je to organizační forma, která pomáhá zajišťovat kooperativní podnikatelskou činnost. Dvě či více vzájemně samostatných podnikatelských jednotek aktivují a zhodnocují možné aktivují a zhodnocují možné dodatečné efekty spolupráce.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3D64-A95A-4BBA-8A0A-C2F4BABB79C4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Základní formy strategických partnerstv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né“ form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íležitostná spoluprác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ché“ neformální domluv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egické aliance v užším pojetí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t ventures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ěsné“ form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žingy (fúze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kviz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F598-2A92-4C8E-A18B-1A43231738AE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Joint ventures vs. strategické alia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int ventures: pro spolupráci dvou či více partnerů se předpokládá vlastní organizační forma (samostatná podnikatelská jednotka, samostatný provoz, atd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ické aliance v užším slova smyslu: volnější forma spolupráce, která vlastní organizační formu podnikatelské jednotky nepředpoklá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4019-98EA-48A1-8D68-56E2D5395F4C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lné“ form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zavírány cestou tzv. tiché dohody, např. o cenách, postupech k omezení či vyloučení vzájemné konkurence, výměně informací a znalostí v určité obla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álo průhledné pro nezúčastněné strany, někdy dokonce v rozporu s etickými pravidly podnikatelského chování (dohody týkající se omezení konkurenc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ěkdy i dohody o využívání know-h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B951-7473-45D9-9BE0-1DDA11C1B35A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ěsné“ form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ávně i organizačně pevné propojení původně samostatných partner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ávně i organizačně méně rigidní (nevýhoda v dnešních chaotickém podnikatelském prostřed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1B24-B8C9-4A75-AC28-3B15590A215E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lasifikační hledisk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funkční hlediska (výrobní aliance, marketingové aliance, atd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eritoriální hlediska (tuzemské, zahraniční ali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rganizační hlediska (horizontální, vertikální, síťové ali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lastnická hlediska (soukromé, veřejno-právní ali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lediska cílové orientace (ziskové, neziskové ali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lediska trvání (příležitostné, krátkodobé, dlouhodobé ali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4FD3-D7F5-4743-B733-493423BD6557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ítě strategických alianc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řetězce nebo sítě firem, které jsou vzájemně snadno porovnatelné z hlediska svých základních podnikatelských činností (např. obchodní firmy s podobným sortimentem výrobků, konzultační firmy se stejným základním zaměřením, atd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ktivnější firmy v sítích se snaží v určité míře ujmout „kormidla“ koordinace činností partnerů v síti a celkového směřování jejího rozvoje, např. Kodak (pro části výrobního programu firem Motorola, Philips, A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, Apple, Silicon Graphic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D93-0572-4CB0-8945-EAD787489845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A v moderním podnikán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ispívají k zlepšení podnikatelské čin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vývojové ry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u účelného a účinného přiřazování potřebných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činnost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potřebných zdroj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CFC-0C15-4B4A-84BF-8F8A48FA3569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7:58:07Z</dcterms:created>
  <dc:creator>PC</dc:creator>
  <dc:description/>
  <dc:language>en-US</dc:language>
  <cp:lastModifiedBy>Marie Kozlová</cp:lastModifiedBy>
  <dcterms:modified xsi:type="dcterms:W3CDTF">2006-10-25T08:10:24Z</dcterms:modified>
  <cp:revision>5</cp:revision>
  <dc:subject/>
  <dc:title>Strategické aliance</dc:title>
</cp:coreProperties>
</file>