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DF892-9014-4951-BAE7-8C408ADD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FC1A1-BBE7-4EF0-B349-6B324712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51203-756F-4472-B7FE-328106E8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3C576-2AEB-4CC6-A5BD-B58F898A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0B19-1065-490F-AB3B-E16D2F75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3643-8F44-4F94-AD54-197C5D5B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40A2-482D-4AD3-B08E-8038695F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1519-1F18-4FD4-B465-31A18120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3358-3503-4066-BCB8-86A1C783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A7D0-E83B-439F-AAD5-D3FFDC68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53D3-B37D-457C-8791-60DA8848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AC20-1CF0-42F1-AC3C-4254DE09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003A-BA99-4F45-A2A3-2843A805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FDB1-24D1-4518-9B93-5F34A261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64D1-0599-42E0-88EF-238BA71E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E0CA-2B0C-497A-8FBC-BD1B2039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33F8-D4FC-465B-AC48-C5B0F1D1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E04F0-9CC1-4BFB-A725-E415DE28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F7FEA-3A8C-4576-AC09-958D9331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6BCC4-58F7-47D5-8936-18AC630A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FA62B-75C0-40B9-82BC-E32DBFB1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EE586-A50D-40A4-880C-C795CCC7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FF248-DB13-48B5-957B-0CB9CBEF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384E9-1162-49A0-8163-65872F5C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E4F6-388F-472D-8F3E-C44E7881B9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2B8D-68C8-4774-AA24-6FF550576B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1628640"/>
            <a:ext cx="82803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i="1" lang="en-US" sz="50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ROMĚNY PRÁCE A VÝVOJE PODNIKŮ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60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3. Seminární skupina – 2. tý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František Karber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Kebo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Jiří Male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ůsledky racionalizace</a:t>
            </a:r>
            <a:br>
              <a:rPr sz="2800"/>
            </a:b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 návaznosti na obecně se zvyšující životní úroveň a s tím související  změny nároků člověka na práci, se tato práce stávala neatraktivní, stále méně lidí bylo ochotno takovou práci vykonávat, rostla fluktuace a absentérství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ktivita stagnovala, náklady rostly, efektivnost se snižovala.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řechod k flexibilní výrobě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70. léta – v rámci humanizace přechod k tzv. „rozšiřování práce“ („job enlargement“) a „obohacování práce“ („job enrichment“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znik autonomních pracovních týmů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omputerizace – nahrazení manuální práce počítač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řechod k flexibilní výrobě </a:t>
            </a:r>
            <a:br>
              <a:rPr sz="4300"/>
            </a:b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NC - technika (computerized numerical control) – nástup výrobních robot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AM – (computer aided manufacturing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 dělníka se stává operátor a programát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šší požadavky na kvalifika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3564000" y="501336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f8f8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alší systém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NC (distributed numerical contro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AD (computer aided design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AP (computer aided planning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alší trend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třeba snižování náklad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hrazování manuální práce technik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esouvání celé výroby do méně vyspělých zem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st nezaměstnanosti málo kvalifikovaných pracovníků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dobé trend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dklon od manuální práce k práci s moderními technologiemi a informacem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Minimalizace mezilidského kontak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cit izolovanosti a osamě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áce se stává abstraktní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stupný návrat k původní komplexnosti práce z preindustriální společnost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ěkujeme za pozornost.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oužitá literatu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POVETSKY, G.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oumrak povinnosti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aha: Prostor, 1999. ISBN 80-7260-008-7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ICH, R.B.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lušná společnos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aha : Vize 97, 2003. ISBN 80-86181-60-X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H, A.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tika hospodářství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v.II. Praha: OIKOYMENH, 1994. ISBN 80-85241-62-5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Od řemesla k manufakturám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71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 nástupem industrilalizace dochází k rozvoji řemese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ízké nároky na kapitálovou vybavenost, hlavním faktorem je práce, zručnost řemeslník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emeslník byl zároveň kapitalistou – vlastnil používaný kapitál, řídil výrobu, kterou také sám vykonáv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ělba práce byla orientována na výrobek, řemeslník vyrobil celý výrobek sám, vlastním tvůrčím způsobe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Od řemesla k manufakturám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stup manufaktu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ělba práce mezi více osob podstatně zvyšuje produktivitu prá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ochází ke zhromadňování výroby, specializaci a kooperac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 průmyslových podnicích je instrumentální technologie nahrazována technologií strojov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stup manufaktu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šší nároky na kapitál, jež se stává hlavním výrobním faktorem – klesá počet podnikatelů, vzrůstá počet námezdně pracující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lastnictví faktorů kapitálu a práce bylo odděleno, což vede k třídnímu rozdělení společ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stup manufaktu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 řemeslníka, který tvořil celý výrobek sám, se stává námezdní dělník provádějící jen jednu výrobní operac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ces zhotovování výrobku se dělil na stále více operací, současně se stále větším využíváním strojů – z dělníka se stává obsluhovatel stro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Racion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užívání strojů nazýváme racionalizací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ozlišujeme tyto stupně racionalizac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1. stupeň - Prvními stroji můžeme nazývat nástroje, typické pro řemeslnou činnost, časem přestává být jejich pohonnou silou síla člověka a je nahrazena pohonnou silou stroje. Nedochází však k nahrazení lidské zručnosti. Mluvíme tedy o „nesamostatných strojích.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Racion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2. stupeň - Běžící výrobní pás přichází spolu s velkovýrobou. Produktivita práce je opět zvýšena. Dělník již neovládá stroj, spíše stroj ovládá dělníka, který se musí tempu stroje přizpůsobit a vykonává pouze tzv. zbytkové operace, v podstatě dohlíží na správné fungování stroj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ůsledky racionalizace</a:t>
            </a:r>
            <a:br>
              <a:rPr sz="4400"/>
            </a:b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39280" y="1628640"/>
            <a:ext cx="7993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ševní činnost spojená s plánováním, organizováním a přípravou výroby byla důsledně přenesena na specialisty - mistra, plánovače, technologa, seřizovač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itivní nezajímavá práce dělníků nebyla dostatečně motivující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louhodobě nepomáhaly ani finanční stimuly, zlepšováním vnějších pracovních podmínek a uplatňováním doktríny lidských vztahů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8:12:51Z</dcterms:created>
  <dc:creator>99800</dc:creator>
  <dc:description/>
  <dc:language>en-US</dc:language>
  <cp:lastModifiedBy>Jirik</cp:lastModifiedBy>
  <dcterms:modified xsi:type="dcterms:W3CDTF">2006-10-25T19:21:05Z</dcterms:modified>
  <cp:revision>39</cp:revision>
  <dc:subject/>
  <dc:title>Druhá vlna  </dc:title>
</cp:coreProperties>
</file>