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C38-5026-449D-BFE1-5DDAA1A4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E25-7409-453F-9EAD-4968961C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694-E6F9-482B-90EF-D50099C6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A4A-88A6-4C0A-AD73-8F28527C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EE5F-3270-4AC3-8749-D77D842B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BF6F-388C-47B2-BD34-83EBB6C5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9766-B096-4396-8A14-BF77C36F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F261-4772-4104-BA9A-B5A0CDF6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CBD6-B64E-4146-A359-053CC851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055E-C0C7-4300-B168-DEEE856B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ED6C-52A5-4648-9D70-E09D004A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626-E2A1-43C2-9116-083E2568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07BA-247F-49A4-A3B9-A71D47EB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8706-173D-406D-A7E8-BDDEC3B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AC11-5CE0-4D8A-8B1A-EE0A53A4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D265-42BB-47B0-9BA3-87C6FA1E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4F90-5D63-4CEE-9DC4-EF6886F3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915-23FE-449B-B0C8-810C68C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D7D-CC50-43D8-898F-C679205C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629-9172-4BE7-9709-E4779F8A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5AA-4D1C-464B-8BF8-A2ED453D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609-00FF-482E-AA33-93AEE21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496-1B45-49B1-9243-03B3E36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709-1290-4928-9331-C71B0F1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416F-1717-4212-8AA8-ACB2A20BE34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D6C-67B7-483D-A3F0-8774424089E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652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003366"/>
                </a:solidFill>
                <a:latin typeface="Times New Roman"/>
              </a:rPr>
              <a:t>Jak FORD k penězům přišel…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57600" y="41911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...aneb Ford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172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Ján Kušev,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Tomáš Simbartl, Štěpán Draž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ord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2667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e: encyklopedie Wikipedia (www.wikipeida.org); skriptum prof. Bla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sz="4400" spc="-1" strike="noStrike">
                <a:solidFill>
                  <a:srgbClr val="003366"/>
                </a:solidFill>
                <a:latin typeface="Times New Roman"/>
              </a:rPr>
              <a:t>ord, Henr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y Ford 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(1863-1947)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Z farmy ke stroj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en: sestrojení automobi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rvní pokus = kr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nik Ford Motor Company v Detroitu (19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086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3366"/>
                </a:solidFill>
                <a:latin typeface="Times New Roman"/>
              </a:rPr>
              <a:t>Ústup řemeslné výroby, přechod k hromadné produkci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Řemesl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řelom 19. a 20. 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niverzální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alifikovaná práce řemesl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ízký objem výroby a nízká produktivita (max. 1000 aut/r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ečný stimul pro rozvoj 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1676520"/>
            <a:ext cx="3657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ásová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o 1. W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ontážní li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růst produk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voj technologií a           inovace výro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(po 1. WW – 60. lét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rm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vedení montážních li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=&gt; masová produkce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(inspirace na jatká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19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44960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a Model 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oč to vše? Automobil pro každé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tandardizovaná produkce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..můžete ho mít v jakékoli barvě, pokud to bude černá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soké platy...(dělník si musí vydělat na produkt, který vyráb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..ale monotónní, demotivující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oj proti odborů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ra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Fordismu, resp. Taylor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line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913lg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2863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st-Fordism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ová éra průmy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voj inform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ec homogenního trhu 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měna v organizaci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nížení státních interve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výhody Post-Ford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vs. Post-Fordismu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mogenní produkce a spotřeba X variabilita produktů pro různorodé zákazníky (Ford dnes vlastní Jaguar, Aston Martin, Volvo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etitivní práce X inovativní činnost (job enlargement a enrich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trola trhu X přizpůsobivost podni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42:19Z</dcterms:created>
  <dc:creator>76275</dc:creator>
  <dc:description/>
  <dc:language>en-US</dc:language>
  <cp:lastModifiedBy>Simbartl</cp:lastModifiedBy>
  <dcterms:modified xsi:type="dcterms:W3CDTF">2006-10-25T15:44:49Z</dcterms:modified>
  <cp:revision>53</cp:revision>
  <dc:subject/>
  <dc:title>Ako Ford k peniazom prišiel…</dc:title>
</cp:coreProperties>
</file>