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A58-E770-4C69-8203-853C8F73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205-307F-477B-9A47-9399468D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2AD-0B30-4E39-8F85-78657EF1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6A5-3CAD-48D8-A980-BECD26B1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09FF-84A6-4FDE-A3A1-D67DAD03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4085-B6D5-4354-9CEB-AE418BBD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802D-2C78-4916-BE57-2DCFE047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1EE8-1EC4-47C6-9DE7-838CC556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B3CE-49CD-4DA5-8763-BA79C766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9A49-5687-4DD2-8278-2D5D01A8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7207-09DB-4F5B-9CD7-BAA9F15B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F08-7325-4367-AF31-42FE9CE6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3EA9-0336-4BFC-9779-DC5C1AD4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3AD4-3698-4442-8AAC-23AFD493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D629-4533-4C83-B3A1-CAEF17E0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1EBA-0C45-44FA-86E2-48286FD1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A9F5-4127-4D37-AAF4-DDB45B2A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5B3-CE42-4341-8B48-4E171C9F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3345-4DAA-4FC2-BB1E-46987B71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E58-8C65-4811-AFC2-8B0EA5B0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F98-34AC-4B00-A2F7-59BD8B7E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9CF-6F25-412A-B784-B90057F0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A70-2835-41B3-AB46-69AAEF35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7D0-69C1-4B6E-8A21-87491C86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13F0-300E-4CAC-80DA-D18252AACB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74D3-C35E-4225-ABE9-94A7B7BFFB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Nová ekonomika a její důsledk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Seminární skupina č.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ina Cah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minik Zbí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ub Fiš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ará ekonom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íčové korporace plánovaly a realizovaly výrobu velkého množství zbož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lkovýroba vedla ke značným úsporá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ížení jednotkových nákladů na výro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chá dohoda mezi všemi zúčastněnými: manažery firem, investory, odbory a veřejnosti zastupované vládou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vá ekonom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é formy komunikace, nové způsoby prodeje, nová konkurence z jiných částí svě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ychlý růst produktivity způsoben rozvojem informačních technolog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ana poptávky nabývá v tržních vztazích dominantní postavení a významně ovlivňuje strukturu nabízených výrobků a služeb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ýhody a nevýhody nové ekonomik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é podniky mohou pracovat mnohem efektivněji než dří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íky internetu přímý přístup na trh i pro podniky ze třetích zem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konomický růst v jiných částech světa má za následek zvýšenou konkurenci pro podniky d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dniky v nové ekonomi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ční hierarchické struktury se začínají rozvolňovat a mění se na uspořádání pružnějšího typ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soce zhodnocující podniky se podobají pavoučí síti, kde v prostředku jsou strategičtí zprostředkovatelé a v každém místě sítě pracuje poměrně malý počet li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ektivnost vysoce zhodnocující podniku je založena na neustálém hledání a řešení nových příležitost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ůsledky nové ekonomik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evírání platových nůžek mezi vysoce a málo kvalifikovanými profesem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tráta zaměstnání a pokles reálných mezd u zaměstnanců s nedostatečnou kvalifik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ychle měnící se ekonomika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šší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roky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podniky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šší nároky na zaměstnance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dloužení pracovní d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á ekonomika nabízí nové příležitosti a neustále širší výběr úžasných obcho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šší produktivita, lepší, rychlejší, lacinější výrobky všeho druh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šak vyšší intenzita práce u vysoce kvalifikovaných pracovní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Životy lidí se stávají méně předvídatelné, méně zajištěné, ekonomicky divergentnější a sociálně stratifikovaněj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ich, B.R. Slušná společnost. Praha: Moraviapress, 200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pping, R.CH. Průvodce globální ekonomikou. Praha: Portál, 20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lektiv autorů. Management 2: Průvodce studi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7:49:02Z</dcterms:created>
  <dc:creator>KUBA</dc:creator>
  <dc:description/>
  <dc:language>en-US</dc:language>
  <cp:lastModifiedBy>KUBA</cp:lastModifiedBy>
  <dcterms:modified xsi:type="dcterms:W3CDTF">2006-10-24T21:37:42Z</dcterms:modified>
  <cp:revision>5</cp:revision>
  <dc:subject/>
  <dc:title>Nová ekonomika a její důsledky</dc:title>
</cp:coreProperties>
</file>