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CE2-8502-4B2D-BD97-8CCF9061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6EE-6C93-4BA0-AAC9-2364C658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419-A0F7-45F3-93F8-83243A8F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53E-283C-474B-BDE3-8B82E7AF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4C5D-6CED-4C96-8917-76EEEF32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F05D-97C2-4506-8438-4D053FF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6EE-C836-4ACF-8378-DF0E5711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DD36-B223-4D0E-AB00-E6B0398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7B30-3586-4591-A59D-727B2D1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0BBE-55C0-4821-A2FD-83691323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1432-5353-49A2-945A-9A064D0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B76-D323-47A4-9314-413D699B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563A-FBB8-419D-A789-A29A4DD7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41F-C731-4B3E-B41D-B7948D9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4F12-AA91-4331-BE34-454EBDC0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D7BD-4009-4F24-9D26-7E3D79CB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562-DC76-4313-A0F9-694C94F6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7D1-A387-490C-99A1-E456454C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2AE-F146-4713-81F1-DF565F7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F02-8A20-4326-A94D-83D5DBE8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871-411F-4078-BC89-C1B03B6C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CF8-9419-44B3-A04E-5F557A1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E2A-4112-4CFF-B420-8DE715F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E53-2ADF-4E55-9C7D-F1E231ED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0D9-B1BC-43D0-9EEA-76D58E77BEC5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B726-2E20-4371-B1B2-D7D8A020AC41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redukci konkurenční střetů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japonská Toyota (montáž automobi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korejská Daewoo (výroba součástí a dí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á Siemens-nizozemská Philips (vývoj v obl.mikroelektroni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ponská Canon-americká Kodak (výroba kopírovacích zařízení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Motorola-japonská Toshiba (společné distribuční sítě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ouzská Thompson-japonská JVC (výroba videorekordér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Ford-japonská Mazda (prodej náhradních dílů partnera na svém domácím trh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ritská Rover-japonská Honda (vývoj technologie pro malé automobi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IBM-japonská Fujitsu (ověřování softwar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23C-A19D-44C9-A6F1-91F47AC848AE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vznik, přenos a využití znalost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livněny vědeckotechnickým rozvojem v 2.pol. 90.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hodná cesta zapojení se do globální světové ekonom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359-EE96-4887-B684-7971FB77B6A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nější než strategická ali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časná síť samostatných podniků, propojených informacemi, aby sdílely dovednosti, náklady a přístup na vlastní tr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ychlé spojení za účelem využití specifické příležit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asová omez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zivní použití moderní počítačové a komunikační technolog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7FD-5A6B-4E77-ABA1-2BDA3B22B002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je dosaženo pomocí více či méně autonomní organizace důležitých procesů a týmovou organizac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vedení virtuálního modelu znamená restrukturalizaci organizace i jejího management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ílem virtuální organizace je integrace moderního know-how spolupracujících firem k tvorbě přidané hodnoty pro zákazní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árním cílem je dosažení silného konkurenčního postavení (růst, zisk, podíl na světovém trhu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249-B67A-46F9-A993-E90BB65C5BC0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ormace firmy probíhá v těchto vývojových stupních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hierarchické organizační struktury k ploché organizační struktuř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mobility pracov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žití moderní počítačové a komunikační technolo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centrace firmy na nejdůležitější podnikové proces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orba virtuálních sítí k dosažení mimořádné hodnoty pro zákazní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23E-9939-453C-9E07-D314BEFD2B43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kračování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 dalších letech bude docházet stále více k navazování různých forem spolupráce a zejména k vytváření virtuálních podniků omezených časem, složením a počtem partner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jdůležitější prvkem v globální konkurenci se stávají znal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ální model firmy je vhodný pro novou ekonomiku na prahu 21. století. Implementace tohoto modelu však není jednoduchá, vyžaduje zejména podstatnou změnu myšle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353-4EF9-4D51-A072-F6D0881A9494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dáček, Vodáčková (2002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,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ber, J. a kol. (2000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: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tedra podnikového hospodářství (2006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II, průvodce studi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[online] Dostupné na: https://is.muni.cz/auth/el/1456/podzim2006/PHMAII/um/PHMAII_Pruvodce_studiem.doc?fakulta=1456;obdobi=3364;studium=208265;kod=PHMAII [Nalezeno dne 23.10.20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78F-6FB3-483E-8372-DF10023DE8D9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ymezení pojmu strategická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odáčková, Vodáček (2000): „Je to organizační forma, která pomáhá zajišťovat kooperativní podnikatelskou činnost. Dvě či více vzájemně samostatných podnikatelských jednotek aktivují a zhodnocují možné aktivují a zhodnocují možné dodatečné efekty spoluprác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14D-1E82-4BBD-B4BE-C9985D947133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Základní formy strategických partnerstv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ležitostná spoluprá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hé“ neformální domluv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ké aliance v užším pojetí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ventur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ěs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žingy (fúze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viz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E1B-C5B8-4781-A993-E14D00B509A5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int ventures vs. 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ventures: pro spolupráci dvou či více partnerů se předpokládá vlastní organizační forma (samostatná podnikatelská jednotka, samostatný provoz, a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ké aliance v užším slova smyslu: volnější forma spolupráce, která vlastní organizační formu podnikatelské jednotky nepředpoklá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726-CD02-44D9-9555-C993C25A9730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l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vírány cestou tzv. tiché dohody, např. o cenách, postupech k omezení či vyloučení vzájemné konkurence, výměně informací a znalostí v určité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lo průhledné pro nezúčastněné strany, někdy dokonce v rozporu s etickými pravidly podnikatelského chování (dohody týkající se omezení konkure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dy i dohody o využívání 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D4D-7793-4020-AD08-DE9FF4BB518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ěs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pevné propojení původně samostatných partn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méně rigidní (nevýhoda v dnešních chaotickém podnikatelském prostřed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EE0-8F5C-4AD8-B17E-99C3F7B2753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lasifikační hledis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unkční hlediska (výrobní aliance, marketingové aliance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ritoriální hlediska (tuzemské, zahranič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rganizační hlediska (horizontální, vertikální, síť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ická hlediska (soukromé, veřejno-práv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cílové orientace (ziskové, nezisk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trvání (příležitostné, krátkodobé, dlouhodob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636-8B6D-4914-9B77-7604D2C6C6BF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ítě strategických alianc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tězce nebo sítě firem, které jsou vzájemně snadno porovnatelné z hlediska svých základních podnikatelských činností (např. obchodní firmy s podobným sortimentem výrobků, konzultační firmy se stejným základním zaměřením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ktivnější firmy v sítích se snaží v určité míře ujmout „kormidla“ koordinace činností partnerů v síti a celkového směřování jejího rozvoje, např. Kodak (pro části výrobního programu firem Motorola, Philips, 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, Apple, Silicon Graphi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A81-D8FA-4CD7-8BFF-095E7B8CAD0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v moderním podnik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spívají k zlepšení podnikatelské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vývojové ry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u účelného a účinného přiřazování potřebný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činnost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potřeb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709-7384-4DF4-8ED1-AC4D8FA399BC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58:07Z</dcterms:created>
  <dc:creator>PC</dc:creator>
  <dc:description/>
  <dc:language>en-US</dc:language>
  <cp:lastModifiedBy>Marie Kozlová</cp:lastModifiedBy>
  <dcterms:modified xsi:type="dcterms:W3CDTF">2006-10-25T08:10:24Z</dcterms:modified>
  <cp:revision>5</cp:revision>
  <dc:subject/>
  <dc:title>Strategické aliance</dc:title>
</cp:coreProperties>
</file>