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AAC-7DBA-4D1A-B27A-CD0ED4C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660-6F42-4D78-82B5-70C7CE3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699-FE5C-4BDC-8AD3-A657DD12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6EB-9C77-4B95-952A-94F5D696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3341-641B-44A7-B097-D922D7C3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C792-8214-4F0B-BC71-25147E5C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19FC-DDE6-450C-B324-6115FE1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05EC-DC71-4AD7-9CD9-CFC38CB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D5AC-E645-4E3D-AD3E-4C923BB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D684-4725-445A-A36C-9CFFAB6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8328-AAE3-4C18-BBB8-0223E44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20E-F4C6-45B8-8B7E-FA9C354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29FB-1345-4CBF-8073-4161FDD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32C9-2040-4084-9125-2A2C7DE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079-62D0-4861-87B5-D45D5CC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FC8-4A3C-4388-9EC9-9FC0BB15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D0A0-66BA-4078-9BF0-54C5317D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A01-C370-4317-B2F7-878FB9B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C2F-966F-4B56-8CC3-B525AF9E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2F7-6346-458C-B309-A0936F79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71D-D62F-4381-812A-2A7C75CE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129-B3F1-4C31-BE58-071E9E6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C91-5747-4DC1-89CE-4B2BCA4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CB9-A439-42CC-A0D7-9A50013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307C-D3BC-44CD-9CDC-8FBCCE8ED44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6547-AC16-4766-BFEB-54EB0E7D3D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003366"/>
                </a:solidFill>
                <a:latin typeface="Times New Roman"/>
              </a:rPr>
              <a:t>Jak FORD k penězům přišel…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57600" y="41911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...aneb Ford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Ján Kuš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Tomáš Simbartl, Štěpán Dra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ord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667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e: encyklopedie Wikipedia (www.wikipeida.org); skriptum prof. Bla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sz="4400" spc="-1" strike="noStrike">
                <a:solidFill>
                  <a:srgbClr val="003366"/>
                </a:solidFill>
                <a:latin typeface="Times New Roman"/>
              </a:rPr>
              <a:t>ord, Henr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y Ford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(1863-1947)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 farmy ke stroj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en: sestrojení automobi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vní pokus = k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nik Ford Motor Company v Detroitu (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086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3366"/>
                </a:solidFill>
                <a:latin typeface="Times New Roman"/>
              </a:rPr>
              <a:t>Ústup řemeslné výroby, přechod k hromadné produkci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Řemesl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řelom 19. a 20. 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niverzáln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alifikovaná práce řemes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ízký objem výroby a nízká produktivita (max. 1000 aut/r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ečný stimul pro rozvoj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676520"/>
            <a:ext cx="3657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ásová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o 1. W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ntážní l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růst produk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voj technologií a           inovace výr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(po 1. WW – 60. lét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vedení montážních li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&gt; masová produkce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(inspirace na jatká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4960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a Model 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č to vše? Automobil pro každé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ndardizovaná produkce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můžete ho mít v jakékoli barvě, pokud to bude černá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é platy...(dělník si musí vydělat na produkt, který vyráb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..ale monotónní, demotivující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oj proti odbor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a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ordismu, resp. Taylor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lin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913lg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2863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st-Ford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ová éra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voj inform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ec homogenního trhu 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měna v organizaci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nížení státních interv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výhody Post-Ford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vs. Post-Fordismu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mogenní produkce a spotřeba X variabilita produktů pro různorodé zákazníky (Ford dnes vlastní Jaguar, Aston Martin, Volvo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etitivní práce X inovativní činnost (job enlargement a enric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trola trhu X přizpůsobivost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2:19Z</dcterms:created>
  <dc:creator>76275</dc:creator>
  <dc:description/>
  <dc:language>en-US</dc:language>
  <cp:lastModifiedBy>Simbartl</cp:lastModifiedBy>
  <dcterms:modified xsi:type="dcterms:W3CDTF">2006-10-25T15:44:49Z</dcterms:modified>
  <cp:revision>53</cp:revision>
  <dc:subject/>
  <dc:title>Ako Ford k peniazom prišiel…</dc:title>
</cp:coreProperties>
</file>