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5121-5ED8-4CCB-8885-0E25E6DA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A6A4-5659-4B0D-80A1-FBA284B7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39C9-942E-4F5A-BA4B-4360CF01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9448-0D8D-48F8-B829-59A7CEE8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401E-6D16-4A52-8872-6F9BC3A0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9305-0C13-4992-B6C3-1059AE73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5E51-4D79-44A1-B33B-5E3809B2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7AD4-6813-4F47-B922-E9C2E7A1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4727-CCCA-4F7C-8B5B-4E4123A8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7107-EC30-4F18-B012-8222BB5B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0B15-6FC2-496E-A81C-CC195350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672B-B180-46DE-9F24-6A8A90A4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545B-5ABF-4601-B54D-0F4C2C95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BE7E-AA57-454A-A3B3-D61B1EAA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4955-A866-4003-B33E-DEF1BEB8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E9EC-A307-4476-8C1B-E4C98311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7525-F996-41EE-B852-52D32CEB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C66A-E72D-4484-934C-7606C277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B309-DDFB-4ED6-9ABB-2457E921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4C8B-0E48-4A88-A8AF-D68C1CD0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82C6-BFB3-4E0B-A83A-D1A7CC5A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3E7AB-75C7-4137-8B1B-E12E5415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B4BC-B1AA-460A-8D11-36173625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3D5F1-18C0-43E9-84D7-5DCC169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3456-66C6-4D0F-ABF2-6F75BE4C92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B45E-E5A7-4F21-B6A0-7D33E78A2A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i="1" lang="en-US" sz="50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OMĚNY PRÁCE A VÝVOJE PODNIKŮ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ůsledky racionalizace</a:t>
            </a:r>
            <a:br>
              <a:rPr sz="28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 návaznosti na obecně se zvyšující životní úroveň a s tím související  změny nároků člověka na práci, se tato práce stávala neatraktivní, stále méně lidí bylo ochotno takovou práci vykonávat, rostla fluktuace a absentérstv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ktivita stagnovala, náklady rostly, efektivnost se snižovala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echod k flexibilní výrobě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70. léta – v rámci humanizace přechod k tzv. „rozšiřování práce“ („job enlargement“) a „obohacování práce“ („job enrichment“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znik autonomních pracovních tým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omputerizace – nahrazení manuální práce počítač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echod k flexibilní výrobě </a:t>
            </a:r>
            <a:br>
              <a:rPr sz="43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NC - technika (computerized numerical control) – nástup výrobních robot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M – (computer aided manufacturing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 dělníka se stává operátor a programát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požadavky na kvalifika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501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alší systém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NC (distributed numerical contro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D (computer aided design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P (computer aided planning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alší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řeba snižování náklad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hrazování manuální práce technik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souvání celé výroby do méně vyspělých zem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nezaměstnanosti málo kvalifikovaných pracovník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dobé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dklon od manuální práce k práci s moderními technologiemi a informacem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inimalizace mezilidského konta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cit izolovanosti a osamě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áce se stává abstraktn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upný návrat k původní komplexnosti práce z preindustriální společno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POVETSKY, G.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oumrak povinnost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ha: Prostor, 1999. ISBN 80-7260-008-7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ICH, R.B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ha : Vize 97, 2003. ISBN 80-86181-60-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H, A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tika hospodářství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v.II. Praha: OIKOYMENH, 1994. ISBN 80-85241-62-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 řemesla k manufakturám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 nástupem industrilalizace dochází k rozvoji řemes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é nároky na kapitálovou vybavenost, hlavním faktorem je práce, zručnost řemeslní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emeslník byl zároveň kapitalistou – vlastnil používaný kapitál, řídil výrobu, kterou také sám vykonáv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ělba práce byla orientována na výrobek, řemeslník vyrobil celý výrobek sám, vlastním tvůrčím způsob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 řemesla k manufakturám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ělba práce mezi více osob podstatně zvyšuje produktivitu prá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chází ke zhromadňování výroby, specializaci a koopera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 průmyslových podnicích je instrumentální technologie nahrazována technologií strojov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roky na kapitál, jež se stává hlavním výrobním faktorem – klesá počet podnikatelů, vzrůstá počet námezdně pracující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ictví faktorů kapitálu a práce bylo odděleno, což vede k třídnímu rozdělení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 řemeslníka, který tvořil celý výrobek sám, se stává námezdní dělník provádějící jen jednu výrobní opera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ces zhotovování výrobku se dělil na stále více operací, současně se stále větším využíváním strojů – z dělníka se stává obsluhovatel str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Racion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užívání strojů nazýváme racionaliza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lišujeme tyto stupně racionaliza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1. stupeň - Prvními stroji můžeme nazývat nástroje, typické pro řemeslnou činnost, časem přestává být jejich pohonnou silou síla člověka a je nahrazena pohonnou silou stroje. Nedochází však k nahrazení lidské zručnosti. Mluvíme tedy o „nesamostatných strojích.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Racion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2. stupeň - Běžící výrobní pás přichází spolu s velkovýrobou. Produktivita práce je opět zvýšena. Dělník již neovládá stroj, spíše stroj ovládá dělníka, který se musí tempu stroje přizpůsobit a vykonává pouze tzv. zbytkové operace, v podstatě dohlíží na správné fungování str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ůsledky racionalizace</a:t>
            </a:r>
            <a:br>
              <a:rPr sz="44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79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ševní činnost spojená s plánováním, organizováním a přípravou výroby byla důsledně přenesena na specialisty - mistra, plánovače, technologa, seřizovač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itivní nezajímavá práce dělníků nebyla dostatečně motivují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louhodobě nepomáhaly ani finanční stimuly, zlepšováním vnějších pracovních podmínek a uplatňováním doktríny lidských vztahů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Jirik</cp:lastModifiedBy>
  <dcterms:modified xsi:type="dcterms:W3CDTF">2006-10-25T19:21:05Z</dcterms:modified>
  <cp:revision>39</cp:revision>
  <dc:subject/>
  <dc:title>Druhá vlna  </dc:title>
</cp:coreProperties>
</file>