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09794-123D-4234-8912-4E90B1DD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2E316-E1F8-4C09-AB78-A43AE866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C11B4-76A9-441B-8266-8D6AFAF2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DCB9D-C0A3-42A7-B2B0-A68E0A4A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E2AA-10AB-4BAF-91BB-20728369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FB2C-BE1B-48DF-A5CA-2CDE52ED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6727-10A9-4227-A157-6EB999D2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27EF-1A72-4984-A199-D80F87C1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65E2-C0A9-4DE1-BA59-B3526F8C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B280-47E4-4B6A-A9E7-19C08A98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C673-70FA-4F01-99C3-B7D3E210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73905-87F1-4A38-BCDB-4F21B6F4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30C6-FC30-49D8-98B8-3D8F3E2C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F6F6-55BB-49FC-8D00-C1C2D2E3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A8BB-0364-432D-9BF0-5C6781EC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215E-B084-4F93-9BDF-BEAAA869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C10A-1411-4716-A403-07931304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20391-6EBA-4DD6-B997-B729F855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143CA-F685-43C2-91BD-8BBEBF60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3068A-2222-4D11-BA88-30705DA5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86DFC-CD28-4217-BF85-FC38D8B1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FBC75-78A0-49FC-81DF-A46A2D4A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9504B-BE1F-486E-8F64-4535D732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F57C9-D424-45C2-A84D-4374916C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CFA8-56A9-4972-9B05-61F0D5F933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8819-8479-4211-A1E4-4EFA385E18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1628640"/>
            <a:ext cx="82803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3500" spc="-1" strike="noStrike">
                <a:solidFill>
                  <a:srgbClr val="f8f828"/>
                </a:solidFill>
                <a:latin typeface="Garamond"/>
              </a:rPr>
              <a:t>CHARAKTERISTICKÉ RYSY</a:t>
            </a:r>
            <a:br>
              <a:rPr sz="3500"/>
            </a:br>
            <a:r>
              <a:rPr b="1" lang="en-US" sz="3500" spc="-1" strike="noStrike">
                <a:solidFill>
                  <a:srgbClr val="f8f828"/>
                </a:solidFill>
                <a:latin typeface="Garamond"/>
              </a:rPr>
              <a:t>A ZÁKLADNÍ PRINCIPY</a:t>
            </a:r>
            <a:br>
              <a:rPr sz="3500"/>
            </a:br>
            <a:r>
              <a:rPr b="1" lang="en-US" sz="3500" spc="-1" strike="noStrike">
                <a:solidFill>
                  <a:srgbClr val="f8f828"/>
                </a:solidFill>
                <a:latin typeface="Garamond"/>
              </a:rPr>
              <a:t>INDUSTRIÁLNÍ SPOLEČNOSTI</a:t>
            </a: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60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3. Seminární skupina – 2. tý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František Karber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etr Kebo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Jiří Male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Charakteristické rysy preindustriální společnosti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ůda představovala základ hospodářství, života, kultury, rodinné struktury a politiky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spodářství bylo decentralizované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ěna výrobků byla omezená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evládala jednoduchá dělba práce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ůvod determinoval postavení člověka v životě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istovala přísně autoritářská pravomo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říčiny vzniku druhé vln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jev Nového světa, růst počtu obyvatelstva, který povzbuzoval přesuny do měst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yčerpání lesů, vedoucí k využívání uhlí → parní stroj → nebývalé možnosti rozšíření výroby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zšiřování vědeckých poznatků využitelných v technické praxi, rozvoj "industriálního" myšlení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ynalezení knihtisku, růst gramotnost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rincipy industriální společnosti </a:t>
            </a:r>
            <a:br>
              <a:rPr sz="4300"/>
            </a:b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a dominantní princip industriální společnosti lze považovat princip oddělení výroby a spotřeby. Na tento princip pak navazují další principy, a to princip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ělby práce na základě specializa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nchroniz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izace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oncentra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aliza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ntraliza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Oddělení výroby od spotřeb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ÝROBA◄►SPOTŘEB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h se stal expanzivní a samostatná institu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árůst dělby práce, která směřovala k prudkému růstu její produktivit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ěna, do té doby jen okrajový jev, se přesunula do ohniska dění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ělba práce na základě special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ddělení výroby od spotřeby je první krok na cestě ke stále se prohlubující specializaci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Člověk Spotřebitel   X   Člověk výrob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ynchron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ále hlubší dělba práce si vynutila též změnu způsobu, jakým lidé nakládali s čas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Časová koordinace = Život většiny lidí běží podle jednotného rozvrhu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ZNIK MODERNÍHO MANAGMEN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tandard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lak na zefektivnění výrob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chází k sjednocení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ýrobních postup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ýrobních zaříze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školení pracov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ontroly a hodnocení pracov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Garamond"/>
              </a:rPr>
              <a:t>managementu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Koncentr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ůvo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ělba prá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iz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áslede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středění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izovaných pracovníků do c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zvoj mě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Maximal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ický příklad – automobilové závody v U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a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 je obrovské, je zároveň dynamické a dobře fungující.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sedlost rozvoj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Central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ntralizace mo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esun moci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zefektivňování činností jednotlivých c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del typický pro industriální společnos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ntralizace moci vytvářením nadstátních cel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ntralizace moci vytvářením gigantických podni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6000" spc="-1" strike="noStrike">
                <a:solidFill>
                  <a:srgbClr val="f8f828"/>
                </a:solidFill>
                <a:latin typeface="Garamond"/>
              </a:rPr>
              <a:t>PRVNÍ VLN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ffff"/>
                </a:solidFill>
                <a:latin typeface="Garamond"/>
              </a:rPr>
              <a:t>Preindustriální společnos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ěkujeme za pozornost.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oužitá literatur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OFFLER, A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Šok z budoucnost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 Praha : Práce, 1992. ISBN 80-208-0160-X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OFFLER, A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The Third Waw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 New York 198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OFFLER, A., TOFFLEROVÁ, H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Nová civilizace.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aha : Dokořán 2001. ISBN 80-86569-00-4.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Charakteristické rysy a základní principy industriální společnosti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d po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átku lidstvo prochází kulturní evolucí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d 350ti lety nástup idustriální spo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am vývoj lids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é spo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osti s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uje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am a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ž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vést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de jsme prá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ď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Ubírá se naše spo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ost správnou cestou?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Kam směřujeme?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va názor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Vývoj bude probíhat 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iroz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n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, vylo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í 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dstavy zásadní odlišnosti budoucí civiliz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udoucí civilizace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bude zalo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a na so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asných principech fungování spo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ptimismus, víra v lepší zítř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Kam směřujeme?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esimistické očekáv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olitické krize, terorismus, globální konflik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ramatický růst populace, narůstající chudoba, vyčerpání přírodních zdrojů, ekologická hrozb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zor A. Toffler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Americký sociolog a publicista a. Toffler přichází s představou vývoje lidské společnosti v určitých vlná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ásledující vlna se prodírá na místo vlny předchoz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ůsobení těchto vln je koexistenč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zor A. Toffler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ývoj lidské společnosti lze rozčlenit do třech vl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polečnost preidustriál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Idustriál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stindustriál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rvní vln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řináší preindustriální civilizaci -zemědělskou společn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oba trvání cca 10 000 l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8f828"/>
                </a:solidFill>
                <a:latin typeface="Garamond"/>
              </a:rPr>
              <a:t>DRUHÁ VLNA</a:t>
            </a:r>
            <a:r>
              <a:rPr b="1" i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nástup industriální společnost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8:12:51Z</dcterms:created>
  <dc:creator>99800</dc:creator>
  <dc:description/>
  <dc:language>en-US</dc:language>
  <cp:lastModifiedBy>Jirik</cp:lastModifiedBy>
  <dcterms:modified xsi:type="dcterms:W3CDTF">2006-10-04T20:45:34Z</dcterms:modified>
  <cp:revision>14</cp:revision>
  <dc:subject/>
  <dc:title>Druhá vlna  </dc:title>
</cp:coreProperties>
</file>