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FB74-7E77-4668-BEC3-05C07EB1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45D2-EE42-411C-91C3-65686564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7865-74DC-4641-8F25-4E6BC8DE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4357-77CE-445F-A709-D67E0505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F738-8CC1-42DF-8827-B2112EB23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6DB5-3921-4FA1-A82A-1E7FBFC2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AA6C-5FDB-4ACA-9AB7-1317C005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4148-A680-4588-858C-380A87F7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4FBC-7DCF-4A05-AA05-E021BD2B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F570-4332-40BE-BA62-08DDE18C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6912-9AAA-4C1D-83E7-91AE127B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845B-BF41-440F-9BDE-499BCA1D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C197-E869-4068-BFC1-A2E720EA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2C59-9A50-4C8B-8589-9B8B3639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12E9-6A7E-4A17-BD42-652F34A4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337E-D310-4F53-8274-28D3240C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4C70-9EE2-4ADF-AF01-CD0252D1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917D-1118-45C7-BE5A-D6D07ABC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9637-86D0-4E34-87F9-467F952F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D895-67F4-490D-B087-A67FC6CD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A482-1D64-4BD6-974E-DF24FA31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BEDF-A818-48DF-B8E6-AE8F2352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780D-5B83-420B-BF21-04FEC110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31B6-BBA4-4495-ACDB-00B9F60A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6BB1-1EA5-4D12-8936-55D3D6CA4EAD}" type="slidenum">
              <a:rPr b="0" lang="cs-CZ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749B-E44A-47A3-8904-31D7A18A8C70}" type="slidenum">
              <a:rPr b="0" lang="cs-CZ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0200" y="380880"/>
            <a:ext cx="63993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5400" spc="-1" strike="noStrike">
                <a:solidFill>
                  <a:srgbClr val="996633"/>
                </a:solidFill>
                <a:latin typeface="Times New Roman"/>
              </a:rPr>
              <a:t>Podstata práva jako určitého řádu společnosti</a:t>
            </a:r>
            <a:endParaRPr b="0" i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438280" y="43434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eminární skupina č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iřina Cahov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ominik Zbí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c. Jakub Fiš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07CD-B55C-4448-AF08-C0F96FE35B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996633"/>
                </a:solidFill>
                <a:latin typeface="Times New Roman"/>
              </a:rPr>
              <a:t>Opakování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ayekova koncepce přirozeného a umělého řá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152280" y="4609800"/>
            <a:ext cx="3904560" cy="1080"/>
          </a:xfrm>
          <a:prstGeom prst="straightConnector1">
            <a:avLst/>
          </a:prstGeom>
          <a:ln w="507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1384200" y="3968640"/>
            <a:ext cx="18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ílo přír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/>
          <p:nvPr/>
        </p:nvCxnSpPr>
        <p:spPr>
          <a:xfrm>
            <a:off x="4056120" y="4611240"/>
            <a:ext cx="1945440" cy="1080"/>
          </a:xfrm>
          <a:prstGeom prst="straightConnector1">
            <a:avLst/>
          </a:prstGeom>
          <a:ln w="5076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/>
          <p:nvPr/>
        </p:nvCxnSpPr>
        <p:spPr>
          <a:xfrm>
            <a:off x="6000840" y="4610160"/>
            <a:ext cx="2745360" cy="21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4056120" y="3844800"/>
            <a:ext cx="221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lejší důsled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dských činnost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75520" y="384480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ílevědomé lidské činno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/>
          <p:nvPr/>
        </p:nvCxnSpPr>
        <p:spPr>
          <a:xfrm>
            <a:off x="152280" y="5297040"/>
            <a:ext cx="5849280" cy="1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/>
          <p:nvPr/>
        </p:nvCxnSpPr>
        <p:spPr>
          <a:xfrm>
            <a:off x="6000840" y="5297040"/>
            <a:ext cx="274536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2576520" y="4930920"/>
            <a:ext cx="17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řirozený řá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96000" y="4930920"/>
            <a:ext cx="18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umělý řá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/>
          <p:nvPr/>
        </p:nvCxnSpPr>
        <p:spPr>
          <a:xfrm>
            <a:off x="4092120" y="6299280"/>
            <a:ext cx="3187080" cy="2160"/>
          </a:xfrm>
          <a:prstGeom prst="straightConnector1">
            <a:avLst/>
          </a:prstGeom>
          <a:ln w="507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4654440" y="5907240"/>
            <a:ext cx="27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800000"/>
                </a:solidFill>
                <a:latin typeface="Arial"/>
              </a:rPr>
              <a:t>společenské systé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/>
          <p:nvPr/>
        </p:nvCxnSpPr>
        <p:spPr>
          <a:xfrm>
            <a:off x="7278840" y="6299280"/>
            <a:ext cx="1504080" cy="2160"/>
          </a:xfrm>
          <a:prstGeom prst="straightConnector1">
            <a:avLst/>
          </a:prstGeom>
          <a:ln w="50760">
            <a:solidFill>
              <a:srgbClr val="cccc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7419960" y="5659560"/>
            <a:ext cx="13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ccccc"/>
                </a:solidFill>
                <a:latin typeface="Arial"/>
              </a:rPr>
              <a:t>technické systé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4886-C81E-4070-A484-8C14188FCCB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996633"/>
                </a:solidFill>
                <a:latin typeface="Times New Roman"/>
              </a:rPr>
              <a:t>Právo x zákonodárství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ávo není pouze produkt zákonodárství, je staré jako společnost s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konodárství je umělá tvorba zákonů lid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zitivistická koncepce práva jako psaných zákonů x Hayekova koncepce práva jako evolucí vytvořených pravi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chrana státem je poskytována pouze psanému práv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B4BF-2C79-49CC-88DD-55C2FB65765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996633"/>
                </a:solidFill>
                <a:latin typeface="Times New Roman"/>
              </a:rPr>
              <a:t>Vývoj práv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tlivci se naučili dodržovat pravidla chování dříve před formulací těchto pravidel lov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ato pravidla sloužila skupině jako celku ne jednotliv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lověk je veden nejen naučenými ale i vrozenými pravid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daleka ne všechna pravidla byla vyjádřena slovy, např. fair play, dobré mravy ap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A455-48DB-4686-A09D-536021ED04C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996633"/>
                </a:solidFill>
                <a:latin typeface="Times New Roman"/>
              </a:rPr>
              <a:t>Negativní důsledky spontánního řádu aneb význam zákonodárství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 spontánní řád může vést do slepé uličky popř. mít negativní důsledky pro lid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jistí-li se, že dosud užívaná pravidla jsou pro určitou skupinu nespravedlivá ať už v důsledku omylu či lobby urč. zájmové skupi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44FB-EA4A-4E3B-8CF0-DEFA39ADAB5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996633"/>
                </a:solidFill>
                <a:latin typeface="Times New Roman"/>
              </a:rPr>
              <a:t>Shrnutí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ávo je staré jako lidstvo sa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edle práva existují i jiné normativní systémy např. morálka, která nemusí být vyjádřena slov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konodárství je nutné neboť spontánní řád může mít pro člověka i negativní důsled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1DC4-E5B2-401D-B742-393424B09A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996633"/>
                </a:solidFill>
                <a:latin typeface="Times New Roman"/>
              </a:rPr>
              <a:t>Literatur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24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ayek, F.A. Právo, zákonodárství a svoboda. Praha : Academia, 199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D100-38DE-433B-BD3D-5D41051ED05E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hovi</cp:lastModifiedBy>
  <dcterms:modified xsi:type="dcterms:W3CDTF">2006-10-02T16:19:29Z</dcterms:modified>
  <cp:revision>11</cp:revision>
  <dc:subject/>
  <dc:title>Prezentace aplikace PowerPoint</dc:title>
</cp:coreProperties>
</file>