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9BF-EE2E-446D-A08F-6A247632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067-4977-4B22-B20B-A79D20D0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ED5-3F61-483A-B740-7566B839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81B-4F7D-4AEF-8CE2-9550E7B6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E7B4-0AAB-41E0-B68C-CC7EDC6B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BB8E-9CE6-4FE3-B2E6-4449662B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43CA-A4FF-460C-B340-EB5FA6E5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223C-20F4-43A3-96D0-784B4E22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C7D7-923B-4CEE-BA6D-C46E4AE8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9395-6F3B-4C9F-AE17-537A95BB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A191-C394-4253-8F9D-8F484C5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FD6-DD8D-4C54-A696-86B047F6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8625-5F28-48BD-A8AE-D03EDCD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BB3A-8A36-45FD-B261-655C72F4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7E84-451B-48CD-A967-C7EAE508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C776-8A32-4EE8-BCA1-EB61D926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FEB6-CB66-4D06-821C-615A509B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B1F-BF38-40E0-A267-DFDBBC4C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8B8-E8C3-45BE-B8D9-6D0C71FB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A6E-941B-443F-9570-04CC3C3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A28-F098-451E-9BB0-8A0379D1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B81-7FFB-4EC9-A25F-44983ED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C46-9C7D-47B9-AE59-5976C0AA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0E4-39A4-4959-8F50-A9D63020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167-5D92-4CF6-A405-4E60A0245D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8191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876920" y="59436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C57C-FEA9-4E07-B30E-99726C3E32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cf7ff"/>
                </a:solidFill>
                <a:latin typeface="Arial Black"/>
              </a:rPr>
              <a:t>Superzápas zítřka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25909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vilizační vlny – charakteristika, vzájemné vztahy a stř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5300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offler, A.; Tofflerová, H.: Nová civilizace – Třetí vlna a její důsled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ich, R.B.: Dílo náro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üller, Z.: Svaté války a civilizační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Děkujeme za pozornos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Vývoj a historie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zdělení (A.Toffl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vní vlna – pre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8000 př.n.l., trvání v řádech tisíciletí, hlavní podstata zeměděl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Druhá vlna – industriální společnost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ec 17. století, trvání v řádech stovek let,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ůmysl, mecha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řetí vlna – post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polovina 20. století, dekády?, informace, znalosti, high-tech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Proč vlna?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8000" y="1142640"/>
            <a:ext cx="403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de o skok, ale o plynulý přechod od jedné společnosti k dru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em se energie vlny vyčerpá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a třetí vlna se prolínají – střet vln =&gt; střet civiliz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První vlna (v kostc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zemědě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ty, decentralizované hospodářství založené na vlastnictví půdy, hierarchie v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ádná nebo jednoduchá dělba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existence trhu =&gt; výroba pro vlastní spotřebu =&gt; minimum s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iž zcela odezněla (výjimkou jsou kmeny v pralesech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cf7ff"/>
                </a:solidFill>
                <a:latin typeface="Arial Black"/>
              </a:rPr>
              <a:t>Druhá vlna – industriální společnost</a:t>
            </a:r>
            <a:endParaRPr b="0" lang="en-US" sz="30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várny, želez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chanizace a synchronizace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lba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utomob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sová vý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spotřební (konzumní)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nik civilizační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aleka není ukonč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751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Střet první a druhé vlny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čanská válka v USA &lt;= boj mezi industriálním Severem a zemědělským Jihem a další vojenské konfli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ponsko - reformy Meid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tvy“ mezi průmyslníky a obchodníky proti vlastníkům půdy (círke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sledky pro jednotlivce - změna pojetí rodiny a nutnost dojíždění za p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lonie – industriální mocnosti dobývají nová ložiska surovin – kol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Informační společnost – třetí vlna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významu přírodních zdrojů a surovin vů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formace jako produ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minance sektoru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va skryté výrobní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Poznatky 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experti, týmy, know-h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dělání, rozvoj manage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Čas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bleskové komunikace, IT, správa firemních sítí a komunikačních kaná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ovský význam a vliv médi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638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Konflikt! 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. Huntington: „…střet Islámu a Západu, nebo Západu a zbytku světa?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ar on Terror, boj s extrémistickými skupinami a hnutí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t zájmů zemí 3. vlny se zeměmi 1. a 2. vl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strukturalizace – problém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un výroby na výc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zba ekologické b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 sociálních propastí – rozdíly mezi bohatými a chudý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Budoucnost – co bude? (diskuz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Toffler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voluční premi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„Budoucnost plná otřesů, turbulencí, vln násilí -&gt; postupná transformace způsobu našich životů, práce i myšlení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migrace (přistěhoval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kotero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výpočetní tech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litické, kulturní a náboženské rozep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&gt; Čtvrtá vl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49:04Z</dcterms:created>
  <dc:creator>CIKT</dc:creator>
  <dc:description/>
  <cp:keywords/>
  <dc:language>en-US</dc:language>
  <cp:lastModifiedBy>Franta Konopásek</cp:lastModifiedBy>
  <dcterms:modified xsi:type="dcterms:W3CDTF">2006-10-04T15:17:32Z</dcterms:modified>
  <cp:revision>18</cp:revision>
  <dc:subject/>
  <dc:title>Civilizační vl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81033</vt:lpwstr>
  </property>
</Properties>
</file>