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C31-4918-4619-84FE-D8D0E25C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86C-6321-428D-BC20-CC06D17B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C79-267B-4EB2-8FC5-2D4A57E3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635-9F7B-4E7B-B663-A3B8FD0D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4E55-C61D-4C70-96A2-C11AFF3C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7C9C-DA35-4D16-9953-C840F9D4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DCF6-6991-4151-ADB2-C0B9833E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7078-9B39-48C9-9004-53E181BA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A1E3-E188-4AEC-AFEE-607A6832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F7A-907D-4D41-8D99-B97CFE97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864E-F601-40F9-B1FE-69910FF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D45-E0C1-4C89-B4C1-7FFA6D40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CB1D-558A-409A-BED4-EA47C6F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71F0-EB99-4D7F-B649-462F360E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5B32-AA35-4DC1-A466-0B59A49A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4A33-C7D9-4ECB-8198-AFF03490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425C-CF8C-4ABD-92EB-7B8D9A0A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AB0-D918-4157-9A09-C6EF3150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1F9-9939-4B98-8255-228DF5BB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AE4-AECA-4290-BD9C-558E1661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8ED-A1D3-4B1D-9D9D-41461A0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0AF-B61A-4157-B9DD-AB99190B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110-6DF4-45E2-8652-946794F4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257-9705-46B9-B8AA-56C94ECD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38C3-1077-40C6-931A-DC4CB37FAE7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85F0-9C0C-4E09-AE22-B15E1834608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aramond"/>
              </a:rPr>
              <a:t>Vývoj systémů - přirozená a kulturní evolu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ára Kozlová, Veronika Paďourová, Barbora Vincenec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ým, prezentace čtvrtek 4.10.20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Vznik a podstata kulturní evoluce a její vztah k evoluci přirozené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 přirozená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niká v rámci vývojového procesu vesmí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sitelem je příro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voj probíhal několik miliard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sou složité, vzájemně provázané ekosyst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 kultur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jím nositelem je člově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á svůj původ v přírod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nesrovnatelně mladší než evoluce přiroze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e kul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ývá globálního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užitá literatur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Erben-Eckstein, J. (1999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Časová nesymetrie ve fyzice a nevratnost dějů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atedra podnikového hospodářství (2006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Management II, průvodce studiem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Thaxton, C. B., Bradley, W. L., Olsen, R. L. (1995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Tajemství vzniku život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igogine, I., Stengersová, I. (2001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Řád z chaosu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4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Víme, co je evoluce?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0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Drama evoluce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1997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onflikt přirozené a kulturní evoluce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ysté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bor prvků ve vzájemné interak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ina, studenti ve třídě, pod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émy řídící a říze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ěj, při kterém se ze systémů uspořádaných určitým způsobem stávají systémy uspořádané dokonaleji než tomu bylo u jejich předchůdců (Management II, Průvodce studiem, 2006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rozená vs. kultur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ruhá věta termodynami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k energie při ireverzibilních dějích směřuje vždy k rovnoměrnějšímu rozdělení energie ve vesmíru" (Thaxton, 199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dstata</a:t>
            </a: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 přirozené evoluce jako spontánního antientropického děj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jem přirozená 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 pro většinu lidí spojen pouze se vznikem a vývojem lidského dru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ním problémem je vnímání přirozené evoluce člověk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o poznávání evoluce můžeme využívat jen dílčí poznatky vědy a svou představu svět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evoluce zasáhla přírodovědu, chemii, fyziku, sociologii i matematiku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a základě mnoha teorií a poznatků lze předpokládat, že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počátku vesmíru byla jeho uspořádanost nejnižší a že teprve evolucí se postupně zvyšova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řirozená evoluce pravděpodobně začala před deseti až patnácti miliardami let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ůvodem velkého třesku je narušení původní symetrie systém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rozdíl od entropie  je procesem konstitutivním, směřuje proti rozpa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buduje stále jemnější a diferencovanější struktury i pravid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otřebuje přiměřenou energetickou podpo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ávě díky omezenému energetickému příkonu je zřejmě schopna všemi možnými organizačními způsoby čelit entropi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ční pro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ůběh a výsledek je vždy víceméně neznámý, předem nezjistitelný a nepředpověditelný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je složitou dynamickou interakcí informace s prostředí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všech organizačních úrovních je spoluurčován mnoha nahodilými faktor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13:15Z</dcterms:created>
  <dc:creator>Marie Kozlová</dc:creator>
  <dc:description/>
  <dc:language>en-US</dc:language>
  <cp:lastModifiedBy>Martin Krkavec</cp:lastModifiedBy>
  <dcterms:modified xsi:type="dcterms:W3CDTF">2006-10-04T19:43:24Z</dcterms:modified>
  <cp:revision>4</cp:revision>
  <dc:subject/>
  <dc:title>Podstata přirozené evoluce jako spontánního antientropického děje </dc:title>
</cp:coreProperties>
</file>