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7BA-44D9-413F-A07D-EF819B2D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0B4-60CE-44C0-842A-DC58F2E7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2F5-4EA7-4A46-8FAE-10FFDE51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31B-1F19-414C-9855-67D30A74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9FAE-C3F9-4396-8BBA-2208FDB4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BDA1-63AB-431E-A3A0-8E149EF0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FE65-F45D-4D19-9D7F-DBB24682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6D20-5C9D-497D-97CD-ECD1E625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9F34-0621-4434-B86B-578EAD8C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F834-1A87-4F7B-90F7-68855328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1E8B-1DFF-4B67-BF30-55AC4D2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555-BDD4-4024-B2DF-2DE94756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9AD2-C830-45F1-B63B-E0A7646F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52D0-10A1-47FB-BA72-C405E247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99D0-95BA-465A-8B06-B57C1988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3BB2-A1D3-4926-A6E1-9999F431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F4A7-79E5-43C0-A0F0-1F26714D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312-6E38-4C2E-A09D-7679A7AA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EEA-C624-437A-80E0-615A65B7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9C5-44CD-4129-8423-97F159C2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0D7-0746-4CE3-B048-DC287288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99F-FCC9-4E53-BB78-DDC188DB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CF2-ED0E-4CB6-AC49-C1F14D12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F6E-5FD5-4EAA-BD4C-C71A5A95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44A9-7DE8-4258-B86B-92B519A5E424}" type="slidenum"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E525-5E40-490B-8E35-9CFB28D8DE28}" type="slidenum"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5400" spc="-1" strike="noStrike">
                <a:solidFill>
                  <a:srgbClr val="996633"/>
                </a:solidFill>
                <a:latin typeface="Times New Roman"/>
              </a:rPr>
              <a:t>Podstata práva jako určitého řádu společnosti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438280" y="4343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eminární skupina č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iřina Cah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ominik Zbí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c. Jakub Fiš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10D6-D72B-4B67-AEE1-624D3142E4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996633"/>
                </a:solidFill>
                <a:latin typeface="Times New Roman"/>
              </a:rPr>
              <a:t>Opakování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ayekova koncepce přirozeného a umělého řá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152280" y="4609800"/>
            <a:ext cx="3904560" cy="1080"/>
          </a:xfrm>
          <a:prstGeom prst="straightConnector1">
            <a:avLst/>
          </a:prstGeom>
          <a:ln w="507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384200" y="396864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ílo přír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4056120" y="4611240"/>
            <a:ext cx="1945440" cy="1080"/>
          </a:xfrm>
          <a:prstGeom prst="straightConnector1">
            <a:avLst/>
          </a:prstGeom>
          <a:ln w="507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6000840" y="4610160"/>
            <a:ext cx="2745360" cy="21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056120" y="3844800"/>
            <a:ext cx="22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lejší důsled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dských činnost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75520" y="384480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vědomé lidské čin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>
            <a:off x="152280" y="5297040"/>
            <a:ext cx="584928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>
            <a:off x="6000840" y="5297040"/>
            <a:ext cx="274536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2576520" y="4930920"/>
            <a:ext cx="17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řirozený řá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6000" y="493092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mělý řá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/>
          <p:nvPr/>
        </p:nvCxnSpPr>
        <p:spPr>
          <a:xfrm>
            <a:off x="4092120" y="6299280"/>
            <a:ext cx="3187080" cy="2160"/>
          </a:xfrm>
          <a:prstGeom prst="straightConnector1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654440" y="590724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800000"/>
                </a:solidFill>
                <a:latin typeface="Arial"/>
              </a:rPr>
              <a:t>společenské syst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>
            <a:off x="7278840" y="6299280"/>
            <a:ext cx="1504080" cy="2160"/>
          </a:xfrm>
          <a:prstGeom prst="straightConnector1">
            <a:avLst/>
          </a:prstGeom>
          <a:ln w="50760">
            <a:solidFill>
              <a:srgbClr val="cccc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419960" y="565956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ccccc"/>
                </a:solidFill>
                <a:latin typeface="Arial"/>
              </a:rPr>
              <a:t>technické syst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CD1-AD5E-435F-B01B-BB806AAFCDF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Právo x zákonodárstv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ávo není pouze produkt zákonodárství, je staré jako společnost s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onodárství je umělá tvorba zákonů lid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zitivistická koncepce práva jako psaných zákonů x Hayekova koncepce práva jako evolucí vytvořených pravi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chrana státem je poskytována pouze psanému prá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080-3FE9-4C05-902D-152D9D724BF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Vývoj práv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tlivci se naučili dodržovat pravidla chování dříve před formulací těchto pravidel lo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ato pravidla sloužila skupině jako celku ne jednotliv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lověk je veden nejen naučenými ale i vrozenými pravid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aleka ne všechna pravidla byla vyjádřena slovy, např. fair play, dobré mravy ap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113-296A-46AC-9864-F6093F7253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Negativní důsledky spontánního řádu aneb význam zákonodárstv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 spontánní řád může vést do slepé uličky popř. mít negativní důsledky pro li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jistí-li se, že dosud užívaná pravidla jsou pro určitou skupinu nespravedlivá ať už v důsledku omylu či lobby urč. zájmové skup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DAB-4786-4A9C-8285-6AEA1F367C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Shrnut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ávo je staré jako lidstvo s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edle práva existují i jiné normativní systémy např. morálka, která nemusí být vyjádřena slo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onodárství je nutné neboť spontánní řád může mít pro člověka i negativní důsled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BC4-7A2E-4041-9BFA-7D296B44E5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Literatur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24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ayek, F.A. Právo, zákonodárství a svoboda. Praha : Academia, 199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154-1A43-4581-9D0B-FE756AB3D7A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hovi</cp:lastModifiedBy>
  <dcterms:modified xsi:type="dcterms:W3CDTF">2006-10-02T16:19:29Z</dcterms:modified>
  <cp:revision>11</cp:revision>
  <dc:subject/>
  <dc:title>Prezentace aplikace PowerPoint</dc:title>
</cp:coreProperties>
</file>