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82011-2103-466D-9E10-BA76C22E3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6BF5E-21A0-4608-B882-8121AC64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84140-3939-42D9-8E11-95420C850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C84ED-680F-434F-9E12-8EC003EEB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B963-42F8-4013-B386-5F3E58C35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FD32-BB4A-49D8-813A-8F71A725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B753-294E-41D1-9A07-1707138B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4B7B5-05F6-4BC2-9E62-7EE051A1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2122-152C-4062-8EE7-9318B23D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0D12-B25B-4675-9BEB-5FEB325C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16B8-A339-450A-BE2F-CC543266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F431D-E1EC-4E8C-A332-632965D9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6549-7622-48A3-B870-8B782932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0780-6464-43BE-8E1D-1BCDFCC6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D784-BB5D-477D-9176-62CFD22C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C9CB-F333-4C9F-A396-9EBAE28A3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40D2-5406-4F00-8970-7A3638078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E84B5-D2D8-44F7-A5C6-E807FB71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6C891-BE32-4EA1-A90E-8A5039BD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14997-8BDB-4EF4-8638-A2FF2496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C7BB1-6CFF-4ED2-9C97-7D5D6555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415C2-6041-4F6B-AF19-0A938562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77CAF-0BFB-4D9B-BF7D-90AEF038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3DC26-FBD0-4444-B1B9-0860AC12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6D06-5EF0-4FE8-AFD4-5AFDA396C1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38B9-C285-400A-8CBB-AE7438C017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8920" y="1628640"/>
            <a:ext cx="82803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430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US" sz="3500" spc="-1" strike="noStrike">
                <a:solidFill>
                  <a:srgbClr val="f8f828"/>
                </a:solidFill>
                <a:latin typeface="Garamond"/>
              </a:rPr>
              <a:t>CHARAKTERISTICKÉ RYSY</a:t>
            </a:r>
            <a:br>
              <a:rPr sz="3500"/>
            </a:br>
            <a:r>
              <a:rPr b="1" lang="en-US" sz="3500" spc="-1" strike="noStrike">
                <a:solidFill>
                  <a:srgbClr val="f8f828"/>
                </a:solidFill>
                <a:latin typeface="Garamond"/>
              </a:rPr>
              <a:t>A ZÁKLADNÍ PRINCIPY</a:t>
            </a:r>
            <a:br>
              <a:rPr sz="3500"/>
            </a:br>
            <a:r>
              <a:rPr b="1" lang="en-US" sz="3500" spc="-1" strike="noStrike">
                <a:solidFill>
                  <a:srgbClr val="f8f828"/>
                </a:solidFill>
                <a:latin typeface="Garamond"/>
              </a:rPr>
              <a:t>INDUSTRIÁLNÍ SPOLEČNOSTI</a:t>
            </a:r>
            <a:endParaRPr b="1" lang="en-US" sz="3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39640" y="3885840"/>
            <a:ext cx="81360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3. Seminární skupina – 2. tý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František Karber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Petr Kebo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Jiří Male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Charakteristické rysy preindustriální společnosti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ůda představovala základ hospodářství, života, kultury, rodinné struktury a politiky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spodářství bylo decentralizované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měna výrobků byla omezená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evládala jednoduchá dělba práce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ůvod determinoval postavení člověka v životě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istovala přísně autoritářská pravomoc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Příčiny vzniku druhé vlny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bjev Nového světa, růst počtu obyvatelstva, který povzbuzoval přesuny do měst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yčerpání lesů, vedoucí k využívání uhlí → parní stroj → nebývalé možnosti rozšíření výroby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zšiřování vědeckých poznatků využitelných v technické praxi, rozvoj "industriálního" myšlení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ynalezení knihtisku, růst gramotnost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Principy industriální společnosti </a:t>
            </a:r>
            <a:br>
              <a:rPr sz="4300"/>
            </a:b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a dominantní princip industriální společnosti lze považovat princip oddělení výroby a spotřeby. Na tento princip pak navazují další principy, a to princip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ělby práce na základě specializac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ynchroniz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izace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oncentrac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ximalizac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entralizac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Oddělení výroby od spotřeby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ÝROBA◄►SPOTŘEB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h se stal expanzivní a samostatná institu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árůst dělby práce, která směřovala k prudkému růstu její produktivit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měna, do té doby jen okrajový jev, se přesunula do ohniska dění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Dělba práce na základě specializace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ddělení výroby od spotřeby je první krok na cestě ke stále se prohlubující specializaci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Člověk Spotřebitel   X   Člověk výrob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Synchronizace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ále hlubší dělba práce si vynutila též změnu způsobu, jakým lidé nakládali s čas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Časová koordinace = Život většiny lidí běží podle jednotného rozvrhu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ZNIK MODERNÍHO MANAGMENT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Standardizace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lak na zefektivnění výrob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chází k sjednocení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ýrobních postup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ýrobních zařízen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školení pracovník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ontroly a hodnocení pracovník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Garamond"/>
              </a:rPr>
              <a:t>managementu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Koncentrace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ůvod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ělba prá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iz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áslede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ustředění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izovaných pracovníků do cen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zvoj mě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Maximalizace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pický příklad – automobilové závody v US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a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 je obrovské, je zároveň dynamické a dobře fungující.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sedlost rozvoj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Centralizace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entralizace moc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esun moci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zefektivňování činností jednotlivých cen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del typický pro industriální společnos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entralizace moci vytvářením nadstátních celk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entralizace moci vytvářením gigantických podnik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6000" spc="-1" strike="noStrike">
                <a:solidFill>
                  <a:srgbClr val="f8f828"/>
                </a:solidFill>
                <a:latin typeface="Garamond"/>
              </a:rPr>
              <a:t>PRVNÍ VLN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ffff"/>
                </a:solidFill>
                <a:latin typeface="Garamond"/>
              </a:rPr>
              <a:t>Preindustriální společnos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Děkujeme za pozornost.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Použitá literatur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TOFFLER, A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Šok z budoucnosti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. Praha : Práce, 1992. ISBN 80-208-0160-X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TOFFLER, A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The Third Wawe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. New York 1980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TOFFLER, A., TOFFLEROVÁ, H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 Nová civilizace.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raha : Dokořán 2001. ISBN 80-86569-00-4.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Charakteristické rysy a základní principy industriální společnosti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Od po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átku lidstvo prochází kulturní evolucí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P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ř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ed 350ti lety nástup idustriální spole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nos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Kam vývoj lids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é spole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nosti sm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ř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uje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Kam a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ž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m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ůže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vést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Kde jsme prá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t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eď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Ubírá se naše spole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nost správnou cestou?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Kam směřujeme?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Dva názor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Vývoj bude probíhat p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ř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iroz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en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, vylou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ení p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ř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edstavy zásadní odlišnosti budoucí civiliz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Budoucí civilizace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bude zalo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ž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ena na sou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asných principech fungování spole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nos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Optimismus, víra v lepší zítř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Kam směřujeme?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Pesimistické očekává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Politické krize, terorismus, globální konflik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Dramatický růst populace, narůstající chudoba, vyčerpání přírodních zdrojů, ekologická hrozb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Názor A. Toffler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Americký sociolog a publicista a. Toffler přichází s představou vývoje lidské společnosti v určitých vlná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ásledující vlna se prodírá na místo vlny předchoz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ůsobení těchto vln je koexistenč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Názor A. Toffler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ývoj lidské společnosti lze rozčlenit do třech vl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polečnost preidustriál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Idustriál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ostindustriál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První vln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řináší preindustriální civilizaci -zemědělskou společn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oba trvání cca 10 000 l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430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8f828"/>
                </a:solidFill>
                <a:latin typeface="Garamond"/>
              </a:rPr>
              <a:t>DRUHÁ VLNA</a:t>
            </a:r>
            <a:r>
              <a:rPr b="1" i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4400" spc="-1" strike="noStrike">
                <a:solidFill>
                  <a:srgbClr val="ffffff"/>
                </a:solidFill>
                <a:latin typeface="Garamond"/>
              </a:rPr>
              <a:t>nástup industriální společnost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08:12:51Z</dcterms:created>
  <dc:creator>99800</dc:creator>
  <dc:description/>
  <dc:language>en-US</dc:language>
  <cp:lastModifiedBy>Jirik</cp:lastModifiedBy>
  <dcterms:modified xsi:type="dcterms:W3CDTF">2006-10-04T20:45:34Z</dcterms:modified>
  <cp:revision>14</cp:revision>
  <dc:subject/>
  <dc:title>Druhá vlna  </dc:title>
</cp:coreProperties>
</file>