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231-69D9-4822-8948-5D06A8A2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333-EE81-4FFC-83F3-363CF934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6CC-9CBA-4143-9DA1-A3061DAE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4E8-896C-439C-A547-A2423EB4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7514-13F6-4D04-AE99-9FF7396D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AB8-D0E9-4CF1-A4C2-9321561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15D-C165-4AA6-B86F-D4B3E161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0213-1867-4F90-A94C-54862B8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47D-B182-47E1-9049-961914CB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CCA3-5B13-464E-B114-DF5A42D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8746-2B2B-435B-836D-C361A22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F2D-8A6A-4DF6-A584-E758FDF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E74-9EE4-4BAD-A983-F399B213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B65-6954-4FA0-870D-12884D8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CF7-BB46-457F-B679-12942AD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D78-55D3-4F89-B472-77825BEF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1D5F-BA7A-4A11-93C7-C78D038B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611-4AA9-43F6-8D9B-26F0014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B67-C19F-4D55-A2D8-24E1C87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80D-789E-4055-871F-7CBD88BF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3C0-2118-496E-8337-E358432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FE7-3292-4937-BF79-450EE25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3A6-7DBA-4894-8D87-26062DD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63B-403A-4D5F-A5FD-139E7E0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BC90-A9D4-41C1-85C9-8C0E6A6CE1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8191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876920" y="59436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0CF-CE00-42B0-B49A-0CE9FA699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cf7ff"/>
                </a:solidFill>
                <a:latin typeface="Arial Black"/>
              </a:rPr>
              <a:t>Superzápas zítřka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25909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vilizační vlny – charakteristika, vzájemné vztahy a stř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offler, A.; Tofflerová, H.: Nová civilizace – Třetí vlna a její důsled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ich, R.B.: Dílo náro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üller, Z.: Svaté války a civilizační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Děkujeme za pozornos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Vývoj a historie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zdělení (A.Toffl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vní vlna – pre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8000 př.n.l., trvání v řádech tisíciletí, hlavní podstata zemědě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Druhá vlna – industriální společnost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ec 17. století, trvání v řádech stovek let,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, mecha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řetí vlna – post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polovina 20. století, dekády?, informace, znalosti, high-tech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Proč vlna?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8000" y="1142640"/>
            <a:ext cx="403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de o skok, ale o plynulý přechod od jedné společnosti k dru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em se energie vlny vyčerpá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a třetí vlna se prolínají – střet vln =&gt; střet civiliz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První vlna (v kostc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zemědě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ty, decentralizované hospodářství založené na vlastnictví půdy, hierarchie v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ádná nebo jednoduchá dělb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ence trhu =&gt; výroba pro vlastní spotřebu =&gt; minimum s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iž zcela odezněla (výjimkou jsou kmeny v pralesech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cf7ff"/>
                </a:solidFill>
                <a:latin typeface="Arial Black"/>
              </a:rPr>
              <a:t>Druhá vlna – industriální společnost</a:t>
            </a:r>
            <a:endParaRPr b="0" lang="en-US" sz="30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várny, želez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chanizace a synchronizac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lba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utomob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sová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spotřební (konzumní)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 civilizační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aleka není ukonč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751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Střet první a druhé vlny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čanská válka v USA &lt;= boj mezi industriálním Severem a zemědělským Jihem a další vojenské konfli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ponsko - reformy Meid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tvy“ mezi průmyslníky a obchodníky proti vlastníkům půdy (círke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sledky pro jednotlivce - změna pojetí rodiny a nutnost dojíždění za p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lonie – industriální mocnosti dobývají nová ložiska surovin – kol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Informační společnost – třetí vlna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významu přírodních zdrojů a surovin vů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formace jako produ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minance sektoru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va skryté výrobn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Poznatky 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experti, týmy, know-h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dělání, rozvoj manage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Čas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bleskové komunikace, IT, správa firemních sítí a komunikačních kaná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ovský význam a vliv médi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638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Konflikt! 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. Huntington: „…střet Islámu a Západu, nebo Západu a zbytku světa?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ar on Terror, boj s extrémistickými skupinami a hnutí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t zájmů zemí 3. vlny se zeměmi 1. a 2. vl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trukturalizace – problém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un výroby na vý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zba ekologické b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 sociálních propastí – rozdíly mezi bohatými a chu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Budoucnost – co bude? (diskuz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Toffler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voluční premi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„Budoucnost plná otřesů, turbulencí, vln násilí -&gt; postupná transformace způsobu našich životů, práce i myšlení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migrace (přistěhoval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kotero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výpočetní tech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itické, kulturní a náboženské rozep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&gt; Čtvrtá vl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49:04Z</dcterms:created>
  <dc:creator>CIKT</dc:creator>
  <dc:description/>
  <cp:keywords/>
  <dc:language>en-US</dc:language>
  <cp:lastModifiedBy>Franta Konopásek</cp:lastModifiedBy>
  <dcterms:modified xsi:type="dcterms:W3CDTF">2006-10-04T15:17:32Z</dcterms:modified>
  <cp:revision>18</cp:revision>
  <dc:subject/>
  <dc:title>Civilizační vl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81033</vt:lpwstr>
  </property>
</Properties>
</file>