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84D-7DF4-4DDA-A739-6F30C049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18D-FF61-4D67-BC13-63E683B1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FEE-8D55-41BB-B223-6B7EF783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60D-58E0-4493-B2C7-BE136708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974C-9BD2-4BD0-BFCD-531E67CF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FD45-FDC7-48C3-ACAE-174CE061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68BB-A3AB-4511-8F17-AB222003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ED4C-6CDB-49CF-858C-D52F6701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5330-52FB-4546-A84D-83711E00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2891-5B7D-4BF5-AD7C-EC584FF1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7EE9-E40A-4D26-8617-1FA2A14C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9EC-AE9C-40FD-9BD8-3BB33FD4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15C8-7E72-44C4-B0AF-53B993A2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4024-52CF-4CB7-947E-3F3747B5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2C02-4D38-41BE-A993-E4EB1054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8955-B09A-4363-9240-6DF77EFB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E9E0-81E8-4775-99ED-20164B74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C32-B391-416B-B52C-691D5F9F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2D3-E5A4-4EAE-BDD7-FA998852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EC9-1B43-46FD-BD23-B5E1309B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2BD-D6B1-4B83-9FFD-B572ADFD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8A5-C5C3-4B50-BF58-8F6AD281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0F31-521F-454E-91F7-96260788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80BD-AD6C-453B-B326-1A7E5923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331F-25FC-4C9C-8B62-508CF8384707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AD60-7124-462C-B902-515AFFC833C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aramond"/>
              </a:rPr>
              <a:t>Vývoj systémů - přirozená a kulturní evoluc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ára Kozlová, Veronika Paďourová, Barbora Vincenec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ým, prezentace čtvrtek 4.10.200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Vznik a podstata kulturní evoluce a její vztah k evoluci přirozené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Evoluce přirozená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zniká v rámci vývojového procesu vesmí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sitelem je příro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voj probíhal několik miliard 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sledkem jsou složité, vzájemně provázané ekosysté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voluce kultur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jím nositelem je člově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á svůj původ v přírod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nesrovnatelně mladší než evoluce přirozen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sledkem je kul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ývá globálního rozsa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oužitá literatur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Erben-Eckstein, J. (1999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Časová nesymetrie ve fyzice a nevratnost dějů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atedra podnikového hospodářství (2006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Management II, průvodce studiem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Thaxton, C. B., Bradley, W. L., Olsen, R. L. (1995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Tajemství vzniku života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igogine, I., Stengersová, I. (2001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Řád z chaosu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Šmajs, J. (2004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Víme, co je evoluce?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Šmajs, J. (2000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Drama evoluce.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Šmajs, J. (1997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Konflikt přirozené a kulturní evoluce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ysté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bor prvků ve vzájemné interak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dina, studenti ve třídě, pod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émy řídící a řízen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volu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ěj, při kterém se ze systémů uspořádaných určitým způsobem stávají systémy uspořádané dokonaleji než tomu bylo u jejich předchůdců (Management II, Průvodce studiem, 2006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rozená vs. kultur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ruhá věta termodynami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k energie při ireverzibilních dějích směřuje vždy k rovnoměrnějšímu rozdělení energie ve vesmíru" (Thaxton, 199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odstata</a:t>
            </a: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 přirozené evoluce jako spontánního antientropického děj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ojem přirozená evolu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 pro většinu lidí spojen pouze se vznikem a vývojem lidského dru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ním problémem je vnímání přirozené evoluce člověk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ro poznávání evoluce můžeme využívat jen dílčí poznatky vědy a svou představu svět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evoluce zasáhla přírodovědu, chemii, fyziku, sociologii i matematiku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Na základě mnoha teorií a poznatků lze předpokládat, že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na počátku vesmíru byla jeho uspořádanost nejnižší a že teprve evolucí se postupně zvyšoval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řirozená evoluce pravděpodobně začala před deseti až patnácti miliardami let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ůvodem velkého třesku je narušení původní symetrie systém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Evolu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na rozdíl od entropie  je procesem konstitutivním, směřuje proti rozpa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buduje stále jemnější a diferencovanější struktury i pravidl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otřebuje přiměřenou energetickou podpor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rávě díky omezenému energetickému příkonu je zřejmě schopna všemi možnými organizačními způsoby čelit entropi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Evoluční pro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růběh a výsledek je vždy víceméně neznámý, předem nezjistitelný a nepředpověditelný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je složitou dynamickou interakcí informace s prostředí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na všech organizačních úrovních je spoluurčován mnoha nahodilými faktor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4:13:15Z</dcterms:created>
  <dc:creator>Marie Kozlová</dc:creator>
  <dc:description/>
  <dc:language>en-US</dc:language>
  <cp:lastModifiedBy>Martin Krkavec</cp:lastModifiedBy>
  <dcterms:modified xsi:type="dcterms:W3CDTF">2006-10-04T19:43:24Z</dcterms:modified>
  <cp:revision>4</cp:revision>
  <dc:subject/>
  <dc:title>Podstata přirozené evoluce jako spontánního antientropického děje </dc:title>
</cp:coreProperties>
</file>