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F822-457F-41E3-8BE1-902B333E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9737-28BD-4684-9186-82936F9C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878-804C-48EF-A7AF-0A080730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D4F-AF8E-43E0-B682-BCD7A29C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E31B-6AC6-4CC3-A47D-166F23F6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F606-AB51-4BEF-84C6-2F746D78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A01B-B649-4EC8-ABA8-74836DEB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D002-EA3D-49AF-A8EE-79608527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0404-E2F6-46F8-95C2-96D21601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A576-3E4F-40C5-B0AD-7CB6C64D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E747-16E0-4B73-954C-A4CF9C5B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2F32-09B2-4C51-B483-B87C9B36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6625-6A75-4B08-AA48-9DB13030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C19C-BACB-4E41-8A5C-B86D94F1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58E4-F42E-4D26-A978-1B0FC16B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A29C-A640-4D3B-99A6-80E48FF5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E927-1218-40FA-806B-1DA95A59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50D-3624-40E8-89FA-2A1DFF42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1643-28B9-4DB4-92F8-AF2B7665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6F90-D7D5-4F76-B0DF-0BB93DDC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C063-E9A7-406E-A766-F99E595F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14F-46A7-43DA-9EC9-B7DCB831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791-CC2C-4FB1-AABE-80DB87EA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09A6-26A3-4C4B-8948-38DD5A2B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1A50-4A8D-4832-BD94-9C0ED57E6E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DC92-63DA-40D3-925A-42C6A051530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  <a:ea typeface="Times New Roman"/>
              </a:rPr>
              <a:t>Vysoce zhodnocující podniky</a:t>
            </a: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AGEMENT I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ylva Talpov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akub Vaně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ndřej Vymaz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např.  McDonald</a:t>
            </a: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zitivní asociace 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egrace, 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j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é j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dlo, hodnot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j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dl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gativní asociace 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yso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obsah kalor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tnost sledování zpětných vazeb od zákazníků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např. Merced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okování atributů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echnicky vynikající 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, robust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dra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vokování osobnost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dního 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ku, ser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ó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metodic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autoritá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voko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í zv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t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okování uživatel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ta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š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zákazník, odbor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rofe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" y="3885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Děkujeme za pozornost………otázky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un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k Jan : Znalostní podnik ve znalostní spol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osti ISBN-80-86419-35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eber Jaromír a kol. : management – základy, prosperita, globalizace ISBN-80-7261-029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Bl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k Ladislav : Vývojové tendence podniku ISBN-80-210-3213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Foret Miroslav : Marketingová komunikace ISBN-80-7226-811-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řechod mezi industriální a postindustriální společnost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nd opouštění velkovýro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užívání znalostí a možností global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tředky směřující k vysokému zhodnoc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CHARAKTERISTIKY TRŽNÍHO PROSTŘED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4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stoucí konkurence mezi velkovýrobci -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nižování cen = i zis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=&gt;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chod na produkci speciálních výrob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užití nových technologií, know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daptace na potřeby konkrétních zákazní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 KLÍČOVÉ VLASTNOSTI PRACOVNÍK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chopnost identifikovat problémy potenciálních a stávajících zákazní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chopnos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šit tyto problémy jed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m z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ob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chopnost propojovat identifikaci problé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 jejic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šením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  <a:ea typeface="Times New Roman"/>
              </a:rPr>
              <a:t>chopnost identifikovat problémy potenciálních a stávajících zákazník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ů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0920" y="2438280"/>
            <a:ext cx="854064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ůvo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vorba podniko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viz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rativní řízen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ě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konnos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chopnost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ř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ešit problémy jedine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č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ným zp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ů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sobem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stálé hledání doprovázené experimentová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é kombinace, postu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ziko spojené s experimentová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chopnost propojovat identifikaci problé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ů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 s jej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ch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ř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ešením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854064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řeba nalézt řešení k vzniklému probl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ískání prostředků k vyřešení probl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stup nových a „jiných“ manager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ement myšlen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Existence vysoce zhodnocujících podniků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5406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utný předpoklad – propojení všech tří skupin pracovník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ezi další předpoklady patř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-3808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chodní znač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-3808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mage fi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Obchodní značk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zitivní image, důvěryhodno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asto předmět prode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mani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nzo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mirnoff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udování znač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8:41:36Z</dcterms:created>
  <dc:creator>ondra</dc:creator>
  <dc:description/>
  <dc:language>en-US</dc:language>
  <cp:lastModifiedBy>Sylva Talpová</cp:lastModifiedBy>
  <dcterms:modified xsi:type="dcterms:W3CDTF">2006-11-08T15:31:06Z</dcterms:modified>
  <cp:revision>15</cp:revision>
  <dc:subject/>
  <dc:title>SVĚT ZMĚ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432525</vt:r8>
  </property>
  <property fmtid="{D5CDD505-2E9C-101B-9397-08002B2CF9AE}" pid="3" name="_AuthorEmail">
    <vt:lpwstr>sylva.talpova@seznam.cz</vt:lpwstr>
  </property>
  <property fmtid="{D5CDD505-2E9C-101B-9397-08002B2CF9AE}" pid="4" name="_AuthorEmailDisplayName">
    <vt:lpwstr>Sylva Talpová</vt:lpwstr>
  </property>
  <property fmtid="{D5CDD505-2E9C-101B-9397-08002B2CF9AE}" pid="5" name="_EmailSubject">
    <vt:lpwstr/>
  </property>
</Properties>
</file>