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3AD4-D126-4BAC-A1D7-B7CDB58D6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E0A5-D32E-43C1-B488-857BBE6A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5174-E472-4F18-B3BC-6DB02872D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7000-8B51-47D6-A2F1-204228F96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5DB8-F812-4135-86A6-821CF85C8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3BD1-C234-433F-8792-DA7F28CA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0A0BF-FFA5-42A4-A3FF-F0D82BA3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48CA-397C-4683-BBCF-81764DBE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69F7-375B-4834-B8CC-4DC5644C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AB80-702B-4AD3-9A70-D3F125F4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12102-AF5B-4CB0-8C4A-E4219E67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3F97-891C-443F-BE48-CE5CB77C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58E8-68E7-42DE-A272-72C1E6FB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90DD-2ABF-438E-B9D2-F97415D8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D427E-A473-4F08-9785-6E83D835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C260-D109-4800-8D15-0CADAC403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9C4FD-B1DD-4AAA-BE95-6ABDC79A0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58B7-9D76-436D-9CA0-C9A0BE46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D0B6-5353-419C-A912-73F74D7C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1103-E0A1-4947-B8B2-24C464DD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0C22-B910-43AA-A4CE-F89453D2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F81F-2A3B-48E8-8E1E-75CEACD9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8084-4E5C-4F3C-A1BC-8938CED5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A252-5F50-49A3-B3D5-86881C90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3E2B-0CA2-4C4F-88B9-B90AAE2E013B}" type="slidenum">
              <a:rPr b="0" lang="cs-CZ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0701-1A05-4152-9C65-E83FFD3C2D70}" type="slidenum">
              <a:rPr b="0" lang="cs-CZ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íťové organizační struktury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arakteristiky podnikatelských sít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ítě malých a středních fir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aktické aplikace síťových struktu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aktory ovlivňující úspěch výrobních sít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kušenosti z prax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Tradiční problémy malých firem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labá pozice v soutěži o veřejné zakáz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ysoké administrativní zatíže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dosažení úspor z rozsa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labá vyjednávací pozice s velkými obchodními řetězc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Výhody sítí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zvýšení trže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nížení nákladů – při uzavírání transakcí, výrobní 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nadnější řešení vzniklých problém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řístup k informacím a znalost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flexibilita a adaptabilita – levnější a inovativnější řešen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získání možnosti vstoupit na nové trh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rozdělování rizika mezi členy sítě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Příklady aplikací sítí 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FRANCHIS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rganizačně-obchodní spojení poskytovatele franchizy (franchisor) a jejího příjemce (franchisanta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ztahy jsou upraveny smlouvou, která obsahuje licenční prvky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837396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ináší výhody oběma straná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příjemce franchiz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yužívá řadu znalostí a zkušeností franchisor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šetří náklady nakupováním ve velké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šetří náklady na reklamu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837396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poskytovatel franchiz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kamžité rozšíření obchodní sít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ožnost proniknout na vzdálené trhy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centrum se může věnovat pouze strategickým úkolům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riziko je rozloženo na mnoho subjektů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Příklady aplikací sítí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UNĚČNÁ ORGANIZAC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tvořena malými podniky (buňky), z nichž každý usiluje o dosažení podnikatelských příležitostí, společně sdílí know-how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eliká flexibil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eustále se vytvářejí nová partnerstv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uňky samy vyhledávají nové podnikatelské příležitosti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Faktory ovlivňující úspěch výrobních sítí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ůvěr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gažovano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ýběr partner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yužití služeb zprostředkovate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užití informační technolog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kolní prostřed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Empirický výzkum sítí v USA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a základě studie Sherer z roku 200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sloveno 159 sítí, spolupracovalo 7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naha seřadit faktory důležité pro úspěch sít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ětšina sítí vznikla na počátku 90. l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ítě hlavně ve výrobě kovů, elektronice a strojírenstv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Výsledky výzkumu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jdůležitější faktory: charakter účastníků (důvěra), podpora ze strany vrcholového vedení (angažovanost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jméně důležité faktory: informační technolog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Testované hypotézy ve výzkumu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istuje významná příčinná závislost mezi finančními a nefinančními výstupy sítě a důvěro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istuje silná přímá závislost mezi dobou, po kterou jsou firmy členy sítě, a celkovou úrovní důvěr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Úroveň důvěry je v sítích fungujících méně než dva roky výrazně nižší než v sítích starších dvou le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buClr>
                <a:srgbClr val="c4c3a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Charakteristiky podnikatelských sítí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ramatické změny trhů (80. léta) - rozvoj síťových struktu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ítě = „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dlouhodobé dohody mezi vzájemně spjatými firmami, které jim umožní získat a udržovat si konkurenční výhody ve vztahu k firmám, které do této sítě nepatří.“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rganizačně řídící aspekt - řídící článek vzniká v procesu spolupráce všech strukturálních prvk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pojování konkurence a kooperac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polečné využívání informac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ýhody síťových dohod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úspora nákladů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yšší konkurenceschopno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Testované hypotézy ve výzkumu (2)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istuje silná nepřímá závislost mezi počtem členů a celkovou úrovní důvěr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istuje významný rozdíl mezi úrovní důvěry v sítích řízených formální a neformálním způsob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ítě starší jednoho roku s formálními mechanismy řízení vykazují mnohem vyšší úroveň důvěry než ty, které jsou řízeny spíše neformáln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íťové struktury v EU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ěmeck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xtilní výroba (malé a střední podniky spojeny s výzkumnými a technologickými ústavy, konzultačními firmami a marketingovými organizacemi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ziodvětvové spojení (dodavatelé surovin, materiálů, barviv,….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Klasifikace sítí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Hlavní důvody pro síťovou formu spolupráce firem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klasický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(orientovaný na co největší rentabilitu zdrojů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inovační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(využívá všech možností k rozvoji výroby když vlastní zdroje nestačí)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Základní typy sítí (Snow, Miles, Coleman - 1992)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vnitropodniková síť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statická síť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dynamická síť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Vnitropodniková síť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ředpoklady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rma vlastní všechny zdroje potřebné k podnikatelské činnost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ungování vnitropodnikového trhu, na kterém se obchoduje za reálné tržní cen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=&gt; Motivace interních jednotek k provádění zlepšení a inovac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tatická síť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yužívá částečně outsourcingu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rozložení vlastnictví aktiv a rizika mezi několik fir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ýhoda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polehlivost v oblasti dodávky nebo distribuce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Nevýhoda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ztráta flexibility firem,které se stanou závislé na ústřední firmě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Dynamická síť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ůdčí firma využívá zdrojů, které jsou z velké části nebo zcela vlastněny jinými společnostm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ýhoda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oskytují jak flexibilitu tak specializac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izika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ozdílná kvalita v jednotlivých firmách, potřebná odborná znalost může být dočasně nepřístupná, riziko zneužití příslušných znalostí a technologi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ynamické sítě fungují nejlépe v konkurenční situaci, kdy je každý z hráčů nucen tržními tlaky být spolehlivý a využívat výhod své specializace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Typologie podnikatelských sítí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herer (2003) rozlišuje 2 skupiny sítí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Měkké sítě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ítě, do kterých se firmy sdružují s cílem učit se od sebe navzájem tak, aby mohly provést změny, které zlepší jejich konkurenceschopno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ítě firem, jež sdílejí společné zdroje, které mají k dispozic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Tvrdé sítě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charakteristická vyšší úroveň vzájemné závislosti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v rámci tvrdé sítě jsou často sdíleny všechny vědomosti a odborné znalosti =&gt; větší příležitosti, ale vyšší rizik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ítě malých a středních firem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ytvoření sítě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lavní strategií rozvoj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dmínka: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vzájemná důvěra a vzájemná podpora o ochota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účastníků sítě vzdát se vlastní výhody, pokud to prospěje síti jako celku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tivací překonání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řady tradičních problémů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malých firem a získání určitých výhod velkých fir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Tradiční problémy malých firem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lá ekonomická síla ve srovnání s velkými podni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rší přístup ke kapitálu (omezuje možnosti financování rozvojových aktivit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tížená možnost odborného vzdělávání zaměstnanců a manažer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kalá konkurence ze strany velkých podniků a dumpingové ceny dovážených produkt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21:18:37Z</dcterms:created>
  <dc:creator>Brno</dc:creator>
  <dc:description/>
  <dc:language>en-US</dc:language>
  <cp:lastModifiedBy>Procházka Jan</cp:lastModifiedBy>
  <dcterms:modified xsi:type="dcterms:W3CDTF">2006-11-08T14:19:52Z</dcterms:modified>
  <cp:revision>6</cp:revision>
  <dc:subject/>
  <dc:title>Sítě malých a středních firem</dc:title>
</cp:coreProperties>
</file>