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850E-E60E-4D10-B529-11896851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8801-5549-4DE9-B487-604D05B9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527F-303A-4FA8-AC2E-1279D903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1887-4E96-44E1-AFBC-70966006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086A-D89D-47F0-86A9-7BDB3634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05D9-1F4C-49E4-A003-D651CD4E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0FB0-66D3-4B5C-8002-55D32B8F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09B2-10CA-4F4A-A8A3-E719E860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657D-2BF4-412C-A86F-993FF8F3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5309-D51B-450B-953B-7333CF32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E2E1-BBCF-4CE0-B844-BADCDB8B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CEDE-BA2C-4E08-AD97-82E63D67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684A-34EF-48B9-9F32-6F05395B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CCFC-1060-4156-A7D8-818767FE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E3D6-C74D-4BDD-BA16-08061E9C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904F-28EA-4774-B28A-BD2D6187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0744-C292-4122-A0E9-338F01B2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98F3-079B-4544-99BC-126CDC2D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95DB-6A1E-475C-950A-EC69CF87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0403-DAA0-4391-8B48-D9F299EE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6E80-1E8E-42B3-A438-6337427E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ECF3-90B7-4824-97F0-76F323EB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6E63-2AD7-4B81-AEAA-6E625E05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76D5-0492-4027-9215-C97FEC1A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A20A-903C-4702-A6A6-883F944C5A1E}" type="slidenum">
              <a:rPr b="0" lang="sk-SK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A64E-A259-4043-BDC8-655806BD9174}" type="slidenum">
              <a:rPr b="0" lang="sk-SK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Stakeholdeři a jejich význ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3200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ezie Kouřil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tina Pospíšil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214200"/>
            <a:ext cx="7251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Využití analýzy- příklad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Trendy v současnosti např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Expanze fir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Tahoma"/>
              </a:rPr>
              <a:t>CSR aktivit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Zdroj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Eva Kislingerová, Ivan Nový a kol. – Chování podniku v globalizujícím se prostředí. Praha: C.H.Beck 2005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Jaromír Veber a kol. – Management – základy, prosperita, globalizace. Praha: Management Press 2005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Refik Culpan a John Trussel – Applying the Agency and Stakeholder Theories to the Enron Debacle: An Ethical Prspective. Business and Society Review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Spring2005, Vol. 110 Issue 1, p59-76</a:t>
            </a:r>
            <a:r>
              <a:rPr b="1" lang="cs-CZ" sz="1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Dirk Matten a Andrew Crane – What is stakeholders democracy? Perspectives and issues. Business Ethics: A European Review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Jan2005, Vol. 14 Issue 1, p6-13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Crosby, Benjamin L. March 1992. "Stakeholder Analysis: A Vital Tool for Strategic Managers."Technical Notes, no. 2. Washington, DC: Implementing Policy Change Project for the USAgency for International Development (USA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Definice stakeholder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1579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takeholders =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osoby či skupiny osob, které ovlivňují danou firmu nebo jsou jednáním této firmy samy dotčeny, tj. jsou dobrovolně nebo nedobrovolně vystaveny riziku spojenému s aktivitami firmy. (Veber a kol.,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=&gt; stakeholder approach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manažeři berou při rozhodování v úvahu zvyšování míry uspokojování oprávněných zájmů všech zúčastněných skupin nejen vlastníků podnik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ývoj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znik ucelené teorie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v 80. letech - Free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ednotlivé skupiny stakeholderů byly do té doby analyzovány oddělen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ůležitost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komplexního pojet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roste s rozvojem velkých mezinárodních korporací, kdy úspěšnost podniku záleží z velké míry na vztazích s okolí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oučasný trend –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stakeholder democr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jmy jednotlivých skupin jsou často protichůdné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jednávací síla a pozice se liší mezi jednotlivými  skupinami stakeholderů i mezi odvětvími a kultura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Tahoma"/>
              </a:rPr>
              <a:t>Skupiny stakeholderů a příklady jejich zájmů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55972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LASTNÍCI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hodnocení investovaného kapitá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tiž a společenské postavení, vliv na rozhodování, možnost seberealiz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AMĚSTNANCI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zda, sociální jistoty, zařazení v kolektivu, možnost uplatně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ĚŘITELÉ –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stota navrácení a zhodnocení kapitál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000" y="220464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DAVATELÉ – možnost odbytu, dodací a platební podmínky, obchodní vzta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ÁKAZNÍCI – kvalitní zboží a služby, výhodné ceny a podmínky, důvě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ÁT – placení daní, dodržování právních předpisů, zajištění pracovních míst, rozvoj regio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TATNÍ – např. ekologická hnutí, oborové asociace, humanitární organizace, média at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Skupiny stakeholderů a příklady jejich zájmů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Analýza Stakeholder</a:t>
            </a: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ů</a:t>
            </a: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81374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Kde se využí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Je součástí konceptu „stakeholder management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dklad k projek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m a plánová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Jaké informace zjistí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Kdo jsou nejd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ůležitější stakeholdeř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aký mají vliv na společ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aký mají zájmy ve vztahu k naší společ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Analýza Stakeholder</a:t>
            </a: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ů</a:t>
            </a: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 -pos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6310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Definovat všechny stakehold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Získávání dat- primární , sekundárn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yhodnocení charakteristik (znalost společnosti, zájem, vliv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Vytvoření „mapy stakeholder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ů“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Vyvození závěrů a plán komunik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050920" y="1143000"/>
            <a:ext cx="5040360" cy="4591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1197000"/>
            <a:ext cx="0" cy="44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0920" y="3429000"/>
            <a:ext cx="49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2606760"/>
            <a:ext cx="8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liv,sí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95640" y="6021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áj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0920" y="5734080"/>
            <a:ext cx="5113440" cy="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050920" y="1125360"/>
            <a:ext cx="0" cy="460872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63640" y="5805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184464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bát na spokoje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400536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Udržet informova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4221000"/>
            <a:ext cx="24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nitor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88000" y="1844640"/>
            <a:ext cx="27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ejužš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278136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3933720"/>
            <a:ext cx="216000" cy="216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59280" y="2852640"/>
            <a:ext cx="216000" cy="21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1413000"/>
            <a:ext cx="215640" cy="21564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393372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993080" cy="15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Proč je dobré znát stakehold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dklad k projek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ů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trategické plánová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rogramy, inovace, nové pravidla, zákony apo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Projekt/plán má větší šanci na úspě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Možnost předejít nedorozumění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Komunikace se stakeholdry bude efektivnějsí a přínosnějš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8:59:06Z</dcterms:created>
  <dc:creator>Terka</dc:creator>
  <dc:description/>
  <dc:language>en-US</dc:language>
  <cp:lastModifiedBy>1</cp:lastModifiedBy>
  <dcterms:modified xsi:type="dcterms:W3CDTF">2006-11-08T15:50:47Z</dcterms:modified>
  <cp:revision>34</cp:revision>
  <dc:subject/>
  <dc:title>Stakeholdeři a jejich analýza</dc:title>
</cp:coreProperties>
</file>