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95D-3618-4B04-ABE0-061CDCAA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55B7-ADD2-415C-B45D-44A4A6E7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35B0-62AB-4C47-A22D-0F9DD98F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41DF-0CB5-423E-BE4C-A0E5B671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0771-4A10-4827-AAAD-3A8AEF78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94E2-64EE-40FC-A20E-2E9CF08F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6202-50F0-4421-ACD8-A08D9C00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2D00-F672-4C00-844F-35356C48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5DAC-7F5C-4E4A-8EBC-8B38FED0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3BC8-EAED-40BD-89CC-0F25A889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5B54-96E7-49E3-9846-DE9ECB0C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2A2-AE3A-48F5-86D6-4F92491E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2C5C-2482-4457-891C-A0D76253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E1EC-5620-43C6-958C-A311CCFD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E7F3-9D9F-45A6-A778-3E67509C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2385-D967-4414-813F-59F0C41E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B9E2-A851-468A-9E59-C517AD08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F053-DD11-42F2-861F-44D2564D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18FD-59E3-4310-98FC-262930BA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7BB9-007B-41F9-98E5-EA3F1F7E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04ED-CC82-46B4-B9D0-E158D54E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134E-1B08-403A-941A-E754A55A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988-95EF-477C-A037-D835AA54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6C7-5183-4A2D-A8BE-3B3D56A5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21C6-97FD-4768-8E41-BE7CDF4F39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748F-FECC-49D2-94F5-0738536BC8F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15235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  <a:ea typeface="Times New Roman"/>
              </a:rPr>
              <a:t>Vysoce zhodnocující podniky</a:t>
            </a:r>
            <a:r>
              <a:rPr b="0" lang="en-US" sz="7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31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AGEMENT I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ylva Talpová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akub Vaně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ndřej Vymaz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např.  McDonald</a:t>
            </a: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zitivní asociace 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egrace, 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j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é j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dlo, hodnot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j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dl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gativní asociace 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yso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obsah kalor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tnost sledování zpětných vazeb od zákazníků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např. Merced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okování atributů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technicky vynikající 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, robust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dra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vokování osobnosti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dního 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ku, ser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ó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metodic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autoritá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voko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í zv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t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okování uživatel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ta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ší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zákazník, odbor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rofe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28600" y="3885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Děkujeme za pozornost………otázky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užitá literatura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un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k Jan : Znalostní podnik ve znalostní spole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osti ISBN-80-86419-35-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eber Jaromír a kol. : management – základy, prosperita, globalizace ISBN-80-7261-029-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Bl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ž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k Ladislav : Vývojové tendence podniku ISBN-80-210-3213-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Foret Miroslav : Marketingová komunikace ISBN-80-7226-811-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řechod mezi industriální a postindustriální společnost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nd opouštění velkovýro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užívání znalostí a možností global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středky směřující k vysokému zhodnoc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CHARAKTERISTIKY TRŽNÍHO PROSTŘED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540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stoucí konkurence mezi velkovýrobci -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nižování cen = i zis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=&gt;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řechod na produkci speciálních výrob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užití nových technologií, know 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daptace na potřeby konkrétních zákazní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3 KLÍČOVÉ VLASTNOSTI PRACOVNÍK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chopnost identifikovat problémy potenciálních a stávajících zákazní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chopnos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šit tyto problémy jedi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m z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ob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)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schopnost propojovat identifikaci problé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 jejich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šením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  <a:ea typeface="Times New Roman"/>
              </a:rPr>
              <a:t>chopnost identifikovat problémy potenciálních a stávajících zákazník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ů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50920" y="2438280"/>
            <a:ext cx="854064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ůvo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vorba podniko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viz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rativní řízen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ěř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ý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konnos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chopnost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ř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ešit problémy jedine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č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ným zp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ů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sobem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ustálé hledání doprovázené experimentová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é kombinace, postu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ziko spojené s experimentová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S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chopnost propojovat identifikaci problém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ů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 s jej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ch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ř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ešením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854064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řeba nalézt řešení k vzniklému problé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ískání prostředků k vyřešení problém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ástup nových a „jiných“ manager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agement myšlen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Existence vysoce zhodnocujících podniků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54064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utný předpoklad – propojení všech tří skupin pracovníků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ezi další předpoklady patř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-3808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chodní znač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-3808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mage fi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Obchodní značk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zitivní image, důvěryhodno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asto předmět prode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mani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enzo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mirnoff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udování znač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8:41:36Z</dcterms:created>
  <dc:creator>ondra</dc:creator>
  <dc:description/>
  <dc:language>en-US</dc:language>
  <cp:lastModifiedBy>Sylva Talpová</cp:lastModifiedBy>
  <dcterms:modified xsi:type="dcterms:W3CDTF">2006-11-08T15:31:06Z</dcterms:modified>
  <cp:revision>15</cp:revision>
  <dc:subject/>
  <dc:title>SVĚT ZMĚ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65432525</vt:r8>
  </property>
  <property fmtid="{D5CDD505-2E9C-101B-9397-08002B2CF9AE}" pid="3" name="_AuthorEmail">
    <vt:lpwstr>sylva.talpova@seznam.cz</vt:lpwstr>
  </property>
  <property fmtid="{D5CDD505-2E9C-101B-9397-08002B2CF9AE}" pid="4" name="_AuthorEmailDisplayName">
    <vt:lpwstr>Sylva Talpová</vt:lpwstr>
  </property>
  <property fmtid="{D5CDD505-2E9C-101B-9397-08002B2CF9AE}" pid="5" name="_EmailSubject">
    <vt:lpwstr/>
  </property>
</Properties>
</file>