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6DD-7AA0-424D-AE43-5E7783CC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674-309D-454F-9DB5-3EAFB02E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013-FC4E-40F3-B794-1C852F8F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410-F573-478C-9C5B-90DC79E8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4BB9-52FE-4EE5-98BB-BF4D8F95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D602-7BA2-474A-B437-93498D9E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C4D5-FAEE-4CE9-B29E-5A62FB9F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EDBC-C526-4355-B9F0-37161A65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421D-484E-42BA-A16F-7BF6A5B5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0519-1DF1-4D84-8DE6-544C97FD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9CA2-218C-462E-B827-EEB666E9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DD2-41AC-4153-8EB4-AFBB83D8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F0A9-7BAF-4193-A343-DA541ED9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BABE-552D-4212-AA07-C222DF69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4274-B370-4F7E-BECE-5C13313C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1F1C-96EF-4A2E-B525-6474862B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61AA-B861-47E8-986E-141E3E3E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9C6-4951-4455-A65D-6814E3C7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3DC-87BB-4365-9E91-75A57B53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19CF-59E1-4E7B-AB77-6FCF7770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AF2-D2A6-4ED4-A057-681615FF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966-6D4B-41A5-8E10-148775C8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ABC-6CBF-4CD8-9AA2-18460036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E60-0BDD-4068-87E8-8B52E5C1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DB8F-F791-4548-829A-729553BAD1C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F279-043C-4254-B507-1FE6B4DDCCDC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3344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752480" algn="ctr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4869000"/>
            <a:ext cx="772344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Znalostní podnik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95640" y="5373720"/>
            <a:ext cx="77230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upánková Barb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rnáková Ja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kop J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Od průmyslové společnosti ke společnosti znalostní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2876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růmyslová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lké množství produk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dnik jako výrobní funk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bjem a rychl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funkční přístup managemen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Kapitá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1812960"/>
            <a:ext cx="450072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Znalost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užnost výro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stup hromadné výro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zitivní vývojové tren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cesní přístup managemen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  <a:ea typeface="Arial"/>
              </a:rPr>
              <a:t>Znal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Přístup managementu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764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Funkční příst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ěření na výstu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nomická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patření adresována hierarchickým úrov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080" y="1773360"/>
            <a:ext cx="377676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rocesní příst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měření na příč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ledování vnitropodnikových proces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hodnocení a přeprojektování procesů v podni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Organizace ve znalostní společnosti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4272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žadavky na organiza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ipravenost pracovníka na žádoucí výk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rganizace permanentního uč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0" y="1773360"/>
            <a:ext cx="4572000" cy="452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ahoma"/>
              </a:rPr>
              <a:t>Požadavky na pracov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odpověd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špičkový výk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hopnost a ochota se trvale uč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Znalostní podnik - charakteristika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cesní přístup managemen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zvíjení lidského kapitá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nalost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vývojové tren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ýroba sebe s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8edf2"/>
                </a:solidFill>
                <a:latin typeface="Tahoma"/>
              </a:rPr>
              <a:t>Znalostní podnik – principy fungování</a:t>
            </a:r>
            <a:endParaRPr b="0" lang="en-US" sz="40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rategie a výkonnost podnik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ický imperat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cesní orient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ýmová prá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platnění znalostí a intelig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iremní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Děkujeme za pozornos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8edf2"/>
                </a:solidFill>
                <a:latin typeface="Tahoma"/>
              </a:rPr>
              <a:t>Použitá literatura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runeček, J.: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Znalostní podnik ve znalostní společnosti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Professional Publishing 200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eber a kol.: </a:t>
            </a:r>
            <a:r>
              <a:rPr b="0" i="1" lang="cs-CZ" sz="3200" spc="-1" strike="noStrike">
                <a:solidFill>
                  <a:srgbClr val="ffffff"/>
                </a:solidFill>
                <a:latin typeface="Tahoma"/>
              </a:rPr>
              <a:t>Management. Základy, prosperita, globalizac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. Management Press 2000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0:39:44Z</dcterms:created>
  <dc:creator>CIKT</dc:creator>
  <dc:description/>
  <cp:keywords/>
  <dc:language>en-US</dc:language>
  <cp:lastModifiedBy>CIKT</cp:lastModifiedBy>
  <dcterms:modified xsi:type="dcterms:W3CDTF">2006-11-08T10:55:12Z</dcterms:modified>
  <cp:revision>5</cp:revision>
  <dc:subject/>
  <dc:title>Znalostní pod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7991029</vt:lpwstr>
  </property>
</Properties>
</file>