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990-7775-4CB9-9145-D672F70B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29C-E716-4981-AC1E-6BDEF699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1FE-EC5C-44FC-A7C4-EC2BE9B9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FB5-1DC8-48BB-9429-0E0568AA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5539-AB37-4479-BC7C-17A9D1DF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03C5-D071-4724-B820-D6355483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0EB9-B317-445A-B059-F99C82B0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E2C0-8E41-4A8A-A0A6-869478EF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00FC-ADD8-40B0-AA44-A4168A66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B9AE-5D71-48B3-86E1-7F3E03D8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318F-44E5-4D60-8AC3-7A1617E6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44D-B558-4710-AA21-45181A8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7424-8E1E-4401-9697-C69576DF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3C11-DA58-440D-BB5E-804DF3D0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B2DF-5863-4005-B12C-AD5B50D2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8EB9-A6E6-4711-B500-518A225B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5C5A-7E7D-41E8-9B99-405E00CF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8F7-D9B7-4C70-ACC5-A377DE39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7CB-CA1E-496D-B9FE-246DBEFF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112-4104-4B82-9538-68F87B45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A1E-AE20-424C-AE13-C066E6AD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42B-76CB-407F-9F83-77FC18C8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C09-DB18-45EA-BEAB-95544F93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670C-0EAF-48C2-B57D-C64B8BF4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7140-6AEB-498C-B912-DDAC5C0B3E68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B3A3-805F-4840-97F5-4837E99AEE40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organizační struktur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rakteristiky podnikatelský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ítě malých a střední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ktické aplikace síťových strukt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ktory ovlivňující úspěch výrobní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kušenosti z prax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pozice v soutěži o veřejné zak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soké administrativní zatíže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dosažení úspor z rozsa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labá vyjednávací pozice s velkými obchodními řetěz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hody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výšení trže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ížení nákladů – při uzavírání transakcí, výrobní 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nadnější řešení vzniklých problém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ístup k informacím a znalo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flexibilita a adaptabilita – levnější a inovativnější řešen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ískání možnosti vstoupit na nové tr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dělování rizika mezi členy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 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FRANCHIS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rganizačně-obchodní spojení poskytovatele franchizy (franchisor) a jejího příjemce (franchisanta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ztahy jsou upraveny smlouvou, která obsahuje licenční prvk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ináší výhody oběma straná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říjemce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užívá řadu znalostí a zkušeností franchiso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kupováním ve velk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etří náklady na reklam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Verdana"/>
              </a:rPr>
              <a:t>poskytovatel franchiz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kamžité rozšíření obchodní sít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ožnost proniknout na vzdálené trh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centrum se může věnovat pouze strategickým úkolům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iziko je rozloženo na mnoho subjektů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Příklady aplikací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NĚČNÁ ORGANIZ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vořena malými podniky (buňky), z nichž každý usiluje o dosažení podnikatelských příležitostí, společně sdílí know-how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eliká flexibil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eustále se vytvářejí nová partner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ňky samy vyhledávají nové podnikatelské příležitost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Faktory ovlivňující úspěch výrobní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ůvě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gažovano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ýběr partn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užití služeb zprostředkovate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žití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kolní prostřed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Empirický výzkum sítí v US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a základě studie Sherer z roku 200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sloveno 159 sítí, spolupracovalo 7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naha seřadit faktory důležité pro úspěch sít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ětšina sítí vznikla na počátku 90. l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ítě hlavně ve výrobě kovů, elektronice a strojírenstv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ýsledky výzkum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důležitější faktory: charakter účastníků (důvěra), podpora ze strany vrcholového vedení (angažovanos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jméně důležité faktory: informační technolog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á příčinná závislost mezi finančními a nefinančními výstupy sítě a důvěr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přímá závislost mezi dobou, po kterou jsou firmy členy sítě,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Úroveň důvěry je v sítích fungujících méně než dva roky výrazně nižší než v sítích starších dvou l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c4c3a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Charakteristiky podnikatelských sítí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matické změny trhů (80. léta) - rozvoj síťových strukt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ítě = „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dlouhodobé dohody mezi vzájemně spjatými firmami, které jim umožní získat a udržovat si konkurenční výhody ve vztahu k firmám, které do této sítě nepatří.“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ganizačně řídící aspekt - řídící článek vzniká v procesu spolupráce všech strukturálních prvk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jování konkurence a koopera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olečné využívání informac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ýhody síťových doho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úspora náklad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yšší konkurenceschopno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Testované hypotézy ve výzkumu (2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silná nepřímá závislost mezi počtem členů a celkovou úrovní důvě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istuje významný rozdíl mezi úrovní důvěry v sítích řízených formální a neformálním způsob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ítě starší jednoho roku s formálními mechanismy řízení vykazují mnohem vyšší úroveň důvěry než ty, které jsou řízeny spíše neformáln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ťové struktury v EU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ěmeck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xtilní výroba (malé a střední podniky spojeny s výzkumnými a technologickými ústavy, konzultačními firmami a marketingovými organizacem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ziodvětvové spojení (dodavatelé surovin, materiálů, barviv,…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Klasifikace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Hlavní důvody pro síťovou formu spolupráce firem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klasický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orientovaný na co největší rentabilitu zdroj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inovační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(využívá všech možností k rozvoji výroby když vlastní zdroje nestačí)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ákladní typy sítí (Snow, Miles, Coleman - 1992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vnitropodnikov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stat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Verdana"/>
              </a:rPr>
              <a:t>dynamická síť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nitropodnikov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ředpoklady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ma vlastní všechny zdroje potřebné k podnikatelské čin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gování vnitropodnikového trhu, na kterém se obchoduje za reálné tržní ce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&gt; Motivace interních jednotek k provádění zlepšení a inovac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tat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yužívá částečně outsourcing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rozložení vlastnictví aktiv a rizika mezi několik fir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polehlivost v oblasti dodávky nebo distribuce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evýhoda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ztráta flexibility firem,které se stanou závislé na ústřední firm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Dynamická síť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ůdčí firma využívá zdrojů, které jsou z velké části nebo zcela vlastněny jinými společnostm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ýhod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kytují jak flexibilitu tak specializac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zik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ozdílná kvalita v jednotlivých firmách, potřebná odborná znalost může být dočasně nepřístupná, riziko zneužití příslušných znalostí a technologi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ynamické sítě fungují nejlépe v konkurenční situaci, kdy je každý z hráčů nucen tržními tlaky být spolehlivý a využívat výhod své specializace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ypologie podnikatelských sítí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herer (2003) rozlišuje 2 skupiny sítí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Měkké sí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, do kterých se firmy sdružují s cílem učit se od sebe navzájem tak, aby mohly provést změny, které zlepší jejich konkurenceschopno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ítě firem, jež sdílejí společné zdroje, které mají k dispozi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Verdana"/>
              </a:rPr>
              <a:t>Tvrdé sítě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arakteristická vyšší úroveň vzájemné závislosti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 rámci tvrdé sítě jsou často sdíleny všechny vědomosti a odborné znalosti =&gt; větší příležitosti, ale vyšší rizik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ítě malých a střední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ytvoření sítě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lavní strategií rozvo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dmínka: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vzájemná důvěra a vzájemná podpora o ochota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účastníků sítě vzdát se vlastní výhody, pokud to prospěje síti jako celk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tivací překonání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řady tradičních problémů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malých firem a získání určitých výhod velkých fir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Tradiční problémy malých firem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lá ekonomická síla ve srovnání s velkými podni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ší přístup ke kapitálu (omezuje možnosti financování rozvojových aktivi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tížená možnost odborného vzdělávání zaměstnanců a manažer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kalá konkurence ze strany velkých podniků a dumpingové ceny dovážených produkt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1:18:37Z</dcterms:created>
  <dc:creator>Brno</dc:creator>
  <dc:description/>
  <dc:language>en-US</dc:language>
  <cp:lastModifiedBy>Procházka Jan</cp:lastModifiedBy>
  <dcterms:modified xsi:type="dcterms:W3CDTF">2006-11-08T14:19:52Z</dcterms:modified>
  <cp:revision>6</cp:revision>
  <dc:subject/>
  <dc:title>Sítě malých a středních firem</dc:title>
</cp:coreProperties>
</file>