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20B4-7BF5-4BCA-BF0C-EBEF24CE9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A154-CFCA-4585-A7B7-02EDA39E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66F3-6FDB-4682-BCDD-2553DC5B6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FEE4-EF58-467E-A47F-5708BAF6C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6EDB-8BD7-432E-8CAD-2AA98011D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6CCE-2FFD-4869-9A0C-33C42A2B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883F-A970-4010-A61B-FC802233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1608-9997-4187-92E5-D94C375C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8DE0-0895-45E1-9A81-E9520857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BF03-B1E4-42D4-8364-B69E78CA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1348-D9AE-4170-B797-DF2471BC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A625-6FD7-4EEB-AFF3-61D23EC6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C9EA-A76B-45D1-85AC-494FDAE1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3034-C962-409F-89E3-1C61D25C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E403-B148-4A5A-BE18-12ECB998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9EE4-8486-41C3-A55C-74E91C5DA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6CC1-CB73-4857-A372-5B23EE41C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9E0C-4763-4814-9E01-FE03237F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F539-1D16-4182-8326-F92832FF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7851-6141-44F9-BE3D-4AF58E3F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1349-55A8-4642-A4E7-D3A4D766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B208-507C-4EB2-9A01-8420D3ED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B936-1C08-4980-9491-36ACA664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F601-78BA-42E8-A56C-D928B2E5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C0BF-7DFA-492F-93B3-A54E499EC974}" type="slidenum">
              <a:rPr b="0" lang="cs-CZ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2393-86CB-400D-989D-C7DE29793CDF}" type="slidenum">
              <a:rPr b="0" lang="cs-CZ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íťové organizační struktury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arakteristiky podnikatelských sít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ítě malých a středních fir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aktické aplikace síťových struktu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aktory ovlivňující úspěch výrobních sít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kušenosti z prax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Tradiční problémy malých firem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labá pozice v soutěži o veřejné zakáz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ysoké administrativní zatíže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dosažení úspor z rozsa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labá vyjednávací pozice s velkými obchodními řetězc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Výhody sítí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zvýšení trže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nížení nákladů – při uzavírání transakcí, výrobní 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nadnější řešení vzniklých problém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řístup k informacím a znalost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flexibilita a adaptabilita – levnější a inovativnější řešen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získání možnosti vstoupit na nové trh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rozdělování rizika mezi členy sítě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Příklady aplikací sítí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FRANCHIS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rganizačně-obchodní spojení poskytovatele franchizy (franchisor) a jejího příjemce (franchisanta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ztahy jsou upraveny smlouvou, která obsahuje licenční prvk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3739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ináší výhody oběma straná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příjemce franchiz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yužívá řadu znalostí a zkušeností franchiso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šetří náklady nakupováním ve velké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šetří náklady na reklamu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3739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poskytovatel franchiz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kamžité rozšíření obchodní sít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ožnost proniknout na vzdálené trh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centrum se může věnovat pouze strategickým úkolům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riziko je rozloženo na mnoho subjekt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Příklady aplikací sítí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UNĚČNÁ ORGANIZAC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tvořena malými podniky (buňky), z nichž každý usiluje o dosažení podnikatelských příležitostí, společně sdílí know-how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eliká flexibil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eustále se vytvářejí nová partnerstv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uňky samy vyhledávají nové podnikatelské příležitost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Faktory ovlivňující úspěch výrobních sítí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ůvě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gažovano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ýběr partner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yužití služeb zprostředkovate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užití informační technolog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kolní prostřed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Empirický výzkum sítí v US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a základě studie Sherer z roku 200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sloveno 159 sítí, spolupracovalo 7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naha seřadit faktory důležité pro úspěch sít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ětšina sítí vznikla na počátku 90. l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ítě hlavně ve výrobě kovů, elektronice a strojírenstv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Výsledky výzkumu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jdůležitější faktory: charakter účastníků (důvěra), podpora ze strany vrcholového vedení (angažovanost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jméně důležité faktory: informační technolog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Testované hypotézy ve výzkumu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istuje významná příčinná závislost mezi finančními a nefinančními výstupy sítě a důvěro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istuje silná přímá závislost mezi dobou, po kterou jsou firmy členy sítě, a celkovou úrovní důvěr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Úroveň důvěry je v sítích fungujících méně než dva roky výrazně nižší než v sítích starších dvou l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buClr>
                <a:srgbClr val="c4c3a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Charakteristiky podnikatelských sítí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ramatické změny trhů (80. léta) - rozvoj síťových struktu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ítě = „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dlouhodobé dohody mezi vzájemně spjatými firmami, které jim umožní získat a udržovat si konkurenční výhody ve vztahu k firmám, které do této sítě nepatří.“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rganizačně řídící aspekt - řídící článek vzniká v procesu spolupráce všech strukturálních prvk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pojování konkurence a kooperac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polečné využívání informac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ýhody síťových dohod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úspora nákladů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yšší konkurenceschopno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Testované hypotézy ve výzkumu (2)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istuje silná nepřímá závislost mezi počtem členů a celkovou úrovní důvěr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istuje významný rozdíl mezi úrovní důvěry v sítích řízených formální a neformálním způsob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ítě starší jednoho roku s formálními mechanismy řízení vykazují mnohem vyšší úroveň důvěry než ty, které jsou řízeny spíše neformáln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íťové struktury v EU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ěmeck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xtilní výroba (malé a střední podniky spojeny s výzkumnými a technologickými ústavy, konzultačními firmami a marketingovými organizacemi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ziodvětvové spojení (dodavatelé surovin, materiálů, barviv,…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Klasifikace sítí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Hlavní důvody pro síťovou formu spolupráce firem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klasický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(orientovaný na co největší rentabilitu zdrojů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inovační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(využívá všech možností k rozvoji výroby když vlastní zdroje nestačí)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Základní typy sítí (Snow, Miles, Coleman - 1992)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vnitropodniková síť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statická síť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dynamická síť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Vnitropodniková síť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ředpoklady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rma vlastní všechny zdroje potřebné k podnikatelské činnost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ungování vnitropodnikového trhu, na kterém se obchoduje za reálné tržní cen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=&gt; Motivace interních jednotek k provádění zlepšení a inovac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tatická síť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yužívá částečně outsourcingu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rozložení vlastnictví aktiv a rizika mezi několik fir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ýhod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polehlivost v oblasti dodávky nebo distribuce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evýhoda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ztráta flexibility firem,které se stanou závislé na ústřední firmě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Dynamická síť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ůdčí firma využívá zdrojů, které jsou z velké části nebo zcela vlastněny jinými společnostm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ýhoda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skytují jak flexibilitu tak specializac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izika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ozdílná kvalita v jednotlivých firmách, potřebná odborná znalost může být dočasně nepřístupná, riziko zneužití příslušných znalostí a technologi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ynamické sítě fungují nejlépe v konkurenční situaci, kdy je každý z hráčů nucen tržními tlaky být spolehlivý a využívat výhod své specializac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Typologie podnikatelských sítí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herer (2003) rozlišuje 2 skupiny sítí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Měkké sítě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ítě, do kterých se firmy sdružují s cílem učit se od sebe navzájem tak, aby mohly provést změny, které zlepší jejich konkurenceschopno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ítě firem, jež sdílejí společné zdroje, které mají k dispozic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Tvrdé sítě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charakteristická vyšší úroveň vzájemné závislosti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 rámci tvrdé sítě jsou často sdíleny všechny vědomosti a odborné znalosti =&gt; větší příležitosti, ale vyšší rizik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ítě malých a středních firem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ytvoření sítě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lavní strategií rozvoj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dmínka: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vzájemná důvěra a vzájemná podpora o ochota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účastníků sítě vzdát se vlastní výhody, pokud to prospěje síti jako celku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tivací překonání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řady tradičních problémů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malých firem a získání určitých výhod velkých fir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Tradiční problémy malých firem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lá ekonomická síla ve srovnání s velkými podni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rší přístup ke kapitálu (omezuje možnosti financování rozvojových aktivit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tížená možnost odborného vzdělávání zaměstnanců a manažer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kalá konkurence ze strany velkých podniků a dumpingové ceny dovážených produkt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21:18:37Z</dcterms:created>
  <dc:creator>Brno</dc:creator>
  <dc:description/>
  <dc:language>en-US</dc:language>
  <cp:lastModifiedBy>Procházka Jan</cp:lastModifiedBy>
  <dcterms:modified xsi:type="dcterms:W3CDTF">2006-11-08T14:19:52Z</dcterms:modified>
  <cp:revision>6</cp:revision>
  <dc:subject/>
  <dc:title>Sítě malých a středních firem</dc:title>
</cp:coreProperties>
</file>