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B29-32DB-4041-B795-63D64538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4848-B41A-4401-A9C5-E86B2A43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667-2FC7-4613-833F-4578DD4F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5CE-7DF0-4B6A-8FC4-6325A1AF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90CE-990B-4EE3-8735-0DEF9498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32EE-1299-4683-8F33-47411AF6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BD96-60F0-4683-8BCE-78FBFB1D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EDAD-B75A-45DF-8692-1418239C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B886-0F59-43F3-A89E-FE1B7483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3B74-4392-4AF9-AE01-95E2040F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7EA5-DE10-48F3-A30D-62206E28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37F-4430-4B61-80C9-CEC2D608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1CE0-660C-46BD-A1C7-4F6E5081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1D10-69C6-494C-BD77-7ADD191E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E8A7-343D-4051-A1D8-2F3A8574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FAA9-AE30-4179-830B-E5AFA1A9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0813-233A-4D2A-B58A-62066197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B7F-EF8E-4F31-8DA2-05FFFFE4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C329-D3CF-45B8-A274-ED765769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5767-F00C-4703-B3D4-37A64F08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57D7-0F67-4A32-BC16-FF1D68D1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3D8-82B3-4A8E-8602-28288622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A20-731D-4EAB-94BE-60E58782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DA9-B7FF-4A73-A5CD-D693031A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F726-6535-48A8-B57C-628DAC2FF9E6}" type="slidenum">
              <a:rPr b="0" lang="sk-SK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45A0-2ED4-4A0E-8958-F54E63438A47}" type="slidenum">
              <a:rPr b="0" lang="sk-SK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takeholdeři a jejich význ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3200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ezie Kouři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tina Pospíši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14200"/>
            <a:ext cx="725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Využití analýzy- příkl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Trendy v současnosti např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Expanze fir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CSR ak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Eva Kislingerová, Ivan Nový a kol. – Chování podniku v globalizujícím se prostředí. Praha: C.H.Beck 200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Jaromír Veber a kol. – Management – základy, prosperita, globalizace. Praha: Management Press 200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Refik Culpan a John Trussel – Applying the Agency and Stakeholder Theories to the Enron Debacle: An Ethical Prspective. Business and Society Review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pring2005, Vol. 110 Issue 1, p59-76</a:t>
            </a:r>
            <a:r>
              <a:rPr b="1" lang="cs-CZ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irk Matten a Andrew Crane – What is stakeholders democracy? Perspectives and issues. Business Ethics: A European Review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Jan2005, Vol. 14 Issue 1, p6-13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rosby, Benjamin L. March 1992. "Stakeholder Analysis: A Vital Tool for Strategic Managers."Technical Notes, no. 2. Washington, DC: Implementing Policy Change Project for the USAgency for International Development (USA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Definice stakeholder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1579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takeholders =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soby či skupiny osob, které ovlivňují danou firmu nebo jsou jednáním této firmy samy dotčeny, tj. jsou dobrovolně nebo nedobrovolně vystaveny riziku spojenému s aktivitami firmy. (Veber a kol.,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=&gt; stakeholder approach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anažeři berou při rozhodování v úvahu zvyšování míry uspokojování oprávněných zájmů všech zúčastněných skupin nejen vlastníků podni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vo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znik ucelené teori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v 80. letech - Free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tlivé skupiny stakeholderů byly do té doby analyzovány oddělen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ůležitost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omplexního pojet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roste s rozvojem velkých mezinárodních korporací, kdy úspěšnost podniku záleží z velké míry na vztazích s okolí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oučasný trend –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akeholder democr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jmy jednotlivých skupin jsou často protichůdné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jednávací síla a pozice se liší mezi jednotlivými  skupinami stakeholderů i mezi odvětvími a kultura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Skupiny stakeholderů a příklady jejich zájmů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55972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LASTNÍCI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hodnocení investovaného kapit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tiž a společenské postavení, vliv na rozhodování, možnost seberealiz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MĚSTNANCI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zda, sociální jistoty, zařazení v kolektivu, možnost uplatně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ĚŘITELÉ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stota navrácení a zhodnocení kapit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220464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DAVATELÉ – možnost odbytu, dodací a platební podmínky, obchodní vzta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ÁKAZNÍCI – kvalitní zboží a služby, výhodné ceny a podmínky, důvě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ÁT – placení daní, dodržování právních předpisů, zajištění pracovních míst, rozvoj regio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TATNÍ – např. ekologická hnutí, oborové asociace, humanitární organizace, média a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kupiny stakeholderů a příklady jejich zájm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Analýza Stakeholder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ů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81374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de se využí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 součástí konceptu „stakeholder management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klad k projek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 a plánov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Jaké informace zjistí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do jsou nej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ůležitější stakeholdeř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aký mají vliv na společ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aký mají zájmy ve vztahu k naší společ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Analýza Stakeholder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ů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-pos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631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Definovat všechny stakehold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Získávání dat- primární , sekundár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hodnocení charakteristik (znalost společnosti, zájem, vliv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tvoření „mapy stakeholder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ů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vození závěrů a plán komunik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50920" y="1143000"/>
            <a:ext cx="5040360" cy="459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119700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342900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260676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liv,sí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6021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á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5734080"/>
            <a:ext cx="511344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0920" y="1125360"/>
            <a:ext cx="0" cy="460872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63640" y="580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184464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bát na spokoje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400536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Udržet informova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4221000"/>
            <a:ext cx="24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nitor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184464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ejužš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278136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3933720"/>
            <a:ext cx="216000" cy="216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59280" y="2852640"/>
            <a:ext cx="216000" cy="2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1413000"/>
            <a:ext cx="215640" cy="215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393372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99308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Proč je dobré znát stakehold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klad k projek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ů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trategické plánov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ogramy, inovace, nové pravidla, zákony ap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ojekt/plán má větší šanci na úspě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Možnost předejít nedorozumění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omunikace se stakeholdry bude efektivnějsí a přínosnějš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8:59:06Z</dcterms:created>
  <dc:creator>Terka</dc:creator>
  <dc:description/>
  <dc:language>en-US</dc:language>
  <cp:lastModifiedBy>1</cp:lastModifiedBy>
  <dcterms:modified xsi:type="dcterms:W3CDTF">2006-11-08T15:50:47Z</dcterms:modified>
  <cp:revision>34</cp:revision>
  <dc:subject/>
  <dc:title>Stakeholdeři a jejich analýza</dc:title>
</cp:coreProperties>
</file>