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D0A-1400-4BAD-A4D7-87C0715B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3E4-D457-4DA9-BA13-337A8C6B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536-975A-4D41-B57C-2907588D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6D6-7213-4C5F-9D98-1DFCF5D5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6313-1E50-4528-864C-6043DB0F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65DA-28D6-4E57-B954-C759873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E47-0C9B-45B5-915C-61228A3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5FFF-01B0-4D40-8269-0E540631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4062-2482-4392-A0D9-7F60F7B3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C3DB-EFB8-4986-AC52-0A8FC14F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68F9-DB60-41B6-8025-10A26048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21F-040E-45CA-BF39-5CB9B04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91E1-998F-4E20-ADB8-FB75861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01F3-E256-4484-866F-3AA8B17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F9D6-5618-4A53-B9CF-82B86A9D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E4D1-3360-4A32-B5CA-141EBD25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E49E-C0EF-457E-854A-6F3B7439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605-182B-4426-8BDF-5376524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8DF-57EE-4B3F-9F83-BD68E7E8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AC8-77D8-4362-BB0D-3E5B73A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054-CEC0-420A-9C85-58331B3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2F1-5311-4721-A412-9BDB874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1C2-ACC2-4ECE-9B47-7FDF1C6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452-CBA5-419D-98E0-7B64816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8FA3-9B23-47BE-94C0-C1691001BD5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02B-79B1-4D7E-8209-1CF1E1069CC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869000"/>
            <a:ext cx="77234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Znalostní podni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upánková Barb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rnáková J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kop 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d průmyslové společnosti ke společnosti znalost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2876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ůmyslov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 množství produk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nik jako výrobní fun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jem a rychl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unkč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1812960"/>
            <a:ext cx="450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žnost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stup hromadné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Znal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řístup managementu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764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Funkč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výstu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atření adresována hierarchickým úrov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080" y="1773360"/>
            <a:ext cx="377676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oces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příč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ledování vnitropodnikových proces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hodnocení a přeprojektování procesů v podni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rganizace ve znalostní společnosti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272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organ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pravenost pracovníka na žádoucí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ganizace permanentního uč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pičkový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opnost a ochota se trvale uč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- charakteristika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víjení lids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roba sebe s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– principy fungová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a výkonnost podn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ický impera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orient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ýmová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znalostí a inte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emní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uneček, J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nalostní podnik ve znalostní společ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rofessional Publishing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ber a kol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nagement. Základy, prosperita, globaliza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Management Press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0:39:44Z</dcterms:created>
  <dc:creator>CIKT</dc:creator>
  <dc:description/>
  <cp:keywords/>
  <dc:language>en-US</dc:language>
  <cp:lastModifiedBy>CIKT</cp:lastModifiedBy>
  <dcterms:modified xsi:type="dcterms:W3CDTF">2006-11-08T10:55:12Z</dcterms:modified>
  <cp:revision>5</cp:revision>
  <dc:subject/>
  <dc:title>Znalostní pod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