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935E-ED2A-4933-A323-EE7AFC95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1A9-8D63-43C3-B2FB-03E6FBF8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2BE-3071-405C-8EC0-7EB97669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674-DE3A-4FAF-B76C-9B02ADDF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A6CF-8425-4D72-A5BA-0CEBC938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DF80-9B40-4300-A63B-472E7739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BBC7-A7A3-4D45-A7D0-DE26D4BB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397D-88B2-411A-8D26-89867013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3843-FE60-4962-8F1B-8F4AD1EC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3953-F34D-456B-A29B-2C6AD934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6245-45C0-4F09-A8B2-D9208ECF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59C-619B-4E22-AAA7-2F3092E7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469E-07EA-4303-A85C-E2FB004B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E031-3076-4433-A811-328EA689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5B68-3865-4944-87BF-B55857A4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4790-DE3A-42A2-B9CC-D122D070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6512-9A82-4C0A-ADEB-034A5B5F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E4E-D728-422B-8D82-3313718D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B83-BA2C-4BEC-BE5B-DF5A2DA4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427-EC43-45C4-B69F-8CEB151F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3CB-5DFB-4F9D-9F06-E0E57F54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F6C-8F8E-486E-9BEF-7F30A318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C3D-83CA-452C-9EB5-54F0D522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E2D-A3EA-4871-B369-06C45DC9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BC2A-7647-4D7B-A5F6-F3C4CA7D61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AC39-A973-4A7E-A7CC-72CDFD7A07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  <a:ea typeface="Times New Roman"/>
              </a:rPr>
              <a:t>Vysoce zhodnocující podniky</a:t>
            </a: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AGEMENT 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např.  McDonald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zitivní asociace 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egrace, 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j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é 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lo, hodnot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l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ativní asociace 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yso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obsah kalor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ost sledování zpětných vazeb od zákazníků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apř. Merce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kování atributů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echnicky vynikající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, robust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dra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vokování osobnost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dního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ku, ser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ó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metodic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autorit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vok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í zv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t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kování uživatel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ta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š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zákazník, odbor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rofe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3885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Děkujeme za pozornost………otázky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un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k Jan : Znalostní podnik ve znalostní spol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osti ISBN-80-86419-35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eber Jaromír a kol. : management – základy, prosperita, globalizace ISBN-80-7261-029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Bl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k Ladislav : Vývojové tendence podniku ISBN-80-210-3213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Foret Miroslav : Marketingová komunikace ISBN-80-7226-811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řechod mezi industriální a postindustriální společnost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nd opouštění velkovýr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užívání znalostí a možností glob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ředky směřující k vysokému zhodnoc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HARAKTERISTIKY TRŽNÍHO PROSTŘED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4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stoucí konkurence mezi velkovýrobci -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nižování cen = i zis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=&gt;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chod na produkci speciálních výrob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užití nových technologií, know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daptace na potřeby konkrétních zákazní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 KLÍČOVÉ VLASTNOSTI PRACOVNÍK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identifikovat problémy potenciálních a stávajících zákazní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šit tyto problémy jed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m z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ob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propojovat identifikaci problé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 jejic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šení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identifikovat problémy potenciálních a stávajících zákazník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ů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920" y="2438280"/>
            <a:ext cx="854064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ůvo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vorba podnik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viz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vní řízen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ě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konno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ř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ešit problémy jedine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č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ným zp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ů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sobem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stálé hledání doprovázené experimentová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é kombinace, postu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ziko spojené s experimentová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propojovat identifikaci problé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ů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 s jej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ř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ešením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854064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řeba nalézt řešení k vzniklému probl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ískání prostředků k vyřešení probl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stup nových a „jiných“ manager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myšlen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xistence vysoce zhodnocujících podniků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5406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utný předpoklad – propojení všech tří skupin pracovní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zi další předpoklady patř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chodní znač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mage fi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Obchodní značk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itivní image, důvěryhodn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asto předmět prode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mani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nzo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irnoff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udování znač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8:41:36Z</dcterms:created>
  <dc:creator>ondra</dc:creator>
  <dc:description/>
  <dc:language>en-US</dc:language>
  <cp:lastModifiedBy>Sylva Talpová</cp:lastModifiedBy>
  <dcterms:modified xsi:type="dcterms:W3CDTF">2006-11-08T15:31:06Z</dcterms:modified>
  <cp:revision>15</cp:revision>
  <dc:subject/>
  <dc:title>SVĚT ZMĚ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432525</vt:r8>
  </property>
  <property fmtid="{D5CDD505-2E9C-101B-9397-08002B2CF9AE}" pid="3" name="_AuthorEmail">
    <vt:lpwstr>sylva.talpova@seznam.cz</vt:lpwstr>
  </property>
  <property fmtid="{D5CDD505-2E9C-101B-9397-08002B2CF9AE}" pid="4" name="_AuthorEmailDisplayName">
    <vt:lpwstr>Sylva Talpová</vt:lpwstr>
  </property>
  <property fmtid="{D5CDD505-2E9C-101B-9397-08002B2CF9AE}" pid="5" name="_EmailSubject">
    <vt:lpwstr/>
  </property>
</Properties>
</file>