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20B-EC37-479E-BB97-6B01A8BB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9CE3-9B28-4618-97E0-42FB2C1A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85B-0C81-42E7-BD0A-FD338384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F1A-34FE-48EC-BA91-9C174024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D1D1-CF8A-4E04-B6B7-E708F0B4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D9EA-7290-41ED-83BB-B4EA9576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4BB2-FBA1-4201-B7AE-8087BA9C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600B-6206-49F5-A577-7F064D77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7B4F-CF4C-4F5D-9907-48BA279F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4F83-38F7-436C-AB92-9E096E6F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EE21-6E63-4974-B725-F7A3C50A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2CD-A278-48BC-93E5-06AA172E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ED95-64EB-47A2-B21C-2C047297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4058-9641-4E22-AAF0-089487D2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4E1A-92F7-4943-8573-4F32177F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0253-6BF2-4E9E-A413-3DFDD9E4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9C57-7FAE-4477-99C9-72BF58B5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847-4AC1-490E-8B7A-CF3B67BD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6BF-D9A0-401B-927D-945F95F7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32C-27A0-4879-8E9F-9C8C80AD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805-A4D5-477C-BF89-FCFDB079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A40-FF02-42BA-8630-A2149C4D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A03-73F9-4EBD-ADB9-F58D03F8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6CD-6250-417F-A289-DFDF5E35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F9C1-DCCF-41A7-9422-64CE9A7A5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7FA8-52DF-43E0-88C3-F324618C3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tah managementu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tologie a antropologi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10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828800"/>
          <a:ext cx="7772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828800"/>
          <a:ext cx="80010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01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rá skupina je sestavena ze šimpanzů a která je zapsána v obchodním rejstříku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užitá literatura: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aldikas, B.M.F., Teleki, 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riations in Subsistence Activities of Female and Male Pongids: New Perspectives on the Origins of Hominid Labor Division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22, No. 3 (June 1981), pp 241-256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ani, J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volution of Primate Social Structur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20, No. 4 (December 1985), pp 593-61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Grew, W.C., Tutin, C.E.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vidence for a Social Custom in Wild Chimpanze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13, No. 2 (June 1978), pp 234-25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nford, C.B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ocial Behavior of Chimpanzees and Bonobos: Empirical Evidence and Shifting Assumption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39, No. 4 (August-October 1998), pp 399-420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kluci</cp:lastModifiedBy>
  <dcterms:modified xsi:type="dcterms:W3CDTF">2006-10-15T18:48:31Z</dcterms:modified>
  <cp:revision>4</cp:revision>
  <dc:subject/>
  <dc:title>Prezentace aplikace PowerPoint</dc:title>
</cp:coreProperties>
</file>