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.png" ContentType="image/png"/>
  <Override PartName="/ppt/media/image3.jpeg" ContentType="image/jpeg"/>
  <Override PartName="/ppt/media/image7.jpeg" ContentType="image/jpeg"/>
  <Override PartName="/ppt/media/image4.jpeg" ContentType="image/jpeg"/>
  <Override PartName="/ppt/media/image5.jpeg" ContentType="image/jpeg"/>
  <Override PartName="/ppt/media/image2.gif" ContentType="image/gif"/>
  <Override PartName="/ppt/media/image10.jpeg" ContentType="image/jpeg"/>
  <Override PartName="/ppt/media/image6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8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62A3-3A9E-4BF7-88BD-89FA53E86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CB77-B11C-4362-81B2-C5EAEF79D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F3B1-EC6D-4D7B-B564-63CCFEF37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54C8-4AB1-4828-8CA8-D0ACB0DE4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A3819-4C94-4EC8-83CA-AB14F578B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070D0-8449-4362-A9FB-D502D4095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F3D80-6C58-478E-AB53-64E483157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00BE9-9DAA-4FFD-A3F9-C3EF983EB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6F4FA-BA61-4C04-BFFB-12E358832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A058C-BC67-42B3-932E-46C06F1A1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8BC2D-5622-4557-B975-F52C86440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5D36-EFB1-4D74-83FF-9444104DC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8F9ED-30EC-4E9E-8C26-7C01AE28D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5B842-FA23-4E61-9423-02DA24E3F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730D1-34FA-4583-94E9-AD13F4D0D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5A91A-0208-452B-82DE-1AC5B18D5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30219-EA90-437A-B2AA-9ED6A9174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48F8-2FEE-4CA8-8340-B61A21B39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E07A-1997-4A32-A4B4-461F12318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20CB-19A3-48F6-87D7-6F5CF83AC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FC43-5F31-4B0B-8F58-AB4BCD8CF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5609-D96C-46EE-9D88-1FDD357F3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E957-ABEC-470F-8AA8-F52FCDB21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8FE7-3495-4364-9341-389645B52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50CC1-1D5C-430E-8AE0-A92A7594433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D013F-2A20-42BB-95CA-034581BD2BD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914400"/>
            <a:ext cx="84582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Lucida Handwriting"/>
                <a:ea typeface="Times New Roman"/>
              </a:rPr>
              <a:t>CHARAKTERISTICKÉ RYSY A ZÁKLADNÍ PRINCIPY INDUSTRIÁLNÍ SPOL</a:t>
            </a:r>
            <a:r>
              <a:rPr b="0" lang="en-US" sz="4000" spc="-1" strike="noStrike" u="sng">
                <a:solidFill>
                  <a:srgbClr val="ffcc00"/>
                </a:solidFill>
                <a:uFillTx/>
                <a:latin typeface="Lucida Handwriting"/>
              </a:rPr>
              <a:t>EČ</a:t>
            </a:r>
            <a:r>
              <a:rPr b="0" lang="en-US" sz="4000" spc="-1" strike="noStrike" u="sng">
                <a:solidFill>
                  <a:srgbClr val="ffcc00"/>
                </a:solidFill>
                <a:uFillTx/>
                <a:latin typeface="Lucida Handwriting"/>
                <a:ea typeface="Times New Roman"/>
              </a:rPr>
              <a:t>NOSTI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447920" y="3428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empus Sans ITC"/>
              </a:rPr>
              <a:t>Tým č. 7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empus Sans ITC"/>
              </a:rPr>
              <a:t>Petr Suchán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empus Sans ITC"/>
              </a:rPr>
              <a:t>Martin Simersk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empus Sans ITC"/>
              </a:rPr>
              <a:t>Tomáš Vobeck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360" y="494280"/>
            <a:ext cx="8991720" cy="137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ffcc00"/>
                </a:solidFill>
                <a:uFillTx/>
                <a:latin typeface="Lucida Handwriting"/>
              </a:rPr>
              <a:t>Princip  dělby práce na základě specializace</a:t>
            </a:r>
            <a:endParaRPr b="0" lang="en-US" sz="4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657600" y="198108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Univerzalita         specializace ve výrob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Růst produktivity prá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Růst kvality prá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Nutnost koordina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Marx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943600" y="266688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ford" descr=""/>
          <p:cNvPicPr/>
          <p:nvPr/>
        </p:nvPicPr>
        <p:blipFill>
          <a:blip r:embed="rId6"/>
          <a:stretch/>
        </p:blipFill>
        <p:spPr>
          <a:xfrm>
            <a:off x="0" y="2590920"/>
            <a:ext cx="35053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Lucida Handwriting"/>
              </a:rPr>
              <a:t>Princip synchronizac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657240" y="198108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Nutnost synchroniz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vznik management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Rozšíření do celé společnos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Č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620120" y="213372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ostatni001%20-%2012" descr=""/>
          <p:cNvPicPr/>
          <p:nvPr/>
        </p:nvPicPr>
        <p:blipFill>
          <a:blip r:embed="rId4"/>
          <a:stretch/>
        </p:blipFill>
        <p:spPr>
          <a:xfrm>
            <a:off x="0" y="2057400"/>
            <a:ext cx="3095640" cy="32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Lucida Handwriting"/>
              </a:rPr>
              <a:t>Princip standardizac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9880" y="1981080"/>
            <a:ext cx="556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Unikátní výrobky          standardní výrob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Unifikace společnosti – masová kultu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Byrokracie (Web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010280" y="2133720"/>
            <a:ext cx="609840" cy="228600"/>
          </a:xfrm>
          <a:prstGeom prst="rightArrow">
            <a:avLst>
              <a:gd name="adj1" fmla="val 50000"/>
              <a:gd name="adj2" fmla="val 66693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byrokracie%20-%2013" descr=""/>
          <p:cNvPicPr/>
          <p:nvPr/>
        </p:nvPicPr>
        <p:blipFill>
          <a:blip r:embed="rId4"/>
          <a:stretch/>
        </p:blipFill>
        <p:spPr>
          <a:xfrm>
            <a:off x="0" y="2286000"/>
            <a:ext cx="36576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Lucida Handwriting"/>
              </a:rPr>
              <a:t>Princip koncentrac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343400" y="1905120"/>
            <a:ext cx="5410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Důvod – rostoucí děl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                   </a:t>
            </a: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práce a specializ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Územní koncentr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empus Sans ITC"/>
              </a:rPr>
              <a:t>Rozvoj tová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empus Sans ITC"/>
              </a:rPr>
              <a:t>Urbaniz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Koncentrace kapitál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empus Sans ITC"/>
              </a:rPr>
              <a:t>Oligopolizace trh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dez03_megapolis_tokyo%20-%2014" descr=""/>
          <p:cNvPicPr/>
          <p:nvPr/>
        </p:nvPicPr>
        <p:blipFill>
          <a:blip r:embed="rId4"/>
          <a:stretch/>
        </p:blipFill>
        <p:spPr>
          <a:xfrm>
            <a:off x="0" y="2438280"/>
            <a:ext cx="4305240" cy="31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Lucida Handwriting"/>
              </a:rPr>
              <a:t>Princip maximalizac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352680" y="198108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„</a:t>
            </a: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Čím více, tím lépe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Vznik gigantických podniků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Globaliz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Zvyšování spotřeby společnos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Bez%20názvu%20-%2014" descr=""/>
          <p:cNvPicPr/>
          <p:nvPr/>
        </p:nvPicPr>
        <p:blipFill>
          <a:blip r:embed="rId5"/>
          <a:stretch/>
        </p:blipFill>
        <p:spPr>
          <a:xfrm>
            <a:off x="0" y="1981080"/>
            <a:ext cx="281952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Lucida Handwriting"/>
              </a:rPr>
              <a:t>Princip centralizac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Centralizace moc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Tempus Sans ITC"/>
              </a:rPr>
              <a:t>Proces centralizace moci v Evropě spojen s posilováním moci stát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Centralizace moci probíhá ve dvou rovinách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954440" indent="-217080">
              <a:lnSpc>
                <a:spcPct val="100000"/>
              </a:lnSpc>
              <a:spcBef>
                <a:spcPts val="451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empus Sans ITC"/>
              </a:rPr>
              <a:t>Centralizace politické moci – vytváření nadstátních celk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954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954440" indent="-217080">
              <a:lnSpc>
                <a:spcPct val="100000"/>
              </a:lnSpc>
              <a:spcBef>
                <a:spcPts val="451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empus Sans ITC"/>
              </a:rPr>
              <a:t>Centralizace podnikatelské moci – vytváření gigantických podnik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108386-evropska-unie%20-%2013" descr=""/>
          <p:cNvPicPr/>
          <p:nvPr/>
        </p:nvPicPr>
        <p:blipFill>
          <a:blip r:embed="rId3"/>
          <a:stretch/>
        </p:blipFill>
        <p:spPr>
          <a:xfrm>
            <a:off x="5105520" y="1905120"/>
            <a:ext cx="18381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8240" y="465120"/>
            <a:ext cx="8915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Lucida Handwriting"/>
                <a:ea typeface="Times New Roman"/>
              </a:rPr>
              <a:t>B</a:t>
            </a:r>
            <a:r>
              <a:rPr b="0" lang="en-US" sz="4400" spc="-1" strike="noStrike" u="sng">
                <a:solidFill>
                  <a:srgbClr val="ffcc00"/>
                </a:solidFill>
                <a:uFillTx/>
                <a:latin typeface="Lucida Handwriting"/>
              </a:rPr>
              <a:t>udoucí vývoj</a:t>
            </a:r>
            <a:r>
              <a:rPr b="0" lang="en-US" sz="4400" spc="-1" strike="noStrike" u="sng">
                <a:solidFill>
                  <a:srgbClr val="ffcc00"/>
                </a:solidFill>
                <a:uFillTx/>
                <a:latin typeface="Lucida Handwriting"/>
                <a:ea typeface="Times New Roman"/>
              </a:rPr>
              <a:t> (kam směřujeme?)</a:t>
            </a: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Zrychlování vývo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Střety národů z různých v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Rozvíjení druhé a nástup třetí vl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  <a:ea typeface="Times New Roman"/>
              </a:rPr>
              <a:t>Další vlny?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590560"/>
            <a:ext cx="84582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Lucida Handwriting"/>
              </a:rPr>
              <a:t>Děkujeme za pozornos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Lucida Handwriting"/>
              </a:rPr>
              <a:t>Použitá literatur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empus Sans ITC"/>
              </a:rPr>
              <a:t>TOFFLER, A. </a:t>
            </a:r>
            <a:r>
              <a:rPr b="0" i="1" lang="cs-CZ" sz="2400" spc="-1" strike="noStrike">
                <a:solidFill>
                  <a:srgbClr val="ffffff"/>
                </a:solidFill>
                <a:latin typeface="Tempus Sans ITC"/>
              </a:rPr>
              <a:t>Šok z budoucnosti</a:t>
            </a:r>
            <a:r>
              <a:rPr b="0" lang="cs-CZ" sz="2400" spc="-1" strike="noStrike">
                <a:solidFill>
                  <a:srgbClr val="ffffff"/>
                </a:solidFill>
                <a:latin typeface="Tempus Sans ITC"/>
              </a:rPr>
              <a:t>. Praha : Práce, 199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empus Sans ITC"/>
              </a:rPr>
              <a:t>TOFFLER, A. </a:t>
            </a:r>
            <a:r>
              <a:rPr b="0" i="1" lang="cs-CZ" sz="2400" spc="-1" strike="noStrike">
                <a:solidFill>
                  <a:srgbClr val="ffffff"/>
                </a:solidFill>
                <a:latin typeface="Tempus Sans ITC"/>
              </a:rPr>
              <a:t>The Third Wawe</a:t>
            </a:r>
            <a:r>
              <a:rPr b="0" lang="cs-CZ" sz="2400" spc="-1" strike="noStrike">
                <a:solidFill>
                  <a:srgbClr val="ffffff"/>
                </a:solidFill>
                <a:latin typeface="Tempus Sans ITC"/>
              </a:rPr>
              <a:t>. New York 198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empus Sans ITC"/>
              </a:rPr>
              <a:t>TOFFLER, A., TOFFLEROVÁ, H. </a:t>
            </a:r>
            <a:r>
              <a:rPr b="0" i="1" lang="cs-CZ" sz="2400" spc="-1" strike="noStrike">
                <a:solidFill>
                  <a:srgbClr val="ffffff"/>
                </a:solidFill>
                <a:latin typeface="Tempus Sans ITC"/>
              </a:rPr>
              <a:t> Nová civilizace. </a:t>
            </a:r>
            <a:r>
              <a:rPr b="0" lang="cs-CZ" sz="2400" spc="-1" strike="noStrike">
                <a:solidFill>
                  <a:srgbClr val="ffffff"/>
                </a:solidFill>
                <a:latin typeface="Tempus Sans ITC"/>
              </a:rPr>
              <a:t>Praha : Dokořán 2001.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Lucida Handwriting"/>
              </a:rPr>
              <a:t>Vývoj společnosti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723920" y="1828800"/>
            <a:ext cx="541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Neustále se zrychlu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Probíhá ve vlná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Vlny se prolínaj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evoluce%202" descr=""/>
          <p:cNvPicPr/>
          <p:nvPr/>
        </p:nvPicPr>
        <p:blipFill>
          <a:blip r:embed="rId4"/>
          <a:stretch/>
        </p:blipFill>
        <p:spPr>
          <a:xfrm>
            <a:off x="0" y="2743200"/>
            <a:ext cx="43434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Lucida Handwriting"/>
              </a:rPr>
              <a:t>První vln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empus Sans ITC"/>
              </a:rPr>
              <a:t>8. tisíciletí př.n.l. – 17. Stolet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empus Sans ITC"/>
              </a:rPr>
              <a:t>Starověké i středověké civiliz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empus Sans ITC"/>
              </a:rPr>
              <a:t>Preindustriální společn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empus Sans ITC"/>
              </a:rPr>
              <a:t>Národy primitivní (sběr) či civilizované (obdělávání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46404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cc00"/>
                </a:solidFill>
                <a:uFillTx/>
                <a:latin typeface="Lucida Handwriting"/>
              </a:rPr>
              <a:t>Specifika preindustriální společnosti</a:t>
            </a:r>
            <a:r>
              <a:rPr b="0" lang="cs-CZ" sz="4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Zemědělská společnost založená na vlastnictví pů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Každý produkt byl uniká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Decentralizované hospodářstv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Minimální dělba prá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Univerzální výrobc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Omezená smě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Pův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Autoritářská pravomo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vykopavky%20-%204" descr=""/>
          <p:cNvPicPr/>
          <p:nvPr/>
        </p:nvPicPr>
        <p:blipFill>
          <a:blip r:embed="rId9"/>
          <a:stretch/>
        </p:blipFill>
        <p:spPr>
          <a:xfrm>
            <a:off x="5715000" y="3352680"/>
            <a:ext cx="342900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Lucida Handwriting"/>
              </a:rPr>
              <a:t>Výjimky První vlny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Starověké Řecko a Ří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Babylon a starověký Egy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Asie a Jižní Ameri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219320" y="4191120"/>
            <a:ext cx="71625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Zvolna se vyvíjející společn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empus Sans ITC"/>
                <a:ea typeface="Times New Roman"/>
              </a:rPr>
              <a:t>=&gt;</a:t>
            </a: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empus Sans ITC"/>
              </a:rPr>
              <a:t>Průmyslová revolu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pyramidy%20-%205" descr=""/>
          <p:cNvPicPr/>
          <p:nvPr/>
        </p:nvPicPr>
        <p:blipFill>
          <a:blip r:embed="rId4"/>
          <a:stretch/>
        </p:blipFill>
        <p:spPr>
          <a:xfrm>
            <a:off x="6248520" y="2057400"/>
            <a:ext cx="2895480" cy="27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150840"/>
            <a:ext cx="91440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Lucida Handwriting"/>
              </a:rPr>
              <a:t>Druhá vlna</a:t>
            </a:r>
            <a:br>
              <a:rPr sz="4400"/>
            </a:br>
            <a:r>
              <a:rPr b="0" lang="en-US" sz="4400" spc="-1" strike="noStrike" u="sng">
                <a:solidFill>
                  <a:srgbClr val="ffcc00"/>
                </a:solidFill>
                <a:uFillTx/>
                <a:latin typeface="Lucida Handwriting"/>
              </a:rPr>
              <a:t>- nástup industriální společnosti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219320" y="2743200"/>
            <a:ext cx="640080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empus Sans ITC"/>
              </a:rPr>
              <a:t>  </a:t>
            </a:r>
            <a:r>
              <a:rPr b="0" lang="cs-CZ" sz="3200" spc="-1" strike="noStrike">
                <a:solidFill>
                  <a:srgbClr val="ffffff"/>
                </a:solidFill>
                <a:latin typeface="Tempus Sans ITC"/>
              </a:rPr>
              <a:t>2. pol. 17. – 1. pol. 18. Stolet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empus Sans ITC"/>
              </a:rPr>
              <a:t>  </a:t>
            </a:r>
            <a:r>
              <a:rPr b="0" lang="cs-CZ" sz="3200" spc="-1" strike="noStrike">
                <a:solidFill>
                  <a:srgbClr val="ffffff"/>
                </a:solidFill>
                <a:latin typeface="Tempus Sans ITC"/>
              </a:rPr>
              <a:t>preindustriální společn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Lucida Handwriting"/>
              </a:rPr>
              <a:t>Příčiny vzniku Druhé vlny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Objev Nového svě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Růst počtu obyvatelst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Využití parního stro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Industriální myšle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Rozšiřování mezilidské komunik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vlak-cerny%20-%208" descr=""/>
          <p:cNvPicPr/>
          <p:nvPr/>
        </p:nvPicPr>
        <p:blipFill>
          <a:blip r:embed="rId6"/>
          <a:stretch/>
        </p:blipFill>
        <p:spPr>
          <a:xfrm>
            <a:off x="5410080" y="2514600"/>
            <a:ext cx="373392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Lucida Handwriting"/>
              </a:rPr>
              <a:t>Principy industriální společnosti</a:t>
            </a: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294920" y="23623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1889280"/>
            <a:ext cx="8610480" cy="66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empus Sans 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oddělení výroby od spotřeb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empus Sans 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princip dělby práce na základě specializ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empus Sans 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synchroniz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empus Sans 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standardiz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empus Sans 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koncentr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empus Sans 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maximaliz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empus Sans 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centraliz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tovarna" descr=""/>
          <p:cNvPicPr/>
          <p:nvPr/>
        </p:nvPicPr>
        <p:blipFill>
          <a:blip r:embed="rId1"/>
          <a:stretch/>
        </p:blipFill>
        <p:spPr>
          <a:xfrm>
            <a:off x="4191120" y="3124080"/>
            <a:ext cx="4952880" cy="25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360" y="417960"/>
            <a:ext cx="8991720" cy="137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ffcc00"/>
                </a:solidFill>
                <a:uFillTx/>
                <a:latin typeface="Lucida Handwriting"/>
              </a:rPr>
              <a:t>Princip oddělení výroby od spotřeby</a:t>
            </a:r>
            <a:endParaRPr b="0" lang="en-US" sz="4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723920" y="2057400"/>
            <a:ext cx="4953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Dominantní princip industriální společnos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Oddělení role výrobce a spotřebite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Smě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Rozvoj trh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Bez%20názvu%20-%2010" descr=""/>
          <p:cNvPicPr/>
          <p:nvPr/>
        </p:nvPicPr>
        <p:blipFill>
          <a:blip r:embed="rId5"/>
          <a:stretch/>
        </p:blipFill>
        <p:spPr>
          <a:xfrm>
            <a:off x="0" y="2362320"/>
            <a:ext cx="449568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12:28:15Z</dcterms:created>
  <dc:creator>Petr Suchánek</dc:creator>
  <dc:description/>
  <dc:language>en-US</dc:language>
  <cp:lastModifiedBy>Petr Suchánek</cp:lastModifiedBy>
  <dcterms:modified xsi:type="dcterms:W3CDTF">2006-09-15T09:16:01Z</dcterms:modified>
  <cp:revision>5</cp:revision>
  <dc:subject/>
  <dc:title>CHARAKTERISTICKÉ RYSY A ZÁKLADNÍ PRINCIPY INDUSTRIÁLNÍ SPOLEČNOSTI </dc:title>
</cp:coreProperties>
</file>