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3836-E198-4616-B9CE-913430C8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C31E-9680-4890-8ECA-95BB8A8F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7367-CDF5-4316-B055-9DFC205E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1C1E-DC7F-42AF-8F35-2642E50E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9B99-0DE7-4853-8321-EA61F5AD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24A7-8D09-4312-958E-C5F25EAE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BCAA-3920-41F8-8ED3-9D9198B9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60E7-C226-4256-AE4F-29EAE73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5CED-C25F-4E22-8512-AA04559C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7E28-622E-4151-AB2E-C3368596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0570-7D55-44B7-91E9-38D5BD1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8078-F8E4-4817-B22C-C79A0B47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060-15C6-47E2-9F52-461B52FB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F23A-8A88-4344-A7BE-299BB225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B1FF-C626-4A6F-AFD4-993698F2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9DF1-AA19-4A58-96E4-545824E0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E5B6-909C-4859-91B3-661669D5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D3C0-F7A6-4B16-B9D5-68D5DE48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CE95-CBB7-4993-B543-A1B14958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623A-F263-4A29-8412-3BF7F96F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4897-0800-4071-87AF-0A6EA0BB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8320-C8A1-49E9-B904-3C6D089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7D61-C958-48AD-BFC2-5A12560D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3D86-42D1-4135-9FA3-B207ABAE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410C-250E-4744-AA82-0FCF9D716E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DFD6-1C97-4072-921D-29C487BCE8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ztah člověka a podniku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sice investují do moderní techniky, ale měli by se také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e5e5ff"/>
                </a:solidFill>
                <a:uFillTx/>
                <a:latin typeface="Book Antiqua"/>
              </a:rPr>
              <a:t>Zm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ěna pracovního  světa poč</a:t>
            </a: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í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se ne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sám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ránit ani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ho nelze zpomali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 když s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ě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ý dostane racionální způsob myšlení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gma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katolické církve 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lám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ch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řešit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UMUNIKUJU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5T19:14:00Z</dcterms:modified>
  <cp:revision>10</cp:revision>
  <dc:subject/>
  <dc:title>Snímek 1</dc:title>
</cp:coreProperties>
</file>