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D108-9BE6-4022-88DC-45A35D71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B246-81A0-4ECE-A03D-A5686F7D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343D-5C2F-4368-A339-EFCD8642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807D6-034F-4C51-B8CC-935C5478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4302-7A75-44B1-8A48-1287C44C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DA4F-1081-4823-8926-46C298E3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3D74-6257-4C49-AD03-1EE334CB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D72A-8A4C-4BDC-96D6-7639E0A5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D52A-F6B3-4CAF-86AD-6949C71B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1F43-BDC3-4295-B79B-662F1BD2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7B68-A145-48BC-9B69-64DAF856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93595-1626-47FB-A95F-87B53964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7C54-BBA9-4295-BA6C-334841E3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1247-FF7A-42CA-9F56-CAE8C6F1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A980-F83F-4197-A6B3-D8369C26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FC59-20D8-4185-9BB9-33D3D194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EF55-AA54-4DA8-99F7-07154325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2F462-E5CB-419F-ABA1-5BD7D5D2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6F8A-601D-4F9E-9BFA-745FCC56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A195E-BD01-478D-8625-58E04CC4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A1B0-2215-43E5-9B94-F8C824D2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C5A7-2CAD-40DB-9474-4D71466D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EBE1-7F69-48C7-A269-6D8B780C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4F24-43BE-42DC-9C3C-ED64DB1C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CD9A-A5D9-4DA6-87F9-7D6DB0B932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515B-C812-4EEA-B853-0AD381A55A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e5ff"/>
                </a:solidFill>
                <a:latin typeface="Book Antiqua"/>
              </a:rPr>
              <a:t>Winfried M. BAUER</a:t>
            </a:r>
            <a:r>
              <a:rPr b="1" lang="cs-CZ" sz="4400" spc="-1" strike="noStrike">
                <a:solidFill>
                  <a:srgbClr val="e5e5ff"/>
                </a:solidFill>
                <a:latin typeface="Book Antiqua"/>
              </a:rPr>
              <a:t> </a:t>
            </a:r>
            <a:br>
              <a:rPr sz="4400"/>
            </a:br>
            <a:r>
              <a:rPr b="1" lang="cs-CZ" sz="4400" spc="-1" strike="noStrike" u="sng">
                <a:solidFill>
                  <a:srgbClr val="e5e5ff"/>
                </a:solidFill>
                <a:uFillTx/>
                <a:latin typeface="Book Antiqua"/>
              </a:rPr>
              <a:t> TYRANIE BLAHOBYTU</a:t>
            </a: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vybrané myšlenk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ypracovali: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avla Slezák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etr Goliá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Georg Sieger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k Antiqua"/>
              </a:rPr>
              <a:t>Použitá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auer W. M., 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Tyranie blahobyt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Volvox Globator 199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Krize individu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oritou dnešního člověka je naplňování pouze materiálních potřeb. Navíc se se svou prací jen málokdy identifikuje a tak se dostává do jakési  schizofrenie. Stává se dezorientovaným, ztrácí vůli k dosahování cílů a pak i cíle samot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640" y="452088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to je potřeba člověku/zaměstnanci poskytnout více podnětů, aby se mohl s prací identifikovat. Člověk by neměl být hrdý pouze na to, že dokázal zvýšit prodejnost pracího prášku o 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Motivace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Úspěch firmy je záležitostí vedoucích pracovníků - postoje, charakterové vlastnosti a znalos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e potřeba, aby se i manažer identifikoval se svou prací, aby pouze nedemonstroval svoji neomylnost a autorit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4149720"/>
            <a:ext cx="82184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dniky by se měly více soustředit na své zaměstnance, aby se z nich nestali pouze „němí příjemci povelů“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Proměna pracovního světa používáním počítač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vztahu mezi pra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a praco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interakce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mezi lid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bsence lidsk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rozumu m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ůž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 k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nebezpečným chyb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 v sys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→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le : Ten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oces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elze zastavit a nedá se proti němu bránit.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A je nezvratný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Fascinace absurdit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Přestože lidé používají racionální způsob myšlen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trvaj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absurd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bvence zemědělstv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Znečišťování životního prostřed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Výuk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ško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a univerzi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neřeš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 součas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prob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hání exaktních vě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vojí odpovědnost manaž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tane-li se organizace do problémů, mění se odpovědnost manažera vůči podřízeným (společenskému blahu) v odpovědnost vůči vlastníkovi, potažmo sobě (blahu eg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280" y="436536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 překotnými a obtížnými hospodářskými změnami v posledních desetiletích vzájemná lidská solidarita mizí, jako bychom pro ni v sobě nevybudovali dostatečně pevnou půd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23640" y="4941360"/>
            <a:ext cx="7753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292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357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ůležitá role komunik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Vývoj světového dění je do té míry dynamický a schopný znatelné odezvy na jakékoliv další jednání člověka, že: BUDOUCNOST OVLIVŇUJEME VŠÍM, CO ČINÍME A JEŠTĚ VÍCE TÍM, CO NEČINÍ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Komunikujeme skrz činy, slova, práci, vztahy, chování či post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KOMUNIKUJME UVĚDOMĚLE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Uvědomělý život a jeho úskal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Žít život uvědoměle znamená vzdát se do určité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míry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své stávající společenské ro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280" y="3860280"/>
            <a:ext cx="81471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dložit svou roli znamená dostat se do konfliktu, který se často mění v pokus násilím dosáhnout toho, čeho je možné dosáhnout pouze „chůzí po špičkách“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5e5ff"/>
                </a:solidFill>
                <a:latin typeface="Book Antiqua"/>
              </a:rPr>
              <a:t>Muhammad Júnus, bangladéšský ekonom a jeho banka Gramín = nositel Nobelovy ceny míru za rok 2006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banka založena roku 197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poskytuje mikroúvěry milionům nejchudší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v rámci skupiny Gramín existuje na 2 tucty společností fungujících na neziskové bázi a jsou vzájemně propoj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funkčnost modelu potvrzuje jeho převzetí ve více než sto zemích s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Muhammad Júnus se řídí úslovím: „Dáte-li člověku rybu, nasytíte ho na jeden den. Naučíte-li ho ryby chytat, nasytíte ho na celý život.“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3:41:39Z</dcterms:created>
  <dc:creator>počítač</dc:creator>
  <dc:description/>
  <dc:language>en-US</dc:language>
  <cp:lastModifiedBy>Pavla</cp:lastModifiedBy>
  <dcterms:modified xsi:type="dcterms:W3CDTF">2006-10-16T10:49:26Z</dcterms:modified>
  <cp:revision>11</cp:revision>
  <dc:subject/>
  <dc:title>Snímek 1</dc:title>
</cp:coreProperties>
</file>