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EA7-6627-4A10-A185-E8496A9A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CE9-906C-4ACF-9D86-B49F0065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22C-9FA8-4B5E-9ABF-B424F702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FEF-6837-44CA-935A-ACE9963B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0467-EC2F-4E02-AAC4-1AA7B0B4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B2E5-FAE4-4DEC-A2AD-4B650219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972C-7855-428D-9634-1F65949F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D548-5FA1-4E68-A6DE-5B5903EE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051D-B23D-4E77-B7C9-17267774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EC43-48FB-40B2-B66D-DDA46342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CC1F-01D1-49FB-8447-9FDFA22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759-63C0-48EB-A670-C6EDAE5E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18D4-B65F-458B-AD42-23410050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E456-DF13-4DA0-BBA0-C0BCBF0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F0E8-4D0F-4E56-8FD7-94914C4B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9AF3-9D1B-4296-AC75-17E321E21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9FF8-152A-463B-8236-56D9E10F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83A-4619-407B-B724-113E78CD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24E-356D-4FFB-88F5-C065DDA3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AA3-4B24-473A-A95F-61728007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80B-F9F0-4937-8474-3450AC1F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985-48DE-46E2-953C-4BAF9126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9F8-EFF6-4CEC-8534-006980BA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AB8-4522-4332-A692-4D024C75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9383-6DC6-4028-BBF3-01AE0BC9E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8A27-D83D-47D4-82BE-1263E86B4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tah managementu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tologie a antropologi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10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828800"/>
          <a:ext cx="7772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á skupina je sestavena ze šimpanzů a která je zapsána v obchodním rejstříku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užitá literatura: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ldikas, B.M.F., Teleki, 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in Subsistence Activities of Female and Male Pongids: New Perspectives on the Origins of Hominid Labor Division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22, No. 3 (June 1981), pp 241-256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ani, J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volution of Primate Social Structur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20, No. 4 (December 1985), pp 593-61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Grew, W.C., Tutin, C.E.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idence for a Social Custom in Wild Chimpanze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13, No. 2 (June 1978), pp 234-25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nford, C.B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ocial Behavior of Chimpanzees and Bonobos: Empirical Evidence and Shifting Assumption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39, No. 4 (August-October 1998), pp 399-420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kluci</cp:lastModifiedBy>
  <dcterms:modified xsi:type="dcterms:W3CDTF">2006-10-15T18:48:31Z</dcterms:modified>
  <cp:revision>4</cp:revision>
  <dc:subject/>
  <dc:title>Prezentace aplikace PowerPoint</dc:title>
</cp:coreProperties>
</file>