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EF726-66D2-40AD-A9CC-46E65C986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32A2C-8F60-4F3E-AB9A-64D8FAD5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DB939-569C-4AE2-AEFB-F9B04363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06840-0FB0-465B-834A-60979567E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D938-024A-499A-89B8-2FC714A4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EF5E-07F5-4F88-A1ED-6AA31DB6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D8D8-C870-4A2E-B6E9-52A81CE6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4361-6A77-4753-8E48-FC76AAE5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D986-21EA-4C54-BB92-4666A4F6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CE44-10EB-46C5-93BC-A0D81EBE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208A-4F7A-4287-B2DD-C92CB020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20557-9F35-4330-9258-9DE29E1A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D286-69A9-46A2-8422-A9BFA5BF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93FD-1241-46D9-A8C9-CD446FC9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A31C-93D6-4FF9-B275-AB0AA329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73F2-0C8D-4C21-936C-E54811CEA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D5D0-FD04-47BE-BA32-E9563637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6EF02-2F59-4F81-AA0D-8D914C82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24BB6-BF72-4A03-A067-8DACC14F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C2160-5949-4362-AA5B-AF659D63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0F7F0-93B8-4814-9704-8A136E68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B2760-1463-48C8-97B2-6B7E2614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64BE9-1ABE-4922-A5F6-F0E2F4D4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A0722-8CE4-42D2-9DCB-D0FED30D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1F06-4804-4DC4-904F-09E16F9D80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D9EA-16B7-4C28-B75A-49F052B98F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Vztah člověka a podniku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Vypracovali: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Pavla Slezákov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Petr Goliá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Georg Sieger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Book Antiqua"/>
              </a:rPr>
              <a:t>Použitá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literatu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Bauer W. M., </a:t>
            </a:r>
            <a:r>
              <a:rPr b="1" lang="cs-CZ" sz="3200" spc="-1" strike="noStrike">
                <a:solidFill>
                  <a:srgbClr val="ffffff"/>
                </a:solidFill>
                <a:latin typeface="Garamond"/>
              </a:rPr>
              <a:t>Tyranie blahobyt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 Volvox Globator 1997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Krize individu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2133360"/>
            <a:ext cx="82184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ioritou dnešního člověka je naplňování pouze materiálních potřeb. Navíc se se svou prací jen málokdy identifikuje a tak se dostává do jakési  schizofrenie. Stává se dezorientovaným, ztrácí vůli k dosahování cílů a pak i cíle samotn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640" y="4520880"/>
            <a:ext cx="82184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to je potřeba člověku/zaměstnanci poskytnout více podnětů, aby se mohl s prací identifikovat. Člověk by neměl být hrdý pouze na to, že dokázal zvýšit prodejnost pracího prášku o 5%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Motivace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14716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Úspěch firmy je záležitostí vedoucích pracovníků - postoje, charakterové vlastnosti a znalost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Je potřeba, aby se i manažer identifikoval se svou prací, aby pouze nedemonstroval svoji neomylnost a autoritu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" y="4149720"/>
            <a:ext cx="821844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dniky sice investují do moderní techniky, ale měli by se také soustředit na své zaměstnance, aby se z nich nestali pouze „němí příjemci povelů“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 u="sng">
                <a:solidFill>
                  <a:srgbClr val="e5e5ff"/>
                </a:solidFill>
                <a:uFillTx/>
                <a:latin typeface="Book Antiqua"/>
              </a:rPr>
              <a:t>Zm</a:t>
            </a: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ěna pracovního  světa poč</a:t>
            </a:r>
            <a:r>
              <a:rPr b="1" lang="cs-CZ" sz="4400" spc="-1" strike="noStrike" u="sng">
                <a:solidFill>
                  <a:srgbClr val="e5e5ff"/>
                </a:solidFill>
                <a:uFillTx/>
                <a:latin typeface="Book Antiqua"/>
              </a:rPr>
              <a:t>í</a:t>
            </a: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tač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Ztráta vztahu mezi prac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í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a pracov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í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k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Ztráta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interakce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mezi lid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m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Absence lidsk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rozumu m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ůž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v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 k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nebezpečným chyb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á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m v syst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m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→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Ale : Ten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to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proces se neu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í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sám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bránit ani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ho nelze zpomalit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A je nezvratný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Fascinace absurdito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I když sv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ět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prý dostane racionální způsob myšlení,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trvaj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í absurdit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bvence zemědělstv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Znečišťování životního prostřed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ogmata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katolické církve 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islámu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Výuk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n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škol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á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 a univerzit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á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 nechc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řešit probl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lhání exaktních vě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Dvojí odpovědnost manaže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218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stane-li se organizace do problémů, mění se odpovědnost manažera vůči podřízeným (společenskému blahu) v odpovědnost vůči vlastníkovi, potažmo sobě (blahu ega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9280" y="4365360"/>
            <a:ext cx="82184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 překotnými a obtížnými hospodářskými změnami v posledních desetiletích vzájemná lidská solidarita mizí, jako bychom pro ni v sobě nevybudovali dostatečně pevnou půd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323640" y="4941360"/>
            <a:ext cx="77533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429264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3357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Důležitá role komunika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Vývoj světového dění je do té míry dynamický a schopný znatelné odezvy na jakékoliv další jednání člověka, že: BUDOUCNOST OVLIVŇUJEME VŠÍM, CO ČINÍME A JEŠTĚ VÍCE TÍM, CO NEČINÍM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Komunikujeme skrz činy, slova, práci, vztahy, chování či postoj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KUMUNIKUJUME UVĚDOMĚLE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Uvědomělý život a jeho úskalí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2349000"/>
            <a:ext cx="8209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Žít život uvědoměle znamená vzdát se do určité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míry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 své stávající společenské ro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39280" y="3860280"/>
            <a:ext cx="814716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dložit svou roli znamená dostat se do konfliktu, který se často mění v pokus násilím dosáhnout toho, čeho je možné dosáhnout pouze „chůzí po špičkách“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5e5ff"/>
                </a:solidFill>
                <a:latin typeface="Book Antiqua"/>
              </a:rPr>
              <a:t>Muhammad Júnus, bangladéšský ekonom a jeho banka Gramín = nositel Nobelovy ceny míru za rok 2006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2421000"/>
            <a:ext cx="8218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banka založena roku 197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poskytuje mikroúvěry milionům nejchudšíc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v rámci skupiny Gramín existuje na 2 tucty společností fungujících na neziskové bázi a jsou vzájemně propojen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funkčnost modelu potvrzuje jeho převzetí ve více než sto zemích svě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Muhammad Júnus se řídí úslovím: „Dáte-li člověku rybu, nasytíte ho na jeden den. Naučíte-li ho ryby chytat, nasytíte ho na celý život.“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3:41:39Z</dcterms:created>
  <dc:creator>počítač</dc:creator>
  <dc:description/>
  <dc:language>en-US</dc:language>
  <cp:lastModifiedBy>Pavla</cp:lastModifiedBy>
  <dcterms:modified xsi:type="dcterms:W3CDTF">2006-10-15T19:14:00Z</dcterms:modified>
  <cp:revision>10</cp:revision>
  <dc:subject/>
  <dc:title>Snímek 1</dc:title>
</cp:coreProperties>
</file>