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9F44-6257-4512-B8C5-AEEDB314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996-5B25-4B85-97D3-BB41C74A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040-9B44-4E3A-9F4F-4199529C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86D-7007-492F-A160-E17B7642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CEB3-2923-4CF2-9DF6-3DA0FEB5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9976-76CB-414E-BF93-CFA6E291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BFC3-15CD-4C15-B6B1-FC49CEEF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470C-30D5-4D6A-BD6D-E59FFDE0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5EC4-5A23-464E-BA52-E381078B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AA49-8884-4570-8A25-48AACFBE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BDF4-1559-422A-ABBA-68C618DA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2A1-6397-413C-B37B-93EDC49C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773E-3E9B-4DDC-A937-9D832960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27EE-2F6F-4DE7-8079-733C59B1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0755-48C8-47F6-963D-2E0A0CA8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35B8-BD70-422D-81D9-D28329AA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C250-C603-4AE5-982D-D36F805F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14E-29D4-4E8D-8821-2CEE14A9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50D-4B29-48AB-8F53-F6B51F60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9C4-AE56-4DB5-A79D-6280AC51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9DF-D5D1-4F16-9DE7-72F1C887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ACB-1E57-4966-842D-57FD0787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AA5-717D-4AC0-B735-CD596275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B570-FEFB-45AA-A111-F7C4D4C3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C2DF-0733-4AD6-B760-AFBB3F503C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8008-5374-4636-8C34-643A26AE1A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1988640"/>
            <a:ext cx="831708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200" spc="-1" strike="noStrike">
                <a:solidFill>
                  <a:srgbClr val="cc6600"/>
                </a:solidFill>
                <a:latin typeface="Arial Black"/>
              </a:rPr>
              <a:t>Vývojové tendence na prahu postindustriální éry</a:t>
            </a:r>
            <a:endParaRPr b="1" lang="en-US" sz="4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157720"/>
            <a:ext cx="410544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Beata Brosk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Tomáš Procház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Hana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Matonohov</a:t>
            </a: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Modernizac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Teorie modernizace – změna společnosti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rozvoj vědy, techniky, trhu, měst at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Sociologové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: Spencer, Drukheim, We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Modernizace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0" lang="sk-SK" sz="2000" spc="-1" strike="noStrike">
                <a:solidFill>
                  <a:srgbClr val="ffffff"/>
                </a:solidFill>
                <a:latin typeface="Bookman Old Style"/>
              </a:rPr>
              <a:t>proces transformace preindustriální společnosti na společnost charakterizovanou rozvinutou pr</a:t>
            </a: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ůmyslovou výrobou, racionálními a sekulárními postoji obyvatelstva a vysoce diferencovanou sociální struktur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Rozmach po 2. Světové vál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6600"/>
                </a:solidFill>
                <a:latin typeface="Arial Black"/>
              </a:rPr>
              <a:t>Modernizac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Bookman Old Style"/>
              </a:rPr>
              <a:t>Nové teoretické koncepty - </a:t>
            </a:r>
            <a:r>
              <a:rPr b="0" lang="cs-CZ" sz="3200" spc="-1" strike="noStrike">
                <a:solidFill>
                  <a:srgbClr val="ffffff"/>
                </a:solidFill>
                <a:latin typeface="Bookman Old Style"/>
              </a:rPr>
              <a:t>Eisenstadt, Fasons, Rostow a Smel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Industriální společnost = „společnost hojnosti“ (Galb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Konec 60. let – náznak změny (Bell, Toffle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Postindustriální společnos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Bookman Old Style"/>
              </a:rPr>
              <a:t>Informační společnost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individualizace, universalismus, decentralizace, úzamní rozptýl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Nová ekonomika = nová ekon.struktura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růst produktivity práce, růst konkurenceschopnosti, nízká inflace, sítě (ne hierarchie), ekon.úspěšnost=vědomosti a informace, global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Představitelé: Atkinson, Tapscott, Thurow, Reich, G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Postindustriální společnos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„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Společnost vědění“ 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i="1" lang="sk-SK" sz="2000" spc="-1" strike="noStrike">
                <a:solidFill>
                  <a:srgbClr val="ffffff"/>
                </a:solidFill>
                <a:latin typeface="Bookman Old Style"/>
              </a:rPr>
              <a:t>knowledge society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výrazná lidská dimen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Základní rysy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know-how, vysoká složitost práce, všechny oblasti společnosti závislé na vědění, infrastruktury druhého řádu, sociální stránka, společnost abstrakt a symbolů, vysoká diverzifikace produkce i distribuce vědění, věda-dominantní postav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Kritika nové éry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Konzumní spole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„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Ve svém současném (...) stadiu nemá moderní společnost velkou potřebu masové pr</a:t>
            </a:r>
            <a:r>
              <a:rPr b="1" lang="cs-CZ" sz="2000" spc="-1" strike="noStrike">
                <a:solidFill>
                  <a:srgbClr val="ffffff"/>
                </a:solidFill>
                <a:latin typeface="Bookman Old Style"/>
              </a:rPr>
              <a:t>ů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myslové práce a všeobecné branné povinnosti; místo toho potřebuje angažovat své členy jako konzumenty.“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sk-SK" sz="1200" spc="-1" strike="noStrike">
                <a:solidFill>
                  <a:srgbClr val="ffffff"/>
                </a:solidFill>
                <a:latin typeface="Bookman Old Style"/>
              </a:rPr>
              <a:t>Zygmunt Bauman, str. 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Změna hodnotového systé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Zaměření na humánní stránku (humanistická ekonom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Ekologické asp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6600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BAUER, W.M.  Tyranie blahobytu. Praha: Volvo Globator, 1997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BAUMAN, Z. Globalizace:důsledky pro člověka. Praha : Mladá fronta, 200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POTŮČEK a kol. Průvodce krajinou priorit pro Českou republiku. Praha: Gutenberg, 200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SEN, A. Etika a ekonomie. Praha: Vyšehrad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TOFFLER, A., TOFFLEROVA H. Nová civilizace. Praha: Dokořán,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0:17:28Z</dcterms:created>
  <dc:creator>Beatka_U</dc:creator>
  <dc:description/>
  <dc:language>en-US</dc:language>
  <cp:lastModifiedBy>Beatka_U</cp:lastModifiedBy>
  <dcterms:modified xsi:type="dcterms:W3CDTF">2006-10-16T11:55:47Z</dcterms:modified>
  <cp:revision>3</cp:revision>
  <dc:subject/>
  <dc:title>Vývojové tendencie na prahu postindustriálnej éry</dc:title>
</cp:coreProperties>
</file>