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3.jpeg" ContentType="image/jpeg"/>
  <Override PartName="/ppt/media/image7.jpeg" ContentType="image/jpe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D6EB-6A27-4C97-906D-B02FFDEA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6B15-6F39-4D6E-9737-428BD10F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B667-DA89-4638-BF77-EE7C55C0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8BF1-9062-4F57-9306-87976134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7616-11B3-4048-83DF-0E2A8756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5E2D-74E1-494F-A670-CA5F2523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B8B7-5DF6-406B-8F9E-9AE42A49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D2BC-4768-4BAF-AC50-B6AF64C6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0A25-A9E0-4AA1-95EC-45EAFADC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E182-07A4-447E-8590-0703A1A9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23F7-2E97-4253-9913-9A9B5611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B504-2A61-4900-A749-3B99A829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7E7C-715C-4DB0-9EA6-DD734514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E969-79F6-4E8E-BDEA-CB86AFAA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8C40-C5B3-4CA6-8E43-8F6A443E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D0CD-A271-4775-A523-5CF5AF8E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5713-BD96-4060-83EE-F113977D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D5A4-2CD8-4B54-9C0B-8005DED2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539F-D559-4E2D-968E-049BC723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6861-10EB-4AF8-BE78-25E98F45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6C93-4F41-457D-8D2B-141DD2C2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01E9-2519-4BCF-A822-FF3BE739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8DE-8F2B-4F0E-A7F3-8401D863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6192-5120-48EB-A032-3447ED5B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CBFF-5D82-4257-AF76-A247455812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62D4-7300-4430-9B78-C78749DCA5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CHARAKTERISTICKÉ RYSY A ZÁKLADNÍ PRINCIPY INDUSTRIÁLNÍ SPOL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Lucida Handwriting"/>
              </a:rPr>
              <a:t>EČ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NOSTI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ým č. 7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Petr Suchán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Martin Simersk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máš Vobeck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494280"/>
            <a:ext cx="899172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 dělby práce na základě specializace</a:t>
            </a:r>
            <a:endParaRPr b="0" lang="en-US" sz="4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iverzalita         specializace ve výrob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ůst produktivity prá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ůst kvality prá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Nutnost koordin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Marx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26668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ford" descr=""/>
          <p:cNvPicPr/>
          <p:nvPr/>
        </p:nvPicPr>
        <p:blipFill>
          <a:blip r:embed="rId6"/>
          <a:stretch/>
        </p:blipFill>
        <p:spPr>
          <a:xfrm>
            <a:off x="0" y="2590920"/>
            <a:ext cx="3505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synchron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572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Nutnost synchron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vznik managemen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ozšíření do celé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Č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0120" y="21337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ostatni001%20-%2012" descr=""/>
          <p:cNvPicPr/>
          <p:nvPr/>
        </p:nvPicPr>
        <p:blipFill>
          <a:blip r:embed="rId4"/>
          <a:stretch/>
        </p:blipFill>
        <p:spPr>
          <a:xfrm>
            <a:off x="0" y="2057400"/>
            <a:ext cx="309564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standard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988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ikátní výrobky          standardní výrob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ifikace společnosti – masová kul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Byrokracie (Web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1337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byrokracie%20-%2013" descr=""/>
          <p:cNvPicPr/>
          <p:nvPr/>
        </p:nvPicPr>
        <p:blipFill>
          <a:blip r:embed="rId4"/>
          <a:stretch/>
        </p:blipFill>
        <p:spPr>
          <a:xfrm>
            <a:off x="0" y="2286000"/>
            <a:ext cx="3657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koncentr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343400" y="190512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Důvod – rostoucí děl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práce a special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Územní koncent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Rozvoj tová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Urbaniz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Koncentrace kapitá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Oligopolizace trh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dez03_megapolis_tokyo%20-%2014" descr=""/>
          <p:cNvPicPr/>
          <p:nvPr/>
        </p:nvPicPr>
        <p:blipFill>
          <a:blip r:embed="rId4"/>
          <a:stretch/>
        </p:blipFill>
        <p:spPr>
          <a:xfrm>
            <a:off x="0" y="2438280"/>
            <a:ext cx="430524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maximal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526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Čím více, tím lépe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Vznik gigantických podnik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Global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Zvyšování spotřeby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Bez%20názvu%20-%2014" descr=""/>
          <p:cNvPicPr/>
          <p:nvPr/>
        </p:nvPicPr>
        <p:blipFill>
          <a:blip r:embed="rId5"/>
          <a:stretch/>
        </p:blipFill>
        <p:spPr>
          <a:xfrm>
            <a:off x="0" y="1981080"/>
            <a:ext cx="281952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central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Centralizace moc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empus Sans ITC"/>
              </a:rPr>
              <a:t>Proces centralizace moci v Evropě spojen s posilováním moci stá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Centralizace moci probíhá ve dvou rovinách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100000"/>
              </a:lnSpc>
              <a:spcBef>
                <a:spcPts val="45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empus Sans ITC"/>
              </a:rPr>
              <a:t>Centralizace politické moci – vytváření nadstátních cel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100000"/>
              </a:lnSpc>
              <a:spcBef>
                <a:spcPts val="45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empus Sans ITC"/>
              </a:rPr>
              <a:t>Centralizace podnikatelské moci – vytváření gigantických podni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108386-evropska-unie%20-%2013" descr=""/>
          <p:cNvPicPr/>
          <p:nvPr/>
        </p:nvPicPr>
        <p:blipFill>
          <a:blip r:embed="rId3"/>
          <a:stretch/>
        </p:blipFill>
        <p:spPr>
          <a:xfrm>
            <a:off x="5105520" y="1905120"/>
            <a:ext cx="1838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46512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B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udoucí vývoj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 (kam směřujeme?)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Zrychlování výv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Střety národů z různých v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ozvíjení druhé a nástup třetí vl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Další vlny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Lucida Handwriting"/>
              </a:rPr>
              <a:t>Děkujeme za pozornos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Lucida Handwriting"/>
              </a:rPr>
              <a:t>Použitá literatur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FFLER, A. </a:t>
            </a:r>
            <a:r>
              <a:rPr b="0" i="1" lang="cs-CZ" sz="2400" spc="-1" strike="noStrike">
                <a:solidFill>
                  <a:srgbClr val="ffffff"/>
                </a:solidFill>
                <a:latin typeface="Tempus Sans ITC"/>
              </a:rPr>
              <a:t>Šok z budoucnosti</a:t>
            </a: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. Praha : Práce, 199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FFLER, A. </a:t>
            </a:r>
            <a:r>
              <a:rPr b="0" i="1" lang="cs-CZ" sz="2400" spc="-1" strike="noStrike">
                <a:solidFill>
                  <a:srgbClr val="ffffff"/>
                </a:solidFill>
                <a:latin typeface="Tempus Sans ITC"/>
              </a:rPr>
              <a:t>The Third Wawe</a:t>
            </a: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. New York 198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FFLER, A., TOFFLEROVÁ, H. </a:t>
            </a:r>
            <a:r>
              <a:rPr b="0" i="1" lang="cs-CZ" sz="2400" spc="-1" strike="noStrike">
                <a:solidFill>
                  <a:srgbClr val="ffffff"/>
                </a:solidFill>
                <a:latin typeface="Tempus Sans ITC"/>
              </a:rPr>
              <a:t> Nová civilizace. </a:t>
            </a: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Praha : Dokořán 2001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Vývoj společnosti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23920" y="182880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Neustále se zrychlu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robíhá ve vlná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Vlny se prolína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evoluce%202" descr=""/>
          <p:cNvPicPr/>
          <p:nvPr/>
        </p:nvPicPr>
        <p:blipFill>
          <a:blip r:embed="rId4"/>
          <a:stretch/>
        </p:blipFill>
        <p:spPr>
          <a:xfrm>
            <a:off x="0" y="2743200"/>
            <a:ext cx="4343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vní vln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8. tisíciletí př.n.l. – 17. Stole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Starověké i středověké civi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Preindustriální společ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Národy primitivní (sběr) či civilizované (obdělávání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46404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Specifika preindustriální společnosti</a:t>
            </a:r>
            <a:r>
              <a:rPr b="0" lang="cs-CZ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Zemědělská společnost založená na vlastnictví pů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aždý produkt byl unik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Decentralizované hospodářstv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Minimální dělba prá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Univerzální výrob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Omezená smě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ův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Autoritářská pravom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vykopavky%20-%204" descr=""/>
          <p:cNvPicPr/>
          <p:nvPr/>
        </p:nvPicPr>
        <p:blipFill>
          <a:blip r:embed="rId9"/>
          <a:stretch/>
        </p:blipFill>
        <p:spPr>
          <a:xfrm>
            <a:off x="5715000" y="3352680"/>
            <a:ext cx="3429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Výjimky První vln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Starověké Řecko a Ří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Babylon a starověký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Asie a Jižní Amer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191120"/>
            <a:ext cx="7162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Zvolna se vyvíjející společ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=&gt;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Průmyslová revolu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yramidy%20-%205" descr=""/>
          <p:cNvPicPr/>
          <p:nvPr/>
        </p:nvPicPr>
        <p:blipFill>
          <a:blip r:embed="rId4"/>
          <a:stretch/>
        </p:blipFill>
        <p:spPr>
          <a:xfrm>
            <a:off x="6248520" y="2057400"/>
            <a:ext cx="28954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91440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Druhá vlna</a:t>
            </a:r>
            <a:br>
              <a:rPr sz="4400"/>
            </a:b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- nástup industriální společnosti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2743200"/>
            <a:ext cx="6400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2. pol. 17. – 1. pol. 18. Stole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preindustriální společ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říčiny vzniku Druhé vln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Objev Nového svě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ůst počtu obyvatelst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Využití parního st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Industriální myšl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ozšiřování mezilidské komunik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vlak-cerny%20-%208" descr=""/>
          <p:cNvPicPr/>
          <p:nvPr/>
        </p:nvPicPr>
        <p:blipFill>
          <a:blip r:embed="rId6"/>
          <a:stretch/>
        </p:blipFill>
        <p:spPr>
          <a:xfrm>
            <a:off x="5410080" y="2514600"/>
            <a:ext cx="37339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y industriální společnosti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94920" y="2362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889280"/>
            <a:ext cx="8610480" cy="66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oddělení výroby od spotře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rincip dělby práce na základě special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synchron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standard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oncen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maximal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central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tovarna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9528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417960"/>
            <a:ext cx="899172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oddělení výroby od spotřeby</a:t>
            </a:r>
            <a:endParaRPr b="0" lang="en-US" sz="4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23920" y="205740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Dominantní princip industriální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Oddělení role výrobce a spotřebite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Smě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ozvoj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Bez%20názvu%20-%2010" descr=""/>
          <p:cNvPicPr/>
          <p:nvPr/>
        </p:nvPicPr>
        <p:blipFill>
          <a:blip r:embed="rId5"/>
          <a:stretch/>
        </p:blipFill>
        <p:spPr>
          <a:xfrm>
            <a:off x="0" y="2362320"/>
            <a:ext cx="44956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2:28:15Z</dcterms:created>
  <dc:creator>Petr Suchánek</dc:creator>
  <dc:description/>
  <dc:language>en-US</dc:language>
  <cp:lastModifiedBy>Petr Suchánek</cp:lastModifiedBy>
  <dcterms:modified xsi:type="dcterms:W3CDTF">2006-09-15T09:16:01Z</dcterms:modified>
  <cp:revision>5</cp:revision>
  <dc:subject/>
  <dc:title>CHARAKTERISTICKÉ RYSY A ZÁKLADNÍ PRINCIPY INDUSTRIÁLNÍ SPOLEČNOSTI </dc:title>
</cp:coreProperties>
</file>