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A75B-D017-4091-962A-BAD78B72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7F664-2E5C-42A1-924B-2ADBF42A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CDAC-BCB2-4E84-8806-16A66BE2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AE27-DB04-4EA0-8F52-2F2FCB0D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9BAF-68A3-467E-B406-22FC6DE5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9C50-0131-49CE-B92F-DD68EA07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E570-C773-4DCD-A647-0B7C8D58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A97A-B671-4E19-9446-9A00E466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49E3-95E3-419D-9F3C-440241B7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BB05-67EF-4AD0-968C-BDDC35B0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9E2D-FA32-4DB1-B719-C476A82D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35EE-7509-41F7-9828-CC9EC3B7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F077-7EC7-4A59-9F34-D4103A19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D812-1611-4DD7-AC7A-BC6F6D52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33A1-02C5-41EC-8805-FC648803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A414-E18C-4954-8D89-50229D1B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B12B-8301-430D-80B8-7AA285F0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ACF11-F85C-41F9-B1E5-F241FBF0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67A8-6EF2-4456-8770-CF70D553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0B79-FA9A-4DED-A1A1-6846C5F0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A9F9-9437-4800-B4F7-36D7425E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4D4EB-9E9B-46A4-8341-E10EACB8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8AFF-964D-4B94-836E-9A6C3742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EFBA-9B07-4DA7-87DA-B9C79054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4A4C-D4AA-433D-BE9A-86816CDF52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4B92-A6C3-4C23-BEA4-C821CB69F2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e5ff"/>
                </a:solidFill>
                <a:latin typeface="Book Antiqua"/>
              </a:rPr>
              <a:t>Winfried M. BAUER</a:t>
            </a:r>
            <a:r>
              <a:rPr b="1" lang="cs-CZ" sz="4400" spc="-1" strike="noStrike">
                <a:solidFill>
                  <a:srgbClr val="e5e5ff"/>
                </a:solidFill>
                <a:latin typeface="Book Antiqua"/>
              </a:rPr>
              <a:t> </a:t>
            </a:r>
            <a:br>
              <a:rPr sz="4400"/>
            </a:br>
            <a:r>
              <a:rPr b="1" lang="cs-CZ" sz="4400" spc="-1" strike="noStrike" u="sng">
                <a:solidFill>
                  <a:srgbClr val="e5e5ff"/>
                </a:solidFill>
                <a:uFillTx/>
                <a:latin typeface="Book Antiqua"/>
              </a:rPr>
              <a:t> TYRANIE BLAHOBYTU</a:t>
            </a: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vybrané myšlenk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ypracovali: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avla Slezák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etr Goliá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Georg Sieger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k Antiqua"/>
              </a:rPr>
              <a:t>Použitá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auer W. M., 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Tyranie blahobyt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Volvox Globator 199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Krize individu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oritou dnešního člověka je naplňování pouze materiálních potřeb. Navíc se se svou prací jen málokdy identifikuje a tak se dostává do jakési  schizofrenie. Stává se dezorientovaným, ztrácí vůli k dosahování cílů a pak i cíle samot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640" y="452088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to je potřeba člověku/zaměstnanci poskytnout více podnětů, aby se mohl s prací identifikovat. Člověk by neměl být hrdý pouze na to, že dokázal zvýšit prodejnost pracího prášku o 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Motivace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Úspěch firmy je záležitostí vedoucích pracovníků - postoje, charakterové vlastnosti a znalos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e potřeba, aby se i manažer identifikoval se svou prací, aby pouze nedemonstroval svoji neomylnost a autorit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4149720"/>
            <a:ext cx="82184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dniky by se měly více soustředit na své zaměstnance, aby se z nich nestali pouze „němí příjemci povelů“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Proměna pracovního světa používáním počítač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vztahu mezi pra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a praco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interakce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mezi lid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bsence lidsk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rozumu m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ůž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 k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nebezpečným chyb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 v sys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→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le : Ten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oces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elze zastavit a nedá se proti němu bránit.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A je nezvratný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Fascinace absurdit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Přestože lidé používají racionální způsob myšlen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trvaj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absurd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bvence zemědělstv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Znečišťování životního prostřed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Výuk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ško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a univerzi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neřeš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 součas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prob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hání exaktních vě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vojí odpovědnost manaž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tane-li se organizace do problémů, mění se odpovědnost manažera vůči podřízeným (společenskému blahu) v odpovědnost vůči vlastníkovi, potažmo sobě (blahu eg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280" y="436536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 překotnými a obtížnými hospodářskými změnami v posledních desetiletích vzájemná lidská solidarita mizí, jako bychom pro ni v sobě nevybudovali dostatečně pevnou půd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23640" y="4941360"/>
            <a:ext cx="7753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292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357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ůležitá role komunik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Vývoj světového dění je do té míry dynamický a schopný znatelné odezvy na jakékoliv další jednání člověka, že: BUDOUCNOST OVLIVŇUJEME VŠÍM, CO ČINÍME A JEŠTĚ VÍCE TÍM, CO NEČINÍ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Komunikujeme skrz činy, slova, práci, vztahy, chování či post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KOMUNIKUJME UVĚDOMĚLE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Uvědomělý život a jeho úskal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Žít život uvědoměle znamená vzdát se do určité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míry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své stávající společenské ro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280" y="3860280"/>
            <a:ext cx="81471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dložit svou roli znamená dostat se do konfliktu, který se často mění v pokus násilím dosáhnout toho, čeho je možné dosáhnout pouze „chůzí po špičkách“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5e5ff"/>
                </a:solidFill>
                <a:latin typeface="Book Antiqua"/>
              </a:rPr>
              <a:t>Muhammad Júnus, bangladéšský ekonom a jeho banka Gramín = nositel Nobelovy ceny míru za rok 2006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banka založena roku 197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poskytuje mikroúvěry milionům nejchudší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v rámci skupiny Gramín existuje na 2 tucty společností fungujících na neziskové bázi a jsou vzájemně propoj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funkčnost modelu potvrzuje jeho převzetí ve více než sto zemích s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Muhammad Júnus se řídí úslovím: „Dáte-li člověku rybu, nasytíte ho na jeden den. Naučíte-li ho ryby chytat, nasytíte ho na celý život.“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3:41:39Z</dcterms:created>
  <dc:creator>počítač</dc:creator>
  <dc:description/>
  <dc:language>en-US</dc:language>
  <cp:lastModifiedBy>Pavla</cp:lastModifiedBy>
  <dcterms:modified xsi:type="dcterms:W3CDTF">2006-10-16T10:49:26Z</dcterms:modified>
  <cp:revision>11</cp:revision>
  <dc:subject/>
  <dc:title>Snímek 1</dc:title>
</cp:coreProperties>
</file>