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6D8A-C63C-488E-9F81-66E5ACD6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6732-9113-450E-8360-4889DB4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2F22-C118-487B-BB95-CA781A78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C173-B5C8-45F0-BB5D-17A9F951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004F-6B74-4915-9075-13AC7176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A216-AF21-4765-BA39-3474FBF2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722F-BC6C-402C-9B68-B76863A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F846-805C-4997-A8CE-C5536DA8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D01C-6292-4248-B6D8-6CC73C55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81B7-232D-452C-BA36-5E5098DB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BD71-DC75-4248-86CB-80B2C8F0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5B37-AD79-47ED-B95D-18C59708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6928-DCD0-4A9B-BB57-18D235C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9B5D-CF68-431E-9987-EF43E9C9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7F9A-1853-47AC-A606-1AD682B0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68D5-C08C-474C-ADF3-273373C1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B4C8-762B-442E-9D3F-DB72C6D1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A62F-B9C8-47F1-AA05-F0AD0F32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DDE8-6B52-4411-B2CA-FFD3B61B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A8E8-439A-4121-8BD0-7913C860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AA28-763D-4CB9-B4EF-FB3ECE15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DC4A-A3DC-4B35-84BE-773000F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A485-B039-48F0-B058-167C1D1D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E6BC-A770-41FE-B06B-20E39743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6247-15F2-4CF4-86A1-6F923AB314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D49E-3D5D-4B83-AB5F-8A281F71C8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e5ff"/>
                </a:solidFill>
                <a:latin typeface="Book Antiqua"/>
              </a:rPr>
              <a:t>Winfried M. BAUER</a:t>
            </a:r>
            <a:r>
              <a:rPr b="1" lang="cs-CZ" sz="4400" spc="-1" strike="noStrike">
                <a:solidFill>
                  <a:srgbClr val="e5e5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 TYRANIE BLAHOBYTU</a:t>
            </a: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vybrané myšlenk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by se měly více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Proměna pracovního světa používáním počí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elze zastavit a nedá se proti němu bránit.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Přestože lidé používají racionální způsob myšle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řeš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 součas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OMUNIKUJ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6T10:49:26Z</dcterms:modified>
  <cp:revision>11</cp:revision>
  <dc:subject/>
  <dc:title>Snímek 1</dc:title>
</cp:coreProperties>
</file>