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7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D590-4397-4DD6-ACC7-53D6FF33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8E51-A5F8-40AC-B9CD-D262094C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1E4-98E9-4948-B0B9-4F286D76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1928-47E7-45E4-922D-EF36B66D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D5B6-AB75-42B0-AAAB-7CDF2B7C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D18E-65EC-4675-BF04-F4C8A498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D837-00BA-4FBE-A9DE-3FC533E0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C4C3-CE38-4D83-80AD-976C5A18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F57C-0D1E-414E-A1C7-EA756D5D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9F7A-030A-4410-8FE1-A3688948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767F-E5DC-42CE-8875-CC992351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0EB5-3F68-4D40-A12C-2076C67E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89AF-0ECB-44E5-B431-6CD3C956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E38B-51C0-4330-8FF3-4EF4E3FD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703F-F3DB-4839-8358-ED744D48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A631-A21D-4A75-A25F-8D1E0D60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308D-F416-4AD8-88FE-9366DE21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9EE-175E-497D-A775-143A4C7D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446-C901-4B94-B35F-C4C4FAC4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C563-9D01-4AA1-B94A-5C703ABA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E77-8EA6-4578-BCC6-CF52A88C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8C4B-76D1-4E00-AD6A-3D9D3EB9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CC9-1B52-4DCF-A62B-A3DC9880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8807-007C-4B43-9716-5D581A68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13EF-0473-4AE4-8031-E89052BDDE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66FE-39F6-43AC-8261-AE3905125C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CHARAKTERISTICKÉ RYSY A ZÁKLADNÍ PRINCIPY INDUSTRIÁLNÍ SPOL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Lucida Handwriting"/>
              </a:rPr>
              <a:t>EČ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NOSTI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ým č. 7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Petr Suchán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Martin Simersk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máš Vobeck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494280"/>
            <a:ext cx="899172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 dělby práce na základě specializace</a:t>
            </a:r>
            <a:endParaRPr b="0" lang="en-US" sz="4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iverzalita         specializace ve výrob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ůst produktivity prá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ůst kvality prá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Nutnost koordin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Mar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26668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ford" descr=""/>
          <p:cNvPicPr/>
          <p:nvPr/>
        </p:nvPicPr>
        <p:blipFill>
          <a:blip r:embed="rId6"/>
          <a:stretch/>
        </p:blipFill>
        <p:spPr>
          <a:xfrm>
            <a:off x="0" y="2590920"/>
            <a:ext cx="3505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synchron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Nutnost synchron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vznik managemen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ozšíření do celé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Č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21337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ostatni001%20-%2012" descr=""/>
          <p:cNvPicPr/>
          <p:nvPr/>
        </p:nvPicPr>
        <p:blipFill>
          <a:blip r:embed="rId4"/>
          <a:stretch/>
        </p:blipFill>
        <p:spPr>
          <a:xfrm>
            <a:off x="0" y="2057400"/>
            <a:ext cx="309564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standard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988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ikátní výrobky          standardní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ifikace společnosti – masová kul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Byrokracie (We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1337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byrokracie%20-%2013" descr=""/>
          <p:cNvPicPr/>
          <p:nvPr/>
        </p:nvPicPr>
        <p:blipFill>
          <a:blip r:embed="rId4"/>
          <a:stretch/>
        </p:blipFill>
        <p:spPr>
          <a:xfrm>
            <a:off x="0" y="2286000"/>
            <a:ext cx="365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koncentr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Důvod – rostoucí děl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práce a speci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Územní koncent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Rozvoj tová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Urbaniz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Koncentrace kapitá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Oligopolizace tr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dez03_megapolis_tokyo%20-%2014" descr=""/>
          <p:cNvPicPr/>
          <p:nvPr/>
        </p:nvPicPr>
        <p:blipFill>
          <a:blip r:embed="rId4"/>
          <a:stretch/>
        </p:blipFill>
        <p:spPr>
          <a:xfrm>
            <a:off x="0" y="2438280"/>
            <a:ext cx="43052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maximal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526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Čím více, tím lépe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Vznik gigantických podnik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Glob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Zvyšování spotřeby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Bez%20názvu%20-%2014" descr=""/>
          <p:cNvPicPr/>
          <p:nvPr/>
        </p:nvPicPr>
        <p:blipFill>
          <a:blip r:embed="rId5"/>
          <a:stretch/>
        </p:blipFill>
        <p:spPr>
          <a:xfrm>
            <a:off x="0" y="1981080"/>
            <a:ext cx="28195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central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Centralizace moc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empus Sans ITC"/>
              </a:rPr>
              <a:t>Proces centralizace moci v Evropě spojen s posilováním moci stá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Centralizace moci probíhá ve dvou rovinách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100000"/>
              </a:lnSpc>
              <a:spcBef>
                <a:spcPts val="45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empus Sans ITC"/>
              </a:rPr>
              <a:t>Centralizace politické moci – vytváření nadstátních cel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100000"/>
              </a:lnSpc>
              <a:spcBef>
                <a:spcPts val="45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empus Sans ITC"/>
              </a:rPr>
              <a:t>Centralizace podnikatelské moci – vytváření gigantických podni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108386-evropska-unie%20-%2013" descr=""/>
          <p:cNvPicPr/>
          <p:nvPr/>
        </p:nvPicPr>
        <p:blipFill>
          <a:blip r:embed="rId3"/>
          <a:stretch/>
        </p:blipFill>
        <p:spPr>
          <a:xfrm>
            <a:off x="5105520" y="1905120"/>
            <a:ext cx="1838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4651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B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udoucí vývoj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 (kam směřujeme?)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Zrychlování výv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Střety národů z různých v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ozvíjení druhé a nástup třetí vl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Další vlny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Děkujeme za pozornos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Použitá literatur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FFLER, A. </a:t>
            </a:r>
            <a:r>
              <a:rPr b="0" i="1" lang="cs-CZ" sz="2400" spc="-1" strike="noStrike">
                <a:solidFill>
                  <a:srgbClr val="ffffff"/>
                </a:solidFill>
                <a:latin typeface="Tempus Sans ITC"/>
              </a:rPr>
              <a:t>Šok z budoucnosti</a:t>
            </a: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. Praha : Práce, 199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FFLER, A. </a:t>
            </a:r>
            <a:r>
              <a:rPr b="0" i="1" lang="cs-CZ" sz="2400" spc="-1" strike="noStrike">
                <a:solidFill>
                  <a:srgbClr val="ffffff"/>
                </a:solidFill>
                <a:latin typeface="Tempus Sans ITC"/>
              </a:rPr>
              <a:t>The Third Wawe</a:t>
            </a: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. New York 198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FFLER, A., TOFFLEROVÁ, H. </a:t>
            </a:r>
            <a:r>
              <a:rPr b="0" i="1" lang="cs-CZ" sz="2400" spc="-1" strike="noStrike">
                <a:solidFill>
                  <a:srgbClr val="ffffff"/>
                </a:solidFill>
                <a:latin typeface="Tempus Sans ITC"/>
              </a:rPr>
              <a:t> Nová civilizace. </a:t>
            </a: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Praha : Dokořán 200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Vývoj společnost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23920" y="182880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Neustále se zrychlu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robíhá ve vlná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lny se prolína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evoluce%202" descr=""/>
          <p:cNvPicPr/>
          <p:nvPr/>
        </p:nvPicPr>
        <p:blipFill>
          <a:blip r:embed="rId4"/>
          <a:stretch/>
        </p:blipFill>
        <p:spPr>
          <a:xfrm>
            <a:off x="0" y="2743200"/>
            <a:ext cx="4343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vní vln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8. tisíciletí př.n.l. – 17. Stole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Starověké i středověké civi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Preindustriální spol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Národy primitivní (sběr) či civilizované (obdělávání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6404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Specifika preindustriální společnosti</a:t>
            </a:r>
            <a:r>
              <a:rPr b="0" lang="cs-CZ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Zemědělská společnost založená na vlastnictví pů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aždý produkt byl unik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Decentralizované hospodářstv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Minimální dělba prá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Univerzální výrob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Omezená smě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ův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Autoritářská pravom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vykopavky%20-%204" descr=""/>
          <p:cNvPicPr/>
          <p:nvPr/>
        </p:nvPicPr>
        <p:blipFill>
          <a:blip r:embed="rId9"/>
          <a:stretch/>
        </p:blipFill>
        <p:spPr>
          <a:xfrm>
            <a:off x="5715000" y="3352680"/>
            <a:ext cx="3429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Výjimky První vln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Starověké Řecko a Ř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Babylon a starověký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Asie a Jižní Amer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191120"/>
            <a:ext cx="7162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Zvolna se vyvíjející společ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=&gt;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Průmyslová revolu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yramidy%20-%205" descr=""/>
          <p:cNvPicPr/>
          <p:nvPr/>
        </p:nvPicPr>
        <p:blipFill>
          <a:blip r:embed="rId4"/>
          <a:stretch/>
        </p:blipFill>
        <p:spPr>
          <a:xfrm>
            <a:off x="6248520" y="2057400"/>
            <a:ext cx="28954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91440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Druhá vlna</a:t>
            </a:r>
            <a:br>
              <a:rPr sz="4400"/>
            </a:b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- nástup industriální společnost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743200"/>
            <a:ext cx="6400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2. pol. 17. – 1. pol. 18. Sto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preindustriální společ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říčiny vzniku Druhé vln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Objev Nového svě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ůst počtu obyvatelst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yužití parního st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Industriální myšl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ozšiřování mezilidské komunik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vlak-cerny%20-%208" descr=""/>
          <p:cNvPicPr/>
          <p:nvPr/>
        </p:nvPicPr>
        <p:blipFill>
          <a:blip r:embed="rId6"/>
          <a:stretch/>
        </p:blipFill>
        <p:spPr>
          <a:xfrm>
            <a:off x="5410080" y="2514600"/>
            <a:ext cx="3733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y industriální společnosti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94920" y="2362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889280"/>
            <a:ext cx="8610480" cy="66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oddělení výroby od spotře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rincip dělby práce na základě special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synchron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standard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oncen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maximal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central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tovarna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9528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417960"/>
            <a:ext cx="899172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oddělení výroby od spotřeby</a:t>
            </a:r>
            <a:endParaRPr b="0" lang="en-US" sz="4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23920" y="205740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Dominantní princip industriální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Oddělení role výrobce a spotřebite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Smě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ozvoj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Bez%20názvu%20-%2010" descr=""/>
          <p:cNvPicPr/>
          <p:nvPr/>
        </p:nvPicPr>
        <p:blipFill>
          <a:blip r:embed="rId5"/>
          <a:stretch/>
        </p:blipFill>
        <p:spPr>
          <a:xfrm>
            <a:off x="0" y="2362320"/>
            <a:ext cx="44956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2:28:15Z</dcterms:created>
  <dc:creator>Petr Suchánek</dc:creator>
  <dc:description/>
  <dc:language>en-US</dc:language>
  <cp:lastModifiedBy>Petr Suchánek</cp:lastModifiedBy>
  <dcterms:modified xsi:type="dcterms:W3CDTF">2006-09-15T09:16:01Z</dcterms:modified>
  <cp:revision>5</cp:revision>
  <dc:subject/>
  <dc:title>CHARAKTERISTICKÉ RYSY A ZÁKLADNÍ PRINCIPY INDUSTRIÁLNÍ SPOLEČNOSTI </dc:title>
</cp:coreProperties>
</file>