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90F2-9DA8-482A-9D4D-1AABDDDE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5385-B013-49C8-81F4-88AF00C7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7518-6F52-43AC-94FC-CA239FE1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C63D-D75B-42B1-9572-0C06DD19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CD4B-FDB2-43F4-A7B6-BD38A084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A407-B8A6-4349-9407-929AE3DA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FFD7-AA10-4D43-903A-66F0451D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8E5C-6C4F-437C-8E43-6E32A3AD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1AAC-CD1B-444E-880D-C5C1712F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ECA4-4131-40A9-9089-1F035202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BB46-3284-4DD9-8792-3C289E7B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ED6F-527B-47A2-AB65-042AB258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2BBF-2D93-4550-96C0-11B2402C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969B-1905-463E-88A1-F0957025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157E-2062-4A48-8240-2150D0F1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AA62-8D34-46ED-BD9A-9EDE7190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1FA1-84FC-487A-858A-212B066D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BF32-E1AE-4601-9AF9-2095EB1B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39DB-B91D-4DAA-8631-65AFDBB5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1F33-3A66-4EC4-915F-1B5937D0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FC46-3785-45CE-A325-779B8B20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F270-6F1F-448A-B5A1-1619A247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9124-35A6-495A-8414-06441C6D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219F-E5FE-433F-ABB7-766C1BDD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FE7C-88E5-423F-A6E1-3295A676AF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A3B6-CFFC-4AD9-9029-69ABAF4D3A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ztah managementu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etologie a antropologie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3703320"/>
            <a:ext cx="3809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m Kotl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vla Lišk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ek Výt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7960" y="4858920"/>
            <a:ext cx="38098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10.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SKUPINA 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1828800"/>
          <a:ext cx="77724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7724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SKUPINA 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828800"/>
          <a:ext cx="80010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0010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rá skupina je sestavena ze šimpanzů a která je zapsána v obchodním rejstříku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užitá literatura: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aldikas, B.M.F., Teleki, G.: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ariations in Subsistence Activities of Female and Male Pongids: New Perspectives on the Origins of Hominid Labor Division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Current Anthropology, Vol. 22, No. 3 (June 1981), pp 241-256.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ani, J.: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Evolution of Primate Social Structures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Man, New Series, Vol. 20, No. 4 (December 1985), pp 593-611.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cGrew, W.C., Tutin, C.E.G.: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vidence for a Social Custom in Wild Chimpanzees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Man, New Series, Vol. 13, No. 2 (June 1978), pp 234-251.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anford, C.B.: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ocial Behavior of Chimpanzees and Bonobos: Empirical Evidence and Shifting Assumptions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Current Anthropology, Vol. 39, No. 4 (August-October 1998), pp 399-420.</a:t>
            </a:r>
            <a:br>
              <a:rPr sz="2000"/>
            </a:b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5:06:01Z</dcterms:created>
  <dc:creator>kluci</dc:creator>
  <dc:description/>
  <dc:language>en-US</dc:language>
  <cp:lastModifiedBy>kluci</cp:lastModifiedBy>
  <dcterms:modified xsi:type="dcterms:W3CDTF">2006-10-15T18:48:31Z</dcterms:modified>
  <cp:revision>4</cp:revision>
  <dc:subject/>
  <dc:title>Prezentace aplikace PowerPoint</dc:title>
</cp:coreProperties>
</file>