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65EEA-90F6-4FEE-8EAE-C481B25E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0A736-ECB7-4F2D-A92D-67EC4B4E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F9199-D096-433B-9468-656DE0F8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AB14-2AA7-4F79-A8A7-18B81CA3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3D43-B9D0-4B4E-9C5F-3331DE6F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EF2C-5294-494D-8A03-6B7F834F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E9BC-8D22-4E5D-BB21-602C6BB5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4713-BF97-424F-A89B-A29345A5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CB63-9E3A-4655-9CC1-35D61B1E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4317-2ACF-4301-84A4-CCE9E23A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2B54-B80B-4F7C-B720-ED0FF522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F0A9-DF8D-4094-87B8-14A6B083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4E39-8B4A-41E1-AF38-7E037FA6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9730-38CD-4290-A2D7-37370BCE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DEE8-2F8B-45DE-9E7B-A31C1A2B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0C5A-FA1A-4345-ADAE-A4FE7926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368F-775C-45D5-9AB4-26711B5A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35F0-D771-4347-8883-9C1DF418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9BA1-1819-480A-AEDE-F06AED10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8F47-7101-4492-9D0F-F8F9DD1A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EB8D7-80A0-44F0-BB8F-3D5EFD63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5F16-8BA2-43EB-B07B-0C110B01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56A0-FC91-41F7-BD71-4A6FDD9E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4E42-6589-4199-B7FE-8A5B98D8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119D-0DFC-4B1E-9C0A-83D9E77F3D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66DA-EFF4-4813-9B04-A79DAB2C1F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Vztah člověka a podniku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ypracovali: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avla Slezák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etr Goliá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Georg Sieger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k Antiqua"/>
              </a:rPr>
              <a:t>Použitá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auer W. M., 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Tyranie blahobyt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Volvox Globator 199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Krize individu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oritou dnešního člověka je naplňování pouze materiálních potřeb. Navíc se se svou prací jen málokdy identifikuje a tak se dostává do jakési  schizofrenie. Stává se dezorientovaným, ztrácí vůli k dosahování cílů a pak i cíle samot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640" y="452088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to je potřeba člověku/zaměstnanci poskytnout více podnětů, aby se mohl s prací identifikovat. Člověk by neměl být hrdý pouze na to, že dokázal zvýšit prodejnost pracího prášku o 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Motivace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Úspěch firmy je záležitostí vedoucích pracovníků - postoje, charakterové vlastnosti a znalos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e potřeba, aby se i manažer identifikoval se svou prací, aby pouze nedemonstroval svoji neomylnost a autorit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4149720"/>
            <a:ext cx="82184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dniky sice investují do moderní techniky, ale měli by se také soustředit na své zaměstnance, aby se z nich nestali pouze „němí příjemci povelů“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e5e5ff"/>
                </a:solidFill>
                <a:uFillTx/>
                <a:latin typeface="Book Antiqua"/>
              </a:rPr>
              <a:t>Zm</a:t>
            </a: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ěna pracovního  světa poč</a:t>
            </a:r>
            <a:r>
              <a:rPr b="1" lang="cs-CZ" sz="4400" spc="-1" strike="noStrike" u="sng">
                <a:solidFill>
                  <a:srgbClr val="e5e5ff"/>
                </a:solidFill>
                <a:uFillTx/>
                <a:latin typeface="Book Antiqua"/>
              </a:rPr>
              <a:t>í</a:t>
            </a: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tač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vztahu mezi pra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a praco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interakce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mezi lid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bsence lidsk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rozumu m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ůž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 k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nebezpečným chyb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 v sys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→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le : Ten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oces se ne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sám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bránit ani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ho nelze zpomalit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A je nezvratný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Fascinace absurdit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I když s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ět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ý dostane racionální způsob myšlení,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trvaj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absurd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bvence zemědělstv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Znečišťování životního prostřed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gma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katolické církve 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lám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Výuk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ško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a univerzi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nech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řešit prob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hání exaktních vě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vojí odpovědnost manaž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tane-li se organizace do problémů, mění se odpovědnost manažera vůči podřízeným (společenskému blahu) v odpovědnost vůči vlastníkovi, potažmo sobě (blahu eg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280" y="436536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 překotnými a obtížnými hospodářskými změnami v posledních desetiletích vzájemná lidská solidarita mizí, jako bychom pro ni v sobě nevybudovali dostatečně pevnou půd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23640" y="4941360"/>
            <a:ext cx="7753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292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357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ůležitá role komunik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Vývoj světového dění je do té míry dynamický a schopný znatelné odezvy na jakékoliv další jednání člověka, že: BUDOUCNOST OVLIVŇUJEME VŠÍM, CO ČINÍME A JEŠTĚ VÍCE TÍM, CO NEČINÍ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Komunikujeme skrz činy, slova, práci, vztahy, chování či post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KUMUNIKUJUME UVĚDOMĚLE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Uvědomělý život a jeho úskal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Žít život uvědoměle znamená vzdát se do určité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míry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své stávající společenské ro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280" y="3860280"/>
            <a:ext cx="81471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dložit svou roli znamená dostat se do konfliktu, který se často mění v pokus násilím dosáhnout toho, čeho je možné dosáhnout pouze „chůzí po špičkách“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5e5ff"/>
                </a:solidFill>
                <a:latin typeface="Book Antiqua"/>
              </a:rPr>
              <a:t>Muhammad Júnus, bangladéšský ekonom a jeho banka Gramín = nositel Nobelovy ceny míru za rok 2006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banka založena roku 197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poskytuje mikroúvěry milionům nejchudší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v rámci skupiny Gramín existuje na 2 tucty společností fungujících na neziskové bázi a jsou vzájemně propoj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funkčnost modelu potvrzuje jeho převzetí ve více než sto zemích s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Muhammad Júnus se řídí úslovím: „Dáte-li člověku rybu, nasytíte ho na jeden den. Naučíte-li ho ryby chytat, nasytíte ho na celý život.“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3:41:39Z</dcterms:created>
  <dc:creator>počítač</dc:creator>
  <dc:description/>
  <dc:language>en-US</dc:language>
  <cp:lastModifiedBy>Pavla</cp:lastModifiedBy>
  <dcterms:modified xsi:type="dcterms:W3CDTF">2006-10-15T19:14:00Z</dcterms:modified>
  <cp:revision>10</cp:revision>
  <dc:subject/>
  <dc:title>Snímek 1</dc:title>
</cp:coreProperties>
</file>