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BBC98-07E6-4814-86A4-99B64E5F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4A10-4945-4531-9D58-68FFA40B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FDBE-2127-4A49-A1A4-04782562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07CF-9582-4D72-B6CC-3F47CD74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5327-0A3B-4C9C-88E9-6956870D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ACC0-25CE-4CB4-89EB-07F0B176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FD4B-0097-4FB5-BDAB-9567147B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345F-E9E5-4E58-B16B-6D8F76B1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252A-2973-4444-B0FF-10392AC1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5FD0-0157-4634-8DEB-B8CE1E9D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5C7E-5B60-490A-8887-56309B16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D496-FEBA-44BB-9C5D-60B9B8C3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6786-6DC2-489C-BEDC-FD1735FE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DCDB-F972-4E4F-80C4-6AB8ED8D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413B-7992-4AD4-89A6-5F416EA3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82DC-3D95-48D4-B218-685693F0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6FB5-1467-497F-8B25-84F2CCEC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BF88-B227-497A-9B81-564B0308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9363-D552-4051-8629-C91EEEB8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0B8A-EF53-4BA2-974C-8124A7E5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0FAB-B382-4AA3-B285-54088891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B40F-AB1F-45CC-AA4D-5713F5BF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5B64-7BD0-4FA8-9ADC-6B784E40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9C01-7321-494F-BAAE-370DF93A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425A-5690-4B60-8992-5B0A81E35D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6D33-92AF-4EDA-AB95-DAD94BD132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e5ff"/>
                </a:solidFill>
                <a:latin typeface="Book Antiqua"/>
              </a:rPr>
              <a:t>Winfried M. BAUER</a:t>
            </a:r>
            <a:r>
              <a:rPr b="1" lang="cs-CZ" sz="4400" spc="-1" strike="noStrike">
                <a:solidFill>
                  <a:srgbClr val="e5e5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 TYRANIE BLAHOBYTU</a:t>
            </a: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vybrané myšlenk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by se měly více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Proměna pracovního světa používáním počí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elze zastavit a nedá se proti němu bránit.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Přestože lidé používají racionální způsob myšle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řeš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 součas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OMUNIKUJ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6T10:49:26Z</dcterms:modified>
  <cp:revision>11</cp:revision>
  <dc:subject/>
  <dc:title>Snímek 1</dc:title>
</cp:coreProperties>
</file>