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E235-0D01-45C8-8328-067C9923F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1A22-68D9-4ECA-83B4-E7CF0C36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996C-0FC6-4AA8-AAC4-8FD5EECE0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D7B1-5AAC-40FC-AE25-103346796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4C56-1A5E-42B3-8D1C-2DD4DD1B7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ACFA-1C10-49BF-9121-E4ADECED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B147-85A1-47F5-AD71-A4FB4EFD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9CD8-7C16-44B7-BDDE-00EB815F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9A1B-90E8-4682-ADB1-810463C0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D991-BF25-4BCA-BCD3-67683544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9BF0-FB1B-4F8D-97CD-460BCFAF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EE94-9948-4C68-A327-F61EA00F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F00C-D474-4227-BAE7-B1BB91E1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FBFB-58CA-4EC0-A7FE-8EBBD8D3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1848-A721-4DA4-A311-67724C52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EBD8-29D3-4D7F-B760-7DF73BB93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3FAA-BFC2-40CE-A67D-FF98FC9A4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ABE2-B875-4E09-AC08-6B8DEBEC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BE9A-776C-49BA-9330-92F4B55D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C985-A983-496B-8997-F49C06AA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3F1F-A319-4940-A42D-28527CD1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8C0E-49A1-47E6-8F0D-40A53C3F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89AD-F17D-407D-97AB-7F811D6D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F71B-77C0-420B-9084-1823DAEC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573E-859A-46AB-AA9F-DA96F64383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AFB4-C32B-4097-8224-3727E239F9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560" y="1988640"/>
            <a:ext cx="831708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200" spc="-1" strike="noStrike">
                <a:solidFill>
                  <a:srgbClr val="cc6600"/>
                </a:solidFill>
                <a:latin typeface="Arial Black"/>
              </a:rPr>
              <a:t>Vývojové tendence na prahu postindustriální éry</a:t>
            </a:r>
            <a:endParaRPr b="1" lang="en-US" sz="4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5157720"/>
            <a:ext cx="4105440" cy="10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Bookman Old Style"/>
              </a:rPr>
              <a:t>Beata Broskov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Bookman Old Style"/>
              </a:rPr>
              <a:t>Tomáš Procház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Bookman Old Style"/>
              </a:rPr>
              <a:t>Hana</a:t>
            </a: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 Matonohov</a:t>
            </a:r>
            <a:r>
              <a:rPr b="1" lang="sk-SK" sz="1800" spc="-1" strike="noStrike">
                <a:solidFill>
                  <a:srgbClr val="ffffff"/>
                </a:solidFill>
                <a:latin typeface="Bookman Old Style"/>
              </a:rPr>
              <a:t>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6600"/>
                </a:solidFill>
                <a:latin typeface="Arial Black"/>
              </a:rPr>
              <a:t>Modernizace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Teorie modernizace – změna společnosti</a:t>
            </a:r>
            <a:r>
              <a:rPr b="1" lang="sk-SK" sz="2800" spc="-1" strike="noStrike">
                <a:solidFill>
                  <a:srgbClr val="ffffff"/>
                </a:solidFill>
                <a:latin typeface="Bookman Old Style"/>
              </a:rPr>
              <a:t> – </a:t>
            </a:r>
            <a:r>
              <a:rPr b="1" lang="sk-SK" sz="1800" spc="-1" strike="noStrike">
                <a:solidFill>
                  <a:srgbClr val="ffffff"/>
                </a:solidFill>
                <a:latin typeface="Bookman Old Style"/>
              </a:rPr>
              <a:t>rozvoj vědy, techniky, trhu, měst at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Sociologové</a:t>
            </a:r>
            <a:r>
              <a:rPr b="1" lang="sk-SK" sz="2800" spc="-1" strike="noStrike">
                <a:solidFill>
                  <a:srgbClr val="ffffff"/>
                </a:solidFill>
                <a:latin typeface="Bookman Old Style"/>
              </a:rPr>
              <a:t>: Spencer, Drukheim, We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Modernizace</a:t>
            </a:r>
            <a:r>
              <a:rPr b="1" lang="sk-SK" sz="2800" spc="-1" strike="noStrike">
                <a:solidFill>
                  <a:srgbClr val="ffffff"/>
                </a:solidFill>
                <a:latin typeface="Bookman Old Style"/>
              </a:rPr>
              <a:t> – </a:t>
            </a:r>
            <a:r>
              <a:rPr b="0" lang="sk-SK" sz="2000" spc="-1" strike="noStrike">
                <a:solidFill>
                  <a:srgbClr val="ffffff"/>
                </a:solidFill>
                <a:latin typeface="Bookman Old Style"/>
              </a:rPr>
              <a:t>proces transformace preindustriální společnosti na společnost charakterizovanou rozvinutou pr</a:t>
            </a:r>
            <a:r>
              <a:rPr b="0" lang="cs-CZ" sz="2000" spc="-1" strike="noStrike">
                <a:solidFill>
                  <a:srgbClr val="ffffff"/>
                </a:solidFill>
                <a:latin typeface="Bookman Old Style"/>
              </a:rPr>
              <a:t>ůmyslovou výrobou, racionálními a sekulárními postoji obyvatelstva a vysoce diferencovanou sociální struktur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Bookman Old Style"/>
              </a:rPr>
              <a:t>Rozmach po 2. Světové vál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6600"/>
                </a:solidFill>
                <a:latin typeface="Arial Black"/>
              </a:rPr>
              <a:t>Modernizace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Bookman Old Style"/>
              </a:rPr>
              <a:t>Nové teoretické koncepty - </a:t>
            </a:r>
            <a:r>
              <a:rPr b="0" lang="cs-CZ" sz="3200" spc="-1" strike="noStrike">
                <a:solidFill>
                  <a:srgbClr val="ffffff"/>
                </a:solidFill>
                <a:latin typeface="Bookman Old Style"/>
              </a:rPr>
              <a:t>Eisenstadt, Fasons, Rostow a Smel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Industriální společnost = „společnost hojnosti“ (Galbrigh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Konec 60. let – náznak změny (Bell, Toffler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591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6600"/>
                </a:solidFill>
                <a:latin typeface="Arial Black"/>
              </a:rPr>
              <a:t>Postindustriální společnos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Bookman Old Style"/>
              </a:rPr>
              <a:t>Informační společnost</a:t>
            </a: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 – </a:t>
            </a:r>
            <a:r>
              <a:rPr b="1" lang="sk-SK" sz="2400" spc="-1" strike="noStrike">
                <a:solidFill>
                  <a:srgbClr val="ffffff"/>
                </a:solidFill>
                <a:latin typeface="Bookman Old Style"/>
              </a:rPr>
              <a:t>individualizace, universalismus, decentralizace, úzamní rozptýle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Nová ekonomika = nová ekon.struktura – </a:t>
            </a:r>
            <a:r>
              <a:rPr b="1" lang="sk-SK" sz="2400" spc="-1" strike="noStrike">
                <a:solidFill>
                  <a:srgbClr val="ffffff"/>
                </a:solidFill>
                <a:latin typeface="Bookman Old Style"/>
              </a:rPr>
              <a:t>růst produktivity práce, růst konkurenceschopnosti, nízká inflace, sítě (ne hierarchie), ekon.úspěšnost=vědomosti a informace, globaliz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Představitelé: Atkinson, Tapscott, Thurow, Reich, G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591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6600"/>
                </a:solidFill>
                <a:latin typeface="Arial Black"/>
              </a:rPr>
              <a:t>Postindustriální společnos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„</a:t>
            </a: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Společnost vědění“ 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1" i="1" lang="sk-SK" sz="2000" spc="-1" strike="noStrike">
                <a:solidFill>
                  <a:srgbClr val="ffffff"/>
                </a:solidFill>
                <a:latin typeface="Bookman Old Style"/>
              </a:rPr>
              <a:t>knowledge society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 – </a:t>
            </a:r>
            <a:r>
              <a:rPr b="1" lang="sk-SK" sz="2400" spc="-1" strike="noStrike">
                <a:solidFill>
                  <a:srgbClr val="ffffff"/>
                </a:solidFill>
                <a:latin typeface="Bookman Old Style"/>
              </a:rPr>
              <a:t>výrazná lidská dimen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Základní rysy – </a:t>
            </a:r>
            <a:r>
              <a:rPr b="1" lang="sk-SK" sz="2400" spc="-1" strike="noStrike">
                <a:solidFill>
                  <a:srgbClr val="ffffff"/>
                </a:solidFill>
                <a:latin typeface="Bookman Old Style"/>
              </a:rPr>
              <a:t>know-how, vysoká složitost práce, všechny oblasti společnosti závislé na vědění, infrastruktury druhého řádu, sociální stránka, společnost abstrakt a symbolů, vysoká diverzifikace produkce i distribuce vědění, věda-dominantní postave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6600"/>
                </a:solidFill>
                <a:latin typeface="Arial Black"/>
              </a:rPr>
              <a:t>Kritika nové éry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Bookman Old Style"/>
              </a:rPr>
              <a:t>Konzumní společn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3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„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Ve svém současném (...) stadiu nemá moderní společnost velkou potřebu masové pr</a:t>
            </a:r>
            <a:r>
              <a:rPr b="1" lang="cs-CZ" sz="2000" spc="-1" strike="noStrike">
                <a:solidFill>
                  <a:srgbClr val="ffffff"/>
                </a:solidFill>
                <a:latin typeface="Bookman Old Style"/>
              </a:rPr>
              <a:t>ů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myslové práce a všeobecné branné povinnosti; místo toho potřebuje angažovat své členy jako konzumenty.“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sk-SK" sz="1200" spc="-1" strike="noStrike">
                <a:solidFill>
                  <a:srgbClr val="ffffff"/>
                </a:solidFill>
                <a:latin typeface="Bookman Old Style"/>
              </a:rPr>
              <a:t>Zygmunt Bauman, str. 9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Bookman Old Style"/>
              </a:rPr>
              <a:t>Změna hodnotového systém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Bookman Old Style"/>
              </a:rPr>
              <a:t>Zaměření na humánní stránku (humanistická ekonomi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Bookman Old Style"/>
              </a:rPr>
              <a:t>Ekologické aspek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6600"/>
                </a:solidFill>
                <a:latin typeface="Arial Black"/>
              </a:rPr>
              <a:t>Použitá literatura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man Old Style"/>
              </a:rPr>
              <a:t>BAUER, W.M.  Tyranie blahobytu. Praha: Volvo Globator, 1997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man Old Style"/>
              </a:rPr>
              <a:t>BAUMAN, Z. Globalizace:důsledky pro člověka. Praha : Mladá fronta, 2000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man Old Style"/>
              </a:rPr>
              <a:t>POTŮČEK a kol. Průvodce krajinou priorit pro Českou republiku. Praha: Gutenberg, 2002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man Old Style"/>
              </a:rPr>
              <a:t>SEN, A. Etika a ekonomie. Praha: Vyšehrad,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man Old Style"/>
              </a:rPr>
              <a:t>TOFFLER, A., TOFFLEROVA H. Nová civilizace. Praha: Dokořán,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0:17:28Z</dcterms:created>
  <dc:creator>Beatka_U</dc:creator>
  <dc:description/>
  <dc:language>en-US</dc:language>
  <cp:lastModifiedBy>Beatka_U</cp:lastModifiedBy>
  <dcterms:modified xsi:type="dcterms:W3CDTF">2006-10-16T11:55:47Z</dcterms:modified>
  <cp:revision>3</cp:revision>
  <dc:subject/>
  <dc:title>Vývojové tendencie na prahu postindustriálnej éry</dc:title>
</cp:coreProperties>
</file>