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A9C6-29DD-4BB5-961C-E2EAE7E5819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Outsorcing-Využívání služeb externích pracovníků, zpravidla specialistů nebo jiných podniků, namísto zaměstnávání lidí na plný úvaz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Insourcing-je činnosti opačná, při níž se externí dodávky nahrazují vlastní produkc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mporary help – najímání lidí pouze dočasn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Lidé mají tendenci nazývat outsoursing dvoumožnostním procesem - buď si to uděláte sami nebo si to necháte udělat někým jiný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oto vnímání nebo paradigma ohledně outsoursingu jej redukuje na status krajního rozhodnutí ano-ne mezi zabezpečením kontroly nebo postoupením této kontroly na někoho jiného. Je to právě toto myšlení, které zabraňuje obchodu odzkoušet outsoursing jako legitimní strategii k zajištění obchodních cílů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ísto tohoto pohledu dvou možností, outsoursing by měl být viděn jako dynamický krok s vícero úrovněmi a stupn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Core business – možnost lepšího se soustředění na hlavní činn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Něco není ve schopnostech naší fi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áme nedostatek pracovníků nebo naopak trvale nevyužité zaměstnance v dané obla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Falešní outsourcing – např. ušetřím mzdové náklady, daleko více se zaplatí na subdodávká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izika, která s sebou vyčlenění přináší, mohou snadno převážit jeho přínosy. Zamezit nebo předejít rizikům zcela nelze, ale lze je minimalizovat důsledným přístupem a správným smluvním zajištění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zor na tyto aspek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vše definovat v základním kontrakt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smlouva je nepojmenovaná, proto by měla být detailn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Smlouva musí řešit zamezení úniku informac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Informační nevyváženost outsourcingového vztah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1594-B31E-4556-A4ED-8E1653D57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ED1E-CB6C-4075-B5AF-65A73199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BDD5-98D9-4807-BC7C-72E5E777E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7FE9-A48E-410D-B867-DE1FE0AB5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6432-7C22-49F1-A415-A5C6507E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1D54-40F9-439B-86AC-3AB3C594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9796-1945-44C8-9EE5-D5EB1990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09A6-940E-4221-BEFA-24BCB255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655B-92BB-4FC2-999B-08852179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9799-CBD4-4C74-8ACC-7595F3F3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40AE-3329-415F-8812-31AFED7B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45B1-F37B-4A75-930E-59965130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7305-0835-46CD-BD6B-106B4F96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B711-2D10-462D-B353-1508296E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D6A8-A747-468D-8AF6-7D76049B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80AC-7B0B-422F-B756-D0C245FE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84BE-159A-484E-A9A0-AF5404E58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F5A4-E32E-422D-9422-97329D91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D480-2090-4757-AA6E-CA9343F6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B26E-327F-47F7-932C-1CA2C124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6C94-850F-4BE6-A866-52656936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F3B2-0F2F-4C19-97EE-78540C86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EE4D-CBE9-46D1-B691-2443B40B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FD19-33F0-4030-9E2F-4622117D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BCAD-9BFC-4B96-B8AF-B2AC020A67E1}" type="slidenum">
              <a:rPr b="0" lang="cs-CZ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5563-D1B3-4E1F-9591-2D00D7734776}" type="slidenum">
              <a:rPr b="0" lang="cs-CZ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fosys.com/bpo/services-solutions.asp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80808"/>
                </a:solidFill>
                <a:latin typeface="Tahoma"/>
              </a:rPr>
              <a:t>Outsourcing</a:t>
            </a:r>
            <a:r>
              <a:rPr b="1" lang="cs-CZ" sz="4400" spc="-1" strike="noStrike">
                <a:solidFill>
                  <a:srgbClr val="080808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9280" y="4971600"/>
            <a:ext cx="896472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Beata Brosková, Tomáš Procházka, Hana Matonohová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80808"/>
                </a:solidFill>
                <a:latin typeface="Tahoma"/>
              </a:rPr>
              <a:t>Podstata OUTSOURCINGU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Outsourcing = vyčleňování činností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Insourcing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Temporary help = dočasná pomoc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Rozsah vyčlenění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jedna služba             full servic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4211640" y="3789360"/>
            <a:ext cx="936720" cy="360360"/>
          </a:xfrm>
          <a:prstGeom prst="leftRightArrow">
            <a:avLst>
              <a:gd name="adj1" fmla="val 50000"/>
              <a:gd name="adj2" fmla="val 51747"/>
            </a:avLst>
          </a:prstGeom>
          <a:solidFill>
            <a:srgbClr val="00ff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80808"/>
                </a:solidFill>
                <a:latin typeface="Tahoma"/>
              </a:rPr>
              <a:t>Vývoj OUTSOURCINGU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Počátek v 90. letech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V USA mnohem častěji než v „konzervativní“ Evropě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IT a komunikační technologi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Využití outsourcingu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   </a:t>
            </a: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10% podniků v Č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   </a:t>
            </a: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40% ve světě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Investování stále větších prostředků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80808"/>
                </a:solidFill>
                <a:latin typeface="Tahoma"/>
              </a:rPr>
              <a:t>Proč OUTSOURCING?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Redukce a kontrola nákladů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Core busines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Vnitřně nedostupné zdroj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Uvolnění zdrojů pro další účel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Přístup k prvotřídním technologiím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Pozor na „falešný outsourcing“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80808"/>
                </a:solidFill>
                <a:latin typeface="Tahoma"/>
              </a:rPr>
              <a:t>Rizika OUTSOURCINGU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Selhání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Únik know-how, informací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Narušení ostatních podnikových procesů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Bankrot dodavatel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Nepředpokládané náklady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Ztráta kontroly nad procesem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Nerespektování smlouvy a závazků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Porušení obchodního tajemství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Nízká zkušenost se specifickým typem smluv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80808"/>
                </a:solidFill>
                <a:latin typeface="Tahoma"/>
              </a:rPr>
              <a:t>Možnosti outsourcingu v oblasti lidských zdrojů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Poradenské firm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Personální (recruitment) agentur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Head hunter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Agentury zajišťující sezonní zaměstnance a pracovníky pro vykrytí špiček ve výrobě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80808"/>
                </a:solidFill>
                <a:latin typeface="Tahoma"/>
              </a:rPr>
              <a:t>Případové studi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Nik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Vězení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Infosys BPO </a:t>
            </a:r>
            <a:r>
              <a:rPr b="0" lang="en-US" sz="3200" spc="-1" strike="noStrike" u="sng">
                <a:solidFill>
                  <a:srgbClr val="377b89"/>
                </a:solidFill>
                <a:uFillTx/>
                <a:latin typeface="Tahoma"/>
                <a:hlinkClick r:id="rId2"/>
              </a:rPr>
              <a:t>http://www.infosys.com/bpo/services-solutions.asp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80808"/>
                </a:solidFill>
                <a:latin typeface="Tahoma"/>
              </a:rPr>
              <a:t>Zdroj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DOMBERGER, S.: </a:t>
            </a:r>
            <a:r>
              <a:rPr b="0" i="1" lang="cs-CZ" sz="2400" spc="-1" strike="noStrike">
                <a:solidFill>
                  <a:srgbClr val="080808"/>
                </a:solidFill>
                <a:latin typeface="Tahoma"/>
              </a:rPr>
              <a:t>The contracting organization</a:t>
            </a: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. New York: Oxford, 1998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SEQUENSOVÁ, H. a kol.: </a:t>
            </a:r>
            <a:r>
              <a:rPr b="0" i="1" lang="cs-CZ" sz="2400" spc="-1" strike="noStrike">
                <a:solidFill>
                  <a:srgbClr val="080808"/>
                </a:solidFill>
                <a:latin typeface="Tahoma"/>
              </a:rPr>
              <a:t>Lidské zdroje? </a:t>
            </a: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Praha: Question marks, 2005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STÝBLO, J.: </a:t>
            </a:r>
            <a:r>
              <a:rPr b="0" i="1" lang="cs-CZ" sz="2400" spc="-1" strike="noStrike">
                <a:solidFill>
                  <a:srgbClr val="080808"/>
                </a:solidFill>
                <a:latin typeface="Tahoma"/>
              </a:rPr>
              <a:t>Outsourcing a outplacement.</a:t>
            </a: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 Praha: ASPI, 2005. ISBN 80-7357-094-7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/online/ </a:t>
            </a:r>
            <a:r>
              <a:rPr b="0" i="1" lang="cs-CZ" sz="2400" spc="-1" strike="noStrike">
                <a:solidFill>
                  <a:srgbClr val="080808"/>
                </a:solidFill>
                <a:latin typeface="Tahoma"/>
              </a:rPr>
              <a:t>Proč outsourcing? </a:t>
            </a: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Dostupné z:http://www.start.cz/index.php?pid=213&amp;lang=cz4.11.2006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7T01:05:15Z</dcterms:created>
  <dc:creator/>
  <dc:description/>
  <dc:language>en-US</dc:language>
  <cp:lastModifiedBy>Hana Hečková</cp:lastModifiedBy>
  <dcterms:modified xsi:type="dcterms:W3CDTF">2006-11-05T17:07:04Z</dcterms:modified>
  <cp:revision>53</cp:revision>
  <dc:subject/>
  <dc:title>Outsourc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29</vt:lpwstr>
  </property>
</Properties>
</file>