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F7E8-E2E6-4380-8BC5-48D916A6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6532-1472-4FDF-A471-A0FAD80C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A9FD-FC46-4BBF-8594-585D2043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4822-9CB0-4E0F-B878-6EEB44ADF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7551-AFBE-4973-915A-9C9B44C4A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FF96-14C6-4D44-ADBB-AEE5C5A2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C26B-C4B5-40DF-9583-0BC56D86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0428-AE27-4898-9D11-762E9DE6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071A-6A96-4655-B941-D3931AF6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8824-EC06-43DB-9E21-29C7AC49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24CC-5FDF-46DA-B4DE-65984B07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BB85-6E38-4473-80DE-D45C82C3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62E8-350C-406F-88B3-9986DEE5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3475-EB32-404E-991D-1E3BFC99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E165-9205-475E-9234-34194FC1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82E4-F90C-4021-8B32-CC7A4A3DE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2AD2-2170-47C0-8431-B363A02D9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8731-4B88-44A6-B871-ADDDBBD8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ABB0-F8A7-4126-8B3F-DD18A58A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23A7-5320-4DBF-A5D6-BD1E0C04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BC3E-7226-4709-AAED-CDFEA653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33EF-4CD9-47DC-AB8A-99070D70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7CEC-BCDB-422D-B32E-4F72E33F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BD27-964B-4634-993C-973840E6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6529-1EC2-43FC-89B0-12DA7F7ABA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997D-F89C-49E3-8C7B-42353302AC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Řízení změny ve firmě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REENGINEERING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3703320"/>
            <a:ext cx="3809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m Kotl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vla Lišk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ek Výt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4858920"/>
            <a:ext cx="38098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11.20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řed změnou:      Po změně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-30 dnů na vyřízení žád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zdové náklady       88 milionů US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3 předání,                27 systém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dny na vyřízení žád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zdové náklady klesly na 6 milionů US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ákazník si sám mohl svoje požadavky vyřídit skrz systé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teratur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iloš Drdla, Karel R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Řízení změn ve firmě – reengine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ichael Hammer, James Champy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adikální proměna firmy – manifest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voluce v podnik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DĚKUJEM ZA POZORNOST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řehl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edpoklady, faktory a příčiny změn ve společ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ůběh procesu řízené změ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padová studie – Bell Atlantic Cor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oncepce „7S“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egie fir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uktura fir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é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yl říze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olupracovní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dílené hodnoty firmy=kul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op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vádění změn ve firmě závisí na určitých faktorech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lasifikace rozhodovacích problém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zik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verzifik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užnost fir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ískávání dodatečných informac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říčiny změn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lobalizace prostřed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měny pracovního prostřed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orální zastarávání výrobk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voj nových technologi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Urychlení socioekonomických proces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stoucí síla zákazní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ředpoklady zahájení procesu řízené změn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nalost dané problematiky a dané společ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lze změnit pouze jeden element a ostatní ponecha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dé budou rezistentní vůči vlivů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měna chování lidí je dlouhodobý pro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měny vyvolávají st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icipace na změná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áze procesu řízené změn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egická analý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ýza silového p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ytvoření mode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kace agenta změ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kace intervenčních oblast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vence vlastní změ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ifikace dosažených výsledk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řípadová studie</a:t>
            </a:r>
            <a:br>
              <a:rPr sz="4400"/>
            </a:b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ell Atlantic Corp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iladelphie U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lekomunik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álkový přenos dat                                 20% obratu, 50% zisk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polistické nekonkurenční prostřed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příliš velký důraz na kvali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alýza pracovních proces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malý a drahý proces vyřízení žád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ýrazné možnosti zkrácení doby na vyřízení a snížení náklad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 prakticky obratem poskytnout zákazníkovi požadované služb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ušet nový proces a provádět libovolné změny v pracovních metodách a procedurác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5:06:01Z</dcterms:created>
  <dc:creator>kluci</dc:creator>
  <dc:description/>
  <dc:language>en-US</dc:language>
  <cp:lastModifiedBy>Ilona Lišková</cp:lastModifiedBy>
  <dcterms:modified xsi:type="dcterms:W3CDTF">2006-11-05T20:40:46Z</dcterms:modified>
  <cp:revision>8</cp:revision>
  <dc:subject/>
  <dc:title>Prezentace aplikace PowerPoint</dc:title>
</cp:coreProperties>
</file>