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73A-91AC-4A8A-94E9-58F4C003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DAA-B83E-4C03-B7C8-7FDE58D5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34B-3371-485B-998E-AE5AC8B7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AD3-0527-49FA-BAA2-D9863EC0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70B-12D3-44F5-A571-1E3668B0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43D-492C-46C6-943F-2A7683C4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0C4-9952-4188-AC55-6A093949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8CE-F2B5-4F31-986A-44568668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369-EC35-463A-9CBF-1244466E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958-F622-4C86-9C1D-ADE04A18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B2B-014B-47A5-8FDA-8FBC056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78B-1D30-41D4-815D-56FA83B9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8319-CD26-4EA0-9E13-9BF6D31BA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lobal.kyocera.com/index.html" TargetMode="External"/><Relationship Id="rId2" Type="http://schemas.openxmlformats.org/officeDocument/2006/relationships/hyperlink" Target="http://www.kyocera.cz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endy ve struktuře organizací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MÉ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54864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avla Slez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etr Goliá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.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 stěžejní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stře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OZO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re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ÉB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KONTROLNÍCH  MECHANIZ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US spol. s r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zce a distributor produktů KYOCERA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ozofie manage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se zákaz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ot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na zaměstnance odpovídají kritériím mateřské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LÝ, M., 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A, J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 architektur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ah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Victoria Publishing, 1996. ISBN 80-7187-064-1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EK, M. a kol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niková ekonomik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ha: C. H. Beck, 2002. ISBN 80-7179-736-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YOCERA GLOB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lobal.kyocera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NUS spol. s r.o. – webov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yocera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ÉBA – odvození náz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éba (~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ň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ka) pa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 do skupiny jednobu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které se pohybují pros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nictvím neustál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varu“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; obdobný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incipe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jímá potrav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ve byla nazývána „Prote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malcule“ podl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ha, který dokázal 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vou podobu. Jméno amé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lo 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o poprvé 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. Vincentem, který j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vodil z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výrazu „amoibe“ = 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moeba proteus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ční struktura AMÉBA - zař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BA         PODNIKATELSKÉ SÍŤ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VOJOVÉ TRENDY VE STRUKTU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ém améba je zal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ý na autonomii jednotlivých vnitropodnikových bu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 – améb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teré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e 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jí d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 ty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produkce – produkcí 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ho jiného 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ama se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ky, slu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produkcí sebe sa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generací výrobního procesu, dovedností a znalost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621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6212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ně vázaná organizační struktura - AMÉ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362320"/>
            <a:ext cx="2895480" cy="2361960"/>
          </a:xfrm>
          <a:prstGeom prst="ellipse">
            <a:avLst/>
          </a:prstGeom>
          <a:solidFill>
            <a:srgbClr val="e81a04"/>
          </a:solidFill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124080"/>
            <a:ext cx="83808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20040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339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648320"/>
            <a:ext cx="1218960" cy="380880"/>
          </a:xfrm>
          <a:prstGeom prst="line">
            <a:avLst/>
          </a:prstGeom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63080" y="3925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63800" y="47642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a04"/>
                </a:solidFill>
                <a:latin typeface="Arial"/>
              </a:rPr>
              <a:t>top-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4190760"/>
            <a:ext cx="762120" cy="685800"/>
          </a:xfrm>
          <a:prstGeom prst="line">
            <a:avLst/>
          </a:prstGeom>
          <a:ln w="38160">
            <a:solidFill>
              <a:srgbClr val="e81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800600"/>
            <a:ext cx="838440" cy="76212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5333760"/>
            <a:ext cx="30492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520" y="5409720"/>
            <a:ext cx="22860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486400"/>
            <a:ext cx="60984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5486400"/>
            <a:ext cx="60948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971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2819520"/>
            <a:ext cx="609840" cy="30456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2057400"/>
            <a:ext cx="228600" cy="38088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743200" y="2666520"/>
            <a:ext cx="533520" cy="30492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752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1752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447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666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86728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5160" y="58672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809880"/>
            <a:ext cx="14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g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stu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3640" y="5486400"/>
            <a:ext cx="47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robní jedno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120 zaměstnanců (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50 zaměstnanců (Japon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pektovat Boha a milovat lid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76720" y="3429000"/>
          <a:ext cx="255276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429000"/>
                    <a:ext cx="25527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894760" y="25146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korpo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základní údaj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4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zev: KYOCERA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ložil: Kauzuo Inamori v roc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ezident korporace: Makoto Kawam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066680" cy="1390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10800000">
            <a:off x="4572000" y="1530360"/>
            <a:ext cx="763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1073160" cy="12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údaje - 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200" y="1563840"/>
          <a:ext cx="503100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563840"/>
                    <a:ext cx="503100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435640" y="1557360"/>
            <a:ext cx="332748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ál společnosti: 115,703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at: 1,181,489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: 69,696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čet zaměstnanců: 51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chodní značka KYOCERA Cor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značka se skládá ze symbolu a loga korpo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mbol zobrazuje písmeno „K“ (jako „Kyocera“), které lemuje písmeno „C“ (jako „keramika“ = „ceramics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představena v roce 1982, kdy bylo jméno korporace změněno z „Kyoto Ceramic“ na „Kyocer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497400" cy="80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jetí znač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ektování univerzálních princi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ustálá snaha o doko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nové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álým usilováním o dokonalost, v souladu s univerzálními principy, vytváří Kyocera novou hodnotu pro společnost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edině v přední linii lze uskutečňovat heslo „vytváření nové hodnoty“ formou nových technologií a nových produktů na nových trzích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8:45:46Z</dcterms:created>
  <dc:creator>CIKT</dc:creator>
  <dc:description/>
  <dc:language>en-US</dc:language>
  <cp:lastModifiedBy>OEM</cp:lastModifiedBy>
  <dcterms:modified xsi:type="dcterms:W3CDTF">2006-11-05T18:14:07Z</dcterms:modified>
  <cp:revision>11</cp:revision>
  <dc:subject/>
  <dc:title>Snímek 1</dc:title>
</cp:coreProperties>
</file>