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554F-6865-41DE-BE09-6D9EE51F8AF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Outsorcing-Využívání služeb externích pracovníků, zpravidla specialistů nebo jiných podniků, namísto zaměstnávání lidí na plný úvaz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Insourcing-je činnosti opačná, při níž se externí dodávky nahrazují vlastní produkc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mporary help – najímání lidí pouze dočasn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Lidé mají tendenci nazývat outsoursing dvoumožnostním procesem - buď si to uděláte sami nebo si to necháte udělat někým jiný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oto vnímání nebo paradigma ohledně outsoursingu jej redukuje na status krajního rozhodnutí ano-ne mezi zabezpečením kontroly nebo postoupením této kontroly na někoho jiného. Je to právě toto myšlení, které zabraňuje obchodu odzkoušet outsoursing jako legitimní strategii k zajištění obchodních cílů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ísto tohoto pohledu dvou možností, outsoursing by měl být viděn jako dynamický krok s vícero úrovněmi a stupn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Core business – možnost lepšího se soustředění na hlavní čin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Něco není ve schopnostech naší fi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áme nedostatek pracovníků nebo naopak trvale nevyužité zaměstnance v dané obla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Falešní outsourcing – např. ušetřím mzdové náklady, daleko více se zaplatí na subdodávká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izika, která s sebou vyčlenění přináší, mohou snadno převážit jeho přínosy. Zamezit nebo předejít rizikům zcela nelze, ale lze je minimalizovat důsledným přístupem a správným smluvním zajištění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zor na tyto aspek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vše definovat v základním kontrak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smlouva je nepojmenovaná, proto by měla být detail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mlouva musí řešit zamezení úniku informac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Informační nevyváženost outsourcingového vzta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A72-01F9-4505-B51D-4755CBD2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4E3-A977-412D-A40E-DD357145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8EFE-8D62-470B-929B-3C4D400D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D24E-BB08-4FA6-962D-36E8AA0F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43BA-A4A3-454D-9E3D-C87ED136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1223-D280-4669-9F2A-F4A05A08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20C8-FB12-4F66-9626-EBDA2141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27A8-1FF5-417E-BEBF-681A3E81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E0A9-B9C6-4EF8-B22D-CE3EB080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2999-1320-49C5-A1CA-C739881D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1B18-C847-43E7-A78B-95215582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125-891C-483B-B0A2-F222C538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05B8-0FC0-4D87-B478-F529E532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7FE5-FCB0-4E4F-B340-E9C3189D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718B-C2E5-4765-98FE-58D3A646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A993-BCE3-43B2-AD38-3ACA27B8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755A-AA18-4298-824C-B41BD81A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67D-B6D8-4FCB-AB84-9C40D0B4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457D-5CEA-4001-8627-8D6C3350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65E6-0C5A-4F94-8CEB-776A5ED0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15D-32A3-462B-8D5E-E84530EF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9A9-BF7B-4ED2-9307-55D7AE4D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A72-DAF8-4563-ABC0-8A418385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014-5B66-46BF-88B4-809A92C3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7882-0508-4BE3-8F81-EDF27EC3D19F}" type="slidenum"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2508-9D67-400E-8202-1C338FC7DF06}" type="slidenum"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sys.com/bpo/services-solutions.asp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80808"/>
                </a:solidFill>
                <a:latin typeface="Tahoma"/>
              </a:rPr>
              <a:t>Outsourcing</a:t>
            </a:r>
            <a:r>
              <a:rPr b="1" lang="cs-CZ" sz="44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9280" y="4971600"/>
            <a:ext cx="89647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Beata Brosková, Tomáš Procházka, Hana Matonohová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Podstata OUTSOURCINGU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Outsourcing = vyčleňování činností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nsourcing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Temporary help = dočasná pomoc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Rozsah vyčlenění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jedna služba             full servic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3789360"/>
            <a:ext cx="936720" cy="360360"/>
          </a:xfrm>
          <a:prstGeom prst="leftRightArrow">
            <a:avLst>
              <a:gd name="adj1" fmla="val 50000"/>
              <a:gd name="adj2" fmla="val 51747"/>
            </a:avLst>
          </a:prstGeom>
          <a:solidFill>
            <a:srgbClr val="00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Vývoj OUTSOURCINGU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očátek v 90. letec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 USA mnohem častěji než v „konzervativní“ Evropě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T a komunikační technologi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yužití outsourcingu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10% podniků v Č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40% ve světě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nvestování stále větších prostředků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Proč OUTSOURCING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Redukce a kontrola nákladů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Core busines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nitřně nedostupné zdroj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Uvolnění zdrojů pro další účel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řístup k prvotřídním technologií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ozor na „falešný outsourcing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Rizika OUTSOURCINGU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Selhání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Únik know-how, informací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arušení ostatních podnikových procesů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Bankrot dodavatel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epředpokládané náklad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Ztráta kontroly nad procesem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erespektování smlouvy a závazků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Porušení obchodního tajemství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ízká zkušenost se specifickým typem smluv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80808"/>
                </a:solidFill>
                <a:latin typeface="Tahoma"/>
              </a:rPr>
              <a:t>Možnosti outsourcingu v oblasti lidských zdrojů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oradenské firm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ersonální (recruitment) agentur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Head hunter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Agentury zajišťující sezonní zaměstnance a pracovníky pro vykrytí špiček ve výrobě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Případové studi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Nik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ězení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nfosys BPO </a:t>
            </a:r>
            <a:r>
              <a:rPr b="0" lang="en-US" sz="3200" spc="-1" strike="noStrike" u="sng">
                <a:solidFill>
                  <a:srgbClr val="377b89"/>
                </a:solidFill>
                <a:uFillTx/>
                <a:latin typeface="Tahoma"/>
                <a:hlinkClick r:id="rId2"/>
              </a:rPr>
              <a:t>http://www.infosys.com/bpo/services-solutions.as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DOMBERGER, S.: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The contracting organization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. New York: Oxford, 1998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SEQUENSOVÁ, H. a kol.: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Lidské zdroje? 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Praha: Question marks, 2005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STÝBLO, J.: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Outsourcing a outplacement.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 Praha: ASPI, 2005. ISBN 80-7357-094-7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/online/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Proč outsourcing? 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Dostupné z:http://www.start.cz/index.php?pid=213&amp;lang=cz4.11.2006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01:05:15Z</dcterms:created>
  <dc:creator/>
  <dc:description/>
  <dc:language>en-US</dc:language>
  <cp:lastModifiedBy>Hana Hečková</cp:lastModifiedBy>
  <dcterms:modified xsi:type="dcterms:W3CDTF">2006-11-05T17:07:04Z</dcterms:modified>
  <cp:revision>53</cp:revision>
  <dc:subject/>
  <dc:title>Outsourc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29</vt:lpwstr>
  </property>
</Properties>
</file>