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026-5476-4155-8F25-ACDE933B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FE7-6ADF-47B3-9515-EEB71338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C73-CEB7-4879-A317-8ED88080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2BC-0BB0-478E-A3F4-D6802A0E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2504-CC72-427F-8502-63F3649E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038E-77C9-4229-9AB4-47417DEB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B149-7CD7-4789-A85D-D2DD1D3F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F270-351C-4F4D-8CCD-58131BFC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8185-41BA-42D2-9FE3-FC2B461C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195C-00A4-4FDC-84A9-966FEB22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C43F-43E7-4806-9556-6935071F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3B2-F4E9-4381-956F-FB8627BD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D2C4-0DC6-4921-A7D7-886F474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DAA8-016B-44CE-AD9E-67F0221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2715-DBD9-4760-A202-5CE4A5AF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F226-3086-4745-8A8B-2A0E5C5D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BF4A-9498-490D-A23B-76F23D59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D0A-460C-417D-AB32-AA97B04F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588-22E8-46B4-A097-81058900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28D-E84D-41F8-B40E-387FB7F1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32D-87C9-4547-8110-C59C8508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D04-1013-4846-A400-45A430A0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C23-B0A2-45E6-83E0-B7AAA4A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47F-7DE7-4068-A911-FE789B44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01AA-7E99-4A28-9C84-4FCC659DB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5BDA-924A-4721-8FCD-78523A7B2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Řízení změny ve firmě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EENGINEERING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11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 změnou:      Po změně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30 dnů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      88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 předání,                27 systé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dny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klesly na 6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ákazník si sám mohl svoje požadavky vyřídit skrz systé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loš Drdla, Karel 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Řízení změn ve firmě – re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chael Hammer, James Champy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dikální proměna firmy – manifest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voluce v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DĚKUJEM ZA POZORNOST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h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poklady, faktory a příčiny změn ve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běh procesu řízené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padová studie – Bell Atlantic Cor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ncepce „7S“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ktura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 říz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lupracovní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ílené hodnoty firmy=kul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p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vádění změn ve firmě závisí na určitých faktorech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lasifikace rozhodovacích problé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zif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užnost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ískávání dodateč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íčiny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lobalizace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měny pracovního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rální zastarávání výrob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voj nových technolog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rychlení socioekonomických proces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oucí síla zákazní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poklady zahájení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nalost dané problematiky a dané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lze změnit pouze jeden element a ostatní ponech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dé budou rezistentní vůči vliv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a chování lidí je dlouhodobý pro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y vyvolávají st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ce na změn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áze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cká analý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ýza silového p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tvoření mode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agenta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intervenčních oblas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ce vlastní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kace dosažených výsled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ípadová studie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ell Atlantic Corp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adelphie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álkový přenos dat                                 20% obratu, 50% zisk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polistické nekonkurenční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říliš velký důraz na kv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ýza pracovních proces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malý a drahý proces vyřízení žád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ýrazné možnosti zkrácení doby na vyřízení a snížení náklad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 prakticky obratem poskytnout zákazníkovi požadované služb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ušet nový proces a provádět libovolné změny v pracovních metodách a procedurá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Ilona Lišková</cp:lastModifiedBy>
  <dcterms:modified xsi:type="dcterms:W3CDTF">2006-11-05T20:40:46Z</dcterms:modified>
  <cp:revision>8</cp:revision>
  <dc:subject/>
  <dc:title>Prezentace aplikace PowerPoint</dc:title>
</cp:coreProperties>
</file>