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374B-E247-4007-90B2-07D26DF1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A1EA-5C5B-46ED-A2A3-D395AC2F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C0EE-866B-4D4A-A261-5998EA13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8824-5169-4F71-B511-64305C0D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210E-BD08-481A-8952-EECF79C5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B5D1-4E85-46B7-9532-3DE0CAB9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1EC3-1B6B-4F2E-9ECB-C8F2385C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EFDE-A1C1-40F8-BE95-73698788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4335-6000-45B7-A761-F34C2EB8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8BC6-A001-4974-9B68-9F41B4A6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C7B7-3197-4AD1-8E07-754417EE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A13B-05EF-48D5-9626-EDEB5E1B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6D5D-EB42-4F2E-AD96-360F104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C49E-BA94-4DEB-9C43-3A39111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D5B3-B897-443B-8260-5176434A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3A0B-2207-4B1A-A46F-0790F929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1AEB-0BCA-42EF-ADF9-5FFC9E6D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8467-147E-4BAE-B1A3-D502FBB6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00CB-EC50-471A-910C-BD21AB9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B177-765B-4EB5-A9A2-86325105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ED4F-F14B-4EED-83C6-EA234491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E2A7-DF31-4932-A638-AAF55C6D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61ED-A04F-4525-8F80-5265DB9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EEFD-96C8-4E5D-A113-A0ED7E1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6F54-F489-46C9-AE90-9B3C69E2D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31C1-91D6-4AA7-9BA1-EBB3541F7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ývoj podniků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Tým č. 7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rtin Simers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Suchá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Tomáš Vobec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6.11.200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managemen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ptylování akciového kapitálu mezi velký počet drobných vlast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nost oddělení vlastnictví a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 řízení přechod od vlastníků k manažer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rská revol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álečné obdob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znamný růst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vorba kartelů, monopolistických koncer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esun moci z rukou vlastníků do rukou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vlivu stá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álně řízené ekonomik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720" y="1844280"/>
            <a:ext cx="49672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inantní působení státu na hospodářstv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lké státní podn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ídící pracovní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46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onec samorostlých „kapitánů průmyslu“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598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žer profesioná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žné výrobní systé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malých fir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obaliz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věrečné dekády 20. stole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ří nadnárodní společ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4 světové produk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3 světového obcho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Motors, Microsoft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ýhody nadnárodní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kurenční výh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tik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izont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ístní podmín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valifikace pracovní sí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áklady na suroviny, materiál,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Úroveň infrastruk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íra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4376880" y="3139920"/>
            <a:ext cx="39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iteratura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ameron, R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tručné ekonomické dějiny světa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Victoria Publishing, 199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Lipovetsky, G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oumrak povinnosti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Dílo národů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Vize 97, 200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čátky hospodářstv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výroby a spotře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éměř žádná změ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vní kroky kupřed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átek industriální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začíná dominov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usta firem s nepatrným podí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žní cena byla objektivní veličin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ilování poz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tituce práce kapitá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silných – zánik neúspěšný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ůmyslová revolu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6202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dstatné zvyšování efektiv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ní stroj a elektř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dopravy – železn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komunikace - telegra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kturální změ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ční nároky nad možnosti individuálních podnikate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lší koncentrace kapitálu – více vlastní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igopolní struktur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pochybnění celkové konku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ůsledek koncentrace podnik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naha vlád o omezování moci společnos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ijetí Shermanova protitrustového zákona – zákaz dohod o cenách a rozdělení tr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aproduktiv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obrovských korpora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ení oligopo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doba trh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ždé odvětví 2-3 gigantické korpo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čují mzdy a c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druhé straně stály statisíce malých podniků, které vyplňovaly mezeru na trhu se zbožím, které se nevyplácelo produkovat ve velké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ůst obliby akciový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3716280"/>
            <a:ext cx="78598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cie – velmi likvidní a výnosná forma jmě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drobných akcionářů – vznik „kvaziveřejných“ společnost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79640" y="2204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akciového trhu a burzy cenných papí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9744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07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07:50Z</dcterms:created>
  <dc:creator>Eva</dc:creator>
  <dc:description/>
  <dc:language>en-US</dc:language>
  <cp:lastModifiedBy>Eva</cp:lastModifiedBy>
  <dcterms:modified xsi:type="dcterms:W3CDTF">2006-11-05T18:10:51Z</dcterms:modified>
  <cp:revision>24</cp:revision>
  <dc:subject/>
  <dc:title>Vývoj podniků</dc:title>
</cp:coreProperties>
</file>