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84FB-EDC9-422F-895A-C47E22748AF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Outsorcing-Využívání služeb externích pracovníků, zpravidla specialistů nebo jiných podniků, namísto zaměstnávání lidí na plný úvaz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Insourcing-je činnosti opačná, při níž se externí dodávky nahrazují vlastní produkc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mporary help – najímání lidí pouze dočasn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Lidé mají tendenci nazývat outsoursing dvoumožnostním procesem - buď si to uděláte sami nebo si to necháte udělat někým jiný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oto vnímání nebo paradigma ohledně outsoursingu jej redukuje na status krajního rozhodnutí ano-ne mezi zabezpečením kontroly nebo postoupením této kontroly na někoho jiného. Je to právě toto myšlení, které zabraňuje obchodu odzkoušet outsoursing jako legitimní strategii k zajištění obchodních cílů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ísto tohoto pohledu dvou možností, outsoursing by měl být viděn jako dynamický krok s vícero úrovněmi a stupn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Core business – možnost lepšího se soustředění na hlavní činn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Něco není ve schopnostech naší fir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áme nedostatek pracovníků nebo naopak trvale nevyužité zaměstnance v dané oblas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Falešní outsourcing – např. ušetřím mzdové náklady, daleko více se zaplatí na subdodávká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izika, která s sebou vyčlenění přináší, mohou snadno převážit jeho přínosy. Zamezit nebo předejít rizikům zcela nelze, ale lze je minimalizovat důsledným přístupem a správným smluvním zajištění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zor na tyto aspek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vše definovat v základním kontrakt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smlouva je nepojmenovaná, proto by měla být detailn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Smlouva musí řešit zamezení úniku informac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Informační nevyváženost outsourcingového vztah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240D-6118-4D99-975A-75CA3938A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C6E7-2EDA-4FD9-86DB-F20A0972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D599-CA0B-4E20-AD73-18332BF3B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1428-4EFD-4322-AEE4-7EE9DBEBD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0274-3A67-4369-B578-3E09D237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A253-5941-487F-AEC7-DFF42366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DCBF-D11F-4E44-A28B-12CB5A57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C5BC-2E87-49AB-9B44-F4FA353A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CD5D-D1FE-4C6C-AD75-358D7791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2B92-36B8-4B40-9FCD-60F63629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DCBA-EC42-410F-9BB3-9EFEC517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7180-8E24-4CB1-91FC-14B62478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1FF4-4162-44C2-93F2-1CC591C6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1CBE-F5E3-46F2-8E77-A4317167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FDED-9AD4-46A5-AC49-4B9D1D19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7AB7-0D70-454A-B947-A841BB255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EB36-772A-47D4-A789-DF6D647EF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3FA7-2B30-4F2D-9C53-B02B76DA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C7A1-F4C6-40DF-B302-22A9C4DF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1668-86DA-4194-8556-C82BFFA6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881E-E017-4B5A-A2E3-EDB48BE6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FE6F-14AD-4D29-B2EF-1D7E1891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DF2F-58A5-4697-81D8-2CDFA1DE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06CE-4CA7-4670-80B5-075645BD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66B0-8013-4946-9790-EF105DA68BF8}" type="slidenum">
              <a:rPr b="0" lang="cs-CZ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7671-227A-4D6D-B6A1-A3FB4C37B863}" type="slidenum">
              <a:rPr b="0" lang="cs-CZ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nfosys.com/bpo/services-solutions.asp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80808"/>
                </a:solidFill>
                <a:latin typeface="Tahoma"/>
              </a:rPr>
              <a:t>Outsourcing</a:t>
            </a:r>
            <a:r>
              <a:rPr b="1" lang="cs-CZ" sz="4400" spc="-1" strike="noStrike">
                <a:solidFill>
                  <a:srgbClr val="080808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9280" y="4971600"/>
            <a:ext cx="896472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Beata Brosková, Tomáš Procházka, Hana Matonohová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80808"/>
                </a:solidFill>
                <a:latin typeface="Tahoma"/>
              </a:rPr>
              <a:t>Podstata OUTSOURCINGU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Outsourcing = vyčleňování činností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Insourcing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Temporary help = dočasná pomoc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Rozsah vyčlenění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jedna služba             full servic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4211640" y="3789360"/>
            <a:ext cx="936720" cy="360360"/>
          </a:xfrm>
          <a:prstGeom prst="leftRightArrow">
            <a:avLst>
              <a:gd name="adj1" fmla="val 50000"/>
              <a:gd name="adj2" fmla="val 51747"/>
            </a:avLst>
          </a:prstGeom>
          <a:solidFill>
            <a:srgbClr val="00ff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80808"/>
                </a:solidFill>
                <a:latin typeface="Tahoma"/>
              </a:rPr>
              <a:t>Vývoj OUTSOURCINGU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Počátek v 90. letech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V USA mnohem častěji než v „konzervativní“ Evropě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IT a komunikační technologi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Využití outsourcingu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   </a:t>
            </a: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10% podniků v Č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   </a:t>
            </a: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40% ve světě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Investování stále větších prostředků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80808"/>
                </a:solidFill>
                <a:latin typeface="Tahoma"/>
              </a:rPr>
              <a:t>Proč OUTSOURCING?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Redukce a kontrola nákladů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Core busines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Vnitřně nedostupné zdroj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Uvolnění zdrojů pro další účely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Přístup k prvotřídním technologiím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Pozor na „falešný outsourcing“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80808"/>
                </a:solidFill>
                <a:latin typeface="Tahoma"/>
              </a:rPr>
              <a:t>Rizika OUTSOURCINGU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Selhání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Únik know-how, informací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Narušení ostatních podnikových procesů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Bankrot dodavatel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Nepředpokládané náklady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Ztráta kontroly nad procesem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Nerespektování smlouvy a závazků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Porušení obchodního tajemství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Nízká zkušenost se specifickým typem smluv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80808"/>
                </a:solidFill>
                <a:latin typeface="Tahoma"/>
              </a:rPr>
              <a:t>Možnosti outsourcingu v oblasti lidských zdrojů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Poradenské firmy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Personální (recruitment) agentury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Head hunter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Agentury zajišťující sezonní zaměstnance a pracovníky pro vykrytí špiček ve výrobě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80808"/>
                </a:solidFill>
                <a:latin typeface="Tahoma"/>
              </a:rPr>
              <a:t>Případové studi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Nik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Vězení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Infosys BPO </a:t>
            </a:r>
            <a:r>
              <a:rPr b="0" lang="en-US" sz="3200" spc="-1" strike="noStrike" u="sng">
                <a:solidFill>
                  <a:srgbClr val="377b89"/>
                </a:solidFill>
                <a:uFillTx/>
                <a:latin typeface="Tahoma"/>
                <a:hlinkClick r:id="rId2"/>
              </a:rPr>
              <a:t>http://www.infosys.com/bpo/services-solutions.asp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80808"/>
                </a:solidFill>
                <a:latin typeface="Tahoma"/>
              </a:rPr>
              <a:t>Zdroj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80808"/>
                </a:solidFill>
                <a:latin typeface="Tahoma"/>
              </a:rPr>
              <a:t>DOMBERGER, S.: </a:t>
            </a:r>
            <a:r>
              <a:rPr b="0" i="1" lang="cs-CZ" sz="2400" spc="-1" strike="noStrike">
                <a:solidFill>
                  <a:srgbClr val="080808"/>
                </a:solidFill>
                <a:latin typeface="Tahoma"/>
              </a:rPr>
              <a:t>The contracting organization</a:t>
            </a:r>
            <a:r>
              <a:rPr b="0" lang="cs-CZ" sz="2400" spc="-1" strike="noStrike">
                <a:solidFill>
                  <a:srgbClr val="080808"/>
                </a:solidFill>
                <a:latin typeface="Tahoma"/>
              </a:rPr>
              <a:t>. New York: Oxford, 1998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80808"/>
                </a:solidFill>
                <a:latin typeface="Tahoma"/>
              </a:rPr>
              <a:t>SEQUENSOVÁ, H. a kol.: </a:t>
            </a:r>
            <a:r>
              <a:rPr b="0" i="1" lang="cs-CZ" sz="2400" spc="-1" strike="noStrike">
                <a:solidFill>
                  <a:srgbClr val="080808"/>
                </a:solidFill>
                <a:latin typeface="Tahoma"/>
              </a:rPr>
              <a:t>Lidské zdroje? </a:t>
            </a:r>
            <a:r>
              <a:rPr b="0" lang="cs-CZ" sz="2400" spc="-1" strike="noStrike">
                <a:solidFill>
                  <a:srgbClr val="080808"/>
                </a:solidFill>
                <a:latin typeface="Tahoma"/>
              </a:rPr>
              <a:t>Praha: Question marks, 2005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80808"/>
                </a:solidFill>
                <a:latin typeface="Tahoma"/>
              </a:rPr>
              <a:t>STÝBLO, J.: </a:t>
            </a:r>
            <a:r>
              <a:rPr b="0" i="1" lang="cs-CZ" sz="2400" spc="-1" strike="noStrike">
                <a:solidFill>
                  <a:srgbClr val="080808"/>
                </a:solidFill>
                <a:latin typeface="Tahoma"/>
              </a:rPr>
              <a:t>Outsourcing a outplacement.</a:t>
            </a:r>
            <a:r>
              <a:rPr b="0" lang="cs-CZ" sz="2400" spc="-1" strike="noStrike">
                <a:solidFill>
                  <a:srgbClr val="080808"/>
                </a:solidFill>
                <a:latin typeface="Tahoma"/>
              </a:rPr>
              <a:t> Praha: ASPI, 2005. ISBN 80-7357-094-7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80808"/>
                </a:solidFill>
                <a:latin typeface="Tahoma"/>
              </a:rPr>
              <a:t>/online/ </a:t>
            </a:r>
            <a:r>
              <a:rPr b="0" i="1" lang="cs-CZ" sz="2400" spc="-1" strike="noStrike">
                <a:solidFill>
                  <a:srgbClr val="080808"/>
                </a:solidFill>
                <a:latin typeface="Tahoma"/>
              </a:rPr>
              <a:t>Proč outsourcing? </a:t>
            </a:r>
            <a:r>
              <a:rPr b="0" lang="cs-CZ" sz="2400" spc="-1" strike="noStrike">
                <a:solidFill>
                  <a:srgbClr val="080808"/>
                </a:solidFill>
                <a:latin typeface="Tahoma"/>
              </a:rPr>
              <a:t>Dostupné z:http://www.start.cz/index.php?pid=213&amp;lang=cz4.11.2006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7T01:05:15Z</dcterms:created>
  <dc:creator/>
  <dc:description/>
  <dc:language>en-US</dc:language>
  <cp:lastModifiedBy>Hana Hečková</cp:lastModifiedBy>
  <dcterms:modified xsi:type="dcterms:W3CDTF">2006-11-05T17:07:04Z</dcterms:modified>
  <cp:revision>53</cp:revision>
  <dc:subject/>
  <dc:title>Outsourc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41029</vt:lpwstr>
  </property>
</Properties>
</file>