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64BCE-20CC-4200-82EF-6ADB2696F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80990-E087-4F88-B376-BE7EAC87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4B42B-7655-4CAD-BFC0-83217AC0B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12626-A5DC-4DB7-B618-9B7C274C4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FA71-D351-4DE0-ACDF-F1C75607D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0702-43E8-493F-8B91-91E6976E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506E-63BD-42F3-A753-6419D653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64F8-D885-41E3-AFCA-9B7F64CA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DA20-8B1B-4D24-A881-62FE3025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3F9A-EE79-449D-9B67-13802123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26A6-7092-4686-AFE2-47242909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0A8D7-AC52-4FF4-B228-BEA706F2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EEF7-E5C0-48F9-AF69-E65235B6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BE7F-5C8C-4BBA-9625-5DF9DDB5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C600-3125-4E4C-89D7-779107A7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7FA6-E679-44E9-8E22-2D96362B2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B511-3991-439A-AB8D-B87B43C83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ACF4D-F864-4FC2-9060-E65A77D8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DD99E-F8C2-4B3E-87C0-4047A1C6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1C3A4-4877-49FE-B526-0BBEE9D6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93090-4236-4790-897A-A39416C8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2B935-E3A0-45E6-8DB0-0FCBAC1F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14410-C92B-4DBA-AB66-B3BB9238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892CA-137E-4235-972C-112F5582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B0B8-888B-4829-8960-D4C1050548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34EF-A875-418C-938E-C33ECFE349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Vývoj podniků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03280" y="3068280"/>
            <a:ext cx="64008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ffffff"/>
                </a:solidFill>
                <a:uFillTx/>
                <a:latin typeface="Garamond"/>
              </a:rPr>
              <a:t>Tým č. 7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Martin Simerský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Petr Sucháne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Tomáš Vobecký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6.11.200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znik management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zptylování akciového kapitálu mezi velký počet drobných vlastníků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tnost oddělení vlastnictví a říze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 řízení přechod od vlastníků k manažerů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ažerská revolu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válečné období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ýznamný růst profesionálních řídících pracovník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vorba kartelů, monopolistických koncern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řesun moci z rukou vlastníků do rukou profesionálních řídících pracovník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ůst vlivu stát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entrálně řízené ekonomik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76720" y="1844280"/>
            <a:ext cx="496728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minantní působení státu na hospodářstv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lké státní podnik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Řídící pracovníc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21463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Konec samorostlých „kapitánů průmyslu“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989000"/>
            <a:ext cx="5986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ažer profesioná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užné výrobní systém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zvoj malých fir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lobaliza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6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ávěrečné dekády 20. stolet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ří nadnárodní společnost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/4 světové produk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/3 světového obchod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neral Motors, Microsoft, 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732720" y="1125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Výhody nadnárodních společností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onkurenční výhod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rtikální integr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rizontální integr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ístní podmínk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valifikace pracovní síl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áklady na suroviny, materiál, 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Úroveň infrastruktu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íra zdanění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"/>
          <p:cNvSpPr/>
          <p:nvPr/>
        </p:nvSpPr>
        <p:spPr>
          <a:xfrm>
            <a:off x="4376880" y="3139920"/>
            <a:ext cx="392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ěkujeme za pozornos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Literatura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Cameron, R.: </a:t>
            </a:r>
            <a:r>
              <a:rPr b="0" i="1" lang="cs-CZ" sz="1800" spc="-1" strike="noStrike">
                <a:solidFill>
                  <a:srgbClr val="ffffff"/>
                </a:solidFill>
                <a:latin typeface="Garamond"/>
              </a:rPr>
              <a:t>Stručné ekonomické dějiny světa. </a:t>
            </a: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Praha: Victoria Publishing, 1996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Lipovetsky, G.: </a:t>
            </a:r>
            <a:r>
              <a:rPr b="0" i="1" lang="cs-CZ" sz="1800" spc="-1" strike="noStrike">
                <a:solidFill>
                  <a:srgbClr val="ffffff"/>
                </a:solidFill>
                <a:latin typeface="Garamond"/>
              </a:rPr>
              <a:t>Soumrak povinnosti. </a:t>
            </a: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Praha: Prostor, 199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Reich, R. B.: </a:t>
            </a:r>
            <a:r>
              <a:rPr b="0" i="1" lang="cs-CZ" sz="1800" spc="-1" strike="noStrike">
                <a:solidFill>
                  <a:srgbClr val="ffffff"/>
                </a:solidFill>
                <a:latin typeface="Garamond"/>
              </a:rPr>
              <a:t>Dílo národů.</a:t>
            </a: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 Praha: Prostor, 199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Reich, R. B.: </a:t>
            </a:r>
            <a:r>
              <a:rPr b="0" i="1" lang="cs-CZ" sz="1800" spc="-1" strike="noStrike">
                <a:solidFill>
                  <a:srgbClr val="ffffff"/>
                </a:solidFill>
                <a:latin typeface="Garamond"/>
              </a:rPr>
              <a:t>Slušná společnost.</a:t>
            </a: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 Praha: Vize 97, 200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čátky hospodářství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industriální společn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grace výroby a spotřeb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éměř žádná změ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vní kroky kupřed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ačátek industriální společnos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h začíná dominov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ousta firem s nepatrným podíl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žní cena byla objektivní veličino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silování pozic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oncentrace kapitál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bstituce práce kapitál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ůst silných – zánik neúspěšný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ůmyslová revolu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620244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dstatné zvyšování efektivnost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rní stroj a elektřin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zvoj dopravy – železni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zvoj komunikace - telegraf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292720" y="378936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rukturální změ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vestiční nároky nad možnosti individuálních podnikatel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lší koncentrace kapitálu – více vlastník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ligopolní struktura trh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pochybnění celkové konkur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ůsledek koncentrace podniků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naha vlád o omezování moci společnost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15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řijetí Shermanova protitrustového zákona – zákaz dohod o cenách a rozdělení trh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15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ontraproduktiv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15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znik obrovských korporac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15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sílení oligopol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doba trh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aždé odvětví 2-3 gigantické korpor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rčují mzdy a cen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 druhé straně stály statisíce malých podniků, které vyplňovaly mezeru na trhu se zbožím, které se nevyplácelo produkovat ve velkém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Růst obliby akciových společností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3716280"/>
            <a:ext cx="785988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kcie – velmi likvidní a výnosná forma jměn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ůst drobných akcionářů – vznik „kvaziveřejných“ společnost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779640" y="2204640"/>
            <a:ext cx="48243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zvoj akciového trhu a burzy cenných papír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3097440" cy="1981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39640" y="407664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09:07:50Z</dcterms:created>
  <dc:creator>Eva</dc:creator>
  <dc:description/>
  <dc:language>en-US</dc:language>
  <cp:lastModifiedBy>Eva</cp:lastModifiedBy>
  <dcterms:modified xsi:type="dcterms:W3CDTF">2006-11-05T18:10:51Z</dcterms:modified>
  <cp:revision>24</cp:revision>
  <dc:subject/>
  <dc:title>Vývoj podniků</dc:title>
</cp:coreProperties>
</file>