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958D-36C9-4E99-ACB7-646013AF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D0B1-2DBB-41F6-BFE7-4D8EEF57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AAE5-8C42-4F27-8DD2-4B26B01A5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2268-A1C6-43AF-A809-83B3E42AE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B1AE-407B-4177-B109-F7027DBA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AFE7-89D3-4BFE-BB5E-B09672B6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7635-4588-4191-AC67-3D092BAC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09DA-7AEE-4641-AA8C-DFC51E0B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6294-F5A6-4065-9BDA-63802774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B00D-FEDD-4F3B-8F4D-2A52201A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18AA-88B0-4E02-85AF-35240A5C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3D07-82D8-4382-BC8F-8FF85177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A8B8-6049-4C10-AAF0-74DA027C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2F75-8C2A-4491-B063-E7256D3E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2CCB-682B-46A4-BF26-211617D6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1CAF-759D-4820-A960-F5D8307C7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9399-9FCC-4B0E-85C2-24C0B7A3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9561-3EBC-4BBC-AB01-7E2FB0F0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7784-A138-4D71-AA9F-FE0115C9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9AD1-0261-4242-BE4C-8F8E0187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EE52-3594-4846-881A-99ED7227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D604-016E-48B8-A967-343966FC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3289-CBA3-46E8-8939-4F898D0A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90DE-7C55-4F02-9217-37766702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30A6-4111-4943-BABC-1BD21570B51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DE44-6EAC-44B6-9A7D-683372F201A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-901800"/>
            <a:ext cx="7772400" cy="33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cs-CZ" sz="7200" spc="-1" strike="noStrike">
                <a:solidFill>
                  <a:srgbClr val="003366"/>
                </a:solidFill>
                <a:latin typeface="Times New Roman"/>
              </a:rPr>
              <a:t>Proměny práce</a:t>
            </a:r>
            <a:br>
              <a:rPr sz="7200"/>
            </a:b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CKO-ORGANIZAČNÍ STRÁNKA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POLEČENSKÁ A ETICKÁ STRÁNKA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Times New Roman"/>
              </a:rPr>
              <a:t>1. </a:t>
            </a:r>
            <a:r>
              <a:rPr b="1" lang="cs-CZ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ECHNICKO-ORGANIZAČNÍ STRÁNKA PRÁCE</a:t>
            </a:r>
            <a:r>
              <a:rPr b="0" lang="cs-CZ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Řemeslná výrob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 využívala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ást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řemeslník byl vlastníkem svých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ýrobních prostřed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ělba práce byla orientovaná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a výro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dustriální společnos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ufaktur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ůmyslové podn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růmyslové podnik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ýznam faktoru práce při tvorbě hodnoty postupně kle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stnictví výrobního faktoru práce a kapitálu bylo odděl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nkce podnikatele se osamostatnila od vlastní výrobní činnosti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ývoj uplatňování strojů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vylepšením nástroj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zaměstnanec je zde stále nezastupiteln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ěžící výrobní pá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(výrobní linky) - velkovýro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Změna v chování zákazník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ální požadav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árůst flex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bnovení komplexnosti práce: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ob enlar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ob enric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umanizace prá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ytváření týmů ( Švédsko, Německ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mputerizac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íslicově řízené st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ůmyslový robo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i="1" lang="cs-CZ" sz="3200" spc="-1" strike="noStrike">
                <a:solidFill>
                  <a:srgbClr val="003366"/>
                </a:solidFill>
                <a:latin typeface="Arial"/>
                <a:ea typeface="Arial"/>
              </a:rPr>
              <a:t>SPOLEČENSKÁ A ETICKÁ STRÁNKA PRÁC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hled na práci v době industri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otestantští puritán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povinnost uložená člověku Bo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publikán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výraz solidarity každého se vš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ocialist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oslavování práce písně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ůst životní úrovně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Zvyšování mez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Zvyšování potř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ůst atraktivity volného ča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ostindustriální období</a:t>
            </a: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ferenciace výše mez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ozevírání nůžek mezi chudými a bohatý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18:47:10Z</dcterms:created>
  <dc:creator>Janicka</dc:creator>
  <dc:description/>
  <dc:language>en-US</dc:language>
  <cp:lastModifiedBy>Janicka</cp:lastModifiedBy>
  <dcterms:modified xsi:type="dcterms:W3CDTF">2006-10-27T18:59:04Z</dcterms:modified>
  <cp:revision>1</cp:revision>
  <dc:subject/>
  <dc:title> Proměny práce </dc:title>
</cp:coreProperties>
</file>