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DCB-F6DB-42D9-8DC0-D23260FF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448-C796-40F9-96A5-A1528A4D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607-90D5-45A4-997E-7157CCBF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4A7-6A7B-4DDF-9BD6-ECC2D720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F3D9-D366-421E-BB50-D340A09E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2853-712C-4CDF-8A4C-2B88985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8401-A2AB-408F-B5DF-B810024F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06C9-857F-4D3D-86CD-57CCAEB3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32A5-6C59-4383-B190-CAAC2D5B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AF01-A106-42B1-A62F-807DB39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18CD-20AD-4A5D-9AD6-A9664F4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5C5-6F73-47E3-80C1-5CD60DB5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6D93-6BDA-4E8D-BD6A-71EB99CA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8158-47D4-4A24-93B1-17981D21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890A-7038-4536-A265-62C0045D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6A73-A375-4720-9922-1908EDAB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10F3-E882-444B-9BF8-89B0C9C5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5EE-AD10-433D-8631-67F54E20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6D2-9CDC-426D-996A-6335D03F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F4E-6DF6-48B7-96BA-01BAF842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1E2-7FA6-4B1B-9685-32B6C099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75B-4551-4AE0-8E1A-6F97050B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4F2-0387-4361-900A-D9624F8F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0FB-63D9-4D29-85A4-493DAD8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8F01-BB38-4697-B46E-55CDA413D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BD4D-562D-482E-8BC2-0B7B5B3A5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Řízení změny ve firmě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ENGINEER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11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 změnou:      Po změně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30 dnů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      88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 předání,                27 systé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dny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klesly na 6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kazník si sám mohl svoje požadavky vyřídit skrz systé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loš Drdla, Karel 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zení změn ve firmě – re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el Hammer, James Champy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dikální proměna firmy – manifest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voluce v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DĚKUJEM ZA POZORNOS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poklady, faktory a příčiny změn ve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běh procesu řízené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padová studie – Bell Atlantic Cor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ncepce „7S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ktur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 ří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lupracovní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ílené hodnoty firmy=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vádění změn ve firmě závisí na určitých faktorec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asifikace rozhodovacích problé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zif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žnost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ískávání dodateč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íčiny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měny pracovního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rální zastarávání výrob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voj nových technolog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rychlení socioekonomických proce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oucí síla zákazní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poklady zahájení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nalost dané problematiky a dané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lze změnit pouze jeden element a ostatní ponech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é budou rezistentní vůči vliv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a chování lidí je dlouhodobý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y vyvolávají 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ce na změn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áze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cká analý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ýza silového 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tvoření mod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agenta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intervenčních oblas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ce vlastní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kace dosažených výsled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ípadová studie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ell Atlantic Corp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e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álkový přenos dat                                 20% obratu, 50% zi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istické nekonkurenční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říliš velký důraz na kv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ýza pracovních proces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malý a drahý proces vyřízení žád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ýrazné možnosti zkrácení doby na vyřízení a snížení náklad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 prakticky obratem poskytnout zákazníkovi požadované služ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ušet nový proces a provádět libovolné změny v pracovních metodách a procedurá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Ilona Lišková</cp:lastModifiedBy>
  <dcterms:modified xsi:type="dcterms:W3CDTF">2006-11-05T20:40:46Z</dcterms:modified>
  <cp:revision>8</cp:revision>
  <dc:subject/>
  <dc:title>Prezentace aplikace PowerPoint</dc:title>
</cp:coreProperties>
</file>