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36D-9D1A-4808-B391-E94409D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243-0DFF-460B-B256-1D6241F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D9A-A975-4691-8C13-D5813D88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A32-CB6B-4874-9718-A5A7B462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F44-3D13-41EE-8E10-71FE5C6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91C-E91D-4EA8-A819-C4F8EC26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F29-B064-4971-806C-6A1247C5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A59-22C3-4486-B1BB-077D70B2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F59-473F-407C-BFAD-9091F229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3D1-9D39-46EA-B4E7-9671E445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150-BF7B-41FA-8F1F-870C50B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DB7-BBA5-4045-B3C4-0475B6B9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73E0-1AAF-4C30-98BE-C275456C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obal.kyocera.com/index.html" TargetMode="External"/><Relationship Id="rId2" Type="http://schemas.openxmlformats.org/officeDocument/2006/relationships/hyperlink" Target="http://www.kyocera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ndy ve struktuře organizací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MÉ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avla Slez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etr Goliá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.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 stěžej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OZO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re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ÉB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KONTROLNÍCH  MECHANIZ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S spol. s r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zce a distributor produktů KYOCERA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ozofie manage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se zákaz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na zaměstnance odpovídají kritériím mateřské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Ý, M.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A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 architektur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Victoria Publishing, 1996. ISBN 80-7187-064-1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EK, M. a kol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á ekonomik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: C. H. Beck, 2002. ISBN 80-7179-736-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OCERA GLOB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bal.kyocera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S spol. s r.o. – webov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yocer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BA – odvození náz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éba (~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ň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ka) pa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 do skupiny jednobu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é se pohybují pros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ictvím neustál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varu“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; obdobn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incipe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jímá potrav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ve byla nazývána „Prot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malcule“ podl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a, který dokázal 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vou podobu. Jméno amé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lo 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o poprvé 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. Vincentem, který j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vodil z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výrazu „amoibe“ = 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moeba proteus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ční struktura AMÉBA - zař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BA         PODNIKATELSKÉ SÍŤ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VOJOVÉ TRENDY VE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améba je zal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ý na autonomii jednotlivých vnitropodnikových b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– amé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er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 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jí d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ty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dukce – produkcí 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ho jiného 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ama se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ky, sl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produkcí sebe sa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cí výrobního procesu, dovedností a znalost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621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ě vázaná organizační struktura - AMÉ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362320"/>
            <a:ext cx="2895480" cy="2361960"/>
          </a:xfrm>
          <a:prstGeom prst="ellipse">
            <a:avLst/>
          </a:prstGeom>
          <a:solidFill>
            <a:srgbClr val="e81a04"/>
          </a:solidFill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124080"/>
            <a:ext cx="8380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20040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339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648320"/>
            <a:ext cx="1218960" cy="380880"/>
          </a:xfrm>
          <a:prstGeom prst="line">
            <a:avLst/>
          </a:prstGeom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392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3800" y="4764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a04"/>
                </a:solidFill>
                <a:latin typeface="Arial"/>
              </a:rPr>
              <a:t>top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4190760"/>
            <a:ext cx="762120" cy="685800"/>
          </a:xfrm>
          <a:prstGeom prst="line">
            <a:avLst/>
          </a:prstGeom>
          <a:ln w="38160">
            <a:solidFill>
              <a:srgbClr val="e81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00600"/>
            <a:ext cx="838440" cy="76212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333760"/>
            <a:ext cx="30492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520" y="5409720"/>
            <a:ext cx="22860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86400"/>
            <a:ext cx="60984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60948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2819520"/>
            <a:ext cx="609840" cy="30456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2057400"/>
            <a:ext cx="228600" cy="38088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43200" y="2666520"/>
            <a:ext cx="533520" cy="30492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5160" y="5867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0988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5486400"/>
            <a:ext cx="47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ní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120 zaměstnanců (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50 zaměstnanců (Japo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ektovat Boha a milovat lid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3429000"/>
          <a:ext cx="25527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29000"/>
                    <a:ext cx="255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894760" y="2514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korpo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základní údaj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: KYOCER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il: Kauzuo Inamori v roc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zident korporace: Makoto Kawa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066680" cy="139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10800000">
            <a:off x="4572000" y="1530360"/>
            <a:ext cx="76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073160" cy="12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- 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200" y="1563840"/>
          <a:ext cx="503100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563840"/>
                    <a:ext cx="5031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35640" y="1557360"/>
            <a:ext cx="33274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ál společnosti: 115,703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t: 1,181,489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: 69,696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et zaměstnanců: 5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chodní značka KYOCERA Cor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značka se skládá ze symbolu a log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 zobrazuje písmeno „K“ (jako „Kyocera“), které lemuje písmeno „C“ (jako „keramika“ = „ceramic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představena v roce 1982, kdy bylo jméno korporace změněno z „Kyoto Ceramic“ na „Kyoce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97400" cy="80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etí zna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ektování univerzálních princi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á snaha o doko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nov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álým usilováním o dokonalost, v souladu s univerzálními principy, vytváří Kyocera novou hodnotu pro společnost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edině v přední linii lze uskutečňovat heslo „vytváření nové hodnoty“ formou nových technologií a nových produktů na nových trzích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45:46Z</dcterms:created>
  <dc:creator>CIKT</dc:creator>
  <dc:description/>
  <dc:language>en-US</dc:language>
  <cp:lastModifiedBy>OEM</cp:lastModifiedBy>
  <dcterms:modified xsi:type="dcterms:W3CDTF">2006-11-05T18:14:07Z</dcterms:modified>
  <cp:revision>11</cp:revision>
  <dc:subject/>
  <dc:title>Snímek 1</dc:title>
</cp:coreProperties>
</file>