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0F54-12F4-4EFC-B82B-FF42ACCF693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Outsorcing-Využívání služeb externích pracovníků, zpravidla specialistů nebo jiných podniků, namísto zaměstnávání lidí na plný úvaz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Insourcing-je činnosti opačná, při níž se externí dodávky nahrazují vlastní produkc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mporary help – najímání lidí pouze dočasn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Lidé mají tendenci nazývat outsoursing dvoumožnostním procesem - buď si to uděláte sami nebo si to necháte udělat někým jiný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oto vnímání nebo paradigma ohledně outsoursingu jej redukuje na status krajního rozhodnutí ano-ne mezi zabezpečením kontroly nebo postoupením této kontroly na někoho jiného. Je to právě toto myšlení, které zabraňuje obchodu odzkoušet outsoursing jako legitimní strategii k zajištění obchodních cílů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ísto tohoto pohledu dvou možností, outsoursing by měl být viděn jako dynamický krok s vícero úrovněmi a stupn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Core business – možnost lepšího se soustředění na hlavní čin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Něco není ve schopnostech naší fi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áme nedostatek pracovníků nebo naopak trvale nevyužité zaměstnance v dané obla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Falešní outsourcing – např. ušetřím mzdové náklady, daleko více se zaplatí na subdodávká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izika, která s sebou vyčlenění přináší, mohou snadno převážit jeho přínosy. Zamezit nebo předejít rizikům zcela nelze, ale lze je minimalizovat důsledným přístupem a správným smluvním zajištění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zor na tyto aspek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vše definovat v základním kontrak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smlouva je nepojmenovaná, proto by měla být detail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mlouva musí řešit zamezení úniku informac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Informační nevyváženost outsourcingového vzta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B6E2-D88E-4B18-BF91-5866A109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200-08D2-415E-93B2-B5E74BC2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08AE-5C91-4887-ACB1-92CA4943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410-A504-4AE0-B7DB-4701BA4E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0B63-DC84-481E-B32F-15EA7EA5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DFC3-E202-48BC-A19E-A7F0A6B7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45BF-D0D6-4EE6-82D1-329E8F2D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0519-38AD-4136-8F66-A0A9F68E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D4E4-1C60-4132-AB58-8B3F30E0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4422-F620-4A7E-9A7E-DA1458B0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99B6-91FD-413C-A10A-A6CFF797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4883-C09B-4654-9989-B2FBD62D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BCB4-A32B-4E59-9A28-C9B34289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0920-1097-475E-8FC2-A3ED7A7E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BE49-93F7-46B4-8B13-E26F2694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1442-0D12-4552-AFE9-C789910C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90C4-90FC-4597-BE48-C1A7FCB7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1531-2F46-4E7F-BE55-6506612B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C106-5C2A-416F-9E44-18C16EB8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7C6-DC6C-4399-9F95-78CA02AC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DFA-4F5B-47AB-856B-6C9CEA43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63D-82E9-4C06-ACE5-713E7940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D78B-20A5-4479-9A5B-F1191709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DCB-B16A-45EE-8BF9-C3E6B9B3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6906-CA5B-4387-A92A-D2BD30B9430B}" type="slidenum"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63F2-04D4-4E51-B694-CF4330A9171E}" type="slidenum"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sys.com/bpo/services-solutions.asp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80808"/>
                </a:solidFill>
                <a:latin typeface="Tahoma"/>
              </a:rPr>
              <a:t>Outsourcing</a:t>
            </a:r>
            <a:r>
              <a:rPr b="1" lang="cs-CZ" sz="44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9280" y="4971600"/>
            <a:ext cx="89647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Beata Brosková, Tomáš Procházka, Hana Matonohová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Podstata OUTSOURCINGU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Outsourcing = vyčleňování činností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nsourcing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Temporary help = dočasná pomoc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Rozsah vyčlenění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jedna služba             full servic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3789360"/>
            <a:ext cx="936720" cy="360360"/>
          </a:xfrm>
          <a:prstGeom prst="leftRightArrow">
            <a:avLst>
              <a:gd name="adj1" fmla="val 50000"/>
              <a:gd name="adj2" fmla="val 51747"/>
            </a:avLst>
          </a:prstGeom>
          <a:solidFill>
            <a:srgbClr val="00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Vývoj OUTSOURCINGU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očátek v 90. letec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 USA mnohem častěji než v „konzervativní“ Evropě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T a komunikační technologi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yužití outsourcingu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10% podniků v Č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40% ve světě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nvestování stále větších prostředků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Proč OUTSOURCING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Redukce a kontrola nákladů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Core busines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nitřně nedostupné zdroj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Uvolnění zdrojů pro další účel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řístup k prvotřídním technologií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ozor na „falešný outsourcing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Rizika OUTSOURCINGU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Selhání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Únik know-how, informací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arušení ostatních podnikových procesů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Bankrot dodavatel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epředpokládané náklad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Ztráta kontroly nad procesem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erespektování smlouvy a závazků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Porušení obchodního tajemství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ízká zkušenost se specifickým typem smluv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80808"/>
                </a:solidFill>
                <a:latin typeface="Tahoma"/>
              </a:rPr>
              <a:t>Možnosti outsourcingu v oblasti lidských zdrojů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oradenské firm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ersonální (recruitment) agentur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Head hunter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Agentury zajišťující sezonní zaměstnance a pracovníky pro vykrytí špiček ve výrobě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Případové studi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Nik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ězení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nfosys BPO </a:t>
            </a:r>
            <a:r>
              <a:rPr b="0" lang="en-US" sz="3200" spc="-1" strike="noStrike" u="sng">
                <a:solidFill>
                  <a:srgbClr val="377b89"/>
                </a:solidFill>
                <a:uFillTx/>
                <a:latin typeface="Tahoma"/>
                <a:hlinkClick r:id="rId2"/>
              </a:rPr>
              <a:t>http://www.infosys.com/bpo/services-solutions.as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DOMBERGER, S.: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The contracting organization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. New York: Oxford, 1998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SEQUENSOVÁ, H. a kol.: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Lidské zdroje? 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Praha: Question marks, 2005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STÝBLO, J.: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Outsourcing a outplacement.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 Praha: ASPI, 2005. ISBN 80-7357-094-7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/online/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Proč outsourcing? 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Dostupné z:http://www.start.cz/index.php?pid=213&amp;lang=cz4.11.2006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01:05:15Z</dcterms:created>
  <dc:creator/>
  <dc:description/>
  <dc:language>en-US</dc:language>
  <cp:lastModifiedBy>Hana Hečková</cp:lastModifiedBy>
  <dcterms:modified xsi:type="dcterms:W3CDTF">2006-11-05T17:07:04Z</dcterms:modified>
  <cp:revision>53</cp:revision>
  <dc:subject/>
  <dc:title>Outsourc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29</vt:lpwstr>
  </property>
</Properties>
</file>