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DF1-C335-4A83-BB01-2298421A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224-9332-4EB2-9D90-F1F7AE2E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E75-4366-40FC-A8AB-96D68FEE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68E-7B76-4468-A2FC-4CA537F4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48ED-FAE9-4D27-8E92-C7512B46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2782-852F-49EB-A0DE-A0C9084F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F6CB-3318-4B5A-AE7F-A690F770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01AC-F588-49AB-9CA1-C0B1CED2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63B3-5B9B-42C8-BBF5-11F21F81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C735-45FA-408D-9A06-78ABB6BA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B56B-2E94-4A10-A436-1A3693A2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4D2-4290-4B3F-A8E2-9C1DBD8D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9C63-1048-41AD-BC4E-13A2EDEB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5812-C0CE-48F5-BA89-52DEAAC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45F2-60F7-46D3-9FC0-9AEE57C5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65F7-632E-4498-A4CD-E2C92317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3E70-5A90-4FC8-9361-286E42D9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6D0-282A-4889-B467-4F7FDFF0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43F-A6DC-4554-92C5-B75F85AA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150-5867-484D-B004-EA164FE6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FDD-3FCD-404C-BC44-18E104DC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326-24E9-4DE6-AD2E-682E80A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265-AFCB-4561-B375-A365D8C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E01-CD26-4312-8D62-72E8E7F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2C39-5DF6-45D8-A8B0-88D330D97CF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B60F-2180-4019-8CB3-AA2DC366E7D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polečenská zodpovědnost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943600" y="54864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ukáš Przybyl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ndřej Chl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tr Procház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za životní prostřed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ových technologií vedoucích ke zlepšování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dlouhodobých možností čerpání zdroj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azení standardů na alespoň minimální ochranu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y vztahů mezi organizací a společnost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 mode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ohledy na stejnou vě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chází z různých předpokla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xistence nadřazeného systému (právní systé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stanovena zákon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ystém je v rovnováze x regulace poruch novými zák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rhově smlu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inou zodpovědností organizace je produkov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unikace prostřednictvím výměny na tr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a veřejnému bla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48690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ykořisťovatel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měně organizace dostane vždy víc než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echnicko-struktur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akce na trhově smluvní a vykořisťovatelský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sahují pravdy i neprav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 nové třídy manažerů (ovládají všechny instituce ve společnost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1300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 vzájemně se prolínajících systém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ení částečné platnosti předešlých modelů, ale odmítá jejich schopnost obsáhnout re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ůraznění interakce mezi aktéry ve spol. systé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y aktérů jsou zdrojem napětí, ale i tvůrcem rovnová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takeholder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oučasnosti popul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odpovědnost je souhrn sporných otázek, které vnášejí do organizace vnější složky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je stanovena diskusí a dialo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407664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Začlenění etiky do podnikové strategi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Nejúčinnější cestou určení pevných hodnot organizace je využití systému její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korporativní kultur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oupnost kroků změn podnikové kultu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znat nevyhnutelnos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známit změny všem zaměstnancům organiz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čínat malými změnam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odelova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tevřít komunikační kanál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čit zaměstnance jak přistupovat k novému systém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ýt trpěliv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aralelní plán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Dominující postavení zisku a efektivnosti v systému podnikové kultury je nevyhnutelné vyvážit ostatními, hlavně etickými hodnota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Proces paralelního plánová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umožňuje včlenit hodnoty společenské zodpovědnosti a základní etické hodnoty do systému podnikové kultu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= plánování orientované na 2 výstu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ýstup cílů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enviromentální výstup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můžeme shrnout do následujících tez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nticipace etických problémů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plikace nástrojů společenské zodpovědnosti a etické analýz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eterminace hodnot korporace, které jsou pro ni nejdůležitější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ntegrace těchto hodnot do kultury podni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bsah prezent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orové typy společenské zodpovědnosti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sah zodpovědnosti organizace – modely řízení a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členění etiky do podnikové strate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loha podnikové kultu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Podniková kultura prostupuje celým plánovacím procesem, ovlivňuje jej a sama je jím ovlivňová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Otevře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ůležitým prvkem podnikové kult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dské systémy mají tendenci k sebekorekci, pokud mají včasné a přesné informace o tom, co je třeba napravit.“ (filozof Karl Popp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podnikové kultuře existuje několik indikátorů nedostatečné otevřenos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dřízení se snaží získat informace o stanovisku managementu k danému problému, teprve potom se sami vyjádří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ezi manažery panuje dokonalá shoda v názorech na rozličné problém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istuje odpor k poskytnutí špatných zpráv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KNIČ, A.S. Štvrtý rozmer podnikania - etika. Bratislava : SAP, 1994. ISBN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0-85665-30-1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NKOVÁ, J. Společenská odpovědnost firem. Business Leaders Forum, 2004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ndřej Chlup (tým 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orové typy společenské zodpovědnosti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ladní normy a kritéria spol. zodp. lze rozdělit do několika skupin týkajících 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třeb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městnan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časti zaměstnanců na rozhod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cionář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ivotního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spotřebitel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ravedlivá hodn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a srozumitel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ctivá a hodnověrná rek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věření bezpečnosti výrobku a varování před neověřenými vlastnosti a riziky použi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zaměstnanc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pravedlivé a rovné zachá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mezení použitelnosti výkonových n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prostředníkem zvyšování kvality a bezpečnosti života a zdraví zaměstnance (i mimo pracoviště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čast zaměstnanců na rozhod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činný model komunikace v podniku má pozitivní ekonomické dopady, ale i etickou dimenz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akcionář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eřejnění seznamu akcionář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informování současných a budoucích akcionářů o vývoji podni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ádné osobní výhody manaže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tahy mezi konkuren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kurence by měla být čis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az najímání zaměstnanců konkurence s cílem získat určité důvěr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veřej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komunikace s okolní komunit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ordinace určitých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místního sociálního a kulturního živ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mínky ukončení činnosti v dané lokali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9:50:59Z</dcterms:created>
  <dc:creator>Lukáš Przybylski</dc:creator>
  <dc:description/>
  <dc:language>en-US</dc:language>
  <cp:lastModifiedBy>Ondřej Částek</cp:lastModifiedBy>
  <dcterms:modified xsi:type="dcterms:W3CDTF">2006-12-11T11:52:34Z</dcterms:modified>
  <cp:revision>8</cp:revision>
  <dc:subject/>
  <dc:title>Společenská zodpovědnost podnikání</dc:title>
</cp:coreProperties>
</file>