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C17-234D-4848-923D-F2D9B9D9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185-813F-45F8-AEE5-3AB55881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EEE-E90A-42A3-9A57-037DBEEE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AD3-1E55-4684-A924-709DF306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34A0-D6E2-4FFA-AB7C-1E479E3A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7A3F-BD4D-43D5-AD9D-CB43735F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588-CF55-46FD-B37E-30C0DE30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8448-1949-4398-A9D2-FB577B19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3A7-B6B0-4249-8D23-0EC7FE3D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5BD5-4363-46E1-9B39-6C61BD4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BD0-6D9F-41CD-BBDA-06832F8C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2A0-44D6-49AB-93D6-1577B7B5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DFE7-B376-4CC9-ACC0-C05860E6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1A35-F744-432F-8E1A-0D477D69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832F-22C3-409F-B0C5-CFA1AA3A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ED70-8029-4760-986A-13FD24EA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3C82-9618-40D9-A6C3-8328CEA0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C5C-174C-44B2-B057-652E9A07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302-19EE-4A85-A1F7-56D0EE20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695-A736-4E1B-B2BD-E7B59424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E39-7CCF-458C-BE75-003DFE92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F01-A76C-4DD6-AEAE-4A0FA91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3E0-2D0C-461A-B72A-E49C988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157-D87E-499E-80C6-63390F74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38E-EF5D-4E39-AC6A-56FC04BFA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D6D6-47F6-487F-8175-3B5C7B156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dence současného managemen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ým č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k, J. Hledání mana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rského kamene mudrc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pro moderní podnik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vodce studiem Manageme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metterer, Bob. Skok do budou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 manažerských metod, technik a nástrojů postupuje - zejména v posledních letech - neobyčejně rych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ky mají v běžném užívání téměř tři desítky hlavních manažers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tliže dovedeme k dokonalosti jednu, i když značně důležitou část systému podnikového řízení, ještě není zajištěno, aby celek dobře fungo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spěšné řešení musí být systémové a mělo by pokrýt komplexní systém 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metody musí být výsledkem pečlivého zvažování. Je tedy spíše tvůrčím činem než reakcí na to, co se v managementu právě nos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om zcela výjimečně je schopna jedna metoda řešit komplexní problematiku efektivního modelu řízení konkrétníh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nagement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členil se jako samostatný termín v průběhu sedmdesátých let 20. stole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 managementu spočívající jednak v připravenosti reakcí na vnější či vnitřní podněty (pasivní aspekt) a jednak zaměřený na volbu předmětu změny, její pružnou přípravu, realizaci a využívání (aktivní aspek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ybrané přístupy managementu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stupy trvalého zlepš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ingův zlepšovací cyklus PD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ěry zvyšování produk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a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dnotová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us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Bob Schmetter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roze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USA,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ývalý předseda Euro R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Intel, Opavia, KB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 „Skok do budoucnost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chmetterer,%2520Bob" descr="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lineární myšl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 pro všechny 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vivalent tvoři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yšlení z bodu A (přes B) d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dy vytlačeno lineár. my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st v Buenos 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ichard Branson – spol. Vi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lší znaky říz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ímání neobvykl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lexie jako zdroj nelineárního myšlení (tvořiv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ytváření genetických kop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oblasti pů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entace (tvořivá a efektiv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ko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xistuje žádný nezajímavý obor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 zbavit se předsu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át se ris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připraven překročit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jovat proti průmě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ocnějšími propagátory značky jsou zákazníc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čiňte z klientů nedílnou součást tý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49:05Z</dcterms:created>
  <dc:creator>Nikos</dc:creator>
  <dc:description/>
  <dc:language>en-US</dc:language>
  <cp:lastModifiedBy>pc</cp:lastModifiedBy>
  <dcterms:modified xsi:type="dcterms:W3CDTF">2006-12-05T07:20:35Z</dcterms:modified>
  <cp:revision>18</cp:revision>
  <dc:subject/>
  <dc:title>Snímek 1</dc:title>
</cp:coreProperties>
</file>