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451AE-BB44-4ABC-A015-B81CE440521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hape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5DBAD-618C-48F0-AD0E-30459EB58E5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Společenská odpovědnost firem se promítá paralelně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ve 3 rovinách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- ekonomické, environmentální (oblast životního prostředí) i sociální.</a:t>
            </a:r>
            <a:br>
              <a:rPr sz="1000"/>
            </a:b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Důležitým prvkem odpovědného podnikání je jeho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dobrovolnost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. Společensky odpovědná firma vyvíjí aktivity CSR nad rámec svých povinností vymezených zákonem.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Společenská odpovědnost firmy je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dlouhodobou záležitostí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. Budování odpovědné strategie a sledování přínosů je možné jen v delším časovém horizontu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Začlenění principů CSR do denního fungování firmy, nakloněný vlastník i management konceptu CSR, zaměstnanci se ztotožňují s hodnotami firmy, vhodná komunikace CSR ven – to vše vytváří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důveryhodnost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CSR aktivi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hape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FA08A-8ADF-4A44-856E-7985C2149CA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Společenská odpovědnost firem se promítá paralelně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ve 3 rovinách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- ekonomické, environmentální (oblast životního prostředí) i sociální.</a:t>
            </a:r>
            <a:br>
              <a:rPr sz="1000"/>
            </a:b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Důležitým prvkem odpovědného podnikání je jeho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dobrovolnost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. Společensky odpovědná firma vyvíjí aktivity CSR nad rámec svých povinností vymezených zákonem.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Společenská odpovědnost firmy je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dlouhodobou záležitostí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. Budování odpovědné strategie a sledování přínosů je možné jen v delším časovém horizontu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Začlenění principů CSR do denního fungování firmy, nakloněný vlastník i management konceptu CSR, zaměstnanci se ztotožňují s hodnotami firmy, vhodná komunikace CSR ven – to vše vytváří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důvěryhodnost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CSR aktivi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hape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E8F7A-D503-481E-8484-48C180D6EA2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CSR je zkratkou anglického výrazu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Corporate Social Responsibility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, který do češtiny překládáme jako společenská odpovědnost firem.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V rámci šíření povědomí o konceptu CSR se členové Business Leaders Fora shodli na jeho jednotné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definici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hape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F9A71-2D8F-4A58-B087-B78F1F238A0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Společenská odpovědnost firem se promítá paralelně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ve 3 rovinách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- ekonomické, environmentální (oblast životního prostředí) i sociální.</a:t>
            </a:r>
            <a:br>
              <a:rPr sz="1000"/>
            </a:b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Důležitým prvkem odpovědného podnikání je jeho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dobrovolnost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. Společensky odpovědná firma vyvíjí aktivity CSR nad rámec svých povinností vymezených zákonem.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Společenská odpovědnost firmy je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dlouhodobou záležitostí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. Budování odpovědné strategie a sledování přínosů je možné jen v delším časovém horizontu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Začlenění principů CSR do denního fungování firmy, nakloněný vlastník i management konceptu CSR, zaměstnanci se ztotožňují s hodnotami firmy, vhodná komunikace CSR ven – to vše vytváří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důveryhodnost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CSR aktivi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ADFB-8DC4-4E29-970C-261B9009D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8170-A2B6-4B5D-9183-205ABF9F9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08F6-00ED-420C-96AF-F0A0BB919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D004-2C00-4AB7-B3C3-F32AA1C07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74A1-F81A-4094-94FD-514606CEE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66D2-BBFD-4833-B58B-068F791D9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3314-1830-4905-AE62-44E8B1820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5127-FA3E-40D9-AFDF-86043743C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4360" y="620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E98A-4A7D-4C3D-B190-DEBB7E59C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EB89-9D45-419D-A4FB-481BCE5F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5AB1-6032-4D75-B65A-C3675C47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DB55-DFA4-4E1C-A6A1-8D07F33A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Rectangle 1030" descr=""/>
          <p:cNvPicPr/>
          <p:nvPr/>
        </p:nvPicPr>
        <p:blipFill>
          <a:blip r:embed="rId2"/>
          <a:stretch/>
        </p:blipFill>
        <p:spPr>
          <a:xfrm>
            <a:off x="457200" y="5715000"/>
            <a:ext cx="2523960" cy="876240"/>
          </a:xfrm>
          <a:prstGeom prst="rect">
            <a:avLst/>
          </a:prstGeom>
          <a:ln w="0">
            <a:noFill/>
          </a:ln>
        </p:spPr>
      </p:pic>
      <p:sp>
        <p:nvSpPr>
          <p:cNvPr id="6" name="Straight Connector 1031"/>
          <p:cNvSpPr/>
          <p:nvPr/>
        </p:nvSpPr>
        <p:spPr>
          <a:xfrm flipV="1">
            <a:off x="468360" y="6597720"/>
            <a:ext cx="8351640" cy="39600"/>
          </a:xfrm>
          <a:prstGeom prst="line">
            <a:avLst/>
          </a:prstGeom>
          <a:ln w="38160">
            <a:solidFill>
              <a:srgbClr val="818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Straight Connector 1032"/>
          <p:cNvSpPr/>
          <p:nvPr/>
        </p:nvSpPr>
        <p:spPr>
          <a:xfrm flipV="1">
            <a:off x="8820000" y="404640"/>
            <a:ext cx="0" cy="6120000"/>
          </a:xfrm>
          <a:prstGeom prst="line">
            <a:avLst/>
          </a:prstGeom>
          <a:ln w="31680">
            <a:solidFill>
              <a:srgbClr val="81890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Rectangle 1034" descr=""/>
          <p:cNvPicPr/>
          <p:nvPr/>
        </p:nvPicPr>
        <p:blipFill>
          <a:blip r:embed="rId3"/>
          <a:stretch/>
        </p:blipFill>
        <p:spPr>
          <a:xfrm>
            <a:off x="395280" y="404640"/>
            <a:ext cx="2881440" cy="756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2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3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4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5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6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7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8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9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10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11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12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13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14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15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16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17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18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19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20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2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18903"/>
                </a:solidFill>
                <a:latin typeface="Arial"/>
              </a:rPr>
              <a:t>Corporate Social Responsi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35240" y="3428640"/>
            <a:ext cx="6472080" cy="23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Terezie Kouřilov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Martina Pospíšilov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7.12.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4000" y="1844280"/>
            <a:ext cx="817236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Charitativní a podpůrné ak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Zaměstnanecká prá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Řešení problémů v región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Etika podnikán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Spolupráce podniků s neziskovými organizace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189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818903"/>
                </a:solidFill>
                <a:latin typeface="Arial"/>
              </a:rPr>
              <a:t>http://www.abb.cz/cawp/czabb016/b65f058198643775c1256cd200387aaa.asp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189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818903"/>
                </a:solidFill>
                <a:latin typeface="Arial"/>
              </a:rPr>
              <a:t>http://www.kb.cz/cs/com/profile/index.s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Shape 66561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3500" spc="-1" strike="noStrike">
                <a:solidFill>
                  <a:srgbClr val="818903"/>
                </a:solidFill>
                <a:latin typeface="Arial"/>
              </a:rPr>
              <a:t>Příklady CSR aktivi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4000" y="2349000"/>
            <a:ext cx="8172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Projekty pro zvýšení povědomí o CS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Business Leaders For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Projekt Informativního Centra Neziskových Organiz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Projekt AIESE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Shape 66561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3500" spc="-1" strike="noStrike">
                <a:solidFill>
                  <a:srgbClr val="818903"/>
                </a:solidFill>
                <a:latin typeface="Arial"/>
              </a:rPr>
              <a:t>Příklady CSR aktivi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818903"/>
                </a:solidFill>
                <a:latin typeface="Arial"/>
              </a:rPr>
              <a:t>Zdroj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189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Strategy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&amp; Society: 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The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 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Link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 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Between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 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Competitive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10"/>
              </a:rPr>
              <a:t> 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11"/>
              </a:rPr>
              <a:t>Advantage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12"/>
              </a:rPr>
              <a:t> 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13"/>
              </a:rPr>
              <a:t>and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14"/>
              </a:rPr>
              <a:t> 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15"/>
              </a:rPr>
              <a:t>Corporate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16"/>
              </a:rPr>
              <a:t> 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17"/>
              </a:rPr>
              <a:t>Social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18"/>
              </a:rPr>
              <a:t> 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19"/>
              </a:rPr>
              <a:t>Responsibility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20"/>
              </a:rPr>
              <a:t>.</a:t>
            </a: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 By: Porter, Michael E.; Kramer, Mark R.. Harvard Business Review, Dec2006, Vol. 84 Issue 12, p78-9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CSR and philanthropy. Caribbean Business, 9/28/2006, Vol. 34 Issue 38, p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Anderson, Jerry W. - Corporate Social Responsibility: guidelines for top management. New York: Quorum Books, 198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d4d4d"/>
                </a:solidFill>
                <a:latin typeface="Arial"/>
              </a:rPr>
              <a:t>http://www.marketingovenoviny.cz/index.php3?Action=View&amp;ARTICLE_ID=35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cs-CZ" sz="3500" spc="-1" strike="noStrike">
                <a:solidFill>
                  <a:srgbClr val="818903"/>
                </a:solidFill>
                <a:latin typeface="Arial"/>
              </a:rPr>
              <a:t>Společenská odpovědnost firem</a:t>
            </a:r>
            <a:br>
              <a:rPr sz="3200"/>
            </a:b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2000160"/>
            <a:ext cx="777240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Corporate Social Responsibility (CSR) neboli společenská odpovědnost firem představuje </a:t>
            </a:r>
            <a:r>
              <a:rPr b="1" lang="cs-CZ" sz="2400" spc="-1" strike="noStrike">
                <a:solidFill>
                  <a:srgbClr val="4d4d4d"/>
                </a:solidFill>
                <a:latin typeface="Arial"/>
              </a:rPr>
              <a:t>dobrovolný závazek firem chovat se v rámci svého fungování odpovědně k prostředí i společnosti, ve které podnikají</a:t>
            </a: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Rectangle 3075" descr=""/>
          <p:cNvPicPr/>
          <p:nvPr/>
        </p:nvPicPr>
        <p:blipFill>
          <a:blip r:embed="rId1"/>
          <a:stretch/>
        </p:blipFill>
        <p:spPr>
          <a:xfrm>
            <a:off x="2786040" y="4000680"/>
            <a:ext cx="381636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818903"/>
                </a:solidFill>
                <a:latin typeface="Arial"/>
              </a:rPr>
              <a:t>Trocha histori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8189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818903"/>
                </a:solidFill>
                <a:latin typeface="Arial"/>
              </a:rPr>
              <a:t>první ucelený přístup</a:t>
            </a:r>
            <a:r>
              <a:rPr b="0" lang="cs-CZ" sz="2600" spc="-1" strike="noStrike">
                <a:solidFill>
                  <a:srgbClr val="4d4d4d"/>
                </a:solidFill>
                <a:latin typeface="Arial"/>
              </a:rPr>
              <a:t> k CSR – H.R.Bowen 1953 – Social Responsibilities of the Businessm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8189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818903"/>
                </a:solidFill>
                <a:latin typeface="Arial"/>
              </a:rPr>
              <a:t>1971 Committee for Economic Development</a:t>
            </a:r>
            <a:r>
              <a:rPr b="0" lang="cs-CZ" sz="2600" spc="-1" strike="noStrike">
                <a:solidFill>
                  <a:srgbClr val="4d4d4d"/>
                </a:solidFill>
                <a:latin typeface="Arial"/>
              </a:rPr>
              <a:t> – vztah mezi podnikem a společností jako smlouva mezi dvěma stranami (obsah se mění v čas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4d4d4d"/>
                </a:solidFill>
                <a:latin typeface="Arial"/>
              </a:rPr>
              <a:t>posun od </a:t>
            </a:r>
            <a:r>
              <a:rPr b="1" lang="cs-CZ" sz="2600" spc="-1" strike="noStrike">
                <a:solidFill>
                  <a:srgbClr val="818903"/>
                </a:solidFill>
                <a:latin typeface="Arial"/>
              </a:rPr>
              <a:t>dobrovolného</a:t>
            </a:r>
            <a:r>
              <a:rPr b="0" lang="cs-CZ" sz="2600" spc="-1" strike="noStrike">
                <a:solidFill>
                  <a:srgbClr val="4d4d4d"/>
                </a:solidFill>
                <a:latin typeface="Arial"/>
              </a:rPr>
              <a:t> CSR, přes</a:t>
            </a:r>
            <a:r>
              <a:rPr b="1" lang="cs-CZ" sz="2600" spc="-1" strike="noStrike">
                <a:solidFill>
                  <a:srgbClr val="818903"/>
                </a:solidFill>
                <a:latin typeface="Arial"/>
              </a:rPr>
              <a:t> povinné</a:t>
            </a:r>
            <a:r>
              <a:rPr b="0" lang="cs-CZ" sz="2600" spc="-1" strike="noStrike">
                <a:solidFill>
                  <a:srgbClr val="4d4d4d"/>
                </a:solidFill>
                <a:latin typeface="Arial"/>
              </a:rPr>
              <a:t> k formě investice do budoucnost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4d4d4d"/>
                </a:solidFill>
                <a:latin typeface="Arial"/>
              </a:rPr>
              <a:t>posun od </a:t>
            </a:r>
            <a:r>
              <a:rPr b="1" lang="cs-CZ" sz="2600" spc="-1" strike="noStrike">
                <a:solidFill>
                  <a:srgbClr val="818903"/>
                </a:solidFill>
                <a:latin typeface="Arial"/>
              </a:rPr>
              <a:t>peněžní k nepeněžním</a:t>
            </a:r>
            <a:r>
              <a:rPr b="0" lang="cs-CZ" sz="2600" spc="-1" strike="noStrike">
                <a:solidFill>
                  <a:srgbClr val="4d4d4d"/>
                </a:solidFill>
                <a:latin typeface="Arial"/>
              </a:rPr>
              <a:t> formá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85880" y="99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2800" spc="-1" strike="noStrike">
                <a:solidFill>
                  <a:srgbClr val="818903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818903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818903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818903"/>
                </a:solidFill>
                <a:latin typeface="Arial"/>
              </a:rPr>
              <a:t> </a:t>
            </a:r>
            <a:r>
              <a:rPr b="1" lang="cs-CZ" sz="3500" spc="-1" strike="noStrike">
                <a:solidFill>
                  <a:srgbClr val="818903"/>
                </a:solidFill>
                <a:latin typeface="Arial"/>
              </a:rPr>
              <a:t>Koho se CSR týká?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000" y="2420640"/>
            <a:ext cx="385596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d4d4d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Akcion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d4d4d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Věřitel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d4d4d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zákazní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d4d4d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investo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d4d4d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zaměstnan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Rectangle 63491" descr=""/>
          <p:cNvPicPr/>
          <p:nvPr/>
        </p:nvPicPr>
        <p:blipFill>
          <a:blip r:embed="rId1"/>
          <a:stretch/>
        </p:blipFill>
        <p:spPr>
          <a:xfrm>
            <a:off x="6858000" y="285840"/>
            <a:ext cx="1571760" cy="1658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464000" y="2421000"/>
            <a:ext cx="4680000" cy="30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Dodavate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zástupci státní sprá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Mé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NNO a dalš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818903"/>
                </a:solidFill>
                <a:latin typeface="Arial"/>
              </a:rPr>
              <a:t>4 nejčastější přístupy k CS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Moral obli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License to ope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Repu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všechny čtyři jsou založeny na konfliktu mezi společností a podnikem nikoli na jejich vzájemné závisl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z ní vychází strategický přístup – integrace podniku a společ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818903"/>
                </a:solidFill>
                <a:latin typeface="Arial"/>
              </a:rPr>
              <a:t>Pro CS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je to v </a:t>
            </a:r>
            <a:r>
              <a:rPr b="1" lang="cs-CZ" sz="2400" spc="-1" strike="noStrike">
                <a:solidFill>
                  <a:srgbClr val="818903"/>
                </a:solidFill>
                <a:latin typeface="Arial"/>
              </a:rPr>
              <a:t>dlouhodobém zájmu</a:t>
            </a: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 podni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Prevence možných problémů </a:t>
            </a:r>
            <a:r>
              <a:rPr b="1" lang="cs-CZ" sz="2400" spc="-1" strike="noStrike">
                <a:solidFill>
                  <a:srgbClr val="818903"/>
                </a:solidFill>
                <a:latin typeface="Arial"/>
              </a:rPr>
              <a:t>dobrá reputace</a:t>
            </a: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 firmy, lepší firemní image a posílení věrnosti značce</a:t>
            </a: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atraktivita firmy pro kvalitní a talentované potenciální zaměstn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zvýšená </a:t>
            </a:r>
            <a:r>
              <a:rPr b="1" lang="cs-CZ" sz="2400" spc="-1" strike="noStrike">
                <a:solidFill>
                  <a:srgbClr val="818903"/>
                </a:solidFill>
                <a:latin typeface="Arial"/>
              </a:rPr>
              <a:t>loajalita</a:t>
            </a: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 a </a:t>
            </a:r>
            <a:r>
              <a:rPr b="1" lang="cs-CZ" sz="2400" spc="-1" strike="noStrike">
                <a:solidFill>
                  <a:srgbClr val="818903"/>
                </a:solidFill>
                <a:latin typeface="Arial"/>
              </a:rPr>
              <a:t>produktivita</a:t>
            </a: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 zaměstnanc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vyšší úroveň </a:t>
            </a:r>
            <a:r>
              <a:rPr b="1" lang="cs-CZ" sz="2400" spc="-1" strike="noStrike">
                <a:solidFill>
                  <a:srgbClr val="818903"/>
                </a:solidFill>
                <a:latin typeface="Arial"/>
              </a:rPr>
              <a:t>spokojenosti </a:t>
            </a: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a </a:t>
            </a:r>
            <a:r>
              <a:rPr b="1" lang="cs-CZ" sz="2400" spc="-1" strike="noStrike">
                <a:solidFill>
                  <a:srgbClr val="818903"/>
                </a:solidFill>
                <a:latin typeface="Arial"/>
              </a:rPr>
              <a:t>věrnosti </a:t>
            </a: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zákazníků a z ní plynoucí dlouhodobé vaz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189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18903"/>
                </a:solidFill>
                <a:latin typeface="Arial"/>
              </a:rPr>
              <a:t>odlišení se </a:t>
            </a: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od konkurence v očích spotřebitelů, konkurenční výho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189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18903"/>
                </a:solidFill>
                <a:latin typeface="Arial"/>
              </a:rPr>
              <a:t>úspory </a:t>
            </a: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nákladů např. na risk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cs-CZ" sz="4400" spc="-1" strike="noStrike">
                <a:solidFill>
                  <a:srgbClr val="818903"/>
                </a:solidFill>
                <a:latin typeface="Arial"/>
              </a:rPr>
              <a:t>Proti CS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565360"/>
            <a:ext cx="77724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4d4d4d"/>
              </a:buClr>
              <a:buFont typeface="Arial"/>
              <a:buChar char="–"/>
            </a:pPr>
            <a:r>
              <a:rPr b="0" lang="cs-CZ" sz="2600" spc="-1" strike="noStrike">
                <a:solidFill>
                  <a:srgbClr val="4d4d4d"/>
                </a:solidFill>
                <a:latin typeface="Arial"/>
              </a:rPr>
              <a:t>Nemaximalizuje se zisk – trpí akcionář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4d4d4d"/>
              </a:buClr>
              <a:buFont typeface="Arial"/>
              <a:buChar char="–"/>
            </a:pPr>
            <a:r>
              <a:rPr b="0" lang="cs-CZ" sz="2600" spc="-1" strike="noStrike">
                <a:solidFill>
                  <a:srgbClr val="4d4d4d"/>
                </a:solidFill>
                <a:latin typeface="Arial"/>
              </a:rPr>
              <a:t>Zvýší se cena pro koncového zákazník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4d4d4d"/>
              </a:buClr>
              <a:buFont typeface="Arial"/>
              <a:buChar char="–"/>
            </a:pPr>
            <a:r>
              <a:rPr b="0" lang="cs-CZ" sz="2600" spc="-1" strike="noStrike">
                <a:solidFill>
                  <a:srgbClr val="4d4d4d"/>
                </a:solidFill>
                <a:latin typeface="Arial"/>
              </a:rPr>
              <a:t>Efekt je těžko měřitelný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4d4d4d"/>
              </a:buClr>
              <a:buFont typeface="Arial"/>
              <a:buChar char="–"/>
            </a:pPr>
            <a:r>
              <a:rPr b="0" lang="cs-CZ" sz="2600" spc="-1" strike="noStrike">
                <a:solidFill>
                  <a:srgbClr val="4d4d4d"/>
                </a:solidFill>
                <a:latin typeface="Arial"/>
              </a:rPr>
              <a:t>Management nemá kompetence k řešení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818903"/>
                </a:solidFill>
                <a:latin typeface="Arial"/>
              </a:rPr>
              <a:t>Co přij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další vývoj záleží na </a:t>
            </a:r>
            <a:r>
              <a:rPr b="1" lang="cs-CZ" sz="2400" spc="-1" strike="noStrike">
                <a:solidFill>
                  <a:srgbClr val="818903"/>
                </a:solidFill>
                <a:latin typeface="Arial"/>
              </a:rPr>
              <a:t>změnách hodnot</a:t>
            </a: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 společnosti např. trvale udržitelný rozvo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důležité je </a:t>
            </a:r>
            <a:r>
              <a:rPr b="1" lang="cs-CZ" sz="2400" spc="-1" strike="noStrike">
                <a:solidFill>
                  <a:srgbClr val="818903"/>
                </a:solidFill>
                <a:latin typeface="Arial"/>
              </a:rPr>
              <a:t>integrovat CSR přímo do strategie</a:t>
            </a: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 společnosti (spojení s core business interest, nalezení shared valu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měla by to být </a:t>
            </a:r>
            <a:r>
              <a:rPr b="1" lang="cs-CZ" sz="2400" spc="-1" strike="noStrike">
                <a:solidFill>
                  <a:srgbClr val="818903"/>
                </a:solidFill>
                <a:latin typeface="Arial"/>
              </a:rPr>
              <a:t>promyšlená investice</a:t>
            </a: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 do budoucího přežití podni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musí být </a:t>
            </a:r>
            <a:r>
              <a:rPr b="1" lang="cs-CZ" sz="2400" spc="-1" strike="noStrike">
                <a:solidFill>
                  <a:srgbClr val="818903"/>
                </a:solidFill>
                <a:latin typeface="Arial"/>
              </a:rPr>
              <a:t>sdílená všemi</a:t>
            </a: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 pracovníky od top managementu až po nejnižší úrove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400" spc="-1" strike="noStrike">
                <a:solidFill>
                  <a:srgbClr val="818903"/>
                </a:solidFill>
                <a:latin typeface="Arial"/>
              </a:rPr>
              <a:t>Pár čísel…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86% velkých a mezinárodních společností zahrnuje CSR ve svém dlouhodobém plánu a komunikačních strategií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d4d4d"/>
                </a:solidFill>
                <a:latin typeface="Arial"/>
              </a:rPr>
              <a:t>Oblast jejich zájmu: sociální, zdravotní sféra, vzdělávání</a:t>
            </a:r>
            <a:r>
              <a:rPr b="0" lang="cs-CZ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4d4d4d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58% malých podniků podporuje volnočasové aktivity a 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d4d4d"/>
                </a:solidFill>
                <a:latin typeface="Arial"/>
              </a:rPr>
              <a:t>Nezahrnuje CSR ve svých komunikačních aktivitá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d4d4d"/>
                </a:solidFill>
                <a:latin typeface="Arial"/>
              </a:rPr>
              <a:t>Krátkodob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Podle Institute of Business Ethics mají společnosti praktikující CSR o 18% vyšší z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8T20:42:25Z</dcterms:created>
  <dc:creator>Zuzana Kubíková</dc:creator>
  <dc:description/>
  <dc:language>en-US</dc:language>
  <cp:lastModifiedBy>1</cp:lastModifiedBy>
  <dcterms:modified xsi:type="dcterms:W3CDTF">2006-12-06T18:24:56Z</dcterms:modified>
  <cp:revision>132</cp:revision>
  <dc:subject/>
  <dc:title>Manager Shadowing Program</dc:title>
</cp:coreProperties>
</file>