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210C-E5CD-4BE1-8013-1AE40D583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1676520" y="544896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83DD-B913-4BAC-85B6-22A28DCB4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95648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5CB5-F9B3-4E5C-910C-137F81272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4048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0480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167652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84048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00480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FD87-A211-4BA5-A384-1D38EEC4C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7ADD5-C905-4821-A2B4-FEA837BBE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300D2-BA2D-4014-80E7-364343145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E69E1-A31B-4933-8761-11C42D92C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33E77-0DDF-42CA-AB99-4FE0B1AB2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546EC-97B2-4280-BEEB-7B0F7DDE2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676520" y="1904760"/>
            <a:ext cx="7238880" cy="88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FE827-5737-408B-8975-426D56090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0192C-3C1D-44FE-B8D2-BD8485A40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3B99-1B96-40C6-A4DB-30515E158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5648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6DCB5-94F2-4628-B644-F9DA3DA21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F55D6-8ADF-42B1-B635-B99970E0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676520" y="544896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F8113-94FE-4B08-85FC-692143612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95648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B5B2D-BD9C-4455-9696-34DE7DE90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84048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0480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67652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84048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0480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4A7F2-D32A-4A02-96C2-B7639B02E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8814-4EBF-44D0-B8E2-31B516F33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DCF9-75A1-44D5-B75C-CF98746D8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8A92-D016-41CB-8B11-E0B0C61F1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676520" y="1904760"/>
            <a:ext cx="7238880" cy="88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E5DA-AEF0-4A58-8F5D-4CCEBDA6F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169A-1447-4853-AAEF-7A79682D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95648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E73B-4077-4D58-A5E2-F95F5294E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D74A-9B14-4202-B668-26652C94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86435-2AE5-458C-B311-D53A8D7AA9C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3B51A-7C36-4FC5-AD85-C2F767ACE16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914400"/>
            <a:ext cx="84582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cc00"/>
                </a:solidFill>
                <a:uFillTx/>
                <a:latin typeface="Tempus Sans ITC"/>
                <a:ea typeface="Times New Roman"/>
              </a:rPr>
              <a:t>PROJEKTOVÝ MANAGEMEN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476360" y="3573360"/>
            <a:ext cx="6400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Tým č. 7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Martin Simersk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Tomáš Vobeck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Petr Suchán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empus Sans ITC"/>
              </a:rPr>
              <a:t>Vymezení a definování projektu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26560" y="2133720"/>
            <a:ext cx="24498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cc00"/>
                </a:solidFill>
                <a:uFillTx/>
                <a:latin typeface="Tempus Sans ITC"/>
              </a:rPr>
              <a:t>VSTUP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empus Sans ITC"/>
              </a:rPr>
              <a:t>Vymezení výsledků projekt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empus Sans ITC"/>
              </a:rPr>
              <a:t>Nároky na projektové řízen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19640" y="2133720"/>
            <a:ext cx="244944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cc00"/>
                </a:solidFill>
                <a:uFillTx/>
                <a:latin typeface="Tempus Sans ITC"/>
              </a:rPr>
              <a:t>VYHODNOCE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empus Sans ITC"/>
              </a:rPr>
              <a:t>Jde o příležito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empus Sans ITC"/>
              </a:rPr>
              <a:t>Vyplatí se vynaložení peněz a čas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empus Sans ITC"/>
              </a:rPr>
              <a:t>Jaká jsou rizik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12000" y="2133720"/>
            <a:ext cx="244944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cc00"/>
                </a:solidFill>
                <a:uFillTx/>
                <a:latin typeface="Tempus Sans ITC"/>
              </a:rPr>
              <a:t>VÝSTUP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15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empus Sans ITC"/>
              </a:rPr>
              <a:t>Specifikace konečných výsledk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15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empus Sans ITC"/>
              </a:rPr>
              <a:t>Specifikace omezení, předpoklad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15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empus Sans ITC"/>
              </a:rPr>
              <a:t>Určení vedoucíh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4360" y="5877000"/>
            <a:ext cx="7129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cc00"/>
                </a:solidFill>
                <a:latin typeface="Arial"/>
              </a:rPr>
              <a:t>Vymezení a definování projektů (Veber, 2000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500"/>
                            </p:stCondLst>
                            <p:childTnLst>
                              <p:par>
                                <p:cTn id="2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500"/>
                            </p:stCondLst>
                            <p:childTnLst>
                              <p:par>
                                <p:cTn id="2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3000"/>
                            </p:stCondLst>
                            <p:childTnLst>
                              <p:par>
                                <p:cTn id="2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3500"/>
                            </p:stCondLst>
                            <p:childTnLst>
                              <p:par>
                                <p:cTn id="2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400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4500"/>
                            </p:stCondLst>
                            <p:childTnLst>
                              <p:par>
                                <p:cTn id="3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0"/>
                            </p:stCondLst>
                            <p:childTnLst>
                              <p:par>
                                <p:cTn id="3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500"/>
                            </p:stCondLst>
                            <p:childTnLst>
                              <p:par>
                                <p:cTn id="3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6000"/>
                            </p:stCondLst>
                            <p:childTnLst>
                              <p:par>
                                <p:cTn id="3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empus Sans ITC"/>
              </a:rPr>
              <a:t>Plánování projektu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26920" y="1773360"/>
            <a:ext cx="784872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empus Sans ITC"/>
              </a:rPr>
              <a:t>Výstupem procesu plánování je</a:t>
            </a:r>
            <a:r>
              <a:rPr b="1" lang="en-US" sz="2000" spc="-1" strike="noStrike">
                <a:solidFill>
                  <a:srgbClr val="ffffff"/>
                </a:solidFill>
                <a:latin typeface="Tempus Sans ITC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Tempus Sans ITC"/>
              </a:rPr>
              <a:t>plán projektu</a:t>
            </a:r>
            <a:r>
              <a:rPr b="0" i="1" lang="en-US" sz="2000" spc="-1" strike="noStrike">
                <a:solidFill>
                  <a:srgbClr val="ffffff"/>
                </a:solidFill>
                <a:latin typeface="Tempus Sans ITC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empus Sans ITC"/>
              </a:rPr>
              <a:t>určující</a:t>
            </a:r>
            <a:r>
              <a:rPr b="0" lang="en-US" sz="2000" spc="-1" strike="noStrike">
                <a:solidFill>
                  <a:srgbClr val="ffffff"/>
                </a:solidFill>
                <a:latin typeface="Tempus Sans ITC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empus Sans ITC"/>
              </a:rPr>
              <a:t>věcnou, časovou, rozpočtovou a organizační dimenzi projektu</a:t>
            </a:r>
            <a:r>
              <a:rPr b="0" lang="en-US" sz="2000" spc="-1" strike="noStrike">
                <a:solidFill>
                  <a:srgbClr val="ffffff"/>
                </a:solidFill>
                <a:latin typeface="Tempus Sans ITC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empus Sans ITC"/>
              </a:rPr>
              <a:t>V nejširším pojetí jsou plány závislé na znalosti tří faktorů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92360" y="3762360"/>
            <a:ext cx="460872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Kde nyní js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Kam se chcete dost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Jakým způsobem se dostaneme tam, kde chceme bý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2500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empus Sans ITC"/>
              </a:rPr>
              <a:t>Jednotlivé dimenze plánu projektu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26920" y="2060280"/>
            <a:ext cx="78487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Věcná dimen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Časová dimen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Organizační dimen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Rozpočtová dimen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empus Sans ITC"/>
              </a:rPr>
              <a:t>Realizace projektu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26920" y="1988640"/>
            <a:ext cx="78487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8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Systémová integr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Dohled nad realizac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Podává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500"/>
                            </p:stCondLst>
                            <p:childTnLst>
                              <p:par>
                                <p:cTn id="4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empus Sans ITC"/>
              </a:rPr>
              <a:t>Předání a vyhodnocení projektu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26560" y="2133720"/>
            <a:ext cx="252108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cc00"/>
                </a:solidFill>
                <a:uFillTx/>
                <a:latin typeface="Tempus Sans ITC"/>
              </a:rPr>
              <a:t>VYHODNOCENÍ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empus Sans ITC"/>
              </a:rPr>
              <a:t>Testován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empus Sans ITC"/>
              </a:rPr>
              <a:t>Zkušební provo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empus Sans ITC"/>
              </a:rPr>
              <a:t>Stand. postup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419640" y="2133720"/>
            <a:ext cx="244944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cc00"/>
                </a:solidFill>
                <a:uFillTx/>
                <a:latin typeface="Tempus Sans ITC"/>
              </a:rPr>
              <a:t>PŘEDÁ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empus Sans ITC"/>
              </a:rPr>
              <a:t>Předávací protok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empus Sans ITC"/>
              </a:rPr>
              <a:t>Rutinní provo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empus Sans ITC"/>
              </a:rPr>
              <a:t>Garance projekt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12000" y="2133720"/>
            <a:ext cx="244944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cc00"/>
                </a:solidFill>
                <a:uFillTx/>
                <a:latin typeface="Tempus Sans ITC"/>
              </a:rPr>
              <a:t>VYHODNOCE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empus Sans ITC"/>
              </a:rPr>
              <a:t>Managemen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empus Sans ITC"/>
              </a:rPr>
              <a:t>Podle ekonomických výsledk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4360" y="5877000"/>
            <a:ext cx="7129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cc00"/>
                </a:solidFill>
                <a:latin typeface="Arial"/>
              </a:rPr>
              <a:t>Předání a vyhodnocení projektu (Veber, 2000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000"/>
                            </p:stCondLst>
                            <p:childTnLst>
                              <p:par>
                                <p:cTn id="4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500"/>
                            </p:stCondLst>
                            <p:childTnLst>
                              <p:par>
                                <p:cTn id="4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2000"/>
                            </p:stCondLst>
                            <p:childTnLst>
                              <p:par>
                                <p:cTn id="4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500"/>
                            </p:stCondLst>
                            <p:childTnLst>
                              <p:par>
                                <p:cTn id="4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3000"/>
                            </p:stCondLst>
                            <p:childTnLst>
                              <p:par>
                                <p:cTn id="4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3500"/>
                            </p:stCondLst>
                            <p:childTnLst>
                              <p:par>
                                <p:cTn id="4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4500"/>
                            </p:stCondLst>
                            <p:childTnLst>
                              <p:par>
                                <p:cTn id="4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5000"/>
                            </p:stCondLst>
                            <p:childTnLst>
                              <p:par>
                                <p:cTn id="4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500"/>
                            </p:stCondLst>
                            <p:childTnLst>
                              <p:par>
                                <p:cTn id="4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6000"/>
                            </p:stCondLst>
                            <p:childTnLst>
                              <p:par>
                                <p:cTn id="4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Lucida Handwriting"/>
              </a:rPr>
              <a:t>Použitá literatur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SzPct val="1398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ěmec, V.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 Projektový management,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raha: Grada Publishing, 200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SzPct val="1398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Rosenau, M.D.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 Řízení projektů,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raha: Computer Press, 200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SzPct val="1398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vozilová, A.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Projektový management.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raha: Grada Publishing, 2006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SzPct val="1398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Šmajs, J.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Drama evoluce.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raha: Hynek, 200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SzPct val="1398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eber, J. a kol.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 Management. Základy, prosperita, globalizace.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raha: Management Press, 2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1000"/>
                            </p:stCondLst>
                            <p:childTnLst>
                              <p:par>
                                <p:cTn id="4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500"/>
                            </p:stCondLst>
                            <p:childTnLst>
                              <p:par>
                                <p:cTn id="4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2000"/>
                            </p:stCondLst>
                            <p:childTnLst>
                              <p:par>
                                <p:cTn id="4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2500"/>
                            </p:stCondLst>
                            <p:childTnLst>
                              <p:par>
                                <p:cTn id="5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2590560"/>
            <a:ext cx="84582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Lucida Handwriting"/>
              </a:rPr>
              <a:t>Děkujeme za pozornos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empus Sans ITC"/>
              </a:rPr>
              <a:t>Co to je projektový management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77336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empus Sans ITC"/>
              </a:rPr>
              <a:t>„</a:t>
            </a:r>
            <a:r>
              <a:rPr b="1" lang="cs-CZ" sz="2000" spc="-1" strike="noStrike">
                <a:solidFill>
                  <a:srgbClr val="ffffff"/>
                </a:solidFill>
                <a:latin typeface="Tempus Sans ITC"/>
              </a:rPr>
              <a:t>Uplatnění specifických nástrojů, technik, znalostí a dovedností v projektových činnostech s cílem splnit (popř. překročit) očekávání, jež jsou s projektem spojena“ (Veber, 2000).</a:t>
            </a:r>
            <a:r>
              <a:rPr b="0" lang="cs-CZ" sz="2000" spc="-1" strike="noStrike">
                <a:solidFill>
                  <a:srgbClr val="ffffff"/>
                </a:solidFill>
                <a:latin typeface="Tempus Sans ITC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empus Sans ITC"/>
              </a:rPr>
              <a:t>Přístup řízení při zavádění závažných změn v organizací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empus Sans ITC"/>
              </a:rPr>
              <a:t>Každá změna je projekt – je jedinečná a má svůj cí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empus Sans ITC"/>
              </a:rPr>
              <a:t>Projektový management obsahuj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5640" y="22050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 u="sng">
                <a:solidFill>
                  <a:srgbClr val="ffffff"/>
                </a:solidFill>
                <a:uFillTx/>
                <a:latin typeface="Tempus Sans ITC"/>
              </a:rPr>
              <a:t>Aktivity související 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Řízením předmětu či služ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Ekonomickým aspektem projekt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Časovou koordinací projekt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Budováním mezilidských vztahů mezi účastníky projektu - teambuil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50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5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empus Sans ITC"/>
              </a:rPr>
              <a:t>Charakteristické znaky projektu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26920" y="177336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empus Sans ITC"/>
              </a:rPr>
              <a:t>Cí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empus Sans ITC"/>
              </a:rPr>
              <a:t>Jedinečno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empus Sans ITC"/>
              </a:rPr>
              <a:t>Zdroj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empus Sans ITC"/>
              </a:rPr>
              <a:t>Organiz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empus Sans ITC"/>
              </a:rPr>
              <a:t>Cíl projektu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6920" y="177336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empus Sans ITC"/>
              </a:rPr>
              <a:t>Tzv. projektový trojimperativ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Specifikace provedení projekt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Časový plá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Nákla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empus Sans ITC"/>
              </a:rPr>
              <a:t>Snaha o dosažení všech cílů najedn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empus Sans ITC"/>
              </a:rPr>
              <a:t>Jedinečnost projektu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26920" y="177336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empus Sans ITC"/>
              </a:rPr>
              <a:t>Jedinečnos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Čas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Financ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Pracovních skup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empus Sans ITC"/>
              </a:rPr>
              <a:t>Zdroje projektu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6920" y="177336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Materiální i lidsk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Je velmi důležité organizovat lidské zdroje, aby byly schopny efektivně využívat zdroje materiál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empus Sans ITC"/>
              </a:rPr>
              <a:t>Organizace projektu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26920" y="177336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Zvládání mezilidských konflikt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Velký počet cíl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Velký počet jednotlivců různý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Profes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Zájm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Povahových vlastnost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empus Sans ITC"/>
              </a:rPr>
              <a:t>Struktura projektového řízení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6920" y="177336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Vymezení a definování zadání projekt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Plánování projekt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Realizace Projekt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Předání a vyhodnocení projekt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500"/>
                            </p:stCondLst>
                            <p:childTnLst>
                              <p:par>
                                <p:cTn id="2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12:28:15Z</dcterms:created>
  <dc:creator>Petr Suchánek</dc:creator>
  <dc:description/>
  <dc:language>en-US</dc:language>
  <cp:lastModifiedBy>Simerský</cp:lastModifiedBy>
  <dcterms:modified xsi:type="dcterms:W3CDTF">2006-12-03T22:35:28Z</dcterms:modified>
  <cp:revision>6</cp:revision>
  <dc:subject/>
  <dc:title>CHARAKTERISTICKÉ RYSY A ZÁKLADNÍ PRINCIPY INDUSTRIÁLNÍ SPOLEČNOSTI </dc:title>
</cp:coreProperties>
</file>