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6D3-9EBD-4BF4-9BE4-0DED0B99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186-A356-4587-A707-A8538E0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870-A14A-4579-91C5-350CAC67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BB7-8F26-4420-B4E5-96B64A56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9B7F-2AE9-48E8-A6AE-19ABAFD1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4903-046D-4545-A6D9-E6057FD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E1FA-DDB6-490E-BE82-CF6C050C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6B33-29A1-4E41-B428-9C68E1B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CE9-BD9C-4C9F-AB94-C432387D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507D-B291-4513-BDA6-2B0D57E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EEBF-5D9C-4FC1-9449-125ABC3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5B3-1AFD-4428-B2AA-E7904178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9C85-4148-4E93-B51A-325C628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21D6-A074-48B8-87F1-9173514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C79A-0663-433A-9244-D47B44FA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7C35-5D17-41AA-B150-4C19275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041-B221-4059-873A-6C496D74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B85-5EC3-41CB-8962-9FA206F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393-FF42-4D79-AF3A-466654F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9C2-C09A-4700-AE63-2D92F7D7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617-1E88-42F1-A1FC-F3793E0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78D-3118-4D47-9353-B1F95DB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0A5-1A64-476A-9740-7CEA05C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FBD-FBBD-4A39-A469-C1B6F79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428-FD08-417B-B429-3FFC1E25422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CFC-2679-4CAA-943A-B573CB335CD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lek.info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rizový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ata Brosk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ana Matonoh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omáš Procház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inanční rizik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ikvidita - schopnost splácet své závaz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lventnost - dostatek finančních prostřed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tabilita - větší zisky než nákl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ová: - přitlačení k nízké ceně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zinárodní rizika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při realizaci vývoz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špatný průzkum odbytiště, nedostatek zákazníků, vytváření velkých zásob v zahranič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spojené s placením - nezaplacení zakázky, měnové rizik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litická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anovení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mezen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celkové ohrožení organizace, zvláště příprava alternativ plánu pro zvládnutí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dstranění ohnisek potenciálních kriz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které mohou ohrozit organizaci (existenci konkure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alizace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ostup při vzniku kriz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dstranění ohnisek kriz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mezení celkového ohrožen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zvládnutí krizové situace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ředpokladem k úspěchu j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menování odpovědného vedoucího krizového tý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stavit krizový tým z takových pracovníků, kteří mohou učinit řeš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ajistit rychlý tok informac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droj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http://halek.inf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Smejkal, Vladimír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Řízení rizik ve firmách a jiných organizacích.</a:t>
            </a: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Dvořák, Jiří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Úvod do krizového managementu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Šenovský, Michail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Základy krizového managementu V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ěkujeme za pozornost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Krize v 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 to situace, která představuje trvalé nebo po delší dobu negativní odchylku od normálního stavu, ohrožují cíl organizace nebo její samotnou existenc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u klesají příj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stou náklad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2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vyšuje se objem úvěrů, rostou splátk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a jeho produkce tzn. "vypadává z trhu"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3. Etap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banky přestávají poskytovat úvěr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u stávajících úvěrů se začnou zvedat úrokové sazb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chybí zisk pro financování rozvoje, či udržení subjekt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bjevují se potíže s platební schopností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subjekt nuceně snižuje zásoby materiálu, a dlouhodobého hmotného majetk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mezují se nákup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4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se dostává do ztráty, nejsou prostředky na pokrytí fixních nákladů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vnitř společnosti se objevují spory, které se projevují i navenek, ve vztahu k obchodním partnerům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atební schopnost se sníží na minim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vky krizového management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dhalení rizika - příčiny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novení krizové strateg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lizace krizové strategi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uvnitř podniku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materiálová krize, výrobní krize, personál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mimo podnik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dodavatel má krizi, konkurence, zákazníka, krize způsobená legislativními podmínkam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dělíme do následujících 3 skupin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ůmyslové a obchodní rizik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nan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zinárodní rizika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ůmyslové a obchodní rizik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ýrobní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ální problé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ákup surov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v oblasti infor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tribu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5:29:38Z</dcterms:created>
  <dc:creator>Start</dc:creator>
  <dc:description/>
  <dc:language>en-US</dc:language>
  <cp:lastModifiedBy>Alena Nováková</cp:lastModifiedBy>
  <dcterms:modified xsi:type="dcterms:W3CDTF">2006-12-03T12:40:28Z</dcterms:modified>
  <cp:revision>4</cp:revision>
  <dc:subject/>
  <dc:title>Krizový management</dc:title>
</cp:coreProperties>
</file>