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5E6-5F20-4117-978F-00B0BA94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580-ED3D-4420-A74F-32F603F6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A21-33E4-4DD7-BA39-92D33AA8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651-3B4A-4D2C-B195-6282ABD3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44C5-4FAF-44A6-919C-5CB3F1CE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A1ED-ACD3-4E62-818C-FC857C9B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0775-EC4D-4F03-B0F6-47E54C85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0BB5-4FD5-41B7-8985-DC034361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DCFE-7F42-4F52-A2BE-9A6E8EAB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2EA8-9EDF-4250-BEB0-828B20CD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1807-9C90-4A5D-B018-7731AFB3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B7F-9E61-4578-9A66-65D73324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B173-A894-40FF-8E76-D512C023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6560-1790-4505-979C-6AA75A84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9A22-1C58-4980-B107-1117DB92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004B-12BA-4F9D-B997-A6600401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D84B-F952-4AB7-980A-25D01AAD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88B-2A75-4937-988A-ACF91033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063-CDDF-483A-8878-72586B08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C73-897A-4CCC-A088-5A4923E9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2E5-3C28-4FE1-BA59-B59C036A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9D4-93AD-4807-B624-8F8CC064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2D4D-E9DB-4067-9685-CFD7F8AE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8C4-0227-4968-9BD8-2E007F22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0953-F89B-4E29-BE2E-F3C44624135D}" type="slidenum">
              <a:rPr b="0" lang="cs-CZ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4557-F7E9-4A10-BF96-DFFD8146F954}" type="slidenum">
              <a:rPr b="0" lang="cs-CZ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Manažerská etika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ára Kozlová, Veronika Paďourová, Barbora Vincenecov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ásady výstavby etického kodexu podniku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ko vodítko pro rozhodování slouží vždy deklarované hodnoty podniku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být vnitřně konzistentní a souviset s posláním, cíli, strategií a politikou podniku. Měl by obsahovat jasně formulované priority, závazky a požadavky a srozumitelné vymezení etických rol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být přiměřený. Nemůže být příliš detailní ani příliš obecný. Práva, povinnosti a požadavky na chování zaměstnanců musí být vyvážené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obsahovat mechanismus řešení konfliktů, jeho jasnou interpretaci a aplikaci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kodex v podnik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ři formulování obsahu etického kodexu by měla být respektována zásad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stupu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od obecného ke konkrétnímu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Záleží na vedení podniku, jaký etický kodex si vytvoří. Často je velmi obtížné stanovit rozsah a celkovou proporci obsahu kodexu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tický kodex by měl být vždy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veřejně přístupný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ro soustavu etických hodnot nelze najít univerzální schéma. Podstatné však je, aby si lidé v podniku díky kodexu lépe uvědomovali morální nároky a aby tyto nároky byly všeobecně přijatelné jako rozumné mantinely jejich práce, ne jako nástroj k omezování jejich svobod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Integrace etiky do strategického plánování podniku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eze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ální kvalita jednání podniku netkví ve sledování kvantifikace zisku, ale ve volbě prostředků, jakými lze zisku dosáhn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odnikatelská etika a práv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ákonné právo si samo o sobě nemůže zjednat své plněn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ce etiky do podnikové strategie vhodně doplňuje právo tam, kde je jeho aplikace obtížn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1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2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3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teratura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NÝ, I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tika v podnikové strategii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oskovice : Albert, 1998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tedra podnikového hospodářství (2006)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anagement II, průvodce studie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[online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Děkujeme za pozornost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Stanovení klíčových etických hodnot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nik rozhoduje, které mravní hodnoty se stanou jejich hlavním identifikačním znak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íčové etické  hodnoty se stávají páteří podnikové kultu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cké hodnoty se též stávají součástí podnikové strate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Tři základní funkce podnikových hodno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finiční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vymezují „kdo jsme a oč usilujeme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ategická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vlivňují společenské mínění o firmě a tím i do jisté míry preferenci zákazníků, investorů at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Kontrolní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umožňují veřejnosti hodnotit z mravního hlediska konkrétní aktivity a chování podniku na tr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Tři základní požadavky na charakter podnikových hodno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adčasov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becný charakter, akceptovatelnost i v budoucn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řiměřen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ouvisí s kritickým pohledem na kapacitu podniku, co je pro něj reál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ar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ouvisí s předchozím požadavkem, hlásání něčeho, co podnik není schopen zrealizovat, postrádá smys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Použití klíčových etických hodnot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část firemního loga: „Tchibo – dát to nejlepší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klamní slogan: „Hypoteční banka – Zkraťte si cestu domů!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ormulace: jasné, srozumitelné teze; pozor na vícevýznamovost slov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 hlediska Maslowovy teorie potřeb je neetické vydávat některé nižší potřeby za vyšší (auto, cigarety, čokoládové tyčinky atd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Etický kodex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kodex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líčové etické hodnoty podnik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jsou základním morálním rámcem pro jeho činnost. Jsou však příliš obecné na to, aby mohly určovat řešení konkrétních etických problémů a dilema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o se zavádí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tický kodex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který poskytuje detailnější rozpracování, konkretizaci morálních zásad a jejich použití v podnikové prax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vádění etických kodexů se netýká pouze podnikové sféry. Kodexy již existují v bankovnictví, pojišťovnictví a státní správě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 hlediska vedení podniku může dobře sestavený kodex pomoci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iminovat nežádoucí chování, které způsobují pokles přízně zákazníků, zaměstnanců, investorů, veřejnost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jasnit politiku podniku v morálních otázkách, např. zacházení s důvěrnými informacemi, přijímání „pozorností“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ílit vnitropodnikovou disciplínu, snížit potřebu donucovacích opatření pro odhalení neetického chová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mezit nadřízeným zneužívat svého postave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zitivně motivovat zaměstnance tím, že pracují v etickém prostředí s jasnými pravid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 hlediska podnikového managementu kodex může pomoci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řešit morální problémy a dilemata, které se vyskytují v práci podnikových manager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čelit neetickým požadavkům zákazníků, dodavatelů, ale i nadřízených a podřízený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hajovat svá rozhodnutí jak uvnitř, tak vně podni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jednodušit vnitropodnikovou komunikac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důvodnit návrhy na disciplinární opatření při porušování etických zásad ze strany zaměstnanc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rychlit identifikaci problémových praktik a odhalení případných podvod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7:46:08Z</dcterms:created>
  <dc:creator>PC</dc:creator>
  <dc:description/>
  <dc:language>en-US</dc:language>
  <cp:lastModifiedBy>Ondřej Částek</cp:lastModifiedBy>
  <dcterms:modified xsi:type="dcterms:W3CDTF">2006-11-23T08:59:29Z</dcterms:modified>
  <cp:revision>8</cp:revision>
  <dc:subject/>
  <dc:title>Manažerská etika</dc:title>
</cp:coreProperties>
</file>