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7BD-4A85-4DA8-900C-80ADD7CE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D96-A131-447A-A8A3-F8498CE8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D90-CF39-4BBE-89E9-A8219C3D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792-01CD-40EE-9938-B65EE8C9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FE1-4D8B-4583-BA3E-0DC1D883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F03-A29A-49D0-9170-C35A255C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9B0-7D50-494A-BB68-7FBB4B0B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DBB-A224-4E07-9206-2D9DB96D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769-38C3-4E11-9FC8-B95E20FB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9F3-DCE6-4BE3-94F3-5AEA3269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F83-4558-4D1F-88AA-4A6B0A51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A2F-8FFC-4744-BAB7-C1AA7CB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9E69-D216-441D-A30D-0A54D048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žerská etika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větlá a Temná strana 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302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ená e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příro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51280" y="2036880"/>
            <a:ext cx="4896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763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ka nechť Vás provází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yšlení o tém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íly v etice dle ge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Evr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2387520"/>
            <a:ext cx="44625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ubší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ovy dimenze kul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tika vs. menta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2979720" cy="41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268360" y="4365720"/>
            <a:ext cx="2016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še za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12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opská e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esťanské desatero (4. – 1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ni, abys den sváteční svět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 otce svého i matku svou, abys dlouho živ byl a dobře se ti vedlo na z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abij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esmilní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krad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romluvíš křivého svědec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manželky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statku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3249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cké kodexy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upující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o a pro ko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573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kace kodex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psi a Coca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ta Brno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103640" cy="8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7432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 je evropská eti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6121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problém a etické di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 je konat „dobře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íklad: pra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ující eti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stoty vs. prospe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atero vs. konku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2781000"/>
            <a:ext cx="3240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lost vs.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ka – zaměření na dlouhodob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5041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5:24:46Z</dcterms:created>
  <dc:creator>Loser</dc:creator>
  <dc:description/>
  <dc:language>en-US</dc:language>
  <cp:lastModifiedBy>Loser</cp:lastModifiedBy>
  <dcterms:modified xsi:type="dcterms:W3CDTF">2006-12-04T21:03:22Z</dcterms:modified>
  <cp:revision>5</cp:revision>
  <dc:subject/>
  <dc:title>Manažerská etika</dc:title>
</cp:coreProperties>
</file>