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AE4-FEB7-4D42-A8AB-4D824246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8BB-011C-44D1-B8DE-6EEA100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51C-3367-461F-9250-E7B71ED2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A0C-A88B-4BDC-B0C6-86C19B60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94F9-9CCA-464C-AD1C-BB289A9F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171E-4AA4-437B-BF42-33CE17A6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A444-6297-46F8-A6F7-D899372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C7C4-D488-4B41-B08D-EB59028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2D78-90BF-4178-B2A0-23A07E2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BA2C-4AAF-427F-95AC-C7E9D4B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1DCA-FA66-4A13-88BE-DEDA7EEB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EDA-F341-4C35-8C92-9AFDF6E7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DFE4-CAEF-444B-BFC1-3A27C3B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FD39-7D51-42F7-A906-0770363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5DA9-C359-4BAF-846D-505ECF8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B3E6-1416-4D82-91E0-6681A331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52A3-041D-43C8-8863-DB67821D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EAA-0BF5-400F-9CF9-78C309E6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5C5-F7B3-46C3-AAD4-DADB208A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000-9738-4146-B220-9191EE93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FD3-BC86-4351-A75A-B549D8C1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876-A6DF-44DB-8617-309A9BC1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7EF-1B83-470E-9393-4E36C34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20F-A325-4B53-B97D-1AC9706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F9E-B5A3-473D-8D83-1B8DEB1879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DBD-67D6-40EB-99AC-71090EB56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Han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Bár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Obši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hodnoty, názory a předpoklady, které existují v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aný způsob vnímání, odvozený z názorů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u nás věci dělají…to, co je pro organizaci typické, její zvyky, převládající post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znik a vývoj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a hlavní princi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úzk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tivní posi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vky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y 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ky a mý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ky, rituály a ceremon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d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í architektura a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ktory ovlivňující kultur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a trž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adatel/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st a délka existence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íly kultury a výkon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ná kultura:charakteristická svojí vyhraněností, stabilitou a vysokou mírou sdílení a respektování předpokladů hodnot a n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ve vnímání a myšlení prac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uje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ílení společných hodnot a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výhod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uje organizaci na minulou 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braňuje myšlení v alternati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ůsobuje rezistenci vůči změn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užitá literatur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ová, R., Nový, I. : Organizační kultura. Praha: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, I., Schroll-Machl, S.: Interkulturní komunikace v řízení a podnikání. Praha: Management Press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žek, L. : Management II: Průvodce stud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15:06Z</dcterms:created>
  <dc:creator>Franta Konopásek</dc:creator>
  <dc:description/>
  <dc:language>en-US</dc:language>
  <cp:lastModifiedBy>Franta Konopásek</cp:lastModifiedBy>
  <dcterms:modified xsi:type="dcterms:W3CDTF">2006-11-13T10:40:34Z</dcterms:modified>
  <cp:revision>2</cp:revision>
  <dc:subject/>
  <dc:title>Organizační kultura</dc:title>
</cp:coreProperties>
</file>