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5A8-1908-478F-AFD1-D96E7768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4CC-77EB-4EE6-9072-F617DF09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BBE-FDA0-43C1-8420-57312F9B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1CB-F391-41EB-B4DA-DCE31361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330F-4A52-4FED-B539-2741A14A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E7DA-38A3-4E6C-AAD7-EDC57010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1A01-6F03-418C-A51E-9161BFB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F845-B093-4F56-91DC-4849B3ED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7AB4-4E2E-4129-92B1-9802D8C2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71F4-1393-4F1B-8D82-4FD671BC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BC95-CCC4-48C6-90E8-9868285F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5F3-3016-4C8A-BC92-134B760A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269D-1505-4BC2-9C29-149B237A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E3E2-053E-4AF5-9AB4-8C390540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0FE9-8BE3-4526-9874-3383D48E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0667-6773-42BB-846D-940102E2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3E1E-324D-4BCE-AE46-B8AF041E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B9A-600B-488D-8534-E6074B6C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5CD-32DF-4785-ABBE-DD1D0804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62E-8C2A-44BD-B7C8-4F49F55B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950-4548-4831-8460-2EFEBD8E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0F3-4917-4FB1-BD51-E603FCBF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E07-D162-4EBF-AE10-DBC6A61D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621-80C8-4F22-B6D8-2E2B2B5C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2C0E-C707-49A4-A932-CF3A2083D4F0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1D87-DF84-4DAA-A838-001E738C354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seminarky.cz/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Georgia"/>
                <a:ea typeface="Times New Roman"/>
              </a:rPr>
              <a:t>Metody soudobého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ým 8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na Eliáš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. 12. 2006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artina Vaisharová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Koncepce jednoduchosti (McKinseye)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osazuje se ve strojírenství a v činnosti výrobců součáste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ato metoda vychází z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na rozhodující potřeby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nížení počtu zákazníků i dodavatelů při současném zainteresování spolupráce s ni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ládnutí vnitřní kompetentnosti řízení, jež je zaměřeno na jednoduché cíle a přehledné, průhledné i málo složité postup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Reengineering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Od počátku 90. l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ozumí se tím zásadní přehodnocení a radikální přeměna podnikových procesů tak, aby mohlo být dosaženo výrazného zdokonalení z hlediska kritických měřítek výkonnosti jako jsou náklady, kvalita, rychlost a na produkt navazující služb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Jde o restrukturalizaci podnikových procesů s cílem dosáhnout větší konkurenční výhody, lepším uspokojováním potřeb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Základy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Doc. Ing. Václav Lednický, CSc., Ostrava 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seminarky.c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660066"/>
                </a:solidFill>
                <a:latin typeface="Tahoma"/>
              </a:rPr>
              <a:t>Děkujeme za pozornost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Vývoj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řed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ostklasické období (moderní managemen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časn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Zvyšování tržních podílů využíváním konkurenční výh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nižování nákladů na produk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yšování jakosti produk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čas v podobě pohotovosti a rychlosti dodáv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Manažerské met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3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dynamických  7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Jasný manag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urnaro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enchmark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„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Štíhlá výroba“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Koncepce jednoduch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Reenginee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3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ákazník (Custom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onkurence (Competit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měna (Chang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dynamických 7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takeholders satisfaction (uspokojování nároků spotřebitelů a okol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oohsaying (předvídání příležitost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peed (rychlos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urprice (moment překvap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gnals (vysílání signálů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ocks (zásahy do tržní rovnová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ifts (posuny na trhu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Turnaround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se na jádro podnik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atraktivnosti výrobků a služeb cestou inovac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nového a přitažlivého jména fir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ce sjednoceného a svorného top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Benchma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Základem benchmarkingu je sedm kroků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tanovení kritéria benchmarkingu – koncipování dotaz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říprava interních dat pro srovnávání – přesné určení ukazatel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ýběr podniku pro srovnání – zásadně ten nejlep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hromáždění externích dat s využitím všech možných zdroj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nalýza a interpretace dat při použití i znalostí exper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Odvození cílů specifických pro podnik, jež s ebudou opírat o výsledky analýzy – zadat vysoké cí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plánu opatření k dosažení cílů cestou tvůrčích řešení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„</a:t>
            </a: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Štíhlá výroba“ </a:t>
            </a:r>
            <a:br>
              <a:rPr sz="3600"/>
            </a:b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(Lean Production)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znik v automobilovém průmysl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ílem je udržet se na trhu, přežít a pokud možno vyniknout při  využívání podpory dílčích cílů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produktiv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kva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edením podniku a pracovní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ýrobcem a zákazníkem či odběratele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32:47Z</dcterms:created>
  <dc:creator>Janicka</dc:creator>
  <dc:description/>
  <dc:language>en-US</dc:language>
  <cp:lastModifiedBy>Rodina</cp:lastModifiedBy>
  <dcterms:modified xsi:type="dcterms:W3CDTF">2006-11-20T15:13:04Z</dcterms:modified>
  <cp:revision>4</cp:revision>
  <dc:subject/>
  <dc:title>Management II</dc:title>
</cp:coreProperties>
</file>