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D95-4416-4DA5-9990-5606574D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24E-1CAC-4838-8033-243A9C84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87B-9E91-4ED3-9AA7-26B1361D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31F-43B3-4095-8AB1-4E9C2A85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94C-FC75-4343-B038-D4BF4E4D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03A-ACF3-48F8-82F2-45132057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837-3DB1-4C3A-BAD1-F7621198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576-0C77-451F-8EC7-7360161F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06F-48C2-46E7-97FF-C56F8ED0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C0A-C9B1-4B12-BC5D-36C1CAAF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4F1-61F1-41E5-8455-7E3B0842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58A-91DB-475E-8DA3-24F10FBC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5C02-45A1-447D-820F-5E70E0A8FF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ální dimenze ekonom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. seminární práce týmu č.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ypracovali: Ivana Klein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ronika Kříž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an Čerb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Metody dosahování cíl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 hledají nejracionálnější způsoby dosahování svých cí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když se člověk rozhoduje ve značně ohraničené oblasti, v níž si přeje provádět pouze logicko-empirické úvahu, jsou jeho rozhodnutí stále ještě sub-racion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zpravidla nečiní racionální rozhodnu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Kdo jsou aktéř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závislí jedinci, provádějící svá vlstní rozhodnu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1640" y="19051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oba jsko člen sociální kolektivity, která ve značném rozsahu individuální rozhodnutí ohranič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dividualita existuje, avšak pouze v rámci sociálního kontex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ed námi je podstata člověk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kolik jsme moudří, jaká je úloha morálky, emocí a sociálních vazeb v našem individuálním a společenském životě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á liter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mitai Etzioni, Morální dimenze ekonomiky ISBN 80-85865-19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aradigma založené na moderované verzi deontologické eti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áchází smysl sociálního svě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užíváme ho při pokusech pochopit a zlepšit sami sebe, ty, kteří nám jsou drazí, a ty, kteří nám tak drazí nejs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j o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álně – konzervativní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r>
              <a:rPr b="0" lang="cs-CZ" sz="50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entované na užitek, racionalitu a jed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kováno nejen na ekonomiku, ale stále více na celé spektrum sociálních vztahů d zločinu až po rodi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álně-konzervativní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avní soupeř neoklasického paradigma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jímá individua jako morálně nezpůsobilá, často iracionální, a tudíž vyžadující silnou autoritu pro kontrolu jejich impulsů, řízení jejich snah a udržování pořád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ápe individua jako schopná jednat racionálně a vě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chopná rozvíjet svoje JÁ (self), tato schopnost je však hluboce ovlivněna jejich zakotvením ve zdravém společenství, je podporována pevním, morálním, emotivním osobním spojení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olečenství chápou spíše jako MY, než jako omezující a vnucené 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 deon – závaze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lavní škola etiky, spřízněná s utilitarism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statou je tvrzení, že činy jsou morálně správné, když odpovídají relevatnímu principu nebo povin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ůrazňuje, že morální status činu nemá být posuzován podle jeho důsledku, což činí utilitarismus, ale podle „záměru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ř. člověk, který někoho pomlouvá, jedná nemorálně bez ohledu na to, zda se mu podařilo skutečně dotyčného poškodit, nebo nik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i zastřešující otáz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zdroje lidských hodnot, nebo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metody dosahování námi zvolených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o jsou klíčoví aktéř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Jaké jsou naše cí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lověk se snaží „maximalizovat“ svou užitečnost (požit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us (hlavně cena), který by mohl uskutečnit co nejefektivnější alokaci zdrojů, takovou, která jevíce uspokojuje lidská př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ské bytosti provádějí se svými žádostmi morální soudy. Pak je morální souhlas příčinou, která chování částečně vysvětl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mají různá přání, včetně toho žít podle vlastních morálních n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2:12:37Z</dcterms:created>
  <dc:creator>King</dc:creator>
  <dc:description/>
  <dc:language>en-US</dc:language>
  <cp:lastModifiedBy>Gecon</cp:lastModifiedBy>
  <dcterms:modified xsi:type="dcterms:W3CDTF">2006-11-20T14:00:21Z</dcterms:modified>
  <cp:revision>3</cp:revision>
  <dc:subject/>
  <dc:title>Morální dimenze ekonomiky</dc:title>
</cp:coreProperties>
</file>