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0DD-2256-4E71-951A-A7864BF0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4442-30A8-4E81-8B8E-6A8674E4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D06A-B0A4-45A2-B2F5-C9EE4DE8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458A-6A50-42BC-8E09-16DBC21E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D214-D3B4-4C6E-8226-E2D9A505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23DE-3FAA-4200-9987-D5699C8F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2218-A755-43D8-B2F5-8B128950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4C60-66B1-4DB5-9A86-24BAAE49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5437-874D-40C7-A4E2-C185F223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8FA5-A8EF-4FBE-BA2C-5A69ADFA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2A99-2F75-404E-8EBE-A87E43BE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0DB-C411-4A75-A4CA-F581371A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632D-7643-4EA4-B732-F870A337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081E-7316-47EB-A032-27AD5C99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9DAB-FA2A-42FE-BEA7-5256AECC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FD05-96F1-47D4-8215-4E3E4CC6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1DF5-1A1C-4135-94C1-AD9695DF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ED9-36FE-45E9-BBB5-FD782619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89B8-E86F-4BA4-BB6E-CDDCFD7C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7EC-D1E0-4036-B4A1-8C326FC5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6B37-C4A6-4C27-A04D-F5AB2745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A9BD-8541-4AAD-9790-AA69CFC1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2F86-9187-495E-9FC7-078E943F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37F5-85A7-4F46-8377-9761FF36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120" y="1771200"/>
                <a:ext cx="4467960" cy="334872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320" y="1771200"/>
                <a:ext cx="6294600" cy="375516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668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3760" y="181728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1680" y="1561680"/>
                <a:ext cx="1253880" cy="188676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0160" y="1422360"/>
                <a:ext cx="919080" cy="177264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3240" y="1536480"/>
                <a:ext cx="3921840" cy="380232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4800" y="1693440"/>
                <a:ext cx="2220480" cy="214092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5280" y="3223440"/>
                <a:ext cx="1992960" cy="128556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4920" y="5516640"/>
                <a:ext cx="4520160" cy="125064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8920" y="1463400"/>
                <a:ext cx="506160" cy="135540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2760" y="5662800"/>
                <a:ext cx="102492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8840" y="3809160"/>
                <a:ext cx="4342320" cy="304704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16" name="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840" y="4070160"/>
                <a:ext cx="284760" cy="23904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98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7480" y="4977360"/>
                <a:ext cx="322560" cy="18972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120" y="4321800"/>
                <a:ext cx="142200" cy="12312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6600" y="4209480"/>
                <a:ext cx="159480" cy="14076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3880" y="5556600"/>
                <a:ext cx="131040" cy="12312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0040" y="4416840"/>
                <a:ext cx="142200" cy="11376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3440" y="4312440"/>
                <a:ext cx="142200" cy="13248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040" y="608688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040" y="4057560"/>
                <a:ext cx="4716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040" y="6096240"/>
                <a:ext cx="56880" cy="1044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2840" y="5668920"/>
                <a:ext cx="227520" cy="243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20000">
                <a:off x="981000" y="5632920"/>
                <a:ext cx="107640" cy="108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4760" y="3975480"/>
                <a:ext cx="550440" cy="201312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7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2878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4AD109-3B72-4936-904C-B02AB42738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120" y="1771200"/>
                <a:ext cx="4467960" cy="334872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320" y="1771200"/>
                <a:ext cx="6294600" cy="375516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668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3760" y="181728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1680" y="1561680"/>
                <a:ext cx="1253880" cy="188676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0160" y="1422360"/>
                <a:ext cx="919080" cy="177264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3240" y="1536480"/>
                <a:ext cx="3921840" cy="380232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4800" y="1693440"/>
                <a:ext cx="2220480" cy="214092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5280" y="3223440"/>
                <a:ext cx="1992960" cy="128556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4920" y="5516640"/>
                <a:ext cx="4520160" cy="125064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38920" y="1463400"/>
                <a:ext cx="506160" cy="135540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2760" y="5662800"/>
                <a:ext cx="102492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8840" y="3809160"/>
                <a:ext cx="4342320" cy="304704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208" name="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840" y="4070160"/>
                <a:ext cx="284760" cy="23904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98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7480" y="4977360"/>
                <a:ext cx="322560" cy="18972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3120" y="4321800"/>
                <a:ext cx="142200" cy="12312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6600" y="4209480"/>
                <a:ext cx="159480" cy="14076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3880" y="5556600"/>
                <a:ext cx="131040" cy="12312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0040" y="4416840"/>
                <a:ext cx="142200" cy="11376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3440" y="4312440"/>
                <a:ext cx="142200" cy="13248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040" y="608688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040" y="4057560"/>
                <a:ext cx="4716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040" y="6096240"/>
                <a:ext cx="56880" cy="1044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2840" y="5668920"/>
                <a:ext cx="227520" cy="243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20000">
                <a:off x="981000" y="5632920"/>
                <a:ext cx="107640" cy="108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4760" y="3975480"/>
                <a:ext cx="550440" cy="201312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42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4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5F64D-6FA8-49DB-BAAE-DC7B88D73D7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Organizační kultura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lva Talpov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kub Vaně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dřej Vymaz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užitá literatur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UKÁŠOVÁ, R., NOVÝ, I. a kol.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Organizační kultur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Praha : Grada, 2004. ISBN 80-247-0648-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Ý, I. a kol. 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Interkulturální management.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aha : Grada, 1996. ISBN 80-7169-260-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Ý, I., SCHROLL-MACHL, S. a kol.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Interkulturni komunikace v řízení a podnikán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Praha : Management Press, 1999. ISBN 80-7261-009-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ul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pecifický způsob organizce, realizace a rozvoje činnosti, objektivizovaný ve výsledcích fyzické a duševní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še, co človek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tvořil a přetvořil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během gener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ultura s přírodou koexistuje, ale neprolíná se s 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olínání kultu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2340000"/>
            <a:ext cx="854064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ždá sociální skupina má svou vlastní kultu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upiny nejsou izolované =&gt; kultury nejsou izolovan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orba a ovlivňování kultury i díky vzájemnému prolín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 okruhy kultu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áboženský okruh – širší než národní kult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árodní okruh – historický kulturní fenomén, především 19. sto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ruh jednotlivých sociálních subjektů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odina, organizace, profesní skupin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ganizační kul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ůsoby interakce a komunikace mezi lid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sady, pravidla, sociální no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bor základních předpokladů, hodnot, postojů a norem chov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sou sdíleny v rámci organizace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07880"/>
                <a:tab algn="l" pos="8049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7680"/>
                <a:tab algn="l" pos="3265560"/>
                <a:tab algn="l" pos="3673440"/>
                <a:tab algn="l" pos="408132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vky organizační kultu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ákladní předpoklady - představy o fungování re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dnoty - člověkem považováno za důležit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stoje - pozitivní nebo negativní poc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rmy chování – nepsaná pravidla, zásady chován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česká podniková kultura pohledem německé kultu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improvizace a flexibili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nedůvěra vůči pravidlů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kvali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velkorysost, schopnost být nad věc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Doporučení německým podnikatelů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538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předpokládat splněné požadav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dat jasné požadavky – ale nechat i částečnou vol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sledek bude vždy trochu jiný než požadav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Americká versus česká kul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4176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meričané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rientace na nejlepší výsled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ětší míra samostat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naha zmiňovat své úspěc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4859280" y="1773360"/>
            <a:ext cx="417672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eši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spokojení i v průběhu prá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irektivní řízení, větší doh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ětší skromno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ndra</dc:creator>
  <dc:description/>
  <dc:language>en-US</dc:language>
  <cp:lastModifiedBy>ondra</cp:lastModifiedBy>
  <dcterms:modified xsi:type="dcterms:W3CDTF">2006-12-02T20:37:38Z</dcterms:modified>
  <cp:revision>1</cp:revision>
  <dc:subject/>
  <dc:title>SVĚT ZMĚN</dc:title>
</cp:coreProperties>
</file>