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49CE-2801-4707-9242-9D2AED7471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3F5F-74DA-4B32-9079-A146AD6B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61FD-CDAB-46CB-BCCB-D50D62F9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B98A-9284-4461-8C5C-D7300F05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DD23-D776-4975-8550-919C8D30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2B8-425A-4E02-B81D-31067E0C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5EC3-1634-4C88-BEC2-AE5780E2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5D7F-9ECB-4062-B39C-677FBE53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EE90-552C-4FE8-B9B2-F66F2ECD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B0D3-C700-48AD-921C-A0ACF4F0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C59-5E93-4BDC-BBE9-FEDA88E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5E19-9149-4C77-B7BB-239720A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9E07-E0AC-48FD-A39A-FC6D8EF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6513-4F0B-4C28-8686-C81B1AB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BCD7-7429-4267-B752-44FCE98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4C27-8849-4FEE-AF57-7236582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7A3F-10CD-4E4E-B3BA-0E4F026C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531F-8F41-4F8A-9B26-BC2197B3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1068-0D03-4EF6-B157-2D96E19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83F2-566F-47D8-B68A-0BC43F4A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1E7B-FF95-493F-BC70-9F74D7E9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14A2-95A4-4D76-86F4-6DD845ED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342D-DFD4-4FFB-ADEF-C0E29D5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CCD1-EACB-46DA-AB79-FF8515BD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6B2E-6B9C-4AB6-ACA6-A1C61E2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46B3-A82E-4E62-ABE9-137E2D63ECF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80CA-217D-44BA-ACFC-0FD57F4ABAD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	</a:t>
            </a: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Manažerská etika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boženská a laic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boženská - 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Boha, na dogmatech a zjeveních a na strachu z odplaty na onom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aická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vaz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lid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rodin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lasti, 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iná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ý základ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cit morálního dluhu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pocit absolutní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ov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e dominance lidských prá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Vytrácí se hodnota oběti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mítá se ideál od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íká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sou vyt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vány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hnané p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davk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u povzbuzována okam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tá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ání, 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 blahobytu, št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ouběžně se však rozvíjí i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fundamentalistick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é prou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nik industriální éry byl anonymní a disciplinární, technokratický a mechanický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industriální podnik je pokládán za nositele smyslu a hodno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zmach kodex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chart podnikatelské etiky.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roli zde j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 osmdesátých letech minulého století sehrávaly americké firm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dex a etická prohlášení se nevylučují s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nikatelský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záj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álka a podniká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stávají být od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enými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8f828"/>
                </a:solidFill>
                <a:latin typeface="Times New Roman"/>
              </a:rPr>
              <a:t>U</a:t>
            </a:r>
            <a:r>
              <a:rPr b="1" lang="cs-CZ" sz="4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tilitaristická</a:t>
            </a:r>
            <a:r>
              <a:rPr b="1" lang="cs-CZ" sz="4400" spc="-1" strike="noStrike">
                <a:solidFill>
                  <a:srgbClr val="f8f828"/>
                </a:solidFill>
                <a:latin typeface="Garamond"/>
              </a:rPr>
              <a:t> </a:t>
            </a:r>
            <a:r>
              <a:rPr b="1" lang="cs-CZ" sz="44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rumentalizace</a:t>
            </a:r>
            <a:r>
              <a:rPr b="1" i="1" lang="cs-CZ" sz="44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ické chování a spo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á odp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 se stávají významnými faktory konkurenceschopnosti fir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idé c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í spolu s konzumací z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„konzumovat“ i mravní hodno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itucionalizace společenské odpovědnosti podnik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70. let dvacátého století - Koncept společenské odpovědnosti podniků (Corporate Social Responsibility – CS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SR - dobrovolné integrování sociálních a ekologických hledisek do každodenních firemních operac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porován ze strany nadnárodních a mezinárodních organizací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Evropské organizace – CSR Europ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65 čle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osvětové organizace – Global Compact – cílem je prosazování společenské odpovědnosti podnikání v oblasti lidských práv, pracovních standardů a životního prostře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rganizovanosti podni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bjektivizace a srovnatelnosti při prezentaci výsled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á forma společenské odpovědnos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ec krea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možnost nalezení společných kritérií, která by bylo možno univerzálně aplikovat na všechny firm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zentace pozitiv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zamlčování negat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visející probl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7336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Budouc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jednocování kriterií pro posuzování společenské odpovědností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ozvoj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ému certifikace společenské odpovědnosti podniků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podobnost s oblastí kvality (systémy I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statná úloha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eské společnosti považují své angažování za důležité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ka českých podniků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tivita uvnitř podniku -péče o své zaměstnance a jejich vzdělá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kvalitních pracovníků – spolupráce se škol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Podniky nepociťují tlak ze strany spotřebitel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dostatečný rozvoj spotřebitelské kultury a společenské angažovanosti zákaz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ezentace dobrých firem v médiích není žádoucí – je považována za rekl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5264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naž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ec 20 stol. – etika proniká hlouběji do struktur podniků a začíná být její nedílnou součá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ři i vlastníci podniků si začínají uvědomovat, že bez etického chování vůči okolnímu světu se jen těžko prosadí na moderních a provázaných trz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édia prezentují pouze skandály – nemají přílišný vliv na veřej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last dárcovství – pouze vylepšení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ůležitost manažerské etiky ve vyspělých zemích i nadále vzrůst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ÁHA, J., DYTRT, Z. 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nažerská etika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Management Press 2003. ISBN 80-7261-084-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IEDMAN, M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Social Responsibility of Business Is to Increase Its Profit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Times Magazíne, Sept. 197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NK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polečenská odpovědnost fir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Business Leaders Forum, 200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ožnosti podniků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dnárodní podniky se stávají mocnějšími díky zlepšování logistiky, přesunů výrob do celého světa → eliminují státní předpisy a regulace →  ↓ státní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zvyšují svůj mezinárodní potenciál →  ↑ schopnosti diktovat státům podmínky výhodné pr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kles zájmů spotřebitelů o politiku – světový trend ve vyspělých zem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čané zvyšují svůj vliv pomocí nákup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strategie prezentace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řebitelé se stávají citlivějšími vůči původu zboží a podmínkách ve kterých vznikaj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kladou větší důraz na etické podmínky vzniku svých produkt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logické výroby a zlepšování pracovních podmínek ve všech částech svě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azníci upřednostňují firmy z větším etickým kredi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vynakládají velké sumy na obnovu životního prostředí a snaží se o co nejšetrnější využívají VF a pracovní sí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občanských hnutí a organizací zabývajících se ekologickou stránkou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Změny v etice ve 20. století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padní civilizace byla po jistou dobu nadšena myšlenkou osvobodit se od morálky jako nástroje útlaku cestou rozvíjení kultu individualismu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ost je charakteristický návrat k etickým hodnotám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de 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eakci na individualistickou nezodp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, na dekadentní vývojové trend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s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ásilí, brutality, kriminality, korupce v politickém a hospodářském život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lariz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 jedné straně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oncentr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nesmírného bohatství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 na druhé straně roste chudoba spjatá s všeobecným úpadk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egativní důsledky individualism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Etika nového typ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G. Lipovetsky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de o návrat v pravém slova smyslu, o pouhou renesanci dřívější morálk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e snaze o 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jetí od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ých lidských hodnot se z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ná vytvá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t etika nového typu, odlišující se jak od trad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í náb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é etiky, tak od laické moderní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tik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Ondřej Částek</cp:lastModifiedBy>
  <dcterms:modified xsi:type="dcterms:W3CDTF">2006-11-23T08:57:22Z</dcterms:modified>
  <cp:revision>49</cp:revision>
  <dc:subject/>
  <dc:title>Druhá vlna  </dc:title>
</cp:coreProperties>
</file>