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403-CE46-4488-8191-47AF07C1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8F2A-F0C5-4205-9FB9-31AC572B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052E-B652-4210-AF7C-C2E913A0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D55-372E-42C7-B546-B6E7783A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1F3-938A-43A3-8410-F09F4B39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A17-383A-4430-A0CD-48D7586D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F8C-F2B8-4B4E-9DCD-F37C4540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66F-7C6C-4541-9995-9A294990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F346-AF97-4E98-8717-74FFD56C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9E7-4DB4-4526-AD5B-EE61F5F5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B0E-8FF7-4283-B071-CD222E6F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733-575E-478A-8393-4064A672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6551-03E3-4880-8DEC-2DBF2695CF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557360"/>
            <a:ext cx="77724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TIVA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m Kotl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vla Lišk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ek Výt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finice motiva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ře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tivační pro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spokojená potře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ílově orientované ch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pokojení potře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eorie zaměřené na obsa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slowova teorie hierarchie potř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erzbergova dvoufaktorová teori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eorie zaměřené na pro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orie spravedl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ční teo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anažerské strategie zvyšování motivac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měňování odrážející výk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poskytování zaměstnaneckých akci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užná pracovní do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ohacování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nnelly,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.H.-Gibson, J.L.-Ivancevich, J.M.: Management, 1. vydání, Grada 1997, ISBN: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80-7169-422-3.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9:24:08Z</dcterms:created>
  <dc:creator>Richard Savický</dc:creator>
  <dc:description/>
  <dc:language>en-US</dc:language>
  <cp:lastModifiedBy>Ondřej Částek</cp:lastModifiedBy>
  <dcterms:modified xsi:type="dcterms:W3CDTF">2006-12-05T08:54:21Z</dcterms:modified>
  <cp:revision>4</cp:revision>
  <dc:subject/>
  <dc:title>MOTIVACE</dc:title>
</cp:coreProperties>
</file>