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F6C-269C-4D0F-BB50-6B1970F4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304-7FEE-48AD-87FB-43A44EB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BE8-7115-4F9C-8B10-C424366B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6A9-9822-45C4-A920-7C3DDA28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055-3329-4A9C-A2E8-B219F561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96A-2AFF-4CC2-9CDF-03BE0BA7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355-2645-44D7-9B0A-53841DD2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7CB-BF92-457F-AA68-2C79F195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F55-698F-4D3A-99A7-F8F74468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6E4-4FAF-4769-810D-CB6D0FE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D33-CC3E-43E7-917A-6C1681F1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4A2-D3FC-4EF8-925E-250ED43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5892-CC39-469C-B49C-ADDBCB231B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m Kotl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vla Liš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ek Výt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finice 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ční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spokojená potře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ově orientovan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okojení 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obs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slowova teorie hierarchie potř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erzbergova dvoufaktorová teor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spraved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ční t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žerské strategie zvyšování motiva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měňování odrážející výk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poskytování zaměstnaneckých akc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užná pracovní d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ohacování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nnelly,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H.-Gibson, J.L.-Ivancevich, J.M.: Management, 1. vydání, Grada 1997, ISBN: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80-7169-422-3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24:08Z</dcterms:created>
  <dc:creator>Richard Savický</dc:creator>
  <dc:description/>
  <dc:language>en-US</dc:language>
  <cp:lastModifiedBy>Ondřej Částek</cp:lastModifiedBy>
  <dcterms:modified xsi:type="dcterms:W3CDTF">2006-12-05T08:54:21Z</dcterms:modified>
  <cp:revision>4</cp:revision>
  <dc:subject/>
  <dc:title>MOTIVACE</dc:title>
</cp:coreProperties>
</file>