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342-B85B-44F3-A122-F8068B34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195-A916-4EBD-A762-7E77CB1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648-6DF6-4F9B-A292-54EBF3C5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7AB-9985-42E5-B84F-D977C7F3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D55-1F3D-4931-B678-AEDF8BC4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822-C8AF-4EE6-87EA-2A1A8110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E9F-8606-4830-8940-E783F409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DBA-6AC7-4506-A5E0-B4972FE2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197-B5FF-4268-A55E-7D737F56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069-B6AE-42D4-923F-59B6686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876-AB1E-4D34-AC10-173A2511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BE2-8164-48AC-8149-4CC21B2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836A-2CE6-40B7-BA4E-72BDCD23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žerská etik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ětlá a Temná strana 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302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ená e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příro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51280" y="2036880"/>
            <a:ext cx="4896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76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ka nechť Vás prováz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yšlení o t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íly v etice dle ge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Evr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387520"/>
            <a:ext cx="4462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ubší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ovy dimenze kul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tika vs. ment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979720" cy="41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268360" y="4365720"/>
            <a:ext cx="2016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še za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12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opská 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é desatero (4. – 1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ni, abys den sváteční svě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otce svého i matku svou, abys dlouho živ byl a dobře se ti vedlo na z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abij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esmilní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krad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omluvíš křivého svědec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manželky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statku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3249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cké kodexy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pující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o a pro ko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73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kace kodex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psi a Coca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ta Brno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103640" cy="8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7432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 je evropská et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121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problém a etické di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je konat „dobře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íklad: pra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ující et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stoty vs. prospe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atero vs. konku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2781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lost vs.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ka – zaměření na dlouhodob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5:24:46Z</dcterms:created>
  <dc:creator>Loser</dc:creator>
  <dc:description/>
  <dc:language>en-US</dc:language>
  <cp:lastModifiedBy>Loser</cp:lastModifiedBy>
  <dcterms:modified xsi:type="dcterms:W3CDTF">2006-12-04T21:03:22Z</dcterms:modified>
  <cp:revision>5</cp:revision>
  <dc:subject/>
  <dc:title>Manažerská etika</dc:title>
</cp:coreProperties>
</file>