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1CCE-F42F-4D33-A76D-25B5A4B2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7E9A-929D-4D99-A3F2-637BD9DD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A145-C871-4227-AF63-43B7EC03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F9BE-D010-449D-952D-38D03F7B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90FA-4780-4A78-B5FE-FD7A5AA9A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3830-9FA9-40E6-A41D-93D6B9C7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55AA-4C98-4C4A-A098-B196E20C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46D3-454C-4CFA-A6B1-A36D6D4A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6A03-80EB-4C1F-BF2D-76705CFD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0FC0-4A3F-4E28-A7F2-9B83F994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D5F5-C3C0-4B8E-A993-A8847C6A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743D-CC3A-42EA-8AB0-1CEEC154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5144-1996-45C7-A015-1583CCDB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3769-3C63-4275-8D0D-CC8E7CE3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ECF5-7DC6-4D47-98A7-B7B2A8DF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8361-067D-4A53-AAFC-4D5C1C7D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C91A-68A7-4CF0-B5A9-9378F4E5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4A52-EE03-4BD2-B402-E12C1C85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F542-0FCB-4594-9C3E-8E8D16C6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E0CC-31B7-4538-95D4-A2552648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4A0B-0DD3-4D65-A960-75CF5FF8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6F36-A909-4442-AFD9-5680278B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F65F-BF6B-42E4-B22D-E2F12599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26E3-793B-4364-A158-7A42D32B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C878-B475-4602-91E0-CCE334C1FEE2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B7E1-C72A-4359-A36D-5F2134525767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seminarky.cz/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Georgia"/>
                <a:ea typeface="Times New Roman"/>
              </a:rPr>
              <a:t>Metody soudobého management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Tým 8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ana Eliášov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4. 12. 2006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artina Vaisharová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Koncepce jednoduchosti (McKinseye)</a:t>
            </a: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rosazuje se ve strojírenství a v činnosti výrobců součástek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Tato metoda vychází z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Soustředění na rozhodující potřeby zákazníků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Snížení počtu zákazníků i dodavatelů při současném zainteresování spolupráce s nim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Zvládnutí vnitřní kompetentnosti řízení, jež je zaměřeno na jednoduché cíle a přehledné, průhledné i málo složité postupy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Reengineering</a:t>
            </a: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Od počátku 90. le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Rozumí se tím zásadní přehodnocení a radikální přeměna podnikových procesů tak, aby mohlo být dosaženo výrazného zdokonalení z hlediska kritických měřítek výkonnosti jako jsou náklady, kvalita, rychlost a na produkt navazující služby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Jde o restrukturalizaci podnikových procesů s cílem dosáhnout větší konkurenční výhody, lepším uspokojováním potřeb zákazníků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Zdroj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Základy managementu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, Doc. Ing. Václav Lednický, CSc., Ostrava 200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3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http://seminarky.cz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660066"/>
                </a:solidFill>
                <a:latin typeface="Tahoma"/>
              </a:rPr>
              <a:t>Děkujeme za pozornost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Vývoj management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Předklasické obdob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Klasické obdob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Postklasické období (moderní management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Současné obdob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0066"/>
                </a:solidFill>
                <a:latin typeface="Tahoma"/>
                <a:ea typeface="Times New Roman"/>
              </a:rPr>
              <a:t>Zvyšování tržních podílů využíváním konkurenční výhody</a:t>
            </a: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snižování nákladů na produk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zvyšování jakosti produkt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čas v podobě pohotovosti a rychlosti dodáve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Manažerské metody</a:t>
            </a: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Metoda 3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Metoda dynamických  7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Jasný manage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Turnarou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Benchmark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„</a:t>
            </a: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Štíhlá výroba“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Koncepce jednoduchos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Reengineer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Metoda 3C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Zákazník (Customer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Konkurence (Competitio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Změna (Chang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Metoda dynamických 7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takeholders satisfaction (uspokojování nároků spotřebitelů a okol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oohsaying (předvídání příležitost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peed (rychlos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urprice (moment překvapen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ignals (vysílání signálů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hocks (zásahy do tržní rovnováh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hifts (posuny na trhu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Turnaround</a:t>
            </a: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Soustředění se na jádro podniku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Zvýšení atraktivnosti výrobků a služeb cestou inovac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Vytvoření nového a přitažlivého jména firm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Realizace sjednoceného a svorného top managementu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Benchmark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Základem benchmarkingu je sedm kroků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Stanovení kritéria benchmarkingu – koncipování dotazník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Příprava interních dat pro srovnávání – přesné určení ukazatel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Výběr podniku pro srovnání – zásadně ten nejlepš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Shromáždění externích dat s využitím všech možných zdroj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nalýza a interpretace dat při použití i znalostí expert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Odvození cílů specifických pro podnik, jež s ebudou opírat o výsledky analýzy – zadat vysoké cí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Vytvoření plánu opatření k dosažení cílů cestou tvůrčích řešení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0066"/>
                </a:solidFill>
                <a:latin typeface="Tahoma"/>
                <a:ea typeface="Times New Roman"/>
              </a:rPr>
              <a:t>„</a:t>
            </a:r>
            <a:r>
              <a:rPr b="1" lang="cs-CZ" sz="3600" spc="-1" strike="noStrike">
                <a:solidFill>
                  <a:srgbClr val="660066"/>
                </a:solidFill>
                <a:latin typeface="Tahoma"/>
                <a:ea typeface="Times New Roman"/>
              </a:rPr>
              <a:t>Štíhlá výroba“ </a:t>
            </a:r>
            <a:br>
              <a:rPr sz="3600"/>
            </a:br>
            <a:r>
              <a:rPr b="1" lang="cs-CZ" sz="3600" spc="-1" strike="noStrike">
                <a:solidFill>
                  <a:srgbClr val="660066"/>
                </a:solidFill>
                <a:latin typeface="Tahoma"/>
                <a:ea typeface="Times New Roman"/>
              </a:rPr>
              <a:t>(Lean Production)</a:t>
            </a:r>
            <a:r>
              <a:rPr b="1" lang="cs-CZ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Vznik v automobilovém průmysl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Cílem je udržet se na trhu, přežít a pokud možno vyniknout při  využívání podpory dílčích cílů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Zvýšení produktiv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Zvýšení kval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Zlepšení vztahů mezi vedením podniku a pracovní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Zlepšení vztahů mezi výrobcem a zákazníkem či odběratele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2:32:47Z</dcterms:created>
  <dc:creator>Janicka</dc:creator>
  <dc:description/>
  <dc:language>en-US</dc:language>
  <cp:lastModifiedBy>Rodina</cp:lastModifiedBy>
  <dcterms:modified xsi:type="dcterms:W3CDTF">2006-11-20T15:13:04Z</dcterms:modified>
  <cp:revision>4</cp:revision>
  <dc:subject/>
  <dc:title>Management II</dc:title>
</cp:coreProperties>
</file>