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F21-FD73-41AD-9325-8870EA3C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D6E-38E7-48D1-8028-A26E096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9EA-E1B6-4A67-B275-0B3FA1BA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B4D-A3A3-4F62-AC2A-345894D8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BD0E-ECAD-4992-BC30-110A46C0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234-37E5-4777-ADD8-55E107B2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84F1-3F65-4EA6-A7FF-38B3FBA4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6062-3496-4372-97D8-DB7159A3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36E-2EA9-4274-82DF-F2AAA36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39C-5C40-4A6F-947C-B14CCFD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19EE-EB86-4885-AEA9-E99F3AE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BA6-1B49-493E-B3D9-EB3A5CE3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0D30-28A5-4249-8E2A-288CC4D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6C07-FBBB-4084-B877-8397A46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EC01-8857-4D46-87E6-3B4573DF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DF80-F3C8-4076-9B81-0E57F471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C44-A5B9-4100-A82A-B9002D90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26B-DAA7-46A2-82A3-09B0B05F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6FE-315F-4703-B53A-6242494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280-A3A6-42AC-BA52-BD579BD1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2D4-54B8-4936-A8D7-7BA18675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B69-6128-4649-A8A9-681168B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FED-D67B-49C3-A177-5F127B0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C24-9775-4FA7-8217-A8254A4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3866-013E-45B5-AA70-A871475B1B5E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A1E0-E913-4CAF-8C6B-1580041B3287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e do předmětu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. Zbíral, J. Cahová, J. Fiš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oužitá literatu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.Rich: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Etika Hospodářství I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. Praha: Oikoymenh, 1994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jem etik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jem etika se odvozuje od řeckého slova ethos, které v původním významu znamená „obvyklé místo pobytu“. Ethos v abstraktním slova smyslu znamená zvyk, obyčej, později mravy. Poprvé u Sokrata nabyl jiný význam – místo navyklého konání význam co mám činit na základě rozumového vhle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mět eti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ředmětem etiky je člověk, respektive odpovědnost člověka v jednání s lidmi i se vším, co k bytí člověka patří. Člověk ke svému bytí svět potřebuje. Odpovědnost nelze omezovat jen na lidstvo, odpovědnost přesahuje do odpovědnosti kosmologick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je odpovědný nejen za zacházení s ostatními lidmi, ale i s přirozeným životním prostředím, které je základním předpokladem pro existenci všech tvorů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ale má dánu snahu o urvání všeho pro sebe, popřípadě pro svůj rod, zajištění budoucnosti sebe a několika nejbližších generací (v čase posun vnímání – dle našeho názoru přechod k vnímání budoucnosti více dlouhodobě – od 1 generace po generace cca 4 – samozřejmě INDIVIDUÁLN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nství nad nějakým člověkem narazí dříve či později na odpor a tím se vyjeví etická problematično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ato s panstvím nad věcmi se spojuje i právo věc zničit, nejen právo užívat a požívat plodů věci. Věci neživé - jedině obavy o možný nedostatek věci v budoucnu některým velí omezit spotřeb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 této souvislosti je třeba si uvědomit hranici vlastnictví – vlastní třeba jedinec, ale svým konáním může negativně ovlivňovat ostatní jedi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cionalita ekonomického jednání hovoří o maximalizaci užitku. A ten je individuální. Toto je možná klíčem k otázce co vede jedince k etickému jednání. Je to zřejmě  užitek, který z tohoto jednání mají. Chtění se zalíbit je jedním z významných motivů pro lidské jednání toho kterého druh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Etika podnikání asijských podniků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Lze se chovat tak, že ničí podnikání životní prostředí a argumentovat slabší ekonomikou (Japonsko? vs. Indi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Vývoj Japonska po 2. Světové válce založen na zpětném engineeringu, stejně tak dnešní Čína. Dle našeho názoru v takové situaci není vhodné aplikovat myšlenky volného trhu, naopak přísná cl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kud tedy jedinec či země jedná skutečně neeticky (co se podnikání týče), pak je nutné sledovat příčiny. Obvykle se jedná o snahu získat více pro sebe. Jediný způsob, jak tomuto zabránit je uvalení takových restriktivních opatření, které takové chování zbaví výhodnosti. Toto je možné zajistit legislativ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islativa skutečně některému neetickému jednání brání – např. klamavá reklama, tresty za podvod a dalš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 podnikání k širší e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Chování států jako sledování zájmu občanů nebo boj o mo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e správné trestat slabé a silné nikoli (Husajn a Bush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ak může jedinec toto řeši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č „svět“ toto neřeš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de jen o bohatstv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8:30:29Z</dcterms:created>
  <dc:creator>David</dc:creator>
  <dc:description/>
  <dc:language>en-US</dc:language>
  <cp:lastModifiedBy>Ondřej Částek</cp:lastModifiedBy>
  <dcterms:modified xsi:type="dcterms:W3CDTF">2006-11-23T08:58:23Z</dcterms:modified>
  <cp:revision>5</cp:revision>
  <dc:subject/>
  <dc:title>Etika podnikání</dc:title>
</cp:coreProperties>
</file>