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304-9645-46E9-8D42-B2900066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909-8BAD-4D21-9E6B-D0295D71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725-C314-441C-8559-97D91D30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D63-C66D-4B85-A90E-8694CAF2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6C7B-9018-4087-A9F6-EB9B164D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850-38E9-43E5-8802-51492DEC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30C6-8498-40AB-AAB4-7559159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ED91-DAA0-4868-8009-C1F5BB6D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DE2E-4750-49F8-89E6-8164F1C0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9A39-226C-41CF-9920-134C5E9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C9D-EF33-4E3C-9486-DA2CD8C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556-8D94-4C61-93C3-80F1E2E6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C8DA-1D6C-49E0-A48A-334C26A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5484-2285-4683-B763-D75FF83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ED4-72E5-488D-95FB-E9D331DF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559C-2B92-4764-9B4E-8F68AC6A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1B4-D472-4D5D-B96F-96CBA33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1CC-17AE-4056-B515-61B640B3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DBF-A76A-45DB-A5B4-4F4F85A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97E-6DC8-4A7C-ABED-69047764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EE9-4CBE-4102-95D1-A1854F7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A04-07AB-4497-9026-289E5619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810-3D1A-4EDD-8A9A-7FA01EE1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CA7-43A6-42DA-919C-6DD4305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0FAD-678B-4F74-972F-2DB7473E3E8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1B32-0A1D-4217-A80F-9839ED62806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ztah národní a organizační kultu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an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Mand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Sch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kupina č.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tazník –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pecifikace české národní kultu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ns Trompenaars určil 7 aspektů, dle kterých se dají národní kultury systematizo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ní zde správná či špatná odpověď – záleží pouze na Vašem náz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sledky budou zveřejněny na konci prezent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Kolektiv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 vyznačující se velkou mírou kooper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Individualism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rodní kultura zdůrazňující schopnosti jedi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universál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ky a rozumově vedená společnost uznávající existenci universálně platných pravi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partikulár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je založena na lidských vztazích a pružných pravidl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Emoč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soká míra emocion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eutrál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ízká míra emoc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konkré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ktně oddělen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s nejasnými vzta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 jsou provázané a vzájemně se prolína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5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Dosahující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status přiděluje na základě předvedeného výkonu a úspěch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Přisuzovaný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ve které se status přiděluje na základě stáří, pohlaví,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6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Čas jako posloupnost dě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umový, přímočarý přístup k otázkám - krok za krok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Čas jako nástroj k synchroniza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as chápán jako kruhový s možností paralelních činnost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7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vnitřn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zor, že jednotlivec by se měl snažit řídit lidské a přírodní prostřed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vnějš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ha žít v souladu s přírod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ztah národní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konce 60. let panoval názor, že management je universálně funkční prvek bez ohledu na národní speci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k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se již plně rozšířilo přesvědčení o nutnosti rozdílného přístupu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di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dl aspekty „úniku před nejistotou“ (UN) a „mocenský odstup“ (MO), jejichž vzájemnou kombinací vytvořil čtyři kategorie fungování podn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mocí této metody lze dokladovat vliv národní kultury na kulturu podnikov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ní studie o „měkkých faktorech“ úspěchu firmy ve 30. letech minulého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velký nárůst zájmu o tuto problemat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působeno úspěchem japonských podniků a zvyšující se úrovní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2637000"/>
          <a:ext cx="6491520" cy="2808000"/>
        </p:xfrm>
        <a:graphic>
          <a:graphicData uri="http://schemas.openxmlformats.org/drawingml/2006/table">
            <a:tbl>
              <a:tblPr/>
              <a:tblGrid>
                <a:gridCol w="3246480"/>
                <a:gridCol w="324504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ž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VB, Skandináv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v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Izrael, Německ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Hongkong, Ind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á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Belgie, Fran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2360" y="170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nik před nejist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205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                               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539640" y="2491920"/>
            <a:ext cx="60696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enský od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7720" y="38476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Brooks (2003), podle Hofsteda (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užitá liter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DLER, N.: International Dimensions of Organizational Behavior. Boston : PWS-KENT Publishing Copany, 1991. ISBN 0-534-92274-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OKS, I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Firemní kultura – jedinci, skupiny, organizace a jejich ch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Computer press, 2003. ISBN 80-7226-763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WN, A. D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London : Pitman Publishing, 1995. ISBN 0-273-60454-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LL, W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Managing Cultures: Making Strategic Relationships Wor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Chichester : John Wiley &amp; Sons, 1995. ISBN 0-471-95571-X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OFSTEDE, G.,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ulture’s Consequences: International Differrences in Work-Related Value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everly Hilus : Sage Publications, 198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ILLMANN, R., SAXTON, M.J., SERPA, R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Gaining Kontrol of the Corporate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San Francisco, London : Jossey-Bass Publisher, 1985. ISBN 0-87589-666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Vutium, 2002. ISBN 80-214-2141-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, NOVÝ, I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Grada, 2004. ISBN 80-247-0648-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OVÝ, I., SCHROLL-MACHL, S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Interkulturni komunikace v řízení a podnik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Management Press, 1999. ISBN 80-7261-009-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ovaný způsob vnímání, odvozený z názorů a hodnot“ (Hall, 1995, s.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orec názorů, hodnot a naučených způsobů zvládání situací, založený na zkušenostech, které vznikly během historie organizací a které jsou manifestovány v jejich materiálních aspektech a v chování členů“ (Brown, 1995, s.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dílené filozofie, ideologie, hodnoty, předpoklady, názory, očekávání, postoje a normy, které odhalují implicitní či explicitní skupinový souhlas s tím, jak rozhodovat a řešit problémy: jako způsob, jak se věci u nás dělají“ (Kilmann, Saxton a Serpa, 1985, s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ční kulturu lze chápat jako soubor základních předpokladů, hodnot, postojů a norem chování, které jsou sdíleny v rámci organizace a které se projevují v myšlení, cítění a chování členů organizace a v artefaktech (výtvorech) materiální a nemateriální povahy. (Lukášová, 2004, s.2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nezpochybnitelné přesvědčení jednotlivce o realitě kolem ně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dn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považována za měřítko toho, co je špatné a co je dob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o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ázor na danou vě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y chován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ymbolizují množinu nepsaných pravidel, kterými se zaměstnanec říd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tefak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ateriální povahy jsou budovy, výrobky, vybavení firmy, propagační materiály, at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materiálními jsou potom podnikové historky, mýty, rituály či podnikový jazy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nterpretativní přístu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se na tento aspekt dívá jako na „něco, čím organizace je“. Odklání se tedy od myšlenky analogie podniku a stroje či podniku a organismu a nabízí teorii, že podnik je vlastně jedna velká sdílená kul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3" name=""/>
          <p:cNvSpPr/>
          <p:nvPr/>
        </p:nvSpPr>
        <p:spPr>
          <a:xfrm>
            <a:off x="5508720" y="2276640"/>
            <a:ext cx="2158920" cy="21589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2349360"/>
            <a:ext cx="2016360" cy="201636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ktivistický přís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re kulturu pouze jako složku celého podniku, která se stejně jako ostatní části určitým způsobem vyvíjí a ovlivňuje tak fungování podni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87280" y="2276640"/>
            <a:ext cx="2159280" cy="2158920"/>
            <a:chOff x="1187280" y="2276640"/>
            <a:chExt cx="2159280" cy="2158920"/>
          </a:xfrm>
        </p:grpSpPr>
        <p:sp>
          <p:nvSpPr>
            <p:cNvPr id="169" name=""/>
            <p:cNvSpPr/>
            <p:nvPr/>
          </p:nvSpPr>
          <p:spPr>
            <a:xfrm>
              <a:off x="1187280" y="2276640"/>
              <a:ext cx="2159280" cy="21589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2779920"/>
              <a:ext cx="647640" cy="64764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6000" y="2853000"/>
              <a:ext cx="647640" cy="647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2421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500640"/>
              <a:ext cx="64800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3500640"/>
              <a:ext cx="648000" cy="6476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45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⊆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tika významu slova „národ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stejné národnosti kdekoli na svě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žijící v jedné zemi, podléhající její legislativ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ematika významu slova „kultur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ůsob života skupiny lidí, jako konfiguraci všech více či méně stereotypizovaných vzorců naučeného chování, které jsou přenášeny z generace na generaci prostřednictvím jazyka a napodobování“. (Barnouw, 1963 podle Adler, s.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lektivní programování mysli, které odlišuje členy jedné lidské skupiny od druhé … kultura v tomto smyslu obsahuje systém hodnot“. (Hofstede, 1984, s.1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7:47:23Z</dcterms:created>
  <dc:creator>Milan</dc:creator>
  <dc:description/>
  <dc:language>en-US</dc:language>
  <cp:lastModifiedBy>Milan</cp:lastModifiedBy>
  <dcterms:modified xsi:type="dcterms:W3CDTF">2006-11-17T15:16:10Z</dcterms:modified>
  <cp:revision>23</cp:revision>
  <dc:subject/>
  <dc:title>Vztah národní a organizační kultury, česká specifika</dc:title>
</cp:coreProperties>
</file>