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3E8-3AC1-46A4-A9FC-47B9ACD1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FF6-06C5-46D4-8ED3-50B7BD94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E57-B00A-465F-B6CE-EC67341D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675-05B9-4171-B390-315ECF30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CD3A-9096-4C0A-BE7F-7E2B4C34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C0CF-6FDA-44FE-B507-C7010CD5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CF0A-18AC-4AAD-AFAD-3434AE51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70FA-9271-4EDC-9E6A-92344199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D7B2-DCEF-4101-ABEB-29241EE1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AB0B-F293-477C-B37F-B5332E8C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B1E7-68B6-40BA-B461-66AB181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118-C4C0-4D9D-ABD1-92E68A3D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1FE3-FB3C-44F1-A358-5DDE8B6E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0F2-3511-4A5B-858E-A3DB9610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1EFB-F57F-4DE4-88EE-5BF3FE73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E8AD-701F-498A-9A5C-A3212279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675A-9292-41D5-AB9B-9063F6A7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748-532D-4A0C-B1D6-B6501238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1A8-1B4C-44AB-B41B-5818E382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320-BD87-4793-8911-55309B40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22E-F520-4199-B7B9-7225B20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9CA-A623-4D8D-B7F9-2362E517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9E2-89BC-416F-8C5D-BF9B18B2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2F6-FCB2-4DA6-8890-780091FB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A027-6568-446D-A90A-10FC30EC212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DD20-81D9-4A41-9F70-D2691EB9286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voj českého management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ezentující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Eva Paseková, Aleš Havránek, Radovan Hol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kupina č.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.11.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4567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Historie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klinace k přejímání cizích koncepcí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dobí masarykovské republiky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důraz na české národní hodn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aplikování rakouských a německých trad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rientace na 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Tomáš Baťa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ejvětší osobnost českého managemen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lánovité řízení ekonomi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znárodnění průmyslu a zemědělst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sovětský systém centrálního plánování a říz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konomi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Tomáš Baťa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( 3.4.1876 – 12.7.1932)</a:t>
            </a:r>
            <a:r>
              <a:rPr b="0" lang="cs-CZ" sz="2500" spc="-1" strike="noStrike">
                <a:solidFill>
                  <a:srgbClr val="ffcc66"/>
                </a:solidFill>
                <a:latin typeface="Arial"/>
              </a:rPr>
              <a:t>       </a:t>
            </a:r>
            <a:endParaRPr b="0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Než něco řeknu, musím přemýšlet, co mi ten druhý odpoví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incipy řízení podnik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samospráva jednotlivých úseků a díle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účast zaměstnanců na zisku a na řízení obchod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ém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personální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ociální péče o pracovní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ematický výcvik a vzdělávání zaměstnanců a mládež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Formování nového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2 tendence uvažování 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ávrat k tradičním českým hodnotá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kopírování úspěšných zahraničních koncepcí a přístup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ýhody / nevýhod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řekonání překáž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hierarchie řídících vztah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acovníci chápáni jako „ vykonavatelé příkazů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tendence soustředit se „krátkozrace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Dimenze národní kultury</a:t>
            </a:r>
            <a:br>
              <a:rPr sz="3500"/>
            </a:b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Geert Hofsted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vní zformuloval kulturní dimen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Rozpětí moci v hierarchi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dividualismus / Kolektivismu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yhýbání se nejistotě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askulinita / Fem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louhodobá / 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Vztah českého managementu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k jednotlivým dimenzím národní kultury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ocenský odstup a problém komunik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ilema českého individualismu / kolektivism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Česká maskul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ava z nejistoty a „švejkovská“ tradice v Čechách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Atypické podmínky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Neg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Přežitky minulé ér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Nedodržování závazk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tráta východních trh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ozi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ásobování českého trh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aměření na expor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lepšení sociálních podmínek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Seznam literatury :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a kolektiv, Interkulturální management, Praha : Grada publishing, 199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YLVIA SCHROLL - MACHL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polupráce přes hranice kultur, Praha : Management Press, 200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IROSLAV IVANOV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ága o životě a smrti Jana Bati a jeho bratra Tomáše, Vizovice : nakladatelství „LÍPA“, 1998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eme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3:37:37Z</dcterms:created>
  <dc:creator>Eva Pasekova</dc:creator>
  <dc:description/>
  <dc:language>en-US</dc:language>
  <cp:lastModifiedBy>Eva Pasekova</cp:lastModifiedBy>
  <dcterms:modified xsi:type="dcterms:W3CDTF">2006-11-19T15:56:49Z</dcterms:modified>
  <cp:revision>25</cp:revision>
  <dc:subject/>
  <dc:title>Vývoj českého managementu</dc:title>
</cp:coreProperties>
</file>