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0D4-3848-41F9-8CCB-ECE2BCC3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B29-CC31-4BC3-9904-0960E840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5C1-E095-4544-AA11-A41F672B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785-F265-42F4-9254-F761BB21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A47A-CDC0-4B00-AC4C-4838F9B9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80EA-F905-4316-B46B-4488D1E2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AA20-EEB5-46BE-B498-BFDAA3E2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8B48-445C-4A52-A8AA-2EDBFA57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B711-7882-4600-8A11-7FE77610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8384-AB84-4776-8BD7-FA9C63C5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2BC7-69BA-48A8-9875-7A178B9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303-7B41-4AE6-A95B-FDC0640A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4E4-A33C-4BCB-809F-53A04A4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46DE-761C-47B6-8558-2656A91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90F-BECD-4751-A344-0CF11831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4C91-6851-489E-B614-02761EFF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6B41-424E-4A7E-94EE-E073E704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E14-D77E-4935-999B-FE6D5BFC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63C-431C-4A5B-80B4-B2ED08A3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64C-02A2-4B30-9B10-655FFC2D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50B-4ABC-41F0-963D-3D6EC05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FEE-5686-4CE2-A093-ECC60F14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EE8-758E-4C1F-B334-BB8BD46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A9F-E589-41BC-BB7C-08CBF37B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30EC-3593-485E-84B5-70CD8CF141A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B3A5-1E86-4637-B6C0-63BCF963DBB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TICKÝ KODEX PODNIK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35412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těpán Dra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acovní princip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flikt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ary a záb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íraní a úplatkář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Príprava a zavede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ľúčové pravidl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iciácia a inštitucionálna podpora etického kódexu mu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 prísť od vysokých predstaviteľov firmy </a:t>
            </a: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(predstavenstva)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a mala by s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stať súčasťou firemnej stratég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grálnou požiadavkou firemnej stratégie je demonštrovať jasný a pevný záväzok vysokého a stredného manažmentu a ostatných úrovní manažmentu dodržiavať etický kódex fir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eďže hodnoty firmy slúžia ako dôležitý zdroj pre etický kódex, musia byť spracované a zapracované do etického kódexu spolu s poslaním, víziou a stratégiou firm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009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Akčný plán rozvoja a zavedenia etického kódexu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podnikania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. Zostavenie rozvojového tí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2. Získavanie a analýza informáci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3. In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4. Ex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5. Analýza výsledkov seminár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216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6. Príprava návrhu etického kódex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7. Pripomienky a návr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8. Schválenie Kódexu orgánmi firmy (ako napríklad Výkonný výbor, Predstavenstvo, Dozorná ra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9. Grafický Design a Distribúcia doku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0. Realizá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1. Priesku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tický kódex skupiny Slovnaf</a:t>
            </a:r>
            <a:r>
              <a:rPr b="0" lang="sk-SK" sz="3600" spc="-1" strike="noStrike">
                <a:solidFill>
                  <a:srgbClr val="ccec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ccecff"/>
                </a:solidFill>
                <a:latin typeface="Arial"/>
              </a:rPr>
              <a:t>- Obsa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7320" y="1294920"/>
            <a:ext cx="8591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Preamb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. Vzťahy so zákazník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. Vzťahy s dodávateľmi a ver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I. Vzťahy s konkurenci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V. Vzťahy so štátnymi a vládnymi orgánmi,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giónom a spoločnosť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. Vzťahy s prostred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. Vzťahy s medzinárodnými firma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. Vzťahy s maj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I. Vzťahy vo vnútri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špektovanie ľudských bytostí – zákla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rpersonálnych vzťahov vo fi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Dôstojná prá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komunikácie, jej šírenie a oc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Ochrana majetku a dobrého mena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onflikt záuj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urovnávania sp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X. Etické zodpovednosti manaž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X. Záverečné opatre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ntiqueOliveTCE-Light"/>
                <a:ea typeface="Times New Roman"/>
              </a:rPr>
              <a:t>Pochopenie a aplikova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rípadov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štúdi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lovens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elekomunikác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a. 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neywell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et – iné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8076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for Social Responsibility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sue Briefs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bsr.org/CSRResources/IssueBriefsList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LÁHA, J., DYTRT, Z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ažerská etika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Management Press 2003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eskum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tisícročia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spoločenskej zodpovednosti firiem </a:t>
            </a:r>
            <a:r>
              <a:rPr b="0" i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he Millenniu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l on Corporate Social Responsibility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l zrealizovaný firm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., v spolupráci so spoločnosťou the Pri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Wales Business Leaders Forum a The Conference Board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globescan.com/news_archives/MPExecBrief.pdf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OLNÝ, I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v podnikové strategii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skovice: Albert, 199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KNIČKA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vod do hospodářské etik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ASPI,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rlo di Florio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Ethics and Sustainability: Building the Bot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ne Throug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Citizenshi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referát pripravený firmou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cewaterhouseCoopers pre výročné stretnutie Svetovej banky/IMF, 2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tember 2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ystém pravidel a principů, které řídí chování jednotlivců a skupin, a které se zaobírají tím, co je dobré (morální) a co 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sah kodexu vyplývá ze souboru hodnot, které podnik vyzná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říve – „jen“ dodržování zákonů, od 70. let 20. stol vý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vodce pro zaměstnance a manažery, ale i ostatní stakeholders – pochopení a dodržování zákonného a čestného jednání v rámci provádění práce + (vědět, kde žádat o pomoc, Ahol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eší především VZTAHY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obsahuje však odpověď a lék na „vš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řínosy zavedení etického ko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ansparentnější a zdravější podnikatelské prostředí =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mj. růst zahraničních inve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de k omezení korup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š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siluje jméno firmy (Sh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ýzkumy potvrzují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Lidé stále více upřednostňují etické principy před komerčními fak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vlivňuje rozhodování obchodních partnerů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Business for Social Responsibil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tický kodex má vliv na hodnotu akcií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Business &amp; Socie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Základní směrnice etického kó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spektování lidských prá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ncipi společenské zodpově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majetku a dobrého jména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ezpečnost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ovnávání sp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exuální obtěž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komun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akcionář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munik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ízen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e 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lad se Zákoníkem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onální poli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dodavat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produkt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spekt a 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ota ke kompromi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konkure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ání záko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estný přístup ke konkure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kalá soutě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vlá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latit da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at vládní n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j proti koru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zákaz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rana inform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výrobku -mezinárodní no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užby zákazníků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9:26:10Z</dcterms:created>
  <dc:creator>76258</dc:creator>
  <dc:description/>
  <dc:language>en-US</dc:language>
  <cp:lastModifiedBy>Ondřej Částek</cp:lastModifiedBy>
  <dcterms:modified xsi:type="dcterms:W3CDTF">2006-11-23T08:59:01Z</dcterms:modified>
  <cp:revision>45</cp:revision>
  <dc:subject/>
  <dc:title>ETICKÝ KÓDEX PODNIKANIA</dc:title>
</cp:coreProperties>
</file>