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E6A-E740-4743-BE9B-EC07E845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323-16FD-4A6D-A516-269F2CF1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BE2-7672-4E7E-B571-F7C94032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28F-C4F3-4358-85AE-A2B6E7E6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5CA1-35BA-4E1E-861E-DB9970C9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88A7-2AE1-47A2-9A54-F289BA0B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146C-7EF4-4DEA-98B6-492AF97C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FFA3-E9B5-4AF9-B730-E14BE21C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7D84-0654-4F29-B780-F36E8EE2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8F1F-A83B-4274-A626-4D63ECBE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593B-B2E9-4DE5-B452-32A0ECD1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F70-2680-4838-ADAB-F8D18F25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8750-071D-40F8-84E8-A0C3F04D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4364-BD97-4636-A166-0192090C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4D22-6035-47C3-AB60-747C6D18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F48E-7CDE-4710-A083-5F36CAA2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96E9-8D91-4154-97CB-888C739D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B39-E052-4F03-B693-87995309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7F9-B8AA-48C4-A6BC-22789C11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06E-D2C6-4A88-9C15-A692DFE3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746-EB63-4B77-AC02-8E51E4A3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D4E-BB72-4EF8-8503-7356B71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4AB-B4DF-43A7-9906-2DE303B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3CB-5543-4A28-AE68-48F2EA44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C385-A138-466E-A17E-C78878E97B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3D0E-B97C-44A7-B62B-304EFFB397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empus Sans ITC"/>
                <a:ea typeface="Times New Roman"/>
              </a:rPr>
              <a:t>PROJEKTOVÝ MANAGEMEN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573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Vymezení a defi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4498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mezení výsledků projek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Nároky na projektové říz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de o příležit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platí se vynaložení peněz a čas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aká jsou riz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ÝSTU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konečn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omezení, předpokla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Určení vedoucí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Vymezení a definování projektů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lá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Výstupem procesu plánování je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plán projektu</a:t>
            </a:r>
            <a:r>
              <a:rPr b="0" i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určující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věcnou, časovou, rozpočtovou a organizační dimenzi projektu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 nejširším pojetí jsou plány závislé na znalosti tří faktor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3762360"/>
            <a:ext cx="460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de nyní j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m se chcete d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Jakým způsobem se dostaneme tam, kde chceme bý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notlivé dimenze plánu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ěcn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rganizační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počt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Real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ystémová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Dohled nad realiz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odá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 a vyhodnoce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521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Testov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Zkušební prov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Stand. po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ředávací protok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Rutinní provo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Garance projek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Managemen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odle ekonomick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Předání a vyhodnocení projektu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0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ěmec, V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Projektový management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senau, M.D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Řízení projektů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Computer Press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vozilová, 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rojektový management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Hynek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eber, J.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Management. Základy, prosperita, globaliza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Management Press,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o to je projektový manage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Uplatnění specifických nástrojů, technik, znalostí a dovedností v projektových činnostech s cílem splnit (popř. překročit) očekávání, jež jsou s projektem spojena“ (Veber, 2000).</a:t>
            </a: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řístup řízení při zavádění závažných změn v organizac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Každá změna je projekt – je jedinečná a má svůj cí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rojektový management obsahuj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empus Sans ITC"/>
              </a:rPr>
              <a:t>Aktivity související 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Řízením předmětu či služ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Ekonomickým aspektem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ou koordinac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Budováním mezilidských vztahů mezi účastníky projektu - team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harakteristické znaky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Cí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Jedineč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Zdr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Organiz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íl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Tzv. projektový trojimperativ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Specifikace proveden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ý pl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Nákl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naha o dosažení všech cílů najed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inečnost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empus Sans ITC"/>
              </a:rPr>
              <a:t>Jedinečno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Fina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acovní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Zdroj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Materiální i lidsk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Je velmi důležité organizovat lidské zdroje, aby byly schopny efektivně využívat zdroje materi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Organ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ládání mezilidských konflik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cíl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jednotlivců různ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ofes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ájm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ovahových vlast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Struktura projektového řízení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mezení a definování zad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lánov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ealizac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ředání a vyhodnoc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Simerský</cp:lastModifiedBy>
  <dcterms:modified xsi:type="dcterms:W3CDTF">2006-12-03T22:35:28Z</dcterms:modified>
  <cp:revision>6</cp:revision>
  <dc:subject/>
  <dc:title>CHARAKTERISTICKÉ RYSY A ZÁKLADNÍ PRINCIPY INDUSTRIÁLNÍ SPOLEČNOSTI </dc:title>
</cp:coreProperties>
</file>