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443-60B8-4B3C-A667-C6FB26FD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6FD-46EC-4A2C-9FE1-648D9EC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34E-A782-4091-8D36-B7BDDB17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A7B-004C-4D29-8B00-7BCA5E40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70C0-CC1B-42E8-A761-34244238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24AD-2B0B-479D-9271-EDCAF403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B6AB-E58C-4E7C-A335-896D69E2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B8F6-E730-4DC8-9E11-8B22833D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F491-C1A8-4314-AEE0-7BC7E719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8254-33EB-4DE6-965D-2219D368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E4C5-1CD7-49B8-8FBD-C1CCEB0A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D2F-DD94-414B-96D4-1B9351D1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AE3C-8F77-475D-9A75-BA87BC17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A7EB-7C7B-46AC-A5DF-ACEB6746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3363-E666-47B4-B994-47AA479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3E43-63E1-4D57-9FEB-EA1E4B18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77A8-8074-4A14-B5D0-C81C303D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8F0-9FF3-4409-92E3-4EF0723E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A96-D75B-41C9-A701-BC7AA9E7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8F9-7548-4F0A-A654-B836924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E57-9A1E-4284-890C-B08B28B4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BD3-63A6-45C7-8DF9-5708F26B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32C-CF06-4ED8-8372-27DD2A9F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482-72C6-4500-A4A9-CE6284F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E0DA-0117-40E0-AD49-69765070B9E8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717C-E78B-462C-92F5-1CDAB8E93BCB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Manažerská etika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ásady výstavby etického kodexu podniku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ko vodítko pro rozhodování slouží vždy deklarované hodnoty podniku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vnitřně konzistentní a souviset s posláním, cíli, strategií a politikou podniku. Měl by obsahovat jasně formulované priority, závazky a požadavky a srozumitelné vymezení etických rol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přiměřený. Nemůže být příliš detailní ani příliš obecný. Práva, povinnosti a požadavky na chování zaměstnanců musí být vyvážené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obsahovat mechanismus řešení konfliktů, jeho jasnou interpretaci a aplikac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 v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i formulování obsahu etického kodexu by měla být respektována zásad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stupu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od obecného ke konkrétnímu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áleží na vedení podniku, jaký etický kodex si vytvoří. Často je velmi obtížné stanovit rozsah a celkovou proporci obsahu kodexu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tický kodex by měl být vždy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veřejně přístupný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ro soustavu etických hodnot nelze najít univerzální schéma. Podstatné však je, aby si lidé v podniku díky kodexu lépe uvědomovali morální nároky a aby tyto nároky byly všeobecně přijatelné jako rozumné mantinely jejich práce, ne jako nástroj k omezování jejich svobod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Integrace etiky do strategického plánován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z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ální kvalita jednání podniku netkví ve sledování kvantifikace zisku, ale ve volbě prostředků, jakými lze zisku dosáhn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dnikatelská etika a prá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onné právo si samo o sobě nemůže zjednat své plně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etiky do podnikové strategie vhodně doplňuje právo tam, kde je jeho aplikace obtížn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1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2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3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NÝ, I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v podnikové strategi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oskovice : Albert, 199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tedra podnikového hospodářství (2006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anagement II, průvodce studie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online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Děkujeme za pozornost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Stanoven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 rozhoduje, které mravní hodnoty se stanou jejich hlavním identifikačním znak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íčové etické  hodnoty se stávají páteří podnikové kult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cké hodnoty se též stávají součástí podnikové strate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funkce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finič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vymezují „kdo jsme a oč usilujem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cká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vlivňují společenské mínění o firmě a tím i do jisté míry preferenci zákazníků, investorů at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Kontrol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možňují veřejnosti hodnotit z mravního hlediska konkrétní aktivity a chování podniku n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požadavky na charakter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dčasov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becný charakter, akceptovatelnost i v budouc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řiměřen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kritickým pohledem na kapacitu podniku, co je pro něj reál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předchozím požadavkem, hlásání něčeho, co podnik není schopen zrealizovat, postrádá smys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Použit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ást firemního loga: „Tchibo – dát to nejlepší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ní slogan: „Hypoteční banka – Zkraťte si cestu domů!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ormulace: jasné, srozumitelné teze; pozor na vícevýznamovost slov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 hlediska Maslowovy teorie potřeb je neetické vydávat některé nižší potřeby za vyšší (auto, cigarety, čokoládové tyčinky atd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líčové etické hodnoty podnik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jsou základním morálním rámcem pro jeho činnost. Jsou však příliš obecné na to, aby mohly určovat řešení konkrétních etických problémů a dilem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 se zavádí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tický kode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který poskytuje detailnější rozpracování, konkretizaci morálních zásad a jejich použití v podnikové prax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vádění etických kodexů se netýká pouze podnikové sféry. Kodexy již existují v bankovnictví, pojišťovnictví a státní správě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vedení podniku může dobře sestavený kodex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iminovat nežádoucí chování, které způsobují pokles přízně zákazníků, zaměstnanců, investorů, veřejnost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asnit politiku podniku v morálních otázkách, např. zacházení s důvěrnými informacemi, přijímání „pozorností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it vnitropodnikovou disciplínu, snížit potřebu donucovacích opatření pro odhalení neetického chová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mezit nadřízeným zneužívat svého postav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zitivně motivovat zaměstnance tím, že pracují v etickém prostředí s jasnými pravid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podnikového managementu kodex může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ešit morální problémy a dilemata, které se vyskytují v práci podnikových manage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čelit neetickým požadavkům zákazníků, dodavatelů, ale i nadřízených a podřízený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hajovat svá rozhodnutí jak uvnitř, tak vně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jednodušit vnitropodnikovou komunika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ůvodnit návrhy na disciplinární opatření při porušování etických zásad ze strany zaměstnanc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rychlit identifikaci problémových praktik a odhalení případných podvod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7:46:08Z</dcterms:created>
  <dc:creator>PC</dc:creator>
  <dc:description/>
  <dc:language>en-US</dc:language>
  <cp:lastModifiedBy>Ondřej Částek</cp:lastModifiedBy>
  <dcterms:modified xsi:type="dcterms:W3CDTF">2006-11-23T08:59:29Z</dcterms:modified>
  <cp:revision>8</cp:revision>
  <dc:subject/>
  <dc:title>Manažerská etika</dc:title>
</cp:coreProperties>
</file>