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6152-41AB-4719-92C4-8B40EC2E70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1C0D-B329-44D3-B722-30BF02B42E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e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00D6-B876-40CA-A5E7-07613ACFCE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ě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AB17-E570-4D73-9C85-F95206DD69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CSR je zkratkou anglického výrazu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Corporate Social Responsibility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, který do češtiny překládáme jako společenská odpovědnost firem.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 rámci šíření povědomí o konceptu CSR se členové Business Leaders Fora shodli na jeho jednotné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efinici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92BC-0B7C-40CE-AC24-353F6DB7F2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e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C78-82FE-4F15-B24D-4378F634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91B-E8B0-4864-A8C1-9A8E5EB3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3EB-92BF-4AE5-9967-A1EFDF02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7AC-768C-4CF8-B097-8E360F7F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9AC3-B13F-4C99-AB00-9E2C82D4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7B4-3509-4375-8642-72CA1E5E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386-5C56-4F35-8F98-28248154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73E-F174-4CE8-A144-6681CE56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13B-87E4-4CF8-97FF-585D7148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8A27-69C7-41AB-A06A-B87BE93A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28A-3AFD-4491-957A-2E5691B7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F7DA-3B06-4981-9C35-2F80991E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Rectangle 1030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252396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Straight Connector 1031"/>
          <p:cNvSpPr/>
          <p:nvPr/>
        </p:nvSpPr>
        <p:spPr>
          <a:xfrm flipV="1">
            <a:off x="468360" y="6597720"/>
            <a:ext cx="8351640" cy="39600"/>
          </a:xfrm>
          <a:prstGeom prst="line">
            <a:avLst/>
          </a:prstGeom>
          <a:ln w="38160">
            <a:solidFill>
              <a:srgbClr val="818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traight Connector 1032"/>
          <p:cNvSpPr/>
          <p:nvPr/>
        </p:nvSpPr>
        <p:spPr>
          <a:xfrm flipV="1">
            <a:off x="8820000" y="404640"/>
            <a:ext cx="0" cy="6120000"/>
          </a:xfrm>
          <a:prstGeom prst="line">
            <a:avLst/>
          </a:prstGeom>
          <a:ln w="31680">
            <a:solidFill>
              <a:srgbClr val="8189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Rectangle 1034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2881440" cy="7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3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4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5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6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7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8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9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0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1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2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3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4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5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6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7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8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9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0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18903"/>
                </a:solidFill>
                <a:latin typeface="Arial"/>
              </a:rPr>
              <a:t>Corporate Social Respon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5240" y="3428640"/>
            <a:ext cx="6472080" cy="23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Terezie Kouřilov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Martina Pospíšilov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7.12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000" y="1844280"/>
            <a:ext cx="81723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haritativní a podpůrné 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aměstnanecká prá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Řešení problémů v región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Etika podnik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Spolupráce podniků s neziskovými organizac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18903"/>
                </a:solidFill>
                <a:latin typeface="Arial"/>
              </a:rPr>
              <a:t>http://www.abb.cz/cawp/czabb016/b65f058198643775c1256cd200387aaa.as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18903"/>
                </a:solidFill>
                <a:latin typeface="Arial"/>
              </a:rPr>
              <a:t>http://www.kb.cz/cs/com/profile/index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hape 66561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Příklady CSR aktiv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817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Projekty pro zvýšení povědomí o CS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Business Leaders F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Projekt Informativního Centra Neziskových Organiz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Projekt AIE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hape 66561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Příklady CSR aktiv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Zdroj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trategy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&amp; Society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Th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ink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Between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Competitiv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Advantag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and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Corporat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Social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Responsibility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.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By: Porter, Michael E.; Kramer, Mark R.. Harvard Business Review, Dec2006, Vol. 84 Issue 12, p78-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SR and philanthropy. Caribbean Business, 9/28/2006, Vol. 34 Issue 38, p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Anderson, Jerry W. - Corporate Social Responsibility: guidelines for top management. New York: Quorum Books,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http://www.marketingovenoviny.cz/index.php3?Action=View&amp;ARTICLE_ID=35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Společenská odpovědnost firem</a:t>
            </a:r>
            <a:br>
              <a:rPr sz="32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2000160"/>
            <a:ext cx="777240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orporate Social Responsibility (CSR) neboli společenská odpovědnost firem představuje </a:t>
            </a:r>
            <a:r>
              <a:rPr b="1" lang="cs-CZ" sz="2400" spc="-1" strike="noStrike">
                <a:solidFill>
                  <a:srgbClr val="4d4d4d"/>
                </a:solidFill>
                <a:latin typeface="Arial"/>
              </a:rPr>
              <a:t>dobrovolný závazek firem chovat se v rámci svého fungování odpovědně k prostředí i společnosti, ve které podnikají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Rectangle 3075" descr=""/>
          <p:cNvPicPr/>
          <p:nvPr/>
        </p:nvPicPr>
        <p:blipFill>
          <a:blip r:embed="rId1"/>
          <a:stretch/>
        </p:blipFill>
        <p:spPr>
          <a:xfrm>
            <a:off x="2786040" y="4000680"/>
            <a:ext cx="38163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18903"/>
                </a:solidFill>
                <a:latin typeface="Arial"/>
              </a:rPr>
              <a:t>Trocha histor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první ucelený přístup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k CSR – H.R.Bowen 1953 – Social Responsibilities of the Businessm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1971 Committee for Economic Development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– vztah mezi podnikem a společností jako smlouva mezi dvěma stranami (obsah se mění v čas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posun od 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dobrovolného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CSR, přes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 povinné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k formě investice do budoucnos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posun od 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peněžní k nepeněžním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formá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 </a:t>
            </a: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Koho se CSR týká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38559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Akcion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Věřitel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ákazní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investo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aměstnan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Rectangle 63491" descr=""/>
          <p:cNvPicPr/>
          <p:nvPr/>
        </p:nvPicPr>
        <p:blipFill>
          <a:blip r:embed="rId1"/>
          <a:stretch/>
        </p:blipFill>
        <p:spPr>
          <a:xfrm>
            <a:off x="6858000" y="285840"/>
            <a:ext cx="1571760" cy="1658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64000" y="2421000"/>
            <a:ext cx="468000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Dodav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ástupci státní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NNO a dal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18903"/>
                </a:solidFill>
                <a:latin typeface="Arial"/>
              </a:rPr>
              <a:t>4 nejčastější přístupy k CS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Moral obl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License to op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všechny čtyři jsou založeny na konfliktu mezi společností a podnikem nikoli na jejich vzájemné závisl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z ní vychází strategický přístup – integrace podniku a společ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ro C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je to v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dlouhodobém zájmu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podn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Prevence možných problémů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dobrá reputac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firmy, lepší firemní image a posílení věrnosti značce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atraktivita firmy pro kvalitní a talentované potenciální zaměstn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výšená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loajalita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produktivita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zaměstnanc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vyšší úroveň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spokojenosti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věrnosti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ákazníků a z ní plynoucí dlouhodobé vaz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odlišení se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od konkurence v očích spotřebitelů, konkurenční výho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úspory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nákladů např. na risk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roti C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Nemaximalizuje se zisk – trpí akcionář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Zvýší se cena pro koncového zákazník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Efekt je těžko měřiteln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Management nemá kompetence k řešení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Co přij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další vývoj záleží n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změnách hodnot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společnosti např. trvale udržitelný rozv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důležité je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integrovat CSR přímo do strategi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společnosti (spojení s core business interest, nalezení shar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ěla by to být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promyšlená investic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do budoucího přežití podn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usí být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sdílená všemi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pracovníky od top managementu až po nejnižší úro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ár čísel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86% velkých a mezinárodních společností zahrnuje CSR ve svém dlouhodobém plánu a komunikačních strategi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Oblast jejich zájmu: sociální, zdravotní sféra, vzdělávání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58% malých podniků podporuje volnočasové aktivity a 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Nezahrnuje CSR ve svých komunikačních aktivit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Krátkodob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Podle Institute of Business Ethics mají společnosti praktikující CSR o 18% vyšší z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20:42:25Z</dcterms:created>
  <dc:creator>Zuzana Kubíková</dc:creator>
  <dc:description/>
  <dc:language>en-US</dc:language>
  <cp:lastModifiedBy>1</cp:lastModifiedBy>
  <dcterms:modified xsi:type="dcterms:W3CDTF">2006-12-06T18:24:56Z</dcterms:modified>
  <cp:revision>132</cp:revision>
  <dc:subject/>
  <dc:title>Manager Shadowing Program</dc:title>
</cp:coreProperties>
</file>