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2F23-2026-4723-9DE3-681CD796E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71A2-BD50-4FF6-B798-920F642B6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931D-4110-42F4-BFAD-0DCF17BB7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1022-7610-41F4-847C-F9A337DB2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D5C2C-4E5A-42FF-83C7-C436EED81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D6BCD-941C-47D0-A55F-446B01235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F42F7-C27E-4382-A969-BDDA53305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603BF-0496-42D3-B843-7B74C81A6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F7F43-6F55-48DA-B945-AC3B38163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A5179-394D-4157-9F80-17E29B51C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C76AD-0168-4636-BE67-FE08CD432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F76A-6DDA-46AC-9F55-6808E14B4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90216-ECF7-46D2-A064-53BAEFBC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1AA36-D7FF-40B4-A38F-A0D39671D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4488F-C269-4019-BB92-02E8480E1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F6C4D-1151-4BC6-8800-F0F2A8D63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4A79F-C1C4-4F09-975A-15FD1B2A8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CE70-4298-47D5-9699-050E59D5B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C816-A26C-4C13-9CBD-D4A563022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F656-8F33-46AD-88CC-F82125314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1BB0-5299-4E65-86F6-C236E8EAE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FE8E-4D11-4314-B8EA-FA456432D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5ADA-F4F1-4964-8ACE-9B2561AEE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D4F4-2F47-4F54-87EA-47BBF0F3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99CDE-DE99-47C5-BDC4-C3D98DA3CC2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6125D-9026-4819-B0B1-278AA35CEC1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Metody a nástroje podnikatelské etiky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563640" y="5157720"/>
            <a:ext cx="528804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ucie Absolonová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aniel Nová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arbora Říhová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Etický audit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3848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Garamond"/>
              </a:rPr>
              <a:t>Sociální audit zahrnuje </a:t>
            </a:r>
            <a:r>
              <a:rPr b="1" lang="cs-CZ" sz="1600" spc="-1" strike="noStrike" u="sng">
                <a:solidFill>
                  <a:srgbClr val="ffffff"/>
                </a:solidFill>
                <a:uFillTx/>
                <a:latin typeface="Garamond"/>
              </a:rPr>
              <a:t>analýzu a kontrolu 4 základních podnikových dimenzí: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Garamond"/>
              </a:rPr>
              <a:t>Zaměstnanecká politika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Garamond"/>
              </a:rPr>
              <a:t>Ekonomický rozvoj společnosti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Garamond"/>
              </a:rPr>
              <a:t>Enviromentální politika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Garamond"/>
              </a:rPr>
              <a:t>Dobročinnost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ffff"/>
                </a:solidFill>
                <a:uFillTx/>
                <a:latin typeface="Garamond"/>
              </a:rPr>
              <a:t>Cíle:</a:t>
            </a:r>
            <a:r>
              <a:rPr b="1" lang="cs-CZ" sz="1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cs-CZ" sz="16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Garamond"/>
              </a:rPr>
              <a:t>Kontrola řízení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Garamond"/>
              </a:rPr>
              <a:t>Transparentnost pro všechny zainteresované v podniku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Garamond"/>
              </a:rPr>
              <a:t>Analýza sociálního klimatu podniku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ffff"/>
                </a:solidFill>
                <a:uFillTx/>
                <a:latin typeface="Garamond"/>
              </a:rPr>
              <a:t>Efekty plynoucí z auditu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Garamond"/>
              </a:rPr>
              <a:t>Analýzy morálky a sociálního klimatu v podniku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Garamond"/>
              </a:rPr>
              <a:t>Zlepšení motivace zaměstnanců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Garamond"/>
              </a:rPr>
              <a:t>Ozdravení mezilidských vztahů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Garamond"/>
              </a:rPr>
              <a:t>Snížení stresové zátěže zaměstnanců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Garamond"/>
              </a:rPr>
              <a:t>Kontrola moci v podniku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Garamond"/>
              </a:rPr>
              <a:t>Zvýšení transparentnosti pro všechny skupiny participující na podnikání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Garamond"/>
              </a:rPr>
              <a:t>Hodnocení účinnosti etických hodnot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Garamond"/>
              </a:rPr>
              <a:t>Snížení rozsahu morálních konfliktů ve společnosti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648320" y="1484280"/>
          <a:ext cx="4038480" cy="474516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19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Finanční audity</a:t>
                      </a: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Nefinanční audity</a:t>
                      </a: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(etický a sociální)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jí přesně definovaný právní řá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Řády jsou podnikové, srovnání s konkurencí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ostup je v každé organizaci shodný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e určen především pro vlastní podni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udit se opakuje 1x ročně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udit se obvykle opakuje za 18 až 24 měsíců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Výcvik zaměstnanců k etickému jednání zaměstnanců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Garamond"/>
              </a:rPr>
              <a:t>Výzkum provedený britským Institue of business Ethics ukázal, že mezi zkoumanými podniky bylo v roce 20001 nejběžnější formou etického výcviku zaměstnanců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Manuál pro zaměstnance ( 64%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Semináře v organizaci (60%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Intranet (56%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Výukové video, hraní rolí atd. (16%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Ostatní (20%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Použitá literatur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Čaník P., Řezbová L., T. van Zavřel: Metody a nástroje podnikatelské etiky, Praha: Oeconomica, 200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Fiala B.: Podnikatelská etika, Olomouc: UP v Olomouci, 200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Dytrt Z. a kol. : Etika v podnikatelském prostředí, Praha: Grada Publishing, 200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Děkujeme za pozornos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Metody podnikatelské etiky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. metoda konsensu a dialog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je nutné zvážit, zda přiměřeným stylem rozhodování se stane přístup 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utokratický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ýmová příprava –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blém je řešen v rámci týmu, ale o konečném rozhodnutí rozhoduje jedinec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Skupinové rozhodování –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členové týmu problém společně řeší i rozhodují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9efee"/>
                </a:solidFill>
                <a:latin typeface="Garamond"/>
              </a:rPr>
              <a:t>Metoda konsensu a dialogu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Mezi přednosti </a:t>
            </a:r>
            <a:r>
              <a:rPr b="1" i="1" lang="cs-CZ" sz="2400" spc="-1" strike="noStrike" u="sng">
                <a:solidFill>
                  <a:srgbClr val="ffffff"/>
                </a:solidFill>
                <a:uFillTx/>
                <a:latin typeface="Garamond"/>
              </a:rPr>
              <a:t>skupinového rozhodování</a:t>
            </a: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 patří např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Více informací a znalostí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Kombinace různých přístupů a dovedností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Širší spektrum přístupů k řešení problému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Lepší pochopení problému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Vyšší přijatelnost řešení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Stimulace myšlení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Nevýhod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Dominance některých členů skupiny, podřízenost jiných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Prosazování preferované variant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Zamlčování nesouhlasu, preference konsenzu za každou cenu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Skupinové myšlení ( nadměrná loajalita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Možnost „nákazy“ chybami jiných členů týmu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Možnost vyloučení inovativních řešení hlasování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Vyšší časová náročnos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Metody podnikatelské etiky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Stakeholderská analýza a plánování</a:t>
            </a: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legitimnější a efektivnější implementace etických principů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přináší větší účinnost, zabezpečuje hospodárnost, posiluje udržitelnost a udržitelný dopad, zajišťuje větší transparentnost a odpovědnost a v neposlední řadě také větší spravedlnost.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Garamond"/>
              </a:rPr>
              <a:t>Stakeholdrem ( podílník či zainteresovaný) je myšlen takový jedinec či skupina, která má určitý vztah k podnikatelskému subjektu a může ovlivňovat jeho podnikatelskou činnost. Technika analyzující klíčové zainteresované skupiny se označuje jako stakeholderská analýzy. Ta ukazuje jejich zájmy vzhledem k cílům projektu, jejich význam v sociální síti i jejich vliv na podnik a úspěšnost projektu.</a:t>
            </a:r>
            <a:r>
              <a:rPr b="0" lang="cs-CZ" sz="1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Vedle skupiny  vlastníků (akcionářů), mohou mezi další stakeholderské skupiny patřit zaměstnanci, zákazníci, dodavatelé, konkurence, vlády, stát a místní zastupitelství, veřejnost atd.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b9efee"/>
                </a:solidFill>
                <a:latin typeface="Garamond"/>
              </a:rPr>
              <a:t>Stakeholdeři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Garamond"/>
              </a:rPr>
              <a:t>Zaměstnanci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- podstata </a:t>
            </a: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zájmu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Udržení stabilní zaměstnanosti ve firmě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pravedlivá odměna za práci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Práce v bezpečném a příjemném prostředí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-podstata </a:t>
            </a: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moci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ožnost kolektivně vyjednávat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távky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Publicity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Garamond"/>
              </a:rPr>
              <a:t>Zákazníci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–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podstata </a:t>
            </a: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zájmu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Dosažení „spravedlivého“ nákupu (nakupované zboží musí hodnotou odpovídat vynaloženým prostředkům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Získání bezpečných a spolehlivých výrobků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–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podstata </a:t>
            </a: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moci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Nákup zboží od konkurenčních firem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Bojkot firem, které uplatňují nepřijatelnou politiku či jejichž zboží je nekvalitní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b9efee"/>
                </a:solidFill>
                <a:latin typeface="Garamond"/>
              </a:rPr>
              <a:t>Stakeholderská analýz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-51732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Jednotlivé kroky stakeholderské anylýzy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886680" indent="-44316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1. Identifikace podnikových stakeholdrů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886680" indent="-44316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2. Seřazení stakeholdrů dle důležitosti 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–</a:t>
            </a: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důležitý je vliv a význa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886680" indent="-44316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3. Pochopení klíčových stakeholdrů 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– zjištění relevantních údajů – jak smýšlí o našem podniku, jak s nimi co nejlépe komunikovat atd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648320" y="2232000"/>
            <a:ext cx="4038480" cy="32306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Nástroje podnikatelské etiky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tické kodex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rganizační struktury na podporu etického program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tický a sociální audi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Výcvik zaměstnanců k etickému jednán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tické vzo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Etické kodexy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Podnikové etické kodexy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– kodex konkrétních podniků či jejich částí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Profesní etické kodexy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– kodexy různých asociací a sdružení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Garamond"/>
              </a:rPr>
              <a:t>Řada předností: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Eliminuje nežádoucí praktiky, které působí pokles přízně zákazníků, zaměstnanců, investorů, veřejnosti atd. a které mohou vést k dlouhodobým ekonomickým ztrátám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Objasňuje politiku firmy v morálně problematických otázkách, definuje akceptovatelné a neakceptovatelné jednání (korupce, úplatky, zneužívání pravomoci apod.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Zjednodušuje zavádění inovací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Pozitivně motivuje zaměstnance posílením jejich vědomí, že pracují v etickém prostředí s jasnými pravidly, která platí pro všechny bez výjimky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Zlepšuje reputaci firmy na veřejnosti i u zákazníků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Zabraňuje nadřízeným zneužívat svého postavení vůči ostatním zaměstnancům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Organizační struktury na podporu etického programu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Např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Garamond"/>
              </a:rPr>
              <a:t>Etický úřad</a:t>
            </a: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– je odpovědný za každodenní vedení a implementaci podnikového etického programu. Provádí dozor nad dodržováním etického kodexu a chodem podnikové politik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Garamond"/>
              </a:rPr>
              <a:t>Pracovník odpovědný za etické postupy firmy</a:t>
            </a: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- provádí poradenství v záležitostech etické povahy, monitoruje rozvoj etického programu, jeho případné nedostatky, případy neetického jednání atd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Garamond"/>
              </a:rPr>
              <a:t>Etická rada</a:t>
            </a: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– poradce v záležitostech nastavení etické politiky organizace, monitoruje program implementace etických principů do každodenního chodu organizac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Garamond"/>
              </a:rPr>
              <a:t>Etický výbor</a:t>
            </a: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– celkový dozor nad dodržováním etického programu, úzce spolupracuje se všemi, kteří jsou odpovědni za dohled a správu nad etickým programem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Garamond"/>
              </a:rPr>
              <a:t>Ombudsman</a:t>
            </a: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– zcela  nezávislý na podnikovém managementu. Místo, kde zaměstnanci či další zainteresované skupiny zcela bez obav a volně předkládají své podněty nebo kde žádají o radu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6T10:58:44Z</dcterms:created>
  <dc:creator>CIKT</dc:creator>
  <dc:description/>
  <dc:language>en-US</dc:language>
  <cp:lastModifiedBy>absolonm</cp:lastModifiedBy>
  <dcterms:modified xsi:type="dcterms:W3CDTF">2006-11-16T20:28:13Z</dcterms:modified>
  <cp:revision>20</cp:revision>
  <dc:subject/>
  <dc:title>Snímek 1</dc:title>
</cp:coreProperties>
</file>