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192E-1518-4F3B-AF94-7342F9F4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5DF7-87A5-4E43-97B9-AB1046D8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6B4-0299-4A1F-B0A0-601AB269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C27-6F76-442D-B852-5234DBE1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AC90-0771-450C-A27E-9035139E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1E82-F723-4497-9F17-EAE851E3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CA1C-DBEC-4264-8997-4B805257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BD1D-796A-473E-8965-8948A154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4A8A-7E11-4757-9B1D-A1F4A9BF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9919-5EE8-4AE8-8719-0F9AE782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3008-FD09-49B8-88D8-329610B3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BA0F-153E-4E1B-AED3-19C65A71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269B-8DFF-453D-B182-FAE7F725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4FCF-7E12-4766-B812-4B133DB3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D6A0-CA54-4374-ADD3-43C39171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6A29-60ED-461B-A6B3-2184810A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19A6-BD24-4980-8D0F-7563BDC6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DAEF-F9CE-4D95-95E6-8F1EC8D4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20A-256D-4B23-AA03-6D8AC3AB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423-0C01-4773-9059-FFAB4FCC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58E-86AA-48BB-9B9F-09A7E29D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EFC-02CD-44F7-9023-269956FD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78D-64C5-4A29-8AFB-19FAD268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A1E4-F1DA-4C5E-BA3D-30D1DFAC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8DE6-ADA0-4EF3-BA8D-F5CB71A70FF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801B-E14A-4734-9666-BA10213A2F1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Společenská zodpovědnost podnik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943600" y="548640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ukáš Przybyls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ndřej Chl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etr Procház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za životní prostřed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nových technologií vedoucích ke zlepšování Ž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dlouhodobých možností čerpání zdroj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sazení standardů na alespoň minimální ochranu Ž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Modely vztahů mezi organizací a společnost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6 model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ůzné pohledy na stejnou vě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chází z různých předpoklad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ávní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xistence nadřazeného systému (právní systé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dpovědnost stanovena zákon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ystém je v rovnováze x regulace poruch novými zák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Trhově smluvní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inou zodpovědností organizace je produkov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ganizace a společnost jsou 2 paralelní systé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munikace prostřednictvím výměny na trh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lužba veřejnému blah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486900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Vykořisťovatelský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výměně organizace dostane vždy víc než společ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ganizace a společnost jsou 2 paralelní systé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Technicko-strukturní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akce na trhově smluvní a vykořisťovatelský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sahují pravdy i neprav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nik nové třídy manažerů (ovládají všechny instituce ve společnost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3213000"/>
            <a:ext cx="608040" cy="838440"/>
          </a:xfrm>
          <a:prstGeom prst="downArrow">
            <a:avLst>
              <a:gd name="adj1" fmla="val 50000"/>
              <a:gd name="adj2" fmla="val 34473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Model vzájemně se prolínajících systémů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zení částečné platnosti předešlých modelů, ale odmítá jejich schopnost obsáhnout reali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ůraznění interakce mezi aktéry ve spol. systém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tahy aktérů jsou zdrojem napětí, ale i tvůrcem rovnová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Stakeholderský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současnosti populární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odpovědnost je souhrn sporných otázek, které vnášejí do organizace vnější složky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dpovědnost je stanovena diskusí a dialo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4076640"/>
            <a:ext cx="608040" cy="838440"/>
          </a:xfrm>
          <a:prstGeom prst="downArrow">
            <a:avLst>
              <a:gd name="adj1" fmla="val 50000"/>
              <a:gd name="adj2" fmla="val 34473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ffff"/>
                </a:solidFill>
                <a:latin typeface="Times New Roman"/>
              </a:rPr>
              <a:t>Začlenění etiky do podnikové strategi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Nejúčinnější cestou určení pevných hodnot organizace je využití systému její 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korporativní kultury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loupnost kroků změn podnikové kultu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znat nevyhnutelnost změn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známit změny všem zaměstnancům organiz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čínat malými změnam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odelovat změn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tevřít komunikační kanál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čit zaměstnance jak přistupovat k novému systém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ýt trpěliv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aralelní pláno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Dominující postavení zisku a efektivnosti v systému podnikové kultury je nevyhnutelné vyvážit ostatními, hlavně etickými hodnotam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Proces paralelního plánování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umožňuje včlenit hodnoty společenské zodpovědnosti a základní etické hodnoty do systému podnikové kultur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aralelní plánování = plánování orientované na 2 výstu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ýstup cílů podni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enviromentální výstup podni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aralelní plánování můžeme shrnout do následujících tezí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anticipace etických problémů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aplikace nástrojů společenské zodpovědnosti a etické analýz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eterminace hodnot korporace, které jsou pro ni nejdůležitější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integrace těchto hodnot do kultury podnik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bsah prezenta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orové typy společenské zodpovědnosti podnik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sah zodpovědnosti organizace – modely řízení a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členění etiky do podnikové strate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loha podnikové kultu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Podniková kultura prostupuje celým plánovacím procesem, ovlivňuje jej a sama je jím ovlivňován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Otevřenos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je důležitým prvkem podnikové kultu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idské systémy mají tendenci k sebekorekci, pokud mají včasné a přesné informace o tom, co je třeba napravit.“ (filozof Karl Poppe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 podnikové kultuře existuje několik indikátorů nedostatečné otevřenost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dřízení se snaží získat informace o stanovisku managementu k danému problému, teprve potom se sami vyjádří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ezi manažery panuje dokonalá shoda v názorech na rozličné problémy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xistuje odpor k poskytnutí špatných zpráv 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UKNIČ, A.S. Štvrtý rozmer podnikania - etika. Bratislava : SAP, 1994. ISBN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80-85665-30-1.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RNKOVÁ, J. Společenská odpovědnost firem. Business Leaders Forum, 2004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ndřej Chlup (tým 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Vzorové typy společenské zodpovědnosti podnik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ladní normy a kritéria spol. zodp. lze rozdělit do několika skupin týkajících 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třebite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městnanc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časti zaměstnanců na rozhod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kcionář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u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řej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životního prostře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spotřebitelů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ravedlivá hodn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ivé a srozumitelné inform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ctivá a hodnověrná rekl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věření bezpečnosti výrobku a varování před neověřenými vlastnosti a riziky použi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zaměstnanců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spravedlivé a rovné zacház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mezení použitelnosti výkonových no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olečnost prostředníkem zvyšování kvality a bezpečnosti života a zdraví zaměstnance (i mimo pracoviště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čast zaměstnanců na rozhodo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činný model komunikace v podniku má pozitivní ekonomické dopady, ale i etickou dimenz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akcionářů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eřejnění seznamu akcionář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ivé informování současných a budoucích akcionářů o vývoji podni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žádné osobní výhody manaže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Vztahy mezi konkuren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kurence by měla být čis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az najímání zaměstnanců konkurence s cílem získat určité důvěrné inform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veřejnost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komunikace s okolní komunit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ordinace určitých rozhodnu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místního sociálního a kulturního živ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mínky ukončení činnosti v dané lokali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9:50:59Z</dcterms:created>
  <dc:creator>Lukáš Przybylski</dc:creator>
  <dc:description/>
  <dc:language>en-US</dc:language>
  <cp:lastModifiedBy>Ondřej Částek</cp:lastModifiedBy>
  <dcterms:modified xsi:type="dcterms:W3CDTF">2006-12-11T11:52:34Z</dcterms:modified>
  <cp:revision>8</cp:revision>
  <dc:subject/>
  <dc:title>Společenská zodpovědnost podnikání</dc:title>
</cp:coreProperties>
</file>