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E8E9-71EC-4491-A5F5-C4FDC5A5DD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0B01-DFB5-4F04-9995-B9C1F82A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77B3-2F42-4B06-BC71-FFEDD7B4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5AAD-D3A6-4B47-A4A5-950F3616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83F5-F2B2-4FDA-B944-2E892414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7B35-3FC4-4BAF-8258-3C0F8050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594B-89F3-4C0E-8B0F-B82B7ABA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2B12-80AA-4DF3-A539-8A904A9C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FAA1-0743-4F50-A9DC-9D4681E5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46B4-5F63-4140-8F56-5FD11E74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7AC7-1B06-43A3-8B98-2EFCCA2C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84A8-9074-40D4-9CA9-1D09F33D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5FBA-3BC2-4863-BD74-37439BB4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D32E-5273-46C4-98E8-75453FE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0815-D525-4802-BB28-981A6C38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26D1-1BAB-44C0-A794-7F398A0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9D26-4AD1-498E-9B61-DAC7D759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F502-32BB-40B0-A739-776E02B9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D2B6-4F69-49D1-94CD-002009B7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A07B-98AE-4013-ACD5-2E025DBB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A79B-6333-40F6-B169-3B4CD207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4A08-6ED0-42B4-8507-74295446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C98F-602B-4D1F-9211-155EE9E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CD8F-57ED-4F47-BA95-93EEF85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DA32-82C2-4CFF-97E4-F2A2769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F6E4-B28E-4BF4-857E-23EA18114BA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4369-532C-4151-89D9-00A7D9856FA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	</a:t>
            </a: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Manažerská etika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boženská a laic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boženská - 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Boha, na dogmatech a zjeveních a na strachu z odplaty na onom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aická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vaz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lid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rodin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lasti, 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iná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ý základ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cit morálního dluhu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pocit absolutní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ov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e dominance lidských prá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Vytrácí se hodnota oběti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mítá se ideál od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íká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sou vyt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vány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hnané p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davk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u povzbuzována okam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tá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ání, 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 blahobytu, št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ouběžně se však rozvíjí i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fundamentalistick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é prou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nik industriální éry byl anonymní a disciplinární, technokratický a mechanický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industriální podnik je pokládán za nositele smyslu a hodno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zmach kodex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chart podnikatelské etiky.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roli zde j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 osmdesátých letech minulého století sehrávaly americké firm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dex a etická prohlášení se nevylučují s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nikatelský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záj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álka a podniká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stávají být od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enými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8f828"/>
                </a:solidFill>
                <a:latin typeface="Times New Roman"/>
              </a:rPr>
              <a:t>U</a:t>
            </a:r>
            <a:r>
              <a:rPr b="1" lang="cs-CZ" sz="4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tilitaristická</a:t>
            </a:r>
            <a:r>
              <a:rPr b="1" lang="cs-CZ" sz="4400" spc="-1" strike="noStrike">
                <a:solidFill>
                  <a:srgbClr val="f8f828"/>
                </a:solidFill>
                <a:latin typeface="Garamond"/>
              </a:rPr>
              <a:t> </a:t>
            </a:r>
            <a:r>
              <a:rPr b="1" lang="cs-CZ" sz="44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rumentalizace</a:t>
            </a:r>
            <a:r>
              <a:rPr b="1" i="1" lang="cs-CZ" sz="44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ické chování a spo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á odp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 se stávají významnými faktory konkurenceschopnosti fir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idé c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í spolu s konzumací z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„konzumovat“ i mravní hodno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itucionalizace společenské odpovědnosti podnik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70. let dvacátého století - Koncept společenské odpovědnosti podniků (Corporate Social Responsibility – CS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SR - dobrovolné integrování sociálních a ekologických hledisek do každodenních firemních operac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porován ze strany nadnárodních a mezinárodních organizací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Evropské organizace – CSR Europ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65 čle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osvětové organizace – Global Compact – cílem je prosazování společenské odpovědnosti podnikání v oblasti lidských práv, pracovních standardů a životního prostře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rganizovanosti podni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bjektivizace a srovnatelnosti při prezentaci výsled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á forma společenské odpovědnos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ec krea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možnost nalezení společných kritérií, která by bylo možno univerzálně aplikovat na všechny firm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zentace pozitiv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zamlčování negat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visející probl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7336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Budouc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jednocování kriterií pro posuzování společenské odpovědností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ozvoj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ému certifikace společenské odpovědnosti podniků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podobnost s oblastí kvality (systémy I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statná úloha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eské společnosti považují své angažování za důležité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ka českých podniků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tivita uvnitř podniku -péče o své zaměstnance a jejich vzdělá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kvalitních pracovníků – spolupráce se škol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Podniky nepociťují tlak ze strany spotřebitel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dostatečný rozvoj spotřebitelské kultury a společenské angažovanosti zákaz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ezentace dobrých firem v médiích není žádoucí – je považována za rekl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5264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naž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ec 20 stol. – etika proniká hlouběji do struktur podniků a začíná být její nedílnou součá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ři i vlastníci podniků si začínají uvědomovat, že bez etického chování vůči okolnímu světu se jen těžko prosadí na moderních a provázaných trz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édia prezentují pouze skandály – nemají přílišný vliv na veřej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last dárcovství – pouze vylepšení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ůležitost manažerské etiky ve vyspělých zemích i nadále vzrůst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ÁHA, J., DYTRT, Z. 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nažerská etika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Management Press 2003. ISBN 80-7261-084-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IEDMAN, M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Social Responsibility of Business Is to Increase Its Profit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Times Magazíne, Sept. 197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NK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polečenská odpovědnost fir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Business Leaders Forum, 200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ožnosti podniků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dnárodní podniky se stávají mocnějšími díky zlepšování logistiky, přesunů výrob do celého světa → eliminují státní předpisy a regulace →  ↓ státní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zvyšují svůj mezinárodní potenciál →  ↑ schopnosti diktovat státům podmínky výhodné pr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kles zájmů spotřebitelů o politiku – světový trend ve vyspělých zem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čané zvyšují svůj vliv pomocí nákup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strategie prezentace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řebitelé se stávají citlivějšími vůči původu zboží a podmínkách ve kterých vznikaj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kladou větší důraz na etické podmínky vzniku svých produkt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logické výroby a zlepšování pracovních podmínek ve všech částech svě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azníci upřednostňují firmy z větším etickým kredi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vynakládají velké sumy na obnovu životního prostředí a snaží se o co nejšetrnější využívají VF a pracovní sí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občanských hnutí a organizací zabývajících se ekologickou stránkou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Změny v etice ve 20. století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padní civilizace byla po jistou dobu nadšena myšlenkou osvobodit se od morálky jako nástroje útlaku cestou rozvíjení kultu individualismu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ost je charakteristický návrat k etickým hodnotám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de 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eakci na individualistickou nezodp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, na dekadentní vývojové trend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s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ásilí, brutality, kriminality, korupce v politickém a hospodářském život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lariz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 jedné straně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oncentr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nesmírného bohatství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 na druhé straně roste chudoba spjatá s všeobecným úpadk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egativní důsledky individualism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Etika nového typ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G. Lipovetsky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de o návrat v pravém slova smyslu, o pouhou renesanci dřívější morálk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e snaze o 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jetí od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ých lidských hodnot se z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ná vytvá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t etika nového typu, odlišující se jak od trad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í náb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é etiky, tak od laické moderní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tik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Ondřej Částek</cp:lastModifiedBy>
  <dcterms:modified xsi:type="dcterms:W3CDTF">2006-11-23T08:57:22Z</dcterms:modified>
  <cp:revision>49</cp:revision>
  <dc:subject/>
  <dc:title>Druhá vlna  </dc:title>
</cp:coreProperties>
</file>