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9FDE-7E22-4E46-9B83-F7BE427FB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3DE0-5444-4805-8ECB-5338BD94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0C12-F8C4-4869-ACF5-7533400A3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4F99-89C7-4F1E-9F02-A42F74EA9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6039-E476-4496-A06D-B2D3D4732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54F7-96E2-4965-BDE8-CD09E3D0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C77B-5513-432E-93F9-DBF46D1E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81DA7-1803-4A3F-AE7B-C8670690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F8FF-3647-4410-9897-833E83F0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883F-F35E-40A5-A687-6AFFA113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32C3-FDDF-4663-888C-3A1A1849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CDD5-281B-4213-8685-9D2C2CB4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FE332-CFDD-48D2-8FF7-08F4C439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1D86-D319-4F18-B452-23AF1975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82E1-061A-45BE-BF76-6A46E812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C1E3E-9722-474E-91E4-B262CF6D0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5926-36A3-4D28-AE26-A5186F229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2045-F0E9-40E9-AAF8-D3C6B8F8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B98D-42B0-432B-9813-A176DE28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B3E9-8595-4862-B23C-92EFDB23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C6E4-C68E-4063-9577-79EFE153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B44A-98FB-43BA-BA43-CCBEC950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43F9-178B-4768-A57E-380E5D32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37D5-02D9-4F38-BFE5-7D14C3E6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71B7-CCCF-4062-977F-4B11A5206488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E240-4D5A-4D09-AB2F-8A7CE3B63F7A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halek.info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Krizový manage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Beata Brosková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Hana Matonohová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Tomáš Procház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Finanční rizika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likvidita - schopnost splácet své závazk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olventnost - dostatek finančních prostředk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entabilita - větší zisky než náklad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enová: - přitlačení k nízké ceně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Mezinárodní rizika</a:t>
            </a:r>
            <a:r>
              <a:rPr b="0" i="1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izika při realizaci vývozu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špatný průzkum odbytiště, nedostatek zákazníků, vytváření velkých zásob v zahranič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izika spojené s placením - nezaplacení zakázky, měnové rizik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politická rizik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Stanovení krizové strategie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imes New Roman"/>
              </a:rPr>
              <a:t>omezení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, celkové ohrožení organizace, zvláště příprava alternativ plánu pro zvládnutí kriz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imes New Roman"/>
              </a:rPr>
              <a:t>odstranění ohnisek potenciálních krizí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, které mohou ohrozit organizaci (existenci konkurence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Realizace krizové strategie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58c"/>
                </a:solidFill>
                <a:latin typeface="Times New Roman"/>
              </a:rPr>
              <a:t>Postup při vzniku krize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imes New Roman"/>
              </a:rPr>
              <a:t>odstranění ohnisek krize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imes New Roman"/>
              </a:rPr>
              <a:t>omezení celkového ohrožení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imes New Roman"/>
              </a:rPr>
              <a:t>zvládnutí krizové situace</a:t>
            </a:r>
            <a:r>
              <a:rPr b="1" i="1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Předpokladem k úspěchu je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jmenování odpovědného vedoucího krizového tým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stavit krizový tým z takových pracovníků, kteří mohou učinit řeše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zajistit rychlý tok informací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Zdroje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3200" spc="-1" strike="noStrike" u="sng">
                <a:solidFill>
                  <a:srgbClr val="6f89f7"/>
                </a:solidFill>
                <a:uFillTx/>
                <a:latin typeface="Times New Roman"/>
                <a:hlinkClick r:id="rId2"/>
              </a:rPr>
              <a:t>http://halek.inf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imes New Roman"/>
              </a:rPr>
              <a:t>Smejkal, Vladimír. </a:t>
            </a:r>
            <a:r>
              <a:rPr b="0" i="1" lang="cs-CZ" sz="3200" spc="-1" strike="noStrike">
                <a:solidFill>
                  <a:srgbClr val="40458c"/>
                </a:solidFill>
                <a:latin typeface="Times New Roman"/>
              </a:rPr>
              <a:t>Řízení rizik ve firmách a jiných organizacích.</a:t>
            </a:r>
            <a:r>
              <a:rPr b="0" lang="cs-CZ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imes New Roman"/>
              </a:rPr>
              <a:t>Dvořák, Jiří. </a:t>
            </a:r>
            <a:r>
              <a:rPr b="0" i="1" lang="cs-CZ" sz="3200" spc="-1" strike="noStrike">
                <a:solidFill>
                  <a:srgbClr val="40458c"/>
                </a:solidFill>
                <a:latin typeface="Times New Roman"/>
              </a:rPr>
              <a:t>Úvod do krizového managementu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imes New Roman"/>
              </a:rPr>
              <a:t>Šenovský, Michail. </a:t>
            </a:r>
            <a:r>
              <a:rPr b="0" i="1" lang="cs-CZ" sz="3200" spc="-1" strike="noStrike">
                <a:solidFill>
                  <a:srgbClr val="40458c"/>
                </a:solidFill>
                <a:latin typeface="Times New Roman"/>
              </a:rPr>
              <a:t>Základy krizového managementu V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Děkujeme za pozornost 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Krize v podnik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je to situace, která představuje trvalé nebo po delší dobu negativní odchylku od normálního stavu, ohrožují cíl organizace nebo její samotnou existenci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Etapy průběhu krize v podnik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0458c"/>
                </a:solidFill>
                <a:uFillTx/>
                <a:latin typeface="Arial Unicode MS"/>
                <a:ea typeface="Arial Unicode MS"/>
              </a:rPr>
              <a:t>1</a:t>
            </a:r>
            <a:r>
              <a:rPr b="1" lang="en-US" sz="3200" spc="-1" strike="noStrike" u="sng">
                <a:solidFill>
                  <a:srgbClr val="40458c"/>
                </a:solidFill>
                <a:uFillTx/>
                <a:latin typeface="Times New Roman"/>
                <a:ea typeface="Arial Unicode MS"/>
              </a:rPr>
              <a:t>. Etap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ubjektu klesají příjmy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ostou náklady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0458c"/>
                </a:solidFill>
                <a:uFillTx/>
                <a:latin typeface="Times New Roman"/>
                <a:ea typeface="Arial Unicode MS"/>
              </a:rPr>
              <a:t>2. Etap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zvyšuje se objem úvěrů, rostou splátky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ubjekt a jeho produkce tzn. "vypadává z trhu"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Etapy průběhu krize v podnik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40458c"/>
                </a:solidFill>
                <a:uFillTx/>
                <a:latin typeface="Times New Roman"/>
                <a:ea typeface="Arial Unicode MS"/>
              </a:rPr>
              <a:t>3. Etap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banky přestávají poskytovat úvěry,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u stávajících úvěrů se začnou zvedat úrokové sazby,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chybí zisk pro financování rozvoje, či udržení subjektu,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objevují se potíže s platební schopností,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subjekt nuceně snižuje zásoby materiálu, a dlouhodobého hmotného majetku,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omezují se nákup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Etapy průběhu krize v podnik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0458c"/>
                </a:solidFill>
                <a:uFillTx/>
                <a:latin typeface="Times New Roman"/>
                <a:ea typeface="Arial Unicode MS"/>
              </a:rPr>
              <a:t>4. Etap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ubjekt se dostává do ztráty, nejsou prostředky na pokrytí fixních nákladů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uvnitř společnosti se objevují spory, které se projevují i navenek, ve vztahu k obchodním partnerům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platební schopnost se sníží na minimu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Prvky krizového managementu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odhalení rizika - příčiny kriz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tanovení krizové strategi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ealizace krizové strategie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Odhalení rizika - příčiny kriz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imes New Roman"/>
              </a:rPr>
              <a:t>uvnitř podniku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- materiálová krize, výrobní krize, personál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imes New Roman"/>
              </a:rPr>
              <a:t>mimo podnik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- dodavatel má krizi, konkurence, zákazníka, krize způsobená legislativními podmínkami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Odhalení rizika - příčiny kriz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izika dělíme do následujících 3 skupin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průmyslové a obchodní riziko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nanční rizika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mezinárodní rizika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Průmyslové a obchodní rizik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výrobní rizik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ociální problémy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nákup surovi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izika v oblasti informatik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distribuční rizika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1T15:29:38Z</dcterms:created>
  <dc:creator>Start</dc:creator>
  <dc:description/>
  <dc:language>en-US</dc:language>
  <cp:lastModifiedBy>Alena Nováková</cp:lastModifiedBy>
  <dcterms:modified xsi:type="dcterms:W3CDTF">2006-12-03T12:40:28Z</dcterms:modified>
  <cp:revision>4</cp:revision>
  <dc:subject/>
  <dc:title>Krizový management</dc:title>
</cp:coreProperties>
</file>