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816-C13A-47C7-8816-8EC1BB63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EE6-D51B-4A51-B400-6EE8064D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093-133D-4075-B6BA-117CB819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452-E0C4-4FF8-974A-79017376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0BB-92C2-43E7-9EE4-3943F018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C534-B80F-487F-93DC-381046F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4DF-1D4E-4FC0-BF50-ECDC3D2D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8863-87B0-4CB8-B4E7-15EAE93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26D5-E2D5-41A4-BCFB-9821A0C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F06F-B079-42ED-888D-BEA8A58C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2FE-B17E-45F8-A3DA-3D66FCB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9E2-ECB2-43F7-BB7D-9E844D37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28A7-E7B2-4EAD-B6E2-34CFC3D5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BBD0-807B-4CA7-94C7-6844679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695-BD77-422D-8994-913DF25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AB86-97C8-404E-B941-5CDE35F2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4BD-8D0B-49CE-BAEA-E28F784F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89E-129D-4F47-8AB8-485CD97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8B6-5A72-451D-8F5C-87B7AE03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69D-AFE9-40BF-BCE7-00E1E6D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5A2-1106-4666-8D2C-747C056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608-5C88-4C80-B561-93EE24D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2F0-3A13-4CA9-9651-A01EDE3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15D-0108-42E0-8E9A-7B36B64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BACA-B773-4E38-A8B3-AF4C8963D2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B253-C79F-4782-B0F2-276ABB797B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dence současného managemen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ým č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k, J. Hledání mana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rského kamene mudrc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pro moderní podnik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vodce studiem Manageme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metterer, Bob. Skok do budou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 manažerských metod, technik a nástrojů postupuje - zejména v posledních letech - neobyčejně rych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y mají v běžném užívání téměř tři desítky hlavních manažers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liže dovedeme k dokonalosti jednu, i když značně důležitou část systému podnikového řízení, ještě není zajištěno, aby celek dobře fungo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spěšné řešení musí být systémové a mělo by pokrýt komplexní systém 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metody musí být výsledkem pečlivého zvažování. Je tedy spíše tvůrčím činem než reakcí na to, co se v managementu právě nos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om zcela výjimečně je schopna jedna metoda řešit komplexní problematiku efektivního modelu řízení konkrét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nagement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členil se jako samostatný termín v průběhu sedmdesátých let 20. stole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 managementu spočívající jednak v připravenosti reakcí na vnější či vnitřní podněty (pasivní aspekt) a jednak zaměřený na volbu předmětu změny, její pružnou přípravu, realizaci a využívání (aktivní aspek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ybrané přístupy managementu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stupy trvalého zlep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ingův zlepšovací cyklus PD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ěry zvyšování produk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a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notová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Bob Schmetter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oze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,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ývalý předseda Euro R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Intel, Opavia, K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 „Skok do budoucnost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chmetterer,%2520Bob" descr="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lineární myšl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 pro všechny 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vivalent tvo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šlení z bodu A (přes B) d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dy vytlačeno lineár. my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 v Buenos 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ichard Branson – spol. Vi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lší znaky říz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mání neobvykl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lexie jako zdroj nelineárního myšlení (tvořiv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ytváření genetických kop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oblasti pů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(tvořivá a efektiv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ko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xistuje žádný nezajímavý obor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 zbavit se předsu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át se ris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připraven překročit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jovat proti průmě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ocnějšími propagátory značky jsou zákazníc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čiňte z klientů nedílnou součást tý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49:05Z</dcterms:created>
  <dc:creator>Nikos</dc:creator>
  <dc:description/>
  <dc:language>en-US</dc:language>
  <cp:lastModifiedBy>pc</cp:lastModifiedBy>
  <dcterms:modified xsi:type="dcterms:W3CDTF">2006-12-05T07:20:35Z</dcterms:modified>
  <cp:revision>18</cp:revision>
  <dc:subject/>
  <dc:title>Snímek 1</dc:title>
</cp:coreProperties>
</file>