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9FA3-62A4-4977-853D-7FBA1717F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A67F-DAC4-4B8C-8B1C-2601EC3D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BE51-8A39-4B29-9477-B778108BE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465C-B118-43CA-8342-8750FC883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A7C6-D9E5-47FB-9A40-B655D2BC7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4112-7BF0-470B-8341-752962E8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2F46-C8D8-4EE3-B52F-06D7ADF0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CDED-B9A6-447E-AC09-60FE41BD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32DA-46C2-4F11-8B6E-E66054C6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F185-A446-4111-AA73-15AFC56D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A8E6-D273-4701-A3D0-F14FB03D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50C1-A4CA-4B17-BE22-FAF915B5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768D-7950-4C13-B74B-040D40A4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869E-9E79-4A61-9C3A-81E5C8E9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179F-6F41-49DF-B4C6-49B88179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A5F5-808C-4785-8CE2-EFC2ABF17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6563-8C6A-45B1-A781-743480ACE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7642-4158-4DBB-B793-542A7447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4764-241A-42F0-9A39-A4C6470F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8402-1737-4FE1-8F55-BDF5052D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E8B5-02F2-4C7F-BA60-C6D4C9BC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0B17-A1FE-40AD-AF91-365573C2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1838-1927-45E2-97AB-F109CC78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9A5C-1F63-4DEF-960F-ADF6A925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0225-150A-4C39-9625-6F10BB1768D1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E3BC-A634-4197-B098-2303BECC6392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920" y="2205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ETICKÝ KODEX PODNIKÁN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3354120"/>
            <a:ext cx="822960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án Kuše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omáš Simbart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Štěpán Draž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racovní princip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nflikt zájm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ary a záb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díraní a úplatkářstv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  <a:ea typeface="Times New Roman"/>
              </a:rPr>
              <a:t>Príprava a zavedenie etického kódexu podnikania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ľúčové pravidl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Iniciácia a inštitucionálna podpora etického kódexu mu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 prísť od vysokých predstaviteľov firmy </a:t>
            </a: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(predstavenstva) </a:t>
            </a: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a mala by sa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stať súčasťou firemnej stratégi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Integrálnou požiadavkou firemnej stratégie je demonštrovať jasný a pevný záväzok vysokého a stredného manažmentu a ostatných úrovní manažmentu dodržiavať etický kódex firm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Keďže hodnoty firmy slúžia ako dôležitý zdroj pre etický kódex, musia byť spracované a zapracované do etického kódexu spolu s poslaním, víziou a stratégiou firmy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9009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Akčný plán rozvoja a zavedenia etického kódexu</a:t>
            </a:r>
            <a:r>
              <a:rPr b="1" i="1" lang="sk-SK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i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podnikania: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37184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1. Zostavenie rozvojového tí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2. Získavanie a analýza informáci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3. Interný seminár pre akcionárov </a:t>
            </a:r>
            <a:r>
              <a:rPr b="0" i="1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na určenie požiadaviek a očakávaní od etického kódexu fir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4. Externý seminár pre akcionárov </a:t>
            </a:r>
            <a:r>
              <a:rPr b="0" i="1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na určenie požiadaviek a očakávaní od etického kódexu fir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5. Analýza výsledkov seminár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72160" y="1828440"/>
            <a:ext cx="437184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6. Príprava návrhu etického kódex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7. Pripomienky a návr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8. Schválenie Kódexu orgánmi firmy (ako napríklad Výkonný výbor, Predstavenstvo, Dozorná rad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9. Grafický Design a Distribúcia dokumen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10. Realizá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11. Priesku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Etický kódex skupiny Slovnaf</a:t>
            </a:r>
            <a:r>
              <a:rPr b="0" lang="sk-SK" sz="3600" spc="-1" strike="noStrike">
                <a:solidFill>
                  <a:srgbClr val="ccecff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ccecff"/>
                </a:solidFill>
                <a:latin typeface="Arial"/>
              </a:rPr>
              <a:t>- Obsah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7320" y="1294920"/>
            <a:ext cx="8591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Preambu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I. Vzťahy so zákazník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II. Vzťahy s dodávateľmi a veriteľ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III. Vzťahy s konkurencio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IV. Vzťahy so štátnymi a vládnymi orgánmi,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regiónom a spoločnosťo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V. Vzťahy s prostred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VI. Vzťahy s medzinárodnými firma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VII. Vzťahy s majiteľ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VIII. Vzťahy vo vnútri fir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Rešpektovanie ľudských bytostí – základ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interpersonálnych vzťahov vo fir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Dôstojná prá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Etika komunikácie, jej šírenie a ochr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Ochrana majetku a dobrého mena fir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Konflikt záujm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Etika urovnávania spor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IX. Etické zodpovednosti manažmen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X. Záverečné opatreni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ntiqueOliveTCE-Light"/>
                <a:ea typeface="Times New Roman"/>
              </a:rPr>
              <a:t>Pochopenie a aplikovanie etického kódexu podnikania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240" y="2362320"/>
            <a:ext cx="8915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Prípadov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štúdi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lovens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telekomunikác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a. 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oneywell, In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nternet – iné zdro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78076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usiness for Social Responsibility,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ssue Briefs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http://www.bsr.org/CSRResources/IssueBriefsList.cf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LÁHA, J., DYTRT, Z. 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anažerská etika.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aha: Management Press 2003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ieskum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tisícročia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 spoločenskej zodpovednosti firiem </a:t>
            </a:r>
            <a:r>
              <a:rPr b="0" i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The Millennium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oll on Corporate Social Responsibility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ol zrealizovaný firmo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nvironics International, Ltd., v spolupráci so spoločnosťou the Prin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f Wales Business Leaders Forum a The Conference Board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globescan.com/news_archives/MPExecBrief.pdf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OLNÝ, I. 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tika v podnikové strategii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Boskovice: Albert, 199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KNIČKA a kol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Úvod do hospodářské etiky.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aha: ASPI,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arlo di Florio,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rporate Ethics and Sustainability: Building the Bot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ine Throug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rporate Citizenship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referát pripravený firmou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icewaterhouseCoopers pre výročné stretnutie Svetovej banky/IMF, 2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ptember 2000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Co je etický kodex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ystém pravidel a principů, které řídí chování jednotlivců a skupin, a které se zaobírají tím, co je dobré (morální) a co 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obsah kodexu vyplývá ze souboru hodnot, které podnik vyzná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říve – „jen“ dodržování zákonů, od 70. let 20. stol vývo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Co je etický kodex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ůvodce pro zaměstnance a manažery, ale i ostatní stakeholders – pochopení a dodržování zákonného a čestného jednání v rámci provádění práce + (vědět, kde žádat o pomoc, Ahol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Řeší především VZTAHY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obsahuje však odpověď a lék na „vše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cecff"/>
                </a:solidFill>
                <a:latin typeface="Arial"/>
              </a:rPr>
              <a:t>Přínosy zavedení etického kodexu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transparentnější a zdravější podnikatelské prostředí =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mj. růst zahraničních inves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ede k omezení korup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zvýšení loajality zaměstnanc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osiluje jméno firmy (She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Výzkumy potvrzují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Lidé stále více upřednostňují etické principy před komerčními fak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Environics International, Ltd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Ovlivňuje rozhodování obchodních partnerů </a:t>
            </a:r>
            <a:r>
              <a:rPr b="0" lang="sk-SK" sz="1600" spc="-1" strike="noStrike">
                <a:solidFill>
                  <a:srgbClr val="ffffff"/>
                </a:solidFill>
                <a:latin typeface="Arial"/>
              </a:rPr>
              <a:t>(Business for Social Responsibility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Etický kodex má vliv na hodnotu akcií </a:t>
            </a:r>
            <a:r>
              <a:rPr b="0" lang="sk-SK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Business &amp; Society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cecff"/>
                </a:solidFill>
                <a:latin typeface="Arial"/>
              </a:rPr>
              <a:t>Základní směrnice etického kódexu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Respektování lidských prá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rincipi společenské zodpověd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Ochrana majetku a dobrého jména fir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Bezpečnost prá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Ochrana životního prostřed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Urovnávání spor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exuální obtěžov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tika komun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k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odnikové vztahy I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Vztah s akcionář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ůvě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omunik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Řízení fir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0400" y="1600200"/>
            <a:ext cx="404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Vztah se zaměstnan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oulad se Zákoníkem prá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ersonální polit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odnikové vztahy II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Vztah s dodavate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valita produktů a služ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espekt a důvě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chota ke kompromis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0400" y="1600200"/>
            <a:ext cx="404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Vztah s konkuren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održování zákon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estný přístup ke konkuren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ekalá soutě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odnikové vztahy III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Vztah s vlád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latit dan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održovat vládní naříz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oj proti korup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0400" y="1600200"/>
            <a:ext cx="404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Vztah s zákazní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chrana informa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valita výrobku -mezinárodní nor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lužby zákazníků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ekl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09:26:10Z</dcterms:created>
  <dc:creator>76258</dc:creator>
  <dc:description/>
  <dc:language>en-US</dc:language>
  <cp:lastModifiedBy>Ondřej Částek</cp:lastModifiedBy>
  <dcterms:modified xsi:type="dcterms:W3CDTF">2006-11-23T08:59:01Z</dcterms:modified>
  <cp:revision>45</cp:revision>
  <dc:subject/>
  <dc:title>ETICKÝ KÓDEX PODNIKANIA</dc:title>
</cp:coreProperties>
</file>