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315B5-56E5-457B-88C8-EFED2BEB3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BCB16-15E7-4C67-B89F-BDA2342DA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B6C88-9BA4-4F94-92D4-03379F5C1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394D3-DEF8-4868-BEB6-7FF4A67F6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CC82B-DD79-48CF-9FD6-6F74C0AEF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99826-9BA4-4BE7-A801-7F483E177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35DC5-EDA4-4081-83E3-8806F145D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D46A8-C34A-46F2-8A6F-AC2283BA3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53DFD-BC03-4FAD-9EC7-4C53FF489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F24F0-BF73-457E-98D4-C8B3CA149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BDB08-89C1-41AC-84DD-509EB893F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41F94-26EE-45E5-BC60-E36F33A4B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6ADC8-3D8E-44B3-BC66-66CF23BE0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0DB2F-84ED-4C48-B0E4-6527F4EC5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8779C-626B-4B95-9D3C-FA42C83C4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85FC0C-D899-4E61-85DD-1B174FB9D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56DDB-A8A6-4769-9D6D-25BEB9494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90E06-6A18-4498-BF05-B6A66DAB4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E22FE-82F9-4AEA-9F82-10B853338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FE534-668C-49A9-A96F-68148B700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831FC-4C2D-4851-907C-D6428D63D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FF46-E139-4CD9-A66D-82F7778FA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C10ED-D839-41D0-84AC-1D84BC12B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A876-95A6-4ACA-8B1A-BC9FCF792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7862-588A-412F-BE0D-46181815D90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16C4-4459-4A8F-B089-92684EA2725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transparency.cz/index.php?lan=cz&amp;id=2802" TargetMode="External"/><Relationship Id="rId2" Type="http://schemas.openxmlformats.org/officeDocument/2006/relationships/hyperlink" Target="http://www.transparency.cz/index.php?lan=cz&amp;id=2802" TargetMode="External"/><Relationship Id="rId3" Type="http://schemas.openxmlformats.org/officeDocument/2006/relationships/hyperlink" Target="http://www.transparency.cz/index.php?lan=cz&amp;id=2802" TargetMode="External"/><Relationship Id="rId4" Type="http://schemas.openxmlformats.org/officeDocument/2006/relationships/hyperlink" Target="http://www.transparency.cz/index.php?lan=cz&amp;id=2802" TargetMode="External"/><Relationship Id="rId5" Type="http://schemas.openxmlformats.org/officeDocument/2006/relationships/hyperlink" Target="http://www.transparency.cz/index.php?lan=cz&amp;id=2802" TargetMode="External"/><Relationship Id="rId6" Type="http://schemas.openxmlformats.org/officeDocument/2006/relationships/hyperlink" Target="http://www.transparency.cz/index.php?lan=cz&amp;id=2802" TargetMode="External"/><Relationship Id="rId7" Type="http://schemas.openxmlformats.org/officeDocument/2006/relationships/hyperlink" Target="http://www.transparency.cz/index.php?lan=cz&amp;id=2802" TargetMode="External"/><Relationship Id="rId8" Type="http://schemas.openxmlformats.org/officeDocument/2006/relationships/hyperlink" Target="http://www.transparency.cz/index.php?lan=cz&amp;id=2802" TargetMode="External"/><Relationship Id="rId9" Type="http://schemas.openxmlformats.org/officeDocument/2006/relationships/hyperlink" Target="http://www.transparency.cz/index.php?lan=cz&amp;id=2802" TargetMode="External"/><Relationship Id="rId10" Type="http://schemas.openxmlformats.org/officeDocument/2006/relationships/hyperlink" Target="http://www.bestpractices.cz/praktiky/ETIKA_V_PODNIKANI/etika_v_podnikani_text_teorie.doc" TargetMode="External"/><Relationship Id="rId11" Type="http://schemas.openxmlformats.org/officeDocument/2006/relationships/hyperlink" Target="http://www.bestpractices.cz/praktiky/ETIKA_V_PODNIKANI/etika_v_podnikani_text_teorie.doc" TargetMode="External"/><Relationship Id="rId12" Type="http://schemas.openxmlformats.org/officeDocument/2006/relationships/hyperlink" Target="http://www.bestpractices.cz/praktiky/ETIKA_V_PODNIKANI/etika_v_podnikani_text_teorie.doc" TargetMode="External"/><Relationship Id="rId13" Type="http://schemas.openxmlformats.org/officeDocument/2006/relationships/hyperlink" Target="http://www.bestpractices.cz/praktiky/ETIKA_V_PODNIKANI/etika_v_podnikani_text_teorie.doc" TargetMode="External"/><Relationship Id="rId14" Type="http://schemas.openxmlformats.org/officeDocument/2006/relationships/hyperlink" Target="http://www.bestpractices.cz/praktiky/ETIKA_V_PODNIKANI/etika_v_podnikani_text_teorie.doc" TargetMode="External"/><Relationship Id="rId15" Type="http://schemas.openxmlformats.org/officeDocument/2006/relationships/hyperlink" Target="http://www.bestpractices.cz/praktiky/ETIKA_V_PODNIKANI/etika_v_podnikani_text_teorie.doc" TargetMode="External"/><Relationship Id="rId16" Type="http://schemas.openxmlformats.org/officeDocument/2006/relationships/hyperlink" Target="http://www.bestpractices.cz/praktiky/ETIKA_V_PODNIKANI/etika_v_podnikani_text_teorie.doc" TargetMode="External"/><Relationship Id="rId17" Type="http://schemas.openxmlformats.org/officeDocument/2006/relationships/hyperlink" Target="http://www.bestpractices.cz/praktiky/ETIKA_V_PODNIKANI/etika_v_podnikani_text_teorie.doc" TargetMode="External"/><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Manažerská etik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Lenka Kotou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arie Kutí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leonóra Baculáková</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ODNIKATELSKÉ PROSTŘEDÍ V ČR</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ýzkum etiky podnikání Transparency International (září 2005)</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Faktory ovlivňující podnikatelské prostředí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2" name="" descr=""/>
          <p:cNvPicPr/>
          <p:nvPr/>
        </p:nvPicPr>
        <p:blipFill>
          <a:blip r:embed="rId1"/>
          <a:stretch/>
        </p:blipFill>
        <p:spPr>
          <a:xfrm>
            <a:off x="609480" y="5943600"/>
            <a:ext cx="1600200" cy="399960"/>
          </a:xfrm>
          <a:prstGeom prst="rect">
            <a:avLst/>
          </a:prstGeom>
          <a:ln w="0">
            <a:noFill/>
          </a:ln>
        </p:spPr>
      </p:pic>
      <p:graphicFrame>
        <p:nvGraphicFramePr>
          <p:cNvPr id="173" name=""/>
          <p:cNvGraphicFramePr/>
          <p:nvPr/>
        </p:nvGraphicFramePr>
        <p:xfrm>
          <a:off x="3809880" y="3200400"/>
          <a:ext cx="3809880" cy="2797200"/>
        </p:xfrm>
        <a:graphic>
          <a:graphicData uri="http://schemas.openxmlformats.org/drawingml/2006/table">
            <a:tbl>
              <a:tblPr/>
              <a:tblGrid>
                <a:gridCol w="1904760"/>
                <a:gridCol w="1905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RZ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ODPORU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pora zahraničních fire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aně</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ízká vymahatelnost prá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korupční prostře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dravý trh</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úroveň obchodního styk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Důkaz samozřejmě žádný nemám, ale… zúčastnili jsme se řady výběrových řízení a nikdy jsme zakázku nedostali, i když jsem přesvědčen, že jsme mnohdy nabídli daleko lepší podmínky než konkurence - finanční i z hlediska kvality naší práce… často jsou podmínky výběrového řízení nastaveny tak, že už je dopředu jasné, kdo ho vyhraje, že už je to předem rozhodnuto a výběrové řízení je jen nutná formalit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mohou tam být prostě náznaky, proaktivní náznaky pro neetické chování ze strany státní správ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když je zakázka přímo ušitá přímo na dodavatele…. ty podmínky jsou nastavené tak, že tomu vyhoví ten dodavatel, udělá, ví, jak to vypracov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už je zadání šité na míru někomu, aby bylo předem jasné, že potenciální konkurenti to nemohou nikdy splnit, že vypsali takové omezující podmínky, že vědí, že nikdo jiný takový produkt nemá, než ta firma, takže už tím pádem vyhrála dopředu…“</a:t>
            </a:r>
            <a:endParaRPr b="0" lang="en-US" sz="2000" spc="-1" strike="noStrike">
              <a:solidFill>
                <a:srgbClr val="ffffff"/>
              </a:solidFill>
              <a:latin typeface="Tahoma"/>
            </a:endParaRPr>
          </a:p>
        </p:txBody>
      </p:sp>
      <p:pic>
        <p:nvPicPr>
          <p:cNvPr id="176"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veřejné zakázce bývá podle manažerů nejčastěji rozhodnuto ještě před vyhlášením výběrového řízení. Výběrové řízení se pak realizuje jako formální. Postup je asi následující:</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 základě osobních kontaktů je vybrán realizátor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sou připraveny podklady pro výběrové řízení, pravděpodobně ve spolupráci s budoucím realizátorem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dmínky pro realizaci zakázky jsou nastaveny tak, aby jim mohl vyhovět pouze předem vybraný uchazeč</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ěhne výběrové řízení, formálně dodržující nařízení dle zákona o veřejných zakázkác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9"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y neetického chování firem</a:t>
            </a:r>
            <a:endParaRPr b="0" lang="en-US" sz="4000" spc="-1" strike="noStrike">
              <a:solidFill>
                <a:srgbClr val="dbbd71"/>
              </a:solidFill>
              <a:latin typeface="Arial"/>
            </a:endParaRPr>
          </a:p>
        </p:txBody>
      </p:sp>
      <p:sp>
        <p:nvSpPr>
          <p:cNvPr id="181" name="PlaceHolder 2"/>
          <p:cNvSpPr>
            <a:spLocks noGrp="1"/>
          </p:cNvSpPr>
          <p:nvPr>
            <p:ph/>
          </p:nvPr>
        </p:nvSpPr>
        <p:spPr>
          <a:xfrm>
            <a:off x="533520" y="144756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ákavé promo akce na výprodeje a pak nedostatek zboží na skladě</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a:t>
            </a:r>
            <a:r>
              <a:rPr b="0" lang="cs-CZ" sz="2000" spc="-1" strike="noStrike">
                <a:solidFill>
                  <a:srgbClr val="ffffff"/>
                </a:solidFill>
                <a:latin typeface="Tahoma"/>
              </a:rPr>
              <a:t>V akci“ nebo „-50%“ a naúčtují plnou cenu</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Mocnosti sliby chudým nedodržely…</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ahoma"/>
              </a:rPr>
              <a:t>Zambii byl prominut dluh pěti miliard dolarů u Mezinárodního měnového fondu po loňské mamutí kampani Live 8, jež byla jednou z největších akcí na pomoc Africe v dějinách.</a:t>
            </a:r>
            <a:r>
              <a:rPr b="0" lang="cs-CZ" sz="1800" spc="-1" strike="noStrike">
                <a:solidFill>
                  <a:srgbClr val="ffffff"/>
                </a:solidFill>
                <a:latin typeface="Tahoma"/>
              </a:rPr>
              <a:t> </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Nezisková organizace DATA: země G8 splnily jen odepsání dluhů nejchudším zemím.</a:t>
            </a:r>
            <a:endParaRPr b="0" lang="en-US" sz="18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Rozvojovou pomoc (2010 má být 50 mld dolarů), navyšují jen polovičním tempem</a:t>
            </a:r>
            <a:endParaRPr b="0" lang="en-US" sz="16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Otevření svých trhů produktům chudým zemědělcům z rozvojového světa: G8 selhaly</a:t>
            </a:r>
            <a:br>
              <a:rPr sz="1600"/>
            </a:br>
            <a:r>
              <a:rPr b="0" lang="cs-CZ"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ý šéf Čepra uzavřel nevýhodné smlouvy </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mloouva na urč. Objem odebraných pohonných hmot Čepra od soukr. Pražské firmy.  Pokud ne, každý měsíc pokuta přes 100 mil. Kč</a:t>
            </a: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Krejčíř</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é kampeličk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užité zdroje</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růvodce studiem Management II, září 2005</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Transparency International (2005) Výzkum etiky podnikatelského prostředí v České republice </a:t>
            </a:r>
            <a:r>
              <a:rPr b="0" lang="en-GB" sz="2400" spc="-1" strike="noStrike">
                <a:solidFill>
                  <a:srgbClr val="ffffff"/>
                </a:solidFill>
                <a:latin typeface="Tahoma"/>
              </a:rPr>
              <a:t>&lt;</a:t>
            </a:r>
            <a:r>
              <a:rPr b="0" lang="cs-CZ" sz="2400" spc="-1" strike="noStrike" u="sng">
                <a:solidFill>
                  <a:srgbClr val="ffcc66"/>
                </a:solidFill>
                <a:uFillTx/>
                <a:latin typeface="Tahoma"/>
                <a:hlinkClick r:id="rId1"/>
              </a:rPr>
              <a:t>http://www.</a:t>
            </a:r>
            <a:r>
              <a:rPr b="0" lang="cs-CZ" sz="2400" spc="-1" strike="noStrike" u="sng">
                <a:solidFill>
                  <a:srgbClr val="ffcc66"/>
                </a:solidFill>
                <a:uFillTx/>
                <a:latin typeface="Tahoma"/>
                <a:hlinkClick r:id="rId2"/>
              </a:rPr>
              <a:t>transparency</a:t>
            </a:r>
            <a:r>
              <a:rPr b="0" lang="cs-CZ" sz="2400" spc="-1" strike="noStrike" u="sng">
                <a:solidFill>
                  <a:srgbClr val="ffcc66"/>
                </a:solidFill>
                <a:uFillTx/>
                <a:latin typeface="Tahoma"/>
                <a:hlinkClick r:id="rId3"/>
              </a:rPr>
              <a:t>.</a:t>
            </a:r>
            <a:r>
              <a:rPr b="0" lang="cs-CZ" sz="2400" spc="-1" strike="noStrike" u="sng">
                <a:solidFill>
                  <a:srgbClr val="ffcc66"/>
                </a:solidFill>
                <a:uFillTx/>
                <a:latin typeface="Tahoma"/>
                <a:hlinkClick r:id="rId4"/>
              </a:rPr>
              <a:t>cz</a:t>
            </a:r>
            <a:r>
              <a:rPr b="0" lang="cs-CZ" sz="2400" spc="-1" strike="noStrike" u="sng">
                <a:solidFill>
                  <a:srgbClr val="ffcc66"/>
                </a:solidFill>
                <a:uFillTx/>
                <a:latin typeface="Tahoma"/>
                <a:hlinkClick r:id="rId5"/>
              </a:rPr>
              <a:t>/index.</a:t>
            </a:r>
            <a:r>
              <a:rPr b="0" lang="cs-CZ" sz="2400" spc="-1" strike="noStrike" u="sng">
                <a:solidFill>
                  <a:srgbClr val="ffcc66"/>
                </a:solidFill>
                <a:uFillTx/>
                <a:latin typeface="Tahoma"/>
                <a:hlinkClick r:id="rId6"/>
              </a:rPr>
              <a:t>php</a:t>
            </a:r>
            <a:r>
              <a:rPr b="0" lang="cs-CZ" sz="2400" spc="-1" strike="noStrike" u="sng">
                <a:solidFill>
                  <a:srgbClr val="ffcc66"/>
                </a:solidFill>
                <a:uFillTx/>
                <a:latin typeface="Tahoma"/>
                <a:hlinkClick r:id="rId7"/>
              </a:rPr>
              <a:t>?lan=</a:t>
            </a:r>
            <a:r>
              <a:rPr b="0" lang="cs-CZ" sz="2400" spc="-1" strike="noStrike" u="sng">
                <a:solidFill>
                  <a:srgbClr val="ffcc66"/>
                </a:solidFill>
                <a:uFillTx/>
                <a:latin typeface="Tahoma"/>
                <a:hlinkClick r:id="rId8"/>
              </a:rPr>
              <a:t>cz</a:t>
            </a:r>
            <a:r>
              <a:rPr b="0" lang="cs-CZ" sz="2400" spc="-1" strike="noStrike" u="sng">
                <a:solidFill>
                  <a:srgbClr val="ffcc66"/>
                </a:solidFill>
                <a:uFillTx/>
                <a:latin typeface="Tahoma"/>
                <a:hlinkClick r:id="rId9"/>
              </a:rPr>
              <a:t>&amp;id=2802</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Hospodářské noviny (2006) „Bývalý šéf Čepra zatčen za podvod </a:t>
            </a:r>
            <a:r>
              <a:rPr b="0" lang="en-GB" sz="2400" spc="-1" strike="noStrike">
                <a:solidFill>
                  <a:srgbClr val="ffffff"/>
                </a:solidFill>
                <a:latin typeface="Tahoma"/>
              </a:rPr>
              <a:t>&lt;</a:t>
            </a:r>
            <a:r>
              <a:rPr b="0" lang="cs-CZ" sz="2400" spc="-1" strike="noStrike">
                <a:solidFill>
                  <a:srgbClr val="ffffff"/>
                </a:solidFill>
                <a:latin typeface="Tahoma"/>
              </a:rPr>
              <a:t>http://ekonomika.ihned.cz/1-10070860-18824250-001100_d-2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Libor Friedel (2006) Etika v podnikání: Databáze nejlepších praktik</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en-GB" sz="2400" spc="-1" strike="noStrike">
                <a:solidFill>
                  <a:srgbClr val="ffffff"/>
                </a:solidFill>
                <a:latin typeface="Tahoma"/>
              </a:rPr>
              <a:t>&lt;</a:t>
            </a:r>
            <a:r>
              <a:rPr b="0" lang="cs-CZ" sz="2400" spc="-1" strike="noStrike" u="sng">
                <a:solidFill>
                  <a:srgbClr val="ffcc66"/>
                </a:solidFill>
                <a:uFillTx/>
                <a:latin typeface="Tahoma"/>
                <a:hlinkClick r:id="rId10"/>
              </a:rPr>
              <a:t>http://www.</a:t>
            </a:r>
            <a:r>
              <a:rPr b="0" lang="cs-CZ" sz="2400" spc="-1" strike="noStrike" u="sng">
                <a:solidFill>
                  <a:srgbClr val="ffcc66"/>
                </a:solidFill>
                <a:uFillTx/>
                <a:latin typeface="Tahoma"/>
                <a:hlinkClick r:id="rId11"/>
              </a:rPr>
              <a:t>bestpractices</a:t>
            </a:r>
            <a:r>
              <a:rPr b="0" lang="cs-CZ" sz="2400" spc="-1" strike="noStrike" u="sng">
                <a:solidFill>
                  <a:srgbClr val="ffcc66"/>
                </a:solidFill>
                <a:uFillTx/>
                <a:latin typeface="Tahoma"/>
                <a:hlinkClick r:id="rId12"/>
              </a:rPr>
              <a:t>.</a:t>
            </a:r>
            <a:r>
              <a:rPr b="0" lang="cs-CZ" sz="2400" spc="-1" strike="noStrike" u="sng">
                <a:solidFill>
                  <a:srgbClr val="ffcc66"/>
                </a:solidFill>
                <a:uFillTx/>
                <a:latin typeface="Tahoma"/>
                <a:hlinkClick r:id="rId13"/>
              </a:rPr>
              <a:t>cz</a:t>
            </a:r>
            <a:r>
              <a:rPr b="0" lang="cs-CZ" sz="2400" spc="-1" strike="noStrike" u="sng">
                <a:solidFill>
                  <a:srgbClr val="ffcc66"/>
                </a:solidFill>
                <a:uFillTx/>
                <a:latin typeface="Tahoma"/>
                <a:hlinkClick r:id="rId14"/>
              </a:rPr>
              <a:t>/praktiky/ETIKA_V_PODNIKANI/etika_v_</a:t>
            </a:r>
            <a:r>
              <a:rPr b="0" lang="cs-CZ" sz="2400" spc="-1" strike="noStrike" u="sng">
                <a:solidFill>
                  <a:srgbClr val="ffcc66"/>
                </a:solidFill>
                <a:uFillTx/>
                <a:latin typeface="Tahoma"/>
                <a:hlinkClick r:id="rId15"/>
              </a:rPr>
              <a:t>podnikani</a:t>
            </a:r>
            <a:r>
              <a:rPr b="0" lang="cs-CZ" sz="2400" spc="-1" strike="noStrike" u="sng">
                <a:solidFill>
                  <a:srgbClr val="ffcc66"/>
                </a:solidFill>
                <a:uFillTx/>
                <a:latin typeface="Tahoma"/>
                <a:hlinkClick r:id="rId16"/>
              </a:rPr>
              <a:t>_text_teorie.</a:t>
            </a:r>
            <a:r>
              <a:rPr b="0" lang="cs-CZ" sz="2400" spc="-1" strike="noStrike" u="sng">
                <a:solidFill>
                  <a:srgbClr val="ffcc66"/>
                </a:solidFill>
                <a:uFillTx/>
                <a:latin typeface="Tahoma"/>
                <a:hlinkClick r:id="rId17"/>
              </a:rPr>
              <a:t>do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hybné chápání manažerské etiky</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e všichni manažeři mají jasno v tom, co je etika.</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to, co mi mé pocity říkají, že je správné nebo špatné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Člověk nemusí udělat to, co je správné, jeho pocity se nemusí slučovat s tím, co je etické</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o mém náboženském vyznání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boženství obhajují, co je etické, ale etika by se tak týkala jen věřících</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ýt etický neznamená chovat se podle zákon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y nemusí být etické. Viz apartheid, otroctví </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soubor norem chování, které akceptuje naše společnost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rmy nemusí být etické. Např. nacistické Německ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 je etik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založené na dobře založených normách z hlediska toho, co je správné a co špatné. </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isuje ve formě zákonů, povinností, závazků, užitku pro společenství, čestnosti a dalších ctností, jak by se lidé měli chovat.</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nabádají k poctivosti, čestnosti, soucitu a loajalitě a jsou založeny na právu na život, soukromí a nápravu křivdy.</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zabraňují loupeži, násilí, vraždě, napadání, urážkám, pomluvám a podvod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ozpory v chápání přínosu společenské odpovědnosti podniku</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Liberálové:</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dobrovolně“ se chovající společensky odpovědně nad rámec regulace trhem a státem a na úkor zisku =</a:t>
            </a:r>
            <a:r>
              <a:rPr b="0" lang="en-GB" sz="2400" spc="-1" strike="noStrike">
                <a:solidFill>
                  <a:srgbClr val="ffffff"/>
                </a:solidFill>
                <a:latin typeface="Tahoma"/>
              </a:rPr>
              <a:t>&gt;</a:t>
            </a:r>
            <a:r>
              <a:rPr b="0" lang="cs-CZ" sz="2400" spc="-1" strike="noStrike">
                <a:solidFill>
                  <a:srgbClr val="ffffff"/>
                </a:solidFill>
                <a:latin typeface="Tahoma"/>
              </a:rPr>
              <a:t>destabilizace trhu a kontraproduktivit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se řídí ekonomickými cíly a jejich chování je usměrňováno „neviditelnou rukou trh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eeticky se chovající podnik by na trhu zanikl</a:t>
            </a:r>
            <a:endParaRPr b="0" lang="en-US" sz="20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A „viditelnou rukou stát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ředpisy a zákony regulují neetické chování podniků</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odnik, který se dobrovolně chová společensky odpovědně nad rámec regulace trhem a státem a na úkor zisku =</a:t>
            </a:r>
            <a:r>
              <a:rPr b="0" lang="en-GB" sz="2000" spc="-1" strike="noStrike">
                <a:solidFill>
                  <a:srgbClr val="ffffff"/>
                </a:solidFill>
                <a:latin typeface="Tahoma"/>
              </a:rPr>
              <a:t>&gt;</a:t>
            </a:r>
            <a:r>
              <a:rPr b="0" lang="cs-CZ" sz="2000" spc="-1" strike="noStrike">
                <a:solidFill>
                  <a:srgbClr val="ffffff"/>
                </a:solidFill>
                <a:latin typeface="Tahoma"/>
              </a:rPr>
              <a:t>destabilizace trhu a kontraproduktivita</a:t>
            </a: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bbd71"/>
                </a:solidFill>
                <a:latin typeface="Arial"/>
              </a:rPr>
              <a:t>Postoj Friedmana</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Friedman jako uznávaný liberál:</a:t>
            </a:r>
            <a:endParaRPr b="0" lang="en-US" sz="32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Není pro dosahování zisku „přes mrtvoly“, ale při dodržování zákona a „etických zvyklostí“</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oblém: co je „etická zvyklost“ (rozpor liberální ekonomové vs zastánci CSR (corporate social responsibility)</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Říká, že se společenské odpovědnosti nesmí dosahovat způsobem, kdy jsou upřena práva jiných byť s ušlechtilým cíl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Jakékoliv porušování morálních pravidel narušuje prostředí nezbytné pro podnikání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ávo nevysvětluje každou problémovou situaci a podnik se tak může  rozhodnout v souladu s etikou</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ysoká konkurence na straně nabídky =</a:t>
            </a:r>
            <a:r>
              <a:rPr b="0" lang="en-GB" sz="2800" spc="-1" strike="noStrike">
                <a:solidFill>
                  <a:srgbClr val="ffffff"/>
                </a:solidFill>
                <a:latin typeface="Tahoma"/>
              </a:rPr>
              <a:t>&gt; </a:t>
            </a:r>
            <a:r>
              <a:rPr b="0" lang="cs-CZ" sz="2800" spc="-1" strike="noStrike">
                <a:solidFill>
                  <a:srgbClr val="ffffff"/>
                </a:solidFill>
                <a:latin typeface="Tahoma"/>
              </a:rPr>
              <a:t>spotřebitel si může vybírat. Odpovědný přístup k okolí se stává důležitou součástí hodnoty výrobku nebo služby</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Čestné jednání považují podnikatelé za jeden z nejdůležitějších faktorů pro úspěšné podnikání.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podniku k okolí (nebo jak je vnímán, že se chová) může mít velký vliv na jeho tržní postavení a finanční výsledky</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ravnost je obecným zájmem celé společnosti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ždý ekonomický subjekt očekává etické chování ostatních účastníků ekonomických aktivi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je považováno za amorální jednostranně odstoupit od vzájemných dohod a přitom očekávat, že ostatní je budou dodržova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 společensky mravně neúnosné proklamativně se přihlásit k dodržování etických pravidel a pak je skrytě porušov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Je nástrojem institucionalizace etik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Zdá se, že bývá vytvořen po neetickém chování firm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Kritiky etického kodexu:</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mrhání časem i energií. Průmyslová výroba je regulována zákonem=</a:t>
            </a:r>
            <a:r>
              <a:rPr b="0" lang="cs-CZ" sz="2000" spc="-1" strike="noStrike">
                <a:solidFill>
                  <a:srgbClr val="ffffff"/>
                </a:solidFill>
                <a:latin typeface="Tahoma"/>
              </a:rPr>
              <a:t>postačující rámec pro každé podnikání</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 cvičení v PR, mají malý vliv na chování podniků</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Chování jednotlivců, ať ve vedení nebo na nejnižší úrovni, je určováno hodnotami osvojovanými si od dětství a ne nějakými psanými kodex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má zajišťovat, aby každodenní aktivity podniku odpovídaly stanoveným zásadám.</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soubor konkrétních pravidel stanovené na základě hodnot a principů organizac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tanovení EK slouží k prosazování etického chování a rozhodování a pomáhají tak zlepšovat:</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středí v rámci podniku a tím i</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lé podnikatelské prostředí.</a:t>
            </a:r>
            <a:endParaRPr b="0" lang="en-US" sz="24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nemá právní platnost, ale existují neprávní sank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6-12-04T17:25:38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