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5FD-F9B3-45BA-BD01-4D6E5BE6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8DD-E939-4384-B454-09943EBE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12E-AEC2-4F2A-A7CF-06FD9B36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7F1E-3972-4C3E-80D6-20E48802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3C88-6625-4F09-A1EA-8F555F74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62EF-3694-4215-9B4D-7006BEBF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EB40-A4AB-44D3-8321-5FB5C67F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2253-EFD7-42DE-A5FF-155B39A1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137C-4E41-41EE-9106-EBE747D0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47F3-6F15-47D6-8802-E2DD7F23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385A-1D9B-4214-BBA1-7D696053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199-DF0A-47DF-A8F8-51DFD7DF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DB7B-342E-4A96-8FA4-87ECDB9D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1DDC-EAC9-4CBA-9867-F57F2F91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370D-551C-409C-99D0-09B50253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5ACA-4711-43B6-8DA0-E70C101D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9579-E1BF-4BCC-AD8A-8416BE08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147-089A-4E25-938A-02F9CD01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1C9-4E5D-4B1A-B71C-8AACC838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A4A-3F82-43F4-ABF6-31D7A065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5A6-5DD6-4DEB-8ED2-3E704499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577-953C-4CE6-B865-3885F805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236-5FE8-4031-9D14-2180B448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E1A-6FA0-41EA-81CF-2AB6FC11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ED43-E013-441C-87B8-DD76E15B94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5174-6D08-400E-8E30-DF1C47300D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takeholder a identifikácia stakeholder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racovali:  Marie Kutíl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ka Kotoul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onóra Bacul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átum prezentácie: 7.11.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Čakajúci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 dvoma atribút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42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03800" y="2859120"/>
              <a:ext cx="134820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inant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ímny nárok s mocou presadiť h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žiadna dôležit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ávisl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ý, legitímny nárok bez moci presadiť 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závislý od ostatných (dominantných) stakeholderov alebo priazni manažér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bezpeč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ý, nelegitímny nárok s možnosťou násilného presad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Definitívni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o všetkými troma atribút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58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03800" y="2859120"/>
              <a:ext cx="134820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legitímny nárok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možnosť presaden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dôležitosť požiadavk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vyžaduje okamžitú reakciu manažment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Typológ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148428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323532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87480" y="323532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6360" y="14842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kľud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56610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ľubovoľ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6360" y="566100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požadujú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0920" y="328464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nebezpečn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8160" y="3284640"/>
            <a:ext cx="10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dominantn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40000" y="551664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závisl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2560" y="429264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Arial"/>
              </a:rPr>
              <a:t>definitív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2000" y="1773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38606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8880" y="38606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44120" y="2060640"/>
            <a:ext cx="38905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investori (prevzat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masmédi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prepustený zamestnanec (amo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3800" y="4437000"/>
            <a:ext cx="2572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jeden nespokojn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mestnan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10320" y="4292640"/>
            <a:ext cx="2477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org. pre ochran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v. prostr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univerz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obyvate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66240" y="3284640"/>
            <a:ext cx="16714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terorizm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štraj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sabotáž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44200" y="3357720"/>
            <a:ext cx="1775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zamestnan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dodávate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vlastní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22760" y="3573360"/>
            <a:ext cx="1474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-nesp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ojn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lastní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78760" y="4630680"/>
            <a:ext cx="18802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-nespokojn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zákazní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Použitá literetú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nič, A.: Štvrtý rozmer podnikania – etika, Bratislava: SAP,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II (Průvodce studiem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F MU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tchell, R.K., Agle, B.R., Wood, D.J.: Toward a theory of stakeholder identification and salience: Defining the principle of who and what really counts, Academy of 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Kto je stakeholder?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takeholderom je každá skupina alebo individum, ktoré môže ovplyvniť dosiahnutie podnikových cieľov alebo je ovplyvnený snahou podniku  o dosiahnutie týchto cieľov“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reeman, Strategický management, 1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dnotlivec alebo skupina s určitou „stávkou“ v podn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nik je stretom záujmu rôznych subjektov, ktorých požiadavky a záujmy treba zohľadňova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chycuje podnik v celom jeho sociálno-ekonomickom kon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hápe podnik ako množinu vzťah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Stakeholderské pojati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Identifikác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i základné atribú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oc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ovplyvniť podni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vzťahu stakeholdera ku podnik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požiadavky na podni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M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chopnosť ovplyvniť podnik, a to nezávisle na vôli pod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ložená  na troch zdroj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átlaková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utilitárska (prospechársk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ormatív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edpoklad, že chovanie stakeholde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je sociálne akceptovateľn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sa zhoduje so sociálnymi hodnotami a norma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 sociálne žiadanou vlastnosť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tupeň naliehavosti, s akou si požiadavky stakeholderov vyžadujú okamžitú pozor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ávisí 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časovej citliv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kritickosti (teda aká je kritická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Typológ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4360" y="1484280"/>
            <a:ext cx="7378200" cy="4681440"/>
            <a:chOff x="684360" y="1484280"/>
            <a:chExt cx="7378200" cy="4681440"/>
          </a:xfrm>
        </p:grpSpPr>
        <p:sp>
          <p:nvSpPr>
            <p:cNvPr id="111" name=""/>
            <p:cNvSpPr/>
            <p:nvPr/>
          </p:nvSpPr>
          <p:spPr>
            <a:xfrm>
              <a:off x="2843280" y="148428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08360" y="323532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87480" y="323532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25800" y="234936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66160" y="4508640"/>
              <a:ext cx="168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0360" y="443700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8160" y="3357720"/>
              <a:ext cx="148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4000" y="335772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69440" y="47242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80720" y="393372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0000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12000" y="177336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360" y="3860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78880" y="386064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25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04160" y="2859120"/>
              <a:ext cx="13647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8840" y="299520"/>
            <a:ext cx="7956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Latentní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 jedným atribút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koj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oc a schopnosť presadiť sa sú k dispozíci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imita a dôležitosť chýbaj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ľubovoľ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ajú legitímny ná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hýba im moc a dôležitosť požiadavi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žadujú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á, ale nelegitímna požiadavka, vyžadujú pozorn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žiadna moc presadiť s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4:15:00Z</dcterms:created>
  <dc:creator> Nonuly</dc:creator>
  <dc:description/>
  <dc:language>en-US</dc:language>
  <cp:lastModifiedBy> Nonuly</cp:lastModifiedBy>
  <dcterms:modified xsi:type="dcterms:W3CDTF">2006-11-06T07:58:10Z</dcterms:modified>
  <cp:revision>16</cp:revision>
  <dc:subject/>
  <dc:title>Snímek 1</dc:title>
</cp:coreProperties>
</file>