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44A-C13E-4DD3-B372-A634E9CD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3F4-CA3A-4EF6-BDAB-4071A6F6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E3F-8DB5-4292-B6DC-4730C3ED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84D-1058-4392-BE8B-AE500823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857-4872-4792-A5B0-E52CEBBF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D03C-E0F1-441F-AC7A-E5B9A74D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485-0171-492D-8BD5-931BADFB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153D-08E3-490E-BF2A-20F27D41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DAF-5417-4860-BFAC-42E758E0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EDD-C7A3-4CC4-8B4B-4F5525AA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196E-3E96-4B4E-9D8D-008FEF45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E70-8C02-456A-99A0-CE85A5CD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A6DD-BEAC-4115-A2AE-65324F6D0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lobal.kyocera.com/index.html" TargetMode="External"/><Relationship Id="rId2" Type="http://schemas.openxmlformats.org/officeDocument/2006/relationships/hyperlink" Target="http://www.kyocera.cz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endy ve struktuře organizací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MÉB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8320" y="54864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c. Pavla Slezá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c. Petr Goliá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YOCERA Corp.: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 stěžejní obla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ústře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OZO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real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ÉBA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údr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 KONTROLNÍCH  MECHANIZ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US spol. s r.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vozce a distributor produktů KYOCERA Co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lozofie manage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 se zákazní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ivot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žadavky na zaměstnance odpovídají kritériím mateřské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LÝ, M., 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NA, J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í architektura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ah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Victoria Publishing, 1996. ISBN 80-7187-064-1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EK, M. a kol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odniková ekonomika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ha: C. H. Beck, 2002. ISBN 80-7179-736-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YOCERA GLOBAL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lobal.kyocera.com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NUS spol. s r.o. – webové str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yocera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ÉBA – odvození názv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méba (~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ň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ka) pat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í do skupiny jednobu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č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které se pohybují prost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dnictvím neustál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varu“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; obdobný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rincipe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jímá potrav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íve byla nazývána „Prote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imalcule“ podl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ké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ha, který dokázal 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vou podobu. Jméno amé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lo u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o poprvé B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. Vincentem, který je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dvodil z 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kého výrazu „amoibe“ = z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Amoeba proteus"/>
          <p:cNvPicPr/>
          <p:nvPr/>
        </p:nvPicPr>
        <p:blipFill>
          <a:blip r:embed="rId1"/>
          <a:stretch/>
        </p:blipFill>
        <p:spPr>
          <a:xfrm>
            <a:off x="4648320" y="2286000"/>
            <a:ext cx="40384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ční struktura AMÉBA - zařaz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BA         PODNIKATELSKÉ SÍŤOVÉ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VOJOVÉ TRENDY VE STRUKTU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tém améba je zal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ý na autonomii jednotlivých vnitropodnikových bu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 – améb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teré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e v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jí dv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 ty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 produkce – produkcí 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ho jiného 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ama seb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ýrobky, slu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produkcí sebe sa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generací výrobního procesu, dovedností a znalost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2578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62120" y="2438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6212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ně vázaná organizační struktura - AMÉ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362320"/>
            <a:ext cx="2895480" cy="2361960"/>
          </a:xfrm>
          <a:prstGeom prst="ellipse">
            <a:avLst/>
          </a:prstGeom>
          <a:solidFill>
            <a:srgbClr val="e81a04"/>
          </a:solidFill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3124080"/>
            <a:ext cx="83808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20040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339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648320"/>
            <a:ext cx="1218960" cy="380880"/>
          </a:xfrm>
          <a:prstGeom prst="line">
            <a:avLst/>
          </a:prstGeom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63080" y="39258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st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63800" y="47642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1a04"/>
                </a:solidFill>
                <a:latin typeface="Arial"/>
              </a:rPr>
              <a:t>top-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4190760"/>
            <a:ext cx="762120" cy="685800"/>
          </a:xfrm>
          <a:prstGeom prst="line">
            <a:avLst/>
          </a:prstGeom>
          <a:ln w="38160">
            <a:solidFill>
              <a:srgbClr val="e81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800600"/>
            <a:ext cx="838440" cy="76212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5333760"/>
            <a:ext cx="304920" cy="22860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666520" y="5409720"/>
            <a:ext cx="228600" cy="22860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5486400"/>
            <a:ext cx="609840" cy="45720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5486400"/>
            <a:ext cx="609480" cy="45720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5791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5715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5486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971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867280" y="2819520"/>
            <a:ext cx="609840" cy="30456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952880" y="2057400"/>
            <a:ext cx="228600" cy="38088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2743200" y="2666520"/>
            <a:ext cx="533520" cy="30492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752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1600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1752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1447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1447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666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590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867280"/>
            <a:ext cx="15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ýrob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35160" y="58672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ýrob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3809880"/>
            <a:ext cx="14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g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stup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3640" y="5486400"/>
            <a:ext cx="47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robní jedno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. 120 zaměstnanců (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. 50 zaměstnanců (Japon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KYOCERA Corpo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pektovat Boha a milovat lidi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276720" y="3429000"/>
          <a:ext cx="255276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429000"/>
                    <a:ext cx="255276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894760" y="251460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 korpor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YOCERA Corporation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základní údaj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491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zev: KYOCERA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ložil: Kauzuo Inamori v roce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ezident korporace: Makoto Kawam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62520" y="4572000"/>
            <a:ext cx="1066680" cy="1390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 rot="10800000">
            <a:off x="4572000" y="1530360"/>
            <a:ext cx="763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1073160" cy="1287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kladní údaje - produk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200" y="1563840"/>
          <a:ext cx="5031000" cy="50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1563840"/>
                    <a:ext cx="503100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435640" y="1557360"/>
            <a:ext cx="332748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ál společnosti: 115,703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rat: 1,181,489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sk: 69,696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čet zaměstnanců: 51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bchodní značka KYOCERA Cor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chodní značka se skládá ze symbolu a loga korpo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mbol zobrazuje písmeno „K“ (jako „Kyocera“), které lemuje písmeno „C“ (jako „keramika“ = „ceramics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představena v roce 1982, kdy bylo jméno korporace změněno z „Kyoto Ceramic“ na „Kyocer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497400" cy="804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jetí znač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362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ektování univerzálních princi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ustálá snaha o dokona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nové hodn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tálým usilováním o dokonalost, v souladu s univerzálními principy, vytváří Kyocera novou hodnotu pro společnost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jedině v přední linii lze uskutečňovat heslo „vytváření nové hodnoty“ formou nových technologií a nových produktů na nových trzích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08:45:46Z</dcterms:created>
  <dc:creator>CIKT</dc:creator>
  <dc:description/>
  <dc:language>en-US</dc:language>
  <cp:lastModifiedBy>OEM</cp:lastModifiedBy>
  <dcterms:modified xsi:type="dcterms:W3CDTF">2006-11-05T18:14:07Z</dcterms:modified>
  <cp:revision>11</cp:revision>
  <dc:subject/>
  <dc:title>Snímek 1</dc:title>
</cp:coreProperties>
</file>