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761-6E73-4233-B08E-D6439E92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BA1-3285-4666-9954-B2FC26FC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151-3463-454A-9807-29A18364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7D6-CB05-4C46-886D-74BDEC1C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31B3-E459-4645-9C83-D47325B3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C915-30C3-46A6-94B6-1E5FFD32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5642-8C8A-465D-9D61-12B38EF4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1148-A9B6-4906-AC7B-DCF7B53C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3F47-AB45-4379-893E-BC22BAC6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F2DA-FA3D-436F-A407-C7DFEAEE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3173-4E6E-4E4D-AF27-85309288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1B0-CBF8-45BF-B81F-3153A9F2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B8E7-93EC-4531-9B31-FE3E04A6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E317-F643-4A71-985F-EC950EA1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5083-3E98-436D-A736-30451325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B2B7-CEC7-4918-B583-3FA76B4C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5201-74D1-41CE-BDC3-D75DB19F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C32-E434-4FBA-94A0-C61DA460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675-521A-472B-9450-3164004C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8D8-76B7-4E74-BDB3-556837FC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F6C-2959-412B-8E1E-A245E1D3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76C-3A9B-4C5C-9FBB-D2E24F8B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A7F-E143-4E6A-A094-62A3F2E0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1B8-251F-486A-96BF-C1DF522B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EB65-EF21-49B3-9642-DD49EFA7E58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E4D0-FE05-4D83-83D9-63D7D694A9C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Vztah národní a organizační kultur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lan Sedláč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eněk Mandov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áš Schö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kupina č.3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tazník –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pecifikace české národní kultur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ons Trompenaars určil 7 aspektů, dle kterých se dají národní kultury systematizov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ní zde správná či špatná odpověď – záleží pouze na Vašem názo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sledky budou zveřejněny na konci prezent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Kolektivis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 vyznačující se velkou mírou kooper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Individualism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árodní kultura zdůrazňující schopnosti jedi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universál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cky a rozumově vedená společnost uznávající existenci universálně platných pravi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partikulár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která je založena na lidských vztazích a pružných pravidle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Emoční národní k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ysoká míra emociona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eutrální národní k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ízká míra emocion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4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konkrét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iktně oddělen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ztahy civilní a pracov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s nejasnými vzta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ztahy civilní a pracovní jsou provázané a vzájemně se prolínaj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5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Dosahující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která status přiděluje na základě předvedeného výkonu a úspěch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Přisuzovaný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ve které se status přiděluje na základě stáří, pohlaví, at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6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Čas jako posloupnost děj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zumový, přímočarý přístup k otázkám - krok za kroke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Čas jako nástroj k synchroniza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Čas chápán jako kruhový s možností paralelních činnost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7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vnitřní orient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ázor, že jednotlivec by se měl snažit řídit lidské a přírodní prostřed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vnější orient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naha žít v souladu s přírod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ztah národní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konce 60. let panoval názor, že management je universálně funkční prvek bez ohledu na národní specif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ulturní konverg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ěhem 80. let se již plně rozšířilo přesvědčení o nutnosti rozdílného přístupu manage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ulturní diverg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ystematizace Geerta Hofste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dl aspekty „úniku před nejistotou“ (UN) a „mocenský odstup“ (MO), jejichž vzájemnou kombinací vytvořil čtyři kategorie fungování podnik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mocí této metody lze dokladovat vliv národní kultury na kulturu podnikov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vní studie o „měkkých faktorech“ úspěchu firmy ve 30. letech minulého stole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ěhem 80. let velký nárůst zájmu o tuto problemati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působeno úspěchem japonských podniků a zvyšující se úrovní konku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3716280"/>
            <a:ext cx="360360" cy="649440"/>
          </a:xfrm>
          <a:prstGeom prst="downArrow">
            <a:avLst>
              <a:gd name="adj1" fmla="val 50000"/>
              <a:gd name="adj2" fmla="val 4505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ystematizace Geerta Hofste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63640" y="2637000"/>
          <a:ext cx="6491520" cy="2808000"/>
        </p:xfrm>
        <a:graphic>
          <a:graphicData uri="http://schemas.openxmlformats.org/drawingml/2006/table">
            <a:tbl>
              <a:tblPr/>
              <a:tblGrid>
                <a:gridCol w="3246480"/>
                <a:gridCol w="3245040"/>
              </a:tblGrid>
              <a:tr h="14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zký UN, níz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ž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VB, Skandináv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 UN, níz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ov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Izrael, Německ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zký UN, vyso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ob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Hongkong, Ind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 UN, vyso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ná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Belgie, Fran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692360" y="1700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nik před nejisto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220500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ízký                                                                                 Vyso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539640" y="2491920"/>
            <a:ext cx="606960" cy="29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enský od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-27720" y="38476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ízký                         Vyso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580536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: Brooks (2003), podle Hofsteda (198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užitá liter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ADLER, N.: International Dimensions of Organizational Behavior. Boston : PWS-KENT Publishing Copany, 1991. ISBN 0-534-92274-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BROOKS, I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Firemní kultura – jedinci, skupiny, organizace a jejich ch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rno : Computer press, 2003. ISBN 80-7226-763-9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BROWN, A. D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sational Cultur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London : Pitman Publishing, 1995. ISBN 0-273-60454-6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HALL, W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Managing Cultures: Making Strategic Relationships Work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Chichester : John Wiley &amp; Sons, 1995. ISBN 0-471-95571-X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HOFSTEDE, G.,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Culture’s Consequences: International Differrences in Work-Related Values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everly Hilus : Sage Publications, 1984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KILLMANN, R., SAXTON, M.J., SERPA, R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Gaining Kontrol of the Corporate Cultur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San Francisco, London : Jossey-Bass Publisher, 1985. ISBN 0-87589-666-9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LUKÁŠOVÁ, R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rno : Vutium, 2002. ISBN 80-214-2141-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LUKÁŠOVÁ, R., NOVÝ, I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Praha : Grada, 2004. ISBN 80-247-0648-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NOVÝ, I., SCHROLL-MACHL, S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Interkulturni komunikace v řízení a podnik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Praha : Management Press, 1999. ISBN 80-7261-009-0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 - defin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gramovaný způsob vnímání, odvozený z názorů a hodnot“ (Hall, 1995, s.1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zorec názorů, hodnot a naučených způsobů zvládání situací, založený na zkušenostech, které vznikly během historie organizací a které jsou manifestovány v jejich materiálních aspektech a v chování členů“ (Brown, 1995, s.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dílené filozofie, ideologie, hodnoty, předpoklady, názory, očekávání, postoje a normy, které odhalují implicitní či explicitní skupinový souhlas s tím, jak rozhodovat a řešit problémy: jako způsob, jak se věci u nás dělají“ (Kilmann, Saxton a Serpa, 1985, s.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 - defin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ční kulturu lze chápat jako soubor základních předpokladů, hodnot, postojů a norem chování, které jsou sdíleny v rámci organizace a které se projevují v myšlení, cítění a chování členů organizace a v artefaktech (výtvorech) materiální a nemateriální povahy. (Lukášová, 2004, s.22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ákladní předpoklad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nezpochybnitelné přesvědčení jednotlivce o realitě kolem ně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dno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považována za měřítko toho, co je špatné a co je dobr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stoj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ázor na danou vě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y chován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ymbolizují množinu nepsaných pravidel, kterými se zaměstnanec říd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tefak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materiální povahy jsou budovy, výrobky, vybavení firmy, propagační materiály, at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emateriálními jsou potom podnikové historky, mýty, rituály či podnikový jazy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nímání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Interpretativní přístup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se na tento aspekt dívá jako na „něco, čím organizace je“. Odklání se tedy od myšlenky analogie podniku a stroje či podniku a organismu a nabízí teorii, že podnik je vlastně jedna velká sdílená kultur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63" name=""/>
          <p:cNvSpPr/>
          <p:nvPr/>
        </p:nvSpPr>
        <p:spPr>
          <a:xfrm>
            <a:off x="5508720" y="2276640"/>
            <a:ext cx="2158920" cy="21589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4581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Po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2349360"/>
            <a:ext cx="2016360" cy="201636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nímání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0072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jektivistický přístu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re kulturu pouze jako složku celého podniku, která se stejně jako ostatní části určitým způsobem vyvíjí a ovlivňuje tak fungování podnik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87280" y="2276640"/>
            <a:ext cx="2159280" cy="2158920"/>
            <a:chOff x="1187280" y="2276640"/>
            <a:chExt cx="2159280" cy="2158920"/>
          </a:xfrm>
        </p:grpSpPr>
        <p:sp>
          <p:nvSpPr>
            <p:cNvPr id="169" name=""/>
            <p:cNvSpPr/>
            <p:nvPr/>
          </p:nvSpPr>
          <p:spPr>
            <a:xfrm>
              <a:off x="1187280" y="2276640"/>
              <a:ext cx="2159280" cy="21589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32000" y="2779920"/>
              <a:ext cx="647640" cy="647640"/>
            </a:xfrm>
            <a:prstGeom prst="ellipse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6000" y="2853000"/>
              <a:ext cx="647640" cy="647640"/>
            </a:xfrm>
            <a:prstGeom prst="ellipse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9640" y="2421000"/>
              <a:ext cx="647640" cy="647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47640" y="3500640"/>
              <a:ext cx="648000" cy="64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68360" y="3500640"/>
              <a:ext cx="648000" cy="64764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95280" y="4581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Po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⊆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árod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atika významu slova „národ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dé stejné národnosti kdekoli na svět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dé žijící v jedné zemi, podléhající její legislativ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árod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blematika významu slova „kultura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působ života skupiny lidí, jako konfiguraci všech více či méně stereotypizovaných vzorců naučeného chování, které jsou přenášeny z generace na generaci prostřednictvím jazyka a napodobování“. (Barnouw, 1963 podle Adler, s.15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lektivní programování mysli, které odlišuje členy jedné lidské skupiny od druhé … kultura v tomto smyslu obsahuje systém hodnot“. (Hofstede, 1984, s.14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07:47:23Z</dcterms:created>
  <dc:creator>Milan</dc:creator>
  <dc:description/>
  <dc:language>en-US</dc:language>
  <cp:lastModifiedBy>Milan</cp:lastModifiedBy>
  <dcterms:modified xsi:type="dcterms:W3CDTF">2006-11-17T15:16:10Z</dcterms:modified>
  <cp:revision>23</cp:revision>
  <dc:subject/>
  <dc:title>Vztah národní a organizační kultury, česká specifika</dc:title>
</cp:coreProperties>
</file>