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290-6A37-437E-9C54-D1C5179B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B5E0-D775-4D33-9570-7F1BCCCA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A89-EC98-4B6B-AA34-793FE086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A895-A48D-4251-95A1-C278FD63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5585-AD8D-4FD2-B159-9FA23BA2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A1E2-34D8-4BF2-8F0C-2B5F5295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0280-D3F3-44D7-B5E5-1F8359A1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C938-ECEA-4366-835C-9AC124FC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E7DF-793F-402A-B206-B9F33517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29BD-99FC-4956-9E83-1317952C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0E95-BD62-434B-B0DE-534AD434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110-9DEE-4A1E-B268-4844F442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8E34-4171-4D49-8ECB-FEC55F7D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A6BD-6966-42A6-877A-3A31C6C3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CFE3-9A55-4642-A1C0-B1AC5FE8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EC0D-47BA-4697-B9EB-196348DA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B2C2-9104-41F4-92FE-8E954B5A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79EB-B92A-478D-8186-EB47392D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F568-4028-409F-82B9-AAB234B4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EEA-F0C1-4102-9BBD-5D4F3036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8F5B-5115-42E1-8A62-78BDABAC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0EA-238C-4E5F-A0D7-D873ACEC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4BA-F219-4029-91C5-ABB1CA45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157-E500-44E4-9EE2-AE59F996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95F5-19AF-4844-8D46-B50BEF2C32D0}" type="slidenum"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6767-4EF2-4F8F-A3FD-CB3946144601}" type="slidenum"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0200" y="380880"/>
            <a:ext cx="63993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5400" spc="-1" strike="noStrike">
                <a:solidFill>
                  <a:srgbClr val="996633"/>
                </a:solidFill>
                <a:latin typeface="Times New Roman"/>
              </a:rPr>
              <a:t>Podstata práva jako určitého řádu společnosti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438280" y="43434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eminární skupina č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iřina Cah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ominik Zbí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c. Jakub Fiš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C458-6F5B-42A7-BDA5-9E71DE838A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996633"/>
                </a:solidFill>
                <a:latin typeface="Times New Roman"/>
              </a:rPr>
              <a:t>Opakování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ayekova koncepce přirozeného a umělého řá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152280" y="4609800"/>
            <a:ext cx="3904560" cy="1080"/>
          </a:xfrm>
          <a:prstGeom prst="straightConnector1">
            <a:avLst/>
          </a:prstGeom>
          <a:ln w="507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1384200" y="396864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ílo přír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/>
          <p:nvPr/>
        </p:nvCxnSpPr>
        <p:spPr>
          <a:xfrm>
            <a:off x="4056120" y="4611240"/>
            <a:ext cx="1945440" cy="1080"/>
          </a:xfrm>
          <a:prstGeom prst="straightConnector1">
            <a:avLst/>
          </a:prstGeom>
          <a:ln w="5076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>
            <a:off x="6000840" y="4610160"/>
            <a:ext cx="2745360" cy="21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4056120" y="3844800"/>
            <a:ext cx="221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lejší důsled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dských činnost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75520" y="384480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evědomé lidské čin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/>
          <p:nvPr/>
        </p:nvCxnSpPr>
        <p:spPr>
          <a:xfrm>
            <a:off x="152280" y="5297040"/>
            <a:ext cx="584928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/>
          <p:nvPr/>
        </p:nvCxnSpPr>
        <p:spPr>
          <a:xfrm>
            <a:off x="6000840" y="5297040"/>
            <a:ext cx="274536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2576520" y="4930920"/>
            <a:ext cx="17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řirozený řá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96000" y="4930920"/>
            <a:ext cx="18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umělý řá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/>
          <p:nvPr/>
        </p:nvCxnSpPr>
        <p:spPr>
          <a:xfrm>
            <a:off x="4092120" y="6299280"/>
            <a:ext cx="3187080" cy="2160"/>
          </a:xfrm>
          <a:prstGeom prst="straightConnector1">
            <a:avLst/>
          </a:prstGeom>
          <a:ln w="507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4654440" y="5907240"/>
            <a:ext cx="27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800000"/>
                </a:solidFill>
                <a:latin typeface="Arial"/>
              </a:rPr>
              <a:t>společenské systé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/>
          <p:nvPr/>
        </p:nvCxnSpPr>
        <p:spPr>
          <a:xfrm>
            <a:off x="7278840" y="6299280"/>
            <a:ext cx="1504080" cy="2160"/>
          </a:xfrm>
          <a:prstGeom prst="straightConnector1">
            <a:avLst/>
          </a:prstGeom>
          <a:ln w="50760">
            <a:solidFill>
              <a:srgbClr val="cccc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7419960" y="5659560"/>
            <a:ext cx="13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ccccc"/>
                </a:solidFill>
                <a:latin typeface="Arial"/>
              </a:rPr>
              <a:t>technické systé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1286-01FA-4094-80E8-BBE5C49E9A6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Právo x zákonodárství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ávo není pouze produkt zákonodárství, je staré jako společnost s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konodárství je umělá tvorba zákonů lid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zitivistická koncepce práva jako psaných zákonů x Hayekova koncepce práva jako evolucí vytvořených pravi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chrana státem je poskytována pouze psanému práv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F321-C59D-44CF-AE90-1C04141758E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Vývoj práv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tlivci se naučili dodržovat pravidla chování dříve před formulací těchto pravidel lov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ato pravidla sloužila skupině jako celku ne jednotliv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lověk je veden nejen naučenými ale i vrozenými pravid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daleka ne všechna pravidla byla vyjádřena slovy, např. fair play, dobré mravy ap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48C-E850-45E3-9405-82546492219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Negativní důsledky spontánního řádu aneb význam zákonodárství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 spontánní řád může vést do slepé uličky popř. mít negativní důsledky pro lid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jistí-li se, že dosud užívaná pravidla jsou pro určitou skupinu nespravedlivá ať už v důsledku omylu či lobby urč. zájmové skup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286B-B9F1-4F63-B4FB-B1255C4B1D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Shrnutí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ávo je staré jako lidstvo s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edle práva existují i jiné normativní systémy např. morálka, která nemusí být vyjádřena slov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konodárství je nutné neboť spontánní řád může mít pro člověka i negativní důsled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021-4E7E-4D58-9E90-70ED4C861A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Literatur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24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ayek, F.A. Právo, zákonodárství a svoboda. Praha : Academia, 199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56F-D446-4D72-BA5F-1440EA8C8106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hovi</cp:lastModifiedBy>
  <dcterms:modified xsi:type="dcterms:W3CDTF">2006-10-02T16:19:29Z</dcterms:modified>
  <cp:revision>11</cp:revision>
  <dc:subject/>
  <dc:title>Prezentace aplikace PowerPoint</dc:title>
</cp:coreProperties>
</file>