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E5D0A-CA23-40E5-9457-DD0797916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E55BE-B2C8-4F37-9A5E-CEBD75014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E26C0-18A0-4064-B69E-42535969D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C62D2-6CF6-4895-97F2-CC9F6C15C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7F934-E5F5-4098-85C3-EA4C6BBF5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E4D54-CC8C-4BCD-9144-FDE6C3DE8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A7AA8-F07A-4B45-BC4E-DC3E9F408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1D840-11A9-49B0-86D4-9E1947344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78880-025C-4DAA-9ED3-F8C389C68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F989D-7B3D-41C3-821A-2E951B0C8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1D7B1-F8BE-43F1-92FF-027A78EA7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26282-7205-4BF8-914A-02AB32B2E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1FEF7-71FA-4C75-81EC-23A0E4BB4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4501A-2C8B-42F2-80D9-72093047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1D5CE-140A-407E-B1C7-79F93362C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B1FDF-77A5-48BF-8252-B19795034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E6071-EB5A-42BC-81A0-FF47FE893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8EE98-3739-4F90-B893-F3E0DA9CE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D7A77-7A1C-4933-8BC8-83B31DFD7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94689-2A41-4012-A3E2-5A002D0F2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B576A-D495-4836-A18A-705EDFCAB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0626D-2523-4D4B-93A9-0E25B4472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D8FED-988A-44BC-86E7-5A706EC2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10D0E-AB41-4F59-9DA7-1B184A8B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A5B68-203E-4144-9F23-006EB2E5E82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3644F-92BF-4BE0-9207-78AF6A85E19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9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Vývoj podniků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403280" y="3068280"/>
            <a:ext cx="64008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 u="sng">
                <a:solidFill>
                  <a:srgbClr val="ffffff"/>
                </a:solidFill>
                <a:uFillTx/>
                <a:latin typeface="Garamond"/>
              </a:rPr>
              <a:t>Tým č. 7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Martin Simerský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Petr Sucháne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Tomáš Vobecký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6.11.200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znik managementu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zptylování akciového kapitálu mezi velký počet drobných vlastníků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utnost oddělení vlastnictví a řízen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 řízení přechod od vlastníků k manažerů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nažerská revolu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oválečné období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ýznamný růst profesionálních řídících pracovník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vorba kartelů, monopolistických koncern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řesun moci z rukou vlastníků do rukou profesionálních řídících pracovník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ůst vlivu stát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entrálně řízené ekonomik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76720" y="1844280"/>
            <a:ext cx="4967280" cy="41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minantní působení státu na hospodářství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elké státní podnik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Řídící pracovníc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214632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Konec samorostlých „kapitánů průmyslu“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989000"/>
            <a:ext cx="598644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nažer profesioná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užné výrobní systém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ozvoj malých fir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lobaliza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6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Závěrečné dekády 20. století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bří nadnárodní společnost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/4 světové produk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/3 světového obchodu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eneral Motors, Microsoft, 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732720" y="112536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Výhody nadnárodních společností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onkurenční výhod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ertikální integra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orizontální integra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ístní podmínk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Kvalifikace pracovní síl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áklady na suroviny, materiál, …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Úroveň infrastruktur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íra zdanění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"/>
          <p:cNvSpPr/>
          <p:nvPr/>
        </p:nvSpPr>
        <p:spPr>
          <a:xfrm>
            <a:off x="4376880" y="3139920"/>
            <a:ext cx="392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ěkujeme za pozornos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Literatura: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2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Garamond"/>
              </a:rPr>
              <a:t>Cameron, R.: </a:t>
            </a:r>
            <a:r>
              <a:rPr b="0" i="1" lang="cs-CZ" sz="1800" spc="-1" strike="noStrike">
                <a:solidFill>
                  <a:srgbClr val="ffffff"/>
                </a:solidFill>
                <a:latin typeface="Garamond"/>
              </a:rPr>
              <a:t>Stručné ekonomické dějiny světa. </a:t>
            </a:r>
            <a:r>
              <a:rPr b="0" lang="cs-CZ" sz="1800" spc="-1" strike="noStrike">
                <a:solidFill>
                  <a:srgbClr val="ffffff"/>
                </a:solidFill>
                <a:latin typeface="Garamond"/>
              </a:rPr>
              <a:t>Praha: Victoria Publishing, 1996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Garamond"/>
              </a:rPr>
              <a:t>Lipovetsky, G.: </a:t>
            </a:r>
            <a:r>
              <a:rPr b="0" i="1" lang="cs-CZ" sz="1800" spc="-1" strike="noStrike">
                <a:solidFill>
                  <a:srgbClr val="ffffff"/>
                </a:solidFill>
                <a:latin typeface="Garamond"/>
              </a:rPr>
              <a:t>Soumrak povinnosti. </a:t>
            </a:r>
            <a:r>
              <a:rPr b="0" lang="cs-CZ" sz="1800" spc="-1" strike="noStrike">
                <a:solidFill>
                  <a:srgbClr val="ffffff"/>
                </a:solidFill>
                <a:latin typeface="Garamond"/>
              </a:rPr>
              <a:t>Praha: Prostor, 1995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Garamond"/>
              </a:rPr>
              <a:t>Reich, R. B.: </a:t>
            </a:r>
            <a:r>
              <a:rPr b="0" i="1" lang="cs-CZ" sz="1800" spc="-1" strike="noStrike">
                <a:solidFill>
                  <a:srgbClr val="ffffff"/>
                </a:solidFill>
                <a:latin typeface="Garamond"/>
              </a:rPr>
              <a:t>Dílo národů.</a:t>
            </a:r>
            <a:r>
              <a:rPr b="0" lang="cs-CZ" sz="1800" spc="-1" strike="noStrike">
                <a:solidFill>
                  <a:srgbClr val="ffffff"/>
                </a:solidFill>
                <a:latin typeface="Garamond"/>
              </a:rPr>
              <a:t> Praha: Prostor, 1995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Garamond"/>
              </a:rPr>
              <a:t>Reich, R. B.: </a:t>
            </a:r>
            <a:r>
              <a:rPr b="0" i="1" lang="cs-CZ" sz="1800" spc="-1" strike="noStrike">
                <a:solidFill>
                  <a:srgbClr val="ffffff"/>
                </a:solidFill>
                <a:latin typeface="Garamond"/>
              </a:rPr>
              <a:t>Slušná společnost.</a:t>
            </a:r>
            <a:r>
              <a:rPr b="0" lang="cs-CZ" sz="1800" spc="-1" strike="noStrike">
                <a:solidFill>
                  <a:srgbClr val="ffffff"/>
                </a:solidFill>
                <a:latin typeface="Garamond"/>
              </a:rPr>
              <a:t> Praha: Vize 97, 200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očátky hospodářství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industriální společno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tegrace výroby a spotřeb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éměř žádná změn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vní kroky kupředu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Začátek industriální společnost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h začíná dominov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ousta firem s nepatrným podíl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žní cena byla objektivní veličino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osilování pozic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oncentrace kapitál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ubstituce práce kapitál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ůst silných – zánik neúspěšný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ůmyslová revolu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620244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odstatné zvyšování efektivnost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rní stroj a elektřin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ozvoj dopravy – železni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ozvoj komunikace - telegraf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292720" y="378936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trukturální změn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vestiční nároky nad možnosti individuálních podnikatelů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alší koncentrace kapitálu – více vlastníků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ligopolní struktura trh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Zpochybnění celkové konkur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ůsledek koncentrace podniků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naha vlád o omezování moci společnost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15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řijetí Shermanova protitrustového zákona – zákaz dohod o cenách a rozdělení trh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15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Kontraproduktivní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15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znik obrovských korporací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15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osílení oligopol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odoba trhu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Každé odvětví 2-3 gigantické korpora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rčují mzdy a cen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a druhé straně stály statisíce malých podniků, které vyplňovaly mezeru na trhu se zbožím, které se nevyplácelo produkovat ve velkém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Růst obliby akciových společností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3716280"/>
            <a:ext cx="7859880" cy="24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kcie – velmi likvidní a výnosná forma jmění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ůst drobných akcionářů – vznik „kvaziveřejných“ společností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779640" y="2204640"/>
            <a:ext cx="482436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ozvoj akciového trhu a burzy cenných papír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3097440" cy="19810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39640" y="407664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4T09:07:50Z</dcterms:created>
  <dc:creator>Eva</dc:creator>
  <dc:description/>
  <dc:language>en-US</dc:language>
  <cp:lastModifiedBy>Eva</cp:lastModifiedBy>
  <dcterms:modified xsi:type="dcterms:W3CDTF">2006-11-05T18:10:51Z</dcterms:modified>
  <cp:revision>24</cp:revision>
  <dc:subject/>
  <dc:title>Vývoj podniků</dc:title>
</cp:coreProperties>
</file>