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6DFD-5813-4B51-86C2-B758C9BB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79F-4279-4BB5-864B-B590B1B9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2A9B-9D85-4FEC-B187-100160B3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4C7-A6D0-4D37-9633-D174DD7A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D425-0A6F-4FE7-AEF6-E0D5DCD5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44CC-793B-4A09-A35E-A02E1116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E2A3-3D85-4140-BBFF-1AF91AD1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9821-1382-4AB3-B533-FA5919EF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7075-5007-4DB7-9A4B-A9BBD276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D0DD-C15A-471A-BD6A-2C2A010F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3163-43E9-4E0D-90F3-6104833A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2A0-92D8-4853-B817-775A622D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1908-C224-4227-8AE4-F2E80FB5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2BB9-0AC4-4385-9151-B965343C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595E-115A-48DA-A6E1-0ECC9234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D67D-8D61-445A-92A9-C27546C1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655C-ACFE-4459-815B-50984D12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EF2-CDB6-4ADA-B08A-B88D63BB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0BC-8F31-417D-8E8F-382D880E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841-8187-40CD-AC19-31996D28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2F6-5B01-4B01-AF1F-C736DA95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C06-5636-46B9-BB6C-1CF31FA3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BF0-18E9-476A-9738-9FD064A5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33D-306D-402F-9711-88A64DE1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7293-8531-4687-8FFD-30DEACCB2F5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93B3-F2BF-47E2-B53C-58FA6D592D4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c66"/>
                </a:solidFill>
                <a:latin typeface="Arial"/>
              </a:rPr>
              <a:t>Současné a budoucí tendence společnosti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723888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pracoval: Jan Fronček, David Malík, Nikola Zacha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Gary Hamel – globální konkurence 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urence není naším nepříte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tváření budoucnosti bez použití starých strategických nástro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ě špatné chápání globální konkurence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onkurenci nelze chápat jako souboj mezi stá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16560" y="1981080"/>
            <a:ext cx="22716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Gary Hamel – globální konkurence I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jem kontinentální krátkozrak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nagement a budoucnost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ávod může vyhrát jen ten, kdo chce dát dohromady účelnou strateg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ořit v podniku hierarchii představiv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át větší slovo lidem, kteří byli doposud z procesu tvorby strategie vyloučeni </a:t>
            </a:r>
            <a:r>
              <a:rPr b="0" lang="cs-CZ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mladí lid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Michael Hammer – koncepce týmu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nagement utvořený podle předrevolučního 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říve pojem nemyslícího dělníka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nes není potře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třeba výkonných procesů, které vedou k výsledku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oncepce tý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29280" y="1981080"/>
            <a:ext cx="28479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Společná myšlenka autorů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Orientace na asijský trh, dotváření fungujícího kapitalismu a spolupráce na všech podnikových úrovní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Zdroj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ibson, R.: Nový obraz budoucnosti. Management Press, Praha, 2002, 2. vyd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kripta Management II, Brno, 2006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ttp://en.wikipedia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společnost - histor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dobí druhé poloviny sedmnáctého a první poloviny osmnáctého století můžeme datovat jako nástup Druhé vlny - počátek industriální společnosti v nejvyspělejších zemích světa daného obdob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íčiny vzniku druhé vl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jev Nového světa, růst počtu obyvatelstva, který povzbuzoval přesuny do měs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čerpání lesů, vedoucí k využívání uhlí → parní stroj → nebývalé možnosti rozšíření výrob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šiřování vědeckých poznatků využitelných v technické praxi, rozvoj "industriálního" myšlen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nalezení knihtisku, růst gramotnos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společnost - charakteristik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incipy industriální společnosti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dominantní princip industriální společnosti lze považovat princip oddělení výroby a spotřeby. Na tento princip pak navazují další principy, a to princi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ělby práce na základě speci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ynchron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andardizac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centr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im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entr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Postindustriální společnost - histor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60. léta 20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agonista myšlenky postindustriální společnosti - Daniel B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olečnost informační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polečnost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dividualizace, universalismus, decentralizace, územním rozptýlení a rozvolnění časových strukt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Postindustriální spol. - charakteristik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ustá komunikační sítˇ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á ekon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ační technologie (intern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lobaliz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lečnost konzumní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sychická stránka a prožívá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kolog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x Postindustriální společno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voj  výroby x Rozvoj služeb a informační techni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tšinoví reprezentanti: Dělníci x Bílé límeč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života: Hrubý domácí produkt x Míra kultivace a uplatnění jejího lidského potenciá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iority: materiální x postmateri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konomie hlavního proudu x Nová ekon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Obraz budoucnost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ec postindustriální éry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í informační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růst informací a informačních systém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hmotnění informací, ochota za ně zaplat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udoucí vývoj společnost z pohledu tří významných světových autorů, viz. dá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Charles Handy - budoucno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udoucnost není pokračováním minu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nezbytné mít náskok před problémy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elze je pak vyřešit bez ztrá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třeba podílet se na utváření budouc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lečnost začíná být nezvladatelná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á již vlastní rozu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75280" y="1981080"/>
            <a:ext cx="29559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Charles Handy – hospodářský pokrok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spodářský pokrok = planý přís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yšující se sociální rozdí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nba za hospodářským růstem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še na úkor životního prostředí a pracujících li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pitalismus jako systém závislý na lidech a jako mechanismus, který nemá cíle a představuje sociální b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06-10-16T19:31:09Z</dcterms:modified>
  <cp:revision>24</cp:revision>
  <dc:subject/>
  <dc:title>PowerPoint Presentation</dc:title>
</cp:coreProperties>
</file>