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C8D-8543-434C-8979-B5676BCF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872-EE0F-485B-BDFA-96A63AF9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9AA-741C-482A-B366-736C6D5F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2E1-39E3-4FBB-B4E8-3A09AF83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2E6B-F5CD-40F6-9787-AF52884A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FA99-096C-47C7-A7FF-99054981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8671-E6F9-45F7-857C-FF21DC4C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88F2-BE7D-4114-A98F-5735F896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0B25-AD46-47CD-A5B3-38E9ED55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2CFD-E866-44D4-AA73-1E11A902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2F4D-B385-4989-B586-CBA9BCAC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AD9-978B-4E93-835E-DF5A4267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8D66-1342-47AD-BB39-2250D2AD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CFB7-9E90-4546-9F1A-1776D800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8A20-5D33-4D0D-84F5-D2156E89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2D48-F806-4A8B-AF9E-113E0191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C9AF-A85C-48A2-890F-7A2A9B9A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9C8-74A8-44B0-8B16-AD4E4D3C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FB9-ACC6-40EB-B01C-25F33B27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FB8-74A2-42CC-882B-913541DC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A90-4D32-4472-A17A-6B104DFB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B40-67D2-47CB-9C2B-89DE0AE2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979-9A5E-459E-9769-4A48910D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309-1591-4AA6-8B58-F88DBC0F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8554-85A3-4696-999B-A2A284D12A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17CE-7546-4387-9701-7BAC4B4952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nažerská kuchař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pt na vysoce zhodnoc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200" y="3429000"/>
            <a:ext cx="4114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racov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55520" y="3198960"/>
            <a:ext cx="37324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koh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ůležité, ale zaměřme se na „jak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47512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s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pitál, ale ne mno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hadem 3 os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k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řeš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cký zprostředkova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84720" y="3232080"/>
            <a:ext cx="43909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ak to namíchat? Aneb podniková kul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řizpůsobovat lidi úkolům, ale úkoly lid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ré vztah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íl na riziku i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tředí pro dozrání „nápadů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59640" y="3500280"/>
            <a:ext cx="14288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čení aneb ekonomická stránka vě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2550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ecifické produkty spojené se služb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ávat „řešení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jít „nicku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 najímat 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ízká míra fixní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360" y="4487760"/>
            <a:ext cx="36385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ůžeme servírovat aneb jak by to mělo dopadnou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tšinu zisku berou 3 klíčové po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ej podniku větš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na „tradiční“ podni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62400" y="1905120"/>
            <a:ext cx="3436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2630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ungující podnik – Y soft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chno prodat – </a:t>
            </a:r>
            <a:r>
              <a:rPr b="0" lang="cs-CZ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youtub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– www.googl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4508640"/>
            <a:ext cx="2376360" cy="88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5373720"/>
            <a:ext cx="35290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9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ěkujeme za pozornost…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… a těšíme se na příště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ICH, R. B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ílo národů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ha: Prostor, 1995. ISBN 80-85190-34-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ŽEK, L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AGEMENT 2 – průvodce studiem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no: ESF, 200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00:55Z</dcterms:created>
  <dc:creator>Loser</dc:creator>
  <dc:description/>
  <dc:language>en-US</dc:language>
  <cp:lastModifiedBy>Loser</cp:lastModifiedBy>
  <dcterms:modified xsi:type="dcterms:W3CDTF">2006-11-06T20:54:25Z</dcterms:modified>
  <cp:revision>2</cp:revision>
  <dc:subject/>
  <dc:title>Manažerská kuchařka</dc:title>
</cp:coreProperties>
</file>