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D612-5F59-4662-B2F3-F7F0EAE62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6BD1-F896-4C4E-A969-8B732E568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AA1A-7667-40BB-BFA5-F441CFE0A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2628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9060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36232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52628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9060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7362-7FF3-496A-AE38-4DA788D1B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89BED-ED5D-4DB4-9736-06F96C6ED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D9F76-1493-40D3-B555-7BA3E7ABD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4861B-87B1-4E6B-A66E-028AFE18B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4DA3A-3073-4C27-A145-133A91D11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A3C66-FCAA-4482-BC03-68A98AB65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7620120" cy="95382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35472-7156-4C3F-A8A6-C88466C52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EA1D5-15F3-42C2-94D2-A52269876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46C5-2914-472F-84E6-3BD9C2DCC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88280-ED53-4F49-930B-6A959787E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52945-F519-47D7-961A-0F88E8D6A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2B496-834C-47E4-BE5B-62C95DE52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F3279-6212-43F5-9276-2ADD22EA5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2628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9060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36232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52628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9060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2199B-B614-4208-BDC9-5ACDCC703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9673-FCCC-4304-B580-AD4C58C56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B6DC-9147-4438-9523-6BEA37C65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EDF6-26F3-4163-8EEB-29CD5693A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7620120" cy="95382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9FA7-F81F-4A53-8110-212F9F102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D189-A0FD-4E78-803D-131B8E666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B584-4CB2-47CA-BCC1-D8CB70506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9F42-E552-493B-884B-72E7A5F3D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AC6F9-1554-4CC8-9C1C-7270C5C2B78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ECB58-30E4-4DD2-9046-264BB30AFC3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endence současného management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ým č.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Zdroj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6705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Trune</a:t>
            </a:r>
            <a:r>
              <a:rPr b="0" lang="cs-CZ" sz="3200" spc="-1" strike="noStrike">
                <a:solidFill>
                  <a:srgbClr val="333333"/>
                </a:solidFill>
                <a:latin typeface="Arial"/>
              </a:rPr>
              <a:t>č</a:t>
            </a:r>
            <a:r>
              <a:rPr b="0" lang="cs-CZ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ek, J. Hledání mana</a:t>
            </a:r>
            <a:r>
              <a:rPr b="0" lang="cs-CZ" sz="3200" spc="-1" strike="noStrike">
                <a:solidFill>
                  <a:srgbClr val="333333"/>
                </a:solidFill>
                <a:latin typeface="Arial"/>
              </a:rPr>
              <a:t>ž</a:t>
            </a:r>
            <a:r>
              <a:rPr b="0" lang="cs-CZ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erského kamene mudrc</a:t>
            </a:r>
            <a:r>
              <a:rPr b="0" lang="cs-CZ" sz="3200" spc="-1" strike="noStrike">
                <a:solidFill>
                  <a:srgbClr val="333333"/>
                </a:solidFill>
                <a:latin typeface="Arial"/>
              </a:rPr>
              <a:t>ů</a:t>
            </a:r>
            <a:r>
              <a:rPr b="0" lang="cs-CZ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 pro moderní podnik 21. stole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ůvodce studiem Management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chmetterer, Bob. Skok do budouc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243792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ěkujeme za pozorno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Úvod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ývoj manažerských metod, technik a nástrojů postupuje - zejména v posledních letech - neobyčejně rych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dniky mají v běžném užívání téměř tři desítky hlavních manažerských meto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stliže dovedeme k dokonalosti jednu, i když značně důležitou část systému podnikového řízení, ještě není zajištěno, aby celek dobře fungov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Úspěšné řešení musí být systémové a mělo by pokrýt komplexní systém říze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ba metody musí být výsledkem pečlivého zvažování. Je tedy spíše tvůrčím činem než reakcí na to, co se v managementu právě nos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nom zcela výjimečně je schopna jedna metoda řešit komplexní problematiku efektivního modelu řízení konkrétního podni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Management změny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yčlenil se jako samostatný termín v průběhu sedmdesátých let 20. stolet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ěr managementu spočívající jednak v připravenosti reakcí na vnější či vnitřní podněty (pasivní aspekt) a jednak zaměřený na volbu předmětu změny, její pružnou přípravu, realizaci a využívání (aktivní aspekt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Vybrané přístupy managementu změny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orie úzkých mí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ístupy trvalého zlepš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mingův zlepšovací cyklus PDC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eengine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měry zvyšování produktivity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ean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odnotová analý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ust in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aiz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09320" y="228240"/>
            <a:ext cx="6629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c0039"/>
                </a:solidFill>
                <a:latin typeface="Arial"/>
              </a:rPr>
              <a:t>Bob Schmetterer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rozen 19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USA, New Y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ývalý předseda Euro RSC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polupráce s Intel, Opavia, KB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ílo: „Skok do budoucnosti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Schmetterer,%2520Bob" descr=""/>
          <p:cNvPicPr/>
          <p:nvPr/>
        </p:nvPicPr>
        <p:blipFill>
          <a:blip r:embed="rId1"/>
          <a:stretch/>
        </p:blipFill>
        <p:spPr>
          <a:xfrm>
            <a:off x="5753160" y="0"/>
            <a:ext cx="339084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Nelineární myšlení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áklad pro všechny inov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kvivalent tvořiv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yšlení z bodu A (přes B) do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hdy vytlačeno lineár. myš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íklady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ost v Buenos Ai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ichard Branson – spol. Vir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Další znaky řízení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6705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jímání neobvyklých lid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yslexie jako zdroj nelineárního myšlení (tvořivost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vytváření genetických kopi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mezení oblasti působ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ezentace (tvořivá a efektivní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poluprá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koky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xistuje žádný nezajímavý obor podnik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tno zbavit se předsud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bát se riskov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ýt připraven překročit hran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jovat proti průměr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jmocnějšími propagátory značky jsou zákazníci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čiňte z klientů nedílnou součást tý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8:49:05Z</dcterms:created>
  <dc:creator>Nikos</dc:creator>
  <dc:description/>
  <dc:language>en-US</dc:language>
  <cp:lastModifiedBy>pc</cp:lastModifiedBy>
  <dcterms:modified xsi:type="dcterms:W3CDTF">2006-12-05T07:20:35Z</dcterms:modified>
  <cp:revision>18</cp:revision>
  <dc:subject/>
  <dc:title>Snímek 1</dc:title>
</cp:coreProperties>
</file>