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075-6AA0-4F6F-8359-961D35B6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5A5-1202-4D07-9C3D-A93B9D4E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60C-ABC2-450D-9B1F-5547EC2F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4F1-FC08-4C6B-8716-39AD2566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8FE3-2268-40C8-BCD2-48DF1139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9D40-1505-4B0C-B17F-EB30D80F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F8C0-B794-4C43-B33A-3C1C35CC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4C1F-4745-4A4E-BE17-3CB03C54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A98A-0698-4E5D-8A8F-50825DD8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E95C-A54B-4953-A23D-E019BD74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0475-0351-49F0-BBA3-C1CC369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0A9-8EA0-4E3D-8BAC-653DE86C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88D3-730D-4A63-A4C1-8FD582AA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2D1F-63D2-4EF0-AE0E-55335F4C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0892-09E4-4A54-83D6-1ED1C0EA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B46E-E8EE-4ED6-991D-6B8FB15D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6E0A-EEF6-4719-942C-4CF28392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A62-1051-4181-8606-45E91140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BEC-3C59-420E-9598-BF6F462D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E4C-3F49-4096-A8D6-EFEA7C75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560-4722-4206-95F7-749FB38E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AA57-5A71-4ED7-B8F8-75322918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F36-AE38-483F-A329-02B5263D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537-CEB4-48E0-8D39-F5438F89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562C-B91B-479D-9F05-2FC53D34B5D6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D1FA-405C-4EA4-B5CC-44C936D0140B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Manažerská etika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ára Kozlová, Veronika Paďourová, Barbora Vincenec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ásady výstavby etického kodexu podniku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ko vodítko pro rozhodování slouží vždy deklarované hodnoty podniku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vnitřně konzistentní a souviset s posláním, cíli, strategií a politikou podniku. Měl by obsahovat jasně formulované priority, závazky a požadavky a srozumitelné vymezení etických rol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přiměřený. Nemůže být příliš detailní ani příliš obecný. Práva, povinnosti a požadavky na chování zaměstnanců musí být vyvážené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obsahovat mechanismus řešení konfliktů, jeho jasnou interpretaci a aplikac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 v podnik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i formulování obsahu etického kodexu by měla být respektována zásad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stupu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od obecného ke konkrétnímu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Záleží na vedení podniku, jaký etický kodex si vytvoří. Často je velmi obtížné stanovit rozsah a celkovou proporci obsahu kodexu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tický kodex by měl být vždy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veřejně přístupný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ro soustavu etických hodnot nelze najít univerzální schéma. Podstatné však je, aby si lidé v podniku díky kodexu lépe uvědomovali morální nároky a aby tyto nároky byly všeobecně přijatelné jako rozumné mantinely jejich práce, ne jako nástroj k omezování jejich svobod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Integrace etiky do strategického plánování podniku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ze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ální kvalita jednání podniku netkví ve sledování kvantifikace zisku, ale ve volbě prostředků, jakými lze zisku dosáhn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dnikatelská etika a práv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onné právo si samo o sobě nemůže zjednat své plněn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etiky do podnikové strategie vhodně doplňuje právo tam, kde je jeho aplikace obtížn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1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2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3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NÝ, I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tika v podnikové strategi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oskovice : Albert, 199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tedra podnikového hospodářství (2006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anagement II, průvodce studie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online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Děkujeme za pozornost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Stanoven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nik rozhoduje, které mravní hodnoty se stanou jejich hlavním identifikačním znak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íčové etické  hodnoty se stávají páteří podnikové kult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cké hodnoty se též stávají součástí podnikové strate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funkce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finič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vymezují „kdo jsme a oč usilujeme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ategická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vlivňují společenské mínění o firmě a tím i do jisté míry preferenci zákazníků, investorů at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Kontrol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možňují veřejnosti hodnotit z mravního hlediska konkrétní aktivity a chování podniku n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požadavky na charakter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dčasov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becný charakter, akceptovatelnost i v budouc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řiměřen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kritickým pohledem na kapacitu podniku, co je pro něj reál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r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předchozím požadavkem, hlásání něčeho, co podnik není schopen zrealizovat, postrádá smys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Použit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ást firemního loga: „Tchibo – dát to nejlepší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ní slogan: „Hypoteční banka – Zkraťte si cestu domů!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ormulace: jasné, srozumitelné teze; pozor na vícevýznamovost slov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 hlediska Maslowovy teorie potřeb je neetické vydávat některé nižší potřeby za vyšší (auto, cigarety, čokoládové tyčinky atd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líčové etické hodnoty podnik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jsou základním morálním rámcem pro jeho činnost. Jsou však příliš obecné na to, aby mohly určovat řešení konkrétních etických problémů a dilem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 se zavádí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tický kode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který poskytuje detailnější rozpracování, konkretizaci morálních zásad a jejich použití v podnikové prax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vádění etických kodexů se netýká pouze podnikové sféry. Kodexy již existují v bankovnictví, pojišťovnictví a státní správě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vedení podniku může dobře sestavený kodex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iminovat nežádoucí chování, které způsobují pokles přízně zákazníků, zaměstnanců, investorů, veřejnost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asnit politiku podniku v morálních otázkách, např. zacházení s důvěrnými informacemi, přijímání „pozorností“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it vnitropodnikovou disciplínu, snížit potřebu donucovacích opatření pro odhalení neetického chová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mezit nadřízeným zneužívat svého postav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zitivně motivovat zaměstnance tím, že pracují v etickém prostředí s jasnými pravid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podnikového managementu kodex může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ešit morální problémy a dilemata, které se vyskytují v práci podnikových manage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čelit neetickým požadavkům zákazníků, dodavatelů, ale i nadřízených a podřízený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hajovat svá rozhodnutí jak uvnitř, tak vně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jednodušit vnitropodnikovou komunika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důvodnit návrhy na disciplinární opatření při porušování etických zásad ze strany zaměstnanc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rychlit identifikaci problémových praktik a odhalení případných podvod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7:46:08Z</dcterms:created>
  <dc:creator>PC</dc:creator>
  <dc:description/>
  <dc:language>en-US</dc:language>
  <cp:lastModifiedBy>Ondřej Částek</cp:lastModifiedBy>
  <dcterms:modified xsi:type="dcterms:W3CDTF">2006-11-23T08:59:29Z</dcterms:modified>
  <cp:revision>8</cp:revision>
  <dc:subject/>
  <dc:title>Manažerská etika</dc:title>
</cp:coreProperties>
</file>