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FE8-26F9-4400-BD75-A33427C1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902-B2BE-45B2-BAB1-35D5690F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0D3-F831-4467-8660-25BDC534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7DE-770D-4259-A425-6170CDB5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18AC-22C7-4341-B316-0D4ECF94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FE7C-6538-4C5C-B9AD-1E322F31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ACBF-3912-4981-A2C7-A160CE2D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832E-A346-463F-A60A-AC869373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FC4D-0391-4C82-B95A-BCA4361E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9059-CC74-4404-9445-B76A00E1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088F-BBAD-4EBE-BBAA-26829AF4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5F6-D029-49BF-BA05-130F7455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CD98-F893-485F-ACC2-E3ABDF7C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1123-8228-45EA-93DA-7EC09006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2794-7609-44E8-9FD8-982CCC1D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042A-1871-4BBA-BDAD-52B81CAE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F657-3D1A-45DC-A224-7DEF4D3F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7FD-90C4-44D5-B760-E655EF78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80B-64EA-48E9-967E-5B797112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144-4035-4115-9966-CBFC5525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D7E-4168-47B5-93FD-A577B5D9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CDB-3740-40B2-882D-DD337B0A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E40C-D9BD-4EE0-9DA1-084E1F9B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488-E881-4FE1-9E7F-E817BDB8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5F07-A7E4-434D-B576-2BB6633FDDD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72DC-8BD2-471C-8DA3-1FBB886CA52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Vývoj systémů –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9640" y="508428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artina Haná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Obši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Bárt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Vývoj jako proces postupného zdokonalování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Antientropický děj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Proces konstitutivní (podstatný, základní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Proces, který hledá, experimentuje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lastnost, která nepřísluší jen jedinci, ale celému systém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Život je nerozlučně spojen s evoluc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Erwin Schrödinger: vlastností života je vytvářet stále větší řád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dánlivě nepravděpodobn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uspořádání věc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Život je chemický systém schopný sebe sama udržovat, v němž probíhá darwinovská evolu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arles Darwin: Všechny současné druhy mají společné předky, kteří existovali před dávnými věky. Původ druhu spočívá v proměnách způsobených náhodnými mutacemi a ve výběru prostřednictvím boje o omezené zdro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ormace se podílí na evoluc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ekvátní informace vzniká až spolu se systémem a ten je určován nahodilými faktory uvnitř i vně tohoto systém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ložitější systém potřebuje více informací k dalšímu vývoj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)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řirozená (biotická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informac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genetická (dědičná) a epigenetická (získaná zkušeností a učením, je základem kulturní informac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)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kulturní informace (umělá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vzniká kontaktem s okol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ormace a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znikala rozpoznáváním a hodnocením podnětů důležitých pro přežití a spolupráci lid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tvořila se lidskými smysly a rozum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uchovní kultura, společenské vědom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tváří ji konkrétní jedinci a institu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16720" y="3357720"/>
            <a:ext cx="194472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Nositelem je příroda sa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Započala prudkou expanzí hmoty – tzv. velký třes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Systémy jsou složitější a sebeorganizovanější (náš předek - sirná bakteri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Pokročilé organismy obsahují mnoho miliard buněk a jsou organizovány do velmi propracovaných struktu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227640" y="1108080"/>
            <a:ext cx="21607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sitelem je člově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vazuje na dosaženou úroveň přirozené evoluce, ale je mnohem rychlejší a stále akceleruj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ýsledkem je kultur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ývoj umožnilo a urychlilo využívání symbolů (jazyk, písmo)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80071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voluce je proces s otevřeným koncem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1134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Šmajs, J.  Drama evoluce. Praha: Hynek, 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Šmajs, J. Konflikt přirozené a kulturní evoluce. Brno: Masarykova univerzita, 199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Coveney, P., Highfiled, R. Mezi chaosem řádem. Praha: Mladá Fronta, 200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Prigogine, I., Stengersová, I. Řád z chaosu. Praha: Mladá Fronta, 200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Kolektiv autorů, Akademický slovník cizích slov, Praha: Academia, 199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7:39:26Z</dcterms:created>
  <dc:creator>Franta Konopásek</dc:creator>
  <dc:description/>
  <dc:language>en-US</dc:language>
  <cp:lastModifiedBy>99782</cp:lastModifiedBy>
  <dcterms:modified xsi:type="dcterms:W3CDTF">2006-09-26T15:39:47Z</dcterms:modified>
  <cp:revision>5</cp:revision>
  <dc:subject/>
  <dc:title>Vývoj systémů-přirozená a kulturní evoluce</dc:title>
</cp:coreProperties>
</file>