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6.wmf" ContentType="image/x-wm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63908-EF9A-4E53-9ED1-8BE9AD7FE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59F73-9681-4B3F-8F96-2635EB03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9C094-193A-432F-9540-5C5C118FD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D2636-F730-464D-BA2D-4AE13C6F2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0CAA-4616-47E9-A103-9C2B193F9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0526-AF90-49E3-BB9F-F7F7C335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6F31-BEA2-40BC-98C3-384DE227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DED8-5DF4-4B9C-948D-0A022609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37DD-12D2-4C70-94CD-8B0E0E04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3B89-F9C1-472D-94F2-240CF9A9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728B-EFD8-4B89-BA68-89FC8656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59B08-F098-4583-AD42-98F1FB39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8CFE-BB29-41E4-805E-F0F083BB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7A17-79E7-43DF-8EBA-E2611879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C18C-0EC3-4241-BF26-F14AFC60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983E-8EC7-45B1-8DAB-E1D5759E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C9FC-B386-41FE-AB91-04AC65D1D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006CC-107B-4AF4-AD91-2059A84C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676AE-25FF-4A02-98A2-51E94789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633DA-8486-4B86-B533-B496A72C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AA341-4865-45E3-AB40-1B552A16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5A9BD-9BB8-43E1-A2AA-0342BD37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9E2A6-B1F6-46C9-9974-5C736FCC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9215B-61CF-4E02-A576-20E5C9EF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95FB-0B43-4DA0-8CEF-C5ABF7C835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8276-24E8-461C-8DC1-7FA87A5F18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7570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e5e5ff"/>
                </a:solidFill>
                <a:latin typeface="Garamond"/>
              </a:rPr>
              <a:t>Tretia vlna</a:t>
            </a:r>
            <a:br>
              <a:rPr sz="6000"/>
            </a:br>
            <a:r>
              <a:rPr b="1" lang="en-GB" sz="2800" spc="-1" strike="noStrike">
                <a:solidFill>
                  <a:srgbClr val="e5e5ff"/>
                </a:solidFill>
                <a:latin typeface="Garamond"/>
              </a:rPr>
              <a:t>(Post-industrialna spolocnost)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48436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Tomas Don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Iveta Pecharov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Kristián Sem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55640" y="3357720"/>
            <a:ext cx="3378240" cy="25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..druhy pohlad.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Riesman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Populacny pokles v postindustiralnej spolocnost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Terciarna sfera v zamestnanosti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Zkracovanie pracovnej doby -&gt; zvysovanie volneho cas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‘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vonkajsie riadenie’ – jednotlivec ovplyvnovany viac vrstovnikmi, ludmi na spolocnej ‘vlne’ x rodinne tradic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Uloha medi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Masivny rozvoj -&gt;</a:t>
            </a: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 kontakt so širším okruhom vrstovníko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Anonymita 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kritika vrstovniko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32000" y="3645000"/>
            <a:ext cx="1825560" cy="126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924360" y="4653000"/>
            <a:ext cx="1868400" cy="1773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156360" y="3573360"/>
            <a:ext cx="1312920" cy="11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Ďakujeme za pozornosť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276720" y="2492280"/>
            <a:ext cx="2609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Stupne industrializacie spolocnosti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redindustrialna (agrarn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ndustrialna – priemyslovny sekt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ostindustrialna – pohltenie sluzbam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076720" y="1413000"/>
            <a:ext cx="1673280" cy="1704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093080" y="4941720"/>
            <a:ext cx="186660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Postindustrialna spolocnos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30.rok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Nove zaver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Vladnuca eli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Pracovna sila do sektoru sluzie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Vyznam technologi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Vedenie – teoretick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hra medzi ludmi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Intenzivny rozvoj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Technologi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Intelektual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trojov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vedla sektoru dopravy, sluzieb, trhu, financnej zmeny, vzdelanie vyskum,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Odraz v kulture profesii -&gt;dominancia univerz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419640" y="4437000"/>
            <a:ext cx="206532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Klucove pojm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rimat teoretickeho veden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Technicka trie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lanovanie technolog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Uloha zen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ociety of knowledge – spolocnost veden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Knowledge class – trieda vladnuci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Strukturalne zme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1. Vznik globalnej ekonomik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2. Rozvoj komunikac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3. Technolog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Rozdiely socialnych struktu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8229600" cy="4716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429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ocialna sfer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yp spolocnos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dindustrialn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ustrialn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ostindustrialn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zdroj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erastne suroviny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ergi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formaci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zim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obyvani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yrob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pracovani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echnologi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a pracovnej sil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a kapital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a know-how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cen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ra proti prirod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ra proti vytvorenej vyrob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ra medzi ludmi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Charakteristik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Vyroba </a:t>
            </a: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tovaru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x sluz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Technicke, humanitne, odborne -&gt; zmena v profesnej strukture spolocnost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oraz na vzdelanie – podmienka</a:t>
            </a: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 čoho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Kvalifikaci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Pristupu k moc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…</a:t>
            </a: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charakteristika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polocnost meritokraticka (zasluhova; cenenie zasluh) x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neptismus – preferovanie pribuznych, priatelov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protekcionizm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olezite kvoli DELBE PR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Kvalifikovani x nekvalifikovan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09:20:12Z</dcterms:created>
  <dc:creator>Tomas Donat</dc:creator>
  <dc:description/>
  <dc:language>en-US</dc:language>
  <cp:lastModifiedBy>Tomas Donat</cp:lastModifiedBy>
  <dcterms:modified xsi:type="dcterms:W3CDTF">2006-10-17T12:36:31Z</dcterms:modified>
  <cp:revision>2</cp:revision>
  <dc:subject/>
  <dc:title>Tretia vlna (Post-industrialna spolocnost)</dc:title>
</cp:coreProperties>
</file>