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9A9-C93A-4A70-B312-BD7DD88B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968-5A3A-430D-A229-2B2E5267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22B-E10C-42C9-A6A4-0C23B353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80B-855D-49AC-89F9-4A4B114B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3DCF-CFEE-4AD3-ACA2-15BF9D7A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C09C-A8A8-4887-B2B4-82E48D64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BA96-825A-4094-9BA9-F971FE3A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01AB-533C-41FF-8702-E9C6F81E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030E-F9CF-47EC-B671-C9359BD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8ED4-DD37-4DDE-984C-80004D5C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EBD4-6391-48F9-BB1F-C95DC92D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0A1-0F11-4BC3-B3CD-B4183EF6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6B42-CF89-4FF5-A8E0-ABBDFF5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6F4E-25DE-4197-A017-A85D8C0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7820-8C58-44B1-B314-1161E39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F59D-AEE1-4973-A6B7-421BF637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B784-FF09-4488-8191-C3EB8A0B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911-D4C2-48C3-8F31-1564B15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9C9-7F64-4544-9352-0767959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5F1-AA28-4C05-918C-277E2280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26F-71D0-4048-80B6-32088BD8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3B6-32AC-4277-B53F-695BE93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751-8781-467D-8F3C-D13F9E3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265-B883-44E1-B7EF-C95CE6BF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F7E5-D73D-4327-97EA-B8EACCA54A69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D6F1-1182-4A03-AFD5-619F4ECBF740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organizační struktu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kteristiky podnikatelský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ítě malých a střední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ktické aplikace síťových struk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ktory ovlivňující úspěch výrobní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kušenosti z prax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pozice v soutěži o veřejné zak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soké administrativní zatíž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dosažení úspor z rozsa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vyjednávací pozice s velkými obchodními řetěz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hody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výšení trž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ížení nákladů – při uzavírání transakcí, výrobní 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dnější řešení vzniklých probl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stup k informacím a znalo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lexibilita a adaptabilita – levnější a inovativnější řeš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ískání možnosti vstoupit na nové tr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dělování rizika mezi členy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rganizačně-obchodní spojení poskytovatele franchizy (franchisor) a jejího příjemce (franchisant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tahy jsou upraveny smlouvou, která obsahuje licenční prv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ináší výhody oběma stran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říjemce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užívá řadu znalostí a zkušeností franchis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kupováním ve velk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 rekla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oskytovatel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kamžité rozšíření obchodní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proniknout na vzdálené tr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ntrum se může věnovat pouze strategickým úkolů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iziko je rozloženo na mnoho subjek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NĚČNÁ ORGANIZ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ořena malými podniky (buňky), z nichž každý usiluje o dosažení podnikatelských příležitostí, společně sdílí know-ho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á flexibil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ustále se vytvářejí nová partner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ňky samy vyhledávají nové podnikatelské příležito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aktory ovlivňující úspěch výrobní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ůvě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ažov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ýběr partn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užití služeb zprostředk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žití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kolní prostře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mpirický výzkum sítí v U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základě studie Sherer z roku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loveno 159 sítí, spolupracovalo 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naha seřadit faktory důležité pro úspě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ětšina sítí vznikla na počátku 90. l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ítě hlavně ve výrobě kovů, elektronice a strojíren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důležitější faktory: charakter účastníků (důvěra), podpora ze strany vrcholového vedení (angažovan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méně důležité faktory: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á příčinná závislost mezi finančními a nefinančními výstupy sítě a důvěr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přímá závislost mezi dobou, po kterou jsou firmy členy sítě,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roveň důvěry je v sítích fungujících méně než dva roky výrazně nižší než v sítích starších dvou 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c4c3a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harakteristiky podnikatelský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matické změny trhů (80. léta) - rozvoj síťových struk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ítě = 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louhodobé dohody mezi vzájemně spjatými firmami, které jim umožní získat a udržovat si konkurenční výhody ve vztahu k firmám, které do této sítě nepatří.“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čně řídící aspekt - řídící článek vzniká v procesu spolupráce všech strukturálních prvk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ání konkurence a kooper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lečné využívání inform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hody síťových doho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úspora nákla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šší konkurenceschop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 (2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nepřímá závislost mezi počtem členů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ý rozdíl mezi úrovní důvěry v sítích řízených formální a neformálním způsob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ítě starší jednoho roku s formálními mechanismy řízení vykazují mnohem vyšší úroveň důvěry než ty, které jsou řízeny spíše neformál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struktury v E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ěmeck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ilní výroba (malé a střední podniky spojeny s výzkumnými a technologickými ústavy, konzultačními firmami a marketingovými organizacem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ziodvětvové spojení (dodavatelé surovin, materiálů, barviv,…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Klasifikace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lavní důvody pro síťovou formu spolupráce fir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lasický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orientovaný na co největší rentabilitu zdroj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ovač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využívá všech možností k rozvoji výroby když vlastní zdroje nestačí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kladní typy sítí (Snow, Miles, Coleman - 1992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nitropodnikov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at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ynam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nitropodnikov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ma vlastní všechny zdroje potřebné k podnikatelské čin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gování vnitropodnikového trhu, na kterém se obchoduje za reálné tržní ce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&gt; Motivace interních jednotek k provádění zlepšení a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at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užívá částečně outsourcing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ložení vlastnictví aktiv a rizika mezi několik fir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lehlivost v oblasti dodávky nebo distribu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výhod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tráta flexibility firem,které se stanou závislé na ústřední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Dynam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ůdčí firma využívá zdrojů, které jsou z velké části nebo zcela vlastněny jinými společnost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kytují jak flexibilitu tak specializa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dílná kvalita v jednotlivých firmách, potřebná odborná znalost může být dočasně nepřístupná, riziko zneužití příslušných znalostí a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ké sítě fungují nejlépe v konkurenční situaci, kdy je každý z hráčů nucen tržními tlaky být spolehlivý a využívat výhod své specializ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ypologie podnikatelských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herer (2003) rozlišuje 2 skupiny sítí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Měkké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, do kterých se firmy sdružují s cílem učit se od sebe navzájem tak, aby mohly provést změny, které zlepší jejich konkurenceschop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 firem, jež sdílejí společné zdroje, které mají k dispoz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vrdé sítě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arakteristická vyšší úroveň vzájemné závislos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 rámci tvrdé sítě jsou často sdíleny všechny vědomosti a odborné znalosti =&gt; větší příležitosti, ale vyšší rizi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tě malých a střední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í sítě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lavní strategií rozvo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mínka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vzájemná důvěra a vzájemná podpora o ochot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účastníků sítě vzdát se vlastní výhody, pokud to prospěje síti jako cel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ivací překonání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řady tradičních problém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lých firem a získání určitých výhod velký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á ekonomická síla ve srovnání s velkými podn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ší přístup ke kapitálu (omezuje možnosti financování rozvojových aktivi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tížená možnost odborného vzdělávání zaměstnanců a manaž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kalá konkurence ze strany velkých podniků a dumpingové ceny dovážených produk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1:18:37Z</dcterms:created>
  <dc:creator>Brno</dc:creator>
  <dc:description/>
  <dc:language>en-US</dc:language>
  <cp:lastModifiedBy>Procházka Jan</cp:lastModifiedBy>
  <dcterms:modified xsi:type="dcterms:W3CDTF">2006-11-08T14:19:52Z</dcterms:modified>
  <cp:revision>6</cp:revision>
  <dc:subject/>
  <dc:title>Sítě malých a středních firem</dc:title>
</cp:coreProperties>
</file>