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D96E-AA52-439D-B733-9102C7891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6013-908F-4CE5-9FC6-214F8B019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6B49-9F2A-45F1-A4A4-09EC858D7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2664-5D6A-4770-89AF-48022C749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E59E2-1709-4C12-80B2-56924AEC6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09D83-DCEB-41BC-A5BA-EDEE44508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F6109-2EC1-45C2-A85F-27278FF5C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12C86-E568-493E-9841-5C08FE40A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12651-4174-4BF3-A8EA-05D39FA85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ADBEB-2683-4B58-93DE-E76076C38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14F8E-6749-4AA0-BA8F-01758A5C5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0D20-5855-4D0C-A3A0-C68DB2F1F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5D071-8C89-4B8A-B8DD-66E4A8B7A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2A41A-ACEA-4913-BB7E-952668150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A3656-43AE-45E9-B89C-DAD6CFA0C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58C13-C3B9-4C37-BB10-41603581C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AA24A-C264-459A-9AD0-9191AA3FA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F241-D68F-4710-B689-839E142FD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737F-C586-4A9F-9BB1-67D2930CB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EE14-76CE-447F-B159-4082A4CA5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1E4F-2928-42FB-AE63-7E2B06D97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3A23-6A87-4195-ABC9-EBF6BBC14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478E-D718-4016-AA79-BE373854C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7FA0-E022-4C55-8C13-8B5E6BBF8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61AA9-26F3-4067-8CD9-00729824803E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A1453-9AF3-429D-9159-3DFCBEDC0171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Vývoj českého managementu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Times New Roman"/>
              </a:rPr>
              <a:t>Prezentující: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Times New Roman"/>
              </a:rPr>
              <a:t>Eva Paseková, Aleš Havránek, Radovan Holek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Skupina č. 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21.11.200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Brn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845676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500" spc="-1" strike="noStrike">
                <a:solidFill>
                  <a:srgbClr val="ffcc66"/>
                </a:solidFill>
                <a:latin typeface="Arial"/>
              </a:rPr>
              <a:t>Historie českého managementu</a:t>
            </a:r>
            <a:endParaRPr b="0" lang="en-US" sz="35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28954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609480" indent="-609480">
              <a:spcBef>
                <a:spcPts val="624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Times New Roman"/>
              </a:rPr>
              <a:t>Inklinace k přejímání cizích koncepcí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624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Times New Roman"/>
              </a:rPr>
              <a:t>Období masarykovské republiky 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- důraz na české národní hodno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- aplikování rakouských a německých tradi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- orientace na US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Times New Roman"/>
              </a:rPr>
              <a:t>Tomáš Baťa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- největší osobnost českého management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624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Times New Roman"/>
              </a:rPr>
              <a:t>Plánovité řízení ekonomiky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- znárodnění průmyslu a zemědělstv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- sovětský systém centrálního plánování a řízení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ekonomik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500" spc="-1" strike="noStrike">
                <a:solidFill>
                  <a:srgbClr val="ffcc66"/>
                </a:solidFill>
                <a:latin typeface="Arial"/>
              </a:rPr>
              <a:t>Tomáš Baťa</a:t>
            </a:r>
            <a:br>
              <a:rPr sz="3500"/>
            </a:br>
            <a:r>
              <a:rPr b="0" lang="cs-CZ" sz="2000" spc="-1" strike="noStrike">
                <a:solidFill>
                  <a:srgbClr val="ffcc66"/>
                </a:solidFill>
                <a:latin typeface="Arial"/>
              </a:rPr>
              <a:t>( 3.4.1876 – 12.7.1932)</a:t>
            </a:r>
            <a:r>
              <a:rPr b="0" lang="cs-CZ" sz="2500" spc="-1" strike="noStrike">
                <a:solidFill>
                  <a:srgbClr val="ffcc66"/>
                </a:solidFill>
                <a:latin typeface="Arial"/>
              </a:rPr>
              <a:t>       </a:t>
            </a:r>
            <a:endParaRPr b="0" lang="en-US" sz="25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Times New Roman"/>
              </a:rPr>
              <a:t>„</a:t>
            </a:r>
            <a:r>
              <a:rPr b="0" i="1" lang="cs-CZ" sz="1800" spc="-1" strike="noStrike">
                <a:solidFill>
                  <a:srgbClr val="ffffff"/>
                </a:solidFill>
                <a:latin typeface="Times New Roman"/>
              </a:rPr>
              <a:t>Než něco řeknu, musím přemýšlet, co mi ten druhý odpoví“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Times New Roman"/>
              </a:rPr>
              <a:t>principy řízení podniku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Times New Roman"/>
              </a:rPr>
              <a:t>samospráva jednotlivých úseků a dílen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Times New Roman"/>
              </a:rPr>
              <a:t>účast zaměstnanců na zisku a na řízení obchodu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ffffff"/>
                </a:solidFill>
                <a:latin typeface="Times New Roman"/>
              </a:rPr>
              <a:t>systém</a:t>
            </a:r>
            <a:r>
              <a:rPr b="0" lang="cs-CZ" sz="25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500" spc="-1" strike="noStrike">
                <a:solidFill>
                  <a:srgbClr val="ffffff"/>
                </a:solidFill>
                <a:latin typeface="Times New Roman"/>
              </a:rPr>
              <a:t>personální</a:t>
            </a:r>
            <a:r>
              <a:rPr b="0" lang="cs-CZ" sz="25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5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cs-CZ" sz="25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500" spc="-1" strike="noStrike">
                <a:solidFill>
                  <a:srgbClr val="ffffff"/>
                </a:solidFill>
                <a:latin typeface="Times New Roman"/>
              </a:rPr>
              <a:t>sociální péče o pracovníky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ffffff"/>
                </a:solidFill>
                <a:latin typeface="Times New Roman"/>
              </a:rPr>
              <a:t>systematický výcvik a vzdělávání zaměstnanců a mládeže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500" spc="-1" strike="noStrike">
                <a:solidFill>
                  <a:srgbClr val="ffcc66"/>
                </a:solidFill>
                <a:latin typeface="Arial"/>
              </a:rPr>
              <a:t>Formování nového českého managementu</a:t>
            </a:r>
            <a:endParaRPr b="0" lang="en-US" sz="35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Times New Roman"/>
              </a:rPr>
              <a:t>2 tendence uvažování :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- návrat k tradičním českým hodnotá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- kopírování úspěšných zahraničních koncepcí a přístupů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Times New Roman"/>
              </a:rPr>
              <a:t>výhody / nevýhody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Times New Roman"/>
              </a:rPr>
              <a:t>překonání překážek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- hierarchie řídících vztahů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- pracovníci chápáni jako „ vykonavatelé příkazů“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- tendence soustředit se „krátkozrace“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500" spc="-1" strike="noStrike">
                <a:solidFill>
                  <a:srgbClr val="ffcc66"/>
                </a:solidFill>
                <a:latin typeface="Arial"/>
              </a:rPr>
              <a:t>Dimenze národní kultury</a:t>
            </a:r>
            <a:br>
              <a:rPr sz="3500"/>
            </a:br>
            <a:endParaRPr b="0" lang="en-US" sz="35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Times New Roman"/>
              </a:rPr>
              <a:t>Geert Hofstede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- první zformuloval kulturní dimenz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Times New Roman"/>
              </a:rPr>
              <a:t>Rozpětí moci v hierarchii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Times New Roman"/>
              </a:rPr>
              <a:t>Individualismus / Kolektivismus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Times New Roman"/>
              </a:rPr>
              <a:t>Vyhýbání se nejistotě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Times New Roman"/>
              </a:rPr>
              <a:t>Maskulinita / Feminita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Times New Roman"/>
              </a:rPr>
              <a:t>Dlouhodobá / Krátkodobá orientace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500" spc="-1" strike="noStrike">
                <a:solidFill>
                  <a:srgbClr val="ffcc66"/>
                </a:solidFill>
                <a:latin typeface="Arial"/>
              </a:rPr>
              <a:t>Vztah českého managementu</a:t>
            </a:r>
            <a:br>
              <a:rPr sz="3500"/>
            </a:br>
            <a:r>
              <a:rPr b="0" lang="cs-CZ" sz="2000" spc="-1" strike="noStrike">
                <a:solidFill>
                  <a:srgbClr val="ffcc66"/>
                </a:solidFill>
                <a:latin typeface="Arial"/>
              </a:rPr>
              <a:t>k jednotlivým dimenzím národní kultury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Times New Roman"/>
              </a:rPr>
              <a:t>Mocenský odstup a problém komunikace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Times New Roman"/>
              </a:rPr>
              <a:t>Dilema českého individualismu / kolektivismu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Times New Roman"/>
              </a:rPr>
              <a:t>Česká maskulinita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Times New Roman"/>
              </a:rPr>
              <a:t>Obava z nejistoty a „švejkovská“ tradice v Čechách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Times New Roman"/>
              </a:rPr>
              <a:t>Krátkodobá orientace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500" spc="-1" strike="noStrike">
                <a:solidFill>
                  <a:srgbClr val="ffcc66"/>
                </a:solidFill>
                <a:latin typeface="Arial"/>
              </a:rPr>
              <a:t>Atypické podmínky českého managementu</a:t>
            </a:r>
            <a:endParaRPr b="0" lang="en-US" sz="35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Times New Roman"/>
              </a:rPr>
              <a:t>Negativa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575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ffffff"/>
                </a:solidFill>
                <a:latin typeface="Times New Roman"/>
              </a:rPr>
              <a:t>Přežitky minulé éry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575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ffffff"/>
                </a:solidFill>
                <a:latin typeface="Times New Roman"/>
              </a:rPr>
              <a:t>Nedodržování závazků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575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ffffff"/>
                </a:solidFill>
                <a:latin typeface="Times New Roman"/>
              </a:rPr>
              <a:t>Ztráta východních trhů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Times New Roman"/>
              </a:rPr>
              <a:t>Pozitiva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575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ffffff"/>
                </a:solidFill>
                <a:latin typeface="Times New Roman"/>
              </a:rPr>
              <a:t>Zásobování českého trhu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575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ffffff"/>
                </a:solidFill>
                <a:latin typeface="Times New Roman"/>
              </a:rPr>
              <a:t>Zaměření na export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575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ffffff"/>
                </a:solidFill>
                <a:latin typeface="Times New Roman"/>
              </a:rPr>
              <a:t>Zlepšení sociálních podmínek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500" spc="-1" strike="noStrike">
                <a:solidFill>
                  <a:srgbClr val="ffcc66"/>
                </a:solidFill>
                <a:latin typeface="Arial"/>
              </a:rPr>
              <a:t>Seznam literatury :</a:t>
            </a:r>
            <a:endParaRPr b="0" lang="en-US" sz="35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75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Times New Roman"/>
              </a:rPr>
              <a:t>IVAN NOVÝ </a:t>
            </a:r>
            <a:r>
              <a:rPr b="0" lang="cs-CZ" sz="2300" spc="-1" strike="noStrike">
                <a:solidFill>
                  <a:srgbClr val="ffffff"/>
                </a:solidFill>
                <a:latin typeface="Times New Roman"/>
              </a:rPr>
              <a:t>a kolektiv, Interkulturální management, Praha : Grada publishing, 1996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575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Times New Roman"/>
              </a:rPr>
              <a:t>IVAN NOVÝ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amp;  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SYLVIA SCHROLL - MACHL, </a:t>
            </a:r>
            <a:r>
              <a:rPr b="0" lang="cs-CZ" sz="2300" spc="-1" strike="noStrike">
                <a:solidFill>
                  <a:srgbClr val="ffffff"/>
                </a:solidFill>
                <a:latin typeface="Times New Roman"/>
              </a:rPr>
              <a:t>Spolupráce přes hranice kultur, Praha : Management Press, 2005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575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Times New Roman"/>
              </a:rPr>
              <a:t>MIROSLAV IVANOV, </a:t>
            </a:r>
            <a:r>
              <a:rPr b="0" lang="cs-CZ" sz="2300" spc="-1" strike="noStrike">
                <a:solidFill>
                  <a:srgbClr val="ffffff"/>
                </a:solidFill>
                <a:latin typeface="Times New Roman"/>
              </a:rPr>
              <a:t>Sága o životě a smrti Jana Bati a jeho bratra Tomáše, Vizovice : nakladatelství „LÍPA“, 1998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Děkujeme za pozornost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9T13:37:37Z</dcterms:created>
  <dc:creator>Eva Pasekova</dc:creator>
  <dc:description/>
  <dc:language>en-US</dc:language>
  <cp:lastModifiedBy>Eva Pasekova</cp:lastModifiedBy>
  <dcterms:modified xsi:type="dcterms:W3CDTF">2006-11-19T15:56:49Z</dcterms:modified>
  <cp:revision>25</cp:revision>
  <dc:subject/>
  <dc:title>Vývoj českého managementu</dc:title>
</cp:coreProperties>
</file>