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52F-FA3F-440A-9AFF-32C0AB4E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79A-1308-4445-8681-41F6BE8A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039-3174-42C6-9C79-91634F7E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7281-82B5-4D02-B626-2ECAC54B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921-0852-4B53-B1AE-0F678CBB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208-D487-4755-B023-56AA467F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5E4-60F3-4F90-9944-2BD09A13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33D-0519-4624-8C63-EBABE87F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E1F-055E-4245-8DC3-A73B8E6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8F1-21F3-4839-89C3-946ED21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DBF-662A-40CC-8ADB-305BB40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DC71-04CB-487E-AD60-1DB02517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7B1B-E5D5-4A68-AB8F-6BE27DB341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ální dimenze ekonom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. seminární práce týmu č.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ypracovali: Ivana Klein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ronika Kříž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an Čerb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Metody dosahování cíl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 hledají nejracionálnější způsoby dosahování svých cí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když se člověk rozhoduje ve značně ohraničené oblasti, v níž si přeje provádět pouze logicko-empirické úvahu, jsou jeho rozhodnutí stále ještě sub-racion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zpravidla nečiní racionální rozhodnu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Kdo jsou aktéř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závislí jedinci, provádějící svá vlstní rozhodnu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1640" y="19051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oba jsko člen sociální kolektivity, která ve značném rozsahu individuální rozhodnutí ohranič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dividualita existuje, avšak pouze v rámci sociálního kontex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ed námi je podstata člověk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kolik jsme moudří, jaká je úloha morálky, emocí a sociálních vazeb v našem individuálním a společenském životě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á 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mitai Etzioni, Morální dimenze ekonomiky ISBN 80-85865-19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aradigma založené na moderované verzi deontologické eti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áchází smysl sociálního svě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užíváme ho při pokusech pochopit a zlepšit sami sebe, ty, kteří nám jsou drazí, a ty, kteří nám tak drazí nejs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j o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álně – konzervativní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r>
              <a:rPr b="0" lang="cs-CZ" sz="50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ované na užitek, racionalitu a jed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kováno nejen na ekonomiku, ale stále více na celé spektrum sociálních vztahů d zločinu až po rodi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álně-konzervativní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avní soupeř neoklasického paradigma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jímá individua jako morálně nezpůsobilá, často iracionální, a tudíž vyžadující silnou autoritu pro kontrolu jejich impulsů, řízení jejich snah a udržování pořád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ápe individua jako schopná jednat racionálně a vě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chopná rozvíjet svoje JÁ (self), tato schopnost je však hluboce ovlivněna jejich zakotvením ve zdravém společenství, je podporována pevním, morálním, emotivním osobním spojen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olečenství chápou spíše jako MY, než jako omezující a vnucené 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 deon – závaz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lavní škola etiky, spřízněná s utilitarism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statou je tvrzení, že činy jsou morálně správné, když odpovídají relevatnímu principu nebo povin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ůrazňuje, že morální status činu nemá být posuzován podle jeho důsledku, což činí utilitarismus, ale podle „záměru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ř. člověk, který někoho pomlouvá, jedná nemorálně bez ohledu na to, zda se mu podařilo skutečně dotyčného poškodit, nebo nik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i zastřešující otáz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zdroje lidských hodnot, nebo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metody dosahování námi zvolených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o jsou klíčoví aktéř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Jaké jsou naše cí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ověk se snaží „maximalizovat“ svou užitečnost (požit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us (hlavně cena), který by mohl uskutečnit co nejefektivnější alokaci zdrojů, takovou, která jevíce uspokojuje lidská př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ské bytosti provádějí se svými žádostmi morální soudy. Pak je morální souhlas příčinou, která chování částečně vysvětl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mají různá přání, včetně toho žít podle vlastních morálních n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2:12:37Z</dcterms:created>
  <dc:creator>King</dc:creator>
  <dc:description/>
  <dc:language>en-US</dc:language>
  <cp:lastModifiedBy>Gecon</cp:lastModifiedBy>
  <dcterms:modified xsi:type="dcterms:W3CDTF">2006-11-20T14:00:21Z</dcterms:modified>
  <cp:revision>3</cp:revision>
  <dc:subject/>
  <dc:title>Morální dimenze ekonomiky</dc:title>
</cp:coreProperties>
</file>