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BE0-42BC-47CA-A1E8-9EB86287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48D-C04B-49F1-B20F-3017A2CE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D09-9D46-4462-8C2C-6365C783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45E-64AF-48A6-959E-8E9580FF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52DB-18AB-486A-9E36-95A3F3E2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67B5-FAEA-4D41-A0FB-E9BC968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D7D2-1362-4178-A432-0C98770C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72D5-D4B8-4EA5-B143-1AA88FE4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2E48-ADC1-48AD-BA1C-AE3029F5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5155-E520-4202-9098-938D7607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DE5B-1FDF-45F3-B22E-D2441EBF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047-A933-4C6C-9F8C-B150B204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723E-81D6-491A-8D94-C7C0DF13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406E-7D42-4D99-BD34-3A49A4A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F959-495E-467D-BEDA-26B44AC1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7094-B318-453C-9FD4-7A1D18EA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919A-69CB-4F7A-9C96-8EF0B6C6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DF1-CE71-44CF-8E0C-1D95B4E7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960-E89C-4787-B7CE-760BBF1A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DAA-46D5-4D9A-B935-BDBF5FDC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2A0-DE34-46FE-BB6D-AC2891B4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F75-9A3E-4B50-BFD4-19CC9874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C15-502A-4E51-B904-49CBABAA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530-755C-450B-8B9A-893A781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A34E-4731-40E2-BDEB-A0610BD3AC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DB97-0086-4C7F-B70A-F175E378D3D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-901800"/>
            <a:ext cx="777240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cs-CZ" sz="7200" spc="-1" strike="noStrike">
                <a:solidFill>
                  <a:srgbClr val="003366"/>
                </a:solidFill>
                <a:latin typeface="Times New Roman"/>
              </a:rPr>
              <a:t>Proměny práce</a:t>
            </a:r>
            <a:br>
              <a:rPr sz="7200"/>
            </a:b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KO-ORGANIZAČNÍ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OLEČENSKÁ A ETICKÁ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CHNICKO-ORGANIZAČNÍ STRÁNKA PRÁCE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emeslná výrob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využíval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á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řemeslník byl vlastníkem svý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ních prostř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ělba práce byla orientovan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 výr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dustriální společn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ufaktu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ůmyslové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ůmyslové podn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znam faktoru práce při tvorbě hodnoty postupně kle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stnictví výrobního faktoru práce a kapitálu bylo oddě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kce podnikatele se osamostatnila od vlastní výrobní činno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ývoj uplatňování stroj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ylepšením nástroj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zaměstnanec je zde stále nezastupite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ěžící výrobní pá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výrobní linky) - velko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měna v chování zákazní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ální požada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árůst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novení komplexnosti prác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lar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ri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umanizace prá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tváření týmů ( Švédsko, Němec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puteriza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íslicově řízené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myslový rob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cs-CZ" sz="3200" spc="-1" strike="noStrike">
                <a:solidFill>
                  <a:srgbClr val="003366"/>
                </a:solidFill>
                <a:latin typeface="Arial"/>
                <a:ea typeface="Arial"/>
              </a:rPr>
              <a:t>SPOLEČENSKÁ A ETICKÁ STRÁNKA PRÁ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led na práci v době industr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testantští purit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vinnost uložená člověku Bo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publik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výraz solidarity každého se vš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cialist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oslavování práce písně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ůst životní úrovn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st atraktivity volného ča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stindustriální období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ce výše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zevírání nůžek mezi chudými a bohatý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8:47:10Z</dcterms:created>
  <dc:creator>Janicka</dc:creator>
  <dc:description/>
  <dc:language>en-US</dc:language>
  <cp:lastModifiedBy>Janicka</cp:lastModifiedBy>
  <dcterms:modified xsi:type="dcterms:W3CDTF">2006-10-27T18:59:04Z</dcterms:modified>
  <cp:revision>1</cp:revision>
  <dc:subject/>
  <dc:title> Proměny práce </dc:title>
</cp:coreProperties>
</file>