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657-A8E7-438C-A350-EFB6E029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5C6-22A3-4F1F-8C68-C5D8822F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9AC-F8F4-408C-95FF-4C1CA17B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EFC-734F-4779-8803-CDC3580D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C8EF-A1D4-4657-93CE-F84A012C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AF93-53AE-48C5-9F93-E177DD5A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2E1D-C520-413B-96C1-D40461F1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C423-90D3-44A7-923F-74C50006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6AE2-6CB3-42B6-A313-EEA2A170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F9A6-CC33-437E-92C3-AB5DB54B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666F-D758-4327-BCA4-8B8BA52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83F-5B64-4B63-BDD3-240D99FC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E884-4A87-47C7-9EB3-27B54B3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6F8A-CAC0-4E1D-AB69-37B37B67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13E4-7ADA-4D6B-A22D-A2591285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5990-425E-4890-A93F-FB73E8C1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D96E-CE85-4E64-AA8B-59C810DF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B7B-9228-40E0-8CBB-66CC70E3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80B-5B49-4A6A-9D5E-68A9A0C6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2B8-94D7-4A0A-AE95-02D3247B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C60-C8BE-4BCA-8A12-D9A9ED75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5D5-571D-4235-87FE-0B7785BB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DBC-2DD4-490A-8D7B-5F8B7F0A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497-B547-4712-B870-326212EE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19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CA59-3B5E-4884-8688-C421D4A7C9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8191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876920" y="59436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92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230C-EE8A-4FB7-9764-A8175F110E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cf7ff"/>
                </a:solidFill>
                <a:latin typeface="Arial Black"/>
              </a:rPr>
              <a:t>Superzápas zítřka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6200" y="25909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ivilizační vlny – charakteristika, vzájemné vztahy a stř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530064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offler, A.; Tofflerová, H.: Nová civilizace – Třetí vlna a její důsled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ich, R.B.: Dílo náro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üller, Z.: Svaté války a civilizační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Děkujeme za pozornos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Vývoj a historie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zdělení (A.Toffl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vní vlna – pre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8000 př.n.l., trvání v řádech tisíciletí, hlavní podstata zeměděl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Druhá vlna – industriální společnost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ec 17. století, trvání v řádech stovek let,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ůmysl, mecha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Třetí vlna – post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polovina 20. století, dekády?, informace, znalosti, high-tech,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Proč vlna?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8000" y="1142640"/>
            <a:ext cx="403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de o skok, ale o plynulý přechod od jedné společnosti k dru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em se energie vlny vyčerpá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a třetí vlna se prolínají – střet vln =&gt; střet civiliz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První vlna (v kostc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zemědě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ty, decentralizované hospodářství založené na vlastnictví půdy, hierarchie ve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ádná nebo jednoduchá dělba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existence trhu =&gt; výroba pro vlastní spotřebu =&gt; minimum smě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iž zcela odezněla (výjimkou jsou kmeny v pralesech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cf7ff"/>
                </a:solidFill>
                <a:latin typeface="Arial Black"/>
              </a:rPr>
              <a:t>Druhá vlna – industriální společnost</a:t>
            </a:r>
            <a:endParaRPr b="0" lang="en-US" sz="30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várny, želez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chanizace a synchronizace výr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ělba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utomob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sová výr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spotřební (konzumní)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nik civilizační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aleka není ukonč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751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Střet první a druhé vlny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čanská válka v USA &lt;= boj mezi industriálním Severem a zemědělským Jihem a další vojenské konfli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ponsko - reformy Meid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tvy“ mezi průmyslníky a obchodníky proti vlastníkům půdy (círke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sledky pro jednotlivce - změna pojetí rodiny a nutnost dojíždění za p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lonie – industriální mocnosti dobývají nová ložiska surovin – kol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Informační společnost – třetí vlna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kles významu přírodních zdrojů a surovin vů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formace jako produ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minance sektoru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va skryté výrobní fak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Poznatky 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experti, týmy, know-how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dělání, rozvoj manage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Čas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třeba bleskové komunikace, IT, správa firemních sítí a komunikačních kaná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ovský význam a vliv médi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948360" y="1628640"/>
            <a:ext cx="1638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Konflikt! 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. Huntington: „…střet Islámu a Západu, nebo Západu a zbytku světa?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ar on Terror, boj s extrémistickými skupinami a hnutí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t zájmů zemí 3. vlny se zeměmi 1. a 2. vl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strukturalizace – problém nezaměstn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un výroby na výc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zba ekologické b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 sociálních propastí – rozdíly mezi bohatými a chudý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Budoucnost – co bude? (diskuz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Toffler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voluční premi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„Budoucnost plná otřesů, turbulencí, vln násilí -&gt; postupná transformace způsobu našich životů, práce i myšlení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migrace (přistěhovalc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kotero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islost na výpočetní tech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litické, kulturní a náboženské rozep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&gt; Čtvrtá vl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1:49:04Z</dcterms:created>
  <dc:creator>CIKT</dc:creator>
  <dc:description/>
  <cp:keywords/>
  <dc:language>en-US</dc:language>
  <cp:lastModifiedBy>Franta Konopásek</cp:lastModifiedBy>
  <dcterms:modified xsi:type="dcterms:W3CDTF">2006-10-04T15:17:32Z</dcterms:modified>
  <cp:revision>18</cp:revision>
  <dc:subject/>
  <dc:title>Civilizační vl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81033</vt:lpwstr>
  </property>
</Properties>
</file>