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7B2-9412-445B-8D4F-4366B647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E3EB-C7FD-48D2-986D-73013D4F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6B6-9E86-4EB4-9050-2CF45133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3C2-670E-4E7F-9A8B-9CE9B651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E3E5-D93D-463B-B502-56D8C998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27E1-CD45-455F-8C20-46754CC1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E2A2-EB09-4978-8F7A-68934995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4F0A-9F8A-47CC-B3B8-08B61998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806E-49D2-4CAE-AACC-4E0C3591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35A3-8EBA-4D6F-A7ED-E51A669A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2FC2-84A0-4AB9-9888-2FE15041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C218-7819-4660-B4F7-42A60B38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1DBA-CB72-466B-902C-648A1943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E8A7-832C-4CBA-95AF-6ED06A2B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D452-7544-44B9-9432-70840A7B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CFAC-B245-4F3A-B286-3C3230BB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0C0D-6B15-4C9E-8777-FAAC2804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5EF-A541-4AB3-BCD6-0631F745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AA9-219F-4914-9FE2-4D794D76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043-104B-4419-9FDB-880303C8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F17E-A4BD-4FBC-92C1-B6EFE448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4FDA-BD65-4FB7-8C06-C7299FD1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DB2-D86C-48ED-8B59-1D2B753E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F66-A3D1-4B6E-9650-C4014619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F391-D195-4647-AA73-7C0801E5FBA1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697D-0877-4743-A979-4B30F420389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8A5D-DA85-4621-B278-F0F2EB62F3DE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DDE1-B4D2-49B3-919E-CA747BC7E370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182844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Teorie 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ř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ízení jako v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ě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da o 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ř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ízení v technických, biologických a spole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enských systémech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343400" y="4114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eněk Mandov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ilan Sedláč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ukáš Schö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DA0A-67F9-4014-B70F-86B535AA63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mování systémových věd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30. léta – biologie, L. von Bertalanffy – obecná teorie systém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I. světová vál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50. léta – kyberne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60. léta - provoz automatizovaných informačních systémů v oblasti říze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523-AE0D-449F-887B-417FC9E803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ecná teorie systémů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Ludvig von Bertalanff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lečnost pro pokroky v obecné teor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dmětem teorie systémů je studium abstraktních systémů, které mají význam pro analýzu systémových vlastností libovolné konkrétní rea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ACBC-5FDA-4D9A-BF43-78FE85E554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ecná teorie systémů</a:t>
            </a:r>
            <a:r>
              <a:rPr b="1" lang="cs-CZ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ůvo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aložení nové vědy (Bertalanffy)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obecná tendence ke sjednocování různých přírodních 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společenských věd. Takové sjednocení může být předmětem zkoumání obecné teorie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ato teorie se může stát významným prostředkem formování exaktních teorií ve vědách o živé přírodě a společ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Rozvíjení sjednocujících principů, s nimiž se setkává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všech oblastech vědění, nás obecná teorie řízení přibližuje k dosažení cíle, a to vytvoření jednotné vě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Vše to může vést k jednotnosti vzděl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3BC5-A4BD-41DC-B951-C5CAF9178B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ecná teorie systémů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becn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sou obecné abstraktní modely systémových jev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áln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sou systémy definované na konkrétních reálných objektec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ké a dynamick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vrdé a měkk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A9C-CDBE-4468-85E0-97A97D6A9D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ybernetika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Norbert Wiene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Předmětem kybernetiky je zkoumání procesů řízení a zpracování informací v technických systémech i živých organismech a kolektivech skládajících se z živých organismů a technických systémů.“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4D2-7471-4BCE-85E7-E9BCCE6F83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ybernetik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ybernetický myšlenkový přístup se zaměřuje na zjišťování analogií mezi systémy z hlediska řídících procesů, které v nich probíhají.“ (Jančurová, 1998, s.52)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kladními pojmy kybernetiky jsou řízení a informa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DBE-24EB-4F45-9186-098B30958A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Dělení kybernetik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eoretická kybernetik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á kybernetika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bernetické aplik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C77-BB1A-4483-9F56-2D185D1765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42840" y="1371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Děkujeme za pozornos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2D4-CBC1-451A-86F1-9DBFEF9CC3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UŽITÁ LITERATURA: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ASHBY, W.R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Kybernetika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Praha: Orbis, 196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BLAŽEK, L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Management II - průvodce studiem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Masarykova univerzita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HABR, J. - VEPŘEK, J. :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Systémová analýza a syntéz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. Praha: SNTL, 19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HÁLEK, I. A KOL. :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Systémy řízení – sylabus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Masarykova univerzita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JANČAROVÁ, V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Úvod do systémových věd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Praha: Vysoká škola ekonomická, 1998. ISBN 8O – 7079 – 933 –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ČEK, J. :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ody systémového inženýrství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ha: SNTL, 1984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646-6577-4F04-B1DD-24A3C865AE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Systém a řízení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é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e výraz odvozený z řeckého slova "syn" , které v překladu znamená dohromady, a slova "histemi" – sestavov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. von Bertalanffyho: „ Systém je komplex prvků nacházejících se ve vzájemné interakci. 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ní defini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systém považujeme složitý reálný nebo abstraktní objekt, v němž rozlišujeme části, vztahy mezi nimi, vlastnosti. Vůči okolí vystupuje systém jako celek. Části systému jsou ve vzájemné interakci a integrují se i se systémem jako celkem. Označujeme je jako prvky systému a vztahy mezi nimi nazýváme vazbami systému. “ (Habr, 1986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8AD-2270-4A72-AAF4-F476F51EE0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"/>
              </a:rPr>
              <a:t>Z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ákladní typy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systé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</a:rPr>
              <a:t>mů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zavřený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- vztah k okolí není definován, systém nemá hraniční prvk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lativně uzavřený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- jsou přesně definovány jak vztahy, kterými je systém z okolí ovlivňován, tak vztahy, kterými systém okolí ovlivňu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tevřený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- jsou uvažovány všechny možné účinky okolí na systém a naopa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A96E-80C4-42B1-8A59-3B111C9828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Řízení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Říz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ředstavuje vědomé působení na systém, které vymezuje cíle systému a s využitím zpětných vazeb působí na systém tak, aby těchto cílů bylo dosahováno.“ ( Jančarová, 1998, s. 136 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8CD-BA9A-4974-BBC2-95C959C751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Vývoj vědy o řízení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Řízení v technických systémech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asický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smu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hrnoval pojem celku, který se úplně rovnal součtu svých částí, který mohl běžet pozpátku a který by se choval přesně tímtéž způsobem bez ohledu na to, jak často byly ony díly rozebírány a zase dávány dohromady, a bez ohledu na sled, v kterém by k tomuto rozebírání a novému skládání docházelo. “ ( Deutsch, 1971, s. 93 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C3C-C77B-42E2-9518-5B355373C6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Řízení v biologických systémech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smus je v devatenáctém nahrazen pojmem „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smu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, který se stal novým východiskem nejen v biologii, ale i ve společenských vědách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ganismus se nedá analyzovat, alespoň v některých svých podstatných částech. Nemůže být rozebrán a zase beze škody složen dohromady. Každá část klasického organismu, pokud vůbec může být identifikována, obsahuje ve své struktuře t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láštní funkci, která ji byla přidělena. Zpravidla nemohou být tyto části použity pro žádné jiné funkce, aniž by se organismus zničil.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A32-CC4B-4204-82F1-1285C99917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Řízení ve 20. století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větové vál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voj v oblasti komunikační a výpočetní techni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nové 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dy, které oz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ujeme jako systémov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ystémov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dní disciplíny a systémový přístu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9A0-230D-4E25-BB3C-D3AFD4F0F7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685800" y="457200"/>
            <a:ext cx="8076960" cy="6019920"/>
            <a:chOff x="685800" y="457200"/>
            <a:chExt cx="8076960" cy="6019920"/>
          </a:xfrm>
        </p:grpSpPr>
        <p:sp>
          <p:nvSpPr>
            <p:cNvPr id="100" name=""/>
            <p:cNvSpPr/>
            <p:nvPr/>
          </p:nvSpPr>
          <p:spPr>
            <a:xfrm>
              <a:off x="2919240" y="457200"/>
              <a:ext cx="2061720" cy="42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</a:rPr>
                <a:t>Systémová vě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1176480"/>
              <a:ext cx="15458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</a:rPr>
                <a:t>Systémové teori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97920" y="1176480"/>
              <a:ext cx="154620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</a:rPr>
                <a:t>Systémové aplik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15760" y="2891880"/>
              <a:ext cx="1717920" cy="42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Kybernetik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87840" y="2036520"/>
              <a:ext cx="137412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Obecná  teorie systémů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6280" y="1749960"/>
              <a:ext cx="0" cy="1431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76280" y="2323080"/>
              <a:ext cx="514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76280" y="3182040"/>
              <a:ext cx="342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35960" y="1462680"/>
              <a:ext cx="326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54960" y="889920"/>
              <a:ext cx="0" cy="572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3120" y="1892880"/>
              <a:ext cx="1545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Systémová analýz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73120" y="2895840"/>
              <a:ext cx="1545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Systémové inženýrstv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73120" y="3755880"/>
              <a:ext cx="15458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Operační výzku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73120" y="5904360"/>
              <a:ext cx="15458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Jiné aplika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3120" y="4615200"/>
              <a:ext cx="18896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Systémové programován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89480" y="1749960"/>
              <a:ext cx="0" cy="444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89480" y="619056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89480" y="490140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89480" y="404208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89480" y="318204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89480" y="217908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424-B383-46E6-B36B-D6FDE71BA5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Systémový přístup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émový přístu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udeme považovat způsob myšlení, způsob řešení problému a či způsob jednání, při němž jsou jevy chápány komplexně ve svých vnitřních a vnějších souvislostech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předpokládá existenci speciálních metod, formálního aparátu a technických prostředků pro práci se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8C88-582C-4557-ABB0-4BD1719368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deněk Mandovec</cp:lastModifiedBy>
  <dcterms:modified xsi:type="dcterms:W3CDTF">2006-10-02T19:57:03Z</dcterms:modified>
  <cp:revision>2</cp:revision>
  <dc:subject/>
  <dc:title>Prezentace aplikace PowerPoint</dc:title>
</cp:coreProperties>
</file>