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4711-693D-4F47-8BD2-F1DB11C9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3316-0863-4FF2-A485-DAAEB5E9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48A9-43C7-4B1D-9565-1D994AC3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EF65-8D85-4F04-AE83-69397EB1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A88E-04C0-43D2-9753-243D8182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9EEA-E440-40C3-B0E4-51DBB3FF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35BF-E628-4BC8-AD66-E5FBD562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977A-07A8-406C-A2E3-AE95167F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DFBD-18F6-47BB-A082-3B5C01E0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2E9D-C6E6-406D-A673-804A8273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D8C9-1777-4A83-9B46-87D6247D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FBA1-240C-458D-A061-CAB12269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723E-B48E-473C-A0BF-A9F93153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C0E2-D52D-4CF2-B3DA-E65E07ED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DCBF-FD82-4C02-87F9-A8A849DB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9632-707A-4E4B-A497-2CB69DAC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5DD8-0E74-4F00-A8F9-8A24A760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EB5E-8674-43BA-A488-3E333147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D4D6-1EC9-4B27-B83B-8DAD0B06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4696-4D23-4FA5-8BF0-D4E10F86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2713-A504-4986-822F-2137099A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6AE2-0835-472D-9746-9B346E09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1A09-27A2-41A3-8568-074AB93A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AA38-FA31-42DA-8577-69767F1C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0B6B-BC96-4274-BD7E-0979515EF4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C594-9CC3-4741-92BD-58E05C715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ostindustriální společnos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seková, Havránek, Holek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1. seminární skupina - 2. tý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voj společenských struktu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 postindustriální společnosti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aky přechodu od industriální k postindustriální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ývoj společenských struktu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dindustriální „agrární“ společnost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dustriální společnost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tindustriální „informační“ spol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Vznik postindustriální společnost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. léta – poprvé se objevuje pojem postindustriální společnos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6 – zlomový rok v US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rozvojem IT nahrazeno pojmem informač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Znaky přechodu od industriální k postindustriální společnost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ůvodní znaky nástupu nové ér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Ekonomik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ční společnost a společnost vědě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nosy a nedostatky postindustriální společnos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7:22:57Z</dcterms:created>
  <dc:creator>Radek</dc:creator>
  <dc:description/>
  <dc:language>en-US</dc:language>
  <cp:lastModifiedBy>Radek</cp:lastModifiedBy>
  <dcterms:modified xsi:type="dcterms:W3CDTF">2006-10-23T21:34:44Z</dcterms:modified>
  <cp:revision>6</cp:revision>
  <dc:subject/>
  <dc:title> Postindustriální společnost</dc:title>
</cp:coreProperties>
</file>