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815-2E67-4895-B7A1-7ED801A7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C0D-A58A-4510-9470-D8EAF9E6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01D-4309-4985-AEEF-ACE4A749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46C-A511-4A5D-A282-F2B34367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5121-1DF3-481A-A243-18874BC7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7319-776D-4CB4-B99A-B042B9D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85B3-EDB4-43F9-8069-A12E3DBF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200A-4EA8-46C4-A59D-03BEBEC5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202B-376D-49AB-9BA6-8AB2941E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8964-C35E-4AA8-B7F2-72DD1D06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3353-23B1-4BCE-A349-CB1EFC7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908-5B67-445B-A380-FF78FD4E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6D9C-EE29-4CF9-933D-F73145F6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2F7D-FC92-426A-9B99-BEE9251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C73E-973D-45EF-8B87-4C5D03DC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05ED-C2CE-4072-9214-9F5B1FE5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FB56-474B-492A-A4AF-DC47E90B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4B4-3D1A-4532-9544-6A014D09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EF2-B7C7-4634-B6DD-9E1CC3EA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4B2-EE81-445C-ABED-E223D7AE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8C5-3ED7-4B7B-ABE5-E40D9505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381-2578-4301-B802-FAE5953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EC01-F66B-49E1-AF8B-DA2D497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008-4FEC-46DA-9ED6-33E16A3D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1D4F-6E13-4C48-8883-5614B102763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AB62-1B4D-4476-8DDD-287429224A31}" type="slidenum"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3860280"/>
            <a:ext cx="6697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7c5b5"/>
                </a:solidFill>
                <a:latin typeface="Verdana"/>
              </a:rPr>
              <a:t>Proměny práce a jejich vliv na soudobou společnost</a:t>
            </a: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       </a:t>
            </a:r>
            <a:r>
              <a:rPr b="0" lang="cs-CZ" sz="1600" spc="-1" strike="noStrike">
                <a:solidFill>
                  <a:srgbClr val="d7c5b5"/>
                </a:solidFill>
                <a:latin typeface="Verdana"/>
              </a:rPr>
              <a:t>Mandovec Zdeněk, Sedláček Milan, Schön Lukáš</a:t>
            </a:r>
            <a:endParaRPr b="0" lang="en-US" sz="16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Proměny práce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5720" y="1916280"/>
            <a:ext cx="7236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Rukodělná výr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Human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omputer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Soudobá společnost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989000"/>
            <a:ext cx="72360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áce opět komplexní, poměr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náročnou na kreativ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yšší příj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Konkurence  -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ovace  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tenzivnější prá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R.B.Reich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588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vznést z chudob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Vzděl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dnik vs. Zaměstnane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racovní místa přívětivá vůči rodině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říspěvky - zdravotní péče, důcho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Investice do lidského kapitál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artnerství se svými zaměstnanci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15920"/>
            <a:ext cx="1009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ť je nová ekonomika jakko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nosná, neztrácíme kvůli ní určité stránky svého života – rodinný život, přátelství, pocit společenství …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Za pozornost děkuj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23560"/>
            <a:ext cx="72360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dovec Zden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edláček Mi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chön Luká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4400640"/>
            <a:ext cx="7634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užitá literatu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BLAŽEK, L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Management II - průvodce studiem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Masarykova univerzita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ICH, A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Etika hospodářství. 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Sv.II. Praha: OIKOYMENH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4:42:57Z</dcterms:created>
  <dc:creator>Lukáš Schön</dc:creator>
  <dc:description/>
  <cp:keywords/>
  <dc:language>en-US</dc:language>
  <cp:lastModifiedBy>Lukáš Schön</cp:lastModifiedBy>
  <dcterms:modified xsi:type="dcterms:W3CDTF">2006-10-23T18:16:43Z</dcterms:modified>
  <cp:revision>10</cp:revision>
  <dc:subject/>
  <dc:title>Proměny práce a jejich vliv na soudobou společnos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29</vt:lpwstr>
  </property>
</Properties>
</file>