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9C85-B875-4DAD-9207-44935F90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57ED-C30A-4A3A-9F2A-5EBA78CA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3FEB-CA99-412B-8EF1-1E1EFCD1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D78DA-E255-47CD-BE0C-E0C92DBE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B169-5C5C-4C3D-82D2-3A180A96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F6FA-5B19-4D44-9144-E218352B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27AC-05A9-4100-AAB4-2E30C085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380E-E388-4B2E-85DE-BE9840D1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344-EB94-422B-8742-6BB5873A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F6D6-D1A5-453D-AB1B-BC4E1AD9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3FDF-5464-4A17-A148-08659901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CF88A-9462-4F51-B9CD-79376FD8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329F-7693-45A6-A73F-171462A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31C9-1852-4FD7-8731-3232F44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5ED0-59FA-4C27-8A54-7F4D10AA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2394-F08A-451E-B2A3-329C4534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EB50-589E-454C-A870-43B66248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16AA6-FCA8-49AC-9329-9F08FEBA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4E6C7-F2C5-4E5B-8447-7DC3B33D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D13B1-B096-4F63-95DF-242E82D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169D2-41B8-44E2-89E9-7E0742BF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C1284-D75D-493A-B5BE-8D2D7DE1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821C-074C-4343-BB33-2E914DF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3BC8C-98F4-414C-8691-5044DD88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39A96-D372-43F6-8B0A-41842863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74CFE-4ACB-462A-A7F7-37CAEAD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31146-990E-42F9-84B5-AB254220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DCF82-60F1-4E47-989B-2D222753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1E16F-C92B-4CB4-80C0-7CCF944B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A3392-2BF5-4CD0-A3F0-ABC5EFC5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F00C-5504-4B74-823F-AE6AF18D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AE65D-EDDD-4A53-BDCB-1352A5FC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23C78-3AE3-4EF3-80BE-818C6077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C0304-561F-4A7C-9C21-98945D4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3F646-73B0-4505-802B-D8BB3711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1096-5187-4F5D-9D96-604B5B23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B413-F9FD-498D-82F0-9D856C0D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1CC60-AEA0-42FA-9A6B-B3ECD74D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45282-6B09-4A22-B5CF-860DD1A4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C1AE-EC4F-4ADF-BD63-BA52BD47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B836C-D09A-4A1A-9538-005B10DA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A2946-04EE-4FA4-9EED-F1039A61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FC48-1B65-420F-89F6-C1F53768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0381-8858-4E91-BA59-51A4543E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405D-0A9A-4FB0-BCD3-F43DDE79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20B6B-3577-44F0-B9AB-87412BF3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B6587-F599-4332-BF4A-0C773461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745E-5239-4BBD-B2F0-C7DDFB5A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DF370-46C4-45C6-80E4-A8BE3006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0F1C-BAC5-4AD7-8683-55D74574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ED2D5-DBC9-4687-A530-C531DE3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47DD2-B99B-4303-ACA1-8C1244C7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D26D-8118-42D9-BE0B-6596A8C4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51184-E4A7-436E-907E-9CE1632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C2B0-DF26-4F6D-B448-CC05185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F8F4-635F-4349-B59D-B1A75757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6D42B-3C9B-4B73-9A4F-B10E154B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4E2C-0D52-4FFE-9C7A-59AC4F8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FEA3-0866-481C-A59C-9CD5A75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173B-F274-4400-A5E3-A1A3BAA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4DFB-BEA2-4FA3-92ED-33666E44A4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F22-BE6E-48A5-8E5B-C008CAB17B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C72-0039-402E-8EEC-1EC7C4D84D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2419-1F6A-417D-B52B-33FE4064BD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43B-CC40-4F7D-9BA1-CE834335C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Toffler </a:t>
            </a:r>
            <a:r>
              <a:rPr b="1" i="1" lang="cs-CZ" sz="2500" spc="-1" strike="noStrike">
                <a:solidFill>
                  <a:srgbClr val="ffffcc"/>
                </a:solidFill>
                <a:latin typeface="Garamond"/>
              </a:rPr>
              <a:t>vs.</a:t>
            </a: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 McDonald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3280" y="3938400"/>
            <a:ext cx="404352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pracoval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2900520" cy="435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352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Ú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Tofflerovy vln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1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2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3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751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3. vl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robní fak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hmotn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demasifik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ov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ěřítk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rganiz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ystémová integr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frastruk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zrychl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92840" y="1628640"/>
            <a:ext cx="3348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4400" spc="-1" strike="noStrike">
                <a:solidFill>
                  <a:srgbClr val="000000"/>
                </a:solidFill>
                <a:latin typeface="Garamond"/>
              </a:rPr>
              <a:t>McDonald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550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charakteristika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lav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ypočita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ředpově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iracionalita rac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726160" y="2422440"/>
            <a:ext cx="2663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Zamyšlen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egmentace x unifikace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počitatelnost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iracionalita racionality, prostor pro inovace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udoucnost franšíz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140360" y="2135160"/>
            <a:ext cx="2912760" cy="2913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rot="444000">
            <a:off x="6948000" y="836640"/>
            <a:ext cx="1627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e5e5ff"/>
                </a:solidFill>
                <a:latin typeface="Garamond"/>
              </a:rPr>
              <a:t>Děkujeme za pozornost…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Nová civilizace (Třetí vlna a její důsledky)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2001, Nakladatelství Dokořán, 125 s., ISBN 80-86569-00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tzer, G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1996, Academia, 176 s., ISBN 80-20005-7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3:13Z</dcterms:created>
  <dc:creator>Jana Skvarilova</dc:creator>
  <dc:description/>
  <dc:language>en-US</dc:language>
  <cp:lastModifiedBy>Jana Skvarilova</cp:lastModifiedBy>
  <dcterms:modified xsi:type="dcterms:W3CDTF">2006-10-16T11:56:07Z</dcterms:modified>
  <cp:revision>33</cp:revision>
  <dc:subject/>
  <dc:title>Snímek 1</dc:title>
</cp:coreProperties>
</file>