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E14-B458-4D38-B37B-9E114992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195-CB1B-49F9-A756-1EBC58B3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ADA-8853-4E91-AFBD-EE0BA637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037-ADC5-4A2D-9A81-E8A4FC6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BD4-A363-4E3C-9B7C-B3393D64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A3FF-6A5D-4E74-A0C4-FEB0AB6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8C89-3D61-419F-9916-F4642A00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762B-01A9-4321-B954-0FA03F9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2C6E-5F99-4723-91FE-565EB871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840-1375-43C3-B130-3CA1B0F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61A5-F311-4FD1-BAA2-70ABDAB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B94-32AF-4B92-B6E9-B8A4546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555F-0B46-4EA8-A53C-B0EF3ED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5FE-49A1-4DC3-B200-080E6992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4D3-C1CD-4437-BF70-AE839363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867-2BFE-4DEC-A45A-BA62038D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39CD-549C-4550-82AF-B9F52810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F47-50C4-4C50-8F86-C134036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7E6-E982-4ABF-992F-900AA3A9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9C6-05B4-495F-B55C-710ABB1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30C-E4D1-4B2F-861C-1555744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025-18FC-49B9-9023-16C5634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7F26-195F-4589-8564-2520685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AA8-84D2-43D1-8A96-27BD8B7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7E3-92A2-4162-898C-5A440E55AD2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FF5-D099-4B27-AACF-E0522743857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e vývoji společenských systémů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595008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Friedrich August von Hayek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stém tržní koordinace je jedinečný, v rozvinuté společnosti velmi křehký a složitý – tržní mechanismus (nemůže být nahrazen žádným plánování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yž se stát rozhodne centrálně sledovat jakýkoli cíl, nutně omezuje svobodu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čenské procesy jsou výsledkem zcela spontánního jednání jednotlivců, kteří sledují své vlastní záj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orie spontánního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John Maynard Keyn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oblasti ekonomické aktivity, v nichž hraje soukromý sektor hlavní roli a do nichž by stát neměl zasahovat, přičemž existují i oblasti, v nichž stát operuje lépe než soukromý s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viditelná ruka trhu“ by měla být doplněna „viditelnou rukou stát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 tržních ekonomiká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h: Friedman vs. Key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loha „malé vlády“ (Friedm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o plnou zaměstnanost (Key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eužívání státních zásahů zájmovými skupinami (např. ČMK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rozba pro demokracii podle Fried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přirozenou soutěž názorových proudů (a rozvíjí tradic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Úloha vlády v CP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tailní centrální plán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ítá tra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připouští evoluční výv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e k extrémism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 existuje jen v omezené mí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stává se do rozporu s přirozeným řádem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ede k nerespektování řádu uměl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lé dějiny ekonomického myšl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D.Brožová, VŠE Praha, Praha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agement II, Průvodce studiem, Brno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oboda vol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želé Friedmanovi, LI Praha 199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rávo, zákonodárství a svob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Ha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sudná domýšlivost, omyly socialis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 Hayek, SLON, Praha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.M.Keynes a současná ekonom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ilan Sojka, Grada Publishing 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oluce vedoucí k vytváření řádů ve společnosti, navazující na odkaz Adama Smit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vodní evoluční teori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rozen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síly přír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ěl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člověk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ád“ podle Hay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vedlejší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ý x uměl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podílející se na spontánním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 pojetí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jako specifická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Historický vývoj politického vlivu na společenský systém</a:t>
            </a:r>
            <a:br>
              <a:rPr sz="4000"/>
            </a:b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laton  X  Aristotel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je realizací ideje spravedlnosti, která se uplatňuje ve všem a u vš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ři tří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jen pro 3. třídu – potřebovali ho k výrobě a směně zbož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rozená spravedlnost – to co člověk potřebuje k přeži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– garant této spravedlnosti a práva na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mokracie s otroctv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a větší svoboda při zacházení s 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Merkantilisté   X   Filozofové přirozených</a:t>
            </a:r>
            <a:br>
              <a:rPr sz="2800"/>
            </a:b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    zákonů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á koloniální expa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ná instituce s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 růstu národního bohatství – zahraniční obchod (aktivní obchodní bil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atní národy považovány za soupeř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ichard II., Thomas M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o na život, právo na svobodu a právo na vlastnic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mezení lidské svobody pouze z důvodu ochrany této svobody samot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antitativní teorie peně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ohn Locke, David H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Adam Smit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spodářství má svůj přirozený řád a řídí se přirozenými zák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viditelná ruka trh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soulad sobeckého individuálního zájmu se zájmem společensk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ocesu konkurence každý výrobce poznává, že nejvýhodnější je uspokojovat potřeby druhých a přes uspokojování potřeb druhých pak vede cesta k uspokojení potřeb vlastn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Karl Heinrich Marx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ská společnost se neustále mění a vyvíjí – proto nemohou existovat žádné přirozené zákony, které by byly platné jednou provždy ani žádný společensk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 má odpovědnost za uspořádání společnosti a musí hrát významnou roli v životě společnosti i v národním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43:52Z</dcterms:created>
  <dc:creator>CIKT</dc:creator>
  <dc:description/>
  <cp:keywords/>
  <dc:language>en-US</dc:language>
  <cp:lastModifiedBy>CIKT</cp:lastModifiedBy>
  <dcterms:modified xsi:type="dcterms:W3CDTF">2006-10-03T08:44:45Z</dcterms:modified>
  <cp:revision>10</cp:revision>
  <dc:subject/>
  <dc:title>Úloha vlády ve vývoji společenských systém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