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C34-39EB-49AC-B75B-3BE79C90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360-FB96-4C37-B480-501CBF9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F28-5FEC-40B4-9AFF-103DEF3C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42E-A70C-4AAF-BF87-495DF46C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7D8D-557C-412B-BC6A-A32423B5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E9F7-0DE9-49D2-890D-A42A37A4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9250-DC92-46B9-BA23-D763FC4B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A135-6940-4E54-958E-D70860BD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E0AD-2E51-4165-B494-78EE9B00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59AD-C455-4AEA-8EB5-B11839A2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43A1-ABA7-431D-8AB8-624B9F60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E14-C557-4CFE-88C0-ADAF0B2F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E6B2-49C0-4FFD-B16C-94A4EE9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08BD-CE0B-4F87-B34A-E5CF44C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0A41-1443-4BA3-AC62-AD7D430A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2C5B-C2CC-468B-AC5A-90A0361E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40F3-3248-4372-9E34-D4BA2A39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275-12D0-43F3-9FC9-400E1B0D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09C-227C-4E7C-8F0E-77AFD888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F1D-5B9F-461D-B0D2-9C1F92C1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816-3BA5-41D2-8C58-07D81522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CE5-FCEA-4419-B1F4-6E3100F8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983-04C6-401F-B694-7600C8D5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D28-6B71-4B9F-A7EC-99E0CD1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8B3B-91CB-45C7-ADF8-0A6FDB22699D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38D3-79A9-4811-95BC-6894CCC97361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p.zcu.cz/kursy/svt/svt_www/2_soubory/2_7.html" TargetMode="External"/><Relationship Id="rId2" Type="http://schemas.openxmlformats.org/officeDocument/2006/relationships/hyperlink" Target="http://www.kip.zcu.cz/kursy/svt/svt_www/2_soubory/2_7.html" TargetMode="External"/><Relationship Id="rId3" Type="http://schemas.openxmlformats.org/officeDocument/2006/relationships/hyperlink" Target="http://www.kip.zcu.cz/kursy/svt/svt_www/2_soubory/2_7.html" TargetMode="External"/><Relationship Id="rId4" Type="http://schemas.openxmlformats.org/officeDocument/2006/relationships/hyperlink" Target="http://www.kip.zcu.cz/kursy/svt/svt_www/2_soubory/2_7.html" TargetMode="External"/><Relationship Id="rId5" Type="http://schemas.openxmlformats.org/officeDocument/2006/relationships/hyperlink" Target="http://www.kip.zcu.cz/kursy/svt/svt_www/2_soubory/2_7.html" TargetMode="External"/><Relationship Id="rId6" Type="http://schemas.openxmlformats.org/officeDocument/2006/relationships/hyperlink" Target="http://www.kip.zcu.cz/kursy/svt/svt_www/2_soubory/2_7.html" TargetMode="External"/><Relationship Id="rId7" Type="http://schemas.openxmlformats.org/officeDocument/2006/relationships/hyperlink" Target="http://www.kip.zcu.cz/kursy/svt/svt_www/2_soubory/2_7.html" TargetMode="External"/><Relationship Id="rId8" Type="http://schemas.openxmlformats.org/officeDocument/2006/relationships/hyperlink" Target="http://www.kip.zcu.cz/kursy/svt/svt_www/2_soubory/2_7.html" TargetMode="External"/><Relationship Id="rId9" Type="http://schemas.openxmlformats.org/officeDocument/2006/relationships/hyperlink" Target="http://www.kip.zcu.cz/kursy/svt/svt_www/2_soubory/2_7.html" TargetMode="External"/><Relationship Id="rId10" Type="http://schemas.openxmlformats.org/officeDocument/2006/relationships/hyperlink" Target="http://www.kip.zcu.cz/kursy/svt/svt_www/2_soubory/2_7.html" TargetMode="External"/><Relationship Id="rId11" Type="http://schemas.openxmlformats.org/officeDocument/2006/relationships/hyperlink" Target="http://www.kip.zcu.cz/kursy/svt/svt_www/2_soubory/2_7.html" TargetMode="External"/><Relationship Id="rId12" Type="http://schemas.openxmlformats.org/officeDocument/2006/relationships/hyperlink" Target="http://www.kip.zcu.cz/kursy/svt/svt_www/2_soubory/2_7.html" TargetMode="External"/><Relationship Id="rId13" Type="http://schemas.openxmlformats.org/officeDocument/2006/relationships/hyperlink" Target="http://www.gis.zcu.cz/studium/dbg2/Materialy/html/ch09.html" TargetMode="External"/><Relationship Id="rId14" Type="http://schemas.openxmlformats.org/officeDocument/2006/relationships/hyperlink" Target="http://www.gis.zcu.cz/studium/dbg2/Materialy/html/ch09.html" TargetMode="External"/><Relationship Id="rId15" Type="http://schemas.openxmlformats.org/officeDocument/2006/relationships/hyperlink" Target="http://www.gis.zcu.cz/studium/dbg2/Materialy/html/ch09.html" TargetMode="External"/><Relationship Id="rId16" Type="http://schemas.openxmlformats.org/officeDocument/2006/relationships/hyperlink" Target="http://www.gis.zcu.cz/studium/dbg2/Materialy/html/ch09.html" TargetMode="External"/><Relationship Id="rId17" Type="http://schemas.openxmlformats.org/officeDocument/2006/relationships/hyperlink" Target="http://www.gis.zcu.cz/studium/dbg2/Materialy/html/ch09.html" TargetMode="External"/><Relationship Id="rId18" Type="http://schemas.openxmlformats.org/officeDocument/2006/relationships/hyperlink" Target="http://www.gis.zcu.cz/studium/dbg2/Materialy/html/ch09.html" TargetMode="External"/><Relationship Id="rId19" Type="http://schemas.openxmlformats.org/officeDocument/2006/relationships/hyperlink" Target="http://www.gis.zcu.cz/studium/dbg2/Materialy/html/ch09.html" TargetMode="External"/><Relationship Id="rId20" Type="http://schemas.openxmlformats.org/officeDocument/2006/relationships/hyperlink" Target="http://www.gis.zcu.cz/studium/dbg2/Materialy/html/ch09.html" TargetMode="External"/><Relationship Id="rId21" Type="http://schemas.openxmlformats.org/officeDocument/2006/relationships/hyperlink" Target="http://www.gis.zcu.cz/studium/dbg2/Materialy/html/ch09.html" TargetMode="External"/><Relationship Id="rId22" Type="http://schemas.openxmlformats.org/officeDocument/2006/relationships/hyperlink" Target="http://www.gis.zcu.cz/studium/dbg2/Materialy/html/ch09.html" TargetMode="External"/><Relationship Id="rId23" Type="http://schemas.openxmlformats.org/officeDocument/2006/relationships/hyperlink" Target="http://www.miras.cz/seminarky/word/mie01-trhy.doc" TargetMode="External"/><Relationship Id="rId24" Type="http://schemas.openxmlformats.org/officeDocument/2006/relationships/hyperlink" Target="http://www.miras.cz/seminarky/word/mie01-trhy.doc" TargetMode="External"/><Relationship Id="rId25" Type="http://schemas.openxmlformats.org/officeDocument/2006/relationships/hyperlink" Target="http://www.miras.cz/seminarky/word/mie01-trhy.doc" TargetMode="External"/><Relationship Id="rId26" Type="http://schemas.openxmlformats.org/officeDocument/2006/relationships/hyperlink" Target="http://www.miras.cz/seminarky/word/mie01-trhy.doc" TargetMode="External"/><Relationship Id="rId27" Type="http://schemas.openxmlformats.org/officeDocument/2006/relationships/hyperlink" Target="http://www.miras.cz/seminarky/word/mie01-trhy.doc" TargetMode="External"/><Relationship Id="rId28" Type="http://schemas.openxmlformats.org/officeDocument/2006/relationships/hyperlink" Target="http://www.miras.cz/seminarky/word/mie01-trhy.doc" TargetMode="External"/><Relationship Id="rId29" Type="http://schemas.openxmlformats.org/officeDocument/2006/relationships/hyperlink" Target="http://www.miras.cz/seminarky/word/mie01-trhy.doc" TargetMode="External"/><Relationship Id="rId30" Type="http://schemas.openxmlformats.org/officeDocument/2006/relationships/hyperlink" Target="http://www.miras.cz/seminarky/word/mie01-trhy.doc" TargetMode="External"/><Relationship Id="rId31" Type="http://schemas.openxmlformats.org/officeDocument/2006/relationships/hyperlink" Target="http://www.miras.cz/seminarky/word/mie01-trhy.doc" TargetMode="External"/><Relationship Id="rId32" Type="http://schemas.openxmlformats.org/officeDocument/2006/relationships/hyperlink" Target="http://www.miras.cz/seminarky/word/mie01-trhy.doc" TargetMode="External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ělba práce ve vývoji lidské společnost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Jana Eliáš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Martina Vaishar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urkheim, A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Společenská dělba práce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Brno: Centrum pro studium demokracie a kultury 200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KIP - Katedra managementu, inovací a projektů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, f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akulta ekonomická, Západočeská universita v Plzni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2001.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Dostupn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ý na</a:t>
            </a:r>
            <a:r>
              <a:rPr b="1" lang="cs-CZ" sz="2000" spc="-1" strike="noStrike">
                <a:solidFill>
                  <a:srgbClr val="eaeaea"/>
                </a:solidFill>
                <a:latin typeface="Arial CE"/>
              </a:rPr>
              <a:t>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2"/>
              </a:rPr>
              <a:t>kip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7"/>
              </a:rPr>
              <a:t>/kursy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8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0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1"/>
              </a:rPr>
              <a:t>_www/2_soubory/2_7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Čerb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O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Databázové systémy GIS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lze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ň 2004. 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3"/>
              </a:rPr>
              <a:t>http://www.gis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7"/>
              </a:rPr>
              <a:t>/studium/dbg2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8"/>
              </a:rPr>
              <a:t>Material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0"/>
              </a:rPr>
              <a:t>html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1"/>
              </a:rPr>
              <a:t>/ch09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Leblanc, M. Trh a základní elementy trhu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3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4"/>
              </a:rPr>
              <a:t>miras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7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8"/>
              </a:rPr>
              <a:t>seminark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0"/>
              </a:rPr>
              <a:t>word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1"/>
              </a:rPr>
              <a:t>/mie01-trhy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2"/>
              </a:rPr>
              <a:t>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Dělba práce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, ve kterém dochází 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stupnému osamostatň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dnotlivých druhů činností či operací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možňuje specializ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edpokládá kooper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DP – pravěk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 základě přirozených dispozic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muži X žen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olečenská DP – specializace při výrobě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ů (zemědělci X pastevci;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řemesla X obcho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pracovních operacích – technický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zvoj a specializace; výroba 1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u členěna na jednotlivé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acovní činnosti (Baťa, For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 DP – územní specializace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ch principech;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ákladě absolutní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arativní výh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a společenská DP (1. vlna) –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latňován jen v armádě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írkv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operacích (2. vlna) – prohlub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, specializac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yramidální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stmoderní společnost (3. vlna) –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ategické informační systémy, nižší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třeba středního managementu;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reengineering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Věk intensifikace kreativity – síťové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uktury, učící se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DP předpokládá kooperaci     změna integrace společnosti (globalizace) zásadně ovlivňuje mezinárodní D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 2.sv.v. přesun řízení a organizace z národní na mezinárodní úroveň (Ford, GM 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905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62520" y="3124080"/>
            <a:ext cx="2057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É JÁD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581280"/>
            <a:ext cx="28958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SEMI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038480"/>
            <a:ext cx="3276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časná podoba 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286000"/>
            <a:ext cx="19047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USA, západní Evropa, Japonsk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505320"/>
            <a:ext cx="17524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řední Evrop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800600"/>
            <a:ext cx="2057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jižní a jihovýchodní Asie, Jižní Amer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18" idx="1"/>
          </p:cNvCxnSpPr>
          <p:nvPr/>
        </p:nvCxnSpPr>
        <p:spPr>
          <a:xfrm>
            <a:off x="3123720" y="2641320"/>
            <a:ext cx="839160" cy="6865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3"/>
            <a:endCxn id="119" idx="1"/>
          </p:cNvCxnSpPr>
          <p:nvPr/>
        </p:nvCxnSpPr>
        <p:spPr>
          <a:xfrm>
            <a:off x="2971440" y="3708360"/>
            <a:ext cx="610200" cy="766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0"/>
            <a:endCxn id="120" idx="1"/>
          </p:cNvCxnSpPr>
          <p:nvPr/>
        </p:nvCxnSpPr>
        <p:spPr>
          <a:xfrm flipV="1">
            <a:off x="2247480" y="4241880"/>
            <a:ext cx="1105560" cy="559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858000" y="1981080"/>
            <a:ext cx="1676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ídlo a vedení společnost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124080"/>
            <a:ext cx="19051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ontážní a částečně výrobní provozy, vývojové a řídící kapac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952880"/>
            <a:ext cx="914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výrob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1"/>
            <a:endCxn id="118" idx="3"/>
          </p:cNvCxnSpPr>
          <p:nvPr/>
        </p:nvCxnSpPr>
        <p:spPr>
          <a:xfrm flipH="1">
            <a:off x="6019560" y="2336760"/>
            <a:ext cx="838800" cy="99144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9" idx="3"/>
          </p:cNvCxnSpPr>
          <p:nvPr/>
        </p:nvCxnSpPr>
        <p:spPr>
          <a:xfrm flipH="1">
            <a:off x="6476760" y="3784320"/>
            <a:ext cx="381600" cy="1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1"/>
            <a:endCxn id="120" idx="3"/>
          </p:cNvCxnSpPr>
          <p:nvPr/>
        </p:nvCxnSpPr>
        <p:spPr>
          <a:xfrm flipH="1" flipV="1">
            <a:off x="6628680" y="4241520"/>
            <a:ext cx="229320" cy="9151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Klady a zápory mezinárodní DP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aplikace nových moderních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ologií a výrobních postup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nárůst výrobních kapac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rozšíření počtu pracovních mí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lepšení obchodní bilance země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isky neinvestovány v místě vzniku x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řerozdělovány ze sídla spo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úniky na daní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1:05:31Z</dcterms:created>
  <dc:creator>lvaishar</dc:creator>
  <dc:description/>
  <dc:language>en-US</dc:language>
  <cp:lastModifiedBy>Hanka</cp:lastModifiedBy>
  <dcterms:modified xsi:type="dcterms:W3CDTF">2006-10-15T18:53:28Z</dcterms:modified>
  <cp:revision>22</cp:revision>
  <dc:subject/>
  <dc:title>Dělba práce a vývoj lidské společnosti</dc:title>
</cp:coreProperties>
</file>