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398-A75A-42F3-A455-9E35E8F8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125-637F-4670-90E4-552910B6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E32-4D59-429A-9DDC-22E62CD9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E3E-9642-4BF9-91B2-502B9DB4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A82-EFE0-4958-9623-20622EC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CEC8-7267-4CFD-B220-A0CFB28D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7AF5-3EA6-43EA-A853-22427F1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3C1-2DA8-4886-B9CE-8621CE78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80A6-C992-46EA-BA7D-5B5DC90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3F64-9F30-4BB8-84E6-19DD95A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E2BD-1824-4F5D-84FD-64E740C9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D74-B87A-4887-9AB8-C3652000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FC05-6CC2-49DE-BB24-13EF6E3E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43B5-9002-40BC-9782-84E2081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6128-721F-4D81-9B22-4EAA623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C1CE-80F0-4F9A-A155-88411D3E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4E4F-B365-4E13-841E-72CB0DE0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F92-72E3-47E0-A6D6-6CEBCC34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A5D-5AAD-47B1-983D-4B45C974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CE9-EF55-4645-A776-D042501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E30-FF1A-470D-9333-6B151336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82E-7112-419E-BFE1-A6BDBD9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BB3-5511-4FA1-82C9-526A32A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117-73A4-42E1-BC8B-6E74A0A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4F63-FD6E-4E0C-BEE7-A97B3465CB8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57A6-CB12-46B7-902F-44D7FCF661B1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e do předmětu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. Zbíral, J. Cahová, J. Fiš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oužitá literatu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.Rich: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Etika Hospodářství I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. Praha: Oikoymenh, 1994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jem etik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jem etika se odvozuje od řeckého slova ethos, které v původním významu znamená „obvyklé místo pobytu“. Ethos v abstraktním slova smyslu znamená zvyk, obyčej, později mravy. Poprvé u Sokrata nabyl jiný význam – místo navyklého konání význam co mám činit na základě rozumového vhle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mět eti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ředmětem etiky je člověk, respektive odpovědnost člověka v jednání s lidmi i se vším, co k bytí člověka patří. Člověk ke svému bytí svět potřebuje. Odpovědnost nelze omezovat jen na lidstvo, odpovědnost přesahuje do odpovědnosti kosmologick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je odpovědný nejen za zacházení s ostatními lidmi, ale i s přirozeným životním prostředím, které je základním předpokladem pro existenci všech tvorů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ale má dánu snahu o urvání všeho pro sebe, popřípadě pro svůj rod, zajištění budoucnosti sebe a několika nejbližších generací (v čase posun vnímání – dle našeho názoru přechod k vnímání budoucnosti více dlouhodobě – od 1 generace po generace cca 4 – samozřejmě INDIVIDUÁLN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nství nad nějakým člověkem narazí dříve či později na odpor a tím se vyjeví etická problematično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ato s panstvím nad věcmi se spojuje i právo věc zničit, nejen právo užívat a požívat plodů věci. Věci neživé - jedině obavy o možný nedostatek věci v budoucnu některým velí omezit spotřeb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 této souvislosti je třeba si uvědomit hranici vlastnictví – vlastní třeba jedinec, ale svým konáním může negativně ovlivňovat ostatní jedi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cionalita ekonomického jednání hovoří o maximalizaci užitku. A ten je individuální. Toto je možná klíčem k otázce co vede jedince k etickému jednání. Je to zřejmě  užitek, který z tohoto jednání mají. Chtění se zalíbit je jedním z významných motivů pro lidské jednání toho kterého druh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Etika podnikání asijských podniků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Lze se chovat tak, že ničí podnikání životní prostředí a argumentovat slabší ekonomikou (Japonsko? vs. Indi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Vývoj Japonska po 2. Světové válce založen na zpětném engineeringu, stejně tak dnešní Čína. Dle našeho názoru v takové situaci není vhodné aplikovat myšlenky volného trhu, naopak přísná cl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kud tedy jedinec či země jedná skutečně neeticky (co se podnikání týče), pak je nutné sledovat příčiny. Obvykle se jedná o snahu získat více pro sebe. Jediný způsob, jak tomuto zabránit je uvalení takových restriktivních opatření, které takové chování zbaví výhodnosti. Toto je možné zajistit legislativ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islativa skutečně některému neetickému jednání brání – např. klamavá reklama, tresty za podvod a dalš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 podnikání k širší e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Chování států jako sledování zájmu občanů nebo boj o mo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e správné trestat slabé a silné nikoli (Husajn a Bush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ak může jedinec toto řeši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č „svět“ toto neřeš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de jen o bohatstv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8:30:29Z</dcterms:created>
  <dc:creator>David</dc:creator>
  <dc:description/>
  <dc:language>en-US</dc:language>
  <cp:lastModifiedBy>Ondřej Částek</cp:lastModifiedBy>
  <dcterms:modified xsi:type="dcterms:W3CDTF">2006-11-23T08:58:23Z</dcterms:modified>
  <cp:revision>5</cp:revision>
  <dc:subject/>
  <dc:title>Etika podnikání</dc:title>
</cp:coreProperties>
</file>