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CCB8-E1D7-47B1-AD45-4ED46857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0290-77A0-4AE0-947E-AC162430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2DF9-1F77-4A06-A699-8ABB0E84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5A3F7-1D4C-4628-A242-6C84B3AE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63F9-5A68-4454-82E1-9CAE15DA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23EF-F375-42DE-8051-69CB29EA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DE4-B7CE-41D0-8C23-A16E5675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1EA8-13B8-4C8F-9952-3413AAAE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3E0D-DB22-45C0-B1DD-0D16036E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72F9-1589-4D35-A17B-7955ED1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C66B-0304-44B0-ABB0-DD8F113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EF4A-1737-45A2-9403-B6B31AA9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0668-C198-4FA7-9924-F4E2159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EDE5-311F-4AFC-BEA5-42A6DD8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0F73-9C53-4070-88E5-8492416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D2E9-B38C-4B5D-9997-E49D3DEB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ED82-5641-402A-B6CA-CB45B79A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79A0-4C5E-4DE8-873F-6609DC4C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76CD-E128-41F2-81D1-C6FE7EF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A39F-8FDA-4C55-A737-16651276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5494-B990-4AD7-B1B4-84FA7D26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8D7C-FBCA-44DE-B5B2-68C32901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10D6-9FE7-41F8-95E4-F3132F45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64FA-9DB1-4016-80F8-2A78AF8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6B46-91DC-47F0-9901-7D353F215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A0D1-746A-43F8-A875-E729B12C9B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CHARAKTERISTICKÉ RYS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A ZÁKLADNÍ PRINCIP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INDUSTRIÁLNÍ SPOLEČNOSTI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preindustriální společnosti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da představovala základ hospodářství, života, kultury, rodinné struktury a politik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spodářství bylo decentralizované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 výrobků byla omezená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vládala jednoduchá dělba prác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vod determinoval postavení člověka v životě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istovala přísně autoritářská pravomo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íčiny vzniku druhé vln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v Nového světa, růst počtu obyvatelstva, který povzbuzoval přesuny do měs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lesů, vedoucí k využívání uhlí → parní stroj → nebývalé možnosti rozšíření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šiřování vědeckých poznatků využitelných v technické praxi, rozvoj "industriálního" myšlení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nalezení knihtisku, růst gramotno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incipy industriální společnosti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ělby práce na základě speci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chroniz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izac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centr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dělení výroby od spotřeb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A◄►SPOTŘ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se stal expanzivní a samostatná instit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dělby práce, která směřovala k prudkému růstu její produktiv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, do té doby jen okrajový jev, se přesunula do ohniska děn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lba práce na základě speci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dělení výroby od spotřeby je první krok na cestě ke stále se prohlubující specializa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lověk Spotřebitel   X   Člověk výr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ynchron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ále hlubší dělba práce si vynutila též změnu způsobu, jakým lidé nakládali s čas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asová koordinace = Život většiny lidí běží podle jednotného rozvrhu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NIK MODERNÍHO MANAGMEN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tandard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lak na zefektivnění výrob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hází k sjednocen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zaříz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škol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oly a hodnoc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Garamond"/>
              </a:rPr>
              <a:t>management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oncentr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ůvo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ba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slede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středění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ovaných pracovníků do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voj mě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xim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příklad – automobilové závody v 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 je obrovské, je zároveň dynamické a dobře fungující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edlost rozvo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entr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alizace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un moc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zefektivňování činností jednotlivých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el typický pro industriální společno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nadstátních cel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gigantických podni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8f828"/>
                </a:solidFill>
                <a:latin typeface="Garamond"/>
              </a:rPr>
              <a:t>PRVNÍ VLN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Šok z budouc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Third Waw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198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Nová civilizace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Dokořán 2001. ISBN 80-86569-00-4.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a základní principy industriální společnosti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 p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átku lidstvo prochází kulturní evolucí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 350ti lety nástup idustriál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vývoj lid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é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 s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j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ž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és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de jsme prá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ď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bírá se naše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 správnou cestou?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va náz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ývoj bude probíhat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ro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n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yl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stavy zásadní odlišnosti budoucí civi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udoucí civilizace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ude z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ých principech fungová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ptimismus, víra v lepší zítř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esimistické očeká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litické krize, terorismus, globální konflik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ramatický růst populace, narůstající chudoba, vyčerpání přírodních zdrojů, ekologická hrozb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merický sociolog a publicista a. Toffler přichází s představou vývoje lidské společnosti v určitých vln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sledující vlna se prodírá na místo vlny předchoz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ůsobení těchto vln je koexistenč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ývoj lidské společnosti lze rozčlenit do třech vl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ost pre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in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vní vln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ináší preindustriální civilizaci -zemědělskou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ba trvání cca 10 000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8f828"/>
                </a:solidFill>
                <a:latin typeface="Garamond"/>
              </a:rPr>
              <a:t>DRUHÁ VLNA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nástup industriální společnost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04T20:45:34Z</dcterms:modified>
  <cp:revision>14</cp:revision>
  <dc:subject/>
  <dc:title>Druhá vlna  </dc:title>
</cp:coreProperties>
</file>