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391-3A0B-4303-8DC6-57FFBCB6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1E0-D30E-4BA8-8892-0DA56E12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0AE-93BA-414A-B9D0-F3853C2A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021-8D77-40D1-A000-C72F9A20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530-2D60-43C5-940B-6AC5CA33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E9A-49E5-4A90-9BC6-C48B9F67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B7F-2F35-48AC-8315-A4978533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D94-FDC9-4FB7-BD8C-DDD06679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F52-8EF2-47FE-B0BE-6F84B8F2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FE2-71CE-4DF1-A8C4-E2D8F2F0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A5E-2076-4D70-9627-12687F50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A35-B06F-461F-A3B3-3B42A088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2F13-0BB3-4757-A5A4-759924A34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žerská etika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větlá a Temná strana e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302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racov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Gaw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nka Říh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na Škvaři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457880" cy="33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097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ezená e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ropská etika a člo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ropská etika a příro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51280" y="2036880"/>
            <a:ext cx="4896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763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ka nechť Vás provází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yšlení o tém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íly v etice dle ge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Evro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95640" y="2387520"/>
            <a:ext cx="44625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ubší za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fstedeovy dimenze kul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tika vs. mental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fst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2979720" cy="410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2268360" y="4365720"/>
            <a:ext cx="20163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še zaměř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712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opská e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řesťanské desatero (4. – 10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ni, abys den sváteční svět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 otce svého i matku svou, abys dlouho živ byl a dobře se ti vedlo na ze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zabije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zesmilní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krade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romluvíš křivého svědec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žádáš manželky bližního své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žádáš statku bližního své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324972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cké kodexy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upující tr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o a pro ko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3573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kace kodex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psi a Coca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ta Brno a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103640" cy="87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16360" y="4221000"/>
            <a:ext cx="37432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ika tak trochu jina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koho je evropská eti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61214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ika tak trochu jina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ý problém a etické di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 je konat „dobře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íklad: pra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ezující etik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stoty vs. prospe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atero vs. konku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2781000"/>
            <a:ext cx="3240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ulost vs.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ka – zaměření na dlouhodob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50418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5:24:46Z</dcterms:created>
  <dc:creator>Loser</dc:creator>
  <dc:description/>
  <dc:language>en-US</dc:language>
  <cp:lastModifiedBy>Loser</cp:lastModifiedBy>
  <dcterms:modified xsi:type="dcterms:W3CDTF">2006-12-04T21:03:22Z</dcterms:modified>
  <cp:revision>5</cp:revision>
  <dc:subject/>
  <dc:title>Manažerská etika</dc:title>
</cp:coreProperties>
</file>