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386-9A1B-4A00-A1A0-29069735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CF2-5B74-450C-B728-104F251A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0BF-07C8-4643-908D-3203DBA9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9EE-29DA-4E7A-BD53-9C08CF70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D429-1025-451B-A470-90E09C44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F309-B83B-42D2-A201-AEF0D5A7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9A75-65AD-4F93-A3DB-884E1A2E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77BA-9627-4C31-B82B-6E690DC9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CEBC-E48A-45DB-A887-861D6557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5E1B-6D2F-4B03-B5EB-265AB33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CB3C-4BBE-4840-909D-3D9A4F46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612-2F4C-40FA-8874-373B10E1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5C69-A79B-4EF7-990D-F500EC5C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A516-645C-44E6-ACCD-41E52E4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71B7-2D42-4CFC-B57D-2AFEA99F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16EC-FACC-43C7-8FD0-5DEFD60F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F4DF-9D9F-4260-9468-C622F2D0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E38-AD7C-473F-B35B-875F577E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FDA-3705-41D7-8C5D-901CC16F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A90-E5C9-4581-BF23-4D5A9910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118-16AD-45EE-945F-623253BD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FB0-897D-4021-A3C1-987FDDD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2D2-49CC-412C-9FED-B6FBB97D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470-6791-49D2-94CD-64B6ECE0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72E2-74CA-41B6-8C85-37C70D97882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2BC3-430D-4F8D-9ADD-95D7C38A3A3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ývoj podniků v industriální společnost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čátky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čátek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kce pro vlastní výrob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ovýroba -  produkce jen pro lokální tr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derní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padající úloha zemědělství (rostla produktivita moderního zemědělstv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e podíl pracovních sil zaměstnaných v terciální sféř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ívání stroj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vé neživé zdroje ener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lší aspekty výv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. století – průmyslová revol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ste produktivita, zvyšuje efektivita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voj institucí (právo – Obchodní zákoní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užívání vědy v průmysl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silování stabil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centrace (růst objemu kapitál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ce práce kapitálem (růst kapitálového vybavení prá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ižování počtu firem (likvid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Vznik oligopol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vestiční nároky vedly ke vzniku větších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mogenní struktur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heterogenní (oligop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nažerská revol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znik velkých korporací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 vznik akciových společností → potřeba oddělení vlastnictví od ří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Zisk už není hlavním cílem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naha o zhodnocení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ldingové společnosti – řídí další korpor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užitá literatura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ameron, R. : Stručné ekonomické dějiny světa. Praha: Victoria publishing,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ich, R.B.: Dílo národů. Praha: Prostor,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lažek, L. : Management II, Průvodce studi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9:09:33Z</dcterms:created>
  <dc:creator>Franta Konopásek</dc:creator>
  <dc:description/>
  <dc:language>en-US</dc:language>
  <cp:lastModifiedBy>Franta Konopásek</cp:lastModifiedBy>
  <dcterms:modified xsi:type="dcterms:W3CDTF">2006-10-16T10:04:49Z</dcterms:modified>
  <cp:revision>3</cp:revision>
  <dc:subject/>
  <dc:title>Vývoj podniků v industriální společnosti</dc:title>
</cp:coreProperties>
</file>