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04A-20E5-481B-B870-279BD7FC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5C0-6432-49C1-91F6-C35CD5F7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469F-9A57-46D5-BEC2-671B66E9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82D-CE44-4E3A-8557-30F9DB43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A65B-AA21-4890-A2F2-DC330364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2214-A706-44CE-B9C7-42632778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DEDB-290A-4099-8169-241B815E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B60D-47ED-419D-B86D-B2750590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1FC3-F307-43BA-894E-50649577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B8B0-C745-4684-A335-BCF0EFD3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A9FA-9A24-41D3-AADC-D53105B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50F-63DF-4823-A110-4D1D2BC2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B7F6-EEDB-4176-8464-96101B70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7024-933C-4383-9D6F-177D5A08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0EB-D43F-4A25-A179-D7CBB709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728F-8143-4FE0-8482-59175882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632-FB94-4390-8E26-977F692A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D8D-471A-4295-A0A7-F55EF21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C73-37FD-44AE-A2B5-23DBB7B1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277-0E9F-4CE0-885D-1E876DF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1DD-DF3D-4597-82E4-FACB753D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163-0B9D-4390-87C8-9F29F18E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E19-FFD0-4BAD-8B9F-31C7EEDC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2AD-B3FC-44AB-A649-7709816F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9B85-AD7A-405B-AD57-9F1552A83589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25FD-215C-49FC-82F5-D6C5073F4402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redukci konkurenční střetů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japonská Toyota (montáž automobi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korejská Daewoo (výroba součástí a dí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á Siemens-nizozemská Philips (vývoj v obl.mikroelektronik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ponská Canon-americká Kodak (výroba kopírovacích zařízení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Motorola-japonská Toshiba (společné distribuční sítě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ouzská Thompson-japonská JVC (výroba videorekordér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Ford-japonská Mazda (prodej náhradních dílů partnera na svém domácím trh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ritská Rover-japonská Honda (vývoj technologie pro malé automobi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IBM-japonská Fujitsu (ověřování softwar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7A4-A17A-414A-A69B-9CF239688A29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vznik, přenos a využití znalost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livněny vědeckotechnickým rozvojem v 2.pol. 90.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hodná cesta zapojení se do globální světové ekonom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318-C218-45B3-987F-7157F2FEEBE6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nější než strategická ali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časná síť samostatných podniků, propojených informacemi, aby sdílely dovednosti, náklady a přístup na vlastní tr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ychlé spojení za účelem využití specifické příležit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asová omez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zivní použití moderní počítačové a komunikační technolog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8DC-36B7-465C-B826-4D54DD7F3E90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je dosaženo pomocí více či méně autonomní organizace důležitých procesů a týmovou organizac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vedení virtuálního modelu znamená restrukturalizaci organizace i jejího management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ílem virtuální organizace je integrace moderního know-how spolupracujících firem k tvorbě přidané hodnoty pro zákazní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árním cílem je dosažení silného konkurenčního postavení (růst, zisk, podíl na světovém trhu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19B-D3B5-4E2B-88A9-93EF534CB30B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formace firmy probíhá v těchto vývojových stupních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hierarchické organizační struktury k ploché organizační struktuř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mobility pracov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žití moderní počítačové a komunikační technolo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centrace firmy na nejdůležitější podnikové proces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orba virtuálních sítí k dosažení mimořádné hodnoty pro zákazní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C88-32AA-4BE5-821D-12C4A5B50ACD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kračování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 dalších letech bude docházet stále více k navazování různých forem spolupráce a zejména k vytváření virtuálních podniků omezených časem, složením a počtem partner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jdůležitější prvkem v globální konkurenci se stávají znal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ální model firmy je vhodný pro novou ekonomiku na prahu 21. století. Implementace tohoto modelu však není jednoduchá, vyžaduje zejména podstatnou změnu myšle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388-E84A-484A-8CC4-8289CC9AF7A2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užitá 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dáček, Vodáčková (2002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,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ber, J. a kol. (2000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: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tedra podnikového hospodářství (2006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II, průvodce studi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[online] Dostupné na: https://is.muni.cz/auth/el/1456/podzim2006/PHMAII/um/PHMAII_Pruvodce_studiem.doc?fakulta=1456;obdobi=3364;studium=208265;kod=PHMAII [Nalezeno dne 23.10.20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F62-6A0A-4F96-AAA7-15683C5D91DE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ěkujeme za pozornost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ymezení pojmu strategická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odáčková, Vodáček (2000): „Je to organizační forma, která pomáhá zajišťovat kooperativní podnikatelskou činnost. Dvě či více vzájemně samostatných podnikatelských jednotek aktivují a zhodnocují možné aktivují a zhodnocují možné dodatečné efekty spoluprác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FF2-7BCA-4954-9F46-BAFF758927B1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Základní formy strategických partnerstv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ležitostná spoluprá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hé“ neformální domluv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ké aliance v užším pojetí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ventur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ěs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žingy (fúze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viz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65C-E7CE-420C-8F37-B8C22910E4EA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int ventures vs. 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ventures: pro spolupráci dvou či více partnerů se předpokládá vlastní organizační forma (samostatná podnikatelská jednotka, samostatný provoz, atd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ké aliance v užším slova smyslu: volnější forma spolupráce, která vlastní organizační formu podnikatelské jednotky nepředpoklá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26D-D5D3-4ED6-B501-FC857B72253B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l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vírány cestou tzv. tiché dohody, např. o cenách, postupech k omezení či vyloučení vzájemné konkurence, výměně informací a znalostí v určité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lo průhledné pro nezúčastněné strany, někdy dokonce v rozporu s etickými pravidly podnikatelského chování (dohody týkající se omezení konkuren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ěkdy i dohody o využívání know-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0EA-F8FC-46B1-9FF1-7D6CD3D5FA12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ěs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pevné propojení původně samostatných partn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méně rigidní (nevýhoda v dnešních chaotickém podnikatelském prostřed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3AC-9C61-4F95-AE82-E9AA7F1E8C2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lasifikační hledis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unkční hlediska (výrobní aliance, marketingové aliance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ritoriální hlediska (tuzemské, zahranič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rganizační hlediska (horizontální, vertikální, síť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ická hlediska (soukromé, veřejno-práv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cílové orientace (ziskové, nezisk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trvání (příležitostné, krátkodobé, dlouhodob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871-BBBD-4888-AABD-F6F27967A82E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ítě strategických alianc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tězce nebo sítě firem, které jsou vzájemně snadno porovnatelné z hlediska svých základních podnikatelských činností (např. obchodní firmy s podobným sortimentem výrobků, konzultační firmy se stejným základním zaměřením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ktivnější firmy v sítích se snaží v určité míře ujmout „kormidla“ koordinace činností partnerů v síti a celkového směřování jejího rozvoje, např. Kodak (pro části výrobního programu firem Motorola, Philips, 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, Apple, Silicon Graphi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3FB-80E2-4F82-830B-916048EB8FEA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v moderním podnik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spívají k zlepšení podnikatelské čin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vývojové ry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u účelného a účinného přiřazování potřebnýc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činnost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potřeb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A1F-8FA2-4AF5-BD63-C5A4C480B768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58:07Z</dcterms:created>
  <dc:creator>PC</dc:creator>
  <dc:description/>
  <dc:language>en-US</dc:language>
  <cp:lastModifiedBy>Marie Kozlová</cp:lastModifiedBy>
  <dcterms:modified xsi:type="dcterms:W3CDTF">2006-10-25T08:10:24Z</dcterms:modified>
  <cp:revision>5</cp:revision>
  <dc:subject/>
  <dc:title>Strategické aliance</dc:title>
</cp:coreProperties>
</file>