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496BB-370D-4758-A53A-548F70CE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F3D3E-69BE-4193-A692-C8F3E5E6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8D71C-12F1-4180-BEC2-50CBD040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B2392-EFBE-4C59-9299-ED10C9EC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23D1-87D9-4A83-A442-2BC58109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104D-3F0E-4EDA-9BBD-893C48C5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A262-D184-492E-9A55-4412F30A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A5CC-4894-433F-AB7E-8B9902C9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276D-A396-4744-A481-FD8233F2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496C-912E-41BE-980F-2406D5BB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5AD9-0DF0-4EBD-9278-287111AF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ED90-3C0D-4571-915B-8175B75C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F847-8351-4379-A93C-5184F282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E08D-3B3C-4092-B0FE-681F8F50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9C59-5286-4F39-9975-FDEECED4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F52C-FE5F-4BCE-994B-642DFB75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F04E-152E-474C-BB5A-601376FC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26C20-34B1-41C6-8B72-43A3E30D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2EA90-2B85-4B95-BEFE-108CDD9B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352C6-E465-4393-9F2D-15AE5D4B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7EE29-C400-421D-8BFB-BE4646D7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E3D3E-AFEA-43C9-AFF3-397FED52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A8F0A-4FBA-412A-95BF-73472BEE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5AA0A-2064-4B46-9E15-52F68F99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6E1A-9B95-4D96-9782-56A46C7463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B861-AA99-4B4B-BF3D-DED6294208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Vztah člověka a podniku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ypracovali: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avla Slezák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etr Goliá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Georg Sieger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ook Antiqua"/>
              </a:rPr>
              <a:t>Použitá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auer W. M., 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Tyranie blahobyt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Volvox Globator 199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Krize individu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ioritou dnešního člověka je naplňování pouze materiálních potřeb. Navíc se se svou prací jen málokdy identifikuje a tak se dostává do jakési  schizofrenie. Stává se dezorientovaným, ztrácí vůli k dosahování cílů a pak i cíle samot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640" y="452088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to je potřeba člověku/zaměstnanci poskytnout více podnětů, aby se mohl s prací identifikovat. Člověk by neměl být hrdý pouze na to, že dokázal zvýšit prodejnost pracího prášku o 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Motivace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Úspěch firmy je záležitostí vedoucích pracovníků - postoje, charakterové vlastnosti a znalost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e potřeba, aby se i manažer identifikoval se svou prací, aby pouze nedemonstroval svoji neomylnost a autoritu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" y="4149720"/>
            <a:ext cx="82184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dniky sice investují do moderní techniky, ale měli by se také soustředit na své zaměstnance, aby se z nich nestali pouze „němí příjemci povelů“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e5e5ff"/>
                </a:solidFill>
                <a:uFillTx/>
                <a:latin typeface="Book Antiqua"/>
              </a:rPr>
              <a:t>Zm</a:t>
            </a: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ěna pracovního  světa poč</a:t>
            </a:r>
            <a:r>
              <a:rPr b="1" lang="cs-CZ" sz="4400" spc="-1" strike="noStrike" u="sng">
                <a:solidFill>
                  <a:srgbClr val="e5e5ff"/>
                </a:solidFill>
                <a:uFillTx/>
                <a:latin typeface="Book Antiqua"/>
              </a:rPr>
              <a:t>í</a:t>
            </a: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tač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vztahu mezi pra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a praco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k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interakce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mezi lid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bsence lidsk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rozumu m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ůž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 k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nebezpečným chyb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 v sys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→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le : Ten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to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oces se ne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sám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bránit ani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ho nelze zpomalit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A je nezvratný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Fascinace absurdit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I když s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ět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ý dostane racionální způsob myšlení,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trvaj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absurd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bvence zemědělstv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Znečišťování životního prostřed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gma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katolické církve 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lám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Výuk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ško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a univerzi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nech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řešit prob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hání exaktních vě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vojí odpovědnost manaže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stane-li se organizace do problémů, mění se odpovědnost manažera vůči podřízeným (společenskému blahu) v odpovědnost vůči vlastníkovi, potažmo sobě (blahu eg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280" y="436536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 překotnými a obtížnými hospodářskými změnami v posledních desetiletích vzájemná lidská solidarita mizí, jako bychom pro ni v sobě nevybudovali dostatečně pevnou půd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23640" y="4941360"/>
            <a:ext cx="7753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292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357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ůležitá role komunik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Vývoj světového dění je do té míry dynamický a schopný znatelné odezvy na jakékoliv další jednání člověka, že: BUDOUCNOST OVLIVŇUJEME VŠÍM, CO ČINÍME A JEŠTĚ VÍCE TÍM, CO NEČINÍ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Komunikujeme skrz činy, slova, práci, vztahy, chování či post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KUMUNIKUJUME UVĚDOMĚLE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Uvědomělý život a jeho úskal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Žít život uvědoměle znamená vzdát se do určité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míry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své stávající společenské ro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9280" y="3860280"/>
            <a:ext cx="81471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dložit svou roli znamená dostat se do konfliktu, který se často mění v pokus násilím dosáhnout toho, čeho je možné dosáhnout pouze „chůzí po špičkách“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5e5ff"/>
                </a:solidFill>
                <a:latin typeface="Book Antiqua"/>
              </a:rPr>
              <a:t>Muhammad Júnus, bangladéšský ekonom a jeho banka Gramín = nositel Nobelovy ceny míru za rok 2006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banka založena roku 197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poskytuje mikroúvěry milionům nejchudší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v rámci skupiny Gramín existuje na 2 tucty společností fungujících na neziskové bázi a jsou vzájemně propoj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funkčnost modelu potvrzuje jeho převzetí ve více než sto zemích s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Muhammad Júnus se řídí úslovím: „Dáte-li člověku rybu, nasytíte ho na jeden den. Naučíte-li ho ryby chytat, nasytíte ho na celý život.“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3:41:39Z</dcterms:created>
  <dc:creator>počítač</dc:creator>
  <dc:description/>
  <dc:language>en-US</dc:language>
  <cp:lastModifiedBy>Pavla</cp:lastModifiedBy>
  <dcterms:modified xsi:type="dcterms:W3CDTF">2006-10-15T19:14:00Z</dcterms:modified>
  <cp:revision>10</cp:revision>
  <dc:subject/>
  <dc:title>Snímek 1</dc:title>
</cp:coreProperties>
</file>