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5EDF-339A-495E-80AD-E8C2BDE1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608B-9BE4-4AFD-9641-7CE3B733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43F8-990A-4269-9781-1E565896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3AB4-C4F8-424A-8D7A-BD6DCE57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A421-1CC4-4181-B497-16897312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E20F-7595-416C-9F54-FBE5520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B59D-71C2-4AF1-BE52-4C9FD65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4D95-273B-45F2-A5E0-F3308B4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B249-456D-45A5-B8DE-5134FC6F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95BB-8782-4950-8CEB-51A85346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426-8A00-4867-A57C-5A3EB5A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F895-FBDF-4D44-ABC6-C571D13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52F-50E4-4BEB-8072-A1C4AF4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6182-27FA-4FE6-8E4B-0058A21B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A3D-C03E-4EB6-9D21-CCBE2E47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0B02-E617-41AD-B620-89B5D376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3575-4F1A-4771-BA69-E6F480B3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45A2-D769-434E-96FF-F80AFAC7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1AD6-62DA-473A-B042-E7F85AAE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B644-E1C5-4DDA-A1F9-77D7C8B8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BC668-D4A8-4957-BFD4-E95F4D9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E70D-BA83-4154-A674-A19E10D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A51E-15F2-4C06-9429-51175F0F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2580B-88F5-45DD-BA00-CA96F26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F60-CDFC-420A-BBFB-2E7B0E9A6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EE9C-8368-4F52-A036-5A194CF857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i="1" lang="en-US" sz="5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OMĚNY PRÁCE A VÝVOJE PODNIKŮ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28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 návaznosti na obecně se zvyšující životní úroveň a s tím související  změny nároků člověka na práci, se tato práce stávala neatraktivní, stále méně lidí bylo ochotno takovou práci vykonávat, rostla fluktuace a absentérstv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tivita stagnovala, náklady rostly, efektivnost se snižoval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70. léta – v rámci humanizace přechod k tzv. „rozšiřování práce“ („job enlargement“) a „obohacování práce“ („job enrichment“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nik autonomních pracovních tým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mputerizace – nahrazení manuální práce počítač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NC - technika (computerized numerical control) – nástup výrobních robot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M – (computer aided manufacturing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dělníka se stává operátor a programá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požadavky na kvalifik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01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syst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NC (distributed numerical contro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D (computer aided desig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P (computer aided planning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snižování náklad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hrazování manuální práce technik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ouvání celé výroby do méně vyspělých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nezaměstnanosti málo kvalifikovaných pracovník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dobé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dklon od manuální práce k práci s moderními technologiemi a informacem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nimalizace mezilidského konta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cit izolovanosti a osam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áce se stává abstrakt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upný návrat k původní komplexnosti práce z preindustriální společno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OVETSKY, G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umrak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: Prostor, 1999. ISBN 80-7260-008-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CH, R.B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 : Vize 97, 2003. ISBN 80-86181-60-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, A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hospodářství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v.II. Praha: OIKOYMENH, 1994. ISBN 80-85241-62-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 nástupem industrilalizace dochází k rozvoji řeme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é nároky na kapitálovou vybavenost, hlavním faktorem je práce, zručnost řemeslní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meslník byl zároveň kapitalistou – vlastnil používaný kapitál, řídil výrobu, kterou také sám vykoná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byla orientována na výrobek, řemeslník vyrobil celý výrobek sám, vlastním tvůrčím způsob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mezi více osob podstatně zvyšuje produktivitu prá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chází ke zhromadňování výroby, specializaci a ko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 průmyslových podnicích je instrumentální technologie nahrazována technologií strojov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roky na kapitál, jež se stává hlavním výrobním faktorem – klesá počet podnikatelů, vzrůstá počet námezdně pracujíc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ictví faktorů kapitálu a práce bylo odděleno, což vede k třídnímu rozdělení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 řemeslníka, který tvořil celý výrobek sám, se stává námezdní dělník provádějící jen jednu výrobní 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ces zhotovování výrobku se dělil na stále více operací, současně se stále větším využíváním strojů – z dělníka se stává obsluhovatel st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užívání strojů nazýváme racionaliz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išujeme tyto stupně racionaliza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1. stupeň - Prvními stroji můžeme nazývat nástroje, typické pro řemeslnou činnost, časem přestává být jejich pohonnou silou síla člověka a je nahrazena pohonnou silou stroje. Nedochází však k nahrazení lidské zručnosti. Mluvíme tedy o „nesamostatných strojích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2. stupeň - Běžící výrobní pás přichází spolu s velkovýrobou. Produktivita práce je opět zvýšena. Dělník již neovládá stroj, spíše stroj ovládá dělníka, který se musí tempu stroje přizpůsobit a vykonává pouze tzv. zbytkové operace, v podstatě dohlíží na správné fungování str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44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ševní činnost spojená s plánováním, organizováním a přípravou výroby byla důsledně přenesena na specialisty - mistra, plánovače, technologa, seřizovač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itivní nezajímavá práce dělníků nebyla dostatečně motivují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louhodobě nepomáhaly ani finanční stimuly, zlepšováním vnějších pracovních podmínek a uplatňováním doktríny lidských vztahů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25T19:21:05Z</dcterms:modified>
  <cp:revision>39</cp:revision>
  <dc:subject/>
  <dc:title>Druhá vlna  </dc:title>
</cp:coreProperties>
</file>