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D6AE4-0085-4C04-BDB7-737B5554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1D43-8295-477B-BA97-41261D2F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3C1F-F79D-4A29-82DF-5563C67E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7853-7D0D-4416-AAD1-5B1E3DF3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C5D5-E7D4-4B12-97E9-8A6B5D0D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0B9-F303-4181-A51C-030956C8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E1AA-51D9-4DA9-BCD4-0F93CF4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EB8D-B87F-42CE-A8E6-3CA82A5C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2F5-BE95-4A24-B9F1-E190F2C4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2DEE-0188-469E-B6D0-D91AA611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3164-5CF0-493D-B85E-EFC8125B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CF7C-8B20-48D8-8529-DC2F9A29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1A03-B801-416D-A3E1-09C213E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5D6C-327B-4B6E-ABC9-0E191052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FBE8-CDE0-44B0-BC72-380F70D8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3588-40D2-4866-91FA-1053F686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3314-833F-4E76-8115-147B283A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7F5D-883E-46C1-891B-318B7E95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ABA9-8052-449B-A8A1-292F1AA1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AE5A8-095C-47B0-8199-134FEC8D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C37BF-5224-42F4-A43B-54AE9DB8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AF6A-E804-4820-B2B6-50539F63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19E2-0572-4215-8C52-E962D147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4170-5B1F-41A1-BD77-B4CE3E5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B857-E06D-407E-9B2D-6940374519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1517-47C6-4E62-8DD1-DFCF2599D9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e5ff"/>
                </a:solidFill>
                <a:latin typeface="Book Antiqua"/>
              </a:rPr>
              <a:t>Winfried M. BAUER</a:t>
            </a:r>
            <a:r>
              <a:rPr b="1" lang="cs-CZ" sz="4400" spc="-1" strike="noStrike">
                <a:solidFill>
                  <a:srgbClr val="e5e5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 TYRANIE BLAHOBYTU</a:t>
            </a: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vybrané myšlenk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by se měly více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Proměna pracovního světa používáním počí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elze zastavit a nedá se proti němu bránit.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Přestože lidé používají racionální způsob myšle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řeš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 součas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OMUNIKUJ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6T10:49:26Z</dcterms:modified>
  <cp:revision>11</cp:revision>
  <dc:subject/>
  <dc:title>Snímek 1</dc:title>
</cp:coreProperties>
</file>