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866-07A0-4E97-B670-18DDAADD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76C-E944-4928-A30B-5134BA3D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9344-460D-4723-89AE-D0A2DDFB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6E3-9A5E-46FD-A948-094CA809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5758-832E-4DD6-9552-3311DBDB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E660-9DE6-4095-97EB-7AC3B942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17FA-959B-40C4-9A35-D16B2D8C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FC3C-EC2C-4610-884E-53D38945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57D7-0D8A-4A84-A8B7-54E3FA5F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D28C-277C-45C9-AA16-0C9B7158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5226-5444-42E8-85FB-5910629E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863A-D73F-46DF-B1C8-2C2AC75F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354C-57E7-4060-986E-A0E02968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A540-8A91-4AFA-9EB9-8C11FCCD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51F2-F990-4300-8A35-8CB40412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A71F-2B89-4989-B716-E41C05D5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B6C7-8E3B-4A88-ACF9-7C52C63C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CF1D-6DF4-4166-9A70-E863274A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D277-7177-41C6-A6E8-A06D35AC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8CC6-DC20-4013-BC86-9337DCC1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674-A51A-439C-B95D-A486C455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996B-D60D-423E-9B24-AB1FBFB4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16BE-C878-43A4-91EF-302B8A31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06B9-731B-4E98-AD4B-D0E805D1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1805-9EBF-4C84-9C39-0D260708877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399D-8ABD-470F-B3E1-C3FDDCDDB01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Informační společnos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leonóra Baculá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Lenka Kotoul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rie Kutíl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30481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19320" y="30481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KONEC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RITZER, G. 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Mcdonaldizace společnost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Bell, D.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Kulturní rozpory kapitalismu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 ce"/>
              </a:rPr>
              <a:t>Článek - Informačná spoločnosť – globálna výzva v novom miléniu, </a:t>
            </a:r>
            <a:r>
              <a:rPr b="0" i="1" lang="cs-CZ" sz="3200" spc="-1" strike="noStrike">
                <a:solidFill>
                  <a:srgbClr val="ffffff"/>
                </a:solidFill>
                <a:latin typeface="arial ce"/>
              </a:rPr>
              <a:t>Jana Stadtrucker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 ce"/>
              </a:rPr>
              <a:t>Článek Nová ekonomika a globální společnost, Radek Froulí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Vývoj</a:t>
            </a:r>
            <a:br>
              <a:rPr sz="5100"/>
            </a:b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eindustriální společnost ( začátek před 250 až 350 léty) se vyvinula do společnosti industriál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 60. létech 20. století se objevují názory, že i industriální společnost je překonaným pojmem a začíná se pracovat s fenoménem jménem informační společ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Hlavní rysy informační společnosti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vaha práce s informace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teraktivi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tegrace a globalizační tend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Informační společnost znamená soustavné využívání prvků všech dostupných moderních informačních technologi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e zpracování informací se stává velmi důležitá ekonomická aktivita, vytvářející zcela nové příležitosti a činnosti, které ovlivňují charakter společ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4c3aa"/>
                </a:solidFill>
                <a:latin typeface="Arial"/>
              </a:rPr>
              <a:t>Reprezentanty informační společnosti se stávají administrativní pracovníci, kteří se:</a:t>
            </a:r>
            <a:endParaRPr b="0" lang="en-US" sz="2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cializují na produkci a zpracování inform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yto informace jsou digitálně zpracovány, uchovávány a přenášeny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možňují rychlou reakci na změny v pracovním prostředí, což je jednou z podmínek úspěšné adaptace na stále se měnící podmín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4c3aa"/>
                </a:solidFill>
                <a:latin typeface="Arial"/>
              </a:rPr>
              <a:t>Nejen jednotlivci a firmy, ale i národní ekonomiky jsou nuceny využívat informace ve stále větší míře, neboť investice a pracovní příležitosti se přesouvají do zemí, které vykazují nejvyšší míru adaptace s touto situací</a:t>
            </a:r>
            <a:br>
              <a:rPr sz="4300"/>
            </a:br>
            <a:endParaRPr b="0" lang="en-US" sz="43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Informační společnost a globalizace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nzivní využívání a možnost rychlé výměny všech druhů informací jsou jednou z podmínek, které daly vzniknout globalizac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lobalizace – všechny změny ve společnosti a ve světové ekonomice, které jsou důsledkem dramatického vzrůstu mezinárodního obchod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bližování kult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Komunikace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s využitím všech nejnovějších prvků informační společnosti se komunikace stává stále obtížnějš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Žijeme v otevřených systémech, musíme zvažovat naše (i globální) okolí, vše s ohledem na budouc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toto je jedním z důvodů, proč se vyvinu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polečnost věděn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ává se logickým následníkem informační společ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ědění samo o sobě se stává klíčovým faktorem produk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zrychlily a zlevnily přístup k vědění a informací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55:54Z</dcterms:created>
  <dc:creator>Marie Kutílková</dc:creator>
  <dc:description/>
  <dc:language>en-US</dc:language>
  <cp:lastModifiedBy>CIKT</cp:lastModifiedBy>
  <dcterms:modified xsi:type="dcterms:W3CDTF">2006-10-16T09:09:08Z</dcterms:modified>
  <cp:revision>5</cp:revision>
  <dc:subject/>
  <dc:title>Informační společnost</dc:title>
</cp:coreProperties>
</file>