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264-76DF-4B17-81EE-DBAB552D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909-F29E-43CF-93BF-436F223E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69B7-BEB6-4334-A3D0-0BCCA847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B62-D40F-43E3-95F3-BCB1D2F8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1170-DA6A-4841-941F-382A13F2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4712-1D03-4C2D-B82B-10134CBA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314A-3D65-48D0-8A8B-2EB4718B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9F3C-667C-46EA-B165-E1A0BFD5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1EDC-2AFA-401A-A1DC-58D66753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0F1B-AD1D-4E79-AABE-8882BCEE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767C-F3AC-4A97-9C59-C0C2452C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492-F9CF-4AFF-A714-B875E703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9FE2-2EA0-4254-BFDE-880C608E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AFD1-9094-4545-BD2E-8DC5DAEA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D2B1-7CE3-4839-BA81-CD4D88CB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6A4D-EAE7-44FB-96F7-4CA71FFE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37CC-99D9-4EC4-B270-7AF1C62E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428-31B3-4900-BC28-41DE786E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5B0-8634-4696-8DA5-A083DB05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5D80-783E-4E0D-ACF6-20299E1B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614-0769-452B-972A-D1EC0632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355-25AC-41C6-B457-FB1F64BE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3B5-C1B7-4045-A733-254D16D9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2AD-CB67-4AAD-A15E-B8E966C0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B922-7DC1-4C1D-9CDE-585C5570657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5D86-3B11-41B6-A25C-B8B458EAF4C8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aramond"/>
              </a:rPr>
              <a:t>Vývoj systémů - přirozená a kulturní evoluc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ára Kozlová, Veronika Paďourová, Barbora Vincenec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ým, prezentace čtvrtek 4.10.200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Vznik a podstata kulturní evoluce a její vztah k evoluci přirozené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Evoluce přirozená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zniká v rámci vývojového procesu vesmí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sitelem je příro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voj probíhal několik miliard 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sledkem jsou složité, vzájemně provázané ekosysté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voluce kultur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jím nositelem je člově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á svůj původ v přírod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nesrovnatelně mladší než evoluce přirozen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sledkem je kul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ývá globálního rozsa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oužitá literatur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Erben-Eckstein, J. (1999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Časová nesymetrie ve fyzice a nevratnost dějů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atedra podnikového hospodářství (2006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Management II, průvodce studiem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Thaxton, C. B., Bradley, W. L., Olsen, R. L. (1995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Tajemství vzniku života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igogine, I., Stengersová, I. (2001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Řád z chaosu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Šmajs, J. (2004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Víme, co je evoluce?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Šmajs, J. (2000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Drama evoluce.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Šmajs, J. (1997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Konflikt přirozené a kulturní evoluce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ysté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bor prvků ve vzájemné interak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dina, studenti ve třídě, pod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émy řídící a řízen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volu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ěj, při kterém se ze systémů uspořádaných určitým způsobem stávají systémy uspořádané dokonaleji než tomu bylo u jejich předchůdců (Management II, Průvodce studiem, 2006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rozená vs. kultur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ruhá věta termodynami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k energie při ireverzibilních dějích směřuje vždy k rovnoměrnějšímu rozdělení energie ve vesmíru" (Thaxton, 199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odstata</a:t>
            </a: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 přirozené evoluce jako spontánního antientropického děj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ojem přirozená evolu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 pro většinu lidí spojen pouze se vznikem a vývojem lidského dru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ním problémem je vnímání přirozené evoluce člověk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ro poznávání evoluce můžeme využívat jen dílčí poznatky vědy a svou představu svět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evoluce zasáhla přírodovědu, chemii, fyziku, sociologii i matematiku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Na základě mnoha teorií a poznatků lze předpokládat, že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na počátku vesmíru byla jeho uspořádanost nejnižší a že teprve evolucí se postupně zvyšoval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řirozená evoluce pravděpodobně začala před deseti až patnácti miliardami let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ůvodem velkého třesku je narušení původní symetrie systém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Evolu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na rozdíl od entropie  je procesem konstitutivním, směřuje proti rozpa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buduje stále jemnější a diferencovanější struktury i pravidl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otřebuje přiměřenou energetickou podpor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rávě díky omezenému energetickému příkonu je zřejmě schopna všemi možnými organizačními způsoby čelit entropi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Evoluční pro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růběh a výsledek je vždy víceméně neznámý, předem nezjistitelný a nepředpověditelný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je složitou dynamickou interakcí informace s prostředí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na všech organizačních úrovních je spoluurčován mnoha nahodilými faktor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4:13:15Z</dcterms:created>
  <dc:creator>Marie Kozlová</dc:creator>
  <dc:description/>
  <dc:language>en-US</dc:language>
  <cp:lastModifiedBy>Martin Krkavec</cp:lastModifiedBy>
  <dcterms:modified xsi:type="dcterms:W3CDTF">2006-10-04T19:43:24Z</dcterms:modified>
  <cp:revision>4</cp:revision>
  <dc:subject/>
  <dc:title>Podstata přirozené evoluce jako spontánního antientropického děje </dc:title>
</cp:coreProperties>
</file>