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E2E5-B16C-4F24-A1C9-7C01DA51B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B300-123E-43B4-9501-2D9C9C3B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3FEC-2AD3-4A65-8D28-97A869C88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D554-8E3A-421F-975F-38349773B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2C7A-83E8-4043-8AB3-3DE662002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2463-088B-45E8-A4CB-1AC427B4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050D-3C95-4281-8248-B61F4466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CBD7-951D-4266-A6FE-34C9670E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7A47-C743-4904-B66D-F78ACD8C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F459-58EC-48E0-BC3F-314B66EF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B970-2E1E-4421-8777-A8F29221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592C-B46C-47C6-86B9-984901C4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C975-A4BC-41DA-A7B2-EF5745E0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9CEA-0E42-4624-8ECC-C4DDBE83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EB01-6FA6-4B56-94DA-0327449C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037D-6E20-47F9-AEC0-C4F65684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0122-6CCE-46CC-AF0A-7050D7626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C974-3FED-4133-91CE-7AB31C9C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01C8-70C8-4A81-A4D1-4BD466D0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B20C-60E7-4C43-BA96-7E956C8E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3C3D-E5BC-497F-BDCC-190C2D03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C176-4E3B-48B3-AEAB-4B93B30A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1B2D-F7D4-4931-8244-8F11057E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5C72-5C63-4E83-93B2-0616CCF3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AD06-105E-4C93-B5E5-0B3364AC144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59C7-5E2F-4EA5-B55C-CFE7632380B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Metody a nástroje podnikatelské etiky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563640" y="5157720"/>
            <a:ext cx="528804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ucie Absolonová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niel Nová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rbora Říhová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tický audit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Garamond"/>
              </a:rPr>
              <a:t>Sociální audit zahrnuje </a:t>
            </a:r>
            <a:r>
              <a:rPr b="1" lang="cs-CZ" sz="1600" spc="-1" strike="noStrike" u="sng">
                <a:solidFill>
                  <a:srgbClr val="ffffff"/>
                </a:solidFill>
                <a:uFillTx/>
                <a:latin typeface="Garamond"/>
              </a:rPr>
              <a:t>analýzu a kontrolu 4 základních podnikových dimenzí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Garamond"/>
              </a:rPr>
              <a:t>Zaměstnanecká politik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Garamond"/>
              </a:rPr>
              <a:t>Ekonomický rozvoj společnosti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Garamond"/>
              </a:rPr>
              <a:t>Enviromentální politik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Garamond"/>
              </a:rPr>
              <a:t>Dobročinnos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Garamond"/>
              </a:rPr>
              <a:t>Cíle:</a:t>
            </a:r>
            <a:r>
              <a:rPr b="1" lang="cs-CZ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cs-CZ" sz="1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Kontrola řízení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Transparentnost pro všechny zainteresované v podniku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Analýza sociálního klimatu podniku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Garamond"/>
              </a:rPr>
              <a:t>Efekty plynoucí z auditu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Analýzy morálky a sociálního klimatu v podniku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Zlepšení motivace zaměstnanců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Ozdravení mezilidských vztahů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Snížení stresové zátěže zaměstnanců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Kontrola moci v podniku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Zvýšení transparentnosti pro všechny skupiny participující na podnikání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Hodnocení účinnosti etických hodnot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Snížení rozsahu morálních konfliktů ve společnosti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48320" y="1484280"/>
          <a:ext cx="4038480" cy="47451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Finanční audity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Nefinanční audity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(etický a sociální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jí přesně definovaný právní řá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Řády jsou podnikové, srovnání s konkurencí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stup je v každé organizaci shodný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e určen především pro vlastní podni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udit se opakuje 1x ročně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udit se obvykle opakuje za 18 až 24 měsíců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Výcvik zaměstnanců k etickému jednání zaměstnanců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Výzkum provedený britským Institue of business Ethics ukázal, že mezi zkoumanými podniky bylo v roce 20001 nejběžnější formou etického výcviku zaměstnanců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Manuál pro zaměstnance ( 64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Semináře v organizaci (60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Intranet (56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Výukové video, hraní rolí atd. (16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Ostatní (20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oužitá literatur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aník P., Řezbová L., T. van Zavřel: Metody a nástroje podnikatelské etiky, Praha: Oeconomica, 200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Fiala B.: Podnikatelská etika, Olomouc: UP v Olomouci, 200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ytrt Z. a kol. : Etika v podnikatelském prostředí, Praha: Grada Publishing, 200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ěkujeme za pozornos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etody podnikatelské etik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 metoda konsensu a dialog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e nutné zvážit, zda přiměřeným stylem rozhodování se stane přístup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utokratick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ýmová příprava –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lém je řešen v rámci týmu, ale o konečném rozhodnutí rozhoduje jedine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kupinové rozhodování –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členové týmu problém společně řeší i rozhodují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Garamond"/>
              </a:rPr>
              <a:t>Metoda konsensu a dialogu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Mezi přednosti </a:t>
            </a:r>
            <a:r>
              <a:rPr b="1" i="1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skupinového rozhodování</a:t>
            </a: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 patří např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Více informací a znalost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Kombinace různých přístupů a dovednost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Širší spektrum přístupů k řešení problém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Lepší pochopení problém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Vyšší přijatelnost řešen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Stimulace myšlen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Nevýhod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Dominance některých členů skupiny, podřízenost jinýc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Prosazování preferované varian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Zamlčování nesouhlasu, preference konsenzu za každou cen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Skupinové myšlení ( nadměrná loajalita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Možnost „nákazy“ chybami jiných členů tým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Možnost vyloučení inovativních řešení hlasování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Vyšší časová náročno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etody podnikatelské etik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Stakeholderská analýza a plánování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legitimnější a efektivnější implementace etických principů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přináší větší účinnost, zabezpečuje hospodárnost, posiluje udržitelnost a udržitelný dopad, zajišťuje větší transparentnost a odpovědnost a v neposlední řadě také větší spravedlnost.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Stakeholdrem ( podílník či zainteresovaný) je myšlen takový jedinec či skupina, která má určitý vztah k podnikatelskému subjektu a může ovlivňovat jeho podnikatelskou činnost. Technika analyzující klíčové zainteresované skupiny se označuje jako stakeholderská analýzy. Ta ukazuje jejich zájmy vzhledem k cílům projektu, jejich význam v sociální síti i jejich vliv na podnik a úspěšnost projektu.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Vedle skupiny  vlastníků (akcionářů), mohou mezi další stakeholderské skupiny patřit zaměstnanci, zákazníci, dodavatelé, konkurence, vlády, stát a místní zastupitelství, veřejnost atd.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Stakeholdeř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Zaměstnanci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podstata 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zájmu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držení stabilní zaměstnanosti ve firmě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pravedlivá odměna za prác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ráce v bezpečném a příjemném prostředí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podstata 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moc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ožnost kolektivně vyjednáva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távk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ublicit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Zákazníci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odstata 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zájmu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osažení „spravedlivého“ nákupu (nakupované zboží musí hodnotou odpovídat vynaloženým prostředkům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Získání bezpečných a spolehlivých výrobků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odstata 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moc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Nákup zboží od konkurenčních fire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ojkot firem, které uplatňují nepřijatelnou politiku či jejichž zboží je nekvalitní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Stakeholderská analýz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Jednotlivé kroky stakeholderské anylýzy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86680" indent="-44316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1. Identifikace podnikových stakeholdrů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86680" indent="-44316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2. Seřazení stakeholdrů dle důležitosti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–</a:t>
            </a: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důležitý je vliv a význa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86680" indent="-44316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3. Pochopení klíčových stakeholdrů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– zjištění relevantních údajů – jak smýšlí o našem podniku, jak s nimi co nejlépe komunikovat at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48320" y="223200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Nástroje podnikatelské etik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tické kodex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rganizační struktury na podporu etického program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tický a sociální aud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ýcvik zaměstnanců k etickému jedná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tické vz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tické kodexy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Podnikové etické kodexy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– kodex konkrétních podniků či jejich část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Profesní etické kodexy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– kodexy různých asociací a sdružení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Garamond"/>
              </a:rPr>
              <a:t>Řada předností: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liminuje nežádoucí praktiky, které působí pokles přízně zákazníků, zaměstnanců, investorů, veřejnosti atd. a které mohou vést k dlouhodobým ekonomickým ztrátá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Objasňuje politiku firmy v morálně problematických otázkách, definuje akceptovatelné a neakceptovatelné jednání (korupce, úplatky, zneužívání pravomoci apod.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Zjednodušuje zavádění inovací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ozitivně motivuje zaměstnance posílením jejich vědomí, že pracují v etickém prostředí s jasnými pravidly, která platí pro všechny bez výjimk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Zlepšuje reputaci firmy na veřejnosti i u zákazníků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Zabraňuje nadřízeným zneužívat svého postavení vůči ostatním zaměstnanců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Organizační struktury na podporu etického programu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Např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Garamond"/>
              </a:rPr>
              <a:t>Etický úřad</a:t>
            </a: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– je odpovědný za každodenní vedení a implementaci podnikového etického programu. Provádí dozor nad dodržováním etického kodexu a chodem podnikové politi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Garamond"/>
              </a:rPr>
              <a:t>Pracovník odpovědný za etické postupy firmy</a:t>
            </a: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- provádí poradenství v záležitostech etické povahy, monitoruje rozvoj etického programu, jeho případné nedostatky, případy neetického jednání at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Garamond"/>
              </a:rPr>
              <a:t>Etická rada</a:t>
            </a: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– poradce v záležitostech nastavení etické politiky organizace, monitoruje program implementace etických principů do každodenního chodu organiza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Garamond"/>
              </a:rPr>
              <a:t>Etický výbor</a:t>
            </a: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– celkový dozor nad dodržováním etického programu, úzce spolupracuje se všemi, kteří jsou odpovědni za dohled a správu nad etickým programem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Garamond"/>
              </a:rPr>
              <a:t>Ombudsman</a:t>
            </a: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– zcela  nezávislý na podnikovém managementu. Místo, kde zaměstnanci či další zainteresované skupiny zcela bez obav a volně předkládají své podněty nebo kde žádají o radu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10:58:44Z</dcterms:created>
  <dc:creator>CIKT</dc:creator>
  <dc:description/>
  <dc:language>en-US</dc:language>
  <cp:lastModifiedBy>absolonm</cp:lastModifiedBy>
  <dcterms:modified xsi:type="dcterms:W3CDTF">2006-11-16T20:28:13Z</dcterms:modified>
  <cp:revision>20</cp:revision>
  <dc:subject/>
  <dc:title>Snímek 1</dc:title>
</cp:coreProperties>
</file>