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FA11-1FE5-442C-BA54-16FEB4C8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41F-8E99-4F97-A9E1-8401CEE9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C4B9-0F61-4551-8C04-05E52055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308-F9DA-422C-A068-B16013DE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F760-431D-4CA8-B723-76DF8482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ECC7-8ACA-4E1E-B377-809967B4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CEF0-7674-44FD-83EA-75EFF008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E6F6-E175-4177-811F-2D930D5C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8A9F-779A-49F0-9E05-4418CB28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F3A5-8ADE-4396-AEDC-2F2E82E9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39BE-D528-417A-B0ED-0CDFF738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804-E1F2-4086-AAFD-228953FE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65D2-4CAD-40DA-A385-4D5ECAA4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9295-AC57-4135-A723-A6F0361F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FD26-25EC-4D78-9E7B-C9F49FF6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C4BC-939A-4079-92B2-AD77754E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6358-5530-4A18-9E22-11EFAD3F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AB5-E65F-4BC7-92DD-D294459A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7194-4D75-4789-AE11-0507BAD7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90A5-36AC-4275-B07E-9C59C444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77B-5AD6-4431-968F-9502292E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D24-4C4A-4E29-8F49-121AC491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6C3-F636-4C32-9925-D5C2E5BC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E7D-8017-4716-8467-D375BADE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4C25-51C8-4650-B456-DAFD4BE701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E5E9-C46F-4C1E-8FC3-5E6E7467D61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SVĚT ZMĚ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AGEMENT I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ylva Talpov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akub Vaně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ndřej Vymaz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a 3. vl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la druhé vlny není ještě vyčerpá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flikty mezi společnostmi druhé a třetí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í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Zrychlující se svě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dská existence 50000 let – 800 gener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50 generací člověk strávil v jesky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ledních 70 generací komunikuje písm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generací zná tištěné slo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generace umí přesně měřit č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generace používají elektrický mo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00. g. vynalezla většinu věcí denní potře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potřeba energi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ovinu energie spotřebované za posledních 2000 let člověk spotřeboval za poslední stolet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třeba energie je 10x vyšší než před 200 l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užitá literatur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FFLER, A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Šok z budoucnost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Praha : Práce, 1992. ISBN 80-208-0160-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FFLER, A., TOFFLEROVÁ, H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Nová civilizace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ha : Dokořán 2001. ISBN 80-86569-00-4.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ývoj lidské společnost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INDUSTRIÁLNÍ společno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výsledek PRVNÍ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ÁL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výsledek DRUHÉ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INDUSTRIÁL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výsledek TŘETÍ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OCIÁLNÍ VERZE VLNOVÉ ANALÝZ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jímá dějiny jako sled valících se vln    změ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měřuje pozornost n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- diskontinuitu děj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- inov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- zlomové body (prům. revolu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VNÍ VL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jena se zemědělskou revolu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čátek asi 800 let př. n. 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osvětově vyčerpána až na přelomu 17. a 18. století – trvala tisíc 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akteristika první vl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ůda představuje základ hospodář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entralizované hospodář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mezená smě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dnoduchá dělba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avení člověka dáno jeho původ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itářská pravom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RUHÁ VLNA a její příči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čátek před 350 l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volána zejména průmyslovou revolu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v Nového svě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várny a parní str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ůst počtu a migrace obyvate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krokové společenské a politické myšlen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voj komunikace s vynálezem knihtis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akteristika druhé vl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voj trhu a smě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ásová výroba v továrná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ělba práce a růst produk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centrace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užívání služeb specializovaných institu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voj železnice a automobilis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vilizační konflik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ŘETÍ VL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čátek asi před 50 l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kracování vl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ináší naprosto nový způsob živ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akteristika třetí vl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drojem ekonomiky je poznání– nevyčerpatelné zdroj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sun od masových výrob ke specializ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zaměnitelnost profes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tnost neustálých inov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ůst integrace společnosti a stát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obal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ny v rodině, jiný typ nezaměstna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8:41:36Z</dcterms:created>
  <dc:creator>ondra</dc:creator>
  <dc:description/>
  <dc:language>en-US</dc:language>
  <cp:lastModifiedBy>Sylva Talpová</cp:lastModifiedBy>
  <dcterms:modified xsi:type="dcterms:W3CDTF">2006-10-18T19:32:55Z</dcterms:modified>
  <cp:revision>5</cp:revision>
  <dc:subject/>
  <dc:title>SVĚT ZMĚN</dc:title>
</cp:coreProperties>
</file>