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97EB-E9B4-4EDE-8F77-1FCACB06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38FC-B59A-4E2B-9224-B577A806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637E-DC2F-4A88-A703-BC46E0D8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36A6-E0B7-4A70-B43C-26A3CABD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A17C-ED90-42AA-AEC8-014A2F16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056E-4A6D-4858-9AF1-574AC150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CB5C-EF03-4CB5-B487-F909FB44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E40E-32B5-443D-AE66-8DA2D6B6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8BC8-B41E-4776-BD5B-76024285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82440"/>
            <a:ext cx="8539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6289-9200-48FD-8D24-516DF81D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A294-A47C-4DEC-A6E7-BAD1F515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C86D-7716-41BB-AE84-D5DB6FF7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65F6-28E0-4DF6-8BE4-D64EC378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545D-E6B2-491F-AB22-AA42FE16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5E23-0931-4D9A-BE4C-063A87EE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0193-421D-4BD6-BB11-38158A59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D44F-00B3-4903-902C-11A74011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D18D-9789-435A-8BCC-C6FCEFAE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3C86-5D40-404F-9D78-CAACF34C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D253-FB3D-4DC4-887F-307B20C9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82440"/>
            <a:ext cx="8539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8246-99A4-4EB1-80C2-2F85BBCE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F5AE-9FCA-4B0E-9AD8-1D9F1AFD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39B4-B474-411D-B9F5-9997DF28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EDCF-4423-47D5-B578-FB158243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120" y="1771200"/>
                <a:ext cx="4467960" cy="334872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320" y="1771200"/>
                <a:ext cx="6294600" cy="375516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6680"/>
                <a:ext cx="9097920" cy="493092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3760" y="1817280"/>
                <a:ext cx="8748720" cy="438012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1680" y="1561680"/>
                <a:ext cx="1253880" cy="188676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0160" y="1422360"/>
                <a:ext cx="919080" cy="177264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3240" y="1536480"/>
                <a:ext cx="3921840" cy="380232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4800" y="1693440"/>
                <a:ext cx="2220480" cy="214092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5280" y="3223440"/>
                <a:ext cx="1992960" cy="128556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4920" y="5516640"/>
                <a:ext cx="4520160" cy="125064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38920" y="1463400"/>
                <a:ext cx="506160" cy="135540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2760" y="5662800"/>
                <a:ext cx="1024920" cy="62208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8840" y="3809160"/>
                <a:ext cx="4342320" cy="304704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16" name="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80000">
                <a:off x="12600" y="6145920"/>
                <a:ext cx="118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000000">
                <a:off x="335880" y="61585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000000">
                <a:off x="293040" y="616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0000">
                <a:off x="244080" y="61650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40000">
                <a:off x="198000" y="6161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400000">
                <a:off x="579240" y="61365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0000">
                <a:off x="482760" y="6149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60000">
                <a:off x="430560" y="615708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40000">
                <a:off x="819720" y="6073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0000">
                <a:off x="774000" y="6079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0000">
                <a:off x="677160" y="6108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080000">
                <a:off x="960120" y="6013440"/>
                <a:ext cx="993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0000">
                <a:off x="1267200" y="5842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0000">
                <a:off x="1224720" y="5867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0000">
                <a:off x="1181880" y="5895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840" y="4070160"/>
                <a:ext cx="284760" cy="23904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60000">
                <a:off x="1474560" y="3948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40000">
                <a:off x="1249560" y="38541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40000">
                <a:off x="1292760" y="38664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80000">
                <a:off x="1029960" y="3807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0000">
                <a:off x="1122120" y="3825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40000">
                <a:off x="8006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0000">
                <a:off x="846360" y="38037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698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380000">
                <a:off x="566640" y="38347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60000">
                <a:off x="614160" y="382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20000">
                <a:off x="666000" y="382248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40000">
                <a:off x="715680" y="38124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80000">
                <a:off x="330840" y="3904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60000">
                <a:off x="379800" y="3888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0000">
                <a:off x="425880" y="387288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60000">
                <a:off x="465120" y="385740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00000">
                <a:off x="104400" y="3999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20000">
                <a:off x="242280" y="393588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7480" y="4977360"/>
                <a:ext cx="322560" cy="18972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120" y="4321800"/>
                <a:ext cx="142200" cy="12312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6600" y="4209480"/>
                <a:ext cx="159480" cy="14076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3880" y="5556600"/>
                <a:ext cx="131040" cy="12312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0040" y="4416840"/>
                <a:ext cx="142200" cy="11376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3440" y="4312440"/>
                <a:ext cx="142200" cy="13248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040" y="6086880"/>
                <a:ext cx="9000" cy="187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4040" y="4057560"/>
                <a:ext cx="47160" cy="759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4040" y="6096240"/>
                <a:ext cx="56880" cy="10440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2840" y="5668920"/>
                <a:ext cx="227520" cy="243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20000">
                <a:off x="981000" y="5632920"/>
                <a:ext cx="107640" cy="108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4760" y="3975480"/>
                <a:ext cx="550440" cy="201312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680" y="6245280"/>
            <a:ext cx="2287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2878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C3865D-A103-4C6A-9DBB-0A32C4FCD7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120" y="1771200"/>
                <a:ext cx="4467960" cy="334872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320" y="1771200"/>
                <a:ext cx="6294600" cy="375516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6680"/>
                <a:ext cx="9097920" cy="493092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3760" y="1817280"/>
                <a:ext cx="8748720" cy="438012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1680" y="1561680"/>
                <a:ext cx="1253880" cy="188676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0160" y="1422360"/>
                <a:ext cx="919080" cy="177264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3240" y="1536480"/>
                <a:ext cx="3921840" cy="380232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4800" y="1693440"/>
                <a:ext cx="2220480" cy="214092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5280" y="3223440"/>
                <a:ext cx="1992960" cy="128556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4920" y="5516640"/>
                <a:ext cx="4520160" cy="125064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38920" y="1463400"/>
                <a:ext cx="506160" cy="135540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2760" y="5662800"/>
                <a:ext cx="1024920" cy="62208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8840" y="3809160"/>
                <a:ext cx="4342320" cy="304704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208" name="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80000">
                <a:off x="12600" y="6145920"/>
                <a:ext cx="118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000000">
                <a:off x="335880" y="61585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000000">
                <a:off x="293040" y="616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0000">
                <a:off x="244080" y="61650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40000">
                <a:off x="198000" y="6161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400000">
                <a:off x="579240" y="61365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0000">
                <a:off x="482760" y="6149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60000">
                <a:off x="430560" y="615708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40000">
                <a:off x="819720" y="6073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0000">
                <a:off x="774000" y="6079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0000">
                <a:off x="677160" y="6108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080000">
                <a:off x="960120" y="6013440"/>
                <a:ext cx="993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0000">
                <a:off x="1267200" y="5842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0000">
                <a:off x="1224720" y="5867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0000">
                <a:off x="1181880" y="5895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840" y="4070160"/>
                <a:ext cx="284760" cy="23904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60000">
                <a:off x="1474560" y="3948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40000">
                <a:off x="1249560" y="38541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40000">
                <a:off x="1292760" y="38664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80000">
                <a:off x="1029960" y="3807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0000">
                <a:off x="1122120" y="3825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40000">
                <a:off x="8006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0000">
                <a:off x="846360" y="38037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698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380000">
                <a:off x="566640" y="38347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60000">
                <a:off x="614160" y="382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20000">
                <a:off x="666000" y="382248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40000">
                <a:off x="715680" y="38124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80000">
                <a:off x="330840" y="3904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60000">
                <a:off x="379800" y="3888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0000">
                <a:off x="425880" y="387288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60000">
                <a:off x="465120" y="385740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00000">
                <a:off x="104400" y="3999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20000">
                <a:off x="242280" y="393588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7480" y="4977360"/>
                <a:ext cx="322560" cy="18972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3120" y="4321800"/>
                <a:ext cx="142200" cy="12312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6600" y="4209480"/>
                <a:ext cx="159480" cy="14076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3880" y="5556600"/>
                <a:ext cx="131040" cy="12312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0040" y="4416840"/>
                <a:ext cx="142200" cy="11376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3440" y="4312440"/>
                <a:ext cx="142200" cy="13248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040" y="6086880"/>
                <a:ext cx="9000" cy="187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4040" y="4057560"/>
                <a:ext cx="47160" cy="759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040" y="6096240"/>
                <a:ext cx="56880" cy="10440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2840" y="5668920"/>
                <a:ext cx="227520" cy="243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20000">
                <a:off x="981000" y="5632920"/>
                <a:ext cx="107640" cy="108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4760" y="3975480"/>
                <a:ext cx="550440" cy="201312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09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22842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284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F1F17-D5EC-480A-B3DE-73CE5B3E5A6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7240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Organizační kultura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31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lva Talpová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kub Vaně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dřej Vymaz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ěkujeme za pozor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užitá literatura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5406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LUKÁŠOVÁ, R., NOVÝ, I. a kol.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Organizační kultur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Praha : Grada, 2004. ISBN 80-247-0648-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OVÝ, I. a kol. 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Interkulturální management.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aha : Grada, 1996. ISBN 80-7169-260-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OVÝ, I., SCHROLL-MACHL, S. a kol.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Interkulturni komunikace v řízení a podnikání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Praha : Management Press, 1999. ISBN 80-7261-009-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ul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pecifický způsob organizce, realizace a rozvoje činnosti, objektivizovaný ve výsledcích fyzické a duševní prá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še, co človek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tvořil a přetvořil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během gener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ultura s přírodou koexistuje, ale neprolíná se s 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rolínání kultu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2340000"/>
            <a:ext cx="854064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ždá sociální skupina má svou vlastní kultu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upiny nejsou izolované =&gt; kultury nejsou izolovan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orba a ovlivňování kultury i díky vzájemnému prolín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 okruhy kultu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áboženský okruh – širší než národní kult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árodní okruh – historický kulturní fenomén, především 19. sto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ruh jednotlivých sociálních subjektů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odina, organizace, profesní skupin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rganizační kul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působy interakce a komunikace mezi lid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ásady, pravidla, sociální no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bor základních předpokladů, hodnot, postojů a norem chov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sou sdíleny v rámci organizace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07880"/>
                <a:tab algn="l" pos="8049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7680"/>
                <a:tab algn="l" pos="3265560"/>
                <a:tab algn="l" pos="3673440"/>
                <a:tab algn="l" pos="408132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2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vky organizační kultu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56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ákladní předpoklady - představy o fungování re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dnoty - člověkem považováno za důležit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stoje - pozitivní nebo negativní poc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rmy chování – nepsaná pravidla, zásady chován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česká podniková kultura pohledem německé kultu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improvizace a flexibili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nedůvěra vůči pravidlů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kvali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velkorysost, schopnost být nad věcí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Doporučení německým podnikatelů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538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předpokládat splněné požadav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dat jasné požadavky – ale nechat i částečnou vol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ýsledek bude vždy trochu jiný než požadav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Americká versus česká kul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41767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meričané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rientace na nejlepší výsled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ětší míra samostat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naha zmiňovat své úspěc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4859280" y="1773360"/>
            <a:ext cx="417672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eši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spokojení i v průběhu prá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irektivní řízení, větší doh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ětší skromno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ndra</dc:creator>
  <dc:description/>
  <dc:language>en-US</dc:language>
  <cp:lastModifiedBy>ondra</cp:lastModifiedBy>
  <dcterms:modified xsi:type="dcterms:W3CDTF">2006-12-02T20:37:38Z</dcterms:modified>
  <cp:revision>1</cp:revision>
  <dc:subject/>
  <dc:title>SVĚT ZMĚN</dc:title>
</cp:coreProperties>
</file>