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FBE4-4F9C-412B-AD40-D44DDBF3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E372-9FE9-4592-88D8-E43F24C0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7601-577A-4A4B-990F-78373F37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8E02-689C-45C1-80A6-A0330AA1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44B7-5F9E-46F5-AE90-150BB3DC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8DA0-53BB-4967-B906-A937D616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F8F6-89B2-42F7-8FB2-C4971948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0806-8547-4A98-8A42-C5A0D1E8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805C-711A-499D-8219-5FA94D2C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F199-4286-444E-A69C-9F37BCE0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CF3D-D23B-46AF-B2CC-6484FA96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C085-D8CE-4D29-A918-6416F7E1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29C5-0D46-493A-897B-B0B236E2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70AC-2CB1-4600-B667-6ED95FC6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FA11-0CE6-466E-8A73-CDBB6CDD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2145-1A12-417A-81F3-DFA00886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A769-5B67-44FB-86F7-8E238940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551A-113D-49B7-AFF9-1F4A1D68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109B-D1C2-4719-BDB8-76FDA9E3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EEEF-54F2-4BFD-9B83-74533542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7BB8-B658-4149-B42A-120656FE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73FD7-A744-40D5-986B-B97DC681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B9C5-2E15-47A8-8E72-232E0740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B1F5-E027-4682-A4F0-B5ABCB89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ECE7-A62A-416D-9FEE-E67F129D21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0F7-272E-45F8-BBB1-E4E7E7097C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240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e5e5ff"/>
                </a:solidFill>
                <a:latin typeface="Garamond"/>
              </a:rPr>
              <a:t>Family busine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máš Don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Iveta Pechar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Hrozby pre existenci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Nepot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yndróm zhýčkaného dieťať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uch otca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ojenie´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ritický okami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92000" y="2421000"/>
            <a:ext cx="583236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ff"/>
                </a:solidFill>
                <a:latin typeface="Garamond"/>
              </a:rPr>
              <a:t>NÁSTUPNÍCTVO..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klady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ord Motor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. C. Johnson &amp; S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rocter &amp; Gambl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al-Mar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udva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tella Artoi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uinn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Mar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Zildj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aber-Cas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hristie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h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eretta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ff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voli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iemen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Encyclopædia Britannic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Lloyd's of Lond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ank of New Yor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JPMorgan Chas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American Expr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HSBC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estern Uni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itiban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orth West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ilkins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oldsmith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DuPo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fizer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gat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oper, Erving &amp; Savag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Guard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Inquirer &amp; Mirr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Saturday Evening Pos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Referenc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Kotey, B. (2005)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‘Are performance differences between family and non-family SMEs uniform across all firm size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International Journal of entrepreneurial behaviour and research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ol.11 (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hrisman, J. J. (2005) ‘Trends and directions in the development of a strategic management theory of the family firm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Sept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arney, M. (2005) ‘Corporate governance and competitive advantage in family-controlled firm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M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anzelkova, A. (2004) ‘Re-establishing traditional czech family businesses’ Publishing Unit, University Library of Jyvaskyla, ISBN 951-39-1909-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efiníc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Rôzne kritá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ercentuálny podiel na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generácií spojených s podnik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Veľkosť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udúce zámery (zapojenia firm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ontrola nad strategickým rozhodovaní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rodinných príslušníkov vo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Charakteristika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amily business je spoločnosť vlastnená, kontrolovaná a riadená členmi jednej alebo niekoľkých rodí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o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kúposť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ersonaliz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rtikularis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odinn</a:t>
            </a: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é podniky v Českej Republik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1. tento druh podnikov – oficiálne ešte nerozpoznaný ako špecifická forma obchodnej jednotky (na úrovni akademickej i vládnej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2. unikátna história –&gt; niekoľko špecifických skupín podni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3. dôsledok = väčšia výzva než v rozvinutejších ekonomiká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ategór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62744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2592360"/>
                <a:gridCol w="2962440"/>
              </a:tblGrid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oba pôsoben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l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át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osť podnik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Mal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živnosti a iné mikro-obch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živnosti a iné mikro-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ôležitosť rodinných podniko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otec a syn´ x nadnárodné korporácie, ale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enetton, Ferrerro, Ford, Estee Lauder,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Ekonomická hodnota a význ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GDP, zamestanosť – 45 - 70% (sve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Zastúpenie medzi firmamy – 70 - 9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Percento rodinných firiem z registrovaných firi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aj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ercen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ortuga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pojené Kráľovst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panie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ajčiar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éd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alian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tredný výc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U.S.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8360" y="6308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6381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  <a:ea typeface="Arial"/>
              </a:rPr>
              <a:t>Zdroj: Neubauer a Lank,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Family vs. Non-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Práca s vlastným / cudzím kapitál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ík = /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≠ CE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Odpovednosť rodine / vlastník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Byrokracia / možnosť obísť 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naha o dlhodobé a priateľské vzťahy / neosobnosť, formálnosť a komplexnosť v partnerských vzťah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tomnosť rodiny – plus/mín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úbežné ro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Zdieľaná ident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Citové zaujatie a ambival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ýznam rodinného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13:58Z</dcterms:created>
  <dc:creator>something</dc:creator>
  <dc:description/>
  <dc:language>en-US</dc:language>
  <cp:lastModifiedBy>Tomas Donat</cp:lastModifiedBy>
  <dcterms:modified xsi:type="dcterms:W3CDTF">2006-11-06T22:47:46Z</dcterms:modified>
  <cp:revision>3</cp:revision>
  <dc:subject/>
  <dc:title>Family business</dc:title>
</cp:coreProperties>
</file>