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E19A-F3F8-4BA6-B0C6-D1C90FBA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AD1-E45A-4094-89D1-58CEBCEB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AFC-D379-4631-B972-299490DC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EBE-4AE7-43B4-83BB-B5BF1245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C0D0-F663-4346-8506-4574514B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E8FD-7D80-43A6-8C8A-2245CDE2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A56D-C17C-4640-8488-27028003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11D4-2B7A-47B3-8F0B-96FFB70E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C3D6-E689-4957-A34A-DC3B5CFD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D63D-11AD-4E1C-BBAC-B018B293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8E7B-ADBB-4060-B9F3-12A52A50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9B7-9CD9-4534-9B85-CFBD750F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2393-0B97-4C3C-A868-5415300B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8562-68E6-4F3F-B324-F761CDD2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4A81-CD42-465E-8635-021D8399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3769-CCDB-4E3C-A4F4-73EA3740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D1C1-4D63-4853-8D1E-3025B28E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CF54-5399-4CC2-B9FE-FE83458C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334-B856-49A5-BA2D-AE82FAC3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9E8-F72B-45CB-BF0B-E84C598D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5C7-E15E-4D17-AA3E-D79AF906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4CF-F2E8-43B5-9FBD-E6EC0303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912-8430-4403-90C0-A9BB5176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F33-93ED-4A9B-B542-0BE1944F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8D73-D2CE-4720-855D-43A63C27D1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775A-05AC-44A5-8AA5-DEC2C33484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Ako s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klada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ť účty spoločnosti?</a:t>
            </a: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r>
              <a:rPr b="0" lang="cs-CZ" sz="2400" spc="-1" strike="noStrike">
                <a:solidFill>
                  <a:srgbClr val="333399"/>
                </a:solidFill>
                <a:latin typeface="Tahoma"/>
              </a:rPr>
              <a:t>Koncepty spoločenskej zodpovednosti firi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63640" y="4581000"/>
            <a:ext cx="2808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ichal Koz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etr Novo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iliam Štefán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5516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12.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Ako matica funguje :Automobilový  priemysel na západoeur. trhu  a bezpečnosť- CSR Renault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16280"/>
          <a:ext cx="8002440" cy="4343400"/>
        </p:xfrm>
        <a:graphic>
          <a:graphicData uri="http://schemas.openxmlformats.org/drawingml/2006/table">
            <a:tbl>
              <a:tblPr/>
              <a:tblGrid>
                <a:gridCol w="3898800"/>
                <a:gridCol w="410364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„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zpečnosť pre všetkých“- výuka detí v základoškolskom a stredoškolskom veku o dopravných rizikách v okolí školských zaria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zkum technológii pre zvýšnie mobility a bezpečného riadenia telesne postihnutý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bovanie za sprísnenie vynútenia porušení dopravných predpis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upráca pri vývoji inteligentných dopravných systémov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bovanie u štátnych autorít za bezpečnosť ci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irbagy  v základnej výbave, ABS,ES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riálové a konštrukčné no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zpečnostné pá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ovanie NCAP a po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817560" cy="781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108920" y="5057640"/>
            <a:ext cx="865080" cy="830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MCj02297130000%5b1%5d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780840" cy="922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Ďakujeme za pozornosť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084360" y="4581360"/>
            <a:ext cx="280836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ichal Koz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etr Novotn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iliam Štefáni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rtin, J.(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2002)Virtue matrix:Calculating the return on corporate responsibilit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Harvard Business revie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arrol, J. 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991)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he Pyramid of Corporate Social Responsibility: Toward the Mo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Management of Organizational Stakeholder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siness Horiz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http://www.renault.com/renault_com/en/main/30_DEVELOPPEMENT_DURABLE/40_Performances/40_Societal/10_Objectifs/Actions/index.asp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vies, I.(2005)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he biggest contrac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 The Econom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Spoločenská zodpovednosť firiem(CS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bližne od 70.rokov trvalá agen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definícía(?) - aktivity nad rámec bežných zodpovedností firiem v záujme budovania vzťahov  so stakeholderm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Bežný rámec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äčšina firiem operuje v mnohých geopolitických systémo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I v rámci jedného subsystému neustále zmeny hodnô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Posun myslenia vo vzťahu k CS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vyšovanie nárokov na manažérsku eti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mena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entrálnej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ázky :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SR á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i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R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ak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un k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chápaniu ako strategickej investíc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tváranie teoretických rámc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407664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4724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arrolova pyram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í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2060640"/>
            <a:ext cx="5892840" cy="39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-2811600" y="189000"/>
            <a:ext cx="2811600" cy="1547280"/>
            <a:chOff x="-2811600" y="189000"/>
            <a:chExt cx="2811600" cy="1547280"/>
          </a:xfrm>
        </p:grpSpPr>
        <p:sp>
          <p:nvSpPr>
            <p:cNvPr id="111" name=""/>
            <p:cNvSpPr/>
            <p:nvPr/>
          </p:nvSpPr>
          <p:spPr>
            <a:xfrm>
              <a:off x="-2049840" y="482040"/>
              <a:ext cx="12884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2401200" y="891720"/>
              <a:ext cx="19915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-2811600" y="1360800"/>
              <a:ext cx="2811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-1874160" y="189000"/>
              <a:ext cx="9954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-1639800" y="1048320"/>
              <a:ext cx="6148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1668960" y="618480"/>
              <a:ext cx="6735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1771560" y="1477800"/>
              <a:ext cx="8784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333399"/>
                  </a:solidFill>
                  <a:latin typeface="Times New Roman"/>
                  <a:ea typeface="SimSu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508720" y="2637000"/>
            <a:ext cx="2448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66"/>
                </a:solidFill>
                <a:latin typeface="Times New Roman"/>
                <a:ea typeface="SimSun"/>
              </a:rPr>
              <a:t>vrátiť spoločnosti požiča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4294080"/>
            <a:ext cx="187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8080"/>
                </a:solidFill>
                <a:latin typeface="Times New Roman"/>
                <a:ea typeface="SimSun"/>
              </a:rPr>
              <a:t>rešpektovať  zá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508464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byť profitabiln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     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 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preži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cccc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3502080"/>
            <a:ext cx="2160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Times New Roman"/>
                <a:ea typeface="SimSun"/>
              </a:rPr>
              <a:t>Rešpektovať morálne normy</a:t>
            </a:r>
            <a:r>
              <a:rPr b="1" lang="en-GB" sz="1600" spc="-1" strike="noStrike">
                <a:solidFill>
                  <a:srgbClr val="008080"/>
                </a:solidFill>
                <a:latin typeface="Times New Roman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2854440"/>
            <a:ext cx="233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Žiadúc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437000"/>
            <a:ext cx="1747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vyžad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3718080"/>
            <a:ext cx="17780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očaká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3141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antrop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378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581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5229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onom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92360" y="3502080"/>
            <a:ext cx="2016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29408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5086440"/>
            <a:ext cx="417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422100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22100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422100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5229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vyžad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Carrolova pyramí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Jednoduchosť, všeobecná aplikovateľnos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Logická následnosť zodpoved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ukazuje na nutnosť konzistencie spôsobu akým firma zvyšuje spoločenskú angažovanos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filantropia- podnikové dárcovstvo= špička ľadov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 príklady že toto nie vždy funguje netreba chodiť ďaleko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ČEZ                             CSR, či len P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oyo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Na druhej strane...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ejednoznačnosť etickej zodpovednosti- čo je v danom momente a v danom systéme hodn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ôt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očakávané“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NC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s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často  útek k „lacnej“ firemnej  filantropii - riešenie?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poločenský prínos nesporný,dlhodobý prínos pre firmu samotnú takmer neexistujú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Čiastočná odpove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637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ger Martin(200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hápe CSR ako produkt, aktív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oukazuje na  nutnosť hľadať strategické oblasti CS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tvára tzv. „Maticu ctností“(Virtue matri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Nie priame riešenie, ale nástroj analýzy prostredia a síl ktoré utvárajú spoločenskú zodpovednosť  firi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SR aktivity categorizuje z dvoch hľadís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.Zdroj ich motiváci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I. Prínos pre akcionársku hodnotu(shareholders val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Tahoma"/>
              </a:rPr>
              <a:t>„</a:t>
            </a:r>
            <a:r>
              <a:rPr b="1" lang="sk-SK" sz="4400" spc="-1" strike="noStrike">
                <a:solidFill>
                  <a:srgbClr val="333399"/>
                </a:solidFill>
                <a:latin typeface="Tahoma"/>
              </a:rPr>
              <a:t>Matica ctností“ </a:t>
            </a:r>
            <a:br>
              <a:rPr sz="28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22680" y="1646280"/>
            <a:ext cx="4728960" cy="4481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2852640"/>
            <a:ext cx="1316160" cy="343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trateg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35640" y="2781360"/>
            <a:ext cx="1584360" cy="487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štrukturá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797360"/>
            <a:ext cx="114300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Vô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4797360"/>
            <a:ext cx="1944720" cy="503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Vyhov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628280"/>
            <a:ext cx="410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medzie (front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nútorne motiv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5589720"/>
            <a:ext cx="4392360" cy="71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ivilná základňa (civil foundation)=  nápomocné,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xterne motiv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4365720"/>
            <a:ext cx="503280" cy="1150920"/>
          </a:xfrm>
          <a:prstGeom prst="upArrow">
            <a:avLst>
              <a:gd name="adj1" fmla="val 50000"/>
              <a:gd name="adj2" fmla="val 57171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4360" y="4292640"/>
            <a:ext cx="503280" cy="1152360"/>
          </a:xfrm>
          <a:prstGeom prst="upArrow">
            <a:avLst>
              <a:gd name="adj1" fmla="val 50000"/>
              <a:gd name="adj2" fmla="val 57242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63817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evzaté z Martin, R.(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99"/>
                </a:solidFill>
                <a:latin typeface="Tahoma"/>
              </a:rPr>
              <a:t>Martin- Prečo sa inovatívnosť v CSR vyplác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. púhe držanie sa  civilnej základne nestačí a podnik sa vystavuje riziku  bojkotu  zo strany stakeholderov (podobne ako Carro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I. podnecuje i konkurenciu k hľadaniu vlastných inovácii,  z čoho, ak sa tieto ukážu ako strategické,  ťaží celé odvetvie.(  je ľahšie dobré praktiky kopírovať, než nájsť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II.i inovácie, ktoré sa nepreukážu ako strategické  majú význam,  dávajú podnety legislatíve, môžu byť vynútené štátnym zásah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V. s vývozom kapitálu môžu  dobré praktiky navýšiť civilnú základňu v rozvojových krajinách, kde štátna regulácia je nedostatočná- konvergencia globálneho sociálneho prostred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1:40:26Z</dcterms:created>
  <dc:creator>Liam</dc:creator>
  <dc:description/>
  <dc:language>en-US</dc:language>
  <cp:lastModifiedBy>Liam</cp:lastModifiedBy>
  <dcterms:modified xsi:type="dcterms:W3CDTF">2006-12-04T00:59:21Z</dcterms:modified>
  <cp:revision>33</cp:revision>
  <dc:subject/>
  <dc:title>Ako utvárať spoločenské dobro. koncepty spoločenskej zodpovednosti firiem</dc:title>
</cp:coreProperties>
</file>