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213C-C930-4BEF-8ACC-E4D60A883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CC65-EC18-4743-8809-0CD081C2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5ED3-E0FB-43AF-890A-54D94A428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1D78-9C9F-4E5B-AD3B-62316DF9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143E-839F-4012-88C7-6F2EC91F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F90E-2A3D-4070-994A-70DC3586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2AB0-6A72-4E47-B560-1EF18AB3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5387-519E-4D20-AFFF-8ACAA488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0470-1CA0-42AC-AC40-C0EAE338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8759-D143-4D77-AFAF-F33EEF15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A18E-A64E-4E53-814E-7B2C66D5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8B88-A819-47B5-9D00-99984BE2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973A-6EEA-41CE-9D0C-51D16972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4CDD-82D6-4FCF-9126-0006A9E9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06EF-047C-4487-BFC4-75EB8B09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8A2C-C29C-4F2F-85D5-BDCB03866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889F-EAB7-463D-BDC7-2BCB3D98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E530-BEDA-4895-811F-B6C16CEF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7194-BC86-41BF-9A75-1D2D5C61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F8A4-9A93-4906-BF0C-CA96AD5B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3C54-003C-49C5-AE90-DD7B225D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FB3B-9B56-4F9D-A6AA-023F75CF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AB0A-3BE9-4D04-9CA5-D3D100F2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65D1-56C7-4888-9EA1-958A6155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169E-9C62-4917-BC1E-B17840193635}" type="slidenum">
              <a:rPr b="0" lang="sk-SK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850A-9C79-4DD2-BD8D-DCF8D491FD21}" type="slidenum">
              <a:rPr b="0" lang="sk-SK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Stakeholdeři a jejich význ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3200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ezie Kouřilo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tina Pospíšilo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2000" y="214200"/>
            <a:ext cx="7251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Využití analýzy- příklad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Tahoma"/>
              </a:rPr>
              <a:t>Trendy v současnosti např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Tahoma"/>
              </a:rPr>
              <a:t>Expanze fir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Tahoma"/>
              </a:rPr>
              <a:t>CSR aktivi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dro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Eva Kislingerová, Ivan Nový a kol. – Chování podniku v globalizujícím se prostředí. Praha: C.H.Beck 2005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Jaromír Veber a kol. – Management – základy, prosperita, globalizace. Praha: Management Press 2005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Refik Culpan a John Trussel – Applying the Agency and Stakeholder Theories to the Enron Debacle: An Ethical Prspective. Business and Society Review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Spring2005, Vol. 110 Issue 1, p59-76</a:t>
            </a:r>
            <a:r>
              <a:rPr b="1" lang="cs-CZ" sz="1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Dirk Matten a Andrew Crane – What is stakeholders democracy? Perspectives and issues. Business Ethics: A European Review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Jan2005, Vol. 14 Issue 1, p6-13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Crosby, Benjamin L. March 1992. "Stakeholder Analysis: A Vital Tool for Strategic Managers."Technical Notes, no. 2. Washington, DC: Implementing Policy Change Project for the USAgency for International Development (USAI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Definice stakeholder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1579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takeholders =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soby či skupiny osob, které ovlivňují danou firmu nebo jsou jednáním této firmy samy dotčeny, tj. jsou dobrovolně nebo nedobrovolně vystaveny riziku spojenému s aktivitami firmy. (Veber a kol.,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=&gt; stakeholder approach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anažeři berou při rozhodování v úvahu zvyšování míry uspokojování oprávněných zájmů všech zúčastněných skupin nejen vlastníků podnik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ývo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znik ucelené teorie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v 80. letech - Freem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ednotlivé skupiny stakeholderů byly do té doby analyzovány oddělen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ůležitost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komplexního pojetí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roste s rozvojem velkých mezinárodních korporací, kdy úspěšnost podniku záleží z velké míry na vztazích s okolí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oučasný trend –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akeholder democra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jmy jednotlivých skupin jsou často protichůdné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yjednávací síla a pozice se liší mezi jednotlivými  skupinami stakeholderů i mezi odvětvími a kultura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ahoma"/>
              </a:rPr>
              <a:t>Skupiny stakeholderů a příklady jejich zájmů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2205000"/>
            <a:ext cx="855972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LASTNÍCI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hodnocení investovaného kapitál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tiž a společenské postavení, vliv na rozhodování, možnost seberealiz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AMĚSTNANCI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zda, sociální jistoty, zařazení v kolektivu, možnost uplatně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ĚŘITELÉ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stota navrácení a zhodnocení kapitál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000" y="220464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DAVATELÉ – možnost odbytu, dodací a platební podmínky, obchodní vzta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ÁKAZNÍCI – kvalitní zboží a služby, výhodné ceny a podmínky, důvě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ÁT – placení daní, dodržování právních předpisů, zajištění pracovních míst, rozvoj region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TATNÍ – např. ekologická hnutí, oborové asociace, humanitární organizace, média at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Skupiny stakeholderů a příklady jejich zájm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Analýza Stakeholder</a:t>
            </a: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ů</a:t>
            </a: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81374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Kde se využí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Je součástí konceptu „stakeholder management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dklad k projekt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 a plánová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Jaké informace zjistí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Kdo jsou nejd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ůležitější stakeholdeř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Jaký mají vliv na společ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Jaký mají zájmy ve vztahu k naší společ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Analýza Stakeholder</a:t>
            </a: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ů</a:t>
            </a: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 -post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86310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Definovat všechny stakehold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Získávání dat- primární , sekundár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yhodnocení charakteristik (znalost společnosti, zájem, vliv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ytvoření „mapy stakeholder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ů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yvození závěrů a plán komunik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050920" y="1143000"/>
            <a:ext cx="5040360" cy="45910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119700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50920" y="3429000"/>
            <a:ext cx="49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2606760"/>
            <a:ext cx="8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liv,sí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95640" y="6021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áj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50920" y="5734080"/>
            <a:ext cx="5113440" cy="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050920" y="1125360"/>
            <a:ext cx="0" cy="460872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63640" y="5805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95640" y="184464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bát na spokoje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16360" y="4005360"/>
            <a:ext cx="23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Udržet informova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4221000"/>
            <a:ext cx="24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onitor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88000" y="1844640"/>
            <a:ext cx="27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ejužš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80000" y="278136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24360" y="3933720"/>
            <a:ext cx="216000" cy="2160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59280" y="2852640"/>
            <a:ext cx="216000" cy="216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1413000"/>
            <a:ext cx="215640" cy="21564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72360" y="3933720"/>
            <a:ext cx="215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993080" cy="15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Proč je dobré znát stakehold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dklad k projekt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ů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trategické plánová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rogramy, inovace, nové pravidla, zákony apo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ojekt/plán má větší šanci na úspě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Možnost předejít nedorozumění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Komunikace se stakeholdry bude efektivnějsí a přínosnějš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8:59:06Z</dcterms:created>
  <dc:creator>Terka</dc:creator>
  <dc:description/>
  <dc:language>en-US</dc:language>
  <cp:lastModifiedBy>1</cp:lastModifiedBy>
  <dcterms:modified xsi:type="dcterms:W3CDTF">2006-11-08T15:50:47Z</dcterms:modified>
  <cp:revision>34</cp:revision>
  <dc:subject/>
  <dc:title>Stakeholdeři a jejich analýza</dc:title>
</cp:coreProperties>
</file>