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C71-48A3-48BE-99A1-A4A2D968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ADB-C87F-4ED3-A345-159494B6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866-D42C-4442-A6C2-EE38F16E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D2F2-8ED8-4BAC-9153-47FC885B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F1C1-F16F-4202-AEDF-AE922F88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18BF-53AC-44FD-A239-2F37F1E5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6A3E-75C0-4221-B0A8-5C8BA55E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72FF-E47F-46FE-9A9B-6A93593F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D58F-7C34-4665-9B20-DF665B5E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6720-88E4-4DE0-9DA3-85B36232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54C0-2BFD-4C15-BC3F-3C712E31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93D-DD1C-4C0A-B554-20194AAB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1FE9-CBBE-4521-9373-D1A96761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C90B-3005-49D0-8968-894EF633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E2EB-F68E-4969-9440-063C7FF1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282B-C237-4FDC-84C0-F472819D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F92B-DBE0-46B8-8DDA-797F0568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E3F-3532-45DE-BFAE-60025E05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037-F368-4BCA-BF61-BE928D4A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EDE-09D1-4AF8-B7FB-E2F8F0A2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C24-807E-434E-B516-C09CCD11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ED8-DF41-4117-B280-BCF52EBD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E185-EF2D-4168-9374-9C6FB0D4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1EF-0B2B-4044-8C78-36DB9D92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EB96-A694-4C41-9A83-15EDE12D078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9A2B-AF00-47BD-A54D-1776AE357D1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06524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003366"/>
                </a:solidFill>
                <a:latin typeface="Times New Roman"/>
              </a:rPr>
              <a:t>Jak FORD k penězům přišel…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657600" y="4191120"/>
            <a:ext cx="4495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...aneb Fordi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172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 Narrow"/>
              </a:rPr>
              <a:t>Ján Kušev, </a:t>
            </a: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Tomáš Simbartl, Štěpán Draž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ord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2667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droje: encyklopedie Wikipedia (www.wikipeida.org); skriptum prof. Blaž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0" sz="4400" spc="-1" strike="noStrike">
                <a:solidFill>
                  <a:srgbClr val="003366"/>
                </a:solidFill>
                <a:latin typeface="Times New Roman"/>
              </a:rPr>
              <a:t>ord, Henr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y Ford 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(1863-1947)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Z farmy ke stroj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en: sestrojení automobi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První pokus = kr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znik Ford Motor Company v Detroitu (19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086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3366"/>
                </a:solidFill>
                <a:latin typeface="Times New Roman"/>
              </a:rPr>
              <a:t>Ústup řemeslné výroby, přechod k hromadné produkci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4191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Řemesl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přelom 19. a 20. sto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Univerzální ná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alifikovaná práce řemesl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ízký objem výroby a nízká produktivita (max. 1000 aut/r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ečný stimul pro rozvoj 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1676520"/>
            <a:ext cx="3657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ásová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po 1. W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ontážní lin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nížení náklad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růst produk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ývoj technologií a           inovace výro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ordismus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(po 1. WW – 60. lét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rma prod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vedení montážních li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=&gt; masová produkce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(inspirace na jatká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019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449604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ordismus a Model 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oč to vše? Automobil pro každéh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tandardizovaná produkce 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..můžete ho mít v jakékoli barvě, pokud to bude černá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acovní podmí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soké platy...(dělník si musí vydělat na produkt, který vyráb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...ale monotónní, demotivující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oj proti odborů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ra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Fordismu, resp. Tayloris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line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620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1913lg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62863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st-Fordismu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ová éra průmy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ozvoj inform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onec homogenního trhu a prod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měna v organizaci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nížení státních interven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evýhody Post-Ford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ordismus vs. Post-Fordismu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Homogenní produkce a spotřeba X variabilita produktů pro různorodé zákazníky (Ford dnes vlastní Jaguar, Aston Martin, Volvo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epetitivní práce X inovativní činnost (job enlargement a enrich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ontrola trhu X přizpůsobivost podni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6:42:19Z</dcterms:created>
  <dc:creator>76275</dc:creator>
  <dc:description/>
  <dc:language>en-US</dc:language>
  <cp:lastModifiedBy>Simbartl</cp:lastModifiedBy>
  <dcterms:modified xsi:type="dcterms:W3CDTF">2006-10-25T15:44:49Z</dcterms:modified>
  <cp:revision>53</cp:revision>
  <dc:subject/>
  <dc:title>Ako Ford k peniazom prišiel…</dc:title>
</cp:coreProperties>
</file>