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E58F-24EC-4FBE-8232-FF9BF148E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E8DC-3654-463D-B7D7-10520F963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5050-F13E-4E43-A9A5-2C61444C9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48FB-3B31-4EFF-A68D-6F1F031F5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C45BE-D454-4B61-98A5-46061AB9E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E78C0-4AB0-4203-9828-10C4E4B3B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878F4-0EAB-4EAC-89EB-24B710C64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48180-976B-40D3-98CD-6EF694D91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A4E5F-00C5-447D-AA22-3184E0959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39AA5-0948-4DA7-8E97-DAACE6E92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7DC82-3197-4B88-B665-37239D45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8857-2713-414C-8F33-1FDCD026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0B4B8-566F-4DAB-AF85-23E6B998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AE04B-9C96-42E1-B413-FBDACE1C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4C8F1-7806-4A8B-944C-EACD75513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A93D1-5A76-4D60-BC2E-B08A873BF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B4F47-7832-4D87-9806-58F878626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0E15-BE5B-413D-B98E-F31C55213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C9CC-26F8-421E-9D87-94A781936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4241-AAEF-48CC-B973-66B355A2C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A981-5978-4E3A-84F2-61DE662F2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3C68-9E27-4C33-A6A6-C7633180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CDCB-7956-4FB4-8827-00613734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E522-DE3A-427C-985B-2FD3CBEA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C5FA2-28B3-4DE9-8551-07D7E7E754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05683-3DE0-4CB7-88BC-59CBB2B827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560" y="1988640"/>
            <a:ext cx="831708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200" spc="-1" strike="noStrike">
                <a:solidFill>
                  <a:srgbClr val="cc6600"/>
                </a:solidFill>
                <a:latin typeface="Arial Black"/>
              </a:rPr>
              <a:t>Vývojové tendence na prahu postindustriální éry</a:t>
            </a:r>
            <a:endParaRPr b="1" lang="en-US" sz="4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5157720"/>
            <a:ext cx="4105440" cy="10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Bookman Old Style"/>
              </a:rPr>
              <a:t>Beata Broskov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Bookman Old Style"/>
              </a:rPr>
              <a:t>Tomáš Procház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Bookman Old Style"/>
              </a:rPr>
              <a:t>Hana</a:t>
            </a: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 Matonohov</a:t>
            </a:r>
            <a:r>
              <a:rPr b="1" lang="sk-SK" sz="1800" spc="-1" strike="noStrike">
                <a:solidFill>
                  <a:srgbClr val="ffffff"/>
                </a:solidFill>
                <a:latin typeface="Bookman Old Style"/>
              </a:rPr>
              <a:t>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cc6600"/>
                </a:solidFill>
                <a:latin typeface="Arial Black"/>
              </a:rPr>
              <a:t>Modernizace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Bookman Old Style"/>
              </a:rPr>
              <a:t>Teorie modernizace – změna společnosti</a:t>
            </a:r>
            <a:r>
              <a:rPr b="1" lang="sk-SK" sz="2800" spc="-1" strike="noStrike">
                <a:solidFill>
                  <a:srgbClr val="ffffff"/>
                </a:solidFill>
                <a:latin typeface="Bookman Old Style"/>
              </a:rPr>
              <a:t> – </a:t>
            </a:r>
            <a:r>
              <a:rPr b="1" lang="sk-SK" sz="1800" spc="-1" strike="noStrike">
                <a:solidFill>
                  <a:srgbClr val="ffffff"/>
                </a:solidFill>
                <a:latin typeface="Bookman Old Style"/>
              </a:rPr>
              <a:t>rozvoj vědy, techniky, trhu, měst at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Bookman Old Style"/>
              </a:rPr>
              <a:t>Sociologové</a:t>
            </a:r>
            <a:r>
              <a:rPr b="1" lang="sk-SK" sz="2800" spc="-1" strike="noStrike">
                <a:solidFill>
                  <a:srgbClr val="ffffff"/>
                </a:solidFill>
                <a:latin typeface="Bookman Old Style"/>
              </a:rPr>
              <a:t>: Spencer, Drukheim, Web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Bookman Old Style"/>
              </a:rPr>
              <a:t>Modernizace</a:t>
            </a:r>
            <a:r>
              <a:rPr b="1" lang="sk-SK" sz="2800" spc="-1" strike="noStrike">
                <a:solidFill>
                  <a:srgbClr val="ffffff"/>
                </a:solidFill>
                <a:latin typeface="Bookman Old Style"/>
              </a:rPr>
              <a:t> – </a:t>
            </a:r>
            <a:r>
              <a:rPr b="0" lang="sk-SK" sz="2000" spc="-1" strike="noStrike">
                <a:solidFill>
                  <a:srgbClr val="ffffff"/>
                </a:solidFill>
                <a:latin typeface="Bookman Old Style"/>
              </a:rPr>
              <a:t>proces transformace preindustriální společnosti na společnost charakterizovanou rozvinutou pr</a:t>
            </a:r>
            <a:r>
              <a:rPr b="0" lang="cs-CZ" sz="2000" spc="-1" strike="noStrike">
                <a:solidFill>
                  <a:srgbClr val="ffffff"/>
                </a:solidFill>
                <a:latin typeface="Bookman Old Style"/>
              </a:rPr>
              <a:t>ůmyslovou výrobou, racionálními a sekulárními postoji obyvatelstva a vysoce diferencovanou sociální struktur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Bookman Old Style"/>
              </a:rPr>
              <a:t>Rozmach po 2. Světové vál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c6600"/>
                </a:solidFill>
                <a:latin typeface="Arial Black"/>
              </a:rPr>
              <a:t>Modernizace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Bookman Old Style"/>
              </a:rPr>
              <a:t>Nové teoretické koncepty - </a:t>
            </a:r>
            <a:r>
              <a:rPr b="0" lang="cs-CZ" sz="3200" spc="-1" strike="noStrike">
                <a:solidFill>
                  <a:srgbClr val="ffffff"/>
                </a:solidFill>
                <a:latin typeface="Bookman Old Style"/>
              </a:rPr>
              <a:t>Eisenstadt, Fasons, Rostow a Smels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Bookman Old Style"/>
              </a:rPr>
              <a:t>Industriální společnost = „společnost hojnosti“ (Galbrigh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Bookman Old Style"/>
              </a:rPr>
              <a:t>Konec 60. let – náznak změny (Bell, Toffler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44440"/>
            <a:ext cx="8591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cc6600"/>
                </a:solidFill>
                <a:latin typeface="Arial Black"/>
              </a:rPr>
              <a:t>Postindustriální společnos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Bookman Old Style"/>
              </a:rPr>
              <a:t>Informační společnost</a:t>
            </a:r>
            <a:r>
              <a:rPr b="1" lang="sk-SK" sz="3200" spc="-1" strike="noStrike">
                <a:solidFill>
                  <a:srgbClr val="ffffff"/>
                </a:solidFill>
                <a:latin typeface="Bookman Old Style"/>
              </a:rPr>
              <a:t> – </a:t>
            </a:r>
            <a:r>
              <a:rPr b="1" lang="sk-SK" sz="2400" spc="-1" strike="noStrike">
                <a:solidFill>
                  <a:srgbClr val="ffffff"/>
                </a:solidFill>
                <a:latin typeface="Bookman Old Style"/>
              </a:rPr>
              <a:t>individualizace, universalismus, decentralizace, úzamní rozptýle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Bookman Old Style"/>
              </a:rPr>
              <a:t>Nová ekonomika = nová ekon.struktura – </a:t>
            </a:r>
            <a:r>
              <a:rPr b="1" lang="sk-SK" sz="2400" spc="-1" strike="noStrike">
                <a:solidFill>
                  <a:srgbClr val="ffffff"/>
                </a:solidFill>
                <a:latin typeface="Bookman Old Style"/>
              </a:rPr>
              <a:t>růst produktivity práce, růst konkurenceschopnosti, nízká inflace, sítě (ne hierarchie), ekon.úspěšnost=vědomosti a informace, globaliz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Bookman Old Style"/>
              </a:rPr>
              <a:t>Představitelé: Atkinson, Tapscott, Thurow, Reich, G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560" y="244440"/>
            <a:ext cx="8591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cc6600"/>
                </a:solidFill>
                <a:latin typeface="Arial Black"/>
              </a:rPr>
              <a:t>Postindustriální společnos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Bookman Old Style"/>
              </a:rPr>
              <a:t>„</a:t>
            </a:r>
            <a:r>
              <a:rPr b="1" lang="sk-SK" sz="3200" spc="-1" strike="noStrike">
                <a:solidFill>
                  <a:srgbClr val="ffffff"/>
                </a:solidFill>
                <a:latin typeface="Bookman Old Style"/>
              </a:rPr>
              <a:t>Společnost vědění“ </a:t>
            </a:r>
            <a:r>
              <a:rPr b="1" lang="sk-SK" sz="20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1" i="1" lang="sk-SK" sz="2000" spc="-1" strike="noStrike">
                <a:solidFill>
                  <a:srgbClr val="ffffff"/>
                </a:solidFill>
                <a:latin typeface="Bookman Old Style"/>
              </a:rPr>
              <a:t>knowledge society</a:t>
            </a:r>
            <a:r>
              <a:rPr b="1" lang="sk-SK" sz="2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1" lang="sk-SK" sz="3200" spc="-1" strike="noStrike">
                <a:solidFill>
                  <a:srgbClr val="ffffff"/>
                </a:solidFill>
                <a:latin typeface="Bookman Old Style"/>
              </a:rPr>
              <a:t> – </a:t>
            </a:r>
            <a:r>
              <a:rPr b="1" lang="sk-SK" sz="2400" spc="-1" strike="noStrike">
                <a:solidFill>
                  <a:srgbClr val="ffffff"/>
                </a:solidFill>
                <a:latin typeface="Bookman Old Style"/>
              </a:rPr>
              <a:t>výrazná lidská dimen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Bookman Old Style"/>
              </a:rPr>
              <a:t>Základní rysy – </a:t>
            </a:r>
            <a:r>
              <a:rPr b="1" lang="sk-SK" sz="2400" spc="-1" strike="noStrike">
                <a:solidFill>
                  <a:srgbClr val="ffffff"/>
                </a:solidFill>
                <a:latin typeface="Bookman Old Style"/>
              </a:rPr>
              <a:t>know-how, vysoká složitost práce, všechny oblasti společnosti závislé na vědění, infrastruktury druhého řádu, sociální stránka, společnost abstrakt a symbolů, vysoká diverzifikace produkce i distribuce vědění, věda-dominantní postave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cc6600"/>
                </a:solidFill>
                <a:latin typeface="Arial Black"/>
              </a:rPr>
              <a:t>Kritika nové éry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Bookman Old Style"/>
              </a:rPr>
              <a:t>Konzumní společn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3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Bookman Old Style"/>
              </a:rPr>
              <a:t>„</a:t>
            </a:r>
            <a:r>
              <a:rPr b="1" lang="sk-SK" sz="2000" spc="-1" strike="noStrike">
                <a:solidFill>
                  <a:srgbClr val="ffffff"/>
                </a:solidFill>
                <a:latin typeface="Bookman Old Style"/>
              </a:rPr>
              <a:t>Ve svém současném (...) stadiu nemá moderní společnost velkou potřebu masové pr</a:t>
            </a:r>
            <a:r>
              <a:rPr b="1" lang="cs-CZ" sz="2000" spc="-1" strike="noStrike">
                <a:solidFill>
                  <a:srgbClr val="ffffff"/>
                </a:solidFill>
                <a:latin typeface="Bookman Old Style"/>
              </a:rPr>
              <a:t>ů</a:t>
            </a:r>
            <a:r>
              <a:rPr b="1" lang="sk-SK" sz="2000" spc="-1" strike="noStrike">
                <a:solidFill>
                  <a:srgbClr val="ffffff"/>
                </a:solidFill>
                <a:latin typeface="Bookman Old Style"/>
              </a:rPr>
              <a:t>myslové práce a všeobecné branné povinnosti; místo toho potřebuje angažovat své členy jako konzumenty.“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sk-SK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sk-SK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sk-SK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sk-SK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sk-SK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sk-SK" sz="1200" spc="-1" strike="noStrike">
                <a:solidFill>
                  <a:srgbClr val="ffffff"/>
                </a:solidFill>
                <a:latin typeface="Bookman Old Style"/>
              </a:rPr>
              <a:t>Zygmunt Bauman, str. 9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Bookman Old Style"/>
              </a:rPr>
              <a:t>Změna hodnotového systém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Bookman Old Style"/>
              </a:rPr>
              <a:t>Zaměření na humánní stránku (humanistická ekonomi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Bookman Old Style"/>
              </a:rPr>
              <a:t>Ekologické aspek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c6600"/>
                </a:solidFill>
                <a:latin typeface="Arial Black"/>
              </a:rPr>
              <a:t>Použitá literatura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man Old Style"/>
              </a:rPr>
              <a:t>BAUER, W.M.  Tyranie blahobytu. Praha: Volvo Globator, 1997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man Old Style"/>
              </a:rPr>
              <a:t>BAUMAN, Z. Globalizace:důsledky pro člověka. Praha : Mladá fronta, 2000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man Old Style"/>
              </a:rPr>
              <a:t>POTŮČEK a kol. Průvodce krajinou priorit pro Českou republiku. Praha: Gutenberg, 2002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man Old Style"/>
              </a:rPr>
              <a:t>SEN, A. Etika a ekonomie. Praha: Vyšehrad, 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man Old Style"/>
              </a:rPr>
              <a:t>TOFFLER, A., TOFFLEROVA H. Nová civilizace. Praha: Dokořán,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0:17:28Z</dcterms:created>
  <dc:creator>Beatka_U</dc:creator>
  <dc:description/>
  <dc:language>en-US</dc:language>
  <cp:lastModifiedBy>Beatka_U</cp:lastModifiedBy>
  <dcterms:modified xsi:type="dcterms:W3CDTF">2006-10-16T11:55:47Z</dcterms:modified>
  <cp:revision>3</cp:revision>
  <dc:subject/>
  <dc:title>Vývojové tendencie na prahu postindustriálnej éry</dc:title>
</cp:coreProperties>
</file>