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15E-ADFE-4E04-BECE-96E0D215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F17-A245-4907-AF62-AB73ED5D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E8C-0E41-47EF-860F-40667938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1AB-816B-467A-8124-E950EB7C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ACE1-FFB3-4FB7-AF3B-6FE1AB38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1AFE-F9EE-4DA1-84A3-BDB559B5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4BC7-CDBD-4218-918C-161F79CF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2686-EFC9-4412-A4F3-05451389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E104-C5C5-4DD3-98D9-3585D862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1383-EDCE-4AFD-8254-F50E5D21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2785-130E-4AA0-9D8C-BC54A735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080-4370-4C33-9093-C055497A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4D9F-73A5-42A0-B0CD-D80E226B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2D49-C35A-4B3E-A486-52E8D543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EFB4-349B-4250-8669-312E1582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0928-0AA9-442C-BE09-FED4C66B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7698-FDAB-4E97-93CB-BD2D9392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62D-2DBB-4BBE-893C-2148DB7E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FB9-9395-480F-BCDF-6D9C2231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879-389A-424C-992B-0A112476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E50-C1D8-47B2-BE91-83A336CE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45F-F7AE-4438-A3D7-5A60928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084-4C78-45B7-ACBE-FD526AB4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73C-D680-4D53-9A6E-41209C51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3A51-65AE-49E9-8788-56734AE3F3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03AA-0A93-4E0F-92CB-C05F8867A8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CHARAKTERISTICKÉ RYSY A ZÁKLADNÍ PRINCIPY INDUSTRIÁLNÍ SPOL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</a:rPr>
              <a:t>EČ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NOSTI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ým č. 7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etr Suchá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Martin Simersk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máš Vobeck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494280"/>
            <a:ext cx="89917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 dělby práce na základě specializace</a:t>
            </a:r>
            <a:endParaRPr b="0" lang="en-US" sz="4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verzalita         specializace ve výrob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ůst produktivity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ůst kvality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utnost koordin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Mar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666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ford" descr=""/>
          <p:cNvPicPr/>
          <p:nvPr/>
        </p:nvPicPr>
        <p:blipFill>
          <a:blip r:embed="rId6"/>
          <a:stretch/>
        </p:blipFill>
        <p:spPr>
          <a:xfrm>
            <a:off x="0" y="2590920"/>
            <a:ext cx="3505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synchron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utnost synchro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znik managemen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ozšíření do celé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Č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21337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ostatni001%20-%2012" descr=""/>
          <p:cNvPicPr/>
          <p:nvPr/>
        </p:nvPicPr>
        <p:blipFill>
          <a:blip r:embed="rId4"/>
          <a:stretch/>
        </p:blipFill>
        <p:spPr>
          <a:xfrm>
            <a:off x="0" y="2057400"/>
            <a:ext cx="309564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standard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kátní výrobky          standardní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fikace společnosti – masová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Byrokracie (We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1337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byrokracie%20-%2013" descr=""/>
          <p:cNvPicPr/>
          <p:nvPr/>
        </p:nvPicPr>
        <p:blipFill>
          <a:blip r:embed="rId4"/>
          <a:stretch/>
        </p:blipFill>
        <p:spPr>
          <a:xfrm>
            <a:off x="0" y="228600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koncentr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Důvod – rostoucí děl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práce a speci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Územní koncent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Rozvoj tová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Urban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Koncentrace kapitá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Oligopolizace tr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dez03_megapolis_tokyo%20-%2014" descr=""/>
          <p:cNvPicPr/>
          <p:nvPr/>
        </p:nvPicPr>
        <p:blipFill>
          <a:blip r:embed="rId4"/>
          <a:stretch/>
        </p:blipFill>
        <p:spPr>
          <a:xfrm>
            <a:off x="0" y="2438280"/>
            <a:ext cx="43052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maximal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ím více, tím lépe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Vznik gigantických podni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Zvyšování spotřeby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Bez%20názvu%20-%2014" descr=""/>
          <p:cNvPicPr/>
          <p:nvPr/>
        </p:nvPicPr>
        <p:blipFill>
          <a:blip r:embed="rId5"/>
          <a:stretch/>
        </p:blipFill>
        <p:spPr>
          <a:xfrm>
            <a:off x="0" y="1981080"/>
            <a:ext cx="28195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central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Centralizace moc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Proces centralizace moci v Evropě spojen s posilováním moci stá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Centralizace moci probíhá ve dvou rovinách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10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Centralizace politické moci – vytváření nadstátních cel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10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Centralizace podnikatelské moci – vytváření gigantických podni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108386-evropska-unie%20-%2013" descr=""/>
          <p:cNvPicPr/>
          <p:nvPr/>
        </p:nvPicPr>
        <p:blipFill>
          <a:blip r:embed="rId3"/>
          <a:stretch/>
        </p:blipFill>
        <p:spPr>
          <a:xfrm>
            <a:off x="5105520" y="1905120"/>
            <a:ext cx="1838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465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B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udoucí vývoj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 (kam směřujeme?)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Zrychlování výv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třety národů z různých v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víjení druhé a nástup třetí vl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alší vlny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Děkujeme za pozorno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Použitá literatu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Šok z budoucnosti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. Praha : Práce, 199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The Third Wawe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. New York 198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, TOFFLEROVÁ, H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 Nová civilizace. 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raha : Dokořán 200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Vývoj společnost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23920" y="18288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Neustále se zrychlu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robíhá ve vlná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lny se prolín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evoluce%202" descr=""/>
          <p:cNvPicPr/>
          <p:nvPr/>
        </p:nvPicPr>
        <p:blipFill>
          <a:blip r:embed="rId4"/>
          <a:stretch/>
        </p:blipFill>
        <p:spPr>
          <a:xfrm>
            <a:off x="0" y="2743200"/>
            <a:ext cx="4343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vní vln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8. tisíciletí př.n.l. – 17. Stole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Starověké i středověké civi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Národy primitivní (sběr) či civilizované (obděláván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6404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Specifika preindustriální společnosti</a:t>
            </a:r>
            <a:r>
              <a:rPr b="0" lang="cs-CZ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Zemědělská společnost založená na vlastnictví pů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ždý produkt byl unik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Decentralizované hospodářs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inimální dělba 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Univerzální výrob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mezená smě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ův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Autoritářská pravom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vykopavky%20-%204" descr=""/>
          <p:cNvPicPr/>
          <p:nvPr/>
        </p:nvPicPr>
        <p:blipFill>
          <a:blip r:embed="rId9"/>
          <a:stretch/>
        </p:blipFill>
        <p:spPr>
          <a:xfrm>
            <a:off x="5715000" y="3352680"/>
            <a:ext cx="3429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Výjimky První vln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tarověké Řecko a Ř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Babylon a starověký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Asie a Jižní Amer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19112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Zvolna se vyvíjející spol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=&gt;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růmyslová revol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yramidy%20-%205" descr=""/>
          <p:cNvPicPr/>
          <p:nvPr/>
        </p:nvPicPr>
        <p:blipFill>
          <a:blip r:embed="rId4"/>
          <a:stretch/>
        </p:blipFill>
        <p:spPr>
          <a:xfrm>
            <a:off x="6248520" y="2057400"/>
            <a:ext cx="28954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9144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Druhá vlna</a:t>
            </a:r>
            <a:br>
              <a:rPr sz="4400"/>
            </a:b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- nástup industriální společnost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743200"/>
            <a:ext cx="6400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2. pol. 17. – 1. pol. 18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říčiny vzniku Druhé vln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Objev Nového svě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ůst počtu obyvatel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yužití parního 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ndustriální myšl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šiřování mezilidské komunik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vlak-cerny%20-%208" descr=""/>
          <p:cNvPicPr/>
          <p:nvPr/>
        </p:nvPicPr>
        <p:blipFill>
          <a:blip r:embed="rId6"/>
          <a:stretch/>
        </p:blipFill>
        <p:spPr>
          <a:xfrm>
            <a:off x="5410080" y="2514600"/>
            <a:ext cx="3733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y industriální společnosti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4920" y="2362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889280"/>
            <a:ext cx="8610480" cy="66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ddělení výroby od spotře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rincip dělby práce na základě speci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ynchron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tandard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oncen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axim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centr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tovarna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9528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417960"/>
            <a:ext cx="89917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oddělení výroby od spotřeby</a:t>
            </a:r>
            <a:endParaRPr b="0" lang="en-US" sz="4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Dominantní princip industriální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Oddělení role výrobce a spotřebi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mě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ozvoj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Bez%20názvu%20-%2010" descr=""/>
          <p:cNvPicPr/>
          <p:nvPr/>
        </p:nvPicPr>
        <p:blipFill>
          <a:blip r:embed="rId5"/>
          <a:stretch/>
        </p:blipFill>
        <p:spPr>
          <a:xfrm>
            <a:off x="0" y="2362320"/>
            <a:ext cx="44956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28:15Z</dcterms:created>
  <dc:creator>Petr Suchánek</dc:creator>
  <dc:description/>
  <dc:language>en-US</dc:language>
  <cp:lastModifiedBy>Petr Suchánek</cp:lastModifiedBy>
  <dcterms:modified xsi:type="dcterms:W3CDTF">2006-09-15T09:16:01Z</dcterms:modified>
  <cp:revision>5</cp:revision>
  <dc:subject/>
  <dc:title>CHARAKTERISTICKÉ RYSY A ZÁKLADNÍ PRINCIPY INDUSTRIÁLNÍ SPOLEČNOSTI </dc:title>
</cp:coreProperties>
</file>