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117-838C-400E-A653-E526AF15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EB9-3C50-404F-A8AA-0A0A49D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F9C-FE21-4865-AC61-84716279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CA4-E776-490A-B5C2-D2D4BFAB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58D-A73D-4C87-B364-A4B8B42E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BEDD-9998-437C-A42E-854F3252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8C8-82A5-48FE-980F-A579468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ADF4-717A-4E2B-9795-6C155D1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9F8-74FD-444D-B234-9695A2ED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FEC9-7B0E-4BFB-AE4F-686120AB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F9BD-8B4D-4EC3-9E9C-60F35CAF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C7D-A694-4D48-9482-91EB5B7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9944-B4E4-4E31-A39E-DC570F1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D746-072A-4163-A971-50E0403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B358-0D15-4EA6-B851-E8E7D549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2CC9-11C4-469B-8259-9C82FC99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CBD1-BC1C-453A-BDAD-45F6D2AA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04C-DC96-4813-A35E-8A739B51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25E-8DA7-46A5-8DC8-EF212A5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B18-768E-4425-B18F-49371721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207-9452-4DFC-B985-82256408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7A1-89F0-47A7-929B-FD43E760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91A-53EC-4732-8DE0-E1388EE0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008-AD57-4953-87A5-A15EB394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4B06-47B7-48E3-9C55-4420700254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FD39-B308-4772-8D8B-4DC0FFE826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Nová ekonomika a její důsledk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eminární skupina č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ina Ca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minik Zbí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ub Fiš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r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íčové korporace plánovaly a realizovaly výrobu velkého množství zbož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ovýroba vedla ke značným úspor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ížení jednotkových nákladů na výr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chá dohoda mezi všemi zúčastněnými: manažery firem, investory, odbory a veřejnosti zastupované vládou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v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formy komunikace, nové způsoby prodeje, nová konkurence z jiných částí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ý růst produktivity způsoben rozvojem informačních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a poptávky nabývá v tržních vztazích dominantní postavení a významně ovlivňuje strukturu nabízených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ýhody a nevýhody nové ekonomik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é podniky mohou pracovat mnohem efektivněji než dří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íky internetu přímý přístup na trh i pro podniky ze třetích zem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onomický růst v jiných částech světa má za následek zvýšenou konkurenci pro podniky d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dniky v nové ekonom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ční hierarchické struktury se začínají rozvolňovat a mění se na uspořádání pružnějšího typ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ce zhodnocující podniky se podobají pavoučí síti, kde v prostředku jsou strategičtí zprostředkovatelé a v každém místě sítě pracuje poměrně malý počet l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ktivnost vysoce zhodnocující podniku je založena na neustálém hledání a řešení nových příležit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ůsledky nové ekonomik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evírání platových nůžek mezi vysoce a málo kvalifikovanými profese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tráta zaměstnání a pokles reálných mezd u zaměstnanců s nedostatečnou kvalifik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e měnící se ekonomika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ky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podniky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nároky na zaměstnance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dloužení pracovní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 ekonomika nabízí nové příležitosti a neustále širší výběr úžasných obcho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produktivita, lepší, rychlejší, lacinější výrobky všeho druh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šak vyšší intenzita práce u vysoce kvalifikovan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ivoty lidí se stávají méně předvídatelné, méně zajištěné, ekonomicky divergentnější a sociálně stratifikova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ich, B.R. Slušná společnost. Praha: Moraviapress,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pping, R.CH. Průvodce globální ekonomikou. Praha: Portál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 autorů. Management 2: Průvodce stu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7:49:02Z</dcterms:created>
  <dc:creator>KUBA</dc:creator>
  <dc:description/>
  <dc:language>en-US</dc:language>
  <cp:lastModifiedBy>KUBA</cp:lastModifiedBy>
  <dcterms:modified xsi:type="dcterms:W3CDTF">2006-10-24T21:37:42Z</dcterms:modified>
  <cp:revision>5</cp:revision>
  <dc:subject/>
  <dc:title>Nová ekonomika a její důsledky</dc:title>
</cp:coreProperties>
</file>