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SVIST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4FFF-DA87-4DC8-91D5-613FACAE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A7CD-D51A-4AB9-BC18-5E23E8A5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C49D-4251-4F66-8D43-24D25FF8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B159-DCB0-40E5-8D2B-50ED843B0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1CA6-CDE6-448E-81E0-8F58191A1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9BDE-7B20-4713-A4BA-7ED266C8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A698-8F40-4C34-A0AB-5DE63FC7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A9BD-2356-44B2-BCA5-538FB0E0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1B0E-D618-4350-BC8C-A5EBEB53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2EE0-EFDA-429F-A3EC-09203690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7ACB-7A4D-4780-A22B-3EB33994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863B-62D6-4AEA-B051-8787A94A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DC99-1488-45DB-8A5E-2B9CB00F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27B6-F3A7-45A6-88BC-E2583825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7B36-156F-4995-B7AD-C56EFA4D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0F56-54A5-4EA8-9CFB-6C217F7E2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F52A-EE64-47BE-B36E-79FE861CA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EB0C-40ED-4BFD-9B02-B85C3523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34ED-B835-4F6C-9A65-0DC92B99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B593-B8B2-44A3-B3D0-C823FFE7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FA8F-621E-4B88-B111-FB0C65DA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5C85-3A95-4D7F-94B4-AE53B44C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708F-FEA1-437B-B988-D80E0566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2D3E-3E7E-406F-9E71-1F017A86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789C-E4D0-4842-9666-42BEF3542AE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01F4-670E-4727-9343-1CA3599B214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occa.com.au/" TargetMode="External"/><Relationship Id="rId2" Type="http://schemas.openxmlformats.org/officeDocument/2006/relationships/hyperlink" Target="http://www.tocca.com.au/" TargetMode="External"/><Relationship Id="rId3" Type="http://schemas.openxmlformats.org/officeDocument/2006/relationships/hyperlink" Target="http://www.tocca.com.au/" TargetMode="External"/><Relationship Id="rId4" Type="http://schemas.openxmlformats.org/officeDocument/2006/relationships/hyperlink" Target="http://www.tocca.com.au/" TargetMode="External"/><Relationship Id="rId5" Type="http://schemas.openxmlformats.org/officeDocument/2006/relationships/hyperlink" Target="http://www.tocca.com.au/" TargetMode="External"/><Relationship Id="rId6" Type="http://schemas.openxmlformats.org/officeDocument/2006/relationships/hyperlink" Target="http://www.toc-goldratt.com/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SVIST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vojové tendence managementu na prahu postindustriální ér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ypracovali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Daniel Nová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Lucie Absolon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arbora Říh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oužité zdroj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Kniha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fektivnost informačních systémů Molnár, Z. 200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Článek: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erní management závisí na modernosti architektur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aroslav Král, Michal Žemličk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Soubor přednášek z předmětu Podnikové informační systémy,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g. Jaromír Skorkovský, CS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www.</a:t>
            </a:r>
            <a:r>
              <a:rPr b="0" lang="cs-CZ" sz="20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tocca</a:t>
            </a:r>
            <a:r>
              <a:rPr b="0" lang="cs-CZ" sz="20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.</a:t>
            </a:r>
            <a:r>
              <a:rPr b="0" lang="cs-CZ" sz="20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com</a:t>
            </a:r>
            <a:r>
              <a:rPr b="0" lang="cs-CZ" sz="20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.au/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www.toc-goldratt.co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Arial"/>
              </a:rPr>
              <a:t>Klíčová role informace v organizac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Hodnota informace v č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právná informace ve správný čas na správném míst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říklady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ff"/>
                </a:solidFill>
                <a:latin typeface="Verdana"/>
              </a:rPr>
              <a:t>Snížení nebo odstranění skladových záso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ff"/>
                </a:solidFill>
                <a:latin typeface="Verdana"/>
              </a:rPr>
              <a:t>Kontrola časových rezerv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ff"/>
                </a:solidFill>
                <a:latin typeface="Verdana"/>
              </a:rPr>
              <a:t>Informace o předpokládaných odběrech (SCM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ff"/>
                </a:solidFill>
                <a:latin typeface="Verdana"/>
              </a:rPr>
              <a:t>Informace o stavu vlastních zásob poskytnutých dodavatel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ff"/>
                </a:solidFill>
                <a:latin typeface="Verdana"/>
              </a:rPr>
              <a:t>Elektronické komunik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Využití informac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Dřív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formace o vlastním podnik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formace evidenčního charakteru (účetnictví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formace podporují snížení nákladů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tegrace dat a technických prostředků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Nemáme dost údajů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4859280" y="1484280"/>
            <a:ext cx="402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Nyní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formace o okol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formace podporuje rozhodování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formace podporuje prodej zboží a služe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Komunikace využívaná pro spolupráci obchodních partner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Máme příliš mnoho údaj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1080" y="5715000"/>
            <a:ext cx="53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Times New Roman"/>
              </a:rPr>
              <a:t>Problém : Rostoucí objemy d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Knowledge management (KM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Verdana"/>
              </a:rPr>
              <a:t>Cíl KM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:vytvoření „ učících systémů“ integrovaných do informačních a logistických  systému podnik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Verdana"/>
              </a:rPr>
              <a:t>Základ KM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: data warehouse (datový sklad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Verdana"/>
              </a:rPr>
              <a:t>Predikce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(předpovědi, prognózy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Rozhodování na základě strukturovaných i nestrukturovaných d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Workflow Management (řízení toku úkolů v podniku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00"/>
                </a:solidFill>
                <a:latin typeface="Verdana"/>
              </a:rPr>
              <a:t>Problémy s datovými odpady a bezpečností d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Nástroj KM = ERP systé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Verdana"/>
              </a:rPr>
              <a:t>ERP =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Enterprise Resource Plann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Verdana"/>
              </a:rPr>
              <a:t>business operations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 (operační využití znalostí – např. zpracování zákazek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Verdana"/>
              </a:rPr>
              <a:t>business intelligence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(práce s datovými sklady na úrovni managementu podniku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Verdana"/>
              </a:rPr>
              <a:t>business management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(oblast řízení podniku jako celk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Workflo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Inteligentní směrování informac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Workflow=„tok dokumentů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líčová aplikace budoucn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ožnost spolupráce skupiny  na vytváření dokument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měrování dokumentů na základě 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konkrétní uživatel (konkrétní adresa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funkce nebo dovedno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ředstavení Teorie omezen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ychází se systémového přístup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odnik (organizaci) chápe jako řetěz závislých proces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03280" y="3357720"/>
            <a:ext cx="6481800" cy="936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84360" y="4508640"/>
            <a:ext cx="778644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existuje jen několik málo a často jen jeden prvek, pomocí kterého můžeme řídit celý systé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Tento prvek je v TOC nazýván omezením systém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VIS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Teorie omezen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roč omezení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mezení zabraňuje (omezuje) systém v dosahování jeho cíl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Cíl  podnikání dle TOC - „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Make money now and in the future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Každý systém má alespoň jedno omezení, kdyby tomu tak nebylo, dosahoval by svého cíle v nekonečném objem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5 kroků teorie omezen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2997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ccecff"/>
                </a:solidFill>
                <a:latin typeface="Arial"/>
              </a:rPr>
              <a:t>Děkujeme za pozornost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09:20:01Z</dcterms:created>
  <dc:creator>Danny</dc:creator>
  <dc:description/>
  <dc:language>en-US</dc:language>
  <cp:lastModifiedBy>Danny</cp:lastModifiedBy>
  <dcterms:modified xsi:type="dcterms:W3CDTF">2006-10-01T19:57:33Z</dcterms:modified>
  <cp:revision>5</cp:revision>
  <dc:subject/>
  <dc:title>Vývojové tendence managementu na prahu postindustriální éry</dc:title>
</cp:coreProperties>
</file>