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E0D3-8A0A-4B02-84BE-1A5EA882D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C65C-7991-40AA-A761-A1589FE8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0517-C74E-4F98-9FAA-7ED073BBE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7EE1-F3E3-4717-B676-76CCA487B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0C59-6F59-458A-86B5-471DE70AA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69B3-AFFE-47B8-B7EB-9291F552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9245-6EDA-412C-99A1-C1AF891A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5236-7F49-436E-9486-97CD9CE4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FCFC-58E9-4D2B-A9CC-062F8958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9162-51D7-48D3-9AB1-342E2BB2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B6AE-317E-456E-B543-7C0D1307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704C-BAD7-4D2B-BE13-D98D9206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B6D9-0112-4DAD-AA74-D69C9F86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7FE0-389A-4665-97C5-FDA12C33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B977-DF5A-4F3E-93E8-10CC7647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F36F-90A0-4360-B22B-EF0B03A86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C740-3F77-4204-8416-B8EF8DB1E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5A79-A1F3-45C6-8C84-65B3B33E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58E9-6B1C-4893-93B0-60180C38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A011-7F39-477A-B82B-09B52A57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FF00-1F6E-4E10-A382-282D8BA0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6033-6858-489F-AC14-73E8B755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D3A3-CE09-4304-A6B6-5424A915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F33F-6F4A-4AEB-A36C-7A9C82B4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8A67-0A6E-4F3E-8DCB-35BCCB88D5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4279-5211-42A2-BDAF-4DD4442DDB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Tempus Sans ITC"/>
                <a:ea typeface="Times New Roman"/>
              </a:rPr>
              <a:t>PROJEKTOVÝ MANAGEMEN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476360" y="357336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Tým č. 7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Martin Simersk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Tomáš Vobeck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Petr Suchán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Vymezení a definování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24498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00"/>
                </a:solidFill>
                <a:uFillTx/>
                <a:latin typeface="Tempus Sans ITC"/>
              </a:rPr>
              <a:t>VSTU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Vymezení výsledků projekt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Nároky na projektové říze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19640" y="2133720"/>
            <a:ext cx="244944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00"/>
                </a:solidFill>
                <a:uFillTx/>
                <a:latin typeface="Tempus Sans ITC"/>
              </a:rPr>
              <a:t>VYHODNOC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Jde o příležit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Vyplatí se vynaložení peněz a čas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Jaká jsou rizi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12000" y="2133720"/>
            <a:ext cx="244944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00"/>
                </a:solidFill>
                <a:uFillTx/>
                <a:latin typeface="Tempus Sans ITC"/>
              </a:rPr>
              <a:t>VÝSTUP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Specifikace konečných výsledk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Specifikace omezení, předpoklad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Určení vedoucíh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4360" y="5877000"/>
            <a:ext cx="7129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00"/>
                </a:solidFill>
                <a:latin typeface="Arial"/>
              </a:rPr>
              <a:t>Vymezení a definování projektů (Veber, 200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50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50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000"/>
                            </p:stCondLst>
                            <p:childTnLst>
                              <p:par>
                                <p:cTn id="3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Plánování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84872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mpus Sans ITC"/>
              </a:rPr>
              <a:t>Výstupem procesu plánování je</a:t>
            </a:r>
            <a:r>
              <a:rPr b="1" lang="en-US" sz="20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Tempus Sans ITC"/>
              </a:rPr>
              <a:t>plán projektu</a:t>
            </a:r>
            <a:r>
              <a:rPr b="0" i="1" lang="en-US" sz="20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empus Sans ITC"/>
              </a:rPr>
              <a:t>určující</a:t>
            </a: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empus Sans ITC"/>
              </a:rPr>
              <a:t>věcnou, časovou, rozpočtovou a organizační dimenzi projektu</a:t>
            </a: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V nejširším pojetí jsou plány závislé na znalosti tří faktorů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92360" y="3762360"/>
            <a:ext cx="460872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Kde nyní js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Kam se chcete dost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Jakým způsobem se dostaneme tam, kde chceme bý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Jednotlivé dimenze plánu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26920" y="2060280"/>
            <a:ext cx="7848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Věcná dimen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Časová dimen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Organizační dimen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Rozpočtová dimen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Realizace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6920" y="1988640"/>
            <a:ext cx="7848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Systémová integr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Dohled nad realiza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Podáv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Předání a vyhodnocení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252108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cc00"/>
                </a:solidFill>
                <a:uFillTx/>
                <a:latin typeface="Tempus Sans ITC"/>
              </a:rPr>
              <a:t>VYHODNOCENÍ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empus Sans ITC"/>
              </a:rPr>
              <a:t>Testová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empus Sans ITC"/>
              </a:rPr>
              <a:t>Zkušební provo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empus Sans ITC"/>
              </a:rPr>
              <a:t>Stand. postu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19640" y="2133720"/>
            <a:ext cx="244944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00"/>
                </a:solidFill>
                <a:uFillTx/>
                <a:latin typeface="Tempus Sans ITC"/>
              </a:rPr>
              <a:t>PŘEDÁ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Předávací protok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Rutinní provo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Garance projekt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12000" y="2133720"/>
            <a:ext cx="244944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00"/>
                </a:solidFill>
                <a:uFillTx/>
                <a:latin typeface="Tempus Sans ITC"/>
              </a:rPr>
              <a:t>VYHODNOC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Managemen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Podle ekonomických výsledk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5877000"/>
            <a:ext cx="7129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00"/>
                </a:solidFill>
                <a:latin typeface="Arial"/>
              </a:rPr>
              <a:t>Předání a vyhodnocení projektu (Veber, 200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4500"/>
                            </p:stCondLst>
                            <p:childTnLst>
                              <p:par>
                                <p:cTn id="4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0"/>
                            </p:stCondLst>
                            <p:childTnLst>
                              <p:par>
                                <p:cTn id="4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500"/>
                            </p:stCondLst>
                            <p:childTnLst>
                              <p:par>
                                <p:cTn id="4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6000"/>
                            </p:stCondLst>
                            <p:childTnLst>
                              <p:par>
                                <p:cTn id="4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Lucida Handwriting"/>
              </a:rPr>
              <a:t>Použitá literatur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ěmec, V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 Projektový management,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aha: Grada Publishing, 200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Rosenau, M.D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 Řízení projektů,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aha: Computer Press, 20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vozilová, A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Projektový management.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aha: Grada Publishing, 200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Šmajs, J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Drama evoluce.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aha: Hynek, 20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eber, J. a kol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 Management. Základy, prosperita, globalizace.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aha: Management Press, 2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500"/>
                            </p:stCondLst>
                            <p:childTnLst>
                              <p:par>
                                <p:cTn id="4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500"/>
                            </p:stCondLst>
                            <p:childTnLst>
                              <p:par>
                                <p:cTn id="5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590560"/>
            <a:ext cx="84582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Lucida Handwriting"/>
              </a:rPr>
              <a:t>Děkujeme za pozornos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Co to je projektový management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empus Sans ITC"/>
              </a:rPr>
              <a:t>„</a:t>
            </a:r>
            <a:r>
              <a:rPr b="1" lang="cs-CZ" sz="2000" spc="-1" strike="noStrike">
                <a:solidFill>
                  <a:srgbClr val="ffffff"/>
                </a:solidFill>
                <a:latin typeface="Tempus Sans ITC"/>
              </a:rPr>
              <a:t>Uplatnění specifických nástrojů, technik, znalostí a dovedností v projektových činnostech s cílem splnit (popř. překročit) očekávání, jež jsou s projektem spojena“ (Veber, 2000).</a:t>
            </a:r>
            <a:r>
              <a:rPr b="0" lang="cs-CZ" sz="2000" spc="-1" strike="noStrike">
                <a:solidFill>
                  <a:srgbClr val="ffffff"/>
                </a:solidFill>
                <a:latin typeface="Tempus Sans IT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Přístup řízení při zavádění závažných změn v organizací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Každá změna je projekt – je jedinečná a má svůj cí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Projektový management obsahuj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 u="sng">
                <a:solidFill>
                  <a:srgbClr val="ffffff"/>
                </a:solidFill>
                <a:uFillTx/>
                <a:latin typeface="Tempus Sans ITC"/>
              </a:rPr>
              <a:t>Aktivity související 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Řízením předmětu či služ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Ekonomickým aspektem projek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Časovou koordinací projek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Budováním mezilidských vztahů mezi účastníky projektu - teambui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Charakteristické znaky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empus Sans ITC"/>
              </a:rPr>
              <a:t>Cí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empus Sans ITC"/>
              </a:rPr>
              <a:t>Jedinečno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empus Sans ITC"/>
              </a:rPr>
              <a:t>Zdroj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empus Sans ITC"/>
              </a:rPr>
              <a:t>Organiz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Cíl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Tzv. projektový trojimperativ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Specifikace provedení projek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Časový plá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Nákla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Snaha o dosažení všech cílů najedn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Jedinečnost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empus Sans ITC"/>
              </a:rPr>
              <a:t>Jedinečnos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Čas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Finan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Pracovních skup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Zdroje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Materiální i lidsk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Je velmi důležité organizovat lidské zdroje, aby byly schopny efektivně využívat zdroje materiál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Organizace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Zvládání mezilidských konflikt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Velký počet cíl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Velký počet jednotlivců různý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Profes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Zájm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Povahových vlastnost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Struktura projektového řízení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Vymezení a definování zadání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Plánování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Realizace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Předání a vyhodnocení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2:28:15Z</dcterms:created>
  <dc:creator>Petr Suchánek</dc:creator>
  <dc:description/>
  <dc:language>en-US</dc:language>
  <cp:lastModifiedBy>Simerský</cp:lastModifiedBy>
  <dcterms:modified xsi:type="dcterms:W3CDTF">2006-12-03T22:35:28Z</dcterms:modified>
  <cp:revision>6</cp:revision>
  <dc:subject/>
  <dc:title>CHARAKTERISTICKÉ RYSY A ZÁKLADNÍ PRINCIPY INDUSTRIÁLNÍ SPOLEČNOSTI </dc:title>
</cp:coreProperties>
</file>