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F8AC-B349-4025-A7D2-4B578D2E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C7F-20D1-4426-88B0-436EB658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EB0C-3070-4DF1-859B-1E52C385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67E2-7D07-4543-8B14-905E8856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3B96-8BB9-4440-809D-DB3E82AD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54E2-15C1-4FAB-9D15-66E7A9DA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0C56-8715-449E-9EBB-D17F2FB3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D848-656E-43BA-B5F3-A472F032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7AEB-56D9-4526-9D63-619E9F19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5C81-F39C-4ECC-8C13-9BD63C0F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946A-8EDE-4C60-9652-734CA360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BE25-913F-43BA-BE7E-90243D11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EB62-849B-498D-801C-AD2A7ED0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F5F8-FC88-423E-A5CA-3706835F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B41C-D857-4737-B9C4-CDF00B82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554A-C6C9-4671-896B-4F3D79FE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BFC0-3F2B-48E7-AA25-D441030B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C4D8-1CB7-4D12-906F-3B38BB9B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3B2C-90B3-4E63-8AE1-A3C85F9B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BD23-7059-4C06-B1FC-CB3BD588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A3B1-957E-41F3-BB0A-479E6AE0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610-1B57-4C7C-AB25-2778B03D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023-3205-40B1-9C4B-2F06A057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B876-D481-4007-9F30-96CA3716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9143-DE97-4AF3-AC83-D5415D18D368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BDE3-0637-45E1-9A94-63C78F48D212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mir.cz/clanek.php3?CID=3878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Úvod do Obecné teorie systémů (OTS)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seková, Holek, Havrán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Úvo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fin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lyticko-mechanický x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lektický přístu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storie a vývoj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ěkolik systémových pojm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sté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v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form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uktu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Říz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lavní principy 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. OTS jako logické vyústění historického vývoje filosofie a přírodních vě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. Sepjetí OTS s výzkumem a řízením sociálních systém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I. Orientace OTS na řešení globálních problém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lavní principy 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V. Sepjetí OTS s praktickým řešením systémových úlo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. Zdůrazňování principiálních odlišností fungování a vývoje různých druhů systém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. Paradoxnost systémového myšl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I. OTS je otevřený, dynamický, složitě organizovaný systé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ěkujeme za pozornost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lý, J.V., Vítek, M.:Teorie systémů II (Gaudeamus, 2003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iener, N.:Kybernetika  (SNTL, 1960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Fiala, L.:Hnulo se systémové hnutí? (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vesmir.cz/clanek.php3?CID=3878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ertalanffy, L. von:Člověk-robot a myšlení (Svoboda, 1972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18:13:23Z</dcterms:created>
  <dc:creator>AHa</dc:creator>
  <dc:description/>
  <dc:language>en-US</dc:language>
  <cp:lastModifiedBy>AHa</cp:lastModifiedBy>
  <dcterms:modified xsi:type="dcterms:W3CDTF">2006-10-02T20:45:24Z</dcterms:modified>
  <cp:revision>6</cp:revision>
  <dc:subject/>
  <dc:title>Snímek 1</dc:title>
</cp:coreProperties>
</file>