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D9E-DB00-4CA0-82FC-F36900B9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7E0-B8D1-49DE-80BA-8CD4646E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2B6-02C0-489B-85F5-A870289E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89E-2675-4EC4-9E9C-C0168921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7290-9336-45DE-B4DA-FA329E9B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190E-E01E-4EE7-A52F-CB1E0F7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6849-97B3-4DFB-A8E9-F45D4933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C4EC-1461-4427-A78E-01B12E67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AAE5-8C2D-4B65-99C6-4D311C19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A728-B05C-4502-AA90-1F01DFC1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FF02-76A3-4E08-B553-89DCC7B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46C-14C6-4944-B44F-A02137E2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CCBF-9159-439D-B339-22F5F8ED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B6D3-826A-4851-B5D5-527F74E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6D19-1B97-4ADD-B5F9-6827FC3C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D3A-FFE0-4ABC-AF3D-653D0FE8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14A1-72E8-4CC1-BC0C-CE5341D6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8C5-2385-466F-B081-741F7F2A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6D1-9E44-4BCD-878A-09A2AD57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9BA-169A-42F7-8174-DEC8A61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914-D101-4BEF-A550-9907EDB4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C44-E3C6-4D8A-B170-7B9CD39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5CB-F146-4A50-8CFC-6CFB3C5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8F7-4453-4E34-BEF2-525AA60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243A-B0E0-4BFF-BC6D-00A5E38DB5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4EE8-4A46-4A58-BE29-63621AFE34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rtina Han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Bár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Obši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hodnoty, názory a předpoklady, které existují v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aný způsob vnímání, odvozený z názorů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u nás věci dělají…to, co je pro organizaci typické, její zvyky, převládající post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znik a vývoj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a hlavní princi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úzk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tivní posi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vky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y ch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ky a mý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ky, rituály a ceremon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din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í architektura a vybav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ktory ovlivňující kultur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a trž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adatel/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st a délka existence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íly kultury a výkon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ná kultura:charakteristická svojí vyhraněností, stabilitou a vysokou mírou sdílení a respektování předpokladů hodnot a n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ve vnímání a myšlení pracov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ěrňuje ch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ílení společných hodnot a c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výhod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uje organizaci na minulou 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braňuje myšlení v alternati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ůsobuje rezistenci vůči změn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užitá literatur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ová, R., Nový, I. : Organizační kultura. Praha: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, I., Schroll-Machl, S.: Interkulturní komunikace v řízení a podnikání. Praha: Management Press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žek, L. : Management II: Průvodce stud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15:06Z</dcterms:created>
  <dc:creator>Franta Konopásek</dc:creator>
  <dc:description/>
  <dc:language>en-US</dc:language>
  <cp:lastModifiedBy>Franta Konopásek</cp:lastModifiedBy>
  <dcterms:modified xsi:type="dcterms:W3CDTF">2006-11-13T10:40:34Z</dcterms:modified>
  <cp:revision>2</cp:revision>
  <dc:subject/>
  <dc:title>Organizační kultura</dc:title>
</cp:coreProperties>
</file>