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066C-C52F-4F85-86C6-B75E623F0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A9F6-D35E-4479-9E5D-E8E80A068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14D4-33BB-4E1E-A184-4583F0F80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55B8-5FBC-4324-807A-01B6E3008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9D438-9C45-4DE3-9DCC-52B1B61A0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91E84-A807-4AA1-A122-9AD468630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0C12D-60B2-4AC2-B4DC-3B41F95FB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D23E0-9A1B-439C-A630-9800E80A9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6521E-D1B1-4DF4-A9A0-21781A1B1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282FD-69CA-444C-8254-D95D366EA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88E05-EE86-4894-BAA3-21AA4CAF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06E2-532F-4F8E-BD7D-8CFC5A5B4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480FA-9768-40FE-884F-06FD6963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36B7A-E584-4315-B661-D9E6F3C9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9DD30-656C-4462-AB94-95A9B48FB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C3F8C-8349-4EEC-AC85-FDADA375E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F9322-5724-4D3C-928B-B0303D7C8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1EBB-A952-4265-85F1-DE998DCC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916E-00C3-4864-8842-E7648D23C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7F21-5C05-47E1-AFCD-A9363DE7A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F53F-F768-47A3-AA64-F0A2C847C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A2E0-3E62-4139-ABE7-3AB14691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7AE1-3558-4ECB-B59D-E1A85AAD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55EF-789A-4BA8-93FB-5A352901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1DF36-17D6-492F-BF2F-0741E85EE5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1E1DE-B3FA-49FB-B438-2B4B7414380D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80920" y="1295280"/>
            <a:ext cx="52578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86950"/>
                </a:solidFill>
                <a:latin typeface="Times New Roman"/>
              </a:rPr>
              <a:t>Strategické aliance</a:t>
            </a:r>
            <a:endParaRPr b="0" lang="en-US" sz="48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876920" y="2971440"/>
            <a:ext cx="41148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786950"/>
                </a:solidFill>
                <a:latin typeface="Times New Roman"/>
              </a:rPr>
              <a:t>Vypracovali: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78695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786950"/>
                </a:solidFill>
                <a:latin typeface="Times New Roman"/>
              </a:rPr>
              <a:t>Ondřej Chlup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786950"/>
                </a:solidFill>
                <a:latin typeface="Times New Roman"/>
              </a:rPr>
              <a:t>         </a:t>
            </a:r>
            <a:r>
              <a:rPr b="0" lang="cs-CZ" sz="3200" spc="-1" strike="noStrike">
                <a:solidFill>
                  <a:srgbClr val="786950"/>
                </a:solidFill>
                <a:latin typeface="Times New Roman"/>
              </a:rPr>
              <a:t>Petr Procházka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786950"/>
                </a:solidFill>
                <a:latin typeface="Times New Roman"/>
              </a:rPr>
              <a:t>         </a:t>
            </a:r>
            <a:r>
              <a:rPr b="0" lang="cs-CZ" sz="3200" spc="-1" strike="noStrike">
                <a:solidFill>
                  <a:srgbClr val="786950"/>
                </a:solidFill>
                <a:latin typeface="Times New Roman"/>
              </a:rPr>
              <a:t>Lukáš Przybylski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Strategické aliance zaměřené na </a:t>
            </a:r>
            <a:r>
              <a:rPr b="1" lang="en-US" sz="3600" spc="-1" strike="noStrike">
                <a:solidFill>
                  <a:srgbClr val="996600"/>
                </a:solidFill>
                <a:latin typeface="Times New Roman"/>
              </a:rPr>
              <a:t>redukci konkurenčních střetů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čátky od pol. 80.l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ozvíjení spolupráce dřívějších klasických konkurentů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GM –  Toyota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montáž automobilů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GM –  Daewoo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výrobní kooperace součástí a dílů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iemens –  Philips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vývoj mikroelektronik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iemens –  Fujitsu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(nákup PC a částí PC technologi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ord –  Mazda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(prodej náhr. dílů partnera na svém domácím trh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ěžko kontrolovatelné nadnárodní vztahy (strategické aliance uzavřené často neformálními dohodami) vedly k ohrožení volné soutěže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95680" y="4876920"/>
            <a:ext cx="99072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rategické ali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9DED-4529-4BEC-A08A-37D50828296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Teoretické východisko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10666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 články uveřejněné v časopise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arvard Business Review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54f41"/>
                </a:solidFill>
                <a:latin typeface="Times New Roman"/>
              </a:rPr>
              <a:t>Gary Hamel, Yves L. Doz a C.K. Prahalad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„</a:t>
            </a:r>
            <a:r>
              <a:rPr b="0" lang="cs-CZ" sz="2000" spc="-1" strike="noStrike">
                <a:solidFill>
                  <a:srgbClr val="cc0000"/>
                </a:solidFill>
                <a:latin typeface="Times New Roman"/>
              </a:rPr>
              <a:t>Collaborate with Your Competitors – and Win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„Spolupracuj se svými konkurenty – a vyhraj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r. 19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54f41"/>
                </a:solidFill>
                <a:latin typeface="Times New Roman"/>
              </a:rPr>
              <a:t>Kenichi Ohma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„</a:t>
            </a:r>
            <a:r>
              <a:rPr b="0" lang="cs-CZ" sz="2000" spc="-1" strike="noStrike">
                <a:solidFill>
                  <a:srgbClr val="cc0000"/>
                </a:solidFill>
                <a:latin typeface="Times New Roman"/>
              </a:rPr>
              <a:t>The Global Logic of Strategic Alliance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„Globální logika strategických aliancí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r. 19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54f41"/>
                </a:solidFill>
                <a:latin typeface="Times New Roman"/>
              </a:rPr>
              <a:t>Rosabeth Moss Kanterová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„</a:t>
            </a:r>
            <a:r>
              <a:rPr b="0" lang="cs-CZ" sz="2000" spc="-1" strike="noStrike">
                <a:solidFill>
                  <a:srgbClr val="cc0000"/>
                </a:solidFill>
                <a:latin typeface="Times New Roman"/>
              </a:rPr>
              <a:t>Collaborative Advantage: The Art of Alliance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„Výhoda spolupráce: Umění aliancí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r. 19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eztrácet síly vzájemným bojem. Obejít střety s konkurenty vytvářením společných strategických aliancí. Účelem nejen vyhnout se „krvácení v konkurenčním zápolení“, ale i posílit vlastní pozic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43400" y="3886200"/>
            <a:ext cx="106668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rategické ali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6D78-A80A-4FEA-BA3D-F3D41B54AA9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Základní obecná doporučení ke spolupráci s konkurencí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artneři se mohou snažit vás odzbroji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ěkteré konflikty a nebezpečí motivují manažery ke zlepšení jejich výkonu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každá kooperace má svá omezení a vyžaduje umění dělat kompromis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polupráce s konkurenty může být velmi hodnotným zdrojem učení 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trategická aliance umožňuje monitorovat konkurentovy schopnosti, silné a slabé stránk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ůže být dočasným partnerstvím v boji proti jinému silnějšímu konkurentov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rategické ali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8C2E-7226-4439-952D-527FAB9E25E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94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Síťové aliance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jdříve dvojstranné aliance s konkuren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es bilaterálnost nahrazována mnohostranností, vznikají různé typy síťových alianc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úko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tvořit kritický potenciál pro prosazení určité podnikatelské strategické politiky sítě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jistit nebo zlepšit ochranu partnerů před ostatní konkurenc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rategické ali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B50B-A575-4E3C-A989-E883CF439DA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Uzlová pozice v síťové alianci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ilná strategická pozice firmy na „uzlové pozici“ v síti („nodal position“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možňuje firmě být lídrem rozvoje dané oblasti podnikání a získat hlavní podíl zis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rganizace v uzlové pozici si klade cíle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yužívat existující, popř. vytvářet nové podnikatelské příležitost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ískat včas do své sítě potenciální i reálné konkurent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tabilizovat si rychle uzlovou pozici a stát se lídrem určité oblasti s ofenzivní strategií („first mover“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itom je nutné, aby pro partnery bylo výhodné být součástí sít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rategické ali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58C0-0E00-4875-A0D8-F514FD1C5D9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Strategické aliance zaměřené na </a:t>
            </a:r>
            <a:r>
              <a:rPr b="1" lang="en-US" sz="3600" spc="-1" strike="noStrike">
                <a:solidFill>
                  <a:srgbClr val="996600"/>
                </a:solidFill>
                <a:latin typeface="Times New Roman"/>
              </a:rPr>
              <a:t>vznik, přenos a využití znalostí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ědeckotech. rozvoj v 2.pol. 90.let      inovační rozvoj podnikatelské činnosti v globální společnosti         tendence rozvoje strategických alianc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slání aliancí se rozšiřuje o umění získávat, sdílet, osvojovat si a hlavně zhodnocovat data, informace a znalosti pro podnikatelskou činn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yužití internetu k usnadnění a zrychlení propojení partnerů v alianci, systémy e–business, e–banking,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Firma, která si vytvoří přednostní přístup k potřebným informacím a disponuje relevantním znalostmi, má ve stále větší míře rozhodující konkurenční výhod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19920" y="2133720"/>
            <a:ext cx="380880" cy="152280"/>
          </a:xfrm>
          <a:prstGeom prst="rightArrow">
            <a:avLst>
              <a:gd name="adj1" fmla="val 50000"/>
              <a:gd name="adj2" fmla="val 62530"/>
            </a:avLst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315200" y="2438280"/>
            <a:ext cx="380880" cy="152640"/>
          </a:xfrm>
          <a:prstGeom prst="rightArrow">
            <a:avLst>
              <a:gd name="adj1" fmla="val 50000"/>
              <a:gd name="adj2" fmla="val 62382"/>
            </a:avLst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91120" y="4876920"/>
            <a:ext cx="13716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rategické ali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BB21-4DE2-4A9F-B11D-77FADF36EB1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Typické možnosti využití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7315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rychlit inovační a další změny výrobního programu transferem technologií a dalších relevantních znalostí partn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ychle a účinně zlepšit profesní a kvalifikační profil managemen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lepšit image organizace vůči zákazníků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yužitím informací a informačních kanálů partnera snadněji získat potřebné informace a znal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ískat potřebné informace o samotném partnerovi pro případ budoucího rozchodu, meržingu a akviz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rategické ali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383C-F808-495A-BBEC-65E6AE3BE4E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KONEC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rategické alian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D368-2F15-406F-A943-6AA8689E8ED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Použitá literatura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DÁČEK, L., VODÁČKOVÁ, O.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ategické aliance se zahraničními partner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Praha : Management Press, 2002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VEBER, J. a kol.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anagement. Základy, prosperita, globalizac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. Praha: Management Press, 2000.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ÁGNER, I.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 z pohledu všeobecného a celostníh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Brno : Masarykova univerzita, 2004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AN HRON, IVANA TICHÁ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trategické aliance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aha: Česká zemědělská univerzita, 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rategické ali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D638-0C98-4202-9519-2EB8F6B0A70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Definice pojmu „Strategické aliance“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istuje větší počet defini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efinice, kterou uvádějí Jassica Lipnacková a Jaffrey Stamps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„Podniky vytvářejí aliance, aby si zajistily specifické podnikatelské potřeby a mohly zareagovat na příležitosti, které nemohou zvládnout interními silami. Společně pracují na dosažení svých strategických cílů.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rategické ali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BC65-7BA6-458F-9ADC-1EF202E194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Problém s názvoslovím v literatuře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rategic alli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operative Ven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operation Agre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firm Relation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al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rporate Alli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llaborative Agre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rategic Partn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rategické ali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5767-224B-487C-931A-D1ED9835091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Základní formy strategických aliancí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Volné“ form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(příležitostná spolupráce, „tiché“ neformální doho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trategické alianc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(v užším pojetí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Joint ven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ěsné form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(fúze, splynutí, akvizi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rategické ali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161A-9497-4A9F-9429-038C95CC47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Rozdělení strategických aliancí podle různých kritérií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Funkční hledisko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(výrobní, marketingové, výzkumné a vývojové, prodejní, finanční, investiční….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Teritoriální hledisko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(tuzemské, zahraniční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Organizační hledisko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(horizontální, vertikální, síťové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Vlastnické hledisko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(soukromé, veřejno-právní alianc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Hledisko cílové orientac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(ziskové, neziskové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Hledisko trvání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(příležitostné, krátkodobé, dlouhodobé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rategické ali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C5D4-C4E5-4E55-AA71-921C1C54B2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Strategické aliance v moderním podnikání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dnikání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 realizací lidské vlastnosti podnikavosti, tj. schopn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vit (identifikovat), a/ne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měrně vytvoři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ak návazně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účelně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účinně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užít příležitosti, které podnikatelskému subjektu vznikají z aktivní spolupráce s okolí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kter spolupráce (kooperace) s podnikatelským okolí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zitivní kooper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gativní kooper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rategické ali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0700-4847-4C97-B8BE-6282DEFB33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xistence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izik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neurčitostí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je pro podnikání typická. Přiměřená rizikovost je jedním z hlavních kritérií zda partnerství uzavřít či neuzavří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rategické aliance pomáhají úspěchu jak vnějšího („enterpreneurship“), tak vnitřního („intrapreneurship“) podnikání.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Strategické aliance v moderním podnikání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rategické ali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EFE6-43E9-4F43-8004-F75254C3446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Klasifikační uspořádání strategických aliancí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rategické aliance zaměřené na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dílení činností a zdrojů partnerů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 (od poč. 80. let min. stolet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rategické aliance zaměřené na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edukci konkurenčních střetů (negativní kooperace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 (přelom 80. a 90. let min. stolet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rategické aliance zaměřené na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znik, přenos a využití znalostí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 (od poč. 90.let min stolet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rategické ali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3649-4FA9-4C16-8316-864CCC101F1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Strategické aliance zaměřené na </a:t>
            </a:r>
            <a:r>
              <a:rPr b="1" lang="en-US" sz="3600" spc="-1" strike="noStrike">
                <a:solidFill>
                  <a:srgbClr val="996600"/>
                </a:solidFill>
                <a:latin typeface="Times New Roman"/>
              </a:rPr>
              <a:t>sdílení činností a zdrojů partnerů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Teorie integrovaného řízení – systematické řízení procesu účelného a účinného přiřazování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potřebných 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činnost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potřebných 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zdrojů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Uvažované procesy přiřazování činností a zdrojů 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probíhají v prostoru a čas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Vhodná volba procesů =&gt; 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pozitivní integrační, popř. synergické efekty spoluprác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rategické ali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FFE6-0945-4B7D-AF23-0187F37A9CC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4T12:09:41Z</dcterms:created>
  <dc:creator>Nada Chlupova</dc:creator>
  <dc:description/>
  <dc:language>en-US</dc:language>
  <cp:lastModifiedBy>99900</cp:lastModifiedBy>
  <dcterms:modified xsi:type="dcterms:W3CDTF">2006-10-18T09:52:58Z</dcterms:modified>
  <cp:revision>12</cp:revision>
  <dc:subject/>
  <dc:title>Strategické aliance</dc:title>
</cp:coreProperties>
</file>