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640" y="3239640"/>
            <a:ext cx="604836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1080" y="3357720"/>
            <a:ext cx="62280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liv globalizace na podnikání a mana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12000" y="5661000"/>
            <a:ext cx="29527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arbora Cupánkov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ana Černákov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an Prok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lobalizace jako pojem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560" y="2852640"/>
            <a:ext cx="76438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Proces integrace společnosti na celosvětové úrovni, která zastřešuje nynější národní, regionální a místní systémy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Proniká do všech sfér života společnosti např. do kultury, politiky, ekologie, ekonomiky…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rčit nebo nestrčit hlavu do písku?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6920" y="2708280"/>
            <a:ext cx="3745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Pasivní přizpůsobování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Malé organizace na lokálních trzí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Nedostatek finančních zdrojů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Nedostatek kvalifikované pracovní síl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76360" y="2708280"/>
            <a:ext cx="38912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Aktivní zapojení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Zpravidla větší organizace s nadnárodní působností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Dostupné finanční zdroj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nazší získávání kvalifikované pracovní síl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řínosy aktivního zapojení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8560" y="2540160"/>
            <a:ext cx="764388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Nižší mzdové náklad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nížení nákladů na logistik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Nižší dan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pší přístup k technologií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Vyrovnanější odby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Nižší výrobní náklady dosahované společným využíváním kapaci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nazší přístup k lokálním trhů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82803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říležitosti a rizika spojená s globalizací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58560" y="2565360"/>
            <a:ext cx="76438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Uplatnění na těžko dostupných trzích         (např.e-business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Usnadnění vstupu na nové trh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Globální konkurenc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irmy zrozené globáln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ysli globálně, jednej lokálně“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465300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Děkujeme za pozornost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892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oužitá literatura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3068640"/>
            <a:ext cx="807588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cc"/>
                </a:solidFill>
                <a:latin typeface="Arial"/>
              </a:rPr>
              <a:t>Veber, J.: Management – základy, prosperita, globalizace. Praha: Management Press, 200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cc"/>
                </a:solidFill>
                <a:latin typeface="Arial"/>
              </a:rPr>
              <a:t>http://www.rozvojovka.cz/odbortext.php?co=gp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0066cc"/>
                </a:solidFill>
                <a:latin typeface="Arial"/>
              </a:rPr>
              <a:t>id=1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cc"/>
                </a:solidFill>
                <a:latin typeface="Arial"/>
              </a:rPr>
              <a:t>http://km.fph.vse.cz/archivpublikaci/veber/glob_econ_mng.pd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9:16:06Z</dcterms:created>
  <dc:creator>98840</dc:creator>
  <dc:description/>
  <dc:language>en-US</dc:language>
  <cp:lastModifiedBy>CIKT</cp:lastModifiedBy>
  <dcterms:modified xsi:type="dcterms:W3CDTF">2006-10-18T14:10:15Z</dcterms:modified>
  <cp:revision>7</cp:revision>
  <dc:subject/>
  <dc:title>Vliv globalizace na podnikání a management</dc:title>
</cp:coreProperties>
</file>