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3BC-6DC3-4863-8FD7-728613BB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28A-9A37-42E3-A00D-9D052EBA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150-F04E-4251-8A90-04D7BF37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C73-99F1-4DC3-8B41-186ABB00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C8EB-5AFA-4B58-A6FE-51BEA642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96D-BBBC-42A6-878D-58DCCEF2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A666-D0AA-4A7A-AE09-AB9B27F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9F71-8A37-4635-B910-DA555E7B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B682-BE73-4664-8B71-3FA2749B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E890-42AE-4300-B418-C5068070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6564-A173-49BA-8BD8-CE993964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B55-5CBA-4630-9316-08A2F866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4363-728E-44FD-B171-F645F1D6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2802-8746-42B2-936C-D6446447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7D56-7696-476B-BBC4-9B46C89C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A27E-FA32-495E-835A-906DB5DC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63C5-F901-4194-B750-9F069384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1E1-9821-44C0-9A3E-9C7DA44E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D96-4069-4BCD-962E-024BDFB1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464-4D39-4A1D-9100-F49183C7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934-FBCD-4AC5-A858-1FBB381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5F3-5C4B-47A3-8749-9B4C09A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3E1-6D51-4BC4-90C1-A6671F0C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DF2-1386-4AEE-A09A-D4F050FE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F5E4-5929-4D2E-A0CD-0A922C8CA7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308-91A6-4988-B57B-868A901EC2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MĚNY PRÁCE A VÝVOJE PODNIK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Tým č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industriální = vlastní 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up industriáln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ická malovýroba; bez vlivu na cen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ncentrace kapitálu ve firm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19.století se začíná využívat parní stroje a el.energi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vyšování efektivnosti prá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soké investiční nároky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znik velkých podniků s kapitá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I - US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ýraznější je vývoj v USA, kde vzniká cenová konkuren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avádění přísných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na fúzí počátkem 20.stolet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rporace General Motors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3 gigantické korporace v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é podniky zaplňovali mez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á organizovaný trh a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ývoj podniků III – trh akcií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cie = výnosná forma j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livňovala úspory obyv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ování vlastnictví od ří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dící činnost v rukou profesioná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žers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 již není chápán jako základní c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interesovanost oproti akcio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kolem manažerů je soulad zájm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V - Evrop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pně se význam řídících pracovníků přesouvá i do Ev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50.letech 20.století vznik velkých podniků s profesio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za jiných podmín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lavní úlohu měl rodin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íc často centrálně plánované ekonomik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átní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Glob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obřích nadnárodních společností působících 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to subjekty mají obrovský ekonomický potenc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národní společnosti využívají konkurenčních vý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čné řízení pro man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ost úspěchu i neúspě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oužitá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literatura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OVETSKY, 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mrak povinnost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: Prostor, 1999. ISBN 80-7260-008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, R.B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ušná společno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 : Vize 97, 2003. ISBN 80-86181-60-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, A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ika hospodářství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.II. Praha: OIKOYMENH, 1994. ISBN 80-85241-62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360" y="2707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ěkujeme za pozornost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Řemeslo vs. Manufak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Klíčové výrobn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práce </a:t>
            </a:r>
            <a:r>
              <a:rPr b="0" lang="en-US" sz="2800" spc="-1" strike="noStrike">
                <a:solidFill>
                  <a:srgbClr val="e4005c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  <a:ea typeface="Arial"/>
              </a:rPr>
              <a:t>Vlastnictví výrobního fakto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grovány v osobě jediného nositele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lastnictví výrobního faktoru práce a kapitálu bylo oddě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Dělb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orientovaná na výrobek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rientovaná na proces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ozvoj uplatnění strojů = RACION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nalizaci lze rozdělit do několika et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tapa - první stroje jen vylepšení nástroj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íla potřebná pro pohon stroje byla nahrazena silou pohonného stro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zv. stroje nesamostatné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upeň - typicky je běžící výrobní p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ientace na velkovýro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ýrobní proces rozdělen na velké množství dílčích op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ělník vykonává pouze tzv. zbytkové 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gativní důsled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lníkovi zůstávala atomizovaná monotónní manuální prá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se stává nepřiměřenou a nedokáže motivov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méně lidí ochotno takovou práci vykonávat, roste fluktuace a absentérství, produktivita stagnuje, náklady rostou, efektivnost se snižu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řechod k flexibilní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výrobě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novení komplexnosti prá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ámci humanizace přechod k tzv. „rozšiřování práce“ („job enlargement“) a „obohacování práce“ („job enrichment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autonomních pracovních tý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ástup 3.etapy - COMPUTER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roli přístroje výpočetní a komunikační techni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em této nové vlny racionalizace se v oblasti výroby se stala CNC-technika (computerized numerical control) a počítačově řízená výroba (CAM - computer aid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en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pělé země masivní nahrazování pracovní síly zmíněnou technikou, nebo výroba přesouvána do méně vyspělých zemích, kde je realizována spíše na tradičních strojích a zařízeních s vyšším podílem pracovní síly, ovšem mzdově mén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hrazování lidské práce počítači a obdobnými zařízeními je patrný též v administrativě i jiných oblastech duševní prá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azný růst produktivity práce vede v poslední době k podstatnému zkracování pracovní doby a růstu volného ča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ové trendy závěru dvacátého století avizující ve vyspělých zemích nástup postindustriální společnosti, představují, byť v kvalitativně zcela odlišných podmínkách, návrat k některým charakteristikám práce typickým pro společnost preindustriál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polečenská a etická strán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říve naplnění něčích potře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ůst mezd z atraktivnil volný č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nes mimopracovní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kracování pracovní doby v důsledku úpadku morálky, současné odstraňování monotó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vují se značné profes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ůst reálných příjmů u vysokoškol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d „bílých a modrých límečk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stup „zlatých límečků“ – nositelé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4:17Z</dcterms:created>
  <dc:creator>Nikos</dc:creator>
  <dc:description/>
  <dc:language>en-US</dc:language>
  <cp:lastModifiedBy>pc</cp:lastModifiedBy>
  <dcterms:modified xsi:type="dcterms:W3CDTF">2006-11-07T07:21:24Z</dcterms:modified>
  <cp:revision>7</cp:revision>
  <dc:subject/>
  <dc:title>PROMĚNY PRÁCE A VÝVOJE PODNIKŮ</dc:title>
</cp:coreProperties>
</file>