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A26-F22B-44D7-86E2-2F34D588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1335-2FC6-442A-ADE8-AAFF464A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956-4B18-4F26-87A2-03725EA0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B83-E8BD-469C-BF6D-8565B174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9F48-CC96-46DF-A339-241869D0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3BE7-5C00-464D-9E25-FD163F4E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D72F-A962-4229-8EBD-1D3062ED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D904-1E99-4A95-ABDC-14568F45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F6F6-A411-4652-AEEC-8BDD3D71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9DF2-CBA7-4F79-8986-E8B2176C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132C-509D-4B59-9EB4-5037D451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B04-A0DF-4CB5-9F52-BB371E9C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7232-FDEE-481F-8990-F3963D7E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89EF-CEDF-4172-834E-DE46FFEE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29B2-DBB3-43BC-860F-EEA0AC53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7ABA-F8BE-4970-B95B-D572C3B7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0AD9-2E3B-40C8-A434-0A7CC337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EBC-5C58-48F4-A895-2342B385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4C8-92E4-4DF1-A6BB-1DDB3EFC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643-31A5-462A-847F-7B13DC3C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D75-86F2-41E0-B2D0-A2D87E44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808-F6D7-4A82-9192-C0D9123A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590-E8BC-4100-892C-255C3502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F2A-F88B-4684-B46F-E722FFCF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C32A-460E-4D6A-958A-3B13FFD9DAAC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9F6E-17A9-4E08-ABC5-A00F738DB28D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seminarky.cz/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Georgia"/>
                <a:ea typeface="Times New Roman"/>
              </a:rPr>
              <a:t>Metody soudobého managemen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ým 8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na Eliáš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. 12. 2006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artina Vaisharová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Koncepce jednoduchosti (McKinseye)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osazuje se ve strojírenství a v činnosti výrobců součáste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ato metoda vychází z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oustředění na rozhodující potřeby zákazníků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nížení počtu zákazníků i dodavatelů při současném zainteresování spolupráce s ni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ládnutí vnitřní kompetentnosti řízení, jež je zaměřeno na jednoduché cíle a přehledné, průhledné i málo složité postup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Reengineering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Od počátku 90. l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ozumí se tím zásadní přehodnocení a radikální přeměna podnikových procesů tak, aby mohlo být dosaženo výrazného zdokonalení z hlediska kritických měřítek výkonnosti jako jsou náklady, kvalita, rychlost a na produkt navazující služb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Jde o restrukturalizaci podnikových procesů s cílem dosáhnout větší konkurenční výhody, lepším uspokojováním potřeb zákazníků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Základy managemen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, Doc. Ing. Václav Lednický, CSc., Ostrava 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seminarky.c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660066"/>
                </a:solidFill>
                <a:latin typeface="Tahoma"/>
              </a:rPr>
              <a:t>Děkujeme za pozornost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Vývoj managemen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ředklasick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lasick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ostklasické období (moderní managemen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učasn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Zvyšování tržních podílů využíváním konkurenční výhody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nižování nákladů na produk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vyšování jakosti produk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čas v podobě pohotovosti a rychlosti dodáve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Manažerské metody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toda 3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toda dynamických  7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Jasný manag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urnaro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Benchmark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„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Štíhlá výroba“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Koncepce jednoduch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Reengineer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Metoda 3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ákazník (Custome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onkurence (Competitio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měna (Chang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Metoda dynamických 7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takeholders satisfaction (uspokojování nároků spotřebitelů a okol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oohsaying (předvídání příležitost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peed (rychlos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urprice (moment překvap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gnals (vysílání signálů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hocks (zásahy do tržní rovnováh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hifts (posuny na trhu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Turnaround</a:t>
            </a: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ustředění se na jádro podnik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atraktivnosti výrobků a služeb cestou inovac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Vytvoření nového a přitažlivého jména fir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Realizace sjednoceného a svorného top managemen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Benchmar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Základem benchmarkingu je sedm kroků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tanovení kritéria benchmarkingu – koncipování dotaz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říprava interních dat pro srovnávání – přesné určení ukazatel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ýběr podniku pro srovnání – zásadně ten nejlepš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hromáždění externích dat s využitím všech možných zdroj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nalýza a interpretace dat při použití i znalostí exper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Odvození cílů specifických pro podnik, jež s ebudou opírat o výsledky analýzy – zadat vysoké cí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ytvoření plánu opatření k dosažení cílů cestou tvůrčích řešení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„</a:t>
            </a: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Štíhlá výroba“ </a:t>
            </a:r>
            <a:br>
              <a:rPr sz="3600"/>
            </a:b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(Lean Production)</a:t>
            </a: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znik v automobilovém průmysl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ílem je udržet se na trhu, přežít a pokud možno vyniknout při  využívání podpory dílčích cílů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produktiv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kva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lepšení vztahů mezi vedením podniku a pracovní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lepšení vztahů mezi výrobcem a zákazníkem či odběratele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2:32:47Z</dcterms:created>
  <dc:creator>Janicka</dc:creator>
  <dc:description/>
  <dc:language>en-US</dc:language>
  <cp:lastModifiedBy>Rodina</cp:lastModifiedBy>
  <dcterms:modified xsi:type="dcterms:W3CDTF">2006-11-20T15:13:04Z</dcterms:modified>
  <cp:revision>4</cp:revision>
  <dc:subject/>
  <dc:title>Management II</dc:title>
</cp:coreProperties>
</file>