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87B8-A2F5-44D7-A9AD-010E6E9D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A09-68C6-4D88-9341-FE01E914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904-C403-470B-96F3-084ED497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65A-6F79-4A82-8470-BE29C51F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A88A-2B2E-4028-A277-CA5A5CE8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555D-B8BB-46DA-90B8-8941261F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08CF-D025-4961-9F20-0059CFF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8D13-A4B0-495E-83FB-D8C3A25A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4917-7A7C-47E2-8AD7-05CBF47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007E-681A-4DFB-BF1C-1DC6028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7933-BB3C-4CA3-9771-876CD116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5A36-D109-47F0-A142-FE611D95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90F4-5451-4A1A-B8F0-B43CD1D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C5F0-818B-4855-BCD7-F6C5E0D6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BB70-34F1-49E7-BA5A-6BC274CA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9B7D-AFF3-445E-98E2-268DB7B8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97FE-407C-45EF-97EA-E1E2A737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8FE-78B1-4266-9E65-E623FF17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043-C359-453C-A848-8627ACE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026-7124-4872-A920-18FD0AF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D17D-6408-448F-9B80-8D129857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5F7C-5034-42DB-B7EC-A45677C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8857-EC63-4BE6-9307-A8D9AC9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3FD-32D5-4072-9C01-D0C372F1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D9E0-2A20-4082-AE6F-B8A221F58B0B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EC6-0757-40E0-BB95-8D476BF36275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ývoj podniků v industriální společnost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čátky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čátek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kce pro vlastní výro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ovýroba -  produkce jen pro lokální tr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derní industrializa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padající úloha zemědělství (rostla produktivita moderního zemědělstv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ste podíl pracovních sil zaměstnaných v terciální sféř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ívání stroj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é neživé zdroje ener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alší aspekty vývoj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. století – průmyslová revolu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ste produktivita, zvyšuje efektivita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ývoj institucí (právo – Obchodní zákoní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yužívání vědy v průmysl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ilování stabili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centrace (růst objemu kapitál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ce práce kapitálem (růst kapitálového vybavení prá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ižování počtu firem (likvida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eec94"/>
                </a:solidFill>
                <a:latin typeface="Times New Roman"/>
              </a:rPr>
              <a:t>Vznik oligopol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vestiční nároky vedly ke vzniku většíc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mogenní struktur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heterogenní (oligop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nažerská revoluc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znik velkých korporací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→ vznik akciových společností → potřeba oddělení vlastnictví od ří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Zisk už není hlavním cílem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Snaha o zhodnocení fir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oldingové společnosti – řídí další korpor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užitá literatur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ameron, R. : Stručné ekonomické dějiny světa. Praha: Victoria publishing, 199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ich, R.B.: Dílo národů. Praha: Prostor, 19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lažek, L. : Management II, Průvodce studi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9:09:33Z</dcterms:created>
  <dc:creator>Franta Konopásek</dc:creator>
  <dc:description/>
  <dc:language>en-US</dc:language>
  <cp:lastModifiedBy>Franta Konopásek</cp:lastModifiedBy>
  <dcterms:modified xsi:type="dcterms:W3CDTF">2006-10-16T10:04:49Z</dcterms:modified>
  <cp:revision>3</cp:revision>
  <dc:subject/>
  <dc:title>Vývoj podniků v industriální společnosti</dc:title>
</cp:coreProperties>
</file>