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CDE-0287-40F2-A45B-CFCEFC71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0F6B-9B70-4122-9DAA-A97A6F8D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C84-1DD4-4B5A-9317-9441DA7C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F857-D207-4BAE-8A41-60551FDA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8392-A35B-4098-8453-7831308F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AB7C-41DE-44DF-9286-C0AA0390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B847-FE9B-4614-A1A4-96730543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F23D-B2B9-4FE9-8C92-1F2CCEF5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1985-8908-42D1-AAEA-7B7940CD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0E18-F42D-4357-AA2C-D26DF4F7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BD3C-8FB9-4742-A2A0-B1D3860C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1F1-426A-46C9-895A-294C2809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4ECC-FFBE-4C14-81A7-B56C162F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393B-0B12-4084-952A-4102142A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C70C-DB7F-42CC-B74E-7C09518D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999F-AE14-4E32-BF28-0B456FAD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561A-791E-44A8-BDEE-11ED2C74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2D3-208B-4B86-9534-C72B56E9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A6E-F54F-42C0-9B8E-828CBF62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A06-65C1-4AB7-BAEB-86CC6522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854-A649-41C5-B4C6-B1DA5896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0E17-CA7E-4BFE-85C6-2AC48A33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725C-4DAF-4CDF-BF61-2BA81E22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ED2-B2BE-47D4-B5B8-404EB30C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CA9C-9456-4095-8942-4D1F544CD0ED}" type="slidenum">
              <a:rPr b="0" lang="cs-CZ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7D61-C68F-4CBE-9EF4-FDC0A52819EB}" type="slidenum">
              <a:rPr b="0" lang="cs-CZ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kip.zcu.cz/kursy/svt/svt_www/2_soubory/2_7.html" TargetMode="External"/><Relationship Id="rId2" Type="http://schemas.openxmlformats.org/officeDocument/2006/relationships/hyperlink" Target="http://www.kip.zcu.cz/kursy/svt/svt_www/2_soubory/2_7.html" TargetMode="External"/><Relationship Id="rId3" Type="http://schemas.openxmlformats.org/officeDocument/2006/relationships/hyperlink" Target="http://www.kip.zcu.cz/kursy/svt/svt_www/2_soubory/2_7.html" TargetMode="External"/><Relationship Id="rId4" Type="http://schemas.openxmlformats.org/officeDocument/2006/relationships/hyperlink" Target="http://www.kip.zcu.cz/kursy/svt/svt_www/2_soubory/2_7.html" TargetMode="External"/><Relationship Id="rId5" Type="http://schemas.openxmlformats.org/officeDocument/2006/relationships/hyperlink" Target="http://www.kip.zcu.cz/kursy/svt/svt_www/2_soubory/2_7.html" TargetMode="External"/><Relationship Id="rId6" Type="http://schemas.openxmlformats.org/officeDocument/2006/relationships/hyperlink" Target="http://www.kip.zcu.cz/kursy/svt/svt_www/2_soubory/2_7.html" TargetMode="External"/><Relationship Id="rId7" Type="http://schemas.openxmlformats.org/officeDocument/2006/relationships/hyperlink" Target="http://www.kip.zcu.cz/kursy/svt/svt_www/2_soubory/2_7.html" TargetMode="External"/><Relationship Id="rId8" Type="http://schemas.openxmlformats.org/officeDocument/2006/relationships/hyperlink" Target="http://www.kip.zcu.cz/kursy/svt/svt_www/2_soubory/2_7.html" TargetMode="External"/><Relationship Id="rId9" Type="http://schemas.openxmlformats.org/officeDocument/2006/relationships/hyperlink" Target="http://www.kip.zcu.cz/kursy/svt/svt_www/2_soubory/2_7.html" TargetMode="External"/><Relationship Id="rId10" Type="http://schemas.openxmlformats.org/officeDocument/2006/relationships/hyperlink" Target="http://www.kip.zcu.cz/kursy/svt/svt_www/2_soubory/2_7.html" TargetMode="External"/><Relationship Id="rId11" Type="http://schemas.openxmlformats.org/officeDocument/2006/relationships/hyperlink" Target="http://www.kip.zcu.cz/kursy/svt/svt_www/2_soubory/2_7.html" TargetMode="External"/><Relationship Id="rId12" Type="http://schemas.openxmlformats.org/officeDocument/2006/relationships/hyperlink" Target="http://www.kip.zcu.cz/kursy/svt/svt_www/2_soubory/2_7.html" TargetMode="External"/><Relationship Id="rId13" Type="http://schemas.openxmlformats.org/officeDocument/2006/relationships/hyperlink" Target="http://www.gis.zcu.cz/studium/dbg2/Materialy/html/ch09.html" TargetMode="External"/><Relationship Id="rId14" Type="http://schemas.openxmlformats.org/officeDocument/2006/relationships/hyperlink" Target="http://www.gis.zcu.cz/studium/dbg2/Materialy/html/ch09.html" TargetMode="External"/><Relationship Id="rId15" Type="http://schemas.openxmlformats.org/officeDocument/2006/relationships/hyperlink" Target="http://www.gis.zcu.cz/studium/dbg2/Materialy/html/ch09.html" TargetMode="External"/><Relationship Id="rId16" Type="http://schemas.openxmlformats.org/officeDocument/2006/relationships/hyperlink" Target="http://www.gis.zcu.cz/studium/dbg2/Materialy/html/ch09.html" TargetMode="External"/><Relationship Id="rId17" Type="http://schemas.openxmlformats.org/officeDocument/2006/relationships/hyperlink" Target="http://www.gis.zcu.cz/studium/dbg2/Materialy/html/ch09.html" TargetMode="External"/><Relationship Id="rId18" Type="http://schemas.openxmlformats.org/officeDocument/2006/relationships/hyperlink" Target="http://www.gis.zcu.cz/studium/dbg2/Materialy/html/ch09.html" TargetMode="External"/><Relationship Id="rId19" Type="http://schemas.openxmlformats.org/officeDocument/2006/relationships/hyperlink" Target="http://www.gis.zcu.cz/studium/dbg2/Materialy/html/ch09.html" TargetMode="External"/><Relationship Id="rId20" Type="http://schemas.openxmlformats.org/officeDocument/2006/relationships/hyperlink" Target="http://www.gis.zcu.cz/studium/dbg2/Materialy/html/ch09.html" TargetMode="External"/><Relationship Id="rId21" Type="http://schemas.openxmlformats.org/officeDocument/2006/relationships/hyperlink" Target="http://www.gis.zcu.cz/studium/dbg2/Materialy/html/ch09.html" TargetMode="External"/><Relationship Id="rId22" Type="http://schemas.openxmlformats.org/officeDocument/2006/relationships/hyperlink" Target="http://www.gis.zcu.cz/studium/dbg2/Materialy/html/ch09.html" TargetMode="External"/><Relationship Id="rId23" Type="http://schemas.openxmlformats.org/officeDocument/2006/relationships/hyperlink" Target="http://www.miras.cz/seminarky/word/mie01-trhy.doc" TargetMode="External"/><Relationship Id="rId24" Type="http://schemas.openxmlformats.org/officeDocument/2006/relationships/hyperlink" Target="http://www.miras.cz/seminarky/word/mie01-trhy.doc" TargetMode="External"/><Relationship Id="rId25" Type="http://schemas.openxmlformats.org/officeDocument/2006/relationships/hyperlink" Target="http://www.miras.cz/seminarky/word/mie01-trhy.doc" TargetMode="External"/><Relationship Id="rId26" Type="http://schemas.openxmlformats.org/officeDocument/2006/relationships/hyperlink" Target="http://www.miras.cz/seminarky/word/mie01-trhy.doc" TargetMode="External"/><Relationship Id="rId27" Type="http://schemas.openxmlformats.org/officeDocument/2006/relationships/hyperlink" Target="http://www.miras.cz/seminarky/word/mie01-trhy.doc" TargetMode="External"/><Relationship Id="rId28" Type="http://schemas.openxmlformats.org/officeDocument/2006/relationships/hyperlink" Target="http://www.miras.cz/seminarky/word/mie01-trhy.doc" TargetMode="External"/><Relationship Id="rId29" Type="http://schemas.openxmlformats.org/officeDocument/2006/relationships/hyperlink" Target="http://www.miras.cz/seminarky/word/mie01-trhy.doc" TargetMode="External"/><Relationship Id="rId30" Type="http://schemas.openxmlformats.org/officeDocument/2006/relationships/hyperlink" Target="http://www.miras.cz/seminarky/word/mie01-trhy.doc" TargetMode="External"/><Relationship Id="rId31" Type="http://schemas.openxmlformats.org/officeDocument/2006/relationships/hyperlink" Target="http://www.miras.cz/seminarky/word/mie01-trhy.doc" TargetMode="External"/><Relationship Id="rId32" Type="http://schemas.openxmlformats.org/officeDocument/2006/relationships/hyperlink" Target="http://www.miras.cz/seminarky/word/mie01-trhy.doc" TargetMode="External"/><Relationship Id="rId3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ělba práce ve vývoji lidské společnosti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Jana Eliášová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Martina Vaisharová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Durkheim, A. </a:t>
            </a:r>
            <a:r>
              <a:rPr b="0" i="1" lang="cs-CZ" sz="2000" spc="-1" strike="noStrike">
                <a:solidFill>
                  <a:srgbClr val="eaeaea"/>
                </a:solidFill>
                <a:latin typeface="Arial"/>
              </a:rPr>
              <a:t>Společenská dělba práce. 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Brno: Centrum pro studium demokracie a kultury 200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KIP - Katedra managementu, inovací a projektů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, f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akulta ekonomická, Západočeská universita v Plzni </a:t>
            </a:r>
            <a:r>
              <a:rPr b="0" lang="en-US" sz="2000" spc="-1" strike="noStrike">
                <a:solidFill>
                  <a:srgbClr val="eaeaea"/>
                </a:solidFill>
                <a:latin typeface="Arial CE"/>
              </a:rPr>
              <a:t>[online]. 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2001. </a:t>
            </a:r>
            <a:r>
              <a:rPr b="0" lang="en-US" sz="2000" spc="-1" strike="noStrike">
                <a:solidFill>
                  <a:srgbClr val="eaeaea"/>
                </a:solidFill>
                <a:latin typeface="Arial CE"/>
              </a:rPr>
              <a:t>Dostupn</a:t>
            </a:r>
            <a:r>
              <a:rPr b="0" lang="cs-CZ" sz="2000" spc="-1" strike="noStrike">
                <a:solidFill>
                  <a:srgbClr val="eaeaea"/>
                </a:solidFill>
                <a:latin typeface="Arial CE"/>
              </a:rPr>
              <a:t>ý na</a:t>
            </a:r>
            <a:r>
              <a:rPr b="1" lang="cs-CZ" sz="2000" spc="-1" strike="noStrike">
                <a:solidFill>
                  <a:srgbClr val="eaeaea"/>
                </a:solidFill>
                <a:latin typeface="Arial CE"/>
              </a:rPr>
              <a:t>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2"/>
              </a:rPr>
              <a:t>kip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4"/>
              </a:rPr>
              <a:t>zcu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7"/>
              </a:rPr>
              <a:t>/kursy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8"/>
              </a:rPr>
              <a:t>svt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0"/>
              </a:rPr>
              <a:t>svt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1"/>
              </a:rPr>
              <a:t>_www/2_soubory/2_7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 CE"/>
                <a:ea typeface="Times New Roman"/>
                <a:hlinkClick r:id="rId12"/>
              </a:rPr>
              <a:t>htm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Čerba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, O. </a:t>
            </a:r>
            <a:r>
              <a:rPr b="0" i="1" lang="cs-CZ" sz="2000" spc="-1" strike="noStrike">
                <a:solidFill>
                  <a:srgbClr val="eaeaea"/>
                </a:solidFill>
                <a:latin typeface="Arial"/>
              </a:rPr>
              <a:t>Databázové systémy GIS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[online].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lze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ň 2004. Dostupný na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3"/>
              </a:rPr>
              <a:t>http://www.gis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4"/>
              </a:rPr>
              <a:t>zcu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7"/>
              </a:rPr>
              <a:t>/studium/dbg2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8"/>
              </a:rPr>
              <a:t>Materialy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1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0"/>
              </a:rPr>
              <a:t>html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1"/>
              </a:rPr>
              <a:t>/ch09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2"/>
              </a:rPr>
              <a:t>htm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ebd18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Leblanc, M. Trh a základní elementy trhu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[online]. </a:t>
            </a:r>
            <a:r>
              <a:rPr b="0" lang="cs-CZ" sz="2000" spc="-1" strike="noStrike">
                <a:solidFill>
                  <a:srgbClr val="eaeaea"/>
                </a:solidFill>
                <a:latin typeface="Arial"/>
              </a:rPr>
              <a:t>Dostupný na 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3"/>
              </a:rPr>
              <a:t>http://www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4"/>
              </a:rPr>
              <a:t>miras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5"/>
              </a:rPr>
              <a:t>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6"/>
              </a:rPr>
              <a:t>cz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7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8"/>
              </a:rPr>
              <a:t>seminarky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29"/>
              </a:rPr>
              <a:t>/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0"/>
              </a:rPr>
              <a:t>word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1"/>
              </a:rPr>
              <a:t>/mie01-trhy.</a:t>
            </a:r>
            <a:r>
              <a:rPr b="0" lang="cs-CZ" sz="2000" spc="-1" strike="noStrike" u="sng">
                <a:solidFill>
                  <a:srgbClr val="b97c01"/>
                </a:solidFill>
                <a:uFillTx/>
                <a:latin typeface="Arial"/>
                <a:ea typeface="Times New Roman"/>
                <a:hlinkClick r:id="rId32"/>
              </a:rPr>
              <a:t>d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finic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bd189"/>
                </a:solidFill>
                <a:latin typeface="Arial"/>
              </a:rPr>
              <a:t>Dělba práce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, ve kterém dochází k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stupnému osamostatňování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dnotlivých druhů činností či operací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možňuje specializa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-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edpokládá kooperac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upný vývoj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irozená DP – pravěk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 základě přirozených dispozic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muži X ženy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polečenská DP – specializace při výrobě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ků (zemědělci X pastevci;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řemesla X obcho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stupný vývoj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 v pracovních operacích – technický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ozvoj a specializace; výroba 1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atku členěna na jednotlivé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acovní činnosti (Baťa, For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zinárodní DP – územní specializace n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ezinárodních principech; n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základě absolutní 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komparativní výhod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nagement v jednotlivých etapác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řirozená a společenská DP (1. vlna) –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platňován jen v armádě a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írkvi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 v operacích (2. vlna) – prohlubování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P, specializace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yramidální organiz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anagement v jednotlivých etapách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stmoderní společnost (3. vlna) –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strategické informační systémy, nižší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třeba středního managementu;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reengineering …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Věk intensifikace kreativity – síťové 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struktury, učící se organiza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zinárodní D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DP předpokládá kooperaci     změna integrace společnosti (globalizace) zásadně ovlivňuje mezinárodní DP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Arial"/>
              </a:rPr>
              <a:t>Po 2.sv.v. přesun řízení a organizace z národní na mezinárodní úroveň (Ford, GM …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ezinárodní DP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19051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62520" y="3124080"/>
            <a:ext cx="2057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É JÁDR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3581280"/>
            <a:ext cx="28958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Á SEMIPERIFER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4038480"/>
            <a:ext cx="32767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VĚTOVÁ PERIFER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učasná podoba mezinárodní DP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2286000"/>
            <a:ext cx="190476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USA, západní Evropa, Japonsk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3505320"/>
            <a:ext cx="17524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třední Evrop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4800600"/>
            <a:ext cx="2057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jižní a jihovýchodní Asie, Jižní Amerik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2" idx="3"/>
            <a:endCxn id="118" idx="1"/>
          </p:cNvCxnSpPr>
          <p:nvPr/>
        </p:nvCxnSpPr>
        <p:spPr>
          <a:xfrm>
            <a:off x="3123720" y="2641320"/>
            <a:ext cx="839160" cy="68652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3" idx="3"/>
            <a:endCxn id="119" idx="1"/>
          </p:cNvCxnSpPr>
          <p:nvPr/>
        </p:nvCxnSpPr>
        <p:spPr>
          <a:xfrm>
            <a:off x="2971440" y="3708360"/>
            <a:ext cx="610200" cy="766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4" idx="0"/>
            <a:endCxn id="120" idx="1"/>
          </p:cNvCxnSpPr>
          <p:nvPr/>
        </p:nvCxnSpPr>
        <p:spPr>
          <a:xfrm flipV="1">
            <a:off x="2247480" y="4241880"/>
            <a:ext cx="1105560" cy="5590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6858000" y="1981080"/>
            <a:ext cx="16765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ídlo a vedení společnost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3124080"/>
            <a:ext cx="1905120" cy="131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montážní a částečně výrobní provozy, vývojové a řídící kapac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4952880"/>
            <a:ext cx="9144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výrob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8" idx="1"/>
            <a:endCxn id="118" idx="3"/>
          </p:cNvCxnSpPr>
          <p:nvPr/>
        </p:nvCxnSpPr>
        <p:spPr>
          <a:xfrm flipH="1">
            <a:off x="6019560" y="2336760"/>
            <a:ext cx="838800" cy="99144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9" idx="1"/>
            <a:endCxn id="119" idx="3"/>
          </p:cNvCxnSpPr>
          <p:nvPr/>
        </p:nvCxnSpPr>
        <p:spPr>
          <a:xfrm flipH="1">
            <a:off x="6476760" y="3784320"/>
            <a:ext cx="381600" cy="108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30" idx="1"/>
            <a:endCxn id="120" idx="3"/>
          </p:cNvCxnSpPr>
          <p:nvPr/>
        </p:nvCxnSpPr>
        <p:spPr>
          <a:xfrm flipH="1" flipV="1">
            <a:off x="6628680" y="4241520"/>
            <a:ext cx="229320" cy="91512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189"/>
                </a:solidFill>
                <a:latin typeface="Arial"/>
              </a:rPr>
              <a:t>Klady a zápory mezinárodní DP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aplikace nových moderních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chnologií a výrobních postupů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nárůst výrobních kapaci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rozšíření počtu pracovních mí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zlepšení obchodní bilance země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zisky neinvestovány v místě vzniku x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řerozdělovány ze sídla spo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- úniky na daní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11:05:31Z</dcterms:created>
  <dc:creator>lvaishar</dc:creator>
  <dc:description/>
  <dc:language>en-US</dc:language>
  <cp:lastModifiedBy>Hanka</cp:lastModifiedBy>
  <dcterms:modified xsi:type="dcterms:W3CDTF">2006-10-15T18:53:28Z</dcterms:modified>
  <cp:revision>22</cp:revision>
  <dc:subject/>
  <dc:title>Dělba práce a vývoj lidské společnosti</dc:title>
</cp:coreProperties>
</file>