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8FA-F5EA-4374-ABDD-E2172874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7C1-2BD5-4FBB-8F8E-D58209C0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77A-6380-45A5-AFC1-7CE666C2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ED9-02C5-43C8-B126-4B074600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1F4-0BA7-4097-8927-E1FF133E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CD9D-61C5-462F-84F4-87898697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4A9-37DD-48DA-94C4-D8FCBB02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8AB-F846-4308-BEE6-69F07D8E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FB4-4E81-4A84-B2D7-786CCD05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940-5CAF-44E7-B5C2-EE3CA4DF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1A3-7DE5-43EA-BA12-2504A443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590-B00C-4D7E-9905-A672A783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C79C-FA76-4CEB-8AA2-9CAF2712C7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55736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m Kotl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vla Lišk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ek Výt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efinice motivac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tivační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spokojená potře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ílově orientované ch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okojení potře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obsa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aslowova teorie hierarchie potř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erzbergova dvoufaktorová teor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eorie zaměřené na pro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orie spravedl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ční te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žerské strategie zvyšování motivac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měňování odrážející výk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poskytování zaměstnaneckých akci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užná pracovní do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ohacování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nnelly,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.H.-Gibson, J.L.-Ivancevich, J.M.: Management, 1. vydání, Grada 1997, ISBN: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80-7169-422-3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9:24:08Z</dcterms:created>
  <dc:creator>Richard Savický</dc:creator>
  <dc:description/>
  <dc:language>en-US</dc:language>
  <cp:lastModifiedBy>Ondřej Částek</cp:lastModifiedBy>
  <dcterms:modified xsi:type="dcterms:W3CDTF">2006-12-05T08:54:21Z</dcterms:modified>
  <cp:revision>4</cp:revision>
  <dc:subject/>
  <dc:title>MOTIVACE</dc:title>
</cp:coreProperties>
</file>