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86E-9638-4109-AB00-AD1AD883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311-3AB9-49DC-AEAA-8453B99D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C9D3-D415-4900-BFBA-43D33D9A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F2A-57CD-457D-91EE-FF3D85A9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A22F-84E8-4AD5-A980-F2870C5D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728B-A752-4E19-AAC4-0B9EE2ED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1E53-E045-460D-93EA-8EC7E89C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D522-9DEA-48C8-B762-30AF1970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2ABE-D24A-4BE2-BDE1-837A7731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C0D6-17A5-40A5-92AF-80F70CDA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2FCC-D417-493C-A85E-EA5A9B8D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A0E2-912A-4C2D-8C39-38DD9A26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B7CF-7DB0-4222-89B8-1FD3DD6C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9F95-916D-4228-A696-18F9F1DE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071A-34EB-451F-B72B-AFE67F6D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793C-C58C-4F90-81E1-CA868E7E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D2B5-4FBD-4CAA-8A36-27C67B11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477-E630-49B3-A002-143DEE85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5D0-81A7-4A0B-978F-75AC253F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E4C-B616-4F8A-A07F-3A926777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B3AD-158C-4626-AAE3-B7201AC0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EAE-5039-480A-8599-C5846BF4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970-2420-4919-ADB2-FDD5423A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E19-DA14-47DB-89BE-A1D163E3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274A-2586-4CE2-AE43-284CAAC7514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86D9-FBBE-4285-B30B-8096CF4FD5B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-901800"/>
            <a:ext cx="7772400" cy="33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cs-CZ" sz="7200" spc="-1" strike="noStrike">
                <a:solidFill>
                  <a:srgbClr val="003366"/>
                </a:solidFill>
                <a:latin typeface="Times New Roman"/>
              </a:rPr>
              <a:t>Proměny práce</a:t>
            </a:r>
            <a:br>
              <a:rPr sz="7200"/>
            </a:b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CKO-ORGANIZAČNÍ STRÁNK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POLEČENSKÁ A ETICKÁ STRÁNK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Times New Roman"/>
              </a:rPr>
              <a:t>1. </a:t>
            </a:r>
            <a:r>
              <a:rPr b="1" lang="cs-CZ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ECHNICKO-ORGANIZAČNÍ STRÁNKA PRÁCE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Řemeslná výrob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využíval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á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řemeslník byl vlastníkem svých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ýrobních prostř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ělba práce byla orientovaná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 výrob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dustriální společno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ufaktu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ůmyslové pod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ůmyslové podni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ýznam faktoru práce při tvorbě hodnoty postupně kle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stnictví výrobního faktoru práce a kapitálu bylo odděl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kce podnikatele se osamostatnila od vlastní výrobní činnos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ývoj uplatňování strojů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vylepšením nástroj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zaměstnanec je zde stále nezastupitel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ěžící výrobní pá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výrobní linky) - velkový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Změna v chování zákazník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ální požadav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árůst 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bnovení komplexnosti práce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b enlar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ob enric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umanizace prá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ytváření týmů ( Švédsko, Německ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mputerizac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íslicově řízené st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ůmyslový rob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i="1" lang="cs-CZ" sz="3200" spc="-1" strike="noStrike">
                <a:solidFill>
                  <a:srgbClr val="003366"/>
                </a:solidFill>
                <a:latin typeface="Arial"/>
                <a:ea typeface="Arial"/>
              </a:rPr>
              <a:t>SPOLEČENSKÁ A ETICKÁ STRÁNKA PRÁ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hled na práci v době industr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otestantští puritá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vinnost uložená člověku Bo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publikán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výraz solidarity každého se vš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ocialist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oslavování práce písně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ůst životní úrovně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vyšování me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vyšování potř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ůst atraktivity volného ča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ostindustriální období</a:t>
            </a: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ciace výše me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ozevírání nůžek mezi chudými a bohatý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8:47:10Z</dcterms:created>
  <dc:creator>Janicka</dc:creator>
  <dc:description/>
  <dc:language>en-US</dc:language>
  <cp:lastModifiedBy>Janicka</cp:lastModifiedBy>
  <dcterms:modified xsi:type="dcterms:W3CDTF">2006-10-27T18:59:04Z</dcterms:modified>
  <cp:revision>1</cp:revision>
  <dc:subject/>
  <dc:title> Proměny práce </dc:title>
</cp:coreProperties>
</file>