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E2D8-383D-40CD-8587-E545DB92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40AE-57FC-4687-9C12-0842E9E6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489A-9892-4E13-97A6-AA346BE7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AD819-F1D1-4FF3-BE8B-95608562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253E-F146-4FA5-9D37-8469F03B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841C-35F7-4363-8806-C7CD77AD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F7DA-903E-4B6F-A27A-7B5C540B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911A-51C6-4D91-B9E0-307F4D4F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E9C5-0AAF-4FDF-9839-30264B12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BC31-85B0-48F1-8D42-50A65DC2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1674-11BE-469C-90C4-863E0DBB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7374C-4BE6-4599-ADD5-AF933C66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7088-F917-428F-B7F9-FC784068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3417-ACC5-4CE2-AA78-D48FA188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189B-B176-42A1-BB50-555CF6F2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283E-3357-434F-ABE2-A54D4147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D0AA-E827-49EE-8D3A-87CBA153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0BD8-EB81-4D74-A96E-C4DE2414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99604-53A8-4DE4-AC8C-537A336A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7E0F6-F59E-4920-B9AD-8B725134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DCD3-D655-4D78-A632-D9FE296F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FD56-CBDC-4ECE-B689-FF4D9FB6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027AD-D190-401F-8C95-E972B8E7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C079-1A9C-4B3B-B8F2-B00FDFB3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AC71-F221-4E72-8FB2-8F39B37148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392D-54DF-42D5-B732-3F2DEF41CE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e5ff"/>
                </a:solidFill>
                <a:latin typeface="Book Antiqua"/>
              </a:rPr>
              <a:t>Winfried M. BAUER</a:t>
            </a:r>
            <a:r>
              <a:rPr b="1" lang="cs-CZ" sz="4400" spc="-1" strike="noStrike">
                <a:solidFill>
                  <a:srgbClr val="e5e5ff"/>
                </a:solidFill>
                <a:latin typeface="Book Antiqua"/>
              </a:rPr>
              <a:t> </a:t>
            </a:r>
            <a:br>
              <a:rPr sz="4400"/>
            </a:br>
            <a:r>
              <a:rPr b="1" lang="cs-CZ" sz="4400" spc="-1" strike="noStrike" u="sng">
                <a:solidFill>
                  <a:srgbClr val="e5e5ff"/>
                </a:solidFill>
                <a:uFillTx/>
                <a:latin typeface="Book Antiqua"/>
              </a:rPr>
              <a:t> TYRANIE BLAHOBYTU</a:t>
            </a: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e5e5ff"/>
                </a:solidFill>
                <a:latin typeface="Garamond"/>
              </a:rPr>
              <a:t>vybrané myšlenk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Vypracovali: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avla Slezákov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Petr Goliáš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Book Antiqua"/>
              </a:rPr>
              <a:t>Georg Sieger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Book Antiqua"/>
              </a:rPr>
              <a:t>Použitá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litera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auer W. M.,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Tyranie blahobyt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, Volvox Globator 199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Krize individu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18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oritou dnešního člověka je naplňování pouze materiálních potřeb. Navíc se se svou prací jen málokdy identifikuje a tak se dostává do jakési  schizofrenie. Stává se dezorientovaným, ztrácí vůli k dosahování cílů a pak i cíle samot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640" y="452088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to je potřeba člověku/zaměstnanci poskytnout více podnětů, aby se mohl s prací identifikovat. Člověk by neměl být hrdý pouze na to, že dokázal zvýšit prodejnost pracího prášku o 5%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Motivace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14716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Úspěch firmy je záležitostí vedoucích pracovníků - postoje, charakterové vlastnosti a znalost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Je potřeba, aby se i manažer identifikoval se svou prací, aby pouze nedemonstroval svoji neomylnost a autori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" y="4149720"/>
            <a:ext cx="821844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dniky by se měly více soustředit na své zaměstnance, aby se z nich nestali pouze „němí příjemci povelů“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Proměna pracovního světa používáním počítač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vztahu mezi prac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a praco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Ztráta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interakce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mezi lid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bsence lidsk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rozumu m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ůž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v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 k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nebezpečným chyb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 v sys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m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→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Ale : Ten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proces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elze zastavit a nedá se proti němu bránit.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A je nezvratný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Fascinace absurdito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Přestože lidé používají racionální způsob myšlení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Book Antiqua"/>
              </a:rPr>
              <a:t>trvaj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í absurdity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bvence zemědělstv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Znečišťování životního prostřed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Výuk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n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ško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a univerzit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á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 neřeš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í současn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probl</a:t>
            </a:r>
            <a:r>
              <a:rPr b="0" lang="cs-CZ" sz="28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→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hání exaktních vě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vojí odpovědnost manaže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218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stane-li se organizace do problémů, mění se odpovědnost manažera vůči podřízeným (společenskému blahu) v odpovědnost vůči vlastníkovi, potažmo sobě (blahu ega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4365360"/>
            <a:ext cx="82184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ook Antiqua"/>
              </a:rPr>
              <a:t>S překotnými a obtížnými hospodářskými změnami v posledních desetiletích vzájemná lidská solidarita mizí, jako bychom pro ni v sobě nevybudovali dostatečně pevnou půd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323640" y="4941360"/>
            <a:ext cx="7753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4292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3357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Důležitá role komunika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Vývoj světového dění je do té míry dynamický a schopný znatelné odezvy na jakékoliv další jednání člověka, že: BUDOUCNOST OVLIVŇUJEME VŠÍM, CO ČINÍME A JEŠTĚ VÍCE TÍM, CO NEČINÍ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Komunikujeme skrz činy, slova, práci, vztahy, chování či postoj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KOMUNIKUJME UVĚDOMĚLE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5e5ff"/>
                </a:solidFill>
                <a:uFillTx/>
                <a:latin typeface="Book Antiqua"/>
              </a:rPr>
              <a:t>Uvědomělý život a jeho úskalí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34900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Žít život uvědoměle znamená vzdát se do určité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míry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své stávající společenské ro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9280" y="3860280"/>
            <a:ext cx="8147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dložit svou roli znamená dostat se do konfliktu, který se často mění v pokus násilím dosáhnout toho, čeho je možné dosáhnout pouze „chůzí po špičkách“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5e5ff"/>
                </a:solidFill>
                <a:latin typeface="Book Antiqua"/>
              </a:rPr>
              <a:t>Muhammad Júnus, bangladéšský ekonom a jeho banka Gramín = nositel Nobelovy ceny míru za rok 2006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banka založena roku 197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poskytuje mikroúvěry milionům nejchudší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v rámci skupiny Gramín existuje na 2 tucty společností fungujících na neziskové bázi a jsou vzájemně propojen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funkčnost modelu potvrzuje jeho převzetí ve více než sto zemích svě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 Antiqua"/>
              </a:rPr>
              <a:t>Muhammad Júnus se řídí úslovím: „Dáte-li člověku rybu, nasytíte ho na jeden den. Naučíte-li ho ryby chytat, nasytíte ho na celý život.“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3:41:39Z</dcterms:created>
  <dc:creator>počítač</dc:creator>
  <dc:description/>
  <dc:language>en-US</dc:language>
  <cp:lastModifiedBy>Pavla</cp:lastModifiedBy>
  <dcterms:modified xsi:type="dcterms:W3CDTF">2006-10-16T10:49:26Z</dcterms:modified>
  <cp:revision>11</cp:revision>
  <dc:subject/>
  <dc:title>Snímek 1</dc:title>
</cp:coreProperties>
</file>