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E88-5B0B-448B-84A8-535A7EE9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467-B177-4BAF-86F4-E2D0F4C6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7154-B765-4E6D-9073-38F3126B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9DD-F49B-42BC-845A-15E931EA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0056-525E-4127-8A49-8960ECCE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3B19-4555-4CE9-A5E4-B8ABAAB6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ACB9-EE9E-4727-A50C-94D120C4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E71E-836C-4309-8E3E-E9C21318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7B7C-5C56-4D63-AE8E-E022B5EF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3152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94FD-2760-4A8C-B962-B3A093A6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0F4E-DFA9-4E79-BF56-22CB13A3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D416-51DB-48A2-A3D6-1BBFC948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7EE0-991F-4DF0-BB40-7A625D54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066D-BE0E-4E2A-93AD-5CC5E5B4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99C7-D483-466F-AA4C-0CA726EB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1D6B-F25C-45D9-B437-3C4074E1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3556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699880" y="426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7160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3556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699880" y="518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8764-99E2-4DD8-B9B3-5453DE0A5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7FC-52A1-4EF8-8507-CD68CCF6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4A17-E61A-4597-85DC-0DFA7354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E434-62D1-44DE-9E45-3400B2F5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828800" y="2133360"/>
            <a:ext cx="73152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417-D78F-4FF8-A939-6F9649C1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B0E-A37C-42FD-B4DD-20379E11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51560" y="518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05E0-74F8-493B-A9EF-C5810BBE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426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518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0E22-17D5-4894-AFEC-6B570A7E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4A59-D9EF-485B-A523-5CED3E7CE5F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C2DD-F65E-4168-8B8A-AFD85407B79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 a nová ekonomik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vana Kleinová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eronika Křížová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Jan Čerbák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 – pro…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Existence termínu v ek. literatuře od 1999, řada empirických studií z US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Nově se prosazující systém organizace (finanční, průmyslové a obchodní aktivity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nové prostory pro růst + velké konkurenční výhody v globálním měřítk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↓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flace + ↓ UNE + ↑produktivi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 – pro…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3 základní rys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vyšší ekonomický růst (IT, efektivnější mechanismy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ovlivnění cyklických procesů (↓UNE, ↓ inflace pomocí I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Výnosy ze síťových efektů a externali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+ systém tvorby bohatství založený na znalostec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Nová ekonomika 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prostor pro podnikání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existence univerzálního paradigmatu vs. široký výběr operativních přístupů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řechod od industriální společnosti k postindustriáln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 = f(K,L,e) již neplatí absolutn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ouvislosti s rozvojem vysoce zhodnocujících podniků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Zásadní charakteristik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nové ekonomiky pro podnikatele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Znalosti se stávají základem růstu bohatstv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rvalý a důrazný růst konkuren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sun od hierarchií k sítí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chnologický pokrok vytváří nové tržní podmínk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urbulentní prostředí prohlubuje sociální nerovnost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ástup znalostní společnosti úzce souvisí s rozvojem „vysoce zhodnocujících podniků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Znalosti vystupují jako nejvýznamnější faktor růst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ová ekonomika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sun paradigmatu, nebo jen výsledek přechodu k postindustriální společnosti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NEČEK J. Znalostní podnik ve znalostní společnosti. Praha : Kamil Minařík – PROFESSIONAL PUBLISHING, 200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ŽEK L. Průvodce studiem. Brno : Masarykova univerzita – Katedra podnikového hospodářství, 2006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Historicky: po II. světové válce -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závažné komplexní jevy ve vyspělých tržních ekonomikách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Jeden z nejdůležitějších jevů v celospolečenské rovině: 1) společnost industriální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&gt;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) znalostn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zásadní princip:1) dělba prác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2) řízení procesů, IT/I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ráce v týmech,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niková kultura,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reengineer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ástup znalostní společnos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nikové okolí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mění se od spojitého =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&gt;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k nespojitému-turbulentnímu ( globální, neustále se měnící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le knihy „Nový obraz budoucnosti“ R. Gibs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Žádná doposud osvědčená cesta vedoucí kupředu neexistuje…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lineární cesty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socialism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industriálního paradigmat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onec poválečného kapitalism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udoucnost: chaos a nejistot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konomika založená na intelektuálním kapitál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otřeba nových organizací…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Inovace původních organizačních struktur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(bude obtížné je ovládat a řídit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 Narrow"/>
              </a:rPr>
              <a:t>   „</a:t>
            </a:r>
            <a:r>
              <a:rPr b="0" lang="cs-CZ" sz="3600" spc="-1" strike="noStrike">
                <a:solidFill>
                  <a:srgbClr val="000000"/>
                </a:solidFill>
                <a:latin typeface="Arial Narrow"/>
              </a:rPr>
              <a:t>Kdo se nechce změnit, je odsouzen k zániku…“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 Narrow"/>
              </a:rPr>
              <a:t>Podle J.Welche GE, o změně uvnitř a vně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Zatím poslední ve vývojové řadě změ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eoretický přístup opírající se o poslední ekonomické úspěchy USA ( vývojový trend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odnikové řízení směřující k managementu znalost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2 krajní přístupy k pojmu „ Nová ekonomika“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aradox Nové ekonomik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) Václav Klaus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t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I) Jiří Zlatuška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vá ekonomika – proti…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existence pojmu, neschopnost jinak pojmenovat nové jevy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taré principy ekonomie stále platí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prokázána přímá souvislost mezi IT a hospodářským růstem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14:51:22Z</dcterms:created>
  <dc:creator>OEM</dc:creator>
  <dc:description/>
  <dc:language>en-US</dc:language>
  <cp:lastModifiedBy>Michal</cp:lastModifiedBy>
  <dcterms:modified xsi:type="dcterms:W3CDTF">2006-10-23T21:31:16Z</dcterms:modified>
  <cp:revision>58</cp:revision>
  <dc:subject/>
  <dc:title>Strategická analýza společnosti Metropolis</dc:title>
</cp:coreProperties>
</file>