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A48-9F4C-4619-BCCC-AD4E9BEF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FBB-009D-4015-808C-38313075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F51-F5E6-4A9D-8F1D-1812DF10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D88-61E7-400A-9641-E62BD4ED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8630-42A8-4FDF-A75E-7363ECDB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AF2A-75B9-4A87-8E08-E78F9AB2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C073-7162-46EA-8565-AE6AE8D0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34E4-62C1-4BB0-9C9A-8BEAFC6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336E-5D65-4775-A6B0-BF197733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84E-933C-46AB-A3C2-85213AC2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E0A6-3A01-4D70-948B-75194BC5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E460-8A7E-4CD2-9124-ECB85156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BABD-E007-4822-A075-4F7DCED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B156-BDE4-41D7-BF01-63905EE5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6C24-C763-4C41-99A9-E3A42F0C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740-B3F2-4AC5-897F-31902A72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06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949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6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06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3949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0D5C-3440-49CA-9A23-2D66E990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475-D267-4957-9BCC-8240F083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6B8-84E3-4448-A117-E2665E72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8559-D5A9-4090-A7B4-D6C9C882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1996920"/>
            <a:ext cx="70866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9FB-E37E-4533-A453-1BC2861C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357-6E77-4465-9B4B-02219075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4664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E4D-B7A2-497B-9B5F-D8461EAA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4664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B13-8F50-4E9B-9AA3-7202558C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8EE5-F393-4BB3-80FC-ADAF8FAE584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21F9-0814-44E4-B7B5-B3A330603407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ára Kozlová, Veronika Paďourová, Barbora Vincene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redukci konkurenční střetů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japonská Toyota (montáž automobi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General Motors-korejská Daewoo (výroba součástí a díl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ěmecká Siemens-nizozemská Philips (vývoj v obl.mikroelektronik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aponská Canon-americká Kodak (výroba kopírovacích zařízení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Motorola-japonská Toshiba (společné distribuční sítě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francouzská Thompson-japonská JVC (výroba videorekordérů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Ford-japonská Mazda (prodej náhradních dílů partnera na svém domácím trh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ritská Rover-japonská Honda (vývoj technologie pro malé automobi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merická IBM-japonská Fujitsu (ověřování softwaru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44D2-4785-412B-9890-A7D6445BDA95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zaměřené na vznik, přenos a využití znalost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livněny vědeckotechnickým rozvojem v 2.pol. 90.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hodná cesta zapojení se do globální světové ekonom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8CE-C2F8-4251-9007-599118C33F08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nější než strategická ali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časná síť samostatných podniků, propojených informacemi, aby sdílely dovednosti, náklady a přístup na vlastní tr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ychlé spojení za účelem využití specifické příležit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časová omeze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zivní použití moderní počítačové a komunikační technologi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EF6-A443-4164-9763-F8AFEE36388A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irtuální organ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ility je dosaženo pomocí více či méně autonomní organizace důležitých procesů a týmovou organizac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vedení virtuálního modelu znamená restrukturalizaci organizace i jejího managementu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ílem virtuální organizace je integrace moderního know-how spolupracujících firem k tvorbě přidané hodnoty pro zákazník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árním cílem je dosažení silného konkurenčního postavení (růst, zisk, podíl na světovém trhu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3A6-7F47-46A3-8619-38DBB2766B6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formace firmy probíhá v těchto vývojových stupních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hierarchické organizační struktury k ploché organizační struktuř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výšení mobility pracovní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žití moderní počítačové a komunikační technolo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centrace firmy na nejdůležitější podnikové proces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vorba virtuálních sítí k dosažení mimořádné hodnoty pro zákazník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B84A-9D0D-4A8A-9505-F916BE742D32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kračování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 dalších letech bude docházet stále více k navazování různých forem spolupráce a zejména k vytváření virtuálních podniků omezených časem, složením a počtem partnerů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jdůležitější prvkem v globální konkurenci se stávají znalost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tuální model firmy je vhodný pro novou ekonomiku na prahu 21. století. Implementace tohoto modelu však není jednoduchá, vyžaduje zejména podstatnou změnu myšlen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916-41F4-47DB-8D23-22DF60471E07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odáček, Vodáčková (2002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,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eber, J. a kol. (2000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aha: Management P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Katedra podnikového hospodářství (2006)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II, průvodce studi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[online] Dostupné na: https://is.muni.cz/auth/el/1456/podzim2006/PHMAII/um/PHMAII_Pruvodce_studiem.doc?fakulta=1456;obdobi=3364;studium=208265;kod=PHMAII [Nalezeno dne 23.10.20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B43-93B1-4E29-BCB7-2EF532E6D25E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ymezení pojmu strategická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odáčková, Vodáček (2000): „Je to organizační forma, která pomáhá zajišťovat kooperativní podnikatelskou činnost. Dvě či více vzájemně samostatných podnikatelských jednotek aktivují a zhodnocují možné aktivují a zhodnocují možné dodatečné efekty spoluprác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86C-7776-493C-9C60-D48580903915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Základní formy strategických partnerstv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ležitostná spoluprá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ché“ neformální domluv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ké aliance v užším pojetí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 ventures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ěsné“ for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žingy (fúze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kviz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2C4-620F-44B8-A106-6487B5F399F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int ventures vs. strategické ali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ventures: pro spolupráci dvou či více partnerů se předpokládá vlastní organizační forma (samostatná podnikatelská jednotka, samostatný provoz, atd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ké aliance v užším slova smyslu: volnější forma spolupráce, která vlastní organizační formu podnikatelské jednotky nepředpoklá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7F0-3533-4738-83FA-B63FB760780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ol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zavírány cestou tzv. tiché dohody, např. o cenách, postupech k omezení či vyloučení vzájemné konkurence, výměně informací a znalostí v určité obla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álo průhledné pro nezúčastněné strany, někdy dokonce v rozporu s etickými pravidly podnikatelského chování (dohody týkající se omezení konkure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ěkdy i dohody o využívání know-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CAE-12E8-4532-8868-DA725A7E9767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ěsné“ for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pevné propojení původně samostatných partn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ávně i organizačně méně rigidní (nevýhoda v dnešních chaotickém podnikatelském prostřed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7851-B570-491E-8B2C-937B11963EA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lasifikační hledisk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funkční hlediska (výrobní aliance, marketingové aliance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ritoriální hlediska (tuzemské, zahranič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rganizační hlediska (horizontální, vertikální, síť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ická hlediska (soukromé, veřejno-právní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cílové orientace (ziskové, neziskov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lediska trvání (příležitostné, krátkodobé, dlouhodobé ali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E1F-D358-4725-A2D9-971A0FAB6698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ítě strategických alianc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řetězce nebo sítě firem, které jsou vzájemně snadno porovnatelné z hlediska svých základních podnikatelských činností (např. obchodní firmy s podobným sortimentem výrobků, konzultační firmy se stejným základním zaměřením, at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ktivnější firmy v sítích se snaží v určité míře ujmout „kormidla“ koordinace činností partnerů v síti a celkového směřování jejího rozvoje, např. Kodak (pro části výrobního programu firem Motorola, Philips, A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, Apple, Silicon Graphic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502-E630-4EE4-A1D7-B8A5FF3B61DB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A v moderním podnikání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spívají k zlepšení podnikatelské čin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vývojové ry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u účelného a účinného přiřazování potřebných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činnost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potřebných zdroj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BB7-A4E9-4C65-9F27-9E8B7080D7CE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58:07Z</dcterms:created>
  <dc:creator>PC</dc:creator>
  <dc:description/>
  <dc:language>en-US</dc:language>
  <cp:lastModifiedBy>Marie Kozlová</cp:lastModifiedBy>
  <dcterms:modified xsi:type="dcterms:W3CDTF">2006-10-25T08:10:24Z</dcterms:modified>
  <cp:revision>5</cp:revision>
  <dc:subject/>
  <dc:title>Strategické aliance</dc:title>
</cp:coreProperties>
</file>