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56C-3E92-45AF-8234-20104168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057-6490-4F8A-B3D4-6D8CFF15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D83-9599-40D6-AAC7-EBF7FAA0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457-E2CC-48E5-8C19-43D5F1A3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36A5-8022-4A70-B894-105230A2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5DE27-8FA7-4350-85A2-25AE2A8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679F-C9BC-4F13-A47A-3E6D1EC0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B42B-9357-46E7-808E-0E23FD8E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11AF-D46F-4589-B9FC-37E981B2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B0EA-66A1-4D05-8B68-2B84D748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858-5BAB-4FE0-9657-DD30C5A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055-394E-42EF-80B2-6A8ED125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660B-1B01-47D5-9212-ABF13FE7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CBEF-FA2D-4A74-9800-EED69556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FEE3-E364-461C-BEE7-1DD7260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8918-C386-4FEE-90B8-891B9C31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9765-8A85-4C55-9467-6C6003D3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722-4879-4E64-9761-BFA338A0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A2E5-90FD-4942-96EA-0D9507F6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E9A-28D4-44E0-AC36-8F5F0AF6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076-D630-4C42-99AB-5621DC9B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9B0-C38F-4BAC-8889-2C78854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964-5731-4579-AFCA-B74AF416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ED1-492A-4F35-9673-783D7C39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014E-364A-4048-8B7D-6EFBC50AF9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F9B7-DF5D-42B6-92A5-F7D7585135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takeholder a identifikácia stakeholde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acovali:  Marie Kutí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ka Kotou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onóra Bacu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átum prezentácie: 7.11.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Čakajúc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dv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42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inant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ímny nárok s mocou presadiť 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ávis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legitímny nárok bez moci presadiť 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ávislý od ostatných (dominantných) stakeholderov alebo priazni manažér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bezpeč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nelegitímny nárok s možnosťou násilného presad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Definitívn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o všetkými tr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58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legitímny náro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možnosť presade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dôležitosť požiadavk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vyžaduje okamžitú reakciu manažment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48428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8748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6360" y="1484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kľu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661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ľubovoľ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360" y="5661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požadujú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28464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nebezpeč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8160" y="32846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dominant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000" y="551664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závisl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4292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definitív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2000" y="1773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8606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8880" y="38606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44120" y="2060640"/>
            <a:ext cx="38905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investori (prevz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masmédi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prepustený zamestnanec (am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3800" y="4437000"/>
            <a:ext cx="2572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jeden nespokojn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mestnan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10320" y="4292640"/>
            <a:ext cx="2477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rg. pre ochran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v. prostr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univerz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byvate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66240" y="3284640"/>
            <a:ext cx="1671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terorizm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štraj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sabotáž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200" y="335772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zamestnan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dodávat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vlastní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22760" y="3573360"/>
            <a:ext cx="1474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78760" y="4630680"/>
            <a:ext cx="1880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ákaz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Použitá literetú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nič, A.: Štvrtý rozmer podnikania – etika, Bratislava: SAP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II (Průvodce studiem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F M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tchell, R.K., Agle, B.R., Wood, D.J.: Toward a theory of stakeholder identification and salience: Defining the principle of who and what really counts, Academy of 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Kto je stakeholder?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akeholderom je každá skupina alebo individum, ktoré môže ovplyvniť dosiahnutie podnikových cieľov alebo je ovplyvnený snahou podniku  o dosiahnutie týchto cieľov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reeman, Strategický management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dnotlivec alebo skupina s určitou „stávkou“ v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nik je stretom záujmu rôznych subjektov, ktorých požiadavky a záujmy treba zohľadňova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chycuje podnik v celom jeho sociálno-ekonomickom k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hápe podnik ako množinu vzťah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Stakeholderské pojati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Identifikác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i základné atribú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ovplyvniť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zťahu stakeholdera ku podnik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ožiadavky na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chopnosť ovplyvniť podnik, a to nezávisle na vôli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ložená  na troch zdroj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átlakov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utilitárska (prospechársk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ormatív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dpoklad, že chovanie stakehold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je sociálne akceptovateľn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sa zhoduje so sociálnymi hodnotami a norma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sociálne žiadanou vlastnos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upeň naliehavosti, s akou si požiadavky stakeholderov vyžadujú okamžitú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ávisí 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časovej citliv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kritickosti (teda aká je kritická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4360" y="1484280"/>
            <a:ext cx="7378200" cy="4681440"/>
            <a:chOff x="684360" y="1484280"/>
            <a:chExt cx="7378200" cy="4681440"/>
          </a:xfrm>
        </p:grpSpPr>
        <p:sp>
          <p:nvSpPr>
            <p:cNvPr id="111" name=""/>
            <p:cNvSpPr/>
            <p:nvPr/>
          </p:nvSpPr>
          <p:spPr>
            <a:xfrm>
              <a:off x="2843280" y="148428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836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748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5800" y="234936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66160" y="450864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0360" y="443700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8160" y="335772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4000" y="335772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9440" y="47242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0720" y="393372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0000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2000" y="17733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360" y="3860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8880" y="38606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25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04160" y="2859120"/>
              <a:ext cx="13647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8840" y="29952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Latentní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jedným atribú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koj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a schopnosť presadiť sa sú k dispozíc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 a dôležitosť chýbaj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ubovoľ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ajú legitímny ná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ýba im moc a dôležitosť požiadavi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žadujú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á, ale nelegitímna požiadavka, vyžadujú pozorn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moc presadiť s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4:15:00Z</dcterms:created>
  <dc:creator> Nonuly</dc:creator>
  <dc:description/>
  <dc:language>en-US</dc:language>
  <cp:lastModifiedBy> Nonuly</cp:lastModifiedBy>
  <dcterms:modified xsi:type="dcterms:W3CDTF">2006-11-06T07:58:10Z</dcterms:modified>
  <cp:revision>16</cp:revision>
  <dc:subject/>
  <dc:title>Snímek 1</dc:title>
</cp:coreProperties>
</file>