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8B8-DD9D-47F1-B61D-5E239E6B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178-68FC-4D17-A51D-0628B9D7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DDCC-519F-4C87-94C6-4DFDADDC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8E8-F31C-46F2-9A20-A7A514AE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CE72-3C0E-4578-B60B-AB206832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320E-CB2F-43DF-8817-85B7EC65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6E7A-C7A8-48EA-9BC8-D018ADCA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8591-8156-48CD-B5A4-ABED7770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BEA9-B804-4E4E-8181-D0206679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3A4E-D675-423A-A619-152CB4EC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C570-6BF0-4B5C-9DEE-42A04093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E28C-F271-4708-9636-D708725A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5652-849E-408B-A4AF-C4B9206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8CE6-123F-477A-B70C-286DC3F2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452B-E53B-41C4-945E-A6E0313A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99B9-7882-4FF9-9086-C001D417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688E-CE55-4F2A-9D34-750AC136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C16-7F5C-4F81-A9F4-573F5265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4B8-9E8F-4CAC-9A59-7A29CC63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F84-B58E-43CA-A8F5-399768FA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B56-26BF-4E33-930B-EEABBA4B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FCB-651F-40C7-8080-7F75C066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F75-59A2-49BB-8CB9-FA8DA302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2C1F-8107-4896-9074-53B4832F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3C63-74EB-4ED0-A4BD-9C0C4BFA01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5763-02EC-402C-89FE-430D671ECF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nažerská kuchař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pt na vysoce zhodnoc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200" y="3429000"/>
            <a:ext cx="4114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55520" y="3198960"/>
            <a:ext cx="37324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ůležité, ale zaměřme se na „jak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47512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s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pitál, ale ne mno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hadem 3 os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k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řeš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cký zprostředkova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84720" y="3232080"/>
            <a:ext cx="43909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k to namíchat? Aneb podniková kul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řizpůsobovat lidi úkolům, ale úkoly lid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ré vztah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íl na riziku i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tředí pro dozrání „nápadů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59640" y="3500280"/>
            <a:ext cx="14288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čení aneb ekonomická stránka vě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2550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ecifické produkty spojené se služb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ávat „řešení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jít „nicku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 najímat 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ízká míra fixní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360" y="4487760"/>
            <a:ext cx="36385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ůžeme servírovat aneb jak by to mělo dopadnou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tšinu zisku berou 3 klíčové po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ej podniku větš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na „tradiční“ podni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62400" y="1905120"/>
            <a:ext cx="3436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2630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ungující podnik – Y soft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chno prodat – </a:t>
            </a:r>
            <a:r>
              <a:rPr b="0" lang="cs-CZ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youtub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– www.googl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4508640"/>
            <a:ext cx="2376360" cy="88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5373720"/>
            <a:ext cx="35290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9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ěkujeme za pozornost…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… a těšíme se na příště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CH, R. B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ílo národů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ha: Prostor, 1995. ISBN 80-85190-34-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ŽEK, L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AGEMENT 2 – průvodce studiem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no: ESF, 200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00:55Z</dcterms:created>
  <dc:creator>Loser</dc:creator>
  <dc:description/>
  <dc:language>en-US</dc:language>
  <cp:lastModifiedBy>Loser</cp:lastModifiedBy>
  <dcterms:modified xsi:type="dcterms:W3CDTF">2006-11-06T20:54:25Z</dcterms:modified>
  <cp:revision>2</cp:revision>
  <dc:subject/>
  <dc:title>Manažerská kuchařka</dc:title>
</cp:coreProperties>
</file>