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0186-F13E-421C-9E21-CF5340A1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1F9B-D999-4312-8399-61D5B591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BD0B-66CC-49F0-A40D-6D7C3435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32DB-E743-4B6B-8BB5-4E0B49C67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8914-513A-4E3D-8E04-819FC21F9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9AAF-ED7C-4903-B893-A3E9BE73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6BBC-FB32-40D9-9C89-900E5553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406B-09C7-4921-A8E7-4234B233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1E3D-6818-4473-987F-7FE28301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4E10-6F77-41F0-98F9-1B0D06A8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4360-CF23-4BAD-B8DF-C0931256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A995-365F-4059-9B7F-16A4866C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AC2A-566D-45B8-900D-9D3CC2D2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3DEC-2112-4727-B745-AB7DBEA9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426C-F4DC-40D9-A08C-89B1BE24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9BA5-DA95-4ECC-B00D-543DA412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1845-CD6E-434E-9CB6-D941CF94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7112-F3DB-4D9C-A232-E249B4C4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9102-73B3-4557-BF07-D213C9CE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0E91-CBAC-4689-82C8-6ADCEFCD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D61B-89D3-4E31-A986-DBFA7111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7298-FC5C-4FC9-BF13-B8DA74B8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EE40-F421-40AC-A884-BF3217C8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BC79-856E-4359-855D-E492DEB6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2170-A191-480D-B314-A23F09AC571B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B859-F1CA-4DF8-B1D6-F1F4689EE83D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Vztah národní a organizační kultury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ilan Sedláč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eněk Mandov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ukáš Schö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kupina č.3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otazník –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pecifikace české národní kultury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Fons Trompenaars určil 7 aspektů, dle kterých se dají národní kultury systematizov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ní zde správná či špatná odpověď – záleží pouze na Vašem názo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sledky budou zveřejněny na konci prezent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. Dělící lin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) Kolektivism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lečnost vyznačující se velkou mírou koopera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 Individualismu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árodní kultura zdůrazňující schopnosti jedi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. Dělící lin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) Národní kultura universál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icky a rozumově vedená společnost uznávající existenci universálně platných pravid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 Národní kultura partikulár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lečnost, která je založena na lidských vztazích a pružných pravidle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3. Dělící lin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) Emoční národní kult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ysoká míra emocional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 Neutrální národní kult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ízká míra emocion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4. Dělící lin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) Národní kultura konkrét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iktně oddělen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ztahy civilní a pracov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 Národní kultura s nejasnými vztah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ztahy civilní a pracovní jsou provázané a vzájemně se prolínaj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5. Dělící lin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) Dosahující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lečnost, která status přiděluje na základě předvedeného výkonu a úspěch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 Přisuzovaný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lečnost, ve které se status přiděluje na základě stáří, pohlaví, at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6. Dělící lin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186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) Čas jako posloupnost děj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zumový, přímočarý přístup k otázkám - krok za krokem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 Čas jako nástroj k synchroniza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Čas chápán jako kruhový s možností paralelních činnost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7. Dělící lini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) Národní kultura vnitřní orient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ázor, že jednotlivec by se měl snažit řídit lidské a přírodní prostřed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 Národní kultura vnější orient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naha žít v souladu s přírodo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ztah národní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 organizační kultu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konce 60. let panoval názor, že management je universálně funkční prvek bez ohledu na národní specif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ulturní konverg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ěhem 80. let se již plně rozšířilo přesvědčení o nutnosti rozdílného přístupu managemen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ulturní diverg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715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Systematizace Geerta Hofsted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vedl aspekty „úniku před nejistotou“ (UN) a „mocenský odstup“ (MO), jejichž vzájemnou kombinací vytvořil čtyři kategorie fungování podnik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mocí této metody lze dokladovat vliv národní kultury na kulturu podnikovo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rganizační kul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vní studie o „měkkých faktorech“ úspěchu firmy ve 30. letech minulého stolet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ěhem 80. let velký nárůst zájmu o tuto problemati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působeno úspěchem japonských podniků a zvyšující se úrovní konku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3716280"/>
            <a:ext cx="360360" cy="649440"/>
          </a:xfrm>
          <a:prstGeom prst="downArrow">
            <a:avLst>
              <a:gd name="adj1" fmla="val 50000"/>
              <a:gd name="adj2" fmla="val 4505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715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Systematizace Geerta Hofsted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763640" y="2637000"/>
          <a:ext cx="6491520" cy="2808000"/>
        </p:xfrm>
        <a:graphic>
          <a:graphicData uri="http://schemas.openxmlformats.org/drawingml/2006/table">
            <a:tbl>
              <a:tblPr/>
              <a:tblGrid>
                <a:gridCol w="3246480"/>
                <a:gridCol w="3245040"/>
              </a:tblGrid>
              <a:tr h="14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ízký UN, nízký 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žní byrokra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ř. VB, Skandináv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soký UN, nízký 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covní byrokra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ř. Izrael, Německ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ízký UN, vysoký 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obní byrokra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ř. Hongkong, Ind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soký UN, vysoký 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ná byrokra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ř. Belgie, Fran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1692360" y="17002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nik před nejisto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92360" y="220500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ízký                                                                                 Vyso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0800000">
            <a:off x="539640" y="2491920"/>
            <a:ext cx="606960" cy="29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censký ods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-27720" y="3847680"/>
            <a:ext cx="308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ízký                         Vyso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5805360"/>
            <a:ext cx="61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droj: Brooks (2003), podle Hofsteda (198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užitá litera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ADLER, N.: International Dimensions of Organizational Behavior. Boston : PWS-KENT Publishing Copany, 1991. ISBN 0-534-92274-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BROOKS, I.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Firemní kultura – jedinci, skupiny, organizace a jejich chování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Brno : Computer press, 2003. ISBN 80-7226-763-9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BROWN, A. D.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Organisational Culture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London : Pitman Publishing, 1995. ISBN 0-273-60454-6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HALL, W.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Managing Cultures: Making Strategic Relationships Work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Chichester : John Wiley &amp; Sons, 1995. ISBN 0-471-95571-X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HOFSTEDE, G.,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Culture’s Consequences: International Differrences in Work-Related Values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Beverly Hilus : Sage Publications, 1984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KILLMANN, R., SAXTON, M.J., SERPA, R. a kol.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Gaining Kontrol of the Corporate Culture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San Francisco, London : Jossey-Bass Publisher, 1985. ISBN 0-87589-666-9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LUKÁŠOVÁ, R.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Organizační kultura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Brno : Vutium, 2002. ISBN 80-214-2141-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LUKÁŠOVÁ, R., NOVÝ, I. a kol.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Organizační kultura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Praha : Grada, 2004. ISBN 80-247-0648-2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NOVÝ, I., SCHROLL-MACHL, S. a kol.: </a:t>
            </a:r>
            <a:r>
              <a:rPr b="0" i="1" lang="cs-CZ" sz="1700" spc="-1" strike="noStrike">
                <a:solidFill>
                  <a:srgbClr val="000000"/>
                </a:solidFill>
                <a:latin typeface="Arial"/>
              </a:rPr>
              <a:t>Interkulturni komunikace v řízení a podnikání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. Praha : Management Press, 1999. ISBN 80-7261-009-0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ěkujeme za pozorno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rganizační kultura - defini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ogramovaný způsob vnímání, odvozený z názorů a hodnot“ (Hall, 1995, s.1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zorec názorů, hodnot a naučených způsobů zvládání situací, založený na zkušenostech, které vznikly během historie organizací a které jsou manifestovány v jejich materiálních aspektech a v chování členů“ (Brown, 1995, s.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dílené filozofie, ideologie, hodnoty, předpoklady, názory, očekávání, postoje a normy, které odhalují implicitní či explicitní skupinový souhlas s tím, jak rozhodovat a řešit problémy: jako způsob, jak se věci u nás dělají“ (Kilmann, Saxton a Serpa, 1985, s.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rganizační kultura - defini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zační kulturu lze chápat jako soubor základních předpokladů, hodnot, postojů a norem chování, které jsou sdíleny v rámci organizace a které se projevují v myšlení, cítění a chování členů organizace a v artefaktech (výtvorech) materiální a nemateriální povahy. (Lukášová, 2004, s.22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Základní předpoklad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nezpochybnitelné přesvědčení jednotlivce o realitě kolem ně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dnot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považována za měřítko toho, co je špatné a co je dobr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stoj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ázor na danou vě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rmy chování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symbolizují množinu nepsaných pravidel, kterými se zaměstnanec říd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rtefakt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materiální povahy jsou budovy, výrobky, vybavení firmy, propagační materiály, at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emateriálními jsou potom podnikové historky, mýty, rituály či podnikový jazyk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nímání organizační kultu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Interpretativní přístup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se na tento aspekt dívá jako na „něco, čím organizace je“. Odklání se tedy od myšlenky analogie podniku a stroje či podniku a organismu a nabízí teorii, že podnik je vlastně jedna velká sdílená kultur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63" name=""/>
          <p:cNvSpPr/>
          <p:nvPr/>
        </p:nvSpPr>
        <p:spPr>
          <a:xfrm>
            <a:off x="5508720" y="2276640"/>
            <a:ext cx="2158920" cy="2158920"/>
          </a:xfrm>
          <a:prstGeom prst="ellipse">
            <a:avLst/>
          </a:prstGeom>
          <a:solidFill>
            <a:srgbClr val="cc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00720" y="458136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Arial"/>
              </a:rPr>
              <a:t>Podni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Podniková k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80000" y="2349360"/>
            <a:ext cx="2016360" cy="2016360"/>
          </a:xfrm>
          <a:prstGeom prst="ellipse">
            <a:avLst/>
          </a:pr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nímání organizační kultu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00720" y="1719360"/>
            <a:ext cx="4186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bjektivistický přístu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re kulturu pouze jako složku celého podniku, která se stejně jako ostatní části určitým způsobem vyvíjí a ovlivňuje tak fungování podniku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187280" y="2276640"/>
            <a:ext cx="2159280" cy="2158920"/>
            <a:chOff x="1187280" y="2276640"/>
            <a:chExt cx="2159280" cy="2158920"/>
          </a:xfrm>
        </p:grpSpPr>
        <p:sp>
          <p:nvSpPr>
            <p:cNvPr id="169" name=""/>
            <p:cNvSpPr/>
            <p:nvPr/>
          </p:nvSpPr>
          <p:spPr>
            <a:xfrm>
              <a:off x="1187280" y="2276640"/>
              <a:ext cx="2159280" cy="2158920"/>
            </a:xfrm>
            <a:prstGeom prst="ellipse">
              <a:avLst/>
            </a:prstGeom>
            <a:solidFill>
              <a:srgbClr val="cc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32000" y="2779920"/>
              <a:ext cx="647640" cy="647640"/>
            </a:xfrm>
            <a:prstGeom prst="ellipse">
              <a:avLst/>
            </a:prstGeom>
            <a:solidFill>
              <a:srgbClr val="66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56000" y="2853000"/>
              <a:ext cx="647640" cy="647640"/>
            </a:xfrm>
            <a:prstGeom prst="ellipse">
              <a:avLst/>
            </a:prstGeom>
            <a:solidFill>
              <a:srgbClr val="7e9c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79640" y="2421000"/>
              <a:ext cx="647640" cy="647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47640" y="3500640"/>
              <a:ext cx="648000" cy="647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68360" y="3500640"/>
              <a:ext cx="648000" cy="647640"/>
            </a:xfrm>
            <a:prstGeom prst="ellipse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95280" y="45813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00"/>
                </a:solidFill>
                <a:latin typeface="Arial"/>
              </a:rPr>
              <a:t>Podni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⊆ </a:t>
            </a: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Podniková k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árodní kul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atika významu slova „národ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dé stejné národnosti kdekoli na svět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dé žijící v jedné zemi, podléhající její legislativ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árodní kul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oblematika významu slova „kultura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působ života skupiny lidí, jako konfiguraci všech více či méně stereotypizovaných vzorců naučeného chování, které jsou přenášeny z generace na generaci prostřednictvím jazyka a napodobování“. (Barnouw, 1963 podle Adler, s.15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olektivní programování mysli, které odlišuje členy jedné lidské skupiny od druhé … kultura v tomto smyslu obsahuje systém hodnot“. (Hofstede, 1984, s.14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07:47:23Z</dcterms:created>
  <dc:creator>Milan</dc:creator>
  <dc:description/>
  <dc:language>en-US</dc:language>
  <cp:lastModifiedBy>Milan</cp:lastModifiedBy>
  <dcterms:modified xsi:type="dcterms:W3CDTF">2006-11-17T15:16:10Z</dcterms:modified>
  <cp:revision>23</cp:revision>
  <dc:subject/>
  <dc:title>Vztah národní a organizační kultury, česká specifika</dc:title>
</cp:coreProperties>
</file>