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395-FF28-4A4E-ADDC-FF4E0516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42A-B2E1-48B2-8604-9BDB58B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8C0-20E0-474A-8FCD-A7974D89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C32-E03E-4CDE-BDF9-89B473C3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07F8-622E-4D25-BC98-825AEA68D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6478-02B2-47F7-8119-3DEEC95A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8E59-0C36-4A93-9355-258EE59C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2F43-04AA-4868-9B56-6576A3EC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1533-64F7-40CC-B423-3EA9DEC7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CE73-7EB0-44F5-9519-1FFEBBE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0194-DEFB-4942-9AC6-BBFFC69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730-CECA-45D5-9A1B-CFFF598F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BB43-3AB5-43EE-A66E-DEE3EC56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832D-4B7E-469C-837A-B950993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201C-EA9A-4A88-9F6E-222CF26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5EFC-5F44-41FB-8F83-E3727363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5358-24CC-4739-94DC-D77B6FF6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3502-054E-416E-8004-7E0B8D65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345-2341-4998-916B-4D213E92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E37-F01C-492A-BAD7-0D928DD5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934-AD7D-46FF-9275-9E1B1E60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496A-D124-443B-8651-8E08C2CD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42D-2619-4673-BF62-89312292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339-607F-462B-8CE5-0685AD69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E04-FDA4-41C4-AD04-332A4A01D30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64FB-18D5-4DC7-BA9B-DF7E3788034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762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Současné a budoucí tendence společnost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7238880" cy="167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pracoval: Jan Fronček, David Malík, Nikola Zacha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 není naším nepřítel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tváření budoucnosti bez použití starých strategických nástro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ecně špatné chápání globální konkurence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kurenci nelze chápat jako souboj mezi stá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6560" y="1981080"/>
            <a:ext cx="22716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Gary Hamel – globální konkurence I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jem kontinentální krátkozrak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nagement a budoucnost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závod může vyhrát jen ten, kdo chce dát dohromady účelnou strateg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ořit v podniku hierarchii představivos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át větší slovo lidem, kteří byli doposud z procesu tvorby strategie vyloučeni </a:t>
            </a:r>
            <a:r>
              <a:rPr b="0" lang="cs-CZ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mladí lid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Michael Hammer – koncepce týmu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nagement utvořený podle předrevolučního 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říve pojem nemyslícího dělníka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nes není potře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výkonných procesů, které vedou k výsledku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koncepce tý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29280" y="1981080"/>
            <a:ext cx="2847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Společná myšlenka autorů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</a:rPr>
              <a:t>Orientace na asijský trh, dotváření fungujícího kapitalismu a spolupráce na všech podnikových úrovní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Zdroj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ibson, R.: Nový obraz budoucnosti. Management Press, Praha, 2002, 2. vyd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kripta Management II, Brno, 2006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ttp://en.wikipedi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dobí druhé poloviny sedmnáctého a první poloviny osmnáctého století můžeme datovat jako nástup Druhé vlny - počátek industriální společnosti v nejvyspělejších zemích světa daného obdob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říčiny vzniku druhé vl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jev Nového světa, růst počtu obyvatelstva, který povzbuzoval přesuny do mě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čerpání lesů, vedoucí k využívání uhlí → parní stroj → nebývalé možnosti rozšíření výrob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šiřování vědeckých poznatků využitelných v technické praxi, rozvoj "industriálního" myšlen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nalezení knihtisku, růst gramotnos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společnost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ncipy industriální společnosti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ělby práce na základě speci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andardizac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oncentr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axim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centraliz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ečnost - histori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0. léta 20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tagonista myšlenky postindustriální společnosti - Daniel B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informační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polečnost vědě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dividualizace, universalismus, decentralizace, územním rozptýlení a rozvolnění časových strukt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Postindustriální spol. - charakteristik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stá komunikační sítˇ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ční technologie (intern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lobaliza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konzumní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sychická stránka a prožíván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Industriální x Postindustriální společ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voj  výroby x Rozvoj služeb a informační techni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ětšinoví reprezentanti: Dělníci x Bílé límeč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života: Hrubý domácí produkt x Míra kultivace a uplatnění jejího lidského potenciá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iority: materiální x postmateri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konomie hlavního proudu x Nová ekonom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Obraz budoucnost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ec postindustriální éry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í informační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árůst informací a informačních systém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hmotnění informací, ochota za ně zaplat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udoucí vývoj společnost z pohledu tří významných světových autorů, viz. dá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- budoucnos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udoucnost není pokračováním minu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nezbytné mít náskok před problémy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nelze je pak vyřešit bez ztr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třeba podílet se na utváření budouc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ečnost začíná být nezvladatelná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má již vlastní rozu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75280" y="1981080"/>
            <a:ext cx="295596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Charles Handy – hospodářský pokro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spodářský pokrok = planý přís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yšující se sociální rozdí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nba za hospodářským růstem </a:t>
            </a:r>
            <a:r>
              <a:rPr b="0" lang="cs-CZ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še na úkor životního prostředí a pracující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apitalismus jako systém závislý na lidech a jako mechanismus, který nemá cíle a představuje sociální b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6-10-16T19:31:09Z</dcterms:modified>
  <cp:revision>24</cp:revision>
  <dc:subject/>
  <dc:title>PowerPoint Presentation</dc:title>
</cp:coreProperties>
</file>