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DB5D-184E-412D-81DF-3E9B89F0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D1C-8715-4715-9716-C84D0DCA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961E-8874-471C-9348-521BEC82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A7D-C490-414F-ABC0-6F40D5CC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A5AA-F47B-437A-B9C7-95556A15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5412-4941-46D2-A916-0A8ECC79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90F5-5A5C-434D-9E8B-7F011125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05A-376C-440C-AE6F-29906FDF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F103-E8D1-419B-8607-9DFC7304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FE99-ECBE-4F9D-A74C-AA38CFEA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F8FF-27B0-4628-9178-0A12AB2D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115-246B-4FED-8BA9-8FCCAAD3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0821-CB90-40B1-9E45-2EFEE0F8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8319-39AB-4025-B1FC-C4757D2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D8F5-007E-414D-9F1E-C6A51983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7C29-E02D-40B0-845E-687E6869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8BA1-9BA7-418A-8B93-D6CCDFC4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D18-E714-4CB8-A3EE-C23766B0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845-F36D-469C-B501-00EC63D1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ABD-047A-457D-81D4-AEFEFBFD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9BB-0219-419C-B7EC-3B1F7215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9A0-1780-4AF7-841E-416EC3AC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365-A160-49AC-86FB-8173E9B4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5B52-5A33-4441-8D7C-560E1F4E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C1F2-E89D-4799-90EF-FEC782A021D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3414-84D6-476C-8463-7FC30E3EB4A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leonóra Baculá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enka Kotou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rie Kutílk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0481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19320" y="30481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809720"/>
            <a:ext cx="77724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NEC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RITZER, G. 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Mcdonaldizace společ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Bell, D. </a:t>
            </a:r>
            <a:r>
              <a:rPr b="0" i="1" lang="cs-CZ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Kulturní rozpory kapitalism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ffffff"/>
                </a:solidFill>
                <a:latin typeface="arial ce"/>
              </a:rPr>
              <a:t>Článek - Informačná spoločnosť – globálna výzva v novom miléniu, </a:t>
            </a: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Jana Stadtruckerov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 ce"/>
              </a:rPr>
              <a:t>Článek Nová ekonomika a globální společnost, Radek Froulí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Vývoj</a:t>
            </a:r>
            <a:br>
              <a:rPr sz="5100"/>
            </a:b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industriální společnost ( začátek před 250 až 350 léty) se vyvinula do společnosti industriál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 60. létech 20. století se objevují názory, že i industriální společnost je překonaným pojmem a začíná se pracovat s fenoménem jménem informační společ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Hlavní rysy informační společnosti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vaha práce s informace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raktiv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grace a globalizační tend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Informační společnost znamená soustavné využívání prvků všech dostupných moderních informačních technologi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 zpracování informací se stává velmi důležitá ekonomická aktivita, vytvářející zcela nové příležitosti a činnosti, které ovlivňují charakter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4c3aa"/>
                </a:solidFill>
                <a:latin typeface="Arial"/>
              </a:rPr>
              <a:t>Reprezentanty informační společnosti se stávají administrativní pracovníci, kteří se:</a:t>
            </a:r>
            <a:endParaRPr b="0" lang="en-US" sz="2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ecializují na produkci a zprac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yto informace jsou digitálně zpracovány, uchovávány a přenášen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možňují rychlou reakci na změny v pracovním prostředí, což je jednou z podmínek úspěšné adaptace na stále se měnící podmín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4c3aa"/>
                </a:solidFill>
                <a:latin typeface="Arial"/>
              </a:rPr>
              <a:t>Nejen jednotlivci a firmy, ale i národní ekonomiky jsou nuceny využívat informace ve stále větší míře, neboť investice a pracovní příležitosti se přesouvají do zemí, které vykazují nejvyšší míru adaptace s touto situací</a:t>
            </a:r>
            <a:br>
              <a:rPr sz="4300"/>
            </a:br>
            <a:endParaRPr b="0" lang="en-US" sz="43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Informační společnost a globaliz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nzivní využívání a možnost rychlé výměny všech druhů informací jsou jednou z podmínek, které daly vzniknout globalizac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obalizace – všechny změny ve společnosti a ve světové ekonomice, které jsou důsledkem dramatického vzrůstu mezinárodního obchod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sbližování kul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Komunikace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s využitím všech nejnovějších prvků informační společnosti se komunikace stává stále obtížnějš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Žijeme v otevřených systémech, musíme zvažovat naše (i globální) okolí, vše s ohledem na budouc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oto je jedním z důvodů, proč se vyvinu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polečnost věděn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ává se logickým následníkem informační společ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ědění samo o sobě se stává klíčovým faktorem produk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zrychlily a zlevnily přístup k vědění a informací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55:54Z</dcterms:created>
  <dc:creator>Marie Kutílková</dc:creator>
  <dc:description/>
  <dc:language>en-US</dc:language>
  <cp:lastModifiedBy>CIKT</cp:lastModifiedBy>
  <dcterms:modified xsi:type="dcterms:W3CDTF">2006-10-16T09:09:08Z</dcterms:modified>
  <cp:revision>5</cp:revision>
  <dc:subject/>
  <dc:title>Informační společnost</dc:title>
</cp:coreProperties>
</file>