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117F9-F3CE-4CE4-B36C-DF8E8A4E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89FF-1809-4D0E-9C55-438B8511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787C2-83E3-4854-8004-54343717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2F029-2BEE-446C-A1C8-7AD67D25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CC1B-FC23-409C-B836-C2F00974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398B-FF76-48A8-95EB-0662F743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F15B-0833-4040-ACB9-EB5F4EC8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0866-1FAF-448C-98AE-E727C4F8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BBAA-4B53-46EF-A56F-34DA01B1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7B03-9660-46B2-8F2B-8209A5EE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C99B-2002-4F41-9A20-1E62270D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405E-FF47-41DC-9976-94876B4D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7ED6-4280-4E6F-8262-229C9048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DAC1-EBB1-4BCE-8412-82A3F132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E29A-9704-4ACF-8783-6217797D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3583-8A1C-4FBF-9939-D5B16B94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D8B4-4363-4AB8-AD44-CE79C9A5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C0B52-7962-4F17-9060-C96AA3D2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F42FF-D549-428F-A0D1-BEB8B17F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6B77-8F86-4A6E-BBA7-14E71A35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84C9-7709-4163-A5D7-E4140D53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B69AD-F491-42F2-81EC-E630373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7A2E-E187-4217-B50B-4B3C2B30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39DD-C32B-40FC-903B-639E6EAE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6895-D45F-4BAC-9707-AE5E27614F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F88F-A56A-441A-82C6-59A1F2FBFF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i="1" lang="en-US" sz="50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OMĚNY PRÁCE A VÝVOJE PODNIKŮ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ůsledky racionalizace</a:t>
            </a:r>
            <a:br>
              <a:rPr sz="28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 návaznosti na obecně se zvyšující životní úroveň a s tím související  změny nároků člověka na práci, se tato práce stávala neatraktivní, stále méně lidí bylo ochotno takovou práci vykonávat, rostla fluktuace a absentérstv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duktivita stagnovala, náklady rostly, efektivnost se snižovala.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echod k flexibilní výrobě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70. léta – v rámci humanizace přechod k tzv. „rozšiřování práce“ („job enlargement“) a „obohacování práce“ („job enrichment“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znik autonomních pracovních tým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omputerizace – nahrazení manuální práce počítač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echod k flexibilní výrobě </a:t>
            </a:r>
            <a:br>
              <a:rPr sz="43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NC - technika (computerized numerical control) – nástup výrobních robot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M – (computer aided manufacturing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 dělníka se stává operátor a programát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požadavky na kvalifika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501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8f82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alší systém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NC (distributed numerical contro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D (computer aided design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CAP (computer aided planning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alší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řeba snižování náklad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hrazování manuální práce techniko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souvání celé výroby do méně vyspělých zem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nezaměstnanosti málo kvalifikovaných pracovníků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oudobé trend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dklon od manuální práce k práci s moderními technologiemi a informacem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inimalizace mezilidského konta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cit izolovanosti a osamě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áce se stává abstraktní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upný návrat k původní komplexnosti práce z preindustriální společnost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POVETSKY, G.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oumrak povinnosti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ha: Prostor, 1999. ISBN 80-7260-008-7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ICH, R.B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lušná společnos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aha : Vize 97, 2003. ISBN 80-86181-60-X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H, A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Etika hospodářství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v.II. Praha: OIKOYMENH, 1994. ISBN 80-85241-62-5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 řemesla k manufakturám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713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 nástupem industrilalizace dochází k rozvoji řemes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é nároky na kapitálovou vybavenost, hlavním faktorem je práce, zručnost řemeslník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emeslník byl zároveň kapitalistou – vlastnil používaný kapitál, řídil výrobu, kterou také sám vykonáv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ělba práce byla orientována na výrobek, řemeslník vyrobil celý výrobek sám, vlastním tvůrčím způsobe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 řemesla k manufakturám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ělba práce mezi více osob podstatně zvyšuje produktivitu prá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chází ke zhromadňování výroby, specializaci a koopera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 průmyslových podnicích je instrumentální technologie nahrazována technologií strojov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roky na kapitál, jež se stává hlavním výrobním faktorem – klesá počet podnikatelů, vzrůstá počet námezdně pracující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ictví faktorů kapitálu a práce bylo odděleno, což vede k třídnímu rozdělení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stup manufaktur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 řemeslníka, který tvořil celý výrobek sám, se stává námezdní dělník provádějící jen jednu výrobní operac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ces zhotovování výrobku se dělil na stále více operací, současně se stále větším využíváním strojů – z dělníka se stává obsluhovatel str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Racion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užívání strojů nazýváme racionaliza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ozlišujeme tyto stupně racionalizac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1. stupeň - Prvními stroji můžeme nazývat nástroje, typické pro řemeslnou činnost, časem přestává být jejich pohonnou silou síla člověka a je nahrazena pohonnou silou stroje. Nedochází však k nahrazení lidské zručnosti. Mluvíme tedy o „nesamostatných strojích.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Racion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2. stupeň - Běžící výrobní pás přichází spolu s velkovýrobou. Produktivita práce je opět zvýšena. Dělník již neovládá stroj, spíše stroj ovládá dělníka, který se musí tempu stroje přizpůsobit a vykonává pouze tzv. zbytkové operace, v podstatě dohlíží na správné fungování stroj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ůsledky racionalizace</a:t>
            </a:r>
            <a:br>
              <a:rPr sz="44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9280" y="1628640"/>
            <a:ext cx="79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ševní činnost spojená s plánováním, organizováním a přípravou výroby byla důsledně přenesena na specialisty - mistra, plánovače, technologa, seřizovač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itivní nezajímavá práce dělníků nebyla dostatečně motivujíc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80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louhodobě nepomáhaly ani finanční stimuly, zlepšováním vnějších pracovních podmínek a uplatňováním doktríny lidských vztahů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Jirik</cp:lastModifiedBy>
  <dcterms:modified xsi:type="dcterms:W3CDTF">2006-10-25T19:21:05Z</dcterms:modified>
  <cp:revision>39</cp:revision>
  <dc:subject/>
  <dc:title>Druhá vlna  </dc:title>
</cp:coreProperties>
</file>