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A2F6-AEE8-40A1-A358-82CAE613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A766-AE3D-4636-A94C-D30CA9D3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C6CC-1B28-455D-B24A-B29A91B55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9BA0-6AD5-4726-B375-CFEF2920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1E77-7C99-477D-8B8D-32814C0DE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2FF0-0957-4FF4-9460-C9839EF4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7DDC-EE50-4E5F-8624-8FE0969A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1509-A3D4-47A9-86AB-3449921D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7E74-E8FC-44D9-8D95-D8D18203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A7E6-355D-4E76-9D51-CC09C6CD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D54A-0C6E-4DD5-9816-64595F14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5F6E-F412-4AD2-9877-D6B5AE06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D920-8D40-4A2D-8AAB-9A81FCD7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4161-16AA-4F56-9D48-AD0C0E2B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E8C0-7E94-4B05-8FF9-3C620F5F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D328-1873-4803-A8E7-EC6E0BF9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6A37-5577-4225-B65F-9200D946F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864A-7970-4995-8C03-230709D8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0314-4DA0-4754-BA13-5F786DAC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7C7F-3302-4DC7-8A73-750635A1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571E-C1C8-41A6-881B-51FF51F4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2579-E9F9-461E-9A89-C5194D5C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C0D4-16E4-43ED-AA91-F05C52FA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DA0D-F28C-476B-84D4-C5DF964B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8008-9A60-4E49-84A6-B8C15296AEB7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7755-B926-493F-82BA-2D1AADC626EA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3344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75248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4869000"/>
            <a:ext cx="772344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8edf2"/>
                </a:solidFill>
                <a:latin typeface="Tahoma"/>
              </a:rPr>
              <a:t>Znalostní podnik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795640" y="5373720"/>
            <a:ext cx="772308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Cupánková Barb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Černáková Ja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kop J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Od průmyslové společnosti ke společnosti znalostní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28760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Průmyslová společ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elké množství produkt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dnik jako výrobní funk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bjem a rychl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funkční přístup management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  <a:ea typeface="Arial"/>
              </a:rPr>
              <a:t>↓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Kapitá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3280" y="1812960"/>
            <a:ext cx="450072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Znalostní společ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užnost výro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stup hromadné výro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zitivní vývojové tren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ocesní přístup management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  <a:ea typeface="Arial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  <a:ea typeface="Arial"/>
              </a:rPr>
              <a:t>Znal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Přístup managementu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7640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Funkční příst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aměření na výstup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konomická analý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patření adresována hierarchickým úrovn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080" y="1773360"/>
            <a:ext cx="377676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Procesní příst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aměření na příč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ledování vnitropodnikových proces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ehodnocení a přeprojektování procesů v podni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Organizace ve znalostní společnosti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4272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Požadavky na organiza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ipravenost pracovníka na žádoucí výk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rganizace permanentního uč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0" y="1773360"/>
            <a:ext cx="45720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Požadavky na pracovní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dpověd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špičkový výk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chopnost a ochota se trvale uč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Znalostní podnik - charakteristika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cesní přístup managemen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zvíjení lidského kapitál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nalostní společ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zitivní vývojové tren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ýroba sebe sa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Znalostní podnik – principy fungování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rategie a výkonnost podnik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ákaznický imperati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cesní orient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ýmová prá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platnění znalostí a intelig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firemní hodno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8edf2"/>
                </a:solidFill>
                <a:latin typeface="Tahoma"/>
              </a:rPr>
              <a:t>Děkujeme za pozornos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8edf2"/>
                </a:solidFill>
                <a:latin typeface="Tahoma"/>
              </a:rPr>
              <a:t>Použitá literatura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runeček, J.: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Znalostní podnik ve znalostní společnosti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 Professional Publishing 200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eber a kol.: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Management. Základy, prosperita, globalizace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 Management Press 200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10:39:44Z</dcterms:created>
  <dc:creator>CIKT</dc:creator>
  <dc:description/>
  <cp:keywords/>
  <dc:language>en-US</dc:language>
  <cp:lastModifiedBy>CIKT</cp:lastModifiedBy>
  <dcterms:modified xsi:type="dcterms:W3CDTF">2006-11-08T10:55:12Z</dcterms:modified>
  <cp:revision>5</cp:revision>
  <dc:subject/>
  <dc:title>Znalostní podni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7991029</vt:lpwstr>
  </property>
</Properties>
</file>