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9D3C-CE88-41E5-8311-31A33C771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2263-7548-41D6-A21D-89E3F43F2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5438-42E2-40D7-8B35-F6D7B50D2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A819-0A75-4E49-8DEC-94F7FDF2A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4193D-1AFB-4400-B288-C5B8F83F1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A8EE0-9909-4578-8F3B-BE78A7C71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E5246-E6AE-40FA-AA17-46FF5F792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82724-C39B-4D76-9B13-D07733F1A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FD339-1CF5-46B2-801D-69D7BE19D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1BD5D-ADDF-4BFF-AE20-215C02765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083F8-36A6-40C9-AAD4-6E17CB15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E096-25A5-4978-B265-D46008C08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EB308-3F62-439D-A19D-61B80DA5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C7646-CD7F-40CB-AF33-0A7808EA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EF9DF-3FCA-4767-88FE-C5D11F4EA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0BD83-D3EE-4F3E-B46B-27C653377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1C132-3998-4893-81BF-B9EDED4E6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5C81-2B43-48C0-B777-D502CE9E6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1E0F-8A5B-42FC-88C0-B795FB166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3B7B-1A52-459E-83AE-03048BC8F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901A-F47D-4953-B4D1-DEDB70EE3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7020-B175-462B-8844-6D84CEBE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18EF-E630-45A6-9295-51C21B21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D973-1624-4B37-AF23-0371B6A1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8414F-8A61-401F-A81F-1636C3079918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35A1E-DC37-4B46-872A-D4091647FF1C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Garamond"/>
              </a:rPr>
              <a:t>Vývoj systémů - přirozená a kulturní evoluc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lára Kozlová, Veronika Paďourová, Barbora Vincenec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ým, prezentace čtvrtek 4.10.200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Vznik a podstata kulturní evoluce a její vztah k evoluci přirozené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Evoluce přirozená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zniká v rámci vývojového procesu vesmír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sitelem je příro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ývoj probíhal několik miliard l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ýsledkem jsou složité, vzájemně provázané ekosystém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Evoluce kulturní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ejím nositelem je člově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á svůj původ v přírod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e nesrovnatelně mladší než evoluce přirozená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ýsledkem je kultu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bývá globálního rozsah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Použitá literatura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Erben-Eckstein, J. (1999) </a:t>
            </a:r>
            <a:r>
              <a:rPr b="0" i="1" lang="cs-CZ" sz="2300" spc="-1" strike="noStrike" u="sng">
                <a:solidFill>
                  <a:srgbClr val="000000"/>
                </a:solidFill>
                <a:uFillTx/>
                <a:latin typeface="Arial"/>
              </a:rPr>
              <a:t>Časová nesymetrie ve fyzice a nevratnost dějů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Katedra podnikového hospodářství (2006) </a:t>
            </a:r>
            <a:r>
              <a:rPr b="0" i="1" lang="cs-CZ" sz="2300" spc="-1" strike="noStrike" u="sng">
                <a:solidFill>
                  <a:srgbClr val="000000"/>
                </a:solidFill>
                <a:uFillTx/>
                <a:latin typeface="Arial"/>
              </a:rPr>
              <a:t>Management II, průvodce studiem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Thaxton, C. B., Bradley, W. L., Olsen, R. L. (1995) </a:t>
            </a:r>
            <a:r>
              <a:rPr b="0" i="1" lang="cs-CZ" sz="2300" spc="-1" strike="noStrike" u="sng">
                <a:solidFill>
                  <a:srgbClr val="000000"/>
                </a:solidFill>
                <a:uFillTx/>
                <a:latin typeface="Arial"/>
              </a:rPr>
              <a:t>Tajemství vzniku života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Prigogine, I., Stengersová, I. (2001) </a:t>
            </a:r>
            <a:r>
              <a:rPr b="0" i="1" lang="cs-CZ" sz="2300" spc="-1" strike="noStrike" u="sng">
                <a:solidFill>
                  <a:srgbClr val="000000"/>
                </a:solidFill>
                <a:uFillTx/>
                <a:latin typeface="Arial"/>
              </a:rPr>
              <a:t>Řád z chaosu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Šmajs, J. (2004) </a:t>
            </a:r>
            <a:r>
              <a:rPr b="0" i="1" lang="cs-CZ" sz="2300" spc="-1" strike="noStrike" u="sng">
                <a:solidFill>
                  <a:srgbClr val="000000"/>
                </a:solidFill>
                <a:uFillTx/>
                <a:latin typeface="Arial"/>
              </a:rPr>
              <a:t>Víme, co je evoluce?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Šmajs, J. (2000) </a:t>
            </a:r>
            <a:r>
              <a:rPr b="0" i="1" lang="cs-CZ" sz="2300" spc="-1" strike="noStrike" u="sng">
                <a:solidFill>
                  <a:srgbClr val="000000"/>
                </a:solidFill>
                <a:uFillTx/>
                <a:latin typeface="Arial"/>
              </a:rPr>
              <a:t>Drama evoluce.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Šmajs, J. (1997) </a:t>
            </a:r>
            <a:r>
              <a:rPr b="0" i="1" lang="cs-CZ" sz="2300" spc="-1" strike="noStrike" u="sng">
                <a:solidFill>
                  <a:srgbClr val="000000"/>
                </a:solidFill>
                <a:uFillTx/>
                <a:latin typeface="Arial"/>
              </a:rPr>
              <a:t>Konflikt přirozené a kulturní evoluce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Systém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ubor prvků ve vzájemné interakc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odina, studenti ve třídě, podni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ystémy řídící a řízen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Evoluc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ěj, při kterém se ze systémů uspořádaných určitým způsobem stávají systémy uspořádané dokonaleji než tomu bylo u jejich předchůdců (Management II, Průvodce studiem, 2006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irozená vs. kultur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Druhá věta termodynamik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k energie při ireverzibilních dějích směřuje vždy k rovnoměrnějšímu rozdělení energie ve vesmíru" (Thaxton, 1995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Podstata</a:t>
            </a:r>
            <a:r>
              <a:rPr b="1" lang="en-US" sz="4600" spc="-1" strike="noStrike">
                <a:solidFill>
                  <a:srgbClr val="006633"/>
                </a:solidFill>
                <a:latin typeface="Garamond"/>
              </a:rPr>
              <a:t> přirozené evoluce jako spontánního antientropického děje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Pojem přirozená evoluc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je pro většinu lidí spojen pouze se vznikem a vývojem lidského druh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ákladním problémem je vnímání přirozené evoluce člověk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00000"/>
                </a:solidFill>
                <a:latin typeface="Arial"/>
              </a:rPr>
              <a:t>pro poznávání evoluce můžeme využívat jen dílčí poznatky vědy a svou představu světa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00000"/>
                </a:solidFill>
                <a:latin typeface="Arial"/>
              </a:rPr>
              <a:t>evoluce zasáhla přírodovědu, chemii, fyziku, sociologii i matematiku.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Na základě mnoha teorií a poznatků lze předpokládat, že: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00000"/>
                </a:solidFill>
                <a:latin typeface="Arial"/>
              </a:rPr>
              <a:t>na počátku vesmíru byla jeho uspořádanost nejnižší a že teprve evolucí se postupně zvyšovala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00000"/>
                </a:solidFill>
                <a:latin typeface="Arial"/>
              </a:rPr>
              <a:t>přirozená evoluce pravděpodobně začala před deseti až patnácti miliardami lety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ůvodem velkého třesku je narušení původní symetrie systému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Evoluc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00000"/>
                </a:solidFill>
                <a:latin typeface="Arial"/>
              </a:rPr>
              <a:t>na rozdíl od entropie  je procesem konstitutivním, směřuje proti rozpad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00000"/>
                </a:solidFill>
                <a:latin typeface="Arial"/>
              </a:rPr>
              <a:t>buduje stále jemnější a diferencovanější struktury i pravidla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00000"/>
                </a:solidFill>
                <a:latin typeface="Arial"/>
              </a:rPr>
              <a:t>potřebuje přiměřenou energetickou podporu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00000"/>
                </a:solidFill>
                <a:latin typeface="Arial"/>
              </a:rPr>
              <a:t>právě díky omezenému energetickému příkonu je zřejmě schopna všemi možnými organizačními způsoby čelit entropii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Evoluční proce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00000"/>
                </a:solidFill>
                <a:latin typeface="Arial"/>
              </a:rPr>
              <a:t>průběh a výsledek je vždy víceméně neznámý, předem nezjistitelný a nepředpověditelný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00000"/>
                </a:solidFill>
                <a:latin typeface="Arial"/>
              </a:rPr>
              <a:t>je složitou dynamickou interakcí informace s prostředím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000000"/>
                </a:solidFill>
                <a:latin typeface="Arial"/>
              </a:rPr>
              <a:t>na všech organizačních úrovních je spoluurčován mnoha nahodilými faktory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14:13:15Z</dcterms:created>
  <dc:creator>Marie Kozlová</dc:creator>
  <dc:description/>
  <dc:language>en-US</dc:language>
  <cp:lastModifiedBy>Martin Krkavec</cp:lastModifiedBy>
  <dcterms:modified xsi:type="dcterms:W3CDTF">2006-10-04T19:43:24Z</dcterms:modified>
  <cp:revision>4</cp:revision>
  <dc:subject/>
  <dc:title>Podstata přirozené evoluce jako spontánního antientropického děje </dc:title>
</cp:coreProperties>
</file>