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208-FB36-4388-AE38-D5C94731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1F5-3565-49CB-9511-A1F9123F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733-2686-4F57-B3C7-54F87D11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4F8-24C7-4F50-8C73-45C8B0ACD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E87B-9BEC-489D-B62C-6FB7074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69BB-1AAF-4458-99A8-EB0A32BC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28F-C8E6-4B54-873D-F50AB8D2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FF5-740F-404E-9518-CAD9D335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2EE0-C2B0-4A41-988B-79A7AE59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FC0C-C841-456A-95E0-4ED8639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29D9-C12F-4290-BD98-A6DCEB03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7EA-F244-4C16-A227-6D631DA1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0938-608A-4835-9C9C-E9F92E39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298-B409-4293-B70E-58F7B3B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93C5-7598-4545-9C5A-E29EF747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4144-2914-4F3F-A6AD-0DBB0835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53E6-9AB6-427C-8C6B-46B2B3C4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F756-3C7B-466A-9410-33061435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D85-4C72-41F5-AFA9-EC60BE54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C87-4E07-46BB-BB8D-A032EAA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DA2-C066-4BF5-9DEA-BD0AA201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12BC-180B-45A7-B8CA-30B9347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9BC-8C61-4610-A710-8F43BAD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593F-9ADA-45D3-8A9B-C99D8F0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4F50-F058-4059-B879-26252CCA72E4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8C6B-5DC8-48E8-B43C-F79624512A5F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D438-C92D-4268-96A7-BE5FF6A7151C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491-EDF4-4D74-A86A-30BD0BD9745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182844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Teorie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jako v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ě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da o 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ř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ízení v technických, biologických a spole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ffffcc"/>
                </a:solidFill>
                <a:latin typeface="Arial"/>
                <a:ea typeface="MS Mincho"/>
              </a:rPr>
              <a:t>ens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eněk Mandov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ilan Sedláč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ukáš Schö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02A6-1028-4D40-88DE-F1FDE78C14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mování systémových věd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30. léta – biologie, L. von Bertalanffy – obecná teorie systé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II. světová vá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50. léta – kyberne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60. léta - provoz automatizovaných informačních systémů v oblasti řízen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C3A-77DA-4887-8C1C-DEDA85BD8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udvig von Bertalanffy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lečnost pro pokroky v obecné teori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mětem teorie systémů je studium abstraktních systémů, které mají význam pro analýzu systémových vlastností libovolné konkrétní rea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1B9-ACF2-436E-9EC4-0D7ADE2C4B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r>
              <a:rPr b="1" lang="cs-CZ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ův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aložení nové vědy (Bertalanffy)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obecná tendence ke sjednocování různých přírodních 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společenských věd. Takové sjednocení může být předmětem zkoumání obecné teorie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to teorie se může stát významným prostředkem formování exaktních teorií ve vědách o živé přírodě a společ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Rozvíjení sjednocujících principů, s nimiž se setkává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ch oblastech vědění, nás obecná teorie řízení přibližuje k dosažení cíle, a to vytvoření jednotné vě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Vše to může vést k jednotnosti vzděl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DD3-C3EC-4245-98D8-C8C1BC5E6E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ecná teorie systémů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bec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obecné abstraktní modely systémových jev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áln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sou systémy definované na konkrétních reálných objektec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ické a dynamic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vrdé a měkké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F50-269C-4C35-B9B3-9B7D263E35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rbert Wiener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Předmětem kybernetiky je zkoumání procesů řízení a zpracování informací v technických systémech i živých organismech a kolektivech skládajících se z živých organismů a technických systémů.“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56C-2E65-4233-BD32-7E0B74CFD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ybernetika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ybernetický myšlenkový přístup se zaměřuje na zjišťování analogií mezi systémy z hlediska řídících procesů, které v nich probíhají.“ (Jančurová, 1998, s.52)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kladními pojmy kybernetiky jsou řízení a informa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3D6-EA3E-48D5-84E5-FA792ABE60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lení kybernetik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oretická kybernetik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á kybernetika</a:t>
            </a:r>
            <a:r>
              <a:rPr b="0" i="1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bernetické aplik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970-58ED-4A25-AF07-99355493D7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42840" y="137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Děkujeme za pozornos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5A8E-68F4-41CC-82F5-82159A02D6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UŽITÁ LITERATURA: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ASHBY, W.R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Kybernetika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Praha: Orbis, 196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BLAŽEK, L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nagement II - průvodce studiem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Masarykova univerzita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ABR, J. - VEPŘ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ová analýza a syntéz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. Praha: SNTL, 198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HÁLEK, I. A KOL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Systémy řízení – sylabus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Masarykova univerzita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JANČAROVÁ, V.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Úvod do systémových věd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MS Mincho"/>
              </a:rPr>
              <a:t> Praha: Vysoká škola ekonomická, 1998. ISBN 8O – 7079 – 933 –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ČEK, J. : 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ody systémového inženýrství.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ha: SNTL, 1984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43F-E5B8-4CA2-AC6A-49A09DCF00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 a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je výraz odvozený z řeckého slova "syn" , které v překladu znamená dohromady, a slova "histemi" – sestavova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. von Bertalanffyho: „ Systém je komplex prvků nacházejících se ve vzájemné interakci. 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ní defini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systém považujeme složitý reálný nebo abstraktní objekt, v němž rozlišujeme části, vztahy mezi nimi, vlastnosti. Vůči okolí vystupuje systém jako celek. Části systému jsou ve vzájemné interakci a integrují se i se systémem jako celkem. Označujeme je jako prvky systému a vztahy mezi nimi nazýváme vazbami systému. “ (Habr, 198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036-C3DE-4164-B14F-788E2A316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Z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ákladní typy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  <a:ea typeface="Times New Roman"/>
              </a:rPr>
              <a:t>systé</a:t>
            </a:r>
            <a:r>
              <a:rPr b="1" lang="cs-CZ" sz="4800" spc="-1" strike="noStrike">
                <a:solidFill>
                  <a:srgbClr val="ffffcc"/>
                </a:solidFill>
                <a:latin typeface="Arial"/>
              </a:rPr>
              <a:t>mů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vztah k okolí není definován, systém nemá hraniční prvk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lativně uza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přesně definovány jak vztahy, kterými je systém z okolí ovlivňován, tak vztahy, kterými systém okolí ovlivňu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tevřený systé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jsou uvažovány všechny možné účinky okolí na systém a naopak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4B2-9B8A-40C3-A27A-38FE289D3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ředstavuje vědomé působení na systém, které vymezuje cíle systému a s využitím zpětných vazeb působí na systém tak, aby těchto cílů bylo dosahováno.“ ( Jančarová, 1998, s. 136 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23A-0E8F-436E-AC3D-F6AB9DE9CE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Vývoj vědy o řízení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Řízení v technických systémech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asický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ahrnoval pojem celku, který se úplně rovnal součtu svých částí, který mohl běžet pozpátku a který by se choval přesně tímtéž způsobem bez ohledu na to, jak často byly ony díly rozebírány a zase dávány dohromady, a bez ohledu na sled, v kterém by k tomuto rozebírání a novému skládání docházelo. “ ( Deutsch, 1971, s. 93 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622-3C80-4734-B0DB-5E0A7D2D8E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 biologických systémech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chanismus je v devatenáctém nahrazen pojmem „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smu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, který se stal novým východiskem nejen v biologii, ale i ve společenských vědách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anismus se nedá analyzovat, alespoň v některých svých podstatných částech. Nemůže být rozebrán a zase beze škody složen dohromady. Každá část klasického organismu, pokud vůbec může být identifikována, obsahuje ve své struktuře t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láštní funkci, která ji byla přidělena. Zpravidla nemohou být tyto části použity pro žádné jiné funkce, aniž by se organismus zničil.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044-D75E-4CDE-90F4-846FBEDF8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Řízení ve 20. století</a:t>
            </a: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větové vál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voj v oblasti komunikační a výpočetní techni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ové 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y, které oz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jeme jako systémov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ystémov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ě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ní disciplíny a 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CA1-1497-41D3-A132-E54568B6CF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685800" y="457200"/>
            <a:ext cx="8076960" cy="6019920"/>
            <a:chOff x="685800" y="457200"/>
            <a:chExt cx="8076960" cy="6019920"/>
          </a:xfrm>
        </p:grpSpPr>
        <p:sp>
          <p:nvSpPr>
            <p:cNvPr id="100" name=""/>
            <p:cNvSpPr/>
            <p:nvPr/>
          </p:nvSpPr>
          <p:spPr>
            <a:xfrm>
              <a:off x="2919240" y="457200"/>
              <a:ext cx="20617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á vě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11764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teori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7920" y="1176480"/>
              <a:ext cx="154620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Times New Roman"/>
                </a:rPr>
                <a:t>Systémové aplik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5760" y="2891880"/>
              <a:ext cx="1717920" cy="42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Kybernetik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87840" y="2036520"/>
              <a:ext cx="137412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Obecná  teorie systémů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6280" y="1749960"/>
              <a:ext cx="0" cy="1431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76280" y="2323080"/>
              <a:ext cx="5144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76280" y="3182040"/>
              <a:ext cx="34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35960" y="1462680"/>
              <a:ext cx="326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4960" y="889920"/>
              <a:ext cx="0" cy="572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3120" y="189288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á analýz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73120" y="2895840"/>
              <a:ext cx="1545840" cy="57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inženýrstv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3120" y="375588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Operační výzku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73120" y="5904360"/>
              <a:ext cx="15458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Jiné aplika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3120" y="4615200"/>
              <a:ext cx="1889640" cy="57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Times New Roman"/>
                </a:rPr>
                <a:t>Systémové programován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89480" y="1749960"/>
              <a:ext cx="0" cy="4440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89480" y="619056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89480" y="490140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89480" y="4042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9480" y="318204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89480" y="2179080"/>
              <a:ext cx="686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3C6-85EB-4601-AB3C-70721873C4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Arial Narrow"/>
              </a:rPr>
              <a:t>Systémový přístup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émový přístu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deme považovat způsob myšlení, způsob řešení problému a či způsob jednání, při němž jsou jevy chápány komplexně ve svých vnitřních a vnějších souvislostech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předpokládá existenci speciálních metod, formálního aparátu a technických prostředků pro práci se systém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kupina č.3 - Management I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42BD-E45A-4989-AC36-B9A9CD4A7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deněk Mandovec</cp:lastModifiedBy>
  <dcterms:modified xsi:type="dcterms:W3CDTF">2006-10-02T19:57:03Z</dcterms:modified>
  <cp:revision>2</cp:revision>
  <dc:subject/>
  <dc:title>Prezentace aplikace PowerPoint</dc:title>
</cp:coreProperties>
</file>