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9A30-E7F9-427D-9EAF-2D214875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C37A-3856-4E0F-A5B7-F7B0610E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41BFF-8BBF-45DA-A373-557E354C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516E-AB97-47A2-8B10-A0F02477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94B4-97B7-453C-81DF-AB3E9A0B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5CD0-0438-4FCA-9A98-29E071FF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92C6-B4DB-4965-8188-3B268C0C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D439-CAD6-4347-B3CF-FC61651B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5EBB-40F7-42D3-BF8C-3386497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29ED-672D-4272-9442-ED4F0E59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4641-4F22-4ABA-B6DC-EDF0D0F1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0DF1-A94E-4ED0-9765-B6EEDA49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2CC6-1DE9-4774-9B0F-78AC9667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BEAA-9821-44BC-AD13-24F34707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19BC-134E-4260-BA43-F0191EF3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A47D-785C-403D-B62F-FBE1C396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3560-55C4-44D0-8ABE-BBC8E4E4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7EC84-14BE-4EC6-A0A7-12BB6D74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42F0-57DB-4B39-B3A1-AB81F68D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DA9B8-E0F2-4D09-8507-BD8C293C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32CC-92E2-4ED7-9786-5711B6C7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472B-0D35-4C88-A3FC-27F1AB09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B2AF-0669-4E13-A2EB-0BEBF383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54F2-CFF1-4813-B9E1-F6DB463E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5AD6-8761-4C01-8118-4D351EAA16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2C3D-8D44-4013-B4D5-350F157354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1628640"/>
            <a:ext cx="828036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CHARAKTERISTICKÉ RYS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A ZÁKLADNÍ PRINCIPY</a:t>
            </a:r>
            <a:br>
              <a:rPr sz="3500"/>
            </a:br>
            <a:r>
              <a:rPr b="1" lang="en-US" sz="3500" spc="-1" strike="noStrike">
                <a:solidFill>
                  <a:srgbClr val="f8f828"/>
                </a:solidFill>
                <a:latin typeface="Garamond"/>
              </a:rPr>
              <a:t>INDUSTRIÁLNÍ SPOLEČNOSTI</a:t>
            </a: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60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3. Seminární skupina – 2. tý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František Karber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Petr Kebo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Jiří Male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preindustriální společnosti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da představovala základ hospodářství, života, kultury, rodinné struktury a politik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spodářství bylo decentralizované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 výrobků byla omezená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vládala jednoduchá dělba prác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ůvod determinoval postavení člověka v životě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istovala přísně autoritářská pravomo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říčiny vzniku druhé vln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jev Nového světa, růst počtu obyvatelstva, který povzbuzoval přesuny do měst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lesů, vedoucí k využívání uhlí → parní stroj → nebývalé možnosti rozšíření výroby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šiřování vědeckých poznatků využitelných v technické praxi, rozvoj "industriálního" myšlení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nalezení knihtisku, růst gramotnost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incipy industriální společnosti </a:t>
            </a:r>
            <a:br>
              <a:rPr sz="4300"/>
            </a:b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 dominantní princip industriální společnosti lze považovat princip oddělení výroby a spotřeby. Na tento princip pak navazují další principy, a to princi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ělby práce na základě speci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ynchroniz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izac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centr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xim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Oddělení výroby od spotřeby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A◄►SPOTŘ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se stal expanzivní a samostatná institu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růst dělby práce, která směřovala k prudkému růstu její produktiv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ěna, do té doby jen okrajový jev, se přesunula do ohniska dění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lba práce na základě speci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dělení výroby od spotřeby je první krok na cestě ke stále se prohlubující specializaci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lověk Spotřebitel   X   Člověk výr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ynchron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ále hlubší dělba práce si vynutila též změnu způsobu, jakým lidé nakládali s čas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Časová koordinace = Život většiny lidí běží podle jednotného rozvrhu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NIK MODERNÍHO MANAGMEN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Standard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lak na zefektivnění výrob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chází k sjednocen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ních zaříz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škol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troly a hodnocení pracov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Garamond"/>
              </a:rPr>
              <a:t>managementu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oncentr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ůvo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ba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áslede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ustředění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izovaných pracovníků do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zvoj mě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Maxim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příklad – automobilové závody v U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dea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 je obrovské, je zároveň dynamické a dobře fungující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↓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edlost rozvoj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entralizace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ntralizace mo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esun moc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zefektivňování činností jednotlivých cen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del typický pro industriální společnos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nadstátních cel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ntralizace moci vytvářením gigantických podni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6000" spc="-1" strike="noStrike">
                <a:solidFill>
                  <a:srgbClr val="f8f828"/>
                </a:solidFill>
                <a:latin typeface="Garamond"/>
              </a:rPr>
              <a:t>PRVNÍ VLN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400" spc="-1" strike="noStrike">
                <a:solidFill>
                  <a:srgbClr val="ffffff"/>
                </a:solidFill>
                <a:latin typeface="Garamond"/>
              </a:rPr>
              <a:t>Preindustriální společnos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Děkujeme za pozornost.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oužitá literatu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Šok z budoucnosti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Praha : Práce, 1992. ISBN 80-208-0160-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The Third Waw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. New York 198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OFFLER, A., TOFFLEROVÁ, H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Nová civilizace.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aha : Dokořán 2001. ISBN 80-86569-00-4.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Charakteristické rysy a základní principy industriální společnosti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d p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átku lidstvo prochází kulturní evolucí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 350ti lety nástup idustriál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vývoj lids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é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 s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j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am a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m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ůž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vést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Kde jsme práv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 t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ď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Ubírá se naše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 správnou cestou?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va názory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Vývoj bude probíhat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iroz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eně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, vyl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í p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ř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dstavy zásadní odlišnosti budoucí civiliz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Budoucí civilizace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bude zalo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ena na sou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asných principech fungování spole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Optimismus, víra v lepší zítř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Kam směřujeme?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esimistické očekává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Politické krize, terorismus, globální konflik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  <a:ea typeface="Times New Roman"/>
              </a:rPr>
              <a:t>Dramatický růst populace, narůstající chudoba, vyčerpání přírodních zdrojů, ekologická hrozb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merický sociolog a publicista a. Toffler přichází s představou vývoje lidské společnosti v určitých vln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ásledující vlna se prodírá na místo vlny předchoz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ůsobení těchto vln je koexistenč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Názor A. Toffler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ývoj lidské společnosti lze rozčlenit do třech vl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lečnost pre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industriál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3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První vlna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ináší preindustriální civilizaci -zemědělskou společn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ba trvání cca 10 000 l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8f828"/>
                </a:solidFill>
                <a:latin typeface="Garamond"/>
              </a:rPr>
              <a:t>DRUHÁ VLNA</a:t>
            </a:r>
            <a:r>
              <a:rPr b="1" i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Garamond"/>
              </a:rPr>
              <a:t>nástup industriální společnost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08:12:51Z</dcterms:created>
  <dc:creator>99800</dc:creator>
  <dc:description/>
  <dc:language>en-US</dc:language>
  <cp:lastModifiedBy>Jirik</cp:lastModifiedBy>
  <dcterms:modified xsi:type="dcterms:W3CDTF">2006-10-04T20:45:34Z</dcterms:modified>
  <cp:revision>14</cp:revision>
  <dc:subject/>
  <dc:title>Druhá vlna  </dc:title>
</cp:coreProperties>
</file>