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943-775A-4ECF-8585-90E702BC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30C3-88C8-4C42-8B3D-52993F83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22B9-53E9-469E-8DEF-9005E4A8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4D0-4EEE-4502-8418-A3FCAFCF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4E0E-39BD-4776-A336-B876A5A7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B6DF-514B-4BCC-B9F1-988F6903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76AD-E8BF-488C-908D-95A3DC46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6D15-F99C-4970-9EF3-78ADAC8F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836E-D067-4403-9CB4-13F066B7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653E-7BEC-4ADA-8AD5-6B032C66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5CC3-D9A2-4065-BDCB-847792E5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5543-C3F3-4D35-98AF-5E86E06D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E8B4-E146-42D9-A13F-4773C15E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E6F6-55E0-4ACA-8304-E159ED63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233F-5EAE-40FF-A827-1A702333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B05C-B914-446A-90B6-7FF106DE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A028-4B94-48EE-8E44-A2F0DC91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836-C120-44EA-88B1-76DDA1CB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297-B5D1-474C-87D2-E31030A4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75A6-0EFA-4178-9153-E5CD7EB8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186-78CC-4DF7-8D84-9397EEC6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94A-1733-43D2-9AF3-BE4381C6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8DF-1E30-4E28-AD4C-2CFCFEB4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5CD1-2BD8-4CF8-9343-AD998D8D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10A2-2B32-405F-9546-61F9D7CD18E8}" type="slidenum"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4A60-4268-46C9-A10C-6757E21E5E4E}" type="slidenum">
              <a:rPr b="0" lang="cs-CZ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5400" spc="-1" strike="noStrike">
                <a:solidFill>
                  <a:srgbClr val="996633"/>
                </a:solidFill>
                <a:latin typeface="Times New Roman"/>
              </a:rPr>
              <a:t>Podstata práva jako určitého řádu společnosti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438280" y="4343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eminární skupina č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iřina Cah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ominik Zbí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c. Jakub Fiš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5F1C-70DA-41A6-A537-13F471FC64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996633"/>
                </a:solidFill>
                <a:latin typeface="Times New Roman"/>
              </a:rPr>
              <a:t>Opakování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Hayekova koncepce přirozeného a umělého řá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152280" y="4609800"/>
            <a:ext cx="3904560" cy="1080"/>
          </a:xfrm>
          <a:prstGeom prst="straightConnector1">
            <a:avLst/>
          </a:prstGeom>
          <a:ln w="507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384200" y="396864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ílo přír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4056120" y="4611240"/>
            <a:ext cx="1945440" cy="1080"/>
          </a:xfrm>
          <a:prstGeom prst="straightConnector1">
            <a:avLst/>
          </a:prstGeom>
          <a:ln w="5076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6000840" y="4610160"/>
            <a:ext cx="2745360" cy="21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4056120" y="3844800"/>
            <a:ext cx="22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lejší důsled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dských činnost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75520" y="384480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vědomé lidské čin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/>
          <p:nvPr/>
        </p:nvCxnSpPr>
        <p:spPr>
          <a:xfrm>
            <a:off x="152280" y="5297040"/>
            <a:ext cx="5849280" cy="10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/>
          <p:nvPr/>
        </p:nvCxnSpPr>
        <p:spPr>
          <a:xfrm>
            <a:off x="6000840" y="5297040"/>
            <a:ext cx="274536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2576520" y="4930920"/>
            <a:ext cx="17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řirozený řá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96000" y="4930920"/>
            <a:ext cx="18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umělý řá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/>
          <p:nvPr/>
        </p:nvCxnSpPr>
        <p:spPr>
          <a:xfrm>
            <a:off x="4092120" y="6299280"/>
            <a:ext cx="3187080" cy="2160"/>
          </a:xfrm>
          <a:prstGeom prst="straightConnector1">
            <a:avLst/>
          </a:prstGeom>
          <a:ln w="507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4654440" y="5907240"/>
            <a:ext cx="27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800000"/>
                </a:solidFill>
                <a:latin typeface="Arial"/>
              </a:rPr>
              <a:t>společenské systé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/>
          <p:nvPr/>
        </p:nvCxnSpPr>
        <p:spPr>
          <a:xfrm>
            <a:off x="7278840" y="6299280"/>
            <a:ext cx="1504080" cy="2160"/>
          </a:xfrm>
          <a:prstGeom prst="straightConnector1">
            <a:avLst/>
          </a:prstGeom>
          <a:ln w="50760">
            <a:solidFill>
              <a:srgbClr val="cccc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7419960" y="5659560"/>
            <a:ext cx="13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ccccc"/>
                </a:solidFill>
                <a:latin typeface="Arial"/>
              </a:rPr>
              <a:t>technické systé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C86-4B41-4786-9DE0-40A30A9C276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Právo x zákonodárství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ávo není pouze produkt zákonodárství, je staré jako společnost s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onodárství je umělá tvorba zákonů lid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zitivistická koncepce práva jako psaných zákonů x Hayekova koncepce práva jako evolucí vytvořených pravi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chrana státem je poskytována pouze psanému práv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E16-0BA1-4994-8814-978C6C2B2CB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Vývoj práv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tlivci se naučili dodržovat pravidla chování dříve před formulací těchto pravidel lo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ato pravidla sloužila skupině jako celku ne jednotliv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lověk je veden nejen naučenými ale i vrozenými pravid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aleka ne všechna pravidla byla vyjádřena slovy, např. fair play, dobré mravy ap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2B3-DEC5-453D-BD7C-B45CDFC0326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Negativní důsledky spontánního řádu aneb význam zákonodárství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 spontánní řád může vést do slepé uličky popř. mít negativní důsledky pro lid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jistí-li se, že dosud užívaná pravidla jsou pro určitou skupinu nespravedlivá ať už v důsledku omylu či lobby urč. zájmové skupi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99E-F94E-48CC-99EF-2390F86960F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Shrnutí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ávo je staré jako lidstvo s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edle práva existují i jiné normativní systémy např. morálka, která nemusí být vyjádřena slo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konodárství je nutné neboť spontánní řád může mít pro člověka i negativní důsled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004C-0A2E-43F4-9000-10D5679047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996633"/>
                </a:solidFill>
                <a:latin typeface="Times New Roman"/>
              </a:rPr>
              <a:t>Literatura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24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ayek, F.A. Právo, zákonodárství a svoboda. Praha : Academia, 199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AC6-C176-40FA-927F-184A69AB876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hovi</cp:lastModifiedBy>
  <dcterms:modified xsi:type="dcterms:W3CDTF">2006-10-02T16:19:29Z</dcterms:modified>
  <cp:revision>11</cp:revision>
  <dc:subject/>
  <dc:title>Prezentace aplikace PowerPoint</dc:title>
</cp:coreProperties>
</file>