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F776-5C17-4DC0-83CE-9A613BDBE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2D37-C762-4195-896D-65FA6879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38B0-D8B3-407E-BDA5-0427510A0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520F-426D-402A-B941-B8EB36851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EB1D-980E-4FE4-A014-78DCD3D64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661D-0511-4B4D-B2FE-5A1991EF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1606-9340-4E4C-B8F8-D7CEDB09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209F-EEC6-4328-AFF6-3E3B0B91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75D1-E329-4E76-9955-25DBE972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FCE3-F5C7-4F46-AD03-4551248A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106F-FEFB-493D-B392-24F8FD7C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DBF0-C07D-46D3-879E-DA40FF21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5444-A05C-4182-B0E9-B743F2A8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91CD-33DE-487F-93E3-FF7DA371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5027-BECD-44A5-8BF7-4E70EE54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D0CA-706C-4096-A19B-315427AFC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03B2-E5F7-4E3D-9E59-770A5E686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B340-6117-462D-8B1C-43326448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64B3-1F97-44CB-A1D2-598D1703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53C2-7C41-4851-BBA8-CEF8788D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D8F9-4917-4009-A0AD-92BA7DD6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D880-3BA4-4311-8000-D83B0215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E439-05E3-48F3-94D3-69DCC6DC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4D1D-D221-4B43-84BD-2804B1AC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2DB8-4DA3-4115-8954-35DF629814F4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451C-D0CF-4744-ACB3-3CE7879C7AF2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halek.info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Krizový manage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Beata Brosková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Hana Matonohová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Tomáš Procház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Finanční rizika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likvidita - schopnost splácet své závazk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olventnost - dostatek finančních prostředk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entabilita - větší zisky než náklad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enová: - přitlačení k nízké ceně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Mezinárodní rizika</a:t>
            </a:r>
            <a:r>
              <a:rPr b="0" i="1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izika při realizaci vývozu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špatný průzkum odbytiště, nedostatek zákazníků, vytváření velkých zásob v zahranič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izika spojené s placením - nezaplacení zakázky, měnové rizik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politická rizik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Stanovení krizové strategie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imes New Roman"/>
              </a:rPr>
              <a:t>omezení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, celkové ohrožení organizace, zvláště příprava alternativ plánu pro zvládnutí kriz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imes New Roman"/>
              </a:rPr>
              <a:t>odstranění ohnisek potenciálních krizí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, které mohou ohrozit organizaci (existenci konkurence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Realizace krizové strategie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58c"/>
                </a:solidFill>
                <a:latin typeface="Times New Roman"/>
              </a:rPr>
              <a:t>Postup při vzniku krize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odstranění ohnisek krize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omezení celkového ohrožení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zvládnutí krizové situace</a:t>
            </a:r>
            <a:r>
              <a:rPr b="1" i="1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Předpokladem k úspěchu je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jmenování odpovědného vedoucího krizového tým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stavit krizový tým z takových pracovníků, kteří mohou učinit řeše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zajistit rychlý tok informací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Zdroje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3200" spc="-1" strike="noStrike" u="sng">
                <a:solidFill>
                  <a:srgbClr val="6f89f7"/>
                </a:solidFill>
                <a:uFillTx/>
                <a:latin typeface="Times New Roman"/>
                <a:hlinkClick r:id="rId2"/>
              </a:rPr>
              <a:t>http://halek.inf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imes New Roman"/>
              </a:rPr>
              <a:t>Smejkal, Vladimír. </a:t>
            </a:r>
            <a:r>
              <a:rPr b="0" i="1" lang="cs-CZ" sz="3200" spc="-1" strike="noStrike">
                <a:solidFill>
                  <a:srgbClr val="40458c"/>
                </a:solidFill>
                <a:latin typeface="Times New Roman"/>
              </a:rPr>
              <a:t>Řízení rizik ve firmách a jiných organizacích.</a:t>
            </a:r>
            <a:r>
              <a:rPr b="0" lang="cs-CZ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imes New Roman"/>
              </a:rPr>
              <a:t>Dvořák, Jiří. </a:t>
            </a:r>
            <a:r>
              <a:rPr b="0" i="1" lang="cs-CZ" sz="3200" spc="-1" strike="noStrike">
                <a:solidFill>
                  <a:srgbClr val="40458c"/>
                </a:solidFill>
                <a:latin typeface="Times New Roman"/>
              </a:rPr>
              <a:t>Úvod do krizového managementu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imes New Roman"/>
              </a:rPr>
              <a:t>Šenovský, Michail. </a:t>
            </a:r>
            <a:r>
              <a:rPr b="0" i="1" lang="cs-CZ" sz="3200" spc="-1" strike="noStrike">
                <a:solidFill>
                  <a:srgbClr val="40458c"/>
                </a:solidFill>
                <a:latin typeface="Times New Roman"/>
              </a:rPr>
              <a:t>Základy krizového managementu V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Děkujeme za pozornost 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Krize v podnik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je to situace, která představuje trvalé nebo po delší dobu negativní odchylku od normálního stavu, ohrožují cíl organizace nebo její samotnou existenci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Etapy průběhu krize v podnik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0458c"/>
                </a:solidFill>
                <a:uFillTx/>
                <a:latin typeface="Arial Unicode MS"/>
                <a:ea typeface="Arial Unicode MS"/>
              </a:rPr>
              <a:t>1</a:t>
            </a:r>
            <a:r>
              <a:rPr b="1" lang="en-US" sz="3200" spc="-1" strike="noStrike" u="sng">
                <a:solidFill>
                  <a:srgbClr val="40458c"/>
                </a:solidFill>
                <a:uFillTx/>
                <a:latin typeface="Times New Roman"/>
                <a:ea typeface="Arial Unicode MS"/>
              </a:rPr>
              <a:t>. Etap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ubjektu klesají příjmy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ostou náklady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0458c"/>
                </a:solidFill>
                <a:uFillTx/>
                <a:latin typeface="Times New Roman"/>
                <a:ea typeface="Arial Unicode MS"/>
              </a:rPr>
              <a:t>2. Etap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zvyšuje se objem úvěrů, rostou splátky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ubjekt a jeho produkce tzn. "vypadává z trhu"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Etapy průběhu krize v podnik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40458c"/>
                </a:solidFill>
                <a:uFillTx/>
                <a:latin typeface="Times New Roman"/>
                <a:ea typeface="Arial Unicode MS"/>
              </a:rPr>
              <a:t>3. Etap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banky přestávají poskytovat úvěry,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u stávajících úvěrů se začnou zvedat úrokové sazby,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chybí zisk pro financování rozvoje, či udržení subjektu,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objevují se potíže s platební schopností,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subjekt nuceně snižuje zásoby materiálu, a dlouhodobého hmotného majetku,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0458c"/>
                </a:solidFill>
                <a:latin typeface="Times New Roman"/>
              </a:rPr>
              <a:t>omezují se nákup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Etapy průběhu krize v podnik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40458c"/>
                </a:solidFill>
                <a:uFillTx/>
                <a:latin typeface="Times New Roman"/>
                <a:ea typeface="Arial Unicode MS"/>
              </a:rPr>
              <a:t>4. Etap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ubjekt se dostává do ztráty, nejsou prostředky na pokrytí fixních nákladů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uvnitř společnosti se objevují spory, které se projevují i navenek, ve vztahu k obchodním partnerům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platební schopnost se sníží na minimu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Prvky krizového managementu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odhalení rizika - příčiny kriz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tanovení krizové strategi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ealizace krizové strategie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Odhalení rizika - příčiny kriz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imes New Roman"/>
              </a:rPr>
              <a:t>uvnitř podniku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- materiálová krize, výrobní krize, personál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imes New Roman"/>
              </a:rPr>
              <a:t>mimo podnik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- dodavatel má krizi, konkurence, zákazníka, krize způsobená legislativními podmínkami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Odhalení rizika - příčiny kriz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izika dělíme do následujících 3 skupin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průmyslové a obchodní riziko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nanční rizika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mezinárodní rizika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Průmyslové a obchodní rizik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výrobní rizik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ociální problémy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nákup surovi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rizika v oblasti informatik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distribuční rizika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1T15:29:38Z</dcterms:created>
  <dc:creator>Start</dc:creator>
  <dc:description/>
  <dc:language>en-US</dc:language>
  <cp:lastModifiedBy>Alena Nováková</cp:lastModifiedBy>
  <dcterms:modified xsi:type="dcterms:W3CDTF">2006-12-03T12:40:28Z</dcterms:modified>
  <cp:revision>4</cp:revision>
  <dc:subject/>
  <dc:title>Krizový management</dc:title>
</cp:coreProperties>
</file>