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7E03D-E73B-4A4A-9040-043FE2E75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A5369-3BAE-42CB-99CC-60DD85056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728D2-BD03-4006-A251-207292D70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E8C06-6305-4294-9C54-52688EAD9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66DD6-CAC9-4BBB-BC1B-C143081F4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48F1F-0900-435C-A3C7-4799EA59E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BBD0A-95F1-4FFC-B298-EC209236C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FC172-7619-4A46-B26A-17D6F7D64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2A73C-02A8-47B0-AD60-8C5D9006F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35233-5C53-48BD-89AF-6A2CDF876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EA620-8097-4BDD-A114-EE515D98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04B0D-9D00-4285-A54F-EA2EE988C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9B970-FA97-4933-8FFC-BED1653E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8E4BB-1006-4AD9-AAD7-88B4613E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E3342-C681-4275-A051-82C6E5C52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E3001-68F4-4677-8F68-59384C26C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8664B-D475-46EF-8A8B-97966E5CB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DE891-E466-46A6-AABB-D92A76BF8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92493-C09E-4A66-871B-E6311A246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65CFA-245B-4129-B4C2-B560D7679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875FB-252D-4B8D-98EF-D759FD8EF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C4222-0416-4658-9608-3DBB074E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E325D-56C0-4495-8D8B-F91B6262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6EC9E-36A2-492C-BDF0-E2A19B6A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CEDD4-4775-4CB4-B527-33C39E4D4AD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6772D-3163-4312-9557-2AEDA60936E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5e5ff"/>
                </a:solidFill>
                <a:latin typeface="Garamond"/>
              </a:rPr>
              <a:t>Vztah člověka a podniku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Vypracovali: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Pavla Slezáková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Petr Goliáš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Georg Siegert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Book Antiqua"/>
              </a:rPr>
              <a:t>Použitá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literatur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Bauer W. M., </a:t>
            </a:r>
            <a:r>
              <a:rPr b="1" lang="cs-CZ" sz="3200" spc="-1" strike="noStrike">
                <a:solidFill>
                  <a:srgbClr val="ffffff"/>
                </a:solidFill>
                <a:latin typeface="Garamond"/>
              </a:rPr>
              <a:t>Tyranie blahobytu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, Volvox Globator 1997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Book Antiqua"/>
              </a:rPr>
              <a:t>Krize individu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3640" y="2133360"/>
            <a:ext cx="82184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ioritou dnešního člověka je naplňování pouze materiálních potřeb. Navíc se se svou prací jen málokdy identifikuje a tak se dostává do jakési  schizofrenie. Stává se dezorientovaným, ztrácí vůli k dosahování cílů a pak i cíle samotné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640" y="4520880"/>
            <a:ext cx="821844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oto je potřeba člověku/zaměstnanci poskytnout více podnětů, aby se mohl s prací identifikovat. Člověk by neměl být hrdý pouze na to, že dokázal zvýšit prodejnost pracího prášku o 5%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Book Antiqua"/>
              </a:rPr>
              <a:t>Motivace 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14716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Úspěch firmy je záležitostí vedoucích pracovníků - postoje, charakterové vlastnosti a znalosti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Je potřeba, aby se i manažer identifikoval se svou prací, aby pouze nedemonstroval svoji neomylnost a autoritu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" y="4149720"/>
            <a:ext cx="8218440" cy="24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odniky sice investují do moderní techniky, ale měli by se také soustředit na své zaměstnance, aby se z nich nestali pouze „němí příjemci povelů“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 u="sng">
                <a:solidFill>
                  <a:srgbClr val="e5e5ff"/>
                </a:solidFill>
                <a:uFillTx/>
                <a:latin typeface="Book Antiqua"/>
              </a:rPr>
              <a:t>Zm</a:t>
            </a:r>
            <a:r>
              <a:rPr b="1" lang="en-US" sz="4400" spc="-1" strike="noStrike" u="sng">
                <a:solidFill>
                  <a:srgbClr val="e5e5ff"/>
                </a:solidFill>
                <a:uFillTx/>
                <a:latin typeface="Book Antiqua"/>
              </a:rPr>
              <a:t>ěna pracovního  světa poč</a:t>
            </a:r>
            <a:r>
              <a:rPr b="1" lang="cs-CZ" sz="4400" spc="-1" strike="noStrike" u="sng">
                <a:solidFill>
                  <a:srgbClr val="e5e5ff"/>
                </a:solidFill>
                <a:uFillTx/>
                <a:latin typeface="Book Antiqua"/>
              </a:rPr>
              <a:t>í</a:t>
            </a:r>
            <a:r>
              <a:rPr b="1" lang="en-US" sz="4400" spc="-1" strike="noStrike" u="sng">
                <a:solidFill>
                  <a:srgbClr val="e5e5ff"/>
                </a:solidFill>
                <a:uFillTx/>
                <a:latin typeface="Book Antiqua"/>
              </a:rPr>
              <a:t>tač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Ztráta vztahu mezi prac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í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 a pracov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í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k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Ztráta 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interakce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 mezi lid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m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Absence lidsk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é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o 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rozumu m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ůže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v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é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t k 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 nebezpečným chyb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á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m v syst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é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m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→ 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Ale : Ten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to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 proces se neum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í 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sám 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bránit ani 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ho nelze zpomalit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. 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A je nezvratný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Book Antiqua"/>
              </a:rPr>
              <a:t>Fascinace absurditou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I když sv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ět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 prý dostane racionální způsob myšlení,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trvaj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í absurdity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ubvence zemědělství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Znečišťování životního prostřed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ogmata 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katolické církve a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islámu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Výuka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na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škol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á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h a univerzit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á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h nechc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řešit probl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é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→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lhání exaktních vě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Book Antiqua"/>
              </a:rPr>
              <a:t>Dvojí odpovědnost manažer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2133720"/>
            <a:ext cx="8218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stane-li se organizace do problémů, mění se odpovědnost manažera vůči podřízeným (společenskému blahu) v odpovědnost vůči vlastníkovi, potažmo sobě (blahu ega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9280" y="4365360"/>
            <a:ext cx="821844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S překotnými a obtížnými hospodářskými změnami v posledních desetiletích vzájemná lidská solidarita mizí, jako bychom pro ni v sobě nevybudovali dostatečně pevnou půdu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"/>
          <p:cNvSpPr/>
          <p:nvPr/>
        </p:nvSpPr>
        <p:spPr>
          <a:xfrm rot="10800000">
            <a:off x="323640" y="4941360"/>
            <a:ext cx="77533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1280" y="429264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335772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Book Antiqua"/>
              </a:rPr>
              <a:t>Důležitá role komunika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Vývoj světového dění je do té míry dynamický a schopný znatelné odezvy na jakékoliv další jednání člověka, že: BUDOUCNOST OVLIVŇUJEME VŠÍM, CO ČINÍME A JEŠTĚ VÍCE TÍM, CO NEČINÍM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ook Antiqua"/>
              </a:rPr>
              <a:t>Komunikujeme skrz činy, slova, práci, vztahy, chování či postoj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KUMUNIKUJUME UVĚDOMĚLE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Book Antiqua"/>
              </a:rPr>
              <a:t>Uvědomělý život a jeho úskalí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9280" y="2349000"/>
            <a:ext cx="820908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Žít život uvědoměle znamená vzdát se do určité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míry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 své stávající společenské rol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39280" y="3860280"/>
            <a:ext cx="814716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dložit svou roli znamená dostat se do konfliktu, který se často mění v pokus násilím dosáhnout toho, čeho je možné dosáhnout pouze „chůzí po špičkách“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e5e5ff"/>
                </a:solidFill>
                <a:latin typeface="Book Antiqua"/>
              </a:rPr>
              <a:t>Muhammad Júnus, bangladéšský ekonom a jeho banka Gramín = nositel Nobelovy ceny míru za rok 2006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4920" y="2421000"/>
            <a:ext cx="82184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 Antiqua"/>
              </a:rPr>
              <a:t>banka založena roku 1976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 Antiqua"/>
              </a:rPr>
              <a:t>poskytuje mikroúvěry milionům nejchudších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 Antiqua"/>
              </a:rPr>
              <a:t>v rámci skupiny Gramín existuje na 2 tucty společností fungujících na neziskové bázi a jsou vzájemně propojen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 Antiqua"/>
              </a:rPr>
              <a:t>funkčnost modelu potvrzuje jeho převzetí ve více než sto zemích svět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 Antiqua"/>
              </a:rPr>
              <a:t>Muhammad Júnus se řídí úslovím: „Dáte-li člověku rybu, nasytíte ho na jeden den. Naučíte-li ho ryby chytat, nasytíte ho na celý život.“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5T13:41:39Z</dcterms:created>
  <dc:creator>počítač</dc:creator>
  <dc:description/>
  <dc:language>en-US</dc:language>
  <cp:lastModifiedBy>Pavla</cp:lastModifiedBy>
  <dcterms:modified xsi:type="dcterms:W3CDTF">2006-10-15T19:14:00Z</dcterms:modified>
  <cp:revision>10</cp:revision>
  <dc:subject/>
  <dc:title>Snímek 1</dc:title>
</cp:coreProperties>
</file>