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5EF-0674-43C0-8868-B8BC68F7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248-A3F0-451C-95E9-DA9EF3E9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D4DD-0DB5-4970-A619-6E961533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11F-1C4F-4443-B490-BF34A3A1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D113-1365-4900-906E-0E6E6417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E115-A0EF-4F95-AA3C-6C599D77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2A12-CE97-469C-89D1-F95B80FF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A7F5-3746-4CFF-A819-9B72FF9C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F116-43B7-48D8-9A19-41073588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50F8-13BD-419D-9776-E75BD17B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2D39-B1F0-46FC-94E7-0D4456F4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1DE-2659-4229-9458-4586F28D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04BC-ACDD-4036-872D-23D619DD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8E49-66CA-463B-987C-120B373F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6E5C-53DD-4AA1-8F9B-A23179A6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D6CA-BE5C-4139-AD22-7147891C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69CB-E734-46B9-AC6E-50F64BBE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41C-0C5C-4B1E-9ADF-661FF8B3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33F-BF5A-4248-A6A7-84B73B0F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6B0-9E88-4C17-ADE8-DA2ECFC2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90A-E6F1-4136-94B5-87175886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125-FDB3-4B97-B33C-73C91155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87D-1C1F-4F56-8A46-F1B2DC33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676-D664-4368-BEF7-4FA0718B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8794-1182-4FD4-BF05-07B1C98F66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297E-0B2C-42AD-8020-50DC960752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artina Hanák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reza Bárt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reza Obšil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efini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hodnoty, názory a předpoklady, které existují v organ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ovaný způsob vnímání, odvozený z názorů a hod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u nás věci dělají…to, co je pro organizaci typické, její zvyky, převládající post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znik a vývoj organizační kultu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u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va hlavní princip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kce úzk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zitivní posil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vky organizační kultur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předpo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y ch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ky a mý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yky, rituály a ceremoni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din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mní architektura a vybav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Faktory ovlivňující kulturu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odní k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ské a tržní prostře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kladatel/vůd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ikost a délka existence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íly kultury a výkonnos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ná kultura:charakteristická svojí vyhraněností, stabilitou a vysokou mírou sdílení a respektování předpokladů hodnot a n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h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lad ve vnímání a myšlení pracov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měrňuje chování li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ílení společných hodnot a cí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výhody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uje organizaci na minulou 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braňuje myšlení v alternativ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ůsobuje rezistenci vůči změná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oužitá literatura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ášová, R., Nový, I. : Organizační kultura. Praha: Grada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ý, I., Schroll-Machl, S.: Interkulturní komunikace v řízení a podnikání. Praha: Management Press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žek, L. : Management II: Průvodce stud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0:15:06Z</dcterms:created>
  <dc:creator>Franta Konopásek</dc:creator>
  <dc:description/>
  <dc:language>en-US</dc:language>
  <cp:lastModifiedBy>Franta Konopásek</cp:lastModifiedBy>
  <dcterms:modified xsi:type="dcterms:W3CDTF">2006-11-13T10:40:34Z</dcterms:modified>
  <cp:revision>2</cp:revision>
  <dc:subject/>
  <dc:title>Organizační kultura</dc:title>
</cp:coreProperties>
</file>