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466DB-55EF-4685-B3B2-B03C96A4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6F912-E516-4841-A6AC-62F3962F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F82E8-AD6E-4C2F-95C3-FA235438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F5E5C-387F-450D-9FD6-47F699CC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9D83-C053-46C9-A35B-B1D181AF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F68A-4CB7-4F42-890A-8C6D1B31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8CD0-2D7C-4315-B109-C19AA937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A359-0652-45C3-808A-A9564FBB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1253-8470-4CFD-846F-D46A7B47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257A-C86F-47B1-8B3C-4C6150E7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CA4C-1449-4F22-AE2F-96099CC9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9B878-A228-4A4C-BB43-1C9684F2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94AD-2DBC-4282-A045-0755D758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3821-457A-4120-AA7D-7DFABBFC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9031-F6A1-4458-8254-18AAEAEE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4472-54F5-4ABC-839B-4B45FBA3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D69E-BCEB-4317-B7D1-BB1B3D6E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226CD-4003-40F1-9DA3-CC60CEA8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DF3FA-1E72-44C3-BFB7-33B46E79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AB687-5BC9-4173-BF35-713E9E51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B5B19-A827-433D-B3B4-51B2D950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E0ABB0-A46D-430C-A0BD-A9CC1CEA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AC397-0CA2-4DF1-821E-A0520309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B253C-7A60-4B6E-BA87-3C6E662F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432B2-6DD9-4909-8C8A-9096C114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F2E8B-F485-4763-B924-074534AE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C2FF2-093D-4960-9C39-36F1E9DA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FD159-FCDE-4187-83FB-C871BDCF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A27956-9FE6-40C9-BB5B-B859759F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0CE10-DC6F-42CA-ADEF-1CAB3F6D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C953D-66BB-4370-B001-247A485F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CC91E-8CA1-42D5-9266-EDE3BEB3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8CF82-642F-4B8B-9B67-016E8B0A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B115F-E6D8-4C02-99EB-76216B8D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13224-2598-4875-AD59-F9A01D11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90CD9-EE38-4BCD-8A0F-4481EBAA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94C73-A348-4E82-A8A5-9310633B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8A422-893C-4AC7-A335-7BBC3EB1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76EC5-0988-4949-9EC2-8082ECDA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85676-243F-4E10-A2C1-51A978CA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F8D07-5400-46B3-8943-536F53FC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60F08-28A6-4E38-B13C-B88B99C0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97CDE-0B72-4F73-9A10-33AB249E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30FB3-4DDC-4517-9DBA-E4ECAA4B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ED1E6-C2A1-4986-A9DF-2A91515B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316E3-BB88-4C39-A8DE-7655B505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E6615-F44B-42FF-903A-09F8037E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883B8-FF7F-4B12-B605-D82630A9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1140E-99B7-4EEA-BB6D-74F46CFD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1DAE9-E8EB-4780-B9BE-5A0D5306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09F0C-2678-4663-AE62-190509B7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DE2D8-6EC5-4247-AC90-5F687157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AAC32-5E33-46C7-8D42-705C17CD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738D8-729C-485B-B260-0AC93183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B7E24-D429-4A8E-BE30-0725068A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B52AE-95DE-413C-9BAE-6090FBB9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7EF48-83DF-4027-97DC-63EBE651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2F9BF-E2B1-401C-9F0F-127FF970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CB7E7-443A-44D8-B17B-69460E9F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04DE8-B0E2-4188-8130-976FCF3E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7FD4-76A4-4B53-A4E2-2B0B8911CA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F274-A9BE-46C4-94DC-4B9F95084D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F059-ED89-4C23-A3A1-0C21DDDD9BC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2F64-8856-4F05-B1F4-1D96AA20031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B632-2145-4D79-8EE6-BAE197D2A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200" spc="-1" strike="noStrike">
                <a:solidFill>
                  <a:srgbClr val="ffffcc"/>
                </a:solidFill>
                <a:latin typeface="Garamond"/>
              </a:rPr>
              <a:t>Toffler </a:t>
            </a:r>
            <a:r>
              <a:rPr b="1" i="1" lang="cs-CZ" sz="2500" spc="-1" strike="noStrike">
                <a:solidFill>
                  <a:srgbClr val="ffffcc"/>
                </a:solidFill>
                <a:latin typeface="Garamond"/>
              </a:rPr>
              <a:t>vs.</a:t>
            </a:r>
            <a:r>
              <a:rPr b="1" i="1" lang="cs-CZ" sz="4200" spc="-1" strike="noStrike">
                <a:solidFill>
                  <a:srgbClr val="ffffcc"/>
                </a:solidFill>
                <a:latin typeface="Garamond"/>
              </a:rPr>
              <a:t> McDonaldiza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43280" y="3938400"/>
            <a:ext cx="404352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Zpracoval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Jiří Gaw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Lenka Říh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Jana Škvařil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787320" y="1600200"/>
            <a:ext cx="2900520" cy="4356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352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Úv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Tofflerovy vlny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1. vl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2. vl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aramond"/>
              </a:rPr>
              <a:t>3. vln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851280" y="2276640"/>
            <a:ext cx="475128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3. vl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výrobní fakto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nehmotné hodno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demasifik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prá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inov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měřítk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organiz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systémová integr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infrastruktu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aramond"/>
              </a:rPr>
              <a:t>zrychlen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992840" y="1628640"/>
            <a:ext cx="334800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4400" spc="-1" strike="noStrike">
                <a:solidFill>
                  <a:srgbClr val="000000"/>
                </a:solidFill>
                <a:latin typeface="Garamond"/>
              </a:rPr>
              <a:t>McDonald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550872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charakteristika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hlavní zna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efektiv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vypočita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předpovědite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aramond"/>
              </a:rPr>
              <a:t>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aramond"/>
              </a:rPr>
              <a:t>iracionalita rac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2438640" cy="19051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726160" y="2422440"/>
            <a:ext cx="26636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Zamyšlen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egmentace x unifikace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ypočitatelnost?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iracionalita racionality, prostor pro inovace?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budoucnost franšízy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140360" y="2135160"/>
            <a:ext cx="2912760" cy="29131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 rot="444000">
            <a:off x="6948000" y="836640"/>
            <a:ext cx="16272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6000" spc="-1" strike="noStrike">
                <a:solidFill>
                  <a:srgbClr val="e5e5ff"/>
                </a:solidFill>
                <a:latin typeface="Garamond"/>
              </a:rPr>
              <a:t>Děkujeme za pozornost…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e5e5ff"/>
                </a:solidFill>
                <a:latin typeface="Garamond"/>
              </a:rPr>
              <a:t>Použitá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offler, A., Tofflerová, H.: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Nová civilizace (Třetí vlna a její důsledky)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Praha 2001, Nakladatelství Dokořán, 125 s., ISBN 80-86569-00-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Ritzer, G.: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McDonaldizace společ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Praha 1996, Academia, 176 s., ISBN 80-20005-71-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0:43:13Z</dcterms:created>
  <dc:creator>Jana Skvarilova</dc:creator>
  <dc:description/>
  <dc:language>en-US</dc:language>
  <cp:lastModifiedBy>Jana Skvarilova</cp:lastModifiedBy>
  <dcterms:modified xsi:type="dcterms:W3CDTF">2006-10-16T11:56:07Z</dcterms:modified>
  <cp:revision>33</cp:revision>
  <dc:subject/>
  <dc:title>Snímek 1</dc:title>
</cp:coreProperties>
</file>