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386-C9A3-4EC7-B582-64D24DBC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F7F-7AE1-49EC-A434-9C6EBDD8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24F-32A8-4993-9F66-D64F0D0C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9AE-4000-4FF6-95E8-D38CF0C4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4E7B-D788-4619-AAFA-9B4A1A10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27DA-A844-4CEA-9070-9B053FCA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1660-8A7C-42DD-A3AF-00EA1504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0B45-0332-4E53-BD7B-F4176A1E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4852-5D7A-4E39-AA6E-4DB77636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CECB-05BE-44ED-BFFE-383BC13B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DA08-8531-4688-8C73-A8F26431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AC8-7FB3-408C-8669-BB26B944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CE67-FD4B-4485-9FC0-2351D128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AA3E-7C7F-411B-8D4C-04FFF6A8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9B92-91F4-4E24-B0AA-59048D83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DC2B-4D6B-4FEE-B8ED-C481E31B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88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88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080" y="3949200"/>
            <a:ext cx="274932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0BF4-235F-4437-A40F-A29C7A76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0827-49C9-4AE5-A928-1356A14C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96D-4914-4DA3-8D31-485DC9BD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DD1-BA8B-4886-84ED-0FAF48A6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82440"/>
            <a:ext cx="85392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B8F-B56F-45F4-9DFE-0A6B330F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CF1-044B-4B23-9F7D-0B67F07C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7480" y="394920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8D6-D24A-49B8-BF96-C1CFB877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599840"/>
            <a:ext cx="41670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200"/>
            <a:ext cx="853920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7177-3EEA-417B-B8E6-0D1603E8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16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98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680" y="6245280"/>
            <a:ext cx="2287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2878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8F46C8-78FA-4DED-AF9B-2D45F340C1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392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6840" y="1422360"/>
            <a:ext cx="9138240" cy="5433840"/>
            <a:chOff x="6840" y="1422360"/>
            <a:chExt cx="9138240" cy="54338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3400" cy="5433840"/>
              <a:chOff x="31680" y="1422360"/>
              <a:chExt cx="9113400" cy="54338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120" y="1771200"/>
                <a:ext cx="4467960" cy="334872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320" y="1771200"/>
                <a:ext cx="6294600" cy="375516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6680"/>
                <a:ext cx="9097920" cy="493092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3760" y="1817280"/>
                <a:ext cx="8748720" cy="438012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1680" y="1561680"/>
                <a:ext cx="1253880" cy="188676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0160" y="1422360"/>
                <a:ext cx="919080" cy="177264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3240" y="1536480"/>
                <a:ext cx="3921840" cy="380232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4800" y="1693440"/>
                <a:ext cx="2220480" cy="214092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5280" y="3223440"/>
                <a:ext cx="1992960" cy="128556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4920" y="5516640"/>
                <a:ext cx="4520160" cy="125064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38920" y="1463400"/>
                <a:ext cx="506160" cy="135540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2760" y="5662800"/>
                <a:ext cx="1024920" cy="62208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8840" y="3809160"/>
                <a:ext cx="4342320" cy="304704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6840" y="3642480"/>
              <a:ext cx="2187360" cy="2686680"/>
              <a:chOff x="6840" y="3642480"/>
              <a:chExt cx="2187360" cy="2686680"/>
            </a:xfrm>
          </p:grpSpPr>
          <p:sp>
            <p:nvSpPr>
              <p:cNvPr id="208" name=""/>
              <p:cNvSpPr/>
              <p:nvPr/>
            </p:nvSpPr>
            <p:spPr>
              <a:xfrm rot="6780000">
                <a:off x="101160" y="6157080"/>
                <a:ext cx="11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80000">
                <a:off x="55800" y="61538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80000">
                <a:off x="12600" y="6145920"/>
                <a:ext cx="118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000000">
                <a:off x="335880" y="61585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000000">
                <a:off x="293040" y="616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0000">
                <a:off x="244080" y="61650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40000">
                <a:off x="198000" y="6161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400000">
                <a:off x="579240" y="61365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400000">
                <a:off x="530280" y="6141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0000">
                <a:off x="482760" y="61491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60000">
                <a:off x="430560" y="6157080"/>
                <a:ext cx="10908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40000">
                <a:off x="819720" y="6073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0000">
                <a:off x="774000" y="60796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0000">
                <a:off x="725040" y="61034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0000">
                <a:off x="677160" y="61081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40000">
                <a:off x="1054080" y="59673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40000">
                <a:off x="1006200" y="59958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080000">
                <a:off x="960120" y="6013440"/>
                <a:ext cx="9936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0000">
                <a:off x="912960" y="6033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0000">
                <a:off x="1267200" y="58420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0000">
                <a:off x="1224720" y="5867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0000">
                <a:off x="1181880" y="5895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40000">
                <a:off x="1137600" y="5922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280000">
                <a:off x="1462680" y="56894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280000">
                <a:off x="1424520" y="57196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0000">
                <a:off x="1389600" y="5752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0000">
                <a:off x="1348560" y="57801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00000">
                <a:off x="1628640" y="551052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00000">
                <a:off x="1600200" y="5548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800000">
                <a:off x="1570320" y="558360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800000">
                <a:off x="1535400" y="562284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0000">
                <a:off x="1763280" y="532224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0000">
                <a:off x="1744560" y="5359680"/>
                <a:ext cx="108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20000">
                <a:off x="1722240" y="540108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20000">
                <a:off x="1687680" y="543276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80000">
                <a:off x="1856520" y="51163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40000">
                <a:off x="1842480" y="515772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20000">
                <a:off x="1828080" y="519876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20000">
                <a:off x="1807200" y="52408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0000">
                <a:off x="1918080" y="49154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02600" y="49550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01160" y="499428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40000">
                <a:off x="1883520" y="50342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880000">
                <a:off x="1931040" y="47080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20000">
                <a:off x="1932480" y="47469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20000">
                <a:off x="1932480" y="4785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00000">
                <a:off x="1930680" y="482688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0000">
                <a:off x="1913760" y="45133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40000">
                <a:off x="1921320" y="45464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40000">
                <a:off x="1926000" y="458460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60000">
                <a:off x="1930680" y="46267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40000">
                <a:off x="1847520" y="43293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20000">
                <a:off x="1864800" y="4371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20000">
                <a:off x="1877760" y="4407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20000">
                <a:off x="1893600" y="44391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80000">
                <a:off x="1744560" y="4174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40000">
                <a:off x="1766520" y="420156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60000">
                <a:off x="1790280" y="423612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60000">
                <a:off x="1810440" y="426312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40000">
                <a:off x="1608120" y="4031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40000">
                <a:off x="1641240" y="4061880"/>
                <a:ext cx="136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40000">
                <a:off x="1665360" y="40888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60000">
                <a:off x="1694160" y="41126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840" y="4070160"/>
                <a:ext cx="284760" cy="23904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600000">
                <a:off x="-340920" y="4978440"/>
                <a:ext cx="19404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40000">
                <a:off x="10440" y="4991040"/>
                <a:ext cx="1630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60000">
                <a:off x="1438560" y="3928320"/>
                <a:ext cx="12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60000">
                <a:off x="1474560" y="394884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60000">
                <a:off x="1512000" y="396504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00000">
                <a:off x="1543680" y="3986280"/>
                <a:ext cx="135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40000">
                <a:off x="1249560" y="38541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40000">
                <a:off x="1292760" y="386640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60000">
                <a:off x="1328040" y="3877200"/>
                <a:ext cx="127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60000">
                <a:off x="1367280" y="3896640"/>
                <a:ext cx="127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80000">
                <a:off x="1029960" y="38070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0000">
                <a:off x="1074240" y="38178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0000">
                <a:off x="1122120" y="382572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580000">
                <a:off x="1169280" y="383040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40000">
                <a:off x="800640" y="38048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0000">
                <a:off x="846360" y="38037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20000">
                <a:off x="89388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6980000">
                <a:off x="943200" y="379908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380000">
                <a:off x="566640" y="383472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60000">
                <a:off x="614160" y="382824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20000">
                <a:off x="666000" y="382248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40000">
                <a:off x="715680" y="3812400"/>
                <a:ext cx="1090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80000">
                <a:off x="330840" y="390456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60000">
                <a:off x="379800" y="388872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0000">
                <a:off x="425880" y="3872880"/>
                <a:ext cx="993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60000">
                <a:off x="465120" y="3857400"/>
                <a:ext cx="10944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0000">
                <a:off x="12600" y="40482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00000">
                <a:off x="104400" y="39996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60000">
                <a:off x="150480" y="397548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60000">
                <a:off x="192960" y="395964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20000">
                <a:off x="242280" y="3935880"/>
                <a:ext cx="997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40000">
                <a:off x="2880" y="5336280"/>
                <a:ext cx="11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300000">
                <a:off x="811440" y="551844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300000">
                <a:off x="58320" y="4441680"/>
                <a:ext cx="3826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40000">
                <a:off x="1111680" y="4527360"/>
                <a:ext cx="50112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880000">
                <a:off x="318960" y="621000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60000">
                <a:off x="75600" y="6208560"/>
                <a:ext cx="227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20000">
                <a:off x="573480" y="617544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236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780000">
                <a:off x="1063800" y="5991840"/>
                <a:ext cx="2088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89160" y="5850720"/>
                <a:ext cx="20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100000">
                <a:off x="1486440" y="5681520"/>
                <a:ext cx="208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00000">
                <a:off x="-25560" y="39794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80000">
                <a:off x="217800" y="3866040"/>
                <a:ext cx="20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0000">
                <a:off x="709560" y="3756240"/>
                <a:ext cx="21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280000">
                <a:off x="948960" y="3748680"/>
                <a:ext cx="237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40000">
                <a:off x="1172520" y="3792240"/>
                <a:ext cx="244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20000">
                <a:off x="1377720" y="386172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60000">
                <a:off x="1561320" y="39672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380000">
                <a:off x="1702800" y="4106880"/>
                <a:ext cx="273600" cy="1836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60000">
                <a:off x="1816920" y="426960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00000">
                <a:off x="1899000" y="445284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20000">
                <a:off x="1931040" y="4650480"/>
                <a:ext cx="2642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00000">
                <a:off x="1921320" y="4867560"/>
                <a:ext cx="263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20000">
                <a:off x="1785960" y="5293440"/>
                <a:ext cx="23688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00000">
                <a:off x="1649880" y="5497920"/>
                <a:ext cx="2210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7480" y="4977360"/>
                <a:ext cx="322560" cy="18972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120" y="4321800"/>
                <a:ext cx="142200" cy="12312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6600" y="4209480"/>
                <a:ext cx="159480" cy="14076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3880" y="5556600"/>
                <a:ext cx="131040" cy="12312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0040" y="4416840"/>
                <a:ext cx="142200" cy="11376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3440" y="4312440"/>
                <a:ext cx="142200" cy="13248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040" y="6086880"/>
                <a:ext cx="9000" cy="1872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4040" y="4057560"/>
                <a:ext cx="47160" cy="7596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040" y="6096240"/>
                <a:ext cx="56880" cy="10440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0000">
                <a:off x="1866600" y="5078160"/>
                <a:ext cx="254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20000">
                <a:off x="463320" y="3790080"/>
                <a:ext cx="218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2840" y="5668920"/>
                <a:ext cx="227520" cy="243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20000">
                <a:off x="981000" y="5632920"/>
                <a:ext cx="107640" cy="10872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4760" y="3975480"/>
                <a:ext cx="550440" cy="201312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20000">
                <a:off x="470880" y="4835880"/>
                <a:ext cx="349560" cy="27540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6880"/>
            <a:ext cx="77709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560" y="6248160"/>
            <a:ext cx="22842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2845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902CA-1622-4F2D-9743-2E5C99FA42F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6fa9b7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Organizační kultura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ylva Talpov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akub Vaně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dřej Vymaz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UKÁŠOVÁ, R., NOVÝ, I. a kol.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Organizační kultur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Praha : Grada, 2004. ISBN 80-247-0648-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Ý, I. a kol. 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Interkulturální management.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aha : Grada, 1996. ISBN 80-7169-260-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OVÝ, I., SCHROLL-MACHL, S. a kol. </a:t>
            </a:r>
            <a:r>
              <a:rPr b="0" i="1" lang="cs-CZ" sz="2800" spc="-1" strike="noStrike">
                <a:solidFill>
                  <a:srgbClr val="ffffff"/>
                </a:solidFill>
                <a:latin typeface="Tahoma"/>
              </a:rPr>
              <a:t>Interkulturni komunikace v řízení a podnikán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Praha : Management Press, 1999. ISBN 80-7261-009-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pecifický způsob organizce, realizace a rozvoje činnosti, objektivizovaný ve výsledcích fyzické a duševní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še, co človek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tvořil a přetvořil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během gener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ultura s přírodou koexistuje, ale neprolíná se s 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línání kultu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2340000"/>
            <a:ext cx="854064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ždá sociální skupina má svou vlastní kultu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upiny nejsou izolované =&gt; kultury nejsou izolovan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orba a ovlivňování kultury i díky vzájemnému prolín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 okruhy kultu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áboženský okruh – širší než národní kult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árodní okruh – historický kulturní fenomén, především 19. sto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kruh jednotlivých sociálních subjektů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odina, organizace, profesní skupin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rganizační 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působy interakce a komunikace mezi lid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sady, pravidla, sociální no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bor základních předpokladů, hodnot, postojů a norem ch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sou sdíleny v rámci organizace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07880"/>
                <a:tab algn="l" pos="8049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7680"/>
                <a:tab algn="l" pos="3265560"/>
                <a:tab algn="l" pos="3673440"/>
                <a:tab algn="l" pos="408132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2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vky organizační kultu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56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ákladní předpoklady - představy o fungování re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dnoty - člověkem považováno za důležit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stoje - pozitivní nebo negativní poc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rmy chování – nepsaná pravidla, zásady chová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česká podniková kultura pohledem německé kultu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improvizace a flexibili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nedůvěra vůči pravidlů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kvali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velkorysost, schopnost být nad věc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Tahoma"/>
              </a:rPr>
              <a:t>Doporučení německým podnikatelů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538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předpokládat splněné požadav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dat jasné požadavky – ale nechat i částečnou vol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sledek bude vždy trochu jiný než požadav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82440"/>
            <a:ext cx="85392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Americká versus česká kultu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4176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meričané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rientace na nejlepší výslede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ětší míra samostatn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naha zmiňovat své úspěc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4859280" y="1773360"/>
            <a:ext cx="417672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eši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spokojení i v průběhu prá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irektivní řízení, větší doh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ětší skromn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ndra</dc:creator>
  <dc:description/>
  <dc:language>en-US</dc:language>
  <cp:lastModifiedBy>ondra</cp:lastModifiedBy>
  <dcterms:modified xsi:type="dcterms:W3CDTF">2006-12-02T20:37:38Z</dcterms:modified>
  <cp:revision>1</cp:revision>
  <dc:subject/>
  <dc:title>SVĚT ZMĚN</dc:title>
</cp:coreProperties>
</file>