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348-BF8C-4EDD-A331-C4111AF7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437-8D42-4F45-ACBA-80A8BB57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F3B-3FD5-4124-AC0D-DCAF67C8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6C18-0F6E-48BA-8DA3-F9CB3680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CE53-75AD-461B-8B0A-F5957BF5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627D-EAB6-4A0B-8667-11E76681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C022-B894-4255-9766-F9702565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C350-F633-4952-A587-FAC2EDB3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A871-39FB-4328-A430-CD0699EA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F4FA-F73A-4065-95CD-79930258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E725-CA1B-4C23-85C9-24B6C6FB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1C1-2664-40D4-80D6-7ECEE413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7604-923F-4C04-8B61-9528F54D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8A708-3F39-4035-8B96-0F797B14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6FF2-479F-4ED5-814E-F101F6B5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8E49-9FB7-411A-8B75-8AB4024B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86D9-086E-4C24-99BE-59EA20AA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203-231A-46D9-A43B-D5FC9348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6C3-4146-4529-B1EB-20EE64AC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E25-FA3E-4236-9CCD-6A3B2BC7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680-1718-4C3D-BB61-41DBEB1C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7FF-6F03-4828-BFED-A244E808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30B-8EF5-4400-BD16-C07AE658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C34-1CC3-478E-97AA-CBE0EEB4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3632-89B4-49D1-A42E-0B4F92B8BD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4843-CFAD-4D06-A4D8-2846C59B36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ndence současného managemen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ým č.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Zdroj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Trune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ek, J. Hledání mana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erského kamene mudrc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</a:rPr>
              <a:t>ů</a:t>
            </a:r>
            <a:r>
              <a:rPr b="0" lang="cs-CZ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 pro moderní podnik 21. stol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ůvodce studiem Management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chmetterer, Bob. Skok do budouc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243792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voj manažerských metod, technik a nástrojů postupuje - zejména v posledních letech - neobyčejně rych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niky mají v běžném užívání téměř tři desítky hlavních manažerských met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stliže dovedeme k dokonalosti jednu, i když značně důležitou část systému podnikového řízení, ještě není zajištěno, aby celek dobře fungov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Úspěšné řešení musí být systémové a mělo by pokrýt komplexní systém říz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ba metody musí být výsledkem pečlivého zvažování. Je tedy spíše tvůrčím činem než reakcí na to, co se v managementu právě nos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om zcela výjimečně je schopna jedna metoda řešit komplexní problematiku efektivního modelu řízení konkrétního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Management změn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členil se jako samostatný termín v průběhu sedmdesátých let 20. stole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 managementu spočívající jednak v připravenosti reakcí na vnější či vnitřní podněty (pasivní aspekt) a jednak zaměřený na volbu předmětu změny, její pružnou přípravu, realizaci a využívání (aktivní aspek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ybrané přístupy managementu změn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orie úzkých mí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stupy trvalého zlepš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mingův zlepšovací cyklus PD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měry zvyšování produktivity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a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dnotová analý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ust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i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Bob Schmettere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rozen 19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USA,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ývalý předseda Euro RS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 s Intel, Opavia, KB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ílo: „Skok do budoucnost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Schmetterer,%2520Bob" descr=""/>
          <p:cNvPicPr/>
          <p:nvPr/>
        </p:nvPicPr>
        <p:blipFill>
          <a:blip r:embed="rId1"/>
          <a:stretch/>
        </p:blipFill>
        <p:spPr>
          <a:xfrm>
            <a:off x="5753160" y="0"/>
            <a:ext cx="33908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lineární myšlen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 pro všechny ino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kvivalent tvořiv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yšlení z bodu A (přes B) do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hdy vytlačeno lineár. myš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klad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st v Buenos A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ichard Branson – spol. Vi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alší znaky řízen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jímání neobvyklých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slexie jako zdroj nelineárního myšlení (tvořivo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ytváření genetických kop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mezení oblasti půs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zentace (tvořivá a efektiv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kok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xistuje žádný nezajímavý obor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no zbavit se předsu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bát se riskov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ýt připraven překročit hra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jovat proti průměr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mocnějšími propagátory značky jsou zákazníc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čiňte z klientů nedílnou součást tý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8:49:05Z</dcterms:created>
  <dc:creator>Nikos</dc:creator>
  <dc:description/>
  <dc:language>en-US</dc:language>
  <cp:lastModifiedBy>pc</cp:lastModifiedBy>
  <dcterms:modified xsi:type="dcterms:W3CDTF">2006-12-05T07:20:35Z</dcterms:modified>
  <cp:revision>18</cp:revision>
  <dc:subject/>
  <dc:title>Snímek 1</dc:title>
</cp:coreProperties>
</file>