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DD7A-2E39-482F-AEE5-4174A4D683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246B-0AEC-47CC-A2EE-274B1C0509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563D-0101-4304-9C93-AB141464B5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ě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5968-C99F-4111-96FF-EB53FEDB93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CSR je zkratkou anglického výrazu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Corporate Social Responsibility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, který do češtiny překládáme jako společenská odpovědnost firem.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V rámci šíření povědomí o konceptu CSR se členové Business Leaders Fora shodli na jeho jednotné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efinici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hap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BE11-A89C-440C-B44C-8E2BDA68E9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em se promítá paralelně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ve 3 rovinách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- ekonomické, environmentální (oblast životního prostředí) i sociální.</a:t>
            </a:r>
            <a:br>
              <a:rPr sz="1000"/>
            </a:b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Důležitým prvkem odpovědného podnikání je jeho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obrovol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Společensky odpovědná firma vyvíjí aktivity CSR nad rámec svých povinností vymezených zákonem.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Společenská odpovědnost firmy je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louhodobou záležitostí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. Budování odpovědné strategie a sledování přínosů je možné jen v delším časovém horizont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Začlenění principů CSR do denního fungování firmy, nakloněný vlastník i management konceptu CSR, zaměstnanci se ztotožňují s hodnotami firmy, vhodná komunikace CSR ven – to vše vytváří </a:t>
            </a:r>
            <a:r>
              <a:rPr b="1" lang="cs-CZ" sz="1000" spc="-1" strike="noStrike">
                <a:solidFill>
                  <a:srgbClr val="000000"/>
                </a:solidFill>
                <a:latin typeface="Arial"/>
              </a:rPr>
              <a:t>důveryhodnost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CSR aktiv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0C5-AE44-4170-9BF9-6ED167DA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497-A1BA-47C6-9E0F-F1A9E327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DBAE-FD96-402C-8AFC-BDF51903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F7DA-5961-4D55-9B1F-5CC1486A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120F-201A-4CF7-AE18-8843D639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434B-8975-4496-940F-6D4B6090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3C24-B95D-4207-93BA-D04274D9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1C7-2B86-454A-B0E8-2214CA93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4360" y="620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1E5-35E9-4F47-9543-0CAF49B7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B17-CC52-4F4E-9D7D-486D582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C24-8C77-40F7-A2F1-305C8234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AB1-E745-4412-B9C7-3B5B0C0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Rectangle 1030" descr=""/>
          <p:cNvPicPr/>
          <p:nvPr/>
        </p:nvPicPr>
        <p:blipFill>
          <a:blip r:embed="rId2"/>
          <a:stretch/>
        </p:blipFill>
        <p:spPr>
          <a:xfrm>
            <a:off x="457200" y="5715000"/>
            <a:ext cx="252396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1031"/>
          <p:cNvSpPr/>
          <p:nvPr/>
        </p:nvSpPr>
        <p:spPr>
          <a:xfrm flipV="1">
            <a:off x="468360" y="6597720"/>
            <a:ext cx="8351640" cy="39600"/>
          </a:xfrm>
          <a:prstGeom prst="line">
            <a:avLst/>
          </a:prstGeom>
          <a:ln w="38160">
            <a:solidFill>
              <a:srgbClr val="818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1032"/>
          <p:cNvSpPr/>
          <p:nvPr/>
        </p:nvSpPr>
        <p:spPr>
          <a:xfrm flipV="1">
            <a:off x="8820000" y="404640"/>
            <a:ext cx="0" cy="6120000"/>
          </a:xfrm>
          <a:prstGeom prst="line">
            <a:avLst/>
          </a:prstGeom>
          <a:ln w="31680">
            <a:solidFill>
              <a:srgbClr val="81890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Rectangle 1034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2881440" cy="7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1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2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3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4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5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6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7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8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19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0" Type="http://schemas.openxmlformats.org/officeDocument/2006/relationships/hyperlink" Target="http://web.ebscohost.com/ehost/viewarticle?data=dGJyMPPp44rp2%2FdV0%2Bnjisfk5Ie46bZMsae2T7ak63nn5Kx95uXxjL6nr0expq1Krqa0OLSwskq4q7I4v8OkjPDX7Ivf2fKB7eTnfLujr0qyprVQsqivSKTi34bls%2BOGpNrgVeDr5j7y1%2BVVv8SkeeyzsEuurq9Mr6qkfu3o63nys%2BSN6uLSffbq&amp;hid=119" TargetMode="External"/><Relationship Id="rId2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18903"/>
                </a:solidFill>
                <a:latin typeface="Arial"/>
              </a:rPr>
              <a:t>Corporate Social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5240" y="3428640"/>
            <a:ext cx="6472080" cy="23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Terezie Kouř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artina Pospíšilov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7.12.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000" y="1844280"/>
            <a:ext cx="81723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haritativní a podpůrné a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aměstnanecká prá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Řešení problémů v región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Etika podniká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Spolupráce podniků s neziskovými organizace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abb.cz/cawp/czabb016/b65f058198643775c1256cd200387aaa.asp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18903"/>
                </a:solidFill>
                <a:latin typeface="Arial"/>
              </a:rPr>
              <a:t>http://www.kb.cz/cs/com/profile/index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000" y="2349000"/>
            <a:ext cx="817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rojekty pro zvýšení povědomí o CS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Business Leaders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Informativního Centra Neziskových Organiz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Projekt AIE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hape 66561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Příklady CSR aktiv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Zdroj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rateg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&amp; Society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Th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ink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Between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Competitiv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Advantag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and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Corporate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Social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Responsibility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By: Porter, Michael E.; Kramer, Mark R.. Harvard Business Review, Dec2006, Vol. 84 Issue 12, p78-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SR and philanthropy. Caribbean Business, 9/28/2006, Vol. 34 Issue 38, p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nderson, Jerry W. - Corporate Social Responsibility: guidelines for top management. New York: Quorum Books,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http://www.marketingovenoviny.cz/index.php3?Action=View&amp;ARTICLE_ID=35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Společenská odpovědnost firem</a:t>
            </a:r>
            <a:br>
              <a:rPr sz="3200"/>
            </a:b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2000160"/>
            <a:ext cx="77724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Corporate Social Responsibility (CSR) neboli společenská odpovědnost firem představuje </a:t>
            </a:r>
            <a:r>
              <a:rPr b="1" lang="cs-CZ" sz="2400" spc="-1" strike="noStrike">
                <a:solidFill>
                  <a:srgbClr val="4d4d4d"/>
                </a:solidFill>
                <a:latin typeface="Arial"/>
              </a:rPr>
              <a:t>dobrovolný závazek firem chovat se v rámci svého fungování odpovědně k prostředí i společnosti, ve které podnikají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Rectangle 3075" descr=""/>
          <p:cNvPicPr/>
          <p:nvPr/>
        </p:nvPicPr>
        <p:blipFill>
          <a:blip r:embed="rId1"/>
          <a:stretch/>
        </p:blipFill>
        <p:spPr>
          <a:xfrm>
            <a:off x="2786040" y="4000680"/>
            <a:ext cx="38163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Trocha histor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rvní ucelený přístup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CSR – H.R.Bowen 1953 – Social Responsibilities of the Businessma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1971 Committee for Economic Development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– vztah mezi podnikem a společností jako smlouva mezi dvěma stranami (obsah se mění v ča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dobrovolného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CSR, přes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 povinné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k formě investice do budoucnos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posun od </a:t>
            </a:r>
            <a:r>
              <a:rPr b="1" lang="cs-CZ" sz="2600" spc="-1" strike="noStrike">
                <a:solidFill>
                  <a:srgbClr val="818903"/>
                </a:solidFill>
                <a:latin typeface="Arial"/>
              </a:rPr>
              <a:t>peněžní k nepeněžním</a:t>
            </a: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 formá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818903"/>
                </a:solidFill>
                <a:latin typeface="Arial"/>
              </a:rPr>
              <a:t> </a:t>
            </a:r>
            <a:r>
              <a:rPr b="1" lang="cs-CZ" sz="3500" spc="-1" strike="noStrike">
                <a:solidFill>
                  <a:srgbClr val="818903"/>
                </a:solidFill>
                <a:latin typeface="Arial"/>
              </a:rPr>
              <a:t>Koho se CSR týká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38559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Akcion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Věřitel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kazní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investo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4d4d4d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aměstna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ectangle 63491" descr=""/>
          <p:cNvPicPr/>
          <p:nvPr/>
        </p:nvPicPr>
        <p:blipFill>
          <a:blip r:embed="rId1"/>
          <a:stretch/>
        </p:blipFill>
        <p:spPr>
          <a:xfrm>
            <a:off x="6858000" y="285840"/>
            <a:ext cx="1571760" cy="1658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64000" y="2421000"/>
            <a:ext cx="468000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Dodav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ástupci státní s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NNO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818903"/>
                </a:solidFill>
                <a:latin typeface="Arial"/>
              </a:rPr>
              <a:t>4 nejčastější přístupy k C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Moral obl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License to ope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e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všechny čtyři jsou založeny na konfliktu mezi společností a podnikem nikoli na jejich vzájemné závisl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z ní vychází strategický přístup – integrace podniku a společ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je to v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louhodobém zájmu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revence možných problémů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dobrá reputa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firmy, lepší firemní image a posílení věrnosti značce</a:t>
            </a: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traktivita firmy pro kvalitní a talentované potenciální zaměst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výšená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loajal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duktivita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zaměstnanc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vyšší úroveň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pokoje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věrnosti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zákazníků a z ní plynoucí dlouhodobé vaz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odlišení se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od konkurence v očích spotřebitelů, konkurenční výho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8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úspory 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nákladů např. na ris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roti C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Nemaximalizuje se zisk – trpí akcionář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Zvýší se cena pro koncového zákazník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Efekt je těžko měřiteln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4d4d4d"/>
              </a:buClr>
              <a:buFont typeface="Arial"/>
              <a:buChar char="–"/>
            </a:pPr>
            <a:r>
              <a:rPr b="0" lang="cs-CZ" sz="2600" spc="-1" strike="noStrike">
                <a:solidFill>
                  <a:srgbClr val="4d4d4d"/>
                </a:solidFill>
                <a:latin typeface="Arial"/>
              </a:rPr>
              <a:t>Management nemá kompetence k řešení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Co přij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alší vývoj záleží na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změnách hodnot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např. trvale udržitelný rozv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důležité je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integrovat CSR přímo do strategi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společnosti (spojení s core business interest, nalezení shar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ěla by to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promyšlená investice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do budoucího přežití pod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usí být </a:t>
            </a:r>
            <a:r>
              <a:rPr b="1" lang="cs-CZ" sz="2400" spc="-1" strike="noStrike">
                <a:solidFill>
                  <a:srgbClr val="818903"/>
                </a:solidFill>
                <a:latin typeface="Arial"/>
              </a:rPr>
              <a:t>sdílená všemi</a:t>
            </a: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 pracovníky od top managementu až po nejnižší úrove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400" spc="-1" strike="noStrike">
                <a:solidFill>
                  <a:srgbClr val="818903"/>
                </a:solidFill>
                <a:latin typeface="Arial"/>
              </a:rPr>
              <a:t>Pár čísel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86% velkých a mezinárodních společností zahrnuje CSR ve svém dlouhodobém plánu a komunikačních strategi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Oblast jejich zájmu: sociální, zdravotní sféra, vzdělávání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58% malých podniků podporuje volnočasové aktivity a 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Nezahrnuje CSR ve svých komunikačních aktivitá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"/>
              </a:rPr>
              <a:t>Krátkodob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Podle Institute of Business Ethics mají společnosti praktikující CSR o 18% vyšší z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8T20:42:25Z</dcterms:created>
  <dc:creator>Zuzana Kubíková</dc:creator>
  <dc:description/>
  <dc:language>en-US</dc:language>
  <cp:lastModifiedBy>1</cp:lastModifiedBy>
  <dcterms:modified xsi:type="dcterms:W3CDTF">2006-12-06T18:24:56Z</dcterms:modified>
  <cp:revision>132</cp:revision>
  <dc:subject/>
  <dc:title>Manager Shadowing Program</dc:title>
</cp:coreProperties>
</file>