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9D82E-8393-4A07-A696-7313FDC4B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24AA5-CB9D-41A1-8D38-6F0286A6E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90DA5-56AA-4B7F-866B-BF8574958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37D30-1601-4115-A75D-403D72A1E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DDA3D-5EE5-424B-BC3D-AAFD67FD47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436D0-074A-4233-835D-C5CF20EF2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1BEF0-8918-42CC-8431-5B65C1CCA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BF7F2-022B-402B-96C5-61439891E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972F6-C7F4-4AAA-AD20-7335766E4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F6DA9-238B-48E3-BD5B-A5C3A71CD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BC413-90F4-4A84-81EF-65D72A34E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290A0-7AF2-4711-B5E6-4DD68AD07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11AE2-3F60-4EDD-8AD9-7A4548D35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E5077-0B54-4AF5-994B-B80A5C09C4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D9D48B-97F4-4A0E-9472-8D1374E48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BD0166-6203-4ADE-8BE7-0A7F1324F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34D6ED-13C1-4D6E-9017-BC43DF6BAD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2420A-04B8-46D5-AC71-77B116D0B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20DD2-34AE-4DDC-A36A-6E1FD6AFF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58363-947D-4022-9E0A-ABD43595E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1FCF2-A4E2-4617-9191-FEE1E654C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B639B-06D2-4BA4-B4BF-FE7817BA6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02D47-4B17-4554-ADCB-A41A26AEA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65032-F17C-4D57-945B-336EB3E59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D7785-F7E7-4C47-9478-EDC7DCD256CD}"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AFA1-0AF6-429F-9255-AE3B7D886F8B}"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transparency.cz/index.php?lan=cz&amp;id=2802" TargetMode="External"/><Relationship Id="rId2" Type="http://schemas.openxmlformats.org/officeDocument/2006/relationships/hyperlink" Target="http://www.transparency.cz/index.php?lan=cz&amp;id=2802" TargetMode="External"/><Relationship Id="rId3" Type="http://schemas.openxmlformats.org/officeDocument/2006/relationships/hyperlink" Target="http://www.transparency.cz/index.php?lan=cz&amp;id=2802" TargetMode="External"/><Relationship Id="rId4" Type="http://schemas.openxmlformats.org/officeDocument/2006/relationships/hyperlink" Target="http://www.transparency.cz/index.php?lan=cz&amp;id=2802" TargetMode="External"/><Relationship Id="rId5" Type="http://schemas.openxmlformats.org/officeDocument/2006/relationships/hyperlink" Target="http://www.transparency.cz/index.php?lan=cz&amp;id=2802" TargetMode="External"/><Relationship Id="rId6" Type="http://schemas.openxmlformats.org/officeDocument/2006/relationships/hyperlink" Target="http://www.transparency.cz/index.php?lan=cz&amp;id=2802" TargetMode="External"/><Relationship Id="rId7" Type="http://schemas.openxmlformats.org/officeDocument/2006/relationships/hyperlink" Target="http://www.transparency.cz/index.php?lan=cz&amp;id=2802" TargetMode="External"/><Relationship Id="rId8" Type="http://schemas.openxmlformats.org/officeDocument/2006/relationships/hyperlink" Target="http://www.transparency.cz/index.php?lan=cz&amp;id=2802" TargetMode="External"/><Relationship Id="rId9" Type="http://schemas.openxmlformats.org/officeDocument/2006/relationships/hyperlink" Target="http://www.transparency.cz/index.php?lan=cz&amp;id=2802" TargetMode="External"/><Relationship Id="rId10" Type="http://schemas.openxmlformats.org/officeDocument/2006/relationships/hyperlink" Target="http://www.bestpractices.cz/praktiky/ETIKA_V_PODNIKANI/etika_v_podnikani_text_teorie.doc" TargetMode="External"/><Relationship Id="rId11" Type="http://schemas.openxmlformats.org/officeDocument/2006/relationships/hyperlink" Target="http://www.bestpractices.cz/praktiky/ETIKA_V_PODNIKANI/etika_v_podnikani_text_teorie.doc" TargetMode="External"/><Relationship Id="rId12" Type="http://schemas.openxmlformats.org/officeDocument/2006/relationships/hyperlink" Target="http://www.bestpractices.cz/praktiky/ETIKA_V_PODNIKANI/etika_v_podnikani_text_teorie.doc" TargetMode="External"/><Relationship Id="rId13" Type="http://schemas.openxmlformats.org/officeDocument/2006/relationships/hyperlink" Target="http://www.bestpractices.cz/praktiky/ETIKA_V_PODNIKANI/etika_v_podnikani_text_teorie.doc" TargetMode="External"/><Relationship Id="rId14" Type="http://schemas.openxmlformats.org/officeDocument/2006/relationships/hyperlink" Target="http://www.bestpractices.cz/praktiky/ETIKA_V_PODNIKANI/etika_v_podnikani_text_teorie.doc" TargetMode="External"/><Relationship Id="rId15" Type="http://schemas.openxmlformats.org/officeDocument/2006/relationships/hyperlink" Target="http://www.bestpractices.cz/praktiky/ETIKA_V_PODNIKANI/etika_v_podnikani_text_teorie.doc" TargetMode="External"/><Relationship Id="rId16" Type="http://schemas.openxmlformats.org/officeDocument/2006/relationships/hyperlink" Target="http://www.bestpractices.cz/praktiky/ETIKA_V_PODNIKANI/etika_v_podnikani_text_teorie.doc" TargetMode="External"/><Relationship Id="rId17" Type="http://schemas.openxmlformats.org/officeDocument/2006/relationships/hyperlink" Target="http://www.bestpractices.cz/praktiky/ETIKA_V_PODNIKANI/etika_v_podnikani_text_teorie.doc" TargetMode="External"/><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Manažerská etika</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Lenka Kotoulková</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Marie Kutílková</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Eleonóra Baculáková</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ODNIKATELSKÉ PROSTŘEDÍ V ČR</a:t>
            </a:r>
            <a:endParaRPr b="0" lang="en-US" sz="4000" spc="-1" strike="noStrike">
              <a:solidFill>
                <a:srgbClr val="dbbd71"/>
              </a:solidFill>
              <a:latin typeface="Arial"/>
            </a:endParaRPr>
          </a:p>
        </p:txBody>
      </p:sp>
      <p:sp>
        <p:nvSpPr>
          <p:cNvPr id="171" name="PlaceHolder 2"/>
          <p:cNvSpPr>
            <a:spLocks noGrp="1"/>
          </p:cNvSpPr>
          <p:nvPr>
            <p:ph/>
          </p:nvPr>
        </p:nvSpPr>
        <p:spPr>
          <a:xfrm>
            <a:off x="457200" y="1599840"/>
            <a:ext cx="815328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Výzkum etiky podnikání Transparency International (září 2005)</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Faktory ovlivňující podnikatelské prostředí v Č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2" name="" descr=""/>
          <p:cNvPicPr/>
          <p:nvPr/>
        </p:nvPicPr>
        <p:blipFill>
          <a:blip r:embed="rId1"/>
          <a:stretch/>
        </p:blipFill>
        <p:spPr>
          <a:xfrm>
            <a:off x="609480" y="5943600"/>
            <a:ext cx="1600200" cy="399960"/>
          </a:xfrm>
          <a:prstGeom prst="rect">
            <a:avLst/>
          </a:prstGeom>
          <a:ln w="0">
            <a:noFill/>
          </a:ln>
        </p:spPr>
      </p:pic>
      <p:graphicFrame>
        <p:nvGraphicFramePr>
          <p:cNvPr id="173" name=""/>
          <p:cNvGraphicFramePr/>
          <p:nvPr/>
        </p:nvGraphicFramePr>
        <p:xfrm>
          <a:off x="3809880" y="3200400"/>
          <a:ext cx="3809880" cy="2797200"/>
        </p:xfrm>
        <a:graphic>
          <a:graphicData uri="http://schemas.openxmlformats.org/drawingml/2006/table">
            <a:tbl>
              <a:tblPr/>
              <a:tblGrid>
                <a:gridCol w="1904760"/>
                <a:gridCol w="19051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RZDÍ</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ODPORUJ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730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gislativ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pora zahraničních firem</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aně</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ízká vymahatelnost práv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korupční prostředí</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gislativa</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dravý trh</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úroveň obchodního styku</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říklad neetického chování ve veřejných zakázkách</a:t>
            </a:r>
            <a:endParaRPr b="0" lang="en-US" sz="40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Důkaz samozřejmě žádný nemám, ale… zúčastnili jsme se řady výběrových řízení a nikdy jsme zakázku nedostali, i když jsem přesvědčen, že jsme mnohdy nabídli daleko lepší podmínky než konkurence - finanční i z hlediska kvality naší práce… často jsou podmínky výběrového řízení nastaveny tak, že už je dopředu jasné, kdo ho vyhraje, že už je to předem rozhodnuto a výběrové řízení je jen nutná formalita…“</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mohou tam být prostě náznaky, proaktivní náznaky pro neetické chování ze strany státní správy…“</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když je zakázka přímo ušitá přímo na dodavatele…. ty podmínky jsou nastavené tak, že tomu vyhoví ten dodavatel, udělá, ví, jak to vypracovat…“</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ffffff"/>
                </a:solidFill>
                <a:latin typeface="Tahoma"/>
              </a:rPr>
              <a:t>„…</a:t>
            </a:r>
            <a:r>
              <a:rPr b="0" i="1" lang="cs-CZ" sz="2000" spc="-1" strike="noStrike">
                <a:solidFill>
                  <a:srgbClr val="ffffff"/>
                </a:solidFill>
                <a:latin typeface="Tahoma"/>
              </a:rPr>
              <a:t>už je zadání šité na míru někomu, aby bylo předem jasné, že potenciální konkurenti to nemohou nikdy splnit, že vypsali takové omezující podmínky, že vědí, že nikdo jiný takový produkt nemá, než ta firma, takže už tím pádem vyhrála dopředu…“</a:t>
            </a:r>
            <a:endParaRPr b="0" lang="en-US" sz="2000" spc="-1" strike="noStrike">
              <a:solidFill>
                <a:srgbClr val="ffffff"/>
              </a:solidFill>
              <a:latin typeface="Tahoma"/>
            </a:endParaRPr>
          </a:p>
        </p:txBody>
      </p:sp>
      <p:pic>
        <p:nvPicPr>
          <p:cNvPr id="176" name="" descr=""/>
          <p:cNvPicPr/>
          <p:nvPr/>
        </p:nvPicPr>
        <p:blipFill>
          <a:blip r:embed="rId1"/>
          <a:stretch/>
        </p:blipFill>
        <p:spPr>
          <a:xfrm>
            <a:off x="609480" y="5943600"/>
            <a:ext cx="1600200" cy="399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říklad neetického chování ve veřejných zakázkách</a:t>
            </a:r>
            <a:endParaRPr b="0" lang="en-US" sz="4000" spc="-1" strike="noStrike">
              <a:solidFill>
                <a:srgbClr val="dbbd71"/>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 veřejné zakázce bývá podle manažerů nejčastěji rozhodnuto ještě před vyhlášením výběrového řízení. Výběrové řízení se pak realizuje jako formální. Postup je asi následující:</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 základě osobních kontaktů je vybrán realizátor zakázky.</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sou připraveny podklady pro výběrové řízení, pravděpodobně ve spolupráci s budoucím realizátorem zakázky.</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dmínky pro realizaci zakázky jsou nastaveny tak, aby jim mohl vyhovět pouze předem vybraný uchazeč</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ěhne výběrové řízení, formálně dodržující nařízení dle zákona o veřejných zakázkách.</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79" name="" descr=""/>
          <p:cNvPicPr/>
          <p:nvPr/>
        </p:nvPicPr>
        <p:blipFill>
          <a:blip r:embed="rId1"/>
          <a:stretch/>
        </p:blipFill>
        <p:spPr>
          <a:xfrm>
            <a:off x="609480" y="5943600"/>
            <a:ext cx="1600200" cy="399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říklady neetického chování firem</a:t>
            </a:r>
            <a:endParaRPr b="0" lang="en-US" sz="4000" spc="-1" strike="noStrike">
              <a:solidFill>
                <a:srgbClr val="dbbd71"/>
              </a:solidFill>
              <a:latin typeface="Arial"/>
            </a:endParaRPr>
          </a:p>
        </p:txBody>
      </p:sp>
      <p:sp>
        <p:nvSpPr>
          <p:cNvPr id="181" name="PlaceHolder 2"/>
          <p:cNvSpPr>
            <a:spLocks noGrp="1"/>
          </p:cNvSpPr>
          <p:nvPr>
            <p:ph/>
          </p:nvPr>
        </p:nvSpPr>
        <p:spPr>
          <a:xfrm>
            <a:off x="533520" y="144756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Lákavé promo akce na výprodeje a pak nedostatek zboží na skladě</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a:t>
            </a:r>
            <a:r>
              <a:rPr b="0" lang="cs-CZ" sz="2000" spc="-1" strike="noStrike">
                <a:solidFill>
                  <a:srgbClr val="ffffff"/>
                </a:solidFill>
                <a:latin typeface="Tahoma"/>
              </a:rPr>
              <a:t>V akci“ nebo „-50%“ a naúčtují plnou cenu</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Mocnosti sliby chudým nedodržely…</a:t>
            </a:r>
            <a:endParaRPr b="0" lang="en-US" sz="20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ahoma"/>
              </a:rPr>
              <a:t>Zambii byl prominut dluh pěti miliard dolarů u Mezinárodního měnového fondu po loňské mamutí kampani Live 8, jež byla jednou z největších akcí na pomoc Africe v dějinách.</a:t>
            </a:r>
            <a:r>
              <a:rPr b="0" lang="cs-CZ" sz="1800" spc="-1" strike="noStrike">
                <a:solidFill>
                  <a:srgbClr val="ffffff"/>
                </a:solidFill>
                <a:latin typeface="Tahoma"/>
              </a:rPr>
              <a:t> </a:t>
            </a:r>
            <a:endParaRPr b="0" lang="en-US" sz="18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Nezisková organizace DATA: země G8 splnily jen odepsání dluhů nejchudším zemím.</a:t>
            </a:r>
            <a:endParaRPr b="0" lang="en-US" sz="1800" spc="-1" strike="noStrike">
              <a:solidFill>
                <a:srgbClr val="ffffff"/>
              </a:solidFill>
              <a:latin typeface="Tahoma"/>
            </a:endParaRPr>
          </a:p>
          <a:p>
            <a:pPr lvl="2" marL="1097280" indent="-21924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Rozvojovou pomoc (2010 má být 50 mld dolarů), navyšují jen polovičním tempem</a:t>
            </a:r>
            <a:endParaRPr b="0" lang="en-US" sz="1600" spc="-1" strike="noStrike">
              <a:solidFill>
                <a:srgbClr val="ffffff"/>
              </a:solidFill>
              <a:latin typeface="Tahoma"/>
            </a:endParaRPr>
          </a:p>
          <a:p>
            <a:pPr lvl="2" marL="1097280" indent="-21924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Tahoma"/>
              </a:rPr>
              <a:t>Otevření svých trhů produktům chudým zemědělcům z rozvojového světa: G8 selhaly</a:t>
            </a:r>
            <a:br>
              <a:rPr sz="1600"/>
            </a:br>
            <a:r>
              <a:rPr b="0" lang="cs-CZ"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Bývalý šéf Čepra uzavřel nevýhodné smlouvy </a:t>
            </a:r>
            <a:endParaRPr b="0" lang="en-US" sz="2000" spc="-1" strike="noStrike">
              <a:solidFill>
                <a:srgbClr val="ffffff"/>
              </a:solidFill>
              <a:latin typeface="Tahoma"/>
            </a:endParaRPr>
          </a:p>
          <a:p>
            <a:pPr lvl="1" marL="713160" indent="-27432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Tahoma"/>
              </a:rPr>
              <a:t>Smloouva na urč. Objem odebraných pohonných hmot Čepra od soukr. Pražské firmy.  Pokud ne, každý měsíc pokuta přes 100 mil. Kč</a:t>
            </a:r>
            <a:endParaRPr b="0" lang="en-US" sz="18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Krejčíř</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Bývalé kampeličky</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oužité zdroje</a:t>
            </a: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Průvodce studiem Management II, září 2005</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Transparency International (2005) Výzkum etiky podnikatelského prostředí v České republice </a:t>
            </a:r>
            <a:r>
              <a:rPr b="0" lang="en-GB" sz="2400" spc="-1" strike="noStrike">
                <a:solidFill>
                  <a:srgbClr val="ffffff"/>
                </a:solidFill>
                <a:latin typeface="Tahoma"/>
              </a:rPr>
              <a:t>&lt;</a:t>
            </a:r>
            <a:r>
              <a:rPr b="0" lang="cs-CZ" sz="2400" spc="-1" strike="noStrike" u="sng">
                <a:solidFill>
                  <a:srgbClr val="ffcc66"/>
                </a:solidFill>
                <a:uFillTx/>
                <a:latin typeface="Tahoma"/>
                <a:hlinkClick r:id="rId1"/>
              </a:rPr>
              <a:t>http://www.</a:t>
            </a:r>
            <a:r>
              <a:rPr b="0" lang="cs-CZ" sz="2400" spc="-1" strike="noStrike" u="sng">
                <a:solidFill>
                  <a:srgbClr val="ffcc66"/>
                </a:solidFill>
                <a:uFillTx/>
                <a:latin typeface="Tahoma"/>
                <a:hlinkClick r:id="rId2"/>
              </a:rPr>
              <a:t>transparency</a:t>
            </a:r>
            <a:r>
              <a:rPr b="0" lang="cs-CZ" sz="2400" spc="-1" strike="noStrike" u="sng">
                <a:solidFill>
                  <a:srgbClr val="ffcc66"/>
                </a:solidFill>
                <a:uFillTx/>
                <a:latin typeface="Tahoma"/>
                <a:hlinkClick r:id="rId3"/>
              </a:rPr>
              <a:t>.</a:t>
            </a:r>
            <a:r>
              <a:rPr b="0" lang="cs-CZ" sz="2400" spc="-1" strike="noStrike" u="sng">
                <a:solidFill>
                  <a:srgbClr val="ffcc66"/>
                </a:solidFill>
                <a:uFillTx/>
                <a:latin typeface="Tahoma"/>
                <a:hlinkClick r:id="rId4"/>
              </a:rPr>
              <a:t>cz</a:t>
            </a:r>
            <a:r>
              <a:rPr b="0" lang="cs-CZ" sz="2400" spc="-1" strike="noStrike" u="sng">
                <a:solidFill>
                  <a:srgbClr val="ffcc66"/>
                </a:solidFill>
                <a:uFillTx/>
                <a:latin typeface="Tahoma"/>
                <a:hlinkClick r:id="rId5"/>
              </a:rPr>
              <a:t>/index.</a:t>
            </a:r>
            <a:r>
              <a:rPr b="0" lang="cs-CZ" sz="2400" spc="-1" strike="noStrike" u="sng">
                <a:solidFill>
                  <a:srgbClr val="ffcc66"/>
                </a:solidFill>
                <a:uFillTx/>
                <a:latin typeface="Tahoma"/>
                <a:hlinkClick r:id="rId6"/>
              </a:rPr>
              <a:t>php</a:t>
            </a:r>
            <a:r>
              <a:rPr b="0" lang="cs-CZ" sz="2400" spc="-1" strike="noStrike" u="sng">
                <a:solidFill>
                  <a:srgbClr val="ffcc66"/>
                </a:solidFill>
                <a:uFillTx/>
                <a:latin typeface="Tahoma"/>
                <a:hlinkClick r:id="rId7"/>
              </a:rPr>
              <a:t>?lan=</a:t>
            </a:r>
            <a:r>
              <a:rPr b="0" lang="cs-CZ" sz="2400" spc="-1" strike="noStrike" u="sng">
                <a:solidFill>
                  <a:srgbClr val="ffcc66"/>
                </a:solidFill>
                <a:uFillTx/>
                <a:latin typeface="Tahoma"/>
                <a:hlinkClick r:id="rId8"/>
              </a:rPr>
              <a:t>cz</a:t>
            </a:r>
            <a:r>
              <a:rPr b="0" lang="cs-CZ" sz="2400" spc="-1" strike="noStrike" u="sng">
                <a:solidFill>
                  <a:srgbClr val="ffcc66"/>
                </a:solidFill>
                <a:uFillTx/>
                <a:latin typeface="Tahoma"/>
                <a:hlinkClick r:id="rId9"/>
              </a:rPr>
              <a:t>&amp;id=2802</a:t>
            </a:r>
            <a:r>
              <a:rPr b="0" lang="en-GB" sz="2400" spc="-1" strike="noStrike">
                <a:solidFill>
                  <a:srgbClr val="ffffff"/>
                </a:solidFill>
                <a:latin typeface="Tahoma"/>
              </a:rPr>
              <a:t>&gt;</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Hospodářské noviny (2006) „Bývalý šéf Čepra zatčen za podvod </a:t>
            </a:r>
            <a:r>
              <a:rPr b="0" lang="en-GB" sz="2400" spc="-1" strike="noStrike">
                <a:solidFill>
                  <a:srgbClr val="ffffff"/>
                </a:solidFill>
                <a:latin typeface="Tahoma"/>
              </a:rPr>
              <a:t>&lt;</a:t>
            </a:r>
            <a:r>
              <a:rPr b="0" lang="cs-CZ" sz="2400" spc="-1" strike="noStrike">
                <a:solidFill>
                  <a:srgbClr val="ffffff"/>
                </a:solidFill>
                <a:latin typeface="Tahoma"/>
              </a:rPr>
              <a:t>http://ekonomika.ihned.cz/1-10070860-18824250-001100_d-2c</a:t>
            </a:r>
            <a:r>
              <a:rPr b="0" lang="en-GB" sz="2400" spc="-1" strike="noStrike">
                <a:solidFill>
                  <a:srgbClr val="ffffff"/>
                </a:solidFill>
                <a:latin typeface="Tahoma"/>
              </a:rPr>
              <a:t>&gt;</a:t>
            </a:r>
            <a:endParaRPr b="0" lang="en-US" sz="2400" spc="-1" strike="noStrike">
              <a:solidFill>
                <a:srgbClr val="ffffff"/>
              </a:solidFill>
              <a:latin typeface="Tahoma"/>
            </a:endParaRPr>
          </a:p>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Libor Friedel (2006) Etika v podnikání: Databáze nejlepších praktik</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	</a:t>
            </a:r>
            <a:r>
              <a:rPr b="0" lang="en-GB" sz="2400" spc="-1" strike="noStrike">
                <a:solidFill>
                  <a:srgbClr val="ffffff"/>
                </a:solidFill>
                <a:latin typeface="Tahoma"/>
              </a:rPr>
              <a:t>&lt;</a:t>
            </a:r>
            <a:r>
              <a:rPr b="0" lang="cs-CZ" sz="2400" spc="-1" strike="noStrike" u="sng">
                <a:solidFill>
                  <a:srgbClr val="ffcc66"/>
                </a:solidFill>
                <a:uFillTx/>
                <a:latin typeface="Tahoma"/>
                <a:hlinkClick r:id="rId10"/>
              </a:rPr>
              <a:t>http://www.</a:t>
            </a:r>
            <a:r>
              <a:rPr b="0" lang="cs-CZ" sz="2400" spc="-1" strike="noStrike" u="sng">
                <a:solidFill>
                  <a:srgbClr val="ffcc66"/>
                </a:solidFill>
                <a:uFillTx/>
                <a:latin typeface="Tahoma"/>
                <a:hlinkClick r:id="rId11"/>
              </a:rPr>
              <a:t>bestpractices</a:t>
            </a:r>
            <a:r>
              <a:rPr b="0" lang="cs-CZ" sz="2400" spc="-1" strike="noStrike" u="sng">
                <a:solidFill>
                  <a:srgbClr val="ffcc66"/>
                </a:solidFill>
                <a:uFillTx/>
                <a:latin typeface="Tahoma"/>
                <a:hlinkClick r:id="rId12"/>
              </a:rPr>
              <a:t>.</a:t>
            </a:r>
            <a:r>
              <a:rPr b="0" lang="cs-CZ" sz="2400" spc="-1" strike="noStrike" u="sng">
                <a:solidFill>
                  <a:srgbClr val="ffcc66"/>
                </a:solidFill>
                <a:uFillTx/>
                <a:latin typeface="Tahoma"/>
                <a:hlinkClick r:id="rId13"/>
              </a:rPr>
              <a:t>cz</a:t>
            </a:r>
            <a:r>
              <a:rPr b="0" lang="cs-CZ" sz="2400" spc="-1" strike="noStrike" u="sng">
                <a:solidFill>
                  <a:srgbClr val="ffcc66"/>
                </a:solidFill>
                <a:uFillTx/>
                <a:latin typeface="Tahoma"/>
                <a:hlinkClick r:id="rId14"/>
              </a:rPr>
              <a:t>/praktiky/ETIKA_V_PODNIKANI/etika_v_</a:t>
            </a:r>
            <a:r>
              <a:rPr b="0" lang="cs-CZ" sz="2400" spc="-1" strike="noStrike" u="sng">
                <a:solidFill>
                  <a:srgbClr val="ffcc66"/>
                </a:solidFill>
                <a:uFillTx/>
                <a:latin typeface="Tahoma"/>
                <a:hlinkClick r:id="rId15"/>
              </a:rPr>
              <a:t>podnikani</a:t>
            </a:r>
            <a:r>
              <a:rPr b="0" lang="cs-CZ" sz="2400" spc="-1" strike="noStrike" u="sng">
                <a:solidFill>
                  <a:srgbClr val="ffcc66"/>
                </a:solidFill>
                <a:uFillTx/>
                <a:latin typeface="Tahoma"/>
                <a:hlinkClick r:id="rId16"/>
              </a:rPr>
              <a:t>_text_teorie.</a:t>
            </a:r>
            <a:r>
              <a:rPr b="0" lang="cs-CZ" sz="2400" spc="-1" strike="noStrike" u="sng">
                <a:solidFill>
                  <a:srgbClr val="ffcc66"/>
                </a:solidFill>
                <a:uFillTx/>
                <a:latin typeface="Tahoma"/>
                <a:hlinkClick r:id="rId17"/>
              </a:rPr>
              <a:t>doc</a:t>
            </a:r>
            <a:r>
              <a:rPr b="0" lang="en-GB" sz="2400" spc="-1" strike="noStrike">
                <a:solidFill>
                  <a:srgbClr val="ffffff"/>
                </a:solidFill>
                <a:latin typeface="Tahoma"/>
              </a:rPr>
              <a:t>&gt;</a:t>
            </a:r>
            <a:endParaRPr b="0" lang="en-US" sz="24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hybné chápání manažerské etiky</a:t>
            </a:r>
            <a:endParaRPr b="0" lang="en-US" sz="40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Ne všichni manažeři mají jasno v tom, co je etika.</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ika není to, co mi mé pocity říkají, že je správné nebo špatné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Člověk nemusí udělat to, co je správné, jeho pocity se nemusí slučovat s tím, co je etické</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ika není o mém náboženském vyznání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boženství obhajují, co je etické, ale etika by se tak týkala jen věřících</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ýt etický neznamená chovat se podle zákona</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y nemusí být etické. Viz apartheid, otroctví </a:t>
            </a:r>
            <a:endParaRPr b="0" lang="en-US" sz="20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ika není soubor norem chování, které akceptuje naše společnost </a:t>
            </a:r>
            <a:endParaRPr b="0" lang="en-US" sz="2400" spc="-1" strike="noStrike">
              <a:solidFill>
                <a:srgbClr val="ffffff"/>
              </a:solidFill>
              <a:latin typeface="Tahoma"/>
            </a:endParaRPr>
          </a:p>
          <a:p>
            <a:pPr lvl="1" marL="743040" indent="-285840">
              <a:lnSpc>
                <a:spcPct val="8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rmy nemusí být etické. Např. nacistické Německ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 je etika</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vání založené na dobře založených normách z hlediska toho, co je správné a co špatné. </a:t>
            </a:r>
            <a:endParaRPr b="0" lang="en-US" sz="2800" spc="-1" strike="noStrike">
              <a:solidFill>
                <a:srgbClr val="ffffff"/>
              </a:solidFill>
              <a:latin typeface="Tahoma"/>
            </a:endParaRPr>
          </a:p>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pisuje ve formě zákonů, povinností, závazků, užitku pro společenství, čestnosti a dalších ctností, jak by se lidé měli chovat.</a:t>
            </a:r>
            <a:endParaRPr b="0" lang="en-US" sz="2800" spc="-1" strike="noStrike">
              <a:solidFill>
                <a:srgbClr val="ffffff"/>
              </a:solidFill>
              <a:latin typeface="Tahoma"/>
            </a:endParaRPr>
          </a:p>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ické normy nabádají k poctivosti, čestnosti, soucitu a loajalitě a jsou založeny na právu na život, soukromí a nápravu křivdy.</a:t>
            </a:r>
            <a:endParaRPr b="0" lang="en-US" sz="2800" spc="-1" strike="noStrike">
              <a:solidFill>
                <a:srgbClr val="ffffff"/>
              </a:solidFill>
              <a:latin typeface="Tahoma"/>
            </a:endParaRPr>
          </a:p>
          <a:p>
            <a:pPr marL="339480" indent="-3394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ické normy zabraňují loupeži, násilí, vraždě, napadání, urážkám, pomluvám a podvod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Rozpory v chápání přínosu společenské odpovědnosti podniku</a:t>
            </a: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Liberálové:</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Podnikatelé „dobrovolně“ se chovající společensky odpovědně nad rámec regulace trhem a státem a na úkor zisku =</a:t>
            </a:r>
            <a:r>
              <a:rPr b="0" lang="en-GB" sz="2400" spc="-1" strike="noStrike">
                <a:solidFill>
                  <a:srgbClr val="ffffff"/>
                </a:solidFill>
                <a:latin typeface="Tahoma"/>
              </a:rPr>
              <a:t>&gt;</a:t>
            </a:r>
            <a:r>
              <a:rPr b="0" lang="cs-CZ" sz="2400" spc="-1" strike="noStrike">
                <a:solidFill>
                  <a:srgbClr val="ffffff"/>
                </a:solidFill>
                <a:latin typeface="Tahoma"/>
              </a:rPr>
              <a:t>destabilizace trhu a kontraproduktivit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Podnikatelé se řídí ekonomickými cíly a jejich chování je usměrňováno „neviditelnou rukou trhu“</a:t>
            </a:r>
            <a:endParaRPr b="0" lang="en-US" sz="24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eeticky se chovající podnik by na trhu zanikl</a:t>
            </a:r>
            <a:endParaRPr b="0" lang="en-US" sz="20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A „viditelnou rukou státu“</a:t>
            </a:r>
            <a:endParaRPr b="0" lang="en-US" sz="2400" spc="-1" strike="noStrike">
              <a:solidFill>
                <a:srgbClr val="ffffff"/>
              </a:solidFill>
              <a:latin typeface="Tahoma"/>
            </a:endParaRPr>
          </a:p>
          <a:p>
            <a:pPr lvl="2" marL="1143000" indent="-228600">
              <a:lnSpc>
                <a:spcPct val="80000"/>
              </a:lnSpc>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Předpisy a zákony regulují neetické chování podniků</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Podnik, který se dobrovolně chová společensky odpovědně nad rámec regulace trhem a státem a na úkor zisku =</a:t>
            </a:r>
            <a:r>
              <a:rPr b="0" lang="en-GB" sz="2000" spc="-1" strike="noStrike">
                <a:solidFill>
                  <a:srgbClr val="ffffff"/>
                </a:solidFill>
                <a:latin typeface="Tahoma"/>
              </a:rPr>
              <a:t>&gt;</a:t>
            </a:r>
            <a:r>
              <a:rPr b="0" lang="cs-CZ" sz="2000" spc="-1" strike="noStrike">
                <a:solidFill>
                  <a:srgbClr val="ffffff"/>
                </a:solidFill>
                <a:latin typeface="Tahoma"/>
              </a:rPr>
              <a:t>destabilizace trhu a kontraproduktivita</a:t>
            </a:r>
            <a:endParaRPr b="0" lang="en-US" sz="20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dbbd71"/>
                </a:solidFill>
                <a:latin typeface="Arial"/>
              </a:rPr>
              <a:t>Postoj Friedmana</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Friedman jako uznávaný liberál:</a:t>
            </a:r>
            <a:endParaRPr b="0" lang="en-US" sz="3200" spc="-1" strike="noStrike">
              <a:solidFill>
                <a:srgbClr val="ffffff"/>
              </a:solidFill>
              <a:latin typeface="Tahoma"/>
            </a:endParaRPr>
          </a:p>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Není pro dosahování zisku „přes mrtvoly“, ale při dodržování zákona a „etických zvyklostí“</a:t>
            </a:r>
            <a:endParaRPr b="0" lang="en-US" sz="2800" spc="-1" strike="noStrike">
              <a:solidFill>
                <a:srgbClr val="ffffff"/>
              </a:solidFill>
              <a:latin typeface="Tahoma"/>
            </a:endParaRPr>
          </a:p>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Problém: co je „etická zvyklost“ (rozpor liberální ekonomové vs zastánci CSR (corporate social responsibility)</a:t>
            </a:r>
            <a:endParaRPr b="0" lang="en-US" sz="2800" spc="-1" strike="noStrike">
              <a:solidFill>
                <a:srgbClr val="ffffff"/>
              </a:solidFill>
              <a:latin typeface="Tahoma"/>
            </a:endParaRPr>
          </a:p>
          <a:p>
            <a:pPr lvl="1" marL="720720" indent="-2772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Říká, že se společenské odpovědnosti nesmí dosahovat způsobem, kdy jsou upřena práva jiných byť s ušlechtilým cíle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roč by se měl podnik chovat eticky</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Jakékoliv porušování morálních pravidel narušuje prostředí nezbytné pro podnikání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Právo nevysvětluje každou problémovou situaci a podnik se tak může  rozhodnout v souladu s etikou</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Vysoká konkurence na straně nabídky =</a:t>
            </a:r>
            <a:r>
              <a:rPr b="0" lang="en-GB" sz="2800" spc="-1" strike="noStrike">
                <a:solidFill>
                  <a:srgbClr val="ffffff"/>
                </a:solidFill>
                <a:latin typeface="Tahoma"/>
              </a:rPr>
              <a:t>&gt; </a:t>
            </a:r>
            <a:r>
              <a:rPr b="0" lang="cs-CZ" sz="2800" spc="-1" strike="noStrike">
                <a:solidFill>
                  <a:srgbClr val="ffffff"/>
                </a:solidFill>
                <a:latin typeface="Tahoma"/>
              </a:rPr>
              <a:t>spotřebitel si může vybírat. Odpovědný přístup k okolí se stává důležitou součástí hodnoty výrobku nebo služby</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rPr>
              <a:t>Čestné jednání považují podnikatelé za jeden z nejdůležitějších faktorů pro úspěšné podnikání.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Proč by se měl podnik chovat eticky</a:t>
            </a:r>
            <a:endParaRPr b="0" lang="en-US" sz="40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vání podniku k okolí (nebo jak je vnímán, že se chová) může mít velký vliv na jeho tržní postavení a finanční výsledky</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ravnost je obecným zájmem celé společnosti </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ždý ekonomický subjekt očekává etické chování ostatních účastníků ekonomických aktivit </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je považováno za amorální jednostranně odstoupit od vzájemných dohod a přitom očekávat, že ostatní je budou dodržovat </a:t>
            </a:r>
            <a:endParaRPr b="0" lang="en-US" sz="2800" spc="-1" strike="noStrike">
              <a:solidFill>
                <a:srgbClr val="ffffff"/>
              </a:solidFill>
              <a:latin typeface="Tahoma"/>
            </a:endParaRPr>
          </a:p>
          <a:p>
            <a:pPr marL="322200" indent="-3222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e společensky mravně neúnosné proklamativně se přihlásit k dodržování etických pravidel a pak je skrytě porušov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TICKÝ KODEX</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Je nástrojem institucionalizace etiky</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Zdá se, že bývá vytvořen po neetickém chování firmy</a:t>
            </a:r>
            <a:endParaRPr b="0" lang="en-US" sz="24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Kritiky etického kodexu:</a:t>
            </a:r>
            <a:endParaRPr b="0" lang="en-US" sz="24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ahoma"/>
              </a:rPr>
              <a:t>EK=mrhání časem i energií. Průmyslová výroba je regulována zákonem=</a:t>
            </a:r>
            <a:r>
              <a:rPr b="0" lang="cs-CZ" sz="2000" spc="-1" strike="noStrike">
                <a:solidFill>
                  <a:srgbClr val="ffffff"/>
                </a:solidFill>
                <a:latin typeface="Tahoma"/>
              </a:rPr>
              <a:t>postačující rámec pro každé podnikání</a:t>
            </a:r>
            <a:endParaRPr b="0" lang="en-US" sz="2000" spc="-1" strike="noStrike">
              <a:solidFill>
                <a:srgbClr val="ffffff"/>
              </a:solidFill>
              <a:latin typeface="Tahoma"/>
            </a:endParaRPr>
          </a:p>
          <a:p>
            <a:pPr lvl="1" marL="743040" indent="-28584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Tahoma"/>
              </a:rPr>
              <a:t>EK= cvičení v PR, mají malý vliv na chování podniků</a:t>
            </a:r>
            <a:r>
              <a:rPr b="0" lang="cs-CZ"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ahoma"/>
              </a:rPr>
              <a:t>Chování jednotlivců, ať ve vedení nebo na nejnižší úrovni, je určováno hodnotami osvojovanými si od dětství a ne nějakými psanými kodex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TICKÝ KODEX</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K má zajišťovat, aby každodenní aktivity podniku odpovídaly stanoveným zásadám.</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K=soubor konkrétních pravidel stanovené na základě hodnot a principů organizace</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tanovení EK slouží k prosazování etického chování a rozhodování a pomáhají tak zlepšovat:</a:t>
            </a:r>
            <a:endParaRPr b="0" lang="en-US" sz="28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středí v rámci podniku a tím i</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elé podnikatelské prostředí.</a:t>
            </a:r>
            <a:endParaRPr b="0" lang="en-US" sz="24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K nemá právní platnost, ale existují neprávní sank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06-12-04T17:25:38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