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6652-6150-44A3-9339-407664F5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620-1950-45DE-8B54-105A6471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F124-04C7-4EE4-B999-C932A45C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1F4-1B93-4E5C-9496-C33DB366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FB5A-97AE-4E60-AA83-C5870328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21C5-7F00-4AB0-A707-2829A39A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30B7-CD27-41D6-BE98-4B929536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C20D-EBAD-44BA-94B7-2354729F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8D22-70D0-4AF9-9097-A8B642C6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5ABB-DEFF-4176-8B89-F5836FCD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3A05-F739-4E1C-9CE6-F60B486E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93A-A007-4C69-BEA6-B5685CB0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17C4-10F9-457B-869A-13736BF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21BA-E66E-4041-955A-ED0F538F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AFA9-F9DA-4A3C-A09B-4B106271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948A-C222-44BE-B971-CB9288D8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3E6E-A94B-4A91-9BE9-407CBC72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A476-6CE2-4283-9850-3F95A61B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ECA71-D278-4032-838C-39FF8BDE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F512-A907-4A34-BAEE-B6E6C6F6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929A-24F8-45D0-BB77-54D071C9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9BC30-35A4-432D-84D4-CDCA02F7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191-73FF-441E-A1DD-98F668F7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F9E5-6257-4CDB-91A6-91D0A72F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988C6-DC6B-4815-9353-D18F4CD4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629F-ACE5-4522-A104-10BCB99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0C1D-53F6-418B-9035-C80A0BCC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AF9A2-6638-4FF8-8923-D068FDA4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1D60-FFD2-4F3A-868A-EF4A8523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44B3-BCC8-4077-A326-7E891C5A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3D8B2-A8D8-49D3-9F94-498E6C8E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9F68-B1FE-4470-9598-128EE650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505CF-678C-4CC3-BF21-E726B171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C69-7FA7-417F-9FDD-B765AF75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1C467-3C1C-4CD9-8D98-F82903F0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B42A3-54B5-4720-B788-B09F1FE5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F1DC5-C709-4BEE-876E-0EFED53A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8AA75-8403-4BBB-AB49-292051DD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63511-BF2F-4B14-B9DB-B2F24690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2208-C00B-4CE9-924A-A8B2731D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0444C-D5CA-45D7-83D8-28DC1B2F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6A146-FEBC-4D6B-89C0-B360669D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82A7D-F56B-42FF-8AE6-5398F034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4B3-16D9-42EB-BC94-DBE3DBF0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8733-5F61-4C01-B2B1-EC3D64E2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042-0200-466D-B36F-D4B5AD03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F0E-FE59-4F30-B5A7-9FB163D7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75B-2E81-4269-A3C2-C8BC0E89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9782-C9C5-48F9-BDBD-7B88BB3D9C4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826C-2BCE-4CD7-9FF1-5F862561165E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cifair_INSIDE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DCED-A50F-4460-AD14-33D30A85C11C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cifair_front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59F0-480F-4FE3-B2C3-815EF57B9077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ítě podniků –Japonské řídící systém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248520" y="51051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ichal Kozub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etr Novotný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liam Štefánik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1.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v čase konstan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Nedochází 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řetěžován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ýrobních faktorů, ale ani k jejich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zahál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Opak výroby „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lyn – brzda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rozdělena j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, t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druhů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yráběné produ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ůměruje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objednávky za určitou časovou periodu a rozděl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aždý den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je vyráběno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é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a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ý produktový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23C9-BEFE-4925-B3E2-5C059B1326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rovnán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705520" cy="5548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0" y="762120"/>
            <a:ext cx="0" cy="556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685800"/>
            <a:ext cx="0" cy="5791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A493-D22F-4129-B59E-EDEA6652CE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diční způsob výroby Obr.: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Nejvíce vyrábí ten druh výrobku, kterého potřebuje vyrobit nejví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 výrobě jiného druhu výrobku potřeba předělat lin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Tradiční způsob výrob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s sebou nese následující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oblém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ákazníci nekupují 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předvídatelně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, když bude chtít velké traktory počátkem týdne, musí si počkat do pátk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Riziko, že se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neprodá a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skonč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ve skla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evyrovnané užití přístroj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árazové objednávky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u dodavatel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106C3-1F23-4FCC-8DD5-4B16B96606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 Obr.: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Univerzální výrobní linka – odpadá potřeba přenastav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Linka je schopná produkovat různé typy traktorů v libovolném pořa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Tento systém má následující výhody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Systém schopný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ružně reagovat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ání zákazník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nižuje se riziko neprodaného zbož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Užití pracovní síly a strojů v čase j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konstant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– nedochází 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etěžová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nevyužití kapac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potřeba materiálu je předvídatelná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, po dodavatelích je vyžadováno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vnoměrné zásobován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Heijunk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omezuje plýtvání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tím, ž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zkládá požadavky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své pracovníky, strojní vybavení a dodavate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7DA5-BCB7-47C8-B272-6246F2BE82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4600" y="2666880"/>
            <a:ext cx="8456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Vznik v Toyo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aložen na tzv. signálních kartá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áklad tzv. pull systém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4C763-C578-4D5B-A416-5130F1E32E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Výhody Kanbanu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Jednoduché proc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skytuje rychlou a přesnou info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Nízké náklady spojené ze získáním inform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inimalizuje od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náší zodpovědnost na konkrétní zaměstnance ve výrob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F0742-7DBF-44C0-A5AE-0127A97D88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v Japonsk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odulární produk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Výrobní linky ve tvaru „U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reventivní údržba/maximální zabránění poruchám a vad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Hromadná výroba několika mode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D928-3C68-4432-BA2C-55B4D3FAF8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aždému materiálu je přiřazeno referenční čís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ombinace 10 písmen a čís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registrované v Shizai systému (systému evidence zásob a jejich dodavate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Při odběru ze skladu – automatická objednáv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Zamezení zbytečného objedn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F9EC-9B83-471A-A2AA-10B89A20C3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odavatel povinen potvrdit objednávku do 2 ho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ároveň tisk očekávané objednávky a příprava nové Kanban k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6DF8-0F65-4262-90A8-F77B26E8F3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kar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01000" cy="43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78101-9177-493C-9A7B-DFEAF98CAE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ítě podnik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měny organizačních strukt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Rozmach outsorcin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naha minimalizovat nák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pojování do sí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49568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3D57-4BCD-46CD-B395-87CF585F83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užitá literatu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 In Time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3 [cit. 2006-11-02]. Dostupný z WWW: &lt;http://www.prd.usp.br/disciplinas/docs/pro5760/JIT_HOPP&amp;SPEARMAN.pdf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OLSSON, Johan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-an Integrated JIT System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1996 [cit. 2006-11-02]. Dostupný z WWW: &lt;http://www.geocities.com/timessquare/1848/japan21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FUKSA, Radim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ový systém ve společnosti TPCA Czech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5 , 17.2.2005 [cit. 2006-11-04]. Dostupný z WWW: &lt;http://www.cvis.cz/index_cz.htm&gt;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JAKOUBKOVÁ, Iva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-in-time : přínosy, negativní stránky, uplatnění v praxi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. Brno, 2003. 37 s. Masarykova Univerzisa v Brně, Ekonomicko-správní fakulta. Vedoucí bakalářské práce Ing. Radoslav Škapa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McBRIDE, David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Heijunka : Leveling the Load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4 [cit. 2006-11-06]. Dostupný z WWW: &lt;http://www.emsstrategies.com/dm090804article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0820-5D5F-4E6D-81FE-157260E3CC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Times New Roman"/>
              </a:rPr>
              <a:t>Děkujeme za pozorno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CF66-FFA1-4531-9E6A-A38B13AC61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upply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hain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olupráce  podniků v určitých oblastech za ůčelem získání konkurenční výhod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Základy v japonském stylu ří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CM vs. kar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imalizace zisku cestou znižování nákladů prostř. koordinace a komunikace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78c6f"/>
                </a:solidFill>
                <a:latin typeface="Times New Roman"/>
              </a:rPr>
              <a:t>vs</a:t>
            </a:r>
            <a:r>
              <a:rPr b="0" lang="cs-CZ" sz="3200" spc="-1" strike="noStrike">
                <a:solidFill>
                  <a:srgbClr val="7beb8e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. zisku omezením konku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09A1-BF1E-402A-84CB-48E9C48616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4800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upply chain management – jen logistický o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" y="1752480"/>
            <a:ext cx="74592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Základní kámen SCM = „win-win“ situ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=spolupráce v co největší míř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maximální důvě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39625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7beb8e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D6401-5743-4105-88AA-4B60AD826B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části 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trategie držení zás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sun materiálů nebo výrobků (včetně fyzické manipulace, sběru, shromažďování a doprav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dpůrné procesy (marketing, výzkum a vývoj, zpracování objednávek, fakturace a přijímání plat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IT systémy  (e-busi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optimalizaci služeb zákazníků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výrobu produk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79AF-8036-4555-9CC3-004910D7BB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Just in ti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Cíl: minimalizace ztrát během celého procesu výro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ůsobí  na své okolí – stakehodl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Toyota Production System (T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even ze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D06B9-7F35-42CA-8623-6ECF778401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even zero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á zmetkovost (zero defect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seřizování (zero setup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zásoby(zero lot siz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á manipulace(zero handling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é přerušení (zero breakdown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dodávky(zero lead ti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kolísání (zero surf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6CDC-F2D1-4142-9491-63D6139A94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vky J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Heijun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 fixní množství vstupů a výstup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Jido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zaměstnancům zodpovědnost za produk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- pravomoc zastavit výrob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6F4B-2EBB-492D-B9B7-311C926139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he slower but consistent tortoise causes less waste and is much more desirable than the speedy hare that races ahead and then stops occasionally to doze“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04812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FB619-1A2E-48DB-A1F6-55AA30ED29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l Kozub</cp:lastModifiedBy>
  <dcterms:modified xsi:type="dcterms:W3CDTF">2006-11-06T22:58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