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5E8-23F4-48BA-B785-00ABEFAD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658-2721-44DF-B2B8-4B9934E4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33E-D222-48B4-B6AF-1862A28B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6A1-3864-4189-B0B8-7A0A6A99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314C-3BEB-4947-8D61-1D75968A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9820-415D-4B05-95C8-42A315B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31F7-12E3-4165-BEDA-6284EBD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9027-064C-4671-B5BF-27D27D56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F076-C5EC-459A-B6C1-1C02BFAB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A9CA-2AD9-4109-B484-A50D13D2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E14E-001C-4EEB-A215-19440F7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81A-4EC5-4B8B-971F-9E1B8823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0646-6E69-448E-B12F-F9F03C7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67E0-39FB-408A-ACEE-83EC70C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40FB-021E-481B-8B47-70A8F08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CE37-8893-4DFF-AB4B-37BC4907C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32D-02A7-4E42-8A78-3E309517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5FD-F81E-4808-A69D-35343503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D3F9-E235-4718-A318-BF31312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371-8364-469E-843D-27D96539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85B-1D57-4263-B708-AAEEA4D5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F21-2EA3-469D-84AE-552B0C1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F89-C430-467F-9C83-5926E461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9BD-222A-4FB4-AC7F-ADD0B0D4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EEA-C302-4F32-A261-FBFC39A23CB3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E513-B724-4A04-AAEA-70B2CC2C9E8D}" type="slidenum">
              <a:rPr b="0" lang="cs-CZ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Manažerská etika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ásady výstavby etického kodexu podniku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ko vodítko pro rozhodování slouží vždy deklarované hodnoty podniku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vnitřně konzistentní a souviset s posláním, cíli, strategií a politikou podniku. Měl by obsahovat jasně formulované priority, závazky a požadavky a srozumitelné vymezení etických rol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být přiměřený. Nemůže být příliš detailní ani příliš obecný. Práva, povinnosti a požadavky na chování zaměstnanců musí být vyvážen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tický kodex musí obsahovat mechanismus řešení konfliktů, jeho jasnou interpretaci a aplikaci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 v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i formulování obsahu etického kodexu by měla být respektována zásada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ostupu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 od obecného ke konkrétnímu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Záleží na vedení podniku, jaký etický kodex si vytvoří. Často je velmi obtížné stanovit rozsah a celkovou proporci obsahu kodexu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Etický kodex by měl být vždy </a:t>
            </a: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veřejně přístupný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 soustavu etických hodnot nelze najít univerzální schéma. Podstatné však je, aby si lidé v podniku díky kodexu lépe uvědomovali morální nároky a aby tyto nároky byly všeobecně přijatelné jako rozumné mantinely jejich práce, ne jako nástroj k omezování jejich svobod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Integrace etiky do strategického plánován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eze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ální kvalita jednání podniku netkví ve sledování kvantifikace zisku, ale ve volbě prostředků, jakými lze zisku dosáhnou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dnikatelská etika a prá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onné právo si samo o sobě nemůže zjednat své plně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etiky do podnikové strategie vhodně doplňuje právo tam, kde je jeho aplikace obtížn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1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2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ři úrovně integrace etiky do podnikové praxe (3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LNÝ, I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v podnikové strategi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oskovice : Albert, 199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atedra podnikového hospodářství (2006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anagement II, průvodce studiem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[online]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Arial"/>
              </a:rPr>
              <a:t>Děkujeme za pozornost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Stanoven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nik rozhoduje, které mravní hodnoty se stanou jejich hlavním identifikačním znak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íčové etické  hodnoty se stávají páteří podnikové kultu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cké hodnoty se též stávají součástí podnikové strate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funkce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finič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vymezují „kdo jsme a oč usilujem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cká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vlivňují společenské mínění o firmě a tím i do jisté míry preferenci zákazníků, investorů at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ontrolní funk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možňují veřejnosti hodnotit z mravního hlediska konkrétní aktivity a chování podniku n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Tři základní požadavky na charakter podnikových hodno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dčasov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obecný charakter, akceptovatelnost i v budoucn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řiměřen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kritickým pohledem na kapacitu podniku, co je pro něj reál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a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ouvisí s předchozím požadavkem, hlásání něčeho, co podnik není schopen zrealizovat, postrádá smys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Arial"/>
              </a:rPr>
              <a:t>Použití klíčových etických hodnot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oučást firemního loga: „Tchibo – dát to nejlepší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klamní slogan: „Hypoteční banka – Zkraťte si cestu domů!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ormulace: jasné, srozumitelné teze; pozor na vícevýznamovost slov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 hlediska Maslowovy teorie potřeb je neetické vydávat některé nižší potřeby za vyšší (auto, cigarety, čokoládové tyčinky atd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kodex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líčové etické hodnoty podnik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sou základním morálním rámcem pro jeho činnost. Jsou však příliš obecné na to, aby mohly určovat řešení konkrétních etických problémů a dilema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o se zavádí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tický kode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který poskytuje detailnější rozpracování, konkretizaci morálních zásad a jejich použití v podnikové prax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vádění etických kodexů se netýká pouze podnikové sféry. Kodexy již existují v bankovnictví, pojišťovnictví a státní správě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vedení podniku může dobře sestavený kodex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iminovat nežádoucí chování, které způsobují pokles přízně zákazníků, zaměstnanců, investorů, veřejnos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jasnit politiku podniku v morálních otázkách, např. zacházení s důvěrnými informacemi, přijímání „pozorností“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it vnitropodnikovou disciplínu, snížit potřebu donucovacích opatření pro odhalení neetického chová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mezit nadřízeným zneužívat svého postav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zitivně motivovat zaměstnance tím, že pracují v etickém prostředí s jasnými pravid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Z hlediska podnikového managementu kodex může pomoci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ešit morální problémy a dilemata, které se vyskytují v práci podnikových manage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čelit neetickým požadavkům zákazníků, dodavatelů, ale i nadřízených a podřízený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hajovat svá rozhodnutí jak uvnitř, tak vně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jednodušit vnitropodnikovou komunika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důvodnit návrhy na disciplinární opatření při porušování etických zásad ze strany zaměstnanc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rychlit identifikaci problémových praktik a odhalení případných podvod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07:46:08Z</dcterms:created>
  <dc:creator>PC</dc:creator>
  <dc:description/>
  <dc:language>en-US</dc:language>
  <cp:lastModifiedBy>Ondřej Částek</cp:lastModifiedBy>
  <dcterms:modified xsi:type="dcterms:W3CDTF">2006-11-23T08:59:29Z</dcterms:modified>
  <cp:revision>8</cp:revision>
  <dc:subject/>
  <dc:title>Manažerská etika</dc:title>
</cp:coreProperties>
</file>