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CD34-EA20-43F9-B89D-258585E97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90CF-7E3E-44D3-AD12-3EBE5BF8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85A0-FDB2-4BDB-BC0C-F1A738FC0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4809-D81F-4185-99D2-E87AA679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BC86-E111-426B-861E-D5779523E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D625-EA25-462E-A5B7-7DB47DFB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043A-1155-4DB4-B6B4-D1F4EF3E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D6E8-C90D-4507-8E02-5FB11B0E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25B2-2832-4CA0-9E53-9782FE0A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B450-4835-48E4-AFAB-BA0754A3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BEDE-3AE7-4DD8-9523-CDE29C5B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3765-7BFA-4007-BCBB-A1041BDF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AB6B-D752-4763-86CF-F346A0BE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7904-0CDB-42B4-BDBC-D0DC79C3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DF71-1804-41CC-A7E9-5C520FDD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25B2-07F3-4C17-80F3-148888734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E264-A02D-468B-A2AF-96339E60A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1C20-EF78-40B6-9FA9-08EBCB8E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C057-3442-426C-89C1-8A32444E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897D-2DB4-4024-99BA-EEB570F9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CAF3-EB77-4166-ACD4-A060EFB1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338C-3988-4010-8041-2FC7AC10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8E93-2B31-4F58-89A3-CA25EFE3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04C4-87ED-4498-AE66-1D176FD2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C6CB-5720-46AB-BF76-510DBD11B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478E-3148-4A6E-B50A-0179C994EF8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0920" y="1295280"/>
            <a:ext cx="52578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86950"/>
                </a:solidFill>
                <a:latin typeface="Times New Roman"/>
              </a:rPr>
              <a:t>Strategické aliance</a:t>
            </a:r>
            <a:endParaRPr b="0" lang="en-US" sz="48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876920" y="2971440"/>
            <a:ext cx="41148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786950"/>
                </a:solidFill>
                <a:latin typeface="Times New Roman"/>
              </a:rPr>
              <a:t>Vypracovali: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78695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786950"/>
                </a:solidFill>
                <a:latin typeface="Times New Roman"/>
              </a:rPr>
              <a:t>Ondřej Chlup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786950"/>
                </a:solidFill>
                <a:latin typeface="Times New Roman"/>
              </a:rPr>
              <a:t>         </a:t>
            </a:r>
            <a:r>
              <a:rPr b="0" lang="cs-CZ" sz="3200" spc="-1" strike="noStrike">
                <a:solidFill>
                  <a:srgbClr val="786950"/>
                </a:solidFill>
                <a:latin typeface="Times New Roman"/>
              </a:rPr>
              <a:t>Petr Procházka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786950"/>
                </a:solidFill>
                <a:latin typeface="Times New Roman"/>
              </a:rPr>
              <a:t>         </a:t>
            </a:r>
            <a:r>
              <a:rPr b="0" lang="cs-CZ" sz="3200" spc="-1" strike="noStrike">
                <a:solidFill>
                  <a:srgbClr val="786950"/>
                </a:solidFill>
                <a:latin typeface="Times New Roman"/>
              </a:rPr>
              <a:t>Lukáš Przybylski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Strategické aliance zaměřené na </a:t>
            </a:r>
            <a:r>
              <a:rPr b="1" lang="en-US" sz="3600" spc="-1" strike="noStrike">
                <a:solidFill>
                  <a:srgbClr val="996600"/>
                </a:solidFill>
                <a:latin typeface="Times New Roman"/>
              </a:rPr>
              <a:t>redukci konkurenčních střetů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čátky od pol. 80.l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zvíjení spolupráce dřívějších klasických konkurentů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M –  Toyota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montáž automobilů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M –  Daewoo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výrobní kooperace součástí a dílů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iemens –  Philips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vývoj mikroelektronik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iemens –  Fujitsu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nákup PC a částí PC technologi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ord –  Mazd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prodej náhr. dílů partnera na svém domácím trh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ěžko kontrolovatelné nadnárodní vztahy (strategické aliance uzavřené často neformálními dohodami) vedly k ohrožení volné soutěž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4876920"/>
            <a:ext cx="99072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F5C5-F7E9-4DEE-89BA-D52FA00101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Teoretické východisko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10666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 články uveřejněné v časopise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rvard Business Revie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54f41"/>
                </a:solidFill>
                <a:latin typeface="Times New Roman"/>
              </a:rPr>
              <a:t>Gary Hamel, Yves L. Doz a C.K. Prahala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0" lang="cs-CZ" sz="2000" spc="-1" strike="noStrike">
                <a:solidFill>
                  <a:srgbClr val="cc0000"/>
                </a:solidFill>
                <a:latin typeface="Times New Roman"/>
              </a:rPr>
              <a:t>Collaborate with Your Competitors – and Wi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„Spolupracuj se svými konkurenty – a vyhraj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r.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54f41"/>
                </a:solidFill>
                <a:latin typeface="Times New Roman"/>
              </a:rPr>
              <a:t>Kenichi Ohma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0" lang="cs-CZ" sz="2000" spc="-1" strike="noStrike">
                <a:solidFill>
                  <a:srgbClr val="cc0000"/>
                </a:solidFill>
                <a:latin typeface="Times New Roman"/>
              </a:rPr>
              <a:t>The Global Logic of Strategic Alliance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„Globální logika strategických aliancí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r.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54f41"/>
                </a:solidFill>
                <a:latin typeface="Times New Roman"/>
              </a:rPr>
              <a:t>Rosabeth Moss Kanterová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0" lang="cs-CZ" sz="2000" spc="-1" strike="noStrike">
                <a:solidFill>
                  <a:srgbClr val="cc0000"/>
                </a:solidFill>
                <a:latin typeface="Times New Roman"/>
              </a:rPr>
              <a:t>Collaborative Advantage: The Art of Alliance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„Výhoda spolupráce: Umění aliancí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r.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ztrácet síly vzájemným bojem. Obejít střety s konkurenty vytvářením společných strategických aliancí. Účelem nejen vyhnout se „krvácení v konkurenčním zápolení“, ale i posílit vlastní pozi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3886200"/>
            <a:ext cx="106668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96A2-DAD7-4851-91D2-E340519C28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Základní obecná doporučení ke spolupráci s konkurencí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artneři se mohou snažit vás odzbroji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ěkteré konflikty a nebezpečí motivují manažery ke zlepšení jejich výkon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každá kooperace má svá omezení a vyžaduje umění dělat kompromis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polupráce s konkurenty může být velmi hodnotným zdrojem učení s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strategická aliance umožňuje monitorovat konkurentovy schopnosti, silné a slabé stránk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ůže být dočasným partnerstvím v boji proti jinému silnějšímu konkurentov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2352-3168-4A6D-8F82-D6DB78E9F1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94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Síťové aliance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jdříve dvojstranné aliance s konkure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es bilaterálnost nahrazována mnohostranností, vznikají různé typy síťových alianc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úko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tvořit kritický potenciál pro prosazení určité podnikatelské strategické politiky sítě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jistit nebo zlepšit ochranu partnerů před ostatní konkurenc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A2DE-C603-405E-BF72-575CE03EB4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Uzlová pozice v síťové alianci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ilná strategická pozice firmy na „uzlové pozici“ v síti („nodal position“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možňuje firmě být lídrem rozvoje dané oblasti podnikání a získat hlavní podíl zis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rganizace v uzlové pozici si klade cíle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užívat existující, popř. vytvářet nové podnikatelské příležitost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ískat včas do své sítě potenciální i reálné konkuren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tabilizovat si rychle uzlovou pozici a stát se lídrem určité oblasti s ofenzivní strategií („first mover“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itom je nutné, aby pro partnery bylo výhodné být součástí sít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06B0-8715-4905-BCCB-1AA0C64629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Strategické aliance zaměřené na </a:t>
            </a:r>
            <a:r>
              <a:rPr b="1" lang="en-US" sz="3600" spc="-1" strike="noStrike">
                <a:solidFill>
                  <a:srgbClr val="996600"/>
                </a:solidFill>
                <a:latin typeface="Times New Roman"/>
              </a:rPr>
              <a:t>vznik, přenos a využití znalostí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ědeckotech. rozvoj v 2.pol. 90.let      inovační rozvoj podnikatelské činnosti v globální společnosti         tendence rozvoje strategických alianc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slání aliancí se rozšiřuje o umění získávat, sdílet, osvojovat si a hlavně zhodnocovat data, informace a znalosti pro podnikatelskou čin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užití internetu k usnadnění a zrychlení propojení partnerů v alianci, systémy e–business, e–banking,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irma, která si vytvoří přednostní přístup k potřebným informacím a disponuje relevantním znalostmi, má ve stále větší míře rozhodující konkurenční výhod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19920" y="2133720"/>
            <a:ext cx="380880" cy="152280"/>
          </a:xfrm>
          <a:prstGeom prst="rightArrow">
            <a:avLst>
              <a:gd name="adj1" fmla="val 50000"/>
              <a:gd name="adj2" fmla="val 62530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2438280"/>
            <a:ext cx="380880" cy="152640"/>
          </a:xfrm>
          <a:prstGeom prst="rightArrow">
            <a:avLst>
              <a:gd name="adj1" fmla="val 50000"/>
              <a:gd name="adj2" fmla="val 62382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4876920"/>
            <a:ext cx="13716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727d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F4C5-FAD0-4B9A-BD28-01EBE1431C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Typické možnosti využití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rychlit inovační a další změny výrobního programu transferem technologií a dalších relevantních znalostí partn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ychle a účinně zlepšit profesní a kvalifikační profil managemen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lepšit image organizace vůči zákazníků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užitím informací a informačních kanálů partnera snadněji získat potřebné informace a znal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ískat potřebné informace o samotném partnerovi pro případ budoucího rozchodu, meržingu a akviz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7008-E0F1-4361-BF44-16C1A87836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KONEC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864F-A056-4E39-96EC-8753176D71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Použitá literatura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DÁČEK, L., VODÁČKOVÁ, O.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egické aliance se zahraničními partner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raha : Management Press, 2002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EBER, J. a kol.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anagement. Základy, prosperita, globalizac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 Praha: Management Press, 2000.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ÁGNER, I.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z pohledu všeobecného a celostníh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Brno : Masarykova univerzita, 200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AN HRON, IVANA TICHÁ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trategické aliance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aha: Česká zemědělská univerzita, 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A959-B4CD-4A24-8E47-5B62845DC5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Definice pojmu „Strategické aliance“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istuje větší počet defini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efinice, kterou uvádějí Jassica Lipnacková a Jaffrey Stamps: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„Podniky vytvářejí aliance, aby si zajistily specifické podnikatelské potřeby a mohly zareagovat na příležitosti, které nemohou zvládnout interními silami. Společně pracují na dosažení svých strategických cílů.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E711-5E04-49CB-9334-814C8181AD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Problém s názvoslovím v literatuře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rategic alli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operative Ven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operation Agre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firm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al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rporate Alli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llaborative Agre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rategic Partn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9EDD-C66F-4C5C-99C5-9359F4D2E1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Základní formy strategických aliancí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Volné“ form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příležitostná spolupráce, „tiché“ neformální doh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trategické alianc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v užším pojetí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Joint ven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ěsné form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fúze, splynutí, akvizi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EA39-761D-453B-BEDE-66AFD2DA75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Rozdělení strategických aliancí podle různých kritérií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Funkční hledisko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(výrobní, marketingové, výzkumné a vývojové, prodejní, finanční, investiční…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Teritoriální hledisko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(tuzemské, zahraniční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Organizační hledisko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(horizontální, vertikální, síťové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Vlastnické hledisko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(soukromé, veřejno-právní alianc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Hledisko cílové orientac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(ziskové, neziskové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Hledisko trvání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(příležitostné, krátkodobé, dlouhodobé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03D7-3355-43C2-AEC2-36022C3883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Strategické aliance v moderním podnikání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dnikání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 realizací lidské vlastnosti podnikavosti, tj. schop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vit (identifikovat), a/ne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měrně vytvoři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ak návazně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účelně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účinně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užít příležitosti, které podnikatelskému subjektu vznikají z aktivní spolupráce s okolí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kter spolupráce (kooperace) s podnikatelským okolí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zitivní kooper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gativní kooper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2DE4-96D2-4DB8-9305-198AB12B97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xistence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izik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neurčitost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je pro podnikání typická. Přiměřená rizikovost je jedním z hlavních kritérií zda partnerství uzavřít či neuzavří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rategické aliance pomáhají úspěchu jak vnějšího („enterpreneurship“), tak vnitřního („intrapreneurship“) podnikání.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Strategické aliance v moderním podnikání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776E-4631-41B3-A2C6-672087FCAE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Klasifikační uspořádání strategických aliancí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rategické aliance zaměřené na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dílení činností a zdrojů partnerů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(od poč. 80. let min. stolet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rategické aliance zaměřené na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dukci konkurenčních střetů (negativní kooperace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(přelom 80. a 90. let min. stolet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rategické aliance zaměřené na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znik, přenos a využití znalostí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(od poč. 90.let min stolet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66B9-D7E2-406B-85C8-55D828DD3E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00"/>
                </a:solidFill>
                <a:latin typeface="Times New Roman"/>
              </a:rPr>
              <a:t>Strategické aliance zaměřené na </a:t>
            </a:r>
            <a:r>
              <a:rPr b="1" lang="en-US" sz="3600" spc="-1" strike="noStrike">
                <a:solidFill>
                  <a:srgbClr val="996600"/>
                </a:solidFill>
                <a:latin typeface="Times New Roman"/>
              </a:rPr>
              <a:t>sdílení činností a zdrojů partnerů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Teorie integrovaného řízení – systematické řízení procesu účelného a účinného přiřazování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potřebných 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činnost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potřebných 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zdrojů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Uvažované procesy přiřazování činností a zdrojů 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probíhají v prostoru a čas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Vhodná volba procesů =&gt; 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pozitivní integrační, popř. synergické efekty spoluprá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rategické alian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1F00-E03C-40EE-AD77-9097E8251D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2:09:41Z</dcterms:created>
  <dc:creator>Nada Chlupova</dc:creator>
  <dc:description/>
  <dc:language>en-US</dc:language>
  <cp:lastModifiedBy>99900</cp:lastModifiedBy>
  <dcterms:modified xsi:type="dcterms:W3CDTF">2006-10-18T09:52:58Z</dcterms:modified>
  <cp:revision>12</cp:revision>
  <dc:subject/>
  <dc:title>Strategické aliance</dc:title>
</cp:coreProperties>
</file>