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EFC-0370-4C31-A3F5-39C4F915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9733-C08C-417D-BF1E-EB7514EA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35F-49B8-45FA-A177-4910A032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BC7F-A60C-4A22-9A43-C3DF36AD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26C3-8459-4AC2-B13E-A6AD98F1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2EE7-4566-444F-AB1E-1F925608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0750-D87B-4732-BC93-F950CCA0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D8DD-B912-423F-AFA4-CB85423D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8FC9-BF93-48F7-96A3-CAB5F2C9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FEC5-0F89-49BB-AFC0-97251721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8B5C-42CC-4068-B870-063CE84F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EA4-417A-4E86-A997-944DF1D3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B71E-D2F3-4B31-8EC6-5AFE78E9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2881-AA4A-4DAF-9CAB-F6A1816E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304E-C56E-4544-B48C-87123BC2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F87E-21F0-44F9-A411-E8F8DDE4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641B-3AF1-49F6-BC9E-FD1189DD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39D-96E8-498E-950D-6E787F12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217-1AA1-4D47-8E6B-EF0BBAF5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AB4-D781-489B-8655-AC633FDD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A71-5B20-416A-BEB6-1C35C112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2B8A-043A-4B98-87D4-71CC0CE2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E70-D06D-4B5A-8617-4E0BEB85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0B0C-E2A5-4006-A1BA-ECBBB7FE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B0E4-7F2C-41CF-8A06-073382DB3CEF}" type="slidenum">
              <a:rPr b="0" lang="sk-SK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1D01-ED0B-4535-A3F7-CACF380226E7}" type="slidenum">
              <a:rPr b="0" lang="sk-SK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takeholdeři a jejich význ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20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ezie Kouři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tina Pospíši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14200"/>
            <a:ext cx="725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Využití analýzy- příkl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Trendy v současnosti např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Expanze fir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CSR ak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Eva Kislingerová, Ivan Nový a kol. – Chování podniku v globalizujícím se prostředí. Praha: C.H.Beck 200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Jaromír Veber a kol. – Management – základy, prosperita, globalizace. Praha: Management Press 200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Refik Culpan a John Trussel – Applying the Agency and Stakeholder Theories to the Enron Debacle: An Ethical Prspective. Business and Society Review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pring2005, Vol. 110 Issue 1, p59-76</a:t>
            </a:r>
            <a:r>
              <a:rPr b="1" lang="cs-CZ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irk Matten a Andrew Crane – What is stakeholders democracy? Perspectives and issues. Business Ethics: A European Review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Jan2005, Vol. 14 Issue 1, p6-13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rosby, Benjamin L. March 1992. "Stakeholder Analysis: A Vital Tool for Strategic Managers."Technical Notes, no. 2. Washington, DC: Implementing Policy Change Project for the USAgency for International Development (USA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Definice stakeholder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1579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takeholders =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soby či skupiny osob, které ovlivňují danou firmu nebo jsou jednáním této firmy samy dotčeny, tj. jsou dobrovolně nebo nedobrovolně vystaveny riziku spojenému s aktivitami firmy. (Veber a kol.,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=&gt; stakeholder approach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nažeři berou při rozhodování v úvahu zvyšování míry uspokojování oprávněných zájmů všech zúčastněných skupin nejen vlastníků podni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vo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znik ucelené teori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v 80. letech - Free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skupiny stakeholderů byly do té doby analyzovány oddělen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ůležitost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omplexního pojet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roste s rozvojem velkých mezinárodních korporací, kdy úspěšnost podniku záleží z velké míry na vztazích s okolí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oučasný trend –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akeholder democr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jmy jednotlivých skupin jsou často protichůdné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jednávací síla a pozice se liší mezi jednotlivými  skupinami stakeholderů i mezi odvětvími a kultur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Skupiny stakeholderů a příklady jejich zájmů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55972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LASTNÍCI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hodnocení investovaného kapit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tiž a společenské postavení, vliv na rozhodování, možnost sebe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MĚSTNANCI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zda, sociální jistoty, zařazení v kolektivu, možnost uplatně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ĚŘITELÉ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stota navrácení a zhodnocení kapit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220464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DAVATELÉ – možnost odbytu, dodací a platební podmínky, obchodní vzta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ÁKAZNÍCI – kvalitní zboží a služby, výhodné ceny a podmínky, důvě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ÁT – placení daní, dodržování právních předpisů, zajištění pracovních míst, rozvoj regio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TATNÍ – např. ekologická hnutí, oborové asociace, humanitární organizace, média a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kupiny stakeholderů a příklady jejich zájm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Analýza Stakeholder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ů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81374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de se využí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 součástí konceptu „stakeholder management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klad k projek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 a plánov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Jaké informace zjistí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do jsou nej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ůležitější stakeholdeř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ký mají vliv na společ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ký mají zájmy ve vztahu k naší společ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Analýza Stakeholder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ů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-pos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631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Definovat všechny stakehold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Získávání dat- primární , sekundár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hodnocení charakteristik (znalost společnosti, zájem, vliv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tvoření „mapy stakeholder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ů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vození závěrů a plán komunik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50920" y="1143000"/>
            <a:ext cx="5040360" cy="459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119700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342900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260676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liv,sí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6021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á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5734080"/>
            <a:ext cx="511344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0920" y="1125360"/>
            <a:ext cx="0" cy="460872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580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184464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bát na spokoje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400536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Udržet informova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4221000"/>
            <a:ext cx="24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nitor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184464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ejužš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278136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3933720"/>
            <a:ext cx="216000" cy="216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2852640"/>
            <a:ext cx="216000" cy="2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1413000"/>
            <a:ext cx="215640" cy="215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393372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99308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Proč je dobré znát stakehold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klad k projek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ů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trategické plánov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ogramy, inovace, nové pravidla, zákony ap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ojekt/plán má větší šanci na úspě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Možnost předejít nedorozumění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omunikace se stakeholdry bude efektivnějsí a přínosnějš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8:59:06Z</dcterms:created>
  <dc:creator>Terka</dc:creator>
  <dc:description/>
  <dc:language>en-US</dc:language>
  <cp:lastModifiedBy>1</cp:lastModifiedBy>
  <dcterms:modified xsi:type="dcterms:W3CDTF">2006-11-08T15:50:47Z</dcterms:modified>
  <cp:revision>34</cp:revision>
  <dc:subject/>
  <dc:title>Stakeholdeři a jejich analýza</dc:title>
</cp:coreProperties>
</file>