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D68-C826-48D1-992E-DDDA54B1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8E8-850F-4BB4-9102-619CC651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A119-5513-41BD-AE98-11D0479F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60-330B-4DAB-8151-2513C2D9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15D-C276-4671-9E48-8086B45F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FB4F-9333-45D6-BB04-9DFA71C0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BFC4-8FDC-48A1-A2D1-149A386C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F83A-5BD1-49D9-B8C4-1F148CF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BC82-AC34-4E9E-9C25-4236BAD2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8BC7-1106-4E0C-87B8-E33976E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1590-D7E6-4CBF-B7D7-E8B105F8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AE6-46AC-4518-9E7C-85996A84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D0E7-364D-4BF3-A538-FE9837C6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D405-11CD-497C-BCEE-2C648401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7981-A3CD-4200-8A5D-95FCCEC9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6C70-8044-4F9B-B722-5307DEB8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D3AC-92A6-468E-8781-34D973C2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A87-86B7-45F9-A103-69DEBE7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04C-18A5-457B-9F0B-5C2DB81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3C1D-D3D0-400D-8AF1-416D9B69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C77-604D-405D-99B3-4A4A0C80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08F-F995-4C97-AC92-D53D782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466-CD7C-4164-AF89-5B8C112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95A-AB7C-4EAA-B383-F6BE110D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C64F-EDA0-40EA-A14C-1C5F38065DA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B2CC-4444-43EC-A190-433F6A72D1D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06524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003366"/>
                </a:solidFill>
                <a:latin typeface="Times New Roman"/>
              </a:rPr>
              <a:t>Jak FORD k penězům přišel…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57600" y="41911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...aneb Fordism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172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 Narrow"/>
              </a:rPr>
              <a:t>Ján Kušev, </a:t>
            </a:r>
            <a:r>
              <a:rPr b="1" lang="cs-CZ" sz="1800" spc="-1" strike="noStrike">
                <a:solidFill>
                  <a:srgbClr val="000000"/>
                </a:solidFill>
                <a:latin typeface="Arial Narrow"/>
              </a:rPr>
              <a:t>Tomáš Simbartl, Štěpán Draž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ord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2667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droje: encyklopedie Wikipedia (www.wikipeida.org); skriptum prof. Bla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</a:t>
            </a:r>
            <a:r>
              <a:rPr b="0" sz="4400" spc="-1" strike="noStrike">
                <a:solidFill>
                  <a:srgbClr val="003366"/>
                </a:solidFill>
                <a:latin typeface="Times New Roman"/>
              </a:rPr>
              <a:t>ord, Henr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y Ford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(1863-1947)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Z farmy ke stroj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en: sestrojení automobi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rvní pokus = kr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nik Ford Motor Company v Detroitu (19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086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3366"/>
                </a:solidFill>
                <a:latin typeface="Times New Roman"/>
              </a:rPr>
              <a:t>Ústup řemeslné výroby, přechod k hromadné produkci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4191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Řemesl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řelom 19. a 20. sto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Univerzální 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alifikovaná práce řemesl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ízký objem výroby a nízká produktivita (max. 1000 aut/r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ečný stimul pro rozvoj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1676520"/>
            <a:ext cx="3657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ásová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po 1. W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ontážní li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nížení náklad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růst produk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voj technologií a           inovace výr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(po 1. WW – 60. lét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rm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vedení montážních li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&gt; masová produkce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(inspirace na jatká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49604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a Model 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oč to vše? Automobil pro každéh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tandardizovaná produkce -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..můžete ho mít v jakékoli barvě, pokud to bude černá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acovní podmí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soké platy...(dělník si musí vydělat na produkt, který vyráb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...ale monotónní, demotivující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oj proti odborů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a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Fordismu, resp. Tayloris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line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6201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913lg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62863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st-Fordismu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ová éra průmy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voj inform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ec homogenního trhu a produ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měna v organizaci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nížení státních interve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výhody Post-Ford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Fordismus vs. Post-Fordismu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mogenní produkce a spotřeba X variabilita produktů pro různorodé zákazníky (Ford dnes vlastní Jaguar, Aston Martin, Volvo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epetitivní práce X inovativní činnost (job enlargement a enrich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ntrola trhu X přizpůsobivost podni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6:42:19Z</dcterms:created>
  <dc:creator>76275</dc:creator>
  <dc:description/>
  <dc:language>en-US</dc:language>
  <cp:lastModifiedBy>Simbartl</cp:lastModifiedBy>
  <dcterms:modified xsi:type="dcterms:W3CDTF">2006-10-25T15:44:49Z</dcterms:modified>
  <cp:revision>53</cp:revision>
  <dc:subject/>
  <dc:title>Ako Ford k peniazom prišiel…</dc:title>
</cp:coreProperties>
</file>