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4A4B-A441-4576-95FE-98BC9E51C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B297-4F6F-442D-B8DE-E9B6B8AC4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C459-B716-4FFB-9C77-5D284700B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16C9-C6ED-4E37-B91A-688C6347B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3009-6B0D-474F-83E1-4CE733B5B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DE19-2BD3-45B9-93F4-30A27E186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E97F-6776-4A45-A11C-960CCA80C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1DAA-85E4-4E5B-99DB-F06A42FAE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5B7E-3C0D-449F-B667-23C083691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62BC-7ECA-491D-9F2B-5CB98C023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DF26-F488-4138-8BD6-A73F904D3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BF25-B20B-4ADC-97DA-C7E728092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DCB6A-3271-4575-9A11-FA2C88526E8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ální dimenze ekonomik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3. seminární práce týmu č.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Vypracovali: Ivana Kleinová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Veronika Křížová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Jan Čerbá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) Metody dosahování cíl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oklasické paradigm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 hledají nejracionálnější způsoby dosahování svých cíl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eontologické paradig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 když se člověk rozhoduje ve značně ohraničené oblasti, v níž si přeje provádět pouze logicko-empirické úvahu, jsou jeho rozhodnutí stále ještě sub-racionáln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idé zpravidla nečiní racionální rozhodnut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) Kdo jsou aktéři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závislí jedinci, provádějící svá vlstní rozhodnut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1640" y="190512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eontologické paradig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soba jsko člen sociální kolektivity, která ve značném rozsahu individuální rozhodnutí ohraniču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dividualita existuje, avšak pouze v rámci sociálního kontex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ed námi je podstata člověka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akolik jsme moudří, jaká je úloha morálky, emocí a sociálních vazeb v našem individuálním a společenském životě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á literatura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mitai Etzioni, Morální dimenze ekonomiky ISBN 80-85865-19-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933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ěkujeme za pozorno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Á a M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aradigma založené na moderované verzi deontologické etik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áchází smysl sociálního svě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užíváme ho při pokusech pochopit a zlepšit sami sebe, ty, kteří nám jsou drazí, a ty, kteří nám tak drazí nejs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oj o paradig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ociálně – konzervativní paradig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oklasické paradig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ontologické paradigma </a:t>
            </a:r>
            <a:r>
              <a:rPr b="0" lang="cs-CZ" sz="5000" spc="-1" strike="noStrike">
                <a:solidFill>
                  <a:srgbClr val="000000"/>
                </a:solidFill>
                <a:latin typeface="Times New Roman"/>
              </a:rPr>
              <a:t>JÁ a MY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oklasické paradig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ientované na užitek, racionalitu a jedi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likováno nejen na ekonomiku, ale stále více na celé spektrum sociálních vztahů d zločinu až po rodin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ciálně-konzervativní paradig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lavní soupeř neoklasického paradigmat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jímá individua jako morálně nezpůsobilá, často iracionální, a tudíž vyžadující silnou autoritu pro kontrolu jejich impulsů, řízení jejich snah a udržování pořádk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eontologické paradigma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hápe individua jako schopná jednat racionálně a věcn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chopná rozvíjet svoje JÁ (self), tato schopnost je však hluboce ovlivněna jejich zakotvením ve zdravém společenství, je podporována pevním, morálním, emotivním osobním spojení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polečenství chápou spíše jako MY, než jako omezující a vnucené ON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eontologie</a:t>
            </a:r>
            <a:br>
              <a:rPr sz="4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( deon – závazek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lavní škola etiky, spřízněná s utilitarism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statou je tvrzení, že činy jsou morálně správné, když odpovídají relevatnímu principu nebo povin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důrazňuje, že morální status činu nemá být posuzován podle jeho důsledku, což činí utilitarismus, ale podle „záměru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apř. člověk, který někoho pomlouvá, jedná nemorálně bez ohledu na to, zda se mu podařilo skutečně dotyčného poškodit, nebo nikol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i zastřešující otázk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ké jsou zdroje lidských hodnot, nebo cílů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ké jsou metody dosahování námi zvolených cílů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do jsou klíčoví aktéři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) Jaké jsou naše cíl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oklasické paradigm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Člověk se snaží „maximalizovat“ svou užitečnost (požite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chanismus (hlavně cena), který by mohl uskutečnit co nejefektivnější alokaci zdrojů, takovou, která jevíce uspokojuje lidská přán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4340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eontologické paradig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idské bytosti provádějí se svými žádostmi morální soudy. Pak je morální souhlas příčinou, která chování částečně vysvětlu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idé mají různá přání, včetně toho žít podle vlastních morálních nor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9T12:12:37Z</dcterms:created>
  <dc:creator>King</dc:creator>
  <dc:description/>
  <dc:language>en-US</dc:language>
  <cp:lastModifiedBy>Gecon</cp:lastModifiedBy>
  <dcterms:modified xsi:type="dcterms:W3CDTF">2006-11-20T14:00:21Z</dcterms:modified>
  <cp:revision>3</cp:revision>
  <dc:subject/>
  <dc:title>Morální dimenze ekonomiky</dc:title>
</cp:coreProperties>
</file>