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2C57-82A4-4A79-A868-9F6DD801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B031-1F47-4DA8-95B9-AB32111C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E880-573A-44CE-9E77-BF3DD5D7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FC4E-41C4-4244-8C68-EDB6174F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66F0-F103-4927-94F5-1AE1E069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BC1-40EA-4CC3-9012-A5A9E378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980-89BE-4D99-8A36-F6B1B41A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2946-7DBC-4D87-B5B9-C14C578F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6D97-C721-48A4-B182-36419C7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7D2-74D3-4A9F-83BE-FE80CC3F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9071-7222-4935-B516-DB9D5EA6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90CD-99DA-42D3-8A81-0F9B242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137D-7188-4CC9-8DED-ED3FDEF2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C1BD-6AF8-4195-8F48-3E0E125E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63B0-28DB-4F30-8193-88794853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3567-6A59-4432-8BC1-155BDC40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2A1F-3BD5-44C1-81F6-1807FC8C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3030-332F-45CC-B69C-5AD15DE1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9044-7297-42D5-8125-C702FB99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C3C80-2511-42BC-910F-4E121AF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3E8B-0A33-452A-8D15-0C396C08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B3A1-9B16-436A-B61F-71F54119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E6954-FC98-42FC-838C-EEA7DE2C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CB6B-5D81-4523-AFAD-3FB117D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E0F-A9D5-4D23-AC9C-CA43AF4635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C5B7-6CBA-4235-9433-88CE7CE0D2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Postindustriální společnos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seková, Havránek, Holek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1. seminární skupina - 2. tý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ývoj společenských strukt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znik postindustriální společnosti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naky přechodu od industriální k postindustriální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ývoj společenských struktu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industriální „agrární“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dustriální společnost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industriální „informační“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Vzni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. léta – poprvé se objevuje pojem postindustriální společnos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 – zlomový rok v US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rozvojem IT nahrazeno pojmem informač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Znaky přechodu od industriální k postindustriální společnosti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ůvodní znaky nástupu nové ér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á Ekonomika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ční společnost a společnost věděn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hrnutí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ínosy a nedostatky postindustriální společ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7:22:57Z</dcterms:created>
  <dc:creator>Radek</dc:creator>
  <dc:description/>
  <dc:language>en-US</dc:language>
  <cp:lastModifiedBy>Radek</cp:lastModifiedBy>
  <dcterms:modified xsi:type="dcterms:W3CDTF">2006-10-23T21:34:44Z</dcterms:modified>
  <cp:revision>6</cp:revision>
  <dc:subject/>
  <dc:title> Postindustriální společnost</dc:title>
</cp:coreProperties>
</file>