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4AB2-BD0F-4C36-A08D-D688950F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A8B-28B1-4846-9F9F-CDC66B9B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899-D7CB-4477-81A6-57435D28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9A5-AC48-4CC1-8A4B-99DAC256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272F-CA3D-439A-886C-9DD7D8B1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5163-1445-4299-800A-F26D91B6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0951-117E-400F-99F5-4375B51F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B40D-C5E7-4A29-A700-5C1182A5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D04F-8B02-49DB-8E1E-72006DCB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11C3-27D7-4783-AD14-4B5C2DE8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36DAA-F0ED-48CE-AAD7-B1139071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545-7655-4477-AD01-881038E6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B8F5-B8DA-4381-9FDA-447CB6B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474C-B611-4089-BE03-DC8133DA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9AC8-1467-43A7-A8F9-F4620420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4631-F6D7-43C2-A684-11685807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D80E-CE30-4D8C-8EF2-33BF7EFB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2F0-F674-4347-ACEF-FADC2B6B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782-10DC-43FB-BD2C-05917AB8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4C61-B3DA-4432-AC9C-B149C906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8B9-28FB-434E-9D7E-FDAF586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2FD-5AA9-4D60-91BA-8BCB6CE1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85C-3F65-49B6-B1C2-F4A61E68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B0E-7CAC-4176-ACCF-A4DB7975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60AD-8897-49BD-AE06-F724592CB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AB18-8ADD-4079-BF55-4D42BEBE46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ztah managementu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tologie a antropologi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3703320"/>
            <a:ext cx="380988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m Kotl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vla Lišk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ek Výt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4858920"/>
            <a:ext cx="38098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10.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828800"/>
          <a:ext cx="7772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SKUPINA 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828800"/>
          <a:ext cx="80010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8800"/>
                    <a:ext cx="8001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rá skupina je sestavena ze šimpanzů a která je zapsána v obchodním rejstříku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užitá literatura: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ldikas, B.M.F., Teleki, 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in Subsistence Activities of Female and Male Pongids: New Perspectives on the Origins of Hominid Labor Division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22, No. 3 (June 1981), pp 241-256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tani, J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volution of Primate Social Structur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20, No. 4 (December 1985), pp 593-61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Grew, W.C., Tutin, C.E.G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idence for a Social Custom in Wild Chimpanzee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an, New Series, Vol. 13, No. 2 (June 1978), pp 234-251.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nford, C.B.: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ocial Behavior of Chimpanzees and Bonobos: Empirical Evidence and Shifting Assumptions</a:t>
            </a:r>
            <a:r>
              <a:rPr b="0" lang="cs-CZ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Current Anthropology, Vol. 39, No. 4 (August-October 1998), pp 399-420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5:06:01Z</dcterms:created>
  <dc:creator>kluci</dc:creator>
  <dc:description/>
  <dc:language>en-US</dc:language>
  <cp:lastModifiedBy>kluci</cp:lastModifiedBy>
  <dcterms:modified xsi:type="dcterms:W3CDTF">2006-10-15T18:48:31Z</dcterms:modified>
  <cp:revision>4</cp:revision>
  <dc:subject/>
  <dc:title>Prezentace aplikace PowerPoint</dc:title>
</cp:coreProperties>
</file>