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D2E1-2D8B-4BC8-95F2-0D28890E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EE14-BBE4-4B0B-8BD5-C4901D1D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8B8-5DD0-4905-A630-FB5196A3F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E0B-5FB1-4026-B962-20469CFB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8BEB-7B2B-430E-B83F-8A6A4340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70E4-9142-4F0C-8F84-54421246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378E-A58B-4138-AC0B-7D7CA9EE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3E8B-BDE6-47EB-9190-79F7754F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797D-4A70-4629-BE1E-65B2357E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D367-5056-4238-85A7-8C39BDB0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E595-4C79-4164-A34C-DEA490F6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ADF-6BDE-4892-845E-AD7F4BA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AE30-11BC-41F0-9D02-DA0F388C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C716-3B7B-4F1D-83A5-2948CD0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3FD-6BF5-46E7-9DA2-951FE2B0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7E7E-CD4B-42EE-8DE7-FD281060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96F4-0126-4A32-B30F-EFEBD4ACA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CD7-6FA3-43EE-B66F-D092066A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A92-0644-4696-BFB0-FEE26495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4A26-EE05-4A92-8EE4-15D08D61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2402-4DB1-4970-8AB0-61438A2A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E6E-C61D-48E8-B477-F02A15FA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D4A-4F92-4037-9FE3-B3B24DF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6A8-CBF8-40AD-9C11-7EAA170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D449-DCB9-4BDD-A795-7B050722F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B7A8-6D82-4C4E-92E3-9DDF1794B8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560" y="1988640"/>
            <a:ext cx="8317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200" spc="-1" strike="noStrike">
                <a:solidFill>
                  <a:srgbClr val="cc6600"/>
                </a:solidFill>
                <a:latin typeface="Arial Black"/>
              </a:rPr>
              <a:t>Vývojové tendence na prahu postindustriální éry</a:t>
            </a:r>
            <a:endParaRPr b="1" lang="en-US" sz="4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157720"/>
            <a:ext cx="410544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Beata Brosk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Tomáš Procház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Hana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Matonohov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Teorie modernizace – změna společnosti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1800" spc="-1" strike="noStrike">
                <a:solidFill>
                  <a:srgbClr val="ffffff"/>
                </a:solidFill>
                <a:latin typeface="Bookman Old Style"/>
              </a:rPr>
              <a:t>rozvoj vědy, techniky, trhu, měst at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ociologové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: Spencer, Drukheim, We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Modernizace</a:t>
            </a: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0" lang="sk-SK" sz="2000" spc="-1" strike="noStrike">
                <a:solidFill>
                  <a:srgbClr val="ffffff"/>
                </a:solidFill>
                <a:latin typeface="Bookman Old Style"/>
              </a:rPr>
              <a:t>proces transformace preindustriální společnosti na společnost charakterizovanou rozvinutou pr</a:t>
            </a:r>
            <a:r>
              <a:rPr b="0" lang="cs-CZ" sz="2000" spc="-1" strike="noStrike">
                <a:solidFill>
                  <a:srgbClr val="ffffff"/>
                </a:solidFill>
                <a:latin typeface="Bookman Old Style"/>
              </a:rPr>
              <a:t>ůmyslovou výrobou, racionálními a sekulárními postoji obyvatelstva a vysoce diferencovanou sociální struktur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Rozmach po 2. Světové vál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Modernizac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Bookman Old Style"/>
              </a:rPr>
              <a:t>Nové teoretické koncepty - </a:t>
            </a:r>
            <a:r>
              <a:rPr b="0" lang="cs-CZ" sz="3200" spc="-1" strike="noStrike">
                <a:solidFill>
                  <a:srgbClr val="ffffff"/>
                </a:solidFill>
                <a:latin typeface="Bookman Old Style"/>
              </a:rPr>
              <a:t>Eisenstadt, Fasons, Rostow a Smel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Industriální společnost = „společnost hojnosti“ (Galb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Konec 60. let – náznak změny (Bell, Toffl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Bookman Old Style"/>
              </a:rPr>
              <a:t>Informační společnost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individualizace, universalismus, decentralizace, úzamní rozptýl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Nová ekonomika = nová ekon.struktura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růst produktivity práce, růst konkurenceschopnosti, nízká inflace, sítě (ne hierarchie), ekon.úspěšnost=vědomosti a informace, 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Představitelé: Atkinson, Tapscott, Thurow, Reich, G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Postindustriální společnos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Společnost vědění“ 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(</a:t>
            </a:r>
            <a:r>
              <a:rPr b="1" i="1" lang="sk-SK" sz="2000" spc="-1" strike="noStrike">
                <a:solidFill>
                  <a:srgbClr val="ffffff"/>
                </a:solidFill>
                <a:latin typeface="Bookman Old Style"/>
              </a:rPr>
              <a:t>knowledge society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výrazná lidská dimen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Bookman Old Style"/>
              </a:rPr>
              <a:t>Základní rysy – </a:t>
            </a:r>
            <a:r>
              <a:rPr b="1" lang="sk-SK" sz="2400" spc="-1" strike="noStrike">
                <a:solidFill>
                  <a:srgbClr val="ffffff"/>
                </a:solidFill>
                <a:latin typeface="Bookman Old Style"/>
              </a:rPr>
              <a:t>know-how, vysoká složitost práce, všechny oblasti společnosti závislé na vědění, infrastruktury druhého řádu, sociální stránka, společnost abstrakt a symbolů, vysoká diverzifikace produkce i distribuce vědění, věda-dominantní postav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6600"/>
                </a:solidFill>
                <a:latin typeface="Arial Black"/>
              </a:rPr>
              <a:t>Kritika nové ér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Konzumní společ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3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„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Ve svém současném (...) stadiu nemá moderní společnost velkou potřebu masové pr</a:t>
            </a:r>
            <a:r>
              <a:rPr b="1" lang="cs-CZ" sz="2000" spc="-1" strike="noStrike">
                <a:solidFill>
                  <a:srgbClr val="ffffff"/>
                </a:solidFill>
                <a:latin typeface="Bookman Old Style"/>
              </a:rPr>
              <a:t>ů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myslové práce a všeobecné branné povinnosti; místo toho potřebuje angažovat své členy jako konzumenty.“</a:t>
            </a:r>
            <a:br>
              <a:rPr sz="2000"/>
            </a:b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sk-SK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sk-SK" sz="1200" spc="-1" strike="noStrike">
                <a:solidFill>
                  <a:srgbClr val="ffffff"/>
                </a:solidFill>
                <a:latin typeface="Bookman Old Style"/>
              </a:rPr>
              <a:t>Zygmunt Bauman, str. 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měna hodnotového systé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Zaměření na humánní stránku (humanistická ekonomi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Bookman Old Style"/>
              </a:rPr>
              <a:t>Ekologické aspe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6600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ER, W.M.  Tyranie blahobytu. Praha: Volvo Globator, 1997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BAUMAN, Z. Globalizace:důsledky pro člověka. Praha : Mladá fronta, 2000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POTŮČEK a kol. Průvodce krajinou priorit pro Českou republiku. Praha: Gutenberg, 2002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SEN, A. Etika a ekonomie. Praha: Vyšehrad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Bookman Old Style"/>
              </a:rPr>
              <a:t>TOFFLER, A., TOFFLEROVA H. Nová civilizace. Praha: Dokořán,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0:17:28Z</dcterms:created>
  <dc:creator>Beatka_U</dc:creator>
  <dc:description/>
  <dc:language>en-US</dc:language>
  <cp:lastModifiedBy>Beatka_U</cp:lastModifiedBy>
  <dcterms:modified xsi:type="dcterms:W3CDTF">2006-10-16T11:55:47Z</dcterms:modified>
  <cp:revision>3</cp:revision>
  <dc:subject/>
  <dc:title>Vývojové tendencie na prahu postindustriálnej éry</dc:title>
</cp:coreProperties>
</file>