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A80B-3A2F-4639-B81A-C9428EA92D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7AB19-7277-4A1C-ABFB-CE5CE0E7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EE87-B566-42CB-B2B7-B76E7929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5984-0B4C-41F4-AD53-749C42E0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189A-A186-48F8-B009-E0F36452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2D64-2A35-4E72-985C-C1EA07B1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9D82-75E7-4F13-B407-052DF420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C98C-58AB-43C2-9F13-982DEA28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7BBC-2D25-4EDF-8EBA-D3B0257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0C17-609E-41DE-8F4B-259EA623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D4F3-85C8-4EBB-B5C6-27C4DB7C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9CA4-657E-406D-A335-6DA6DCF7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D857-67C0-441D-AEBD-B524E0BA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0F97-CCAD-46CF-AFFE-818C25C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140F-0E53-4459-B1CE-C6BD17D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2F77-83FF-41DF-A7E5-0A41F660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D1F7-C4ED-407A-B93B-308B56D0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FBB1-62EE-47E0-AD78-E75F918B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9E74-8D86-4AED-B410-5EF6B1C9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63AB-F877-45AB-B712-A2E852AD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5E70-ED4E-45D1-A0FE-DD6B51F9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456D-13A1-44F7-842C-6605E8E0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EE52-7D7C-4BE0-821A-26A00729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BC1E-9FFD-46D4-B335-5CC47A2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E454-9CA9-4A34-891A-E1523E3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84B1-322F-4F2E-9481-A6120BD2A5F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A1A9-2B38-4C37-8312-56897002C59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	</a:t>
            </a:r>
            <a:r>
              <a:rPr b="1" lang="en-US" sz="5000" spc="-1" strike="noStrike">
                <a:solidFill>
                  <a:srgbClr val="f8f828"/>
                </a:solidFill>
                <a:latin typeface="Garamond"/>
              </a:rPr>
              <a:t>Manažerská etika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boženská a laic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boženská - 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Boha, na dogmatech a zjeveních a na strachu z odplaty na onom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aická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vaz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lid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 rodin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lasti, 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iná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ý základ -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cit morálního dluhu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č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utori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pocit absolutní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</a:t>
            </a: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ov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e dominance lidských práv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Vytrácí se hodnota oběti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dmítá se ideál od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íkání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sou vyt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ovány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ehnané po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adavky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u povzbuzována okam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itá p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ání, r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 blahobytu, št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tí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ouběžně se však rozvíjí i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fundamentalistick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é proud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nik industriální éry byl anonymní a disciplinární, technokratický a mechanický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stindustriální podnik je pokládán za nositele smyslu a hodno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zmach kodex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a chart podnikatelské etiky. 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roli zde j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 osmdesátých letech minulého století sehrávaly americké firm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ová manag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dex a etická prohlášení se nevylučují s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dnikatelský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záj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Morálka a podniká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stávají být odd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enými s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8f828"/>
                </a:solidFill>
                <a:latin typeface="Times New Roman"/>
              </a:rPr>
              <a:t>U</a:t>
            </a:r>
            <a:r>
              <a:rPr b="1" lang="cs-CZ" sz="4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tilitaristická</a:t>
            </a:r>
            <a:r>
              <a:rPr b="1" lang="cs-CZ" sz="4400" spc="-1" strike="noStrike">
                <a:solidFill>
                  <a:srgbClr val="f8f828"/>
                </a:solidFill>
                <a:latin typeface="Garamond"/>
              </a:rPr>
              <a:t> </a:t>
            </a:r>
            <a:r>
              <a:rPr b="1" lang="cs-CZ" sz="44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rumentalizace</a:t>
            </a:r>
            <a:r>
              <a:rPr b="1" i="1" lang="cs-CZ" sz="4400" spc="-1" strike="noStrike">
                <a:solidFill>
                  <a:srgbClr val="e5e5ff"/>
                </a:solidFill>
                <a:latin typeface="Garamond"/>
                <a:ea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tické chování a spol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á odpov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 se stávají významnými faktory konkurenceschopnosti fir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Lidé ch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jí spolu s konzumací zb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 „konzumovat“ i mravní hodnot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Institucionalizace společenské odpovědnosti podnik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70. let dvacátého století - Koncept společenské odpovědnosti podniků (Corporate Social Responsibility – CSR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SR - dobrovolné integrování sociálních a ekologických hledisek do každodenních firemních operac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porován ze strany nadnárodních a mezinárodních organizací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Evropské organizace – CSR Europ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65 čle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elosvětové organizace – Global Compact – cílem je prosazování společenské odpovědnosti podnikání v oblasti lidských práv, pracovních standardů a životního prostře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rganizovanosti podni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roblém objektivizace a srovnatelnosti při prezentaci výsledků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vinná forma společenské odpovědnosti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ec kreativ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možnost nalezení společných kritérií, která by bylo možno univerzálně aplikovat na všechny firm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zentace pozitiv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 zamlčování negati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visející probl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3995640" y="357336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Budouc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jednocování kriterií pro posuzování společenské odpovědností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ozvoj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ému certifikace společenské odpovědnosti podniků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podobnost s oblastí kvality (systémy IS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statná úloha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eské společnosti považují své angažování za důležité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ka českých podniků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tivita uvnitř podniku -péče o své zaměstnance a jejich vzdělá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kvalitních pracovníků – spolupráce se škol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Garamond"/>
              </a:rPr>
              <a:t>Podniky nepociťují tlak ze strany spotřebitelů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dostatečný rozvoj spotřebitelské kultury a společenské angažovanosti zákaz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ezentace dobrých firem v médiích není žádoucí – je považována za rekl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852640"/>
            <a:ext cx="289080" cy="505080"/>
          </a:xfrm>
          <a:prstGeom prst="downArrow">
            <a:avLst>
              <a:gd name="adj1" fmla="val 50000"/>
              <a:gd name="adj2" fmla="val 43680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nažerská etik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ec 20 stol. – etika proniká hlouběji do struktur podniků a začíná být její nedílnou součá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ři i vlastníci podniků si začínají uvědomovat, že bez etického chování vůči okolnímu světu se jen těžko prosadí na moderních a provázaných trz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časná situace v Č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édia prezentují pouze skandály – nemají přílišný vliv na veřej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last dárcovství – pouze vylepšení im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ůležitost manažerské etiky ve vyspělých zemích i nadále vzrůst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LÁHA, J., DYTRT, Z. 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anažerská etika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Management Press 2003. ISBN 80-7261-084-8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RIEDMAN, M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Social Responsibility of Business Is to Increase Its Profit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Times Magazíne, Sept. 197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NKOVÁ, J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Společenská odpovědnost fire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Business Leaders Forum, 200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ožnosti podniků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dnárodní podniky se stávají mocnějšími díky zlepšování logistiky, přesunů výrob do celého světa → eliminují státní předpisy a regulace →  ↓ státní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zvyšují svůj mezinárodní potenciál →  ↑ schopnosti diktovat státům podmínky výhodné pr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kles zájmů spotřebitelů o politiku – světový trend ve vyspělých zem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čané zvyšují svůj vliv pomocí nákup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strategie prezentace podni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třebitelé se stávají citlivějšími vůči původu zboží a podmínkách ve kterých vznikaj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 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kladou větší důraz na etické podmínky vzniku svých produkt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logické výroby a zlepšování pracovních podmínek ve všech částech svě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Vliv spotřebitelů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ákazníci upřednostňují firmy z větším etickým kredite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dniky vynakládají velké sumy na obnovu životního prostředí a snaží se o co nejšetrnější využívají VF a pracovní síl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občanských hnutí a organizací zabývajících se ekologickou stránkou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Změny v etice ve 20. století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Západní civilizace byla po jistou dobu nadšena myšlenkou osvobodit se od morálky jako nástroje útlaku cestou rozvíjení kultu individualismu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ro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ost je charakteristický návrat k etickým hodnotám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de o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eakci na individualistickou nezodpo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nost, na dekadentní vývojové trendy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s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ásilí, brutality, kriminality, korupce v politickém a hospodářském život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lariz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 jedné straně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oncentrac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nesmírného bohatství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 na druhé straně roste chudoba spjatá s všeobecným úpadk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Negativní důsledky individualism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</a:rPr>
              <a:t>Etika nového typu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G. Lipovetsky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ejde o návrat v pravém slova smyslu, o pouhou renesanci dřívější morálky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e snaze o 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jetí od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ých lidských hodnot se z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íná vytvá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t etika nového typu, odlišující se jak od trad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í náb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ské etiky, tak od laické moderní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tik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Ondřej Částek</cp:lastModifiedBy>
  <dcterms:modified xsi:type="dcterms:W3CDTF">2006-11-23T08:57:22Z</dcterms:modified>
  <cp:revision>49</cp:revision>
  <dc:subject/>
  <dc:title>Druhá vlna  </dc:title>
</cp:coreProperties>
</file>