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0AC-A593-43E6-AABA-B87BB794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364-9DDC-4581-8559-4AA1C87B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AC8-E1EE-4360-AA68-6FEB1E42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F32-1CE0-4FA1-AE6E-04CF8DD4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D74B-FF6A-4F2D-AA2B-2372723A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B464-DABE-4E85-9D45-4289A5A5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EB9C-CE98-4E3F-AB35-BB914E58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9AE3-26F3-4D57-BE5C-837F76AD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141C-97C7-4FFA-980B-6D785BE7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E125-C47A-48C7-B7EE-8FFBDCC0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B9D5-C653-4635-B838-91F18EDD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C44-78C1-49B1-BE3C-9E70AA70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DE5B-E00F-491E-935B-35AAC05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7D02-DE7B-48F1-8593-DE3AAC05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CEF6-52B9-44AD-A2B2-5BBAFC92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C187-FE2A-4CC8-BCB5-C31B6464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17F0-B56F-4F10-99DF-9CC1E1FA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CEB-21B7-4908-B278-979A999A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E4B-F6F7-425A-9EA9-1E261C6A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963-90F7-4910-9C53-68193F0F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465-1F49-428B-AC00-A319B5E2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2E5-84E9-47A3-AFF7-211E8B59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1B28-2BEF-41ED-9AB6-5E8E51C7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DC9-2B57-41DF-9C15-993517E6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5BA8-985E-4AF6-93DC-618351CE65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2525-F9CA-4F80-8F9D-15493ED646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Ako s</a:t>
            </a: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lada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ť účty spoločnosti?</a:t>
            </a: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  </a:t>
            </a:r>
            <a:br>
              <a:rPr sz="4000"/>
            </a:br>
            <a:r>
              <a:rPr b="0" lang="cs-CZ" sz="2400" spc="-1" strike="noStrike">
                <a:solidFill>
                  <a:srgbClr val="333399"/>
                </a:solidFill>
                <a:latin typeface="Tahoma"/>
              </a:rPr>
              <a:t>Koncepty spoločenskej zodpovednosti firi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63640" y="4581000"/>
            <a:ext cx="2808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ichal Koz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etr Novotn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iliam Štefán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5516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12.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Tahoma"/>
              </a:rPr>
              <a:t>Ako matica funguje :Automobilový  priemysel na západoeur. trhu  a bezpečnosť- CSR Renault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916280"/>
          <a:ext cx="8002440" cy="4343400"/>
        </p:xfrm>
        <a:graphic>
          <a:graphicData uri="http://schemas.openxmlformats.org/drawingml/2006/table">
            <a:tbl>
              <a:tblPr/>
              <a:tblGrid>
                <a:gridCol w="3898800"/>
                <a:gridCol w="4103640"/>
              </a:tblGrid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„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ečnosť pre všetkých“- výuka detí v základoškolskom a stredoškolskom veku o dopravných rizikách v okolí školských zaria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zkum technológii pre zvýšnie mobility a bezpečného riadenia telesne postihnutý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bovanie za sprísnenie vynútenia porušení dopravných predpis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upráca pri vývoji inteligentných dopravných systémo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bovanie u štátnych autorít za bezpečnosť ci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irbagy  v základnej výbave, ABS,ES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riálové a konštrukčné no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ečnostné pá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ovanie NCAP a pod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817560" cy="781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108920" y="5057640"/>
            <a:ext cx="865080" cy="830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MCj02297130000%5b1%5d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780840" cy="922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14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Ďakujeme za pozornosť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084360" y="4581360"/>
            <a:ext cx="280836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ichal Koz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etr Novotn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iliam Štefán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rtin, J.(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2002)Virtue matrix:Calculating the return on corporate responsibilit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Harvard Business revie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arrol, J.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991)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he Pyramid of Corporate Social Responsibility: Toward the Mo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Management of Organizational Stakeholder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siness Horiz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http://www.renault.com/renault_com/en/main/30_DEVELOPPEMENT_DURABLE/40_Performances/40_Societal/10_Objectifs/Actions/index.asp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avies, I.(2005)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The biggest contrac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 The Econom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Spoločenská zodpovednosť firiem(CS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bližne od 70.rokov trvalá agen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definícía(?) - aktivity nad rámec bežných zodpovedností firiem v záujme budovania vzťahov  so stakeholder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Bežný rámec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äčšina firiem operuje v mnohých geopolitických systémo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I v rámci jedného subsystému neustále zmeny hodnô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Posun myslenia vo vzťahu k CS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vyšovanie nárokov na manažérsku etik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mena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entrálnej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ázky :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SR án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i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R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ak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un k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chápaniu ako strategickej investíc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tváranie teoretických rámc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407664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472428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arrolova pyram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í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2060640"/>
            <a:ext cx="5892840" cy="396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-2811600" y="189000"/>
            <a:ext cx="2811600" cy="1547280"/>
            <a:chOff x="-2811600" y="189000"/>
            <a:chExt cx="2811600" cy="1547280"/>
          </a:xfrm>
        </p:grpSpPr>
        <p:sp>
          <p:nvSpPr>
            <p:cNvPr id="111" name=""/>
            <p:cNvSpPr/>
            <p:nvPr/>
          </p:nvSpPr>
          <p:spPr>
            <a:xfrm>
              <a:off x="-2049840" y="482040"/>
              <a:ext cx="12884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-2401200" y="891720"/>
              <a:ext cx="19915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-2811600" y="1360800"/>
              <a:ext cx="2811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-1874160" y="189000"/>
              <a:ext cx="9954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-1639800" y="1048320"/>
              <a:ext cx="61488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-1668960" y="618480"/>
              <a:ext cx="6735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1771560" y="1477800"/>
              <a:ext cx="8784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333399"/>
                  </a:solidFill>
                  <a:latin typeface="Times New Roman"/>
                  <a:ea typeface="SimSu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508720" y="2637000"/>
            <a:ext cx="24480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6666"/>
                </a:solidFill>
                <a:latin typeface="Times New Roman"/>
                <a:ea typeface="SimSun"/>
              </a:rPr>
              <a:t>vrátiť spoločnosti požičan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429408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8080"/>
                </a:solidFill>
                <a:latin typeface="Times New Roman"/>
                <a:ea typeface="SimSun"/>
              </a:rPr>
              <a:t>rešpektovať  zá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93080" y="508464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byť profitabiln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     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  </a:t>
            </a:r>
            <a:r>
              <a:rPr b="1" lang="cs-CZ" sz="1800" spc="-1" strike="noStrike">
                <a:solidFill>
                  <a:srgbClr val="008080"/>
                </a:solidFill>
                <a:latin typeface="Times New Roman"/>
                <a:ea typeface="SimSun"/>
              </a:rPr>
              <a:t>preži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cccc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3502080"/>
            <a:ext cx="2160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0560" rIns="7056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Times New Roman"/>
                <a:ea typeface="SimSun"/>
              </a:rPr>
              <a:t>Rešpektovať morálne normy</a:t>
            </a:r>
            <a:r>
              <a:rPr b="1" lang="en-GB" sz="1600" spc="-1" strike="noStrike">
                <a:solidFill>
                  <a:srgbClr val="008080"/>
                </a:solidFill>
                <a:latin typeface="Times New Roma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2854440"/>
            <a:ext cx="233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Žiadúc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437000"/>
            <a:ext cx="1747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vyžad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32000" y="3718080"/>
            <a:ext cx="1778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333399"/>
                </a:solidFill>
                <a:latin typeface="Arial"/>
                <a:ea typeface="SimSun"/>
              </a:rPr>
              <a:t>očaká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3141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lantrop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378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4581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v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5229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konom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3502080"/>
            <a:ext cx="2016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4294080"/>
            <a:ext cx="3240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5086440"/>
            <a:ext cx="4176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4221000"/>
            <a:ext cx="288720" cy="289080"/>
          </a:xfrm>
          <a:prstGeom prst="downArrow">
            <a:avLst>
              <a:gd name="adj1" fmla="val 50000"/>
              <a:gd name="adj2" fmla="val 25031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221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422100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52293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vyžad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Carrolova pyramí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Jednoduchosť, všeobecná aplikovateľnos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Logická následnosť zodpoved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ukazuje na nutnosť konzistencie spôsobu akým firma zvyšuje spoločenskú angažovanos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filantropia- podnikové dárcovstvo= špička ľadov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 príklady že toto nie vždy funguje netreba chodiť ďaleko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ČEZ                             CSR, či len P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oy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Na druhej strane....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ejednoznačnosť etickej zodpovednosti- čo je v danom momente a v danom systéme hodn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ôt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očakávané“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MNC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s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často  útek k „lacnej“ firemnej  filantropii - riešenie?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Spoločenský prínos nesporný,dlhodobý prínos pre firmu samotnú takmer neexistujú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Čiastočná odpove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6374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Roger Martin(200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hápe CSR ako produkt, aktív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oukazuje na  nutnosť hľadať strategické oblasti CS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tvára tzv. „Maticu ctností“(Virtue matri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Nie priame riešenie, ale nástroj analýzy prostredia a síl ktoré utvárajú spoločenskú zodpovednosť  firi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CSR aktivity categorizuje z dvoch hľadísk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.Zdroj ich motiváci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II. Prínos pre akcionársku hodnotu(shareholders val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1" lang="sk-SK" sz="4400" spc="-1" strike="noStrike">
                <a:solidFill>
                  <a:srgbClr val="333399"/>
                </a:solidFill>
                <a:latin typeface="Tahoma"/>
              </a:rPr>
              <a:t>Matica ctností“ </a:t>
            </a:r>
            <a:br>
              <a:rPr sz="28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22680" y="1646280"/>
            <a:ext cx="4728960" cy="4481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2852640"/>
            <a:ext cx="1316160" cy="343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trateg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35640" y="2781360"/>
            <a:ext cx="1584360" cy="48744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štrukturá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797360"/>
            <a:ext cx="114300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ô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4797360"/>
            <a:ext cx="1944720" cy="503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Vyhove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628280"/>
            <a:ext cx="41054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medzie (front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nútorne motiv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6360" y="5589720"/>
            <a:ext cx="4392360" cy="71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ivilná základňa (civil foundation)=  nápomocné,  </a:t>
            </a: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externe motivova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4365720"/>
            <a:ext cx="503280" cy="1150920"/>
          </a:xfrm>
          <a:prstGeom prst="upArrow">
            <a:avLst>
              <a:gd name="adj1" fmla="val 50000"/>
              <a:gd name="adj2" fmla="val 57171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4360" y="4292640"/>
            <a:ext cx="503280" cy="1152360"/>
          </a:xfrm>
          <a:prstGeom prst="upArrow">
            <a:avLst>
              <a:gd name="adj1" fmla="val 50000"/>
              <a:gd name="adj2" fmla="val 57242"/>
            </a:avLst>
          </a:prstGeom>
          <a:gradFill rotWithShape="0">
            <a:gsLst>
              <a:gs pos="0">
                <a:srgbClr val="ccccff"/>
              </a:gs>
              <a:gs pos="100000">
                <a:srgbClr val="9494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638172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evzaté z Martin, R.(200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333399"/>
                </a:solidFill>
                <a:latin typeface="Tahoma"/>
              </a:rPr>
              <a:t>Martin- Prečo sa inovatívnosť v CSR vyplác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. púhe držanie sa  civilnej základne nestačí a podnik sa vystavuje riziku  bojkotu  zo strany stakeholderov (podobne ako Carro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I. podnecuje i konkurenciu k hľadaniu vlastných inovácii,  z čoho, ak sa tieto ukážu ako strategické,  ťaží celé odvetvie.(  je ľahšie dobré praktiky kopírovať, než nájsť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II.i inovácie, ktoré sa nepreukážu ako strategické  majú význam,  dávajú podnety legislatíve, môžu byť vynútené štátnym zásah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IV. s vývozom kapitálu môžu  dobré praktiky navýšiť civilnú základňu v rozvojových krajinách, kde štátna regulácia je nedostatočná- konvergencia globálneho sociálneho prostred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1:40:26Z</dcterms:created>
  <dc:creator>Liam</dc:creator>
  <dc:description/>
  <dc:language>en-US</dc:language>
  <cp:lastModifiedBy>Liam</cp:lastModifiedBy>
  <dcterms:modified xsi:type="dcterms:W3CDTF">2006-12-04T00:59:21Z</dcterms:modified>
  <cp:revision>33</cp:revision>
  <dc:subject/>
  <dc:title>Ako utvárať spoločenské dobro. koncepty spoločenskej zodpovednosti firiem</dc:title>
</cp:coreProperties>
</file>