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SVIST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E07B-E217-4688-A2F2-490DAE01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B5E4-E297-4E0F-93C7-7BDCBBB8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B12E-993C-4B10-A693-4761DC81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A2A-C366-466F-9356-3D41249A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2C96-D10E-429A-A106-5F132B98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04D4-6632-4B3D-A7DC-EEDD4C6F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1092-437E-4F39-9C33-352A45D9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7D59-9E0A-4901-B27E-1D6D042F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BDB9-A276-4364-A57B-00EEB147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0B32-46A7-4D55-9155-8313F529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D173-20E0-4970-BE6E-F3466CA3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8FD8-43F6-43AC-9D39-DE294E78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1D8F-59B0-4D27-BEA2-6945CFEB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F74F-1AAF-4121-B91F-E78940AC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CE81-C3C9-4CC3-A9F8-9FBE0871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AF78-6479-4B01-8562-E8547C0E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AC0F-FA34-4596-BDA6-973045A1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E3C2-EF0A-4B9C-87E2-3C1AEE1D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713A-FD22-4FAD-BA1B-7E9ECC83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78F-D8A5-46D5-B486-1329D382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2B99-4265-47A9-97DE-C29D93F2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27B-2879-4FB9-943B-0702DA9A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697-B09C-476E-95C0-24625851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19FD-07D6-4FDE-A838-791684A9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64BE-A2CE-4FD4-AB69-C9B122A1FE4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44EA-3835-4690-9F24-9A5260071B0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tocca.com.au/" TargetMode="External"/><Relationship Id="rId2" Type="http://schemas.openxmlformats.org/officeDocument/2006/relationships/hyperlink" Target="http://www.tocca.com.au/" TargetMode="External"/><Relationship Id="rId3" Type="http://schemas.openxmlformats.org/officeDocument/2006/relationships/hyperlink" Target="http://www.tocca.com.au/" TargetMode="External"/><Relationship Id="rId4" Type="http://schemas.openxmlformats.org/officeDocument/2006/relationships/hyperlink" Target="http://www.tocca.com.au/" TargetMode="External"/><Relationship Id="rId5" Type="http://schemas.openxmlformats.org/officeDocument/2006/relationships/hyperlink" Target="http://www.tocca.com.au/" TargetMode="External"/><Relationship Id="rId6" Type="http://schemas.openxmlformats.org/officeDocument/2006/relationships/hyperlink" Target="http://www.toc-goldratt.com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SVIST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vojové tendence managementu na prahu postindustriální ér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pracovali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Daniel Nová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Lucie Absolon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arbora Říh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Kniha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fektivnost informačních systémů Molnár, Z. 200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Článek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erní management závisí na modernosti architektur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aroslav Král, Michal Žemličk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Soubor přednášek z předmětu Podnikové informační systémy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g. Jaromír Skorkovský, CS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</a:t>
            </a: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tocca</a:t>
            </a: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.</a:t>
            </a: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com</a:t>
            </a: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.au/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www.toc-goldratt.c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Arial"/>
              </a:rPr>
              <a:t>Klíčová role informace v organizac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Hodnota informace v č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právná informace ve správný čas na správném míst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íklady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Snížení nebo odstranění skladových záso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Kontrola časových rezerv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Informace o předpokládaných odběrech (SCM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Informace o stavu vlastních zásob poskytnutých dodavatel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ccff"/>
                </a:solidFill>
                <a:latin typeface="Verdana"/>
              </a:rPr>
              <a:t>Elektronické komunik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Využití informac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Dřív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o vlastním podnik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evidenčního charakteru (účetnictví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podporují snížení nákladů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tegrace dat a technických prostředků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Nemáme dost údajů</a:t>
            </a: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859280" y="1484280"/>
            <a:ext cx="402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Nyní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o okol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podporuje rozhodován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Informace podporuje prodej zboží a služ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Komunikace využívaná pro spolupráci obchodních partner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Verdana"/>
              </a:rPr>
              <a:t>Máme příliš mnoho údaj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1080" y="5715000"/>
            <a:ext cx="535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Times New Roman"/>
              </a:rPr>
              <a:t>Problém : Rostoucí objemy d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Knowledge management (KM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Verdana"/>
              </a:rPr>
              <a:t>Cíl KM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:vytvoření „ učících systémů“ integrovaných do informačních a logistických  systému podni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Verdana"/>
              </a:rPr>
              <a:t>Základ KM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: data warehouse (datový sklad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ff"/>
                </a:solidFill>
                <a:latin typeface="Verdana"/>
              </a:rPr>
              <a:t>Predikce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předpovědi, prognózy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Rozhodování na základě strukturovaných i nestrukturovaných d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Workflow Management (řízení toku úkolů v podniku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Verdana"/>
              </a:rPr>
              <a:t>Problémy s datovými odpady a bezpečností d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Nástroj KM = ERP systé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ERP = 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Enterprise Resource Plann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business operations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 (operační využití znalostí – např. zpracování zákazek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business intelligence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(práce s datovými sklady na úrovni managementu podniku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ff"/>
                </a:solidFill>
                <a:latin typeface="Verdana"/>
              </a:rPr>
              <a:t>business managemen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(oblast řízení podniku jako cel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Workflo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teligentní směrování informac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orkflow=„tok dokumentů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líčová aplikace budouc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ožnost spolupráce skupiny  na vytváření dokument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měrování dokumentů na základě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onkrétní uživatel (konkrétní adres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funkce nebo dovedno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Představení Teorie omeze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chází se systémového přístup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odnik (organizaci) chápe jako řetěz závislých proces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403280" y="3357720"/>
            <a:ext cx="6481800" cy="936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4360" y="4508640"/>
            <a:ext cx="778644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existuje jen několik málo a často jen jeden prvek, pomocí kterého můžeme řídit celý systé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Tento prvek je v TOC nazýván omezením systém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VIS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Arial"/>
              </a:rPr>
              <a:t>Teorie omezení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oč omezení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mezení zabraňuje (omezuje) systém v dosahování jeho cí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íl  podnikání dle TOC - „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ake money now and in the future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aždý systém má alespoň jedno omezení, kdyby tomu tak nebylo, dosahoval by svého cíle v nekonečném objem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5 kroků teorie omeze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299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ccecff"/>
                </a:solidFill>
                <a:latin typeface="Arial"/>
              </a:rPr>
              <a:t>Děkujeme za pozornost</a:t>
            </a:r>
            <a:br>
              <a:rPr sz="54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09:20:01Z</dcterms:created>
  <dc:creator>Danny</dc:creator>
  <dc:description/>
  <dc:language>en-US</dc:language>
  <cp:lastModifiedBy>Danny</cp:lastModifiedBy>
  <dcterms:modified xsi:type="dcterms:W3CDTF">2006-10-01T19:57:33Z</dcterms:modified>
  <cp:revision>5</cp:revision>
  <dc:subject/>
  <dc:title>Vývojové tendence managementu na prahu postindustriální éry</dc:title>
</cp:coreProperties>
</file>