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4C3-592A-4FF2-8D16-28ED1D75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48F-132B-484B-BA7C-B69D626A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6BC-C307-4359-A981-CF395DFD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09F-F284-4985-8758-B4B3EDA5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44EC-A0D2-4CA5-B227-D62280C8C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4C87-90C8-440C-A990-BBCF8437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129F-DA0E-4742-B753-FF025F3A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9931-32D0-4709-98F3-5FE216C8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D7BC-41B0-4B1F-B741-EF5DC656D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45F9-F81C-4D2E-9436-7552449B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9AA8-56B8-4A6B-B4E2-5BD032B8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79D-3EBC-49D1-A421-75B0C6F3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BA0C-6432-48FD-9D1A-0A298AD8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6F2A-87CA-4DE9-A2AD-929B5C30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3612-7EAB-4384-B2E8-652273F1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2467-CC32-4454-8AF3-A6704CE6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8DD9-ABA7-4445-B0A5-BEB9272B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E5E7-D9E3-42BB-96DE-5B9E37BD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194-A0CC-4A1E-9A92-C5D19343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9EB-301F-4970-99A6-57D20F66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C11-A9D8-49B3-98C6-011B958F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39B-E7CF-4E93-A19A-F0BA7004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06C-C41E-4536-9421-6F88BAE3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836-2B47-43F5-A05B-87548E92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6EA7-FD27-42C9-AFC2-CBED61367DC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37ED-EC4A-4EB8-8FD9-FC5A3D716E9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polečenská zodpovědnost podnik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943600" y="54864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Lukáš Przybyls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ndřej Chl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etr Procház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za životní prostřed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ýzkum nových technologií vedoucích ke zlepšování Ž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nalýza dlouhodobých možností čerpání zdroj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sazení standardů na alespoň minimální ochranu Ž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odely vztahů mezi organizací a společnost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6 mode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ohledy na stejnou vě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chází z různých předpoklad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ráv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xistence nadřazeného systému (právní systé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povědnost stanovena zákon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ystém je v rovnováze x regulace poruch novými zák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Trhově smluv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inou zodpovědností organizace je produkov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ce a společnost jsou 2 paralelní 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munikace prostřednictvím výměny na trh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lužba veřejnému blah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486900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ykořisťovatelský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měně organizace dostane vždy víc než spole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ganizace a společnost jsou 2 paralelní systé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Technicko-strukturní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eakce na trhově smluvní a vykořisťovatelský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sahují pravdy i neprav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nik nové třídy manažerů (ovládají všechny instituce ve společnost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213000"/>
            <a:ext cx="608040" cy="838440"/>
          </a:xfrm>
          <a:prstGeom prst="downArrow">
            <a:avLst>
              <a:gd name="adj1" fmla="val 50000"/>
              <a:gd name="adj2" fmla="val 34473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Model vzájemně se prolínajících systémů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tvrzení částečné platnosti předešlých modelů, ale odmítá jejich schopnost obsáhnout reali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důraznění interakce mezi aktéry ve spol. systé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y aktérů jsou zdrojem napětí, ale i tvůrcem rovnová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Stakeholderský mode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současnosti populární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odpovědnost je souhrn sporných otázek, které vnášejí do organizace vnější složky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dpovědnost je stanovena diskusí a dialog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4076640"/>
            <a:ext cx="608040" cy="838440"/>
          </a:xfrm>
          <a:prstGeom prst="downArrow">
            <a:avLst>
              <a:gd name="adj1" fmla="val 50000"/>
              <a:gd name="adj2" fmla="val 34473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ffff"/>
                </a:solidFill>
                <a:latin typeface="Times New Roman"/>
              </a:rPr>
              <a:t>Začlenění etiky do podnikové strategi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Nejúčinnější cestou určení pevných hodnot organizace je využití systému její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korporativní kultury</a:t>
            </a: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oupnost kroků změn podnikové kultu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znat nevyhnutelnost změ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známit změny všem zaměstnancům organiz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ačínat malými změnam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odelovat změ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tevřít komunikační kanál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čit zaměstnance jak přistupovat k novému systém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just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ýt trpěliv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Paralelní pláno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Times New Roman"/>
              </a:rPr>
              <a:t>Dominující postavení zisku a efektivnosti v systému podnikové kultury je nevyhnutelné vyvážit ostatními, hlavně etickými hodnotam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Times New Roman"/>
              </a:rPr>
              <a:t>Proces paralelního plánování</a:t>
            </a: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 umožňuje včlenit hodnoty společenské zodpovědnosti a základní etické hodnoty do systému podnikové kultu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aralelní plánování = plánování orientované na 2 výstup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ýstup cílů podni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enviromentální výstup podni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Paralelní plánování můžeme shrnout do následujících tezí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anticipace etických problémů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aplikace nástrojů společenské zodpovědnosti a etické analýz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eterminace hodnot korporace, které jsou pro ni nejdůležitější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integrace těchto hodnot do kultury podnik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bsah prezenta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orové typy společenské zodpovědnosti podnik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sah zodpovědnosti organizace – modely řízení a společ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členění etiky do podnikové strateg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loha podnikové kultu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Times New Roman"/>
              </a:rPr>
              <a:t>Podniková kultura prostupuje celým plánovacím procesem, ovlivňuje jej a sama je jím ovlivňován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Otevřenost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je důležitým prvkem podnikové kultu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„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dské systémy mají tendenci k sebekorekci, pokud mají včasné a přesné informace o tom, co je třeba napravit.“ (filozof Karl Popp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 podnikové kultuře existuje několik indikátorů nedostatečné otevřenosti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dřízení se snaží získat informace o stanovisku managementu k danému problému, teprve potom se sami vyjádří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ezi manažery panuje dokonalá shoda v názorech na rozličné problém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istuje odpor k poskytnutí špatných zpráv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UKNIČ, A.S. Štvrtý rozmer podnikania - etika. Bratislava : SAP, 1994. ISBN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80-85665-30-1.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RNKOVÁ, J. Společenská odpovědnost firem. Business Leaders Forum, 2004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ndřej Chlup (tým 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zorové typy společenské zodpovědnosti podnik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kladní normy a kritéria spol. zodp. lze rozdělit do několika skupin týkajících 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třebi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aměstnanc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časti zaměstnanců na rozhod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kcionář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u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eřej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životního prostře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spotřebitel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ravedlivá hodn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ivé a srozumitelné inform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ctivá a hodnověrná rekl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věření bezpečnosti výrobku a varování před neověřenými vlastnosti a riziky použi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zaměstnanc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ávo na spravedlivé a rovné zacház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mezení použitelnosti výkonových no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olečnost prostředníkem zvyšování kvality a bezpečnosti života a zdraví zaměstnance (i mimo pracoviště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čast zaměstnanců na rozhodování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činný model komunikace v podniku má pozitivní ekonomické dopady, ale i etickou dimenz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akcionářů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eřejnění seznamu akcionář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ivé informování současných a budoucích akcionářů o vývoji podni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žádné osobní výhody manaže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Vztahy mezi konkurent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kurence by měla být čis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az najímání zaměstnanců konkurence s cílem získat určité důvěrné inform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Zodpovědnost vůči veřejnost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komunikace s okolní komunit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ordinace určitých rozhodnu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pora místního sociálního a kulturního živ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mínky ukončení činnosti v dané lokali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19:50:59Z</dcterms:created>
  <dc:creator>Lukáš Przybylski</dc:creator>
  <dc:description/>
  <dc:language>en-US</dc:language>
  <cp:lastModifiedBy>Ondřej Částek</cp:lastModifiedBy>
  <dcterms:modified xsi:type="dcterms:W3CDTF">2006-12-11T11:52:34Z</dcterms:modified>
  <cp:revision>8</cp:revision>
  <dc:subject/>
  <dc:title>Společenská zodpovědnost podnikání</dc:title>
</cp:coreProperties>
</file>