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E45F-B5CA-4B5F-8B75-89916300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0F3-A194-49AA-A778-CC6627DE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D72-6168-4E9A-AF01-73E889E5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3CD-AEFF-40A5-ABE8-86071470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BE1A-D34B-4C02-9146-C40C2FBA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AC10-AEEA-457A-9EA4-79074FCA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2FFC-9038-4F76-BC55-DA6EBEDA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A872-6F6C-4ADA-AC59-E1CEB137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0A9B-273F-49B9-A21E-9C28A492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81E5-6312-4D2E-B61E-CA595689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F284-0E91-4F7F-9247-C366FE91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216-FD77-4B13-9D67-C911ECB7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3EC6-9060-46E7-A103-B726D051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A677-F932-4B83-9B0E-F6491B23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80C9-A883-4D34-B28D-004C46A3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E7F5-7710-4029-A53E-BBF38769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D2F4-48FF-404E-8A5C-54EED438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BEE-CF24-47CB-B46E-516DE468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5171-2201-4BC6-A9F2-07B7FF61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1A8-6FD4-4352-8AE1-D0B88EF0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8076-70A5-4835-ADA8-6E0AE2D7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880-72E1-4C63-83EE-93C7846C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F86-F29A-4794-83D6-F6CE7B73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004-3617-4C5E-91C5-8D047614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34C9-20E6-44D3-8E54-B1B0A2519478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FBD7-A467-4EB7-B6E1-70B44B3E9ABD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ezentace do předmětu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ment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. Zbíral, J. Cahová, J. Fiš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oužitá literatura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.Rich: </a:t>
            </a:r>
            <a:r>
              <a:rPr b="0" i="1" lang="cs-CZ" sz="3200" spc="-1" strike="noStrike">
                <a:solidFill>
                  <a:srgbClr val="eaeaea"/>
                </a:solidFill>
                <a:latin typeface="Times New Roman"/>
              </a:rPr>
              <a:t>Etika Hospodářství I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. Praha: Oikoymenh, 1994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jem etika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jem etika se odvozuje od řeckého slova ethos, které v původním významu znamená „obvyklé místo pobytu“. Ethos v abstraktním slova smyslu znamená zvyk, obyčej, později mravy. Poprvé u Sokrata nabyl jiný význam – místo navyklého konání význam co mám činit na základě rozumového vhled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ředmět eti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ředmětem etiky je člověk, respektive odpovědnost člověka v jednání s lidmi i se vším, co k bytí člověka patří. Člověk ke svému bytí svět potřebuje. Odpovědnost nelze omezovat jen na lidstvo, odpovědnost přesahuje do odpovědnosti kosmologick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je odpovědný nejen za zacházení s ostatními lidmi, ale i s přirozeným životním prostředím, které je základním předpokladem pro existenci všech tvorů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Člověk ale má dánu snahu o urvání všeho pro sebe, popřípadě pro svůj rod, zajištění budoucnosti sebe a několika nejbližších generací (v čase posun vnímání – dle našeho názoru přechod k vnímání budoucnosti více dlouhodobě – od 1 generace po generace cca 4 – samozřejmě INDIVIDUÁLN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5853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kologická et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nství nad nějakým člověkem narazí dříve či později na odpor a tím se vyjeví etická problematičnos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Zato s panstvím nad věcmi se spojuje i právo věc zničit, nejen právo užívat a požívat plodů věci. Věci neživé - jedině obavy o možný nedostatek věci v budoucnu některým velí omezit spotřeb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 této souvislosti je třeba si uvědomit hranici vlastnictví – vlastní třeba jedinec, ale svým konáním může negativně ovlivňovat ostatní jedi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cionalita ekonomického jednání hovoří o maximalizaci užitku. A ten je individuální. Toto je možná klíčem k otázce co vede jedince k etickému jednání. Je to zřejmě  užitek, který z tohoto jednání mají. Chtění se zalíbit je jedním z významných motivů pro lidské jednání toho kterého druh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Etika podnikání asijských podniků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Lze se chovat tak, že ničí podnikání životní prostředí a argumentovat slabší ekonomikou (Japonsko? vs. Indi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Vývoj Japonska po 2. Světové válce založen na zpětném engineeringu, stejně tak dnešní Čína. Dle našeho názoru v takové situaci není vhodné aplikovat myšlenky volného trhu, naopak přísná cl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orálka versus požit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kud tedy jedinec či země jedná skutečně neeticky (co se podnikání týče), pak je nutné sledovat příčiny. Obvykle se jedná o snahu získat více pro sebe. Jediný způsob, jak tomuto zabránit je uvalení takových restriktivních opatření, které takové chování zbaví výhodnosti. Toto je možné zajistit legislativo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gislativa skutečně některému neetickému jednání brání – např. klamavá reklama, tresty za podvod a další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d podnikání k širší et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Chování států jako sledování zájmu občanů nebo boj o moc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e správné trestat slabé a silné nikoli (Husajn a Bush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ak může jedinec toto řeši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Proč „svět“ toto neřeš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Jde jen o bohatství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8:30:29Z</dcterms:created>
  <dc:creator>David</dc:creator>
  <dc:description/>
  <dc:language>en-US</dc:language>
  <cp:lastModifiedBy>Ondřej Částek</cp:lastModifiedBy>
  <dcterms:modified xsi:type="dcterms:W3CDTF">2006-11-23T08:58:23Z</dcterms:modified>
  <cp:revision>5</cp:revision>
  <dc:subject/>
  <dc:title>Etika podnikání</dc:title>
</cp:coreProperties>
</file>