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8B509-935F-4E7D-AF62-BD7D1CFC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06CA-3131-40C5-906C-6FBD6B88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718E-ADFA-4BC5-ADE9-A2FD8F20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EF2A7-D9EB-4983-81B5-277055ED5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D17D-EDB3-4226-BB0D-07B9D4BD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000B-626C-45CE-8D47-E4F65B46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3166-E8AF-4D0E-8AB9-26BC151A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28DA-F0C7-4A0B-8CA1-C2C44763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8464-8CA2-4A64-8DD5-FF13A949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3ECF-21D7-4A89-994D-BA08CDCF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370D-9484-45A7-B09E-95F53493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0F9C-C9BE-4252-A766-2E34F771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E98E-8910-4761-9A88-3CC2D990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C02D-0A16-4C02-B457-E78160F6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9B9C-0CD5-4D78-8704-BA4FF4C2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778D-913E-4686-B1DE-00952947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DC6D-F93A-4021-8DE6-AFDF276C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1C06-7610-4B7A-B9E7-1A721E34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AD00-71C9-4A88-938C-6A335217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71359-846F-42F0-8642-DE284E3E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3438-F627-46E0-A065-B566BFC7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66B1-29CD-4E5C-828F-9BFFE7D5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8C02-30C8-48CD-8411-A8D6F874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D797-7750-48EB-AB54-2C0BE24E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83A1-661D-4DDF-9290-6C75632F0E0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3F63-629E-4DD2-BE86-C2726ED9C38A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Courier New"/>
              </a:rPr>
              <a:t>OUTSOURCING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UCIE ABSOLON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ANIEL NOVÁK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BORA ŘÍH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ĚKUJEME ZA POZORNOS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ýblo, J.: Outsourcing a outplacement: praxe a právní souvislosti, Praha: ASPI,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equensová, H.: Lidské zdroje?, Havířov: Question Marks, 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skočil, V.: Podpůrné procesy a snižování režijních nákladů (facility management), Praha: Professional Publishing, 200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ruckner, T.: outsourcing informačních systémů, Praha: Ekopress, 199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jem americké obchodní angličti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takový stav (nebo činnost k němu vedoucí), kdy vstup, který by firma získala z takového zdroje, koupí od jiného (podnikatelského) subjektu jako službu (nebo zbož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smluvní vztah s externí firmou za účelem přenesení odpovědnosti za určitou část funkční oblasti (účelové vymezení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Co je to outsourcing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hrnuje především oblasti, které bezprostředně nesouvisejí s hlavním předmětem činnosti podniku a dosud bylo obvyklé je provádět v podniku samé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lavní problémy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vytěsnit a zda vůbec vytěs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efekty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výhoda vytěs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Historie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číná již dělbou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ystematicky se jím podniky začínají zabývat v 60. letech 20. stolet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a zlom v jeho rozšíření a začátek jeho masového využití (v USA) – outsourcing informačního systému firmou Kod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hojné využití vrcholí od počátku 90.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znik poskytovatelů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lcí poskytovatelé služeb v určité funkční oblasti jsou často podniky, jejichž původní zaměření je ji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kládání s rozvinutou funkční oblastí je vytěsnění vlastní organizační jednotky – ta se osamostatní a poskytuje služby svému mateřskému podniku i dalším zákazní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Důvody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 obla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nkurenční – důvody strategické, zaměření na získání konkurenční výhody, cíl dlouhodob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ěcné – zdokonalení v oblasti hl. činnosti, zajištění přístupu ke zdrojům nutným pro rozvoj hl. obla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finanční – snížení nákladů a zvýšení výno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organizační – zjednodušení manažerské práce a zploštění organizační struktury podniku – rostoucí specializace podniku, pracovníků i stř. management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Proces outsourcing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ealizace prostřednictvím projek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áze outsourcing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á analýza funkčních oblast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určení funkčních oblastí, které budou vytěsněn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efinice rozhraní „podnik – poskytovatel“ a definice požadavků na poskyto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ýběr poskytovatel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řízení vztah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ýhody outsourcingu pro podni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tup ke světové úrov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vé technologie bez vedlejších náklad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ychlejší nástup nových technologi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padá odpovědnost za oblast a za její říz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ložení nákladů (plateb za služby) a redukce inves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un peně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žnost snadnější fúze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Nevýhody outsourcingu pro podni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ízká operabil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vratnost rozhodnutí (lack of flexibilit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šší náklady případné změ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utnost řízení vztah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zika zadavatele (riziko nízké úrovně služby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kontrovatelné toky vnitřních informací mimo podn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btížně kvalifikovatelné přínos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8:04:26Z</dcterms:created>
  <dc:creator>CIKT</dc:creator>
  <dc:description/>
  <dc:language>en-US</dc:language>
  <cp:lastModifiedBy>Ucitel</cp:lastModifiedBy>
  <dcterms:modified xsi:type="dcterms:W3CDTF">2006-10-22T08:41:56Z</dcterms:modified>
  <cp:revision>4</cp:revision>
  <dc:subject/>
  <dc:title>OUTSOURCING</dc:title>
</cp:coreProperties>
</file>