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31E6-B299-4F3E-9EA9-50ADBCF05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8F05-28CD-473B-AC1A-6E0D0BEC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5670-1CEA-4985-A2AF-C5793EA1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4105-6DAB-4A24-BA2F-A3543B06D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C681-06D3-46A5-83C4-B83FE531A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AFCF-AF1A-43A1-BCC9-8383BC04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E533-B390-477C-8E88-179A0E91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50F6-9CA9-4A68-972D-E4440251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57F3-3CCF-4A73-9D97-9166F7CC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83FE-BF83-4D6C-90A2-90BC29CC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CB3E-3A88-4F81-9F36-EBFAB9D0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74D5-46A8-4B32-A786-645E7ECF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9BB4-531C-4647-8C49-78D4F6EC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5199-00BE-4A3E-9167-214B41BA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1A12-50D8-4916-B827-C291D5E2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D5C1-B021-428F-B175-6619E8FC2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ECEA-5B91-41F2-8595-C60D5A0DC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B9C7-9F35-49F3-AA46-30C017C3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FF0D-1F15-4186-9522-327DD3BE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7170-A514-42D4-B864-016A3627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A6C6-792C-4F93-B6B6-44502A7E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19E9-A8E3-4082-9C10-D29C3FA6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C3EA-C0BB-4454-A5DA-537584EA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774E-096F-4FB7-985B-E1DBD0FE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ED75-98B0-42B2-B3E2-2D22872E11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734C-6C30-4064-9BC7-F638CCF6EF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Tempus Sans ITC"/>
                <a:ea typeface="Times New Roman"/>
              </a:rPr>
              <a:t>PROJEKTOVÝ MANAGEMEN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476360" y="357336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Tým č. 7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Martin Simersk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Tomáš Vobeck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Petr Suchán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Vymezení a definování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24498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00"/>
                </a:solidFill>
                <a:uFillTx/>
                <a:latin typeface="Tempus Sans ITC"/>
              </a:rPr>
              <a:t>VSTU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Vymezení výsledků projekt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Nároky na projektové říze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19640" y="2133720"/>
            <a:ext cx="244944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00"/>
                </a:solidFill>
                <a:uFillTx/>
                <a:latin typeface="Tempus Sans ITC"/>
              </a:rPr>
              <a:t>VYHODNOC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Jde o příležit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Vyplatí se vynaložení peněz a čas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Jaká jsou rizi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12000" y="2133720"/>
            <a:ext cx="244944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00"/>
                </a:solidFill>
                <a:uFillTx/>
                <a:latin typeface="Tempus Sans ITC"/>
              </a:rPr>
              <a:t>VÝSTUP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Specifikace konečných výsledk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Specifikace omezení, předpoklad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Určení vedoucíh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4360" y="5877000"/>
            <a:ext cx="7129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00"/>
                </a:solidFill>
                <a:latin typeface="Arial"/>
              </a:rPr>
              <a:t>Vymezení a definování projektů (Veber, 200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50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50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000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Plánování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84872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mpus Sans ITC"/>
              </a:rPr>
              <a:t>Výstupem procesu plánování je</a:t>
            </a:r>
            <a:r>
              <a:rPr b="1" lang="en-US" sz="20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Tempus Sans ITC"/>
              </a:rPr>
              <a:t>plán projektu</a:t>
            </a:r>
            <a:r>
              <a:rPr b="0" i="1" lang="en-US" sz="20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empus Sans ITC"/>
              </a:rPr>
              <a:t>určující</a:t>
            </a: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empus Sans ITC"/>
              </a:rPr>
              <a:t>věcnou, časovou, rozpočtovou a organizační dimenzi projektu</a:t>
            </a: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V nejširším pojetí jsou plány závislé na znalosti tří faktorů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92360" y="3762360"/>
            <a:ext cx="46087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Kde nyní js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Kam se chcete dost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Jakým způsobem se dostaneme tam, kde chceme bý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Jednotlivé dimenze plánu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26920" y="2060280"/>
            <a:ext cx="7848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Věcná dimen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Časová dimen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Organizační dimen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Rozpočtová dimen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Realizace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6920" y="1988640"/>
            <a:ext cx="7848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Systémová integr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Dohled nad realiza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Podáv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Předání a vyhodnocení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252108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cc00"/>
                </a:solidFill>
                <a:uFillTx/>
                <a:latin typeface="Tempus Sans ITC"/>
              </a:rPr>
              <a:t>VYHODNOCENÍ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empus Sans ITC"/>
              </a:rPr>
              <a:t>Testová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empus Sans ITC"/>
              </a:rPr>
              <a:t>Zkušební provo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empus Sans ITC"/>
              </a:rPr>
              <a:t>Stand. postu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19640" y="2133720"/>
            <a:ext cx="244944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00"/>
                </a:solidFill>
                <a:uFillTx/>
                <a:latin typeface="Tempus Sans ITC"/>
              </a:rPr>
              <a:t>PŘEDÁ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Předávací protok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Rutinní provo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Garance projekt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12000" y="2133720"/>
            <a:ext cx="244944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00"/>
                </a:solidFill>
                <a:uFillTx/>
                <a:latin typeface="Tempus Sans ITC"/>
              </a:rPr>
              <a:t>VYHODNOC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Managemen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empus Sans ITC"/>
              </a:rPr>
              <a:t>Podle ekonomických výsledk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5877000"/>
            <a:ext cx="7129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00"/>
                </a:solidFill>
                <a:latin typeface="Arial"/>
              </a:rPr>
              <a:t>Předání a vyhodnocení projektu (Veber, 200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4500"/>
                            </p:stCondLst>
                            <p:childTnLst>
                              <p:par>
                                <p:cTn id="4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0"/>
                            </p:stCondLst>
                            <p:childTnLst>
                              <p:par>
                                <p:cTn id="4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500"/>
                            </p:stCondLst>
                            <p:childTnLst>
                              <p:par>
                                <p:cTn id="4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6000"/>
                            </p:stCondLst>
                            <p:childTnLst>
                              <p:par>
                                <p:cTn id="4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Lucida Handwriting"/>
              </a:rPr>
              <a:t>Použitá literatur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ěmec, V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 Projektový management,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aha: Grada Publishing, 200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Rosenau, M.D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 Řízení projektů,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aha: Computer Press, 20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vozilová, A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rojektový management.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aha: Grada Publishing, 200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Šmajs, J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Drama evoluce.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aha: Hynek, 20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eber, J. a kol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 Management. Základy, prosperita, globalizace.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aha: Management Press, 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500"/>
                            </p:stCondLst>
                            <p:childTnLst>
                              <p:par>
                                <p:cTn id="4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500"/>
                            </p:stCondLst>
                            <p:childTnLst>
                              <p:par>
                                <p:cTn id="5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590560"/>
            <a:ext cx="8458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Lucida Handwriting"/>
              </a:rPr>
              <a:t>Děkujeme za pozornos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Co to je projektový management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empus Sans ITC"/>
              </a:rPr>
              <a:t>„</a:t>
            </a:r>
            <a:r>
              <a:rPr b="1" lang="cs-CZ" sz="2000" spc="-1" strike="noStrike">
                <a:solidFill>
                  <a:srgbClr val="ffffff"/>
                </a:solidFill>
                <a:latin typeface="Tempus Sans ITC"/>
              </a:rPr>
              <a:t>Uplatnění specifických nástrojů, technik, znalostí a dovedností v projektových činnostech s cílem splnit (popř. překročit) očekávání, jež jsou s projektem spojena“ (Veber, 2000).</a:t>
            </a:r>
            <a:r>
              <a:rPr b="0" lang="cs-CZ" sz="2000" spc="-1" strike="noStrike">
                <a:solidFill>
                  <a:srgbClr val="ffffff"/>
                </a:solidFill>
                <a:latin typeface="Tempus Sans IT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Přístup řízení při zavádění závažných změn v organizací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Každá změna je projekt – je jedinečná a má svůj cí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Projektový management obsahuj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ffffff"/>
                </a:solidFill>
                <a:uFillTx/>
                <a:latin typeface="Tempus Sans ITC"/>
              </a:rPr>
              <a:t>Aktivity související 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Řízením předmětu či služ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Ekonomickým aspektem projek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Časovou koordinací projek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Budováním mezilidských vztahů mezi účastníky projektu - teambui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Charakteristické znaky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empus Sans ITC"/>
              </a:rPr>
              <a:t>Cí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empus Sans ITC"/>
              </a:rPr>
              <a:t>Jedinečno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empus Sans ITC"/>
              </a:rPr>
              <a:t>Zdroj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empus Sans ITC"/>
              </a:rPr>
              <a:t>Organiz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Cíl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Tzv. projektový trojimperativ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Specifikace provedení projek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Časový plá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Nákla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Snaha o dosažení všech cílů najedn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Jedinečnost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empus Sans ITC"/>
              </a:rPr>
              <a:t>Jedinečnos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Čas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Finan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Pracovních skup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Zdroje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Materiální i lidsk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Je velmi důležité organizovat lidské zdroje, aby byly schopny efektivně využívat zdroje materiál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Organizace projek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Zvládání mezilidských konflikt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Velký počet cíl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Velký počet jednotlivců různý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Profes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Zájm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Povahových vlastnos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Tempus Sans ITC"/>
              </a:rPr>
              <a:t>Struktura projektového řízení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Vymezení a definování zadání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Plánování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Realizace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Předání a vyhodnocení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2:28:15Z</dcterms:created>
  <dc:creator>Petr Suchánek</dc:creator>
  <dc:description/>
  <dc:language>en-US</dc:language>
  <cp:lastModifiedBy>Simerský</cp:lastModifiedBy>
  <dcterms:modified xsi:type="dcterms:W3CDTF">2006-12-03T22:35:28Z</dcterms:modified>
  <cp:revision>6</cp:revision>
  <dc:subject/>
  <dc:title>CHARAKTERISTICKÉ RYSY A ZÁKLADNÍ PRINCIPY INDUSTRIÁLNÍ SPOLEČNOSTI </dc:title>
</cp:coreProperties>
</file>