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02BE-99B6-42D6-86B9-9CA01697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C0C0-A796-4EC2-8DE8-CAD5DA1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6CAD-BBB7-46DF-96D6-64915A2B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0BA1F-5419-47B9-A168-8B1CC362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208F-6C3F-4911-86FD-EE85B7A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CDE5-1887-46C2-A604-342BB53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3223-9045-409D-9638-0390C563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444E-F7E2-4611-836F-AAA27DE6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3C6C-C6CD-491F-9DED-EED73B0C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E43B-A42D-4756-9CFD-2D3F3F16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5443-459D-4B15-81ED-3D1AF41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C192-0BE1-4636-9203-A03316A3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9B89-04AD-4F18-8F9C-64FFE1F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78D-AE12-422E-A350-BBD6DDB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AC0E-12EC-409A-9B3A-121ED859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A92-4EB2-4401-B2BC-1A0A1E93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AE82-D411-40FB-8A5A-53C9B6F5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9828-B90A-4F8C-A00E-18E42BA7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22A9B-03BE-4624-8A16-9774DC15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10F9F-D74D-43B6-B5D6-69D8591D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432B-1457-4AED-B111-62DC0E80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72060-3077-4EEC-AB6E-D0E3D7A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1E85-5774-4577-862B-8934F98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E326-5FCA-488A-B70D-0CBE80B7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7BA6-F80E-4439-B071-0CA336CA31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F42A-4AC3-489A-9FE4-7C4CB5E941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Vývoj podniků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068280"/>
            <a:ext cx="6400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Garamond"/>
              </a:rPr>
              <a:t>Tým č. 7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artin Simers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Sucháne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Tomáš Vobeck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6.11.200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management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ptylování akciového kapitálu mezi velký počet drobných vlastník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utnost oddělení vlastnictví a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 řízení přechod od vlastníků k manažer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ažerská revol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válečné obdob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znamný růst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vorba kartelů, monopolistických koncern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esun moci z rukou vlastníků do rukou profesionálních řídících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vlivu stá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álně řízené ekonomik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844280"/>
            <a:ext cx="49672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inantní působení státu na hospodářstv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lké státní podn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Řídící pracovníc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463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Konec samorostlých „kapitánů průmyslu“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5986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ažer profesioná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užné výrobní systé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malých fir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lobaliz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věrečné dekády 20. stole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ří nadnárodní společ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4 světové produk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/3 světového obcho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neral Motors, Microsoft,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ýhody nadnárodní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kurenční výho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tik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rizontální integ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ístní podmín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Kvalifikace pracovní sí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áklady na suroviny, materiál, 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Úroveň infrastruk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íra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4376880" y="3139920"/>
            <a:ext cx="39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Literatura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ameron, R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tručné ekonomické dějiny světa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Victoria Publishing, 1996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Lipovetsky, G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oumrak povinnosti. 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Dílo národů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Prostor, 1995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ich, R. B.: </a:t>
            </a:r>
            <a:r>
              <a:rPr b="0" i="1" lang="cs-CZ" sz="18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 Praha: Vize 97, 200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čátky hospodářstv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grace výroby a spotře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éměř žádná změ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vní kroky kupřed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átek industriální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začíná dominov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usta firem s nepatrným podí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žní cena byla objektivní veličin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silování pozic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bstituce práce kapitá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silných – zánik neúspěšný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ůmyslová revolu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62024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dstatné zvyšování efektiv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ní stroj a elektřin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dopravy – železn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komunikace - telegra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ální změ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ční nároky nad možnosti individuálních podnikate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lší koncentrace kapitálu – více vlastní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ligopolní struktura tr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pochybnění celkové konku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ůsledek koncentrace podnik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naha vlád o omezování moci společnos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ijetí Shermanova protitrustového zákona – zákaz dohod o cenách a rozdělení tr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aproduktiv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obrovských korpora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ílení oligopol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doba trh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ždé odvětví 2-3 gigantické korpor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rčují mzdy a c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 druhé straně stály statisíce malých podniků, které vyplňovaly mezeru na trhu se zbožím, které se nevyplácelo produkovat ve velké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ůst obliby akciových společností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3716280"/>
            <a:ext cx="785988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kcie – velmi likvidní a výnosná forma jmě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ůst drobných akcionářů – vznik „kvaziveřejných“ společnost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779640" y="2204640"/>
            <a:ext cx="4824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zvoj akciového trhu a burzy cenných papír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097440" cy="198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9640" y="4076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07:50Z</dcterms:created>
  <dc:creator>Eva</dc:creator>
  <dc:description/>
  <dc:language>en-US</dc:language>
  <cp:lastModifiedBy>Eva</cp:lastModifiedBy>
  <dcterms:modified xsi:type="dcterms:W3CDTF">2006-11-05T18:10:51Z</dcterms:modified>
  <cp:revision>24</cp:revision>
  <dc:subject/>
  <dc:title>Vývoj podniků</dc:title>
</cp:coreProperties>
</file>