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99C29-5EF1-4833-B57D-5C6B34776E5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Outsorcing-Využívání služeb externích pracovníků, zpravidla specialistů nebo jiných podniků, namísto zaměstnávání lidí na plný úvaze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Insourcing-je činnosti opačná, při níž se externí dodávky nahrazují vlastní produkc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mporary help – najímání lidí pouze dočasně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Lidé mají tendenci nazývat outsoursing dvoumožnostním procesem - buď si to uděláte sami nebo si to necháte udělat někým jiný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oto vnímání nebo paradigma ohledně outsoursingu jej redukuje na status krajního rozhodnutí ano-ne mezi zabezpečením kontroly nebo postoupením této kontroly na někoho jiného. Je to právě toto myšlení, které zabraňuje obchodu odzkoušet outsoursing jako legitimní strategii k zajištění obchodních cílů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ísto tohoto pohledu dvou možností, outsoursing by měl být viděn jako dynamický krok s vícero úrovněmi a stupn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Core business – možnost lepšího se soustředění na hlavní činn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Něco není ve schopnostech naší fir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áme nedostatek pracovníků nebo naopak trvale nevyužité zaměstnance v dané oblas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Falešní outsourcing – např. ušetřím mzdové náklady, daleko více se zaplatí na subdodávká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Rizika, která s sebou vyčlenění přináší, mohou snadno převážit jeho přínosy. Zamezit nebo předejít rizikům zcela nelze, ale lze je minimalizovat důsledným přístupem a správným smluvním zajištění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ozor na tyto aspek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vše definovat v základním kontrakt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-smlouva je nepojmenovaná, proto by měla být detailn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Smlouva musí řešit zamezení úniku informac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Informační nevyváženost outsourcingového vztah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D0BE-19C1-4CD0-A53D-929E0E9C0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4605-F5C0-475F-934D-A6D0886CB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3C9F-C219-488C-ADF0-9F1929BCA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EE2A-4F70-4C8D-B589-D68AA4716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3D7ED-31A1-4FA5-9AF0-8BC614972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D1CA5-6A82-4D68-91B5-B233AADA5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03BB3-E6AF-4AF5-8FB9-0D36D455D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F70A2-41B7-42F4-BDA7-31D8E0562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64813-FCC1-4B59-A16C-7AF2A091D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6CA1E-5ACB-47D5-8850-EEDAD6D80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4DD93-6159-41B0-AC4E-8D767B9DE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2A7F-3BE8-46F9-9035-D5806806C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29E10-6767-46F2-9F4B-FCF44D917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B04D2-DFB3-4AA6-90FD-C8DCEBD0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B9798-2B1F-4C38-9463-24622D1AB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5C92C-F063-4E36-B3A6-168AA07C8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B1644-CF97-4C3A-84DB-A89FA79B7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0AD6-1029-4EBA-8082-D6E261656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AC7B-ED3C-4EEA-A6AF-68BC506A9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89E3-BF2C-43BB-8999-03EB373F6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0ACB-0B29-42B4-B951-B8AA20FBC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AB3B-EA3D-419D-A591-0823E4B6F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F844-D297-4750-820E-E628D786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2261-A680-4E89-BAF4-869168C3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8080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8080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4A882-C794-478D-A6FF-50CD7D06DBF4}" type="slidenum">
              <a:rPr b="0" lang="cs-CZ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8080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8080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D7EDB-E5F9-4B9C-AAFA-11F5D93417E1}" type="slidenum">
              <a:rPr b="0" lang="cs-CZ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infosys.com/bpo/services-solutions.asp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9246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80808"/>
                </a:solidFill>
                <a:latin typeface="Tahoma"/>
              </a:rPr>
              <a:t>Outsourcing</a:t>
            </a:r>
            <a:r>
              <a:rPr b="1" lang="cs-CZ" sz="4400" spc="-1" strike="noStrike">
                <a:solidFill>
                  <a:srgbClr val="080808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79280" y="4971600"/>
            <a:ext cx="896472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80808"/>
                </a:solidFill>
                <a:latin typeface="Tahoma"/>
              </a:rPr>
              <a:t>Beata Brosková, Tomáš Procházka, Hana Matonohová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80808"/>
                </a:solidFill>
                <a:latin typeface="Tahoma"/>
              </a:rPr>
              <a:t>Podstata OUTSOURCINGU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Outsourcing = vyčleňování činností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Insourcing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Temporary help = dočasná pomoc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Rozsah vyčlenění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jedna služba             full service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4211640" y="3789360"/>
            <a:ext cx="936720" cy="360360"/>
          </a:xfrm>
          <a:prstGeom prst="leftRightArrow">
            <a:avLst>
              <a:gd name="adj1" fmla="val 50000"/>
              <a:gd name="adj2" fmla="val 51747"/>
            </a:avLst>
          </a:prstGeom>
          <a:solidFill>
            <a:srgbClr val="00ff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080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80808"/>
                </a:solidFill>
                <a:latin typeface="Tahoma"/>
              </a:rPr>
              <a:t>Vývoj OUTSOURCINGU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Počátek v 90. letech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V USA mnohem častěji než v „konzervativní“ Evropě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IT a komunikační technologie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Využití outsourcingu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   </a:t>
            </a: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10% podniků v ČR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   </a:t>
            </a: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40% ve světě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Investování stále větších prostředků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80808"/>
                </a:solidFill>
                <a:latin typeface="Tahoma"/>
              </a:rPr>
              <a:t>Proč OUTSOURCING?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Redukce a kontrola nákladů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Core busines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Vnitřně nedostupné zdroje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Uvolnění zdrojů pro další účely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Přístup k prvotřídním technologiím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Pozor na „falešný outsourcing“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80808"/>
                </a:solidFill>
                <a:latin typeface="Tahoma"/>
              </a:rPr>
              <a:t>Rizika OUTSOURCINGU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80808"/>
                </a:solidFill>
                <a:latin typeface="Tahoma"/>
              </a:rPr>
              <a:t>Selhání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80808"/>
                </a:solidFill>
                <a:latin typeface="Tahoma"/>
              </a:rPr>
              <a:t>Únik know-how, informací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80808"/>
                </a:solidFill>
                <a:latin typeface="Tahoma"/>
              </a:rPr>
              <a:t>Narušení ostatních podnikových procesů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80808"/>
                </a:solidFill>
                <a:latin typeface="Tahoma"/>
              </a:rPr>
              <a:t>Bankrot dodavatele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80808"/>
                </a:solidFill>
                <a:latin typeface="Tahoma"/>
              </a:rPr>
              <a:t>Nepředpokládané náklady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80808"/>
                </a:solidFill>
                <a:latin typeface="Tahoma"/>
              </a:rPr>
              <a:t>Ztráta kontroly nad procesem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80808"/>
                </a:solidFill>
                <a:latin typeface="Tahoma"/>
              </a:rPr>
              <a:t>Nerespektování smlouvy a závazků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80808"/>
                </a:solidFill>
                <a:latin typeface="Tahoma"/>
              </a:rPr>
              <a:t>Porušení obchodního tajemství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80808"/>
                </a:solidFill>
                <a:latin typeface="Tahoma"/>
              </a:rPr>
              <a:t>Nízká zkušenost se specifickým typem smluv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80808"/>
                </a:solidFill>
                <a:latin typeface="Tahoma"/>
              </a:rPr>
              <a:t>Možnosti outsourcingu v oblasti lidských zdrojů</a:t>
            </a: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Poradenské firmy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Personální (recruitment) agentury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Head hunter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Agentury zajišťující sezonní zaměstnance a pracovníky pro vykrytí špiček ve výrobě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80808"/>
                </a:solidFill>
                <a:latin typeface="Tahoma"/>
              </a:rPr>
              <a:t>Případové studie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Nike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Vězení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80808"/>
                </a:solidFill>
                <a:latin typeface="Tahoma"/>
              </a:rPr>
              <a:t>Infosys BPO </a:t>
            </a:r>
            <a:r>
              <a:rPr b="0" lang="en-US" sz="3200" spc="-1" strike="noStrike" u="sng">
                <a:solidFill>
                  <a:srgbClr val="377b89"/>
                </a:solidFill>
                <a:uFillTx/>
                <a:latin typeface="Tahoma"/>
                <a:hlinkClick r:id="rId2"/>
              </a:rPr>
              <a:t>http://www.infosys.com/bpo/services-solutions.asp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80808"/>
                </a:solidFill>
                <a:latin typeface="Tahoma"/>
              </a:rPr>
              <a:t>Zdroje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80808"/>
                </a:solidFill>
                <a:latin typeface="Tahoma"/>
              </a:rPr>
              <a:t>DOMBERGER, S.: </a:t>
            </a:r>
            <a:r>
              <a:rPr b="0" i="1" lang="cs-CZ" sz="2400" spc="-1" strike="noStrike">
                <a:solidFill>
                  <a:srgbClr val="080808"/>
                </a:solidFill>
                <a:latin typeface="Tahoma"/>
              </a:rPr>
              <a:t>The contracting organization</a:t>
            </a:r>
            <a:r>
              <a:rPr b="0" lang="cs-CZ" sz="2400" spc="-1" strike="noStrike">
                <a:solidFill>
                  <a:srgbClr val="080808"/>
                </a:solidFill>
                <a:latin typeface="Tahoma"/>
              </a:rPr>
              <a:t>. New York: Oxford, 1998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80808"/>
                </a:solidFill>
                <a:latin typeface="Tahoma"/>
              </a:rPr>
              <a:t>SEQUENSOVÁ, H. a kol.: </a:t>
            </a:r>
            <a:r>
              <a:rPr b="0" i="1" lang="cs-CZ" sz="2400" spc="-1" strike="noStrike">
                <a:solidFill>
                  <a:srgbClr val="080808"/>
                </a:solidFill>
                <a:latin typeface="Tahoma"/>
              </a:rPr>
              <a:t>Lidské zdroje? </a:t>
            </a:r>
            <a:r>
              <a:rPr b="0" lang="cs-CZ" sz="2400" spc="-1" strike="noStrike">
                <a:solidFill>
                  <a:srgbClr val="080808"/>
                </a:solidFill>
                <a:latin typeface="Tahoma"/>
              </a:rPr>
              <a:t>Praha: Question marks, 2005.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80808"/>
                </a:solidFill>
                <a:latin typeface="Tahoma"/>
              </a:rPr>
              <a:t>STÝBLO, J.: </a:t>
            </a:r>
            <a:r>
              <a:rPr b="0" i="1" lang="cs-CZ" sz="2400" spc="-1" strike="noStrike">
                <a:solidFill>
                  <a:srgbClr val="080808"/>
                </a:solidFill>
                <a:latin typeface="Tahoma"/>
              </a:rPr>
              <a:t>Outsourcing a outplacement.</a:t>
            </a:r>
            <a:r>
              <a:rPr b="0" lang="cs-CZ" sz="2400" spc="-1" strike="noStrike">
                <a:solidFill>
                  <a:srgbClr val="080808"/>
                </a:solidFill>
                <a:latin typeface="Tahoma"/>
              </a:rPr>
              <a:t> Praha: ASPI, 2005. ISBN 80-7357-094-7.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80808"/>
                </a:solidFill>
                <a:latin typeface="Tahoma"/>
              </a:rPr>
              <a:t>/online/ </a:t>
            </a:r>
            <a:r>
              <a:rPr b="0" i="1" lang="cs-CZ" sz="2400" spc="-1" strike="noStrike">
                <a:solidFill>
                  <a:srgbClr val="080808"/>
                </a:solidFill>
                <a:latin typeface="Tahoma"/>
              </a:rPr>
              <a:t>Proč outsourcing? </a:t>
            </a:r>
            <a:r>
              <a:rPr b="0" lang="cs-CZ" sz="2400" spc="-1" strike="noStrike">
                <a:solidFill>
                  <a:srgbClr val="080808"/>
                </a:solidFill>
                <a:latin typeface="Tahoma"/>
              </a:rPr>
              <a:t>Dostupné z:http://www.start.cz/index.php?pid=213&amp;lang=cz4.11.2006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7T01:05:15Z</dcterms:created>
  <dc:creator/>
  <dc:description/>
  <dc:language>en-US</dc:language>
  <cp:lastModifiedBy>Hana Hečková</cp:lastModifiedBy>
  <dcterms:modified xsi:type="dcterms:W3CDTF">2006-11-05T17:07:04Z</dcterms:modified>
  <cp:revision>53</cp:revision>
  <dc:subject/>
  <dc:title>Outsourc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341029</vt:lpwstr>
  </property>
</Properties>
</file>