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0C5D-52B6-42A3-AB7A-FED3B79A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12DD-9235-4476-BA3E-D7529EA4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B289-2BAA-4721-A971-2A07E19D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8341-DF4F-425C-8EDA-1C4AF9552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4ADC-FDDA-43F6-A70D-1B20B3D5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44D3-193D-4CDB-830E-EFFAB7FC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A513-B5A1-4ED1-B576-FF7266CA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F3C3-D94B-40D0-8BF9-B68D0F84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0A83-C5CC-4EA5-AD03-0A19CDA0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A68C-41A2-41D0-890E-E28A19BB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D6EA-6B94-4196-8771-27CA0D71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63A7-F49C-4320-ACC1-71D54231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35FE-7E42-4586-8E6F-3C0330773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ažerská etika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větlá a Temná strana et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302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pracoval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iří Gaw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Lenka Říh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ana Škvařil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356000" y="2060640"/>
            <a:ext cx="4457880" cy="3343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3097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mezená et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228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ropská etika a člově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ropská etika a příro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51280" y="2036880"/>
            <a:ext cx="48960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76364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ika nechť Vás provází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83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myšlení o téma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díly v etice dle geograf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měření na Evro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95640" y="2387520"/>
            <a:ext cx="446256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lubší zamyš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fstedeovy dimenze kul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tika vs. mental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fste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2979720" cy="4105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2268360" y="4365720"/>
            <a:ext cx="201636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še zaměř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7128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ropská e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řesťanské desatero (4. – 10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mni, abys den sváteční svět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i otce svého i matku svou, abys dlouho živ byl a dobře se ti vedlo na ze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zabije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zesmilní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okrade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romluvíš křivého svědectv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ožádáš manželky bližního své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ožádáš statku bližního své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724360" y="3068640"/>
            <a:ext cx="324972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ické kodexy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stupující tr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č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do a pro ko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11640" y="2133720"/>
            <a:ext cx="3573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likace kodex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psi a CocaC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eta Brno a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356000" y="2492280"/>
            <a:ext cx="4103640" cy="871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971640" y="2421000"/>
            <a:ext cx="2857320" cy="1904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716360" y="4221000"/>
            <a:ext cx="37432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ika tak trochu jina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 koho je evropská etik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61214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ika tak trochu jina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cký problém a etické di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k je konat „dobře“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íklad: prav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635280" y="2637000"/>
            <a:ext cx="50403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mezující etik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istoty vs. prosper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atero vs. konku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2781000"/>
            <a:ext cx="32400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ulost vs. budouc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ika – zaměření na dlouhodob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504180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5:24:46Z</dcterms:created>
  <dc:creator>Loser</dc:creator>
  <dc:description/>
  <dc:language>en-US</dc:language>
  <cp:lastModifiedBy>Loser</cp:lastModifiedBy>
  <dcterms:modified xsi:type="dcterms:W3CDTF">2006-12-04T21:03:22Z</dcterms:modified>
  <cp:revision>5</cp:revision>
  <dc:subject/>
  <dc:title>Manažerská etika</dc:title>
</cp:coreProperties>
</file>