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CB71-396E-4EA5-B167-FEBEA8CF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1E6-5F42-4B70-878F-57B42E78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D1A-8D01-481F-BD57-2B5F0371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D45-022E-4D6F-BE5A-AAC062A8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0AFE-7121-4C94-B098-2A2897BE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C826-C92E-48F4-B185-A9B1E464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82B6-ECF6-46F3-94A3-87E2701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6B59-A1B6-4AE5-A161-F2F2B41A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1F76-92D9-459A-A946-E7E134E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90E3-1E9D-4BF8-AE49-6ADCFB5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C338-A81A-47C4-B1B9-71B8E06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02D-87C9-4E1A-A463-893B006E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6DA0-BC25-4D4C-BDC2-6962FAE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B529-12F5-48C7-911E-F11C6206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76C9-9107-4F78-B2DD-333D1DB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F359-C954-4987-9DCC-23B2CC69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6D96-2032-4CC2-9490-38EE36BB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3C0-5759-4E7B-8CDA-616FC7FD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278-5D83-48F6-BBAB-AC3A9CE8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1B1-8A41-4B59-BF3C-E4639746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FA7-2C21-44A9-AF33-4E6845E2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8B0-0636-4CC0-A7E5-E6795444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249-A872-4B87-AB33-253DAB3C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E45C-BBCC-4784-A96F-901768CE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F856-20A4-41FC-A8F9-321856B1D1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18A2-02A9-4E20-9F83-9F160B841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Řízení změny ve firmě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REENGINEERING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11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 změnou:      Po změně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-30 dnů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      88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3 předání,                27 systém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dny na vyřízení žád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zdové náklady klesly na 6 milionů US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ákazník si sám mohl svoje požadavky vyřídit skrz systé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loš Drdla, Karel R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Řízení změn ve firmě – reengine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el Hammer, James Champy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adikální proměna firmy – manifest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voluce v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cs-CZ" sz="5400" spc="-1" strike="noStrike">
                <a:solidFill>
                  <a:srgbClr val="ffff00"/>
                </a:solidFill>
                <a:latin typeface="Times New Roman"/>
              </a:rPr>
              <a:t>DĚKUJEM ZA POZORNOS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hl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edpoklady, faktory a příčiny změn ve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běh procesu řízené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padová studie – Bell Atlantic Cor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oncepce „7S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e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ktura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yl říz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lupracovní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ílené hodnoty firmy=kul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vádění změn ve firmě závisí na určitých faktorec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lasifikace rozhodovacích problém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ik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zif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užnost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ískávání dodatečných informa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íčiny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lobalizace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měny pracovního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orální zastarávání výrob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voj nových technologi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rychlení socioekonomických proces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oucí síla zákazní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ředpoklady zahájení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nalost dané problematiky a dané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lze změnit pouze jeden element a ostatní ponech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dé budou rezistentní vůči vliv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a chování lidí je dlouhodobý pro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měny vyvolávají st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ce na změná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áze procesu řízené změ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ická analý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ýza silového 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tvoření mode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agenta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kace intervenčních oblast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ce vlastní změ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ifikace dosažených výsled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ípadová studie</a:t>
            </a:r>
            <a:br>
              <a:rPr sz="4400"/>
            </a:b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ell Atlantic Corp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adelphie U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álkový přenos dat                                 20% obratu, 50% zisk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polistické nekonkurenční prostře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říliš velký důraz na kv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alýza pracovních proces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malý a drahý proces vyřízení žád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ýrazné možnosti zkrácení doby na vyřízení a snížení náklad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k prakticky obratem poskytnout zákazníkovi požadované služb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ušet nový proces a provádět libovolné změny v pracovních metodách a procedurác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Ilona Lišková</cp:lastModifiedBy>
  <dcterms:modified xsi:type="dcterms:W3CDTF">2006-11-05T20:40:46Z</dcterms:modified>
  <cp:revision>8</cp:revision>
  <dc:subject/>
  <dc:title>Prezentace aplikace PowerPoint</dc:title>
</cp:coreProperties>
</file>