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795-81DD-426A-A069-D7A9A35D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460-DC2D-4E30-8B3C-5FBEAC18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F55-9B87-47CA-9C05-446B99EB6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EFD-8A7D-4093-89FA-337205AD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4758-C8A4-46B0-9FAA-BCB641F1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8E28-827A-4E16-96B5-D2DE258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C618-C14D-4AD1-B1C5-4C5B0708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E4A6-7081-4046-A35D-B75A537D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1642-BE7F-492D-9218-2FAEE0B0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6E0C-D109-4B6F-810C-7EA675B2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C009-E2C4-46BF-AE0E-2568AA7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8E1-4C3D-40CB-99FD-B1E0660B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72E6-2ED9-4734-9CDA-8C6AF467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440-4E43-4EAB-9988-54A56C0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CE75-49C8-4216-A9FB-DC38C605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2E50-507D-4097-BED0-1B7FE295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6351-795A-41F4-809A-82CF9C59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1620-8932-40C9-9822-F0E8C0F6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775-EDC6-49E4-BDB4-04960B0F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600-B0C4-4720-A951-8D401E52A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455B-C257-49AE-A73C-3C95879A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FE6-E297-4992-A12A-FCDB619A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7E0-E7BE-4D56-A344-D7C6EE4A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74C-CE98-40B0-B777-FB2BF37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86BC-FF27-4BF1-99A6-A4131EC980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0542-E039-4680-A57B-DACCDB1B2D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SVĚT ZMĚ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. a 3.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druhé vlny není ještě vyčerpá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flikty mezi společnostmi druhé a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í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Zrychlující se svě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á existence 50000 let – 800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50 generací člověk strávil v jesky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ledních 70 generací komunikuje písm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 generací zná tištěné slov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generace umí přesně měřit č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generace používají elektrický mo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00. g. vynalezla většinu věcí denní potře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potřeba energi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ovinu energie spotřebované za posledních 2000 let člověk spotřeboval za poslední stolet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třeba energie je 10x vyšší než před 20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Šok z budoucnost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FFLER, A., TOFFLEROVÁ, H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Nová civilizace.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ha : Dokořán 2001. ISBN 80-86569-00-4.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ývoj lidské společnost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INDUSTRIÁLNÍ společ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PRVN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DRUHÉ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INDUSTRIÁL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výsledek TŘETÍ VL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OCIÁLNÍ VERZE VLNOVÉ ANALÝZ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ímá dějiny jako sled valících se vln    z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měřuje pozornost n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diskontinuitu děj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inov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- zlomové body (prům. revolu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N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jena se zemědělsk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800 let př. n. 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osvětově vyčerpána až na přelomu 17. a 18. století – trvala tisíc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prvn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da představuje základ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ované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mezená smě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dnoduchá dělba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avení člověka dáno jeho původ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itářská pravom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RUHÁ VLNA a její příči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před 3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volána zejména průmyslovou revol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várny a parní str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počtu a migrace obyvate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rokové společenské a politické myšlen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komunikace s vynálezem knihtis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druhé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trhu a smě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ásová výroba v továrná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lba práce a růst produk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centrace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služeb specializovaných institu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zvoj železnice a automobilis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vilizační konflik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ŘETÍ VLN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čátek asi před 50 l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kracování vl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ináší naprosto nový způsob živo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rakteristika třetí vl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drojem ekonomiky je poznání– nevyčerpatelné zdroj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řesun od masových výrob ke special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zaměnitelnost profes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neustálých inov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ůst integrace společnosti a stát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ny v rodině, jiný typ nezaměstna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0-18T19:32:55Z</dcterms:modified>
  <cp:revision>5</cp:revision>
  <dc:subject/>
  <dc:title>SVĚT ZMĚN</dc:title>
</cp:coreProperties>
</file>