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203B-A9D0-4B71-A160-7942B1FA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73A2-70CA-4996-9DE6-650FD5FD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F66B-F10A-4407-A26E-5CB839CE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2AB1-1A14-4302-8BD8-2943F41E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25E4-24B9-4BC5-8EEC-A432480A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9A34-B3EC-409C-8511-AA5E3229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D4E1-BC9F-45B2-88AE-66229D78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D16B-B7DF-4B85-9330-9E7E1839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D342-65B0-4BB0-8EDD-AA9E425D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DCB3-333A-4E8D-B54B-9726777F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D6C9-D059-4FAC-8587-E833635C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E32A0-DF67-4228-B191-8D3677B2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A473-8866-4F34-8EFA-800C6F04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A3D4-6FFA-466D-8832-8F2F3A7F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809E-1343-477F-AE8C-4F18DAF2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D86C-D644-40A5-82F3-17426561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EE28-5CB3-482D-ACC8-716DFF26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E82AC-22FD-42B9-B187-F0932BAE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6312-A432-4F73-BE43-4877014B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5AD37-005E-4FB6-8274-F8469039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C863-8871-4C39-8AF7-78E90F2B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1D7C-8F76-48FE-A863-B4AC700D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51BB-3595-49E2-ADA7-B0FEE604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EA442-0ABB-4D08-A4CD-80CC8552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E399-7ECD-43AE-8A17-060A22A3B4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4F45-3E52-4FD1-B27E-807DA61AFF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7570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Tretia vlna</a:t>
            </a:r>
            <a:br>
              <a:rPr sz="6000"/>
            </a:br>
            <a:r>
              <a:rPr b="1" lang="en-GB" sz="2800" spc="-1" strike="noStrike">
                <a:solidFill>
                  <a:srgbClr val="e5e5ff"/>
                </a:solidFill>
                <a:latin typeface="Garamond"/>
              </a:rPr>
              <a:t>(Post-industrialna spolocnost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8436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omas Don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veta Pecharo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Kristián Sem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3357720"/>
            <a:ext cx="3378240" cy="25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..druhy pohlad.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Riesman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opulacny pokles v postindustiralnej spoloc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Terciarna sfera v zamestnanosti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Zkracovanie pracovnej doby -&gt; zvysovanie volneho ca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onkajsie riadenie’ – jednotlivec ovplyvnovany viac vrstovnikmi, ludmi na spolocnej ‘vlne’ x rodinne tradic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Uloha med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asivny rozvoj -&gt;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 kontakt so širším okruhom vrstovník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Anonymita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+ </a:t>
            </a: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kritika vrstovniko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3645000"/>
            <a:ext cx="182556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924360" y="465300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131292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Ďakujeme za pozornosť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Stupne industrializacie spolocnost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edindustrialna (agrar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dustrialna – priemyslovny sek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ostindustrialna – pohltenie sluzbam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1673280" cy="1704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93080" y="4941720"/>
            <a:ext cx="18666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ostindustrialna spolocn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0.ro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Nove zave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ladnuca eli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acovna sila do sektoru sluzie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yznam technologi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edenie – teoretic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ra medzi ludmi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ntenzivny rozvoj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ologi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telektual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ojov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edla sektoru dopravy, sluzieb, trhu, financnej zmeny, vzdelanie vyskum,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draz v kulture profesii -&gt;dominancia univerz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19640" y="4437000"/>
            <a:ext cx="2065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Klucove pojm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rimat teoretickeho ved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echnicka trie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lanovanie technolog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loha zen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ociety of knowledge – spolocnost veden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Knowledge class – trieda vladnuci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trukturalne zmen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1. Vznik globalnej ekonomi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 Rozvoj komunikac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3. Technolog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Rozdiely socialnych struktu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29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cialna sfer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yp spolocnos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ed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stindustrialn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droj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rastne surovin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erg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formac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ezi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byvan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rob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pracovani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chnologi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pracovnej sil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kapital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a know-how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cena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proti prirod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proti vytvorenej vyrob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ra medzi lud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harakteristi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Vyroba 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tovaru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x sluz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Technicke, humanitne, odborne -&gt; zmena v profesnej strukture spolocnos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raz na vzdelanie – podmienka</a:t>
            </a: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 čoho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Kvalifikaci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istupu k moc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…</a:t>
            </a: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harakteristika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polocnost meritokraticka (zasluhova; cenenie zasluh) x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neptismus – preferovanie pribuznych, priatelov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otekcionizm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olezite kvoli DELBE PR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Kvalifikovani x nekvalifikovan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9:20:12Z</dcterms:created>
  <dc:creator>Tomas Donat</dc:creator>
  <dc:description/>
  <dc:language>en-US</dc:language>
  <cp:lastModifiedBy>Tomas Donat</cp:lastModifiedBy>
  <dcterms:modified xsi:type="dcterms:W3CDTF">2006-10-17T12:36:31Z</dcterms:modified>
  <cp:revision>2</cp:revision>
  <dc:subject/>
  <dc:title>Tretia vlna (Post-industrialna spolocnost)</dc:title>
</cp:coreProperties>
</file>