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90F-DF27-4892-8A17-B911C7CE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98D5-EEA4-444A-AB77-F1B0E6AF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4786-E4F5-4B07-8E05-FEC9B608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16AA-0C49-4C73-B01B-C8306B80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C774-1699-4E4F-9026-12F23B98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81CF-E4CB-4A04-8FCA-836A3F5C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5282-3171-4673-BE71-9BD0AFAE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AFCD-121B-447B-AB27-DD35C5AF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E9AD-9DE2-4177-A047-5645F444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1D4-A699-4508-A292-6617A66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8841-43F6-47A3-B38E-64C15E6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7AA-4A9D-42C1-8F0D-584334B3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8199-BD16-4128-AC0C-6E87F57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8C0-3D2E-4CFC-815D-0109DE64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1F1E-3200-40C7-86DA-5546591F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103C-87E7-4834-9BED-ADAE646B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B80E-7C18-4690-8CE4-0862D8B2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6DD-1D43-4A7D-ABFA-195522B6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5D6F-8079-40EF-80C0-73120673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8898-B4D9-4DB9-BDBD-DD55765A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664-1664-4950-8F24-A915F8B7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492-6A60-48E3-87AE-47E64903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37F-A371-4BE8-BEBD-04BBD87C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66D-20B3-4D06-A1CE-61A717E8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BDA4-898B-4E58-830C-6B289B4E019A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DF21-FBFC-4A37-8C27-2CF4A3C5D4D0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mir.cz/clanek.php3?CID=3878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Úvod do Obecné teorie systémů (OTS)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eková, Holek, Havrán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lyticko-mechanický x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lektický přístu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istorie a vývo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ěkolik systémových pojmů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v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forma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uk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a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Říz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. OTS jako logické vyústění historického vývoje filosofie a přírodních vě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. Sepjetí OTS s výzkumem a řízením sociálních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. Orientace OTS na řešení globálních probl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lavní principy O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V. Sepjetí OTS s praktickým řešením systémový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. Zdůrazňování principiálních odlišností fungování a vývoje různých druhů systém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. Paradoxnost systémového myšl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I. OTS je otevřený, dynamický, složitě organizovan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Děkujeme za pozornost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lý, J.V., Vítek, M.:Teorie systémů II (Gaudeamus, 200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iener, N.:Kybernetika  (SNTL, 1960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iala, L.:Hnulo se systémové hnutí? (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vesmir.cz/clanek.php3?CID=3878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ertalanffy, L. von:Člověk-robot a myšlení (Svoboda, 197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13:23Z</dcterms:created>
  <dc:creator>AHa</dc:creator>
  <dc:description/>
  <dc:language>en-US</dc:language>
  <cp:lastModifiedBy>AHa</cp:lastModifiedBy>
  <dcterms:modified xsi:type="dcterms:W3CDTF">2006-10-02T20:45:24Z</dcterms:modified>
  <cp:revision>6</cp:revision>
  <dc:subject/>
  <dc:title>Snímek 1</dc:title>
</cp:coreProperties>
</file>