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868A-D48C-4F67-87DB-1973819E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F93-AD69-4BCB-BAFD-C12D9782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F3C-E0B3-4191-B6DC-B2929F5E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A4A-6409-4065-9D87-D38A5D3F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1CB8-1ACB-45D0-A288-E4410E06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89AA-C8B3-4795-8221-CB246DE7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66C8-69F2-4AEC-9282-D89B4093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0C2-DD86-4AF2-A2E3-FA12B83A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769-5B0D-4C81-8EF5-51849D15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B96-D357-4E6F-BB52-686017E4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FEF1-600B-4928-9976-6788052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E3C-D5E0-4F87-9E55-3A43E165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94CD-24E8-4EF2-9784-C6A35367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36E-4977-45E7-8988-93D9064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686F-C3CB-49C0-B1CC-C7F98014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4A31-6CBE-4B9B-B24B-3015A42E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6104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298E-223A-43D4-8263-82B6CE9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6480-FAD9-478C-8149-3D38CEF0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3ED-84E0-4E72-9EF8-516F12D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24B-4F6F-48C9-8E75-F99B048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1A2-C6E0-40A8-9A49-0FE7C33F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958-4612-49FF-978A-353E5803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6104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32E-7FBD-4B6F-A326-A1390EC6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104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52FB-1E24-4E19-9443-FA7E633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0199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0199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51E9-F86F-4240-BCF9-7F9CD0D67C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7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8191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876920" y="59436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92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655-7A07-423D-BA85-F36863E941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6200" y="380520"/>
            <a:ext cx="5029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cf7ff"/>
                </a:solidFill>
                <a:latin typeface="Arial Black"/>
              </a:rPr>
              <a:t>Superzápas zítřka</a:t>
            </a:r>
            <a:endParaRPr b="0" lang="en-US" sz="44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2590920"/>
            <a:ext cx="5029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ivilizační vlny – charakteristika, vzájemné vztahy a stř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5300640"/>
            <a:ext cx="36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omáš Simbart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án Kuš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Literatura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offler, A.; Tofflerová, H.: Nová civilizace – Třetí vlna a její důsled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eich, R.B.: Dílo náro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üller, Z.: Svaté války a civilizační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2852280"/>
            <a:ext cx="78487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Děkujeme za pozornost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Vývoj a historie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ozdělení (A.Toffler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vní vlna – pre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8000 př.n.l., trvání v řádech tisíciletí, hlavní podstata zemědělstv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Druhá vlna – industriální společnost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ec 17. století, trvání v řádech stovek let,</a:t>
            </a:r>
            <a:br>
              <a:rPr sz="28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ůmysl, mecha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Třetí vlna – postindustriální společnost</a:t>
            </a:r>
            <a:br>
              <a:rPr sz="3200"/>
            </a:b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polovina 20. století, dekády?, informace, znalosti, high-tech,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Proč vlna?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08720" cy="3816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8000" y="1142640"/>
            <a:ext cx="4032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de o skok, ale o plynulý přechod od jedné společnosti k dru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em se energie vlny vyčerpá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ruhá a třetí vlna se prolínají – střet vln =&gt; střet civiliz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První vlna (v kostc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zemědělstv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munity, decentralizované hospodářství založené na vlastnictví půdy, hierarchie ve společ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Žádná nebo jednoduchá dělba prá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existence trhu =&gt; výroba pro vlastní spotřebu =&gt; minimum smě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iž zcela odezněla (výjimkou jsou kmeny v pralesech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cf7ff"/>
                </a:solidFill>
                <a:latin typeface="Arial Black"/>
              </a:rPr>
              <a:t>Druhá vlna – industriální společnost</a:t>
            </a:r>
            <a:endParaRPr b="0" lang="en-US" sz="30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várny, želez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echanizace a synchronizace výr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voj trh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ělba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ncentrace kapitál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utomob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sová výro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čátky spotřební (konzumní)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znik civilizačních konflik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aleka není ukonč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7512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Střet první a druhé vlny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čanská válka v USA &lt;= boj mezi industriálním Severem a zemědělským Jihem a další vojenské konflik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ponsko - reformy Meid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Bitvy“ mezi průmyslníky a obchodníky proti vlastníkům půdy (círke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ůsledky pro jednotlivce - změna pojetí rodiny a nutnost dojíždění za p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olonie – industriální mocnosti dobývají nová ložiska surovin – kolon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Informační společnost – třetí vlna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kles významu přírodních zdrojů a surovin vůb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nformace jako produk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minance sektoru služ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va skryté výrobní fak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Poznatky –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experti, týmy, know-how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zdělání, rozvoj managemen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Čas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třeba bleskové komunikace, IT, správa firemních sítí a komunikačních kanál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rovský význam a vliv médi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948360" y="1628640"/>
            <a:ext cx="1638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cf7ff"/>
                </a:solidFill>
                <a:latin typeface="Arial Black"/>
              </a:rPr>
              <a:t>Konflikt! </a:t>
            </a:r>
            <a:endParaRPr b="0" lang="en-US" sz="36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. Huntington: „…střet Islámu a Západu, nebo Západu a zbytku světa?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War on Terror, boj s extrémistickými skupinami a hnutí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řet zájmů zemí 3. vlny se zeměmi 1. a 2. vl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estrukturalizace – problém nezaměstna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řesun výroby na výc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zba ekologické bom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lobaliz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ytváření sociálních propastí – rozdíly mezi bohatými a chudý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cf7ff"/>
                </a:solidFill>
                <a:latin typeface="Arial Black"/>
              </a:rPr>
              <a:t>Budoucnost – co bude? (diskuze)</a:t>
            </a:r>
            <a:endParaRPr b="0" lang="en-US" sz="3200" spc="-1" strike="noStrike">
              <a:solidFill>
                <a:srgbClr val="fcf7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Toffler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evoluční premis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 „Budoucnost plná otřesů, turbulencí, vln násilí -&gt; postupná transformace způsobu našich životů, práce i myšlení.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migrace (přistěhovalc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koterorism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islost na výpočetní techn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litické, kulturní a náboženské rozep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&gt; Čtvrtá vln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1:49:04Z</dcterms:created>
  <dc:creator>CIKT</dc:creator>
  <dc:description/>
  <cp:keywords/>
  <dc:language>en-US</dc:language>
  <cp:lastModifiedBy>Franta Konopásek</cp:lastModifiedBy>
  <dcterms:modified xsi:type="dcterms:W3CDTF">2006-10-04T15:17:32Z</dcterms:modified>
  <cp:revision>18</cp:revision>
  <dc:subject/>
  <dc:title>Civilizační vln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381033</vt:lpwstr>
  </property>
</Properties>
</file>