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CC3-6644-4284-A166-292475E4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EB5-3E03-4C1D-86C5-B230E570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3AA2-0A12-4880-BA1A-7721E1B7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135-8E2B-419F-A772-99A6B015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932F-7443-483A-AB35-1A96F6E4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382C-0716-49CE-8990-3E94FAC1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1E5B-6AEC-4F52-9F1C-0B801273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69C3-B8DD-45D0-BD77-2F096AE1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DA72-8F08-4F61-A2C0-46F3A644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73DA-805E-417F-9DDE-501C9847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B1E1-51B0-4AA0-9AE3-271843F4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0D6-2201-400E-B75E-474E7D6A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A171-C884-48D2-AA68-94FDE7D0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565A-FC95-4E9B-87B0-CCDD2F27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16A0-43B2-4100-BE1C-8B8DDB8A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CCA6-4284-46A2-86CA-73CC382C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0B85-EB44-43EE-83F1-21EB12B3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EDA-528C-4448-ACE4-509BFB98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E265-8743-4AD3-AFBA-2BEFFCA2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EEB-1C84-4390-B452-38BAA797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622-9000-4235-8A4E-8E23933F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06E-EE7E-408A-B204-B5CA0A96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4C0-CCFF-4867-9224-CBEF8A1D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1CC-626C-4F40-8406-CBEA62B0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F61B-5E05-4944-81E5-94EDDA28EF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1947-EFEC-411F-93AC-EA22531DA6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CHARAKTERISTICKÉ RYSY A ZÁKLADNÍ PRINCIPY INDUSTRIÁLNÍ SPOL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</a:rPr>
              <a:t>EČ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NOSTI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ým č. 7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etr Suchán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Martin Simersk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máš Vobeck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494280"/>
            <a:ext cx="899172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 dělby práce na základě specializace</a:t>
            </a:r>
            <a:endParaRPr b="0" lang="en-US" sz="4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verzalita         specializace ve výrob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ůst produktivity prá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ůst kvality prá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Nutnost koordin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Marx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43600" y="26668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ford" descr=""/>
          <p:cNvPicPr/>
          <p:nvPr/>
        </p:nvPicPr>
        <p:blipFill>
          <a:blip r:embed="rId6"/>
          <a:stretch/>
        </p:blipFill>
        <p:spPr>
          <a:xfrm>
            <a:off x="0" y="2590920"/>
            <a:ext cx="3505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synchron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Nutnost synchron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vznik managemen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ozšíření do celé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Č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20120" y="21337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ostatni001%20-%2012" descr=""/>
          <p:cNvPicPr/>
          <p:nvPr/>
        </p:nvPicPr>
        <p:blipFill>
          <a:blip r:embed="rId4"/>
          <a:stretch/>
        </p:blipFill>
        <p:spPr>
          <a:xfrm>
            <a:off x="0" y="2057400"/>
            <a:ext cx="309564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standard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988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kátní výrobky          standardní výrob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Unifikace společnosti – masová ku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Byrokracie (We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1337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byrokracie%20-%2013" descr=""/>
          <p:cNvPicPr/>
          <p:nvPr/>
        </p:nvPicPr>
        <p:blipFill>
          <a:blip r:embed="rId4"/>
          <a:stretch/>
        </p:blipFill>
        <p:spPr>
          <a:xfrm>
            <a:off x="0" y="2286000"/>
            <a:ext cx="3657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koncentr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343400" y="190512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Důvod – rostoucí děl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práce a speci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Územní koncent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Rozvoj tová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Urban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Koncentrace kapitá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Oligopolizace tr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dez03_megapolis_tokyo%20-%2014" descr=""/>
          <p:cNvPicPr/>
          <p:nvPr/>
        </p:nvPicPr>
        <p:blipFill>
          <a:blip r:embed="rId4"/>
          <a:stretch/>
        </p:blipFill>
        <p:spPr>
          <a:xfrm>
            <a:off x="0" y="2438280"/>
            <a:ext cx="430524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maximal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3526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Čím více, tím lépe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Vznik gigantických podni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Glob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Zvyšování spotřeby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Bez%20názvu%20-%2014" descr=""/>
          <p:cNvPicPr/>
          <p:nvPr/>
        </p:nvPicPr>
        <p:blipFill>
          <a:blip r:embed="rId5"/>
          <a:stretch/>
        </p:blipFill>
        <p:spPr>
          <a:xfrm>
            <a:off x="0" y="1981080"/>
            <a:ext cx="28195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centraliza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Centralizace moc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Proces centralizace moci v Evropě spojen s posilováním moci stá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empus Sans ITC"/>
              </a:rPr>
              <a:t>Centralizace moci probíhá ve dvou rovinách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100000"/>
              </a:lnSpc>
              <a:spcBef>
                <a:spcPts val="45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Centralizace politické moci – vytváření nadstátních cel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lnSpc>
                <a:spcPct val="100000"/>
              </a:lnSpc>
              <a:spcBef>
                <a:spcPts val="45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empus Sans ITC"/>
              </a:rPr>
              <a:t>Centralizace podnikatelské moci – vytváření gigantických podni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108386-evropska-unie%20-%2013" descr=""/>
          <p:cNvPicPr/>
          <p:nvPr/>
        </p:nvPicPr>
        <p:blipFill>
          <a:blip r:embed="rId3"/>
          <a:stretch/>
        </p:blipFill>
        <p:spPr>
          <a:xfrm>
            <a:off x="5105520" y="1905120"/>
            <a:ext cx="1838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240" y="465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B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udoucí vývoj</a:t>
            </a: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  <a:ea typeface="Times New Roman"/>
              </a:rPr>
              <a:t> (kam směřujeme?)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Zrychlování výv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třety národů z různých v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víjení druhé a nástup třetí vl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Další vlny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Děkujeme za pozornos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Lucida Handwriting"/>
              </a:rPr>
              <a:t>Použitá literatur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Šok z budoucnosti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. Praha : Práce, 199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The Third Wawe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. New York 198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TOFFLER, A., TOFFLEROVÁ, H. </a:t>
            </a:r>
            <a:r>
              <a:rPr b="0" i="1" lang="cs-CZ" sz="2400" spc="-1" strike="noStrike">
                <a:solidFill>
                  <a:srgbClr val="ffffff"/>
                </a:solidFill>
                <a:latin typeface="Tempus Sans ITC"/>
              </a:rPr>
              <a:t> Nová civilizace. </a:t>
            </a:r>
            <a:r>
              <a:rPr b="0" lang="cs-CZ" sz="2400" spc="-1" strike="noStrike">
                <a:solidFill>
                  <a:srgbClr val="ffffff"/>
                </a:solidFill>
                <a:latin typeface="Tempus Sans ITC"/>
              </a:rPr>
              <a:t>Praha : Dokořán 200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Vývoj společnost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23920" y="182880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Neustále se zrychlu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Probíhá ve vlná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lny se prolína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evoluce%202" descr=""/>
          <p:cNvPicPr/>
          <p:nvPr/>
        </p:nvPicPr>
        <p:blipFill>
          <a:blip r:embed="rId4"/>
          <a:stretch/>
        </p:blipFill>
        <p:spPr>
          <a:xfrm>
            <a:off x="0" y="2743200"/>
            <a:ext cx="4343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vní vln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8. tisíciletí př.n.l. – 17. Stole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Starověké i středověké civil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Národy primitivní (sběr) či civilizované (obdělávání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6404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Specifika preindustriální společnosti</a:t>
            </a:r>
            <a:r>
              <a:rPr b="0" lang="cs-CZ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Zemědělská společnost založená na vlastnictví pů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aždý produkt byl unik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Decentralizované hospodářstv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Minimální dělba prá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Univerzální výrob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Omezená smě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ův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Autoritářská pravom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vykopavky%20-%204" descr=""/>
          <p:cNvPicPr/>
          <p:nvPr/>
        </p:nvPicPr>
        <p:blipFill>
          <a:blip r:embed="rId9"/>
          <a:stretch/>
        </p:blipFill>
        <p:spPr>
          <a:xfrm>
            <a:off x="5715000" y="3352680"/>
            <a:ext cx="3429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Výjimky První vln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Starověké Řecko a Ř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Babylon a starověký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Asie a Jižní Amer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191120"/>
            <a:ext cx="7162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Zvolna se vyvíjející společ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  <a:ea typeface="Times New Roman"/>
              </a:rPr>
              <a:t>=&gt;</a:t>
            </a: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Průmyslová revolu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yramidy%20-%205" descr=""/>
          <p:cNvPicPr/>
          <p:nvPr/>
        </p:nvPicPr>
        <p:blipFill>
          <a:blip r:embed="rId4"/>
          <a:stretch/>
        </p:blipFill>
        <p:spPr>
          <a:xfrm>
            <a:off x="6248520" y="2057400"/>
            <a:ext cx="289548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0840"/>
            <a:ext cx="91440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Druhá vlna</a:t>
            </a:r>
            <a:br>
              <a:rPr sz="4400"/>
            </a:b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- nástup industriální společnosti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2743200"/>
            <a:ext cx="6400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2. pol. 17. – 1. pol. 18. Stol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empus Sans ITC"/>
              </a:rPr>
              <a:t>preindustriální spole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říčiny vzniku Druhé vln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Objev Nového svě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ůst počtu obyvatelst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Využití parního st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Industriální myšl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Rozšiřování mezilidské komunik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vlak-cerny%20-%208" descr=""/>
          <p:cNvPicPr/>
          <p:nvPr/>
        </p:nvPicPr>
        <p:blipFill>
          <a:blip r:embed="rId6"/>
          <a:stretch/>
        </p:blipFill>
        <p:spPr>
          <a:xfrm>
            <a:off x="5410080" y="2514600"/>
            <a:ext cx="3733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y industriální společnosti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94920" y="2362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889280"/>
            <a:ext cx="8610480" cy="66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oddělení výroby od spotře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princip dělby práce na základě speci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ynchron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standard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koncen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maxim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empus Sans ITC"/>
              </a:rPr>
              <a:t>centraliz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tovarna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9528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417960"/>
            <a:ext cx="8991720" cy="13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cc00"/>
                </a:solidFill>
                <a:uFillTx/>
                <a:latin typeface="Lucida Handwriting"/>
              </a:rPr>
              <a:t>Princip oddělení výroby od spotřeby</a:t>
            </a:r>
            <a:endParaRPr b="0" lang="en-US" sz="4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23920" y="205740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Dominantní princip industriální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Oddělení role výrobce a spotřebite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Smě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empus Sans ITC"/>
              </a:rPr>
              <a:t>Rozvoj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Bez%20názvu%20-%2010" descr=""/>
          <p:cNvPicPr/>
          <p:nvPr/>
        </p:nvPicPr>
        <p:blipFill>
          <a:blip r:embed="rId5"/>
          <a:stretch/>
        </p:blipFill>
        <p:spPr>
          <a:xfrm>
            <a:off x="0" y="2362320"/>
            <a:ext cx="44956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2:28:15Z</dcterms:created>
  <dc:creator>Petr Suchánek</dc:creator>
  <dc:description/>
  <dc:language>en-US</dc:language>
  <cp:lastModifiedBy>Petr Suchánek</cp:lastModifiedBy>
  <dcterms:modified xsi:type="dcterms:W3CDTF">2006-09-15T09:16:01Z</dcterms:modified>
  <cp:revision>5</cp:revision>
  <dc:subject/>
  <dc:title>CHARAKTERISTICKÉ RYSY A ZÁKLADNÍ PRINCIPY INDUSTRIÁLNÍ SPOLEČNOSTI </dc:title>
</cp:coreProperties>
</file>