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F25-C88F-4B6A-9243-AB3BEF52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B6B8-0EB3-4C31-B2C4-FA5343DF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1D8-D65F-4908-B14B-DDAFDA9C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B102-FF60-4A72-B9B4-82623C39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73C6-37C1-410E-8CBC-FAAA2125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2318-5EC9-4FE8-B0F9-946CF6A3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75ED-F06A-485C-908E-7846ED12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4278-2548-4C21-902E-EB0A9679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9B5F-C82E-457C-A724-76F012D7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EA9E-3AFF-4B88-80A3-3D4353A2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4366-11EC-434A-BD6B-2F24290C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A35-4F13-4EAB-AF03-27CFC225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F09F-DEED-4F20-AF9D-3545FE2F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01A5-A856-425D-B829-ACB4F304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61E0-FC68-4E4E-A39E-D673A272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499D-D818-424B-97ED-0ED555F7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F321-BC85-40AC-8DF7-E131D13E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14C-4DF8-43E1-9CED-22CA5959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33B-1CC5-46E3-9769-2870F9C9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0E0F-876C-4E10-8474-0C08A718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273-837A-402F-92F2-08970625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6F6-96C2-44C5-BCA7-343BD8DF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21C-E938-45C2-A073-0134523A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683-9796-4ADC-977F-660D5355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CE37-7906-4621-822E-B06E5FD7F6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96F6-F0F1-4594-A9B7-B83CC8E072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  <a:ea typeface="Times New Roman"/>
              </a:rPr>
              <a:t>Vysoce zhodnocující podniky</a:t>
            </a: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MENT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např.  McDonald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zitivní asociace 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egrace, 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j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é 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lo, hodnot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l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ativní asociace 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yso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obsah kalor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ost sledování zpětných vazeb od zákazníků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apř. Merce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kování atributů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echnicky vynikající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, robust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dra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okování osobnost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dního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ku, ser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metodic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autorit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ok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í zv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t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kování uživatel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a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š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zákazník, odbor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rofe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3885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ěkujeme za pozornost………otázky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un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k Jan : Znalostní podnik ve znalostní spol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osti ISBN-80-86419-35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eber Jaromír a kol. : management – základy, prosperita, globalizace ISBN-80-7261-029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Bl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k Ladislav : Vývojové tendence podniku ISBN-80-210-3213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Foret Miroslav : Marketingová komunikace ISBN-80-7226-811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řechod mezi industriální a postindustriální společnost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nd opouštění velkovýr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užívání znalostí a možností glob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ředky směřující k vysokému zhodnoc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HARAKTERISTIKY TRŽNÍHO PROSTŘED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stoucí konkurence mezi velkovýrobci -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nižování cen = i zis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chod na produkci speciálních výrob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užití nových technologií, know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daptace na potřeby konkrétních zákaz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 KLÍČOVÉ VLASTNOSTI PRACOVNÍK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identifikovat problémy potenciálních a stávajících zákazní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šit tyto problémy jed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m z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ob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propojovat identifikaci problé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 jejic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šení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identifikovat problémy potenciálních a stávajících zákazník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ů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2438280"/>
            <a:ext cx="85406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ůvo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vorba podnik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viz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vní řízen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ě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konno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ř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ešit problémy jedine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č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ným zp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ů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sobe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stálé hledání doprovázené experiment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é kombinace, postu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ziko spojené s experiment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propojovat identifikaci problé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ů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 s jej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ř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ešení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54064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a nalézt řešení k vzniklému probl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ískání prostředků k vyřešení probl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stup nových a „jiných“ manager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myšlen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xistence vysoce zhodnocujících podniků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5406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ý předpoklad – propojení všech tří skupin pracov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zi další předpoklady patř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chodní znač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age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bchodní znač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image, důvěryhod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to předmět prode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mani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nzo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irnoff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udování znač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8:41:36Z</dcterms:created>
  <dc:creator>ondra</dc:creator>
  <dc:description/>
  <dc:language>en-US</dc:language>
  <cp:lastModifiedBy>Sylva Talpová</cp:lastModifiedBy>
  <dcterms:modified xsi:type="dcterms:W3CDTF">2006-11-08T15:31:06Z</dcterms:modified>
  <cp:revision>15</cp:revision>
  <dc:subject/>
  <dc:title>SVĚT ZMĚ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432525</vt:r8>
  </property>
  <property fmtid="{D5CDD505-2E9C-101B-9397-08002B2CF9AE}" pid="3" name="_AuthorEmail">
    <vt:lpwstr>sylva.talpova@seznam.cz</vt:lpwstr>
  </property>
  <property fmtid="{D5CDD505-2E9C-101B-9397-08002B2CF9AE}" pid="4" name="_AuthorEmailDisplayName">
    <vt:lpwstr>Sylva Talpová</vt:lpwstr>
  </property>
  <property fmtid="{D5CDD505-2E9C-101B-9397-08002B2CF9AE}" pid="5" name="_EmailSubject">
    <vt:lpwstr/>
  </property>
</Properties>
</file>