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C93-9DC8-45A3-B307-97121C4A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FC2-0A13-43B8-9DD4-05C6CAF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6A2-3B03-4C2B-8E64-DCB8E887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4C8-CB10-4156-A9CD-74C23A5E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D069-AB4A-456E-ABA3-B902A5A5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4540-A983-4A5C-95A4-37C8D006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C7E9-F282-4E68-82ED-FF599F6C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2F51-C13B-4DF7-BEAC-FE7C2010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780B-D289-453C-AD9A-067C44FE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E394-837D-4B9F-AF46-8553B121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8DC7-EC77-4315-AD36-9B4CB5F4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C47-3951-4807-9459-83AF829B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B15-A16A-44A7-A675-1945FBE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70C8-B5A1-42A1-99DA-09F3FC9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1598-F047-455C-9293-83C0D791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26C8-BB35-4B3B-A692-1C5A3F14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C525-1B32-4261-9734-A6DE6A39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A84-3F53-4CBA-B4DD-D0C41A8F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366F-1E10-4ABD-89E0-C83E346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8DD-EEDC-4558-8A83-A1412F1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4E0-AD82-4740-A4FE-AE4C60B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B06-C673-48FE-9564-DAC04C8D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B3E-9836-46AB-86B8-0760FA59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AA98-1181-453A-BAF8-EF569DD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D479-2571-4D91-BCF5-42779CB9471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F9AB-C35E-424C-9ECC-9D94E4420DC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ETICKÝ KODEX PODNIKÁ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335412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Štěpán Draž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racovní princip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flikt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ary a záb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díraní a úplatkář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Príprava a zavede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ľúčové pravidl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iciácia a inštitucionálna podpora etického kódexu mu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 prísť od vysokých predstaviteľov firmy </a:t>
            </a: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(predstavenstva)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a mala by s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stať súčasťou firemnej stratég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grálnou požiadavkou firemnej stratégie je demonštrovať jasný a pevný záväzok vysokého a stredného manažmentu a ostatných úrovní manažmentu dodržiavať etický kódex firm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eďže hodnoty firmy slúžia ako dôležitý zdroj pre etický kódex, musia byť spracované a zapracované do etického kódexu spolu s poslaním, víziou a stratégiou firm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9009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Akčný plán rozvoja a zavedenia etického kódexu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podnikania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. Zostavenie rozvojového tí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2. Získavanie a analýza informáci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3. In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4. Externý seminár pre akcionárov </a:t>
            </a:r>
            <a:r>
              <a:rPr b="0" i="1" lang="sk-SK" sz="24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na určenie požiadaviek a očakávaní od etického kódexu fir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5. Analýza výsledkov seminár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2160" y="1828440"/>
            <a:ext cx="43718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6. Príprava návrhu etického kódex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7. Pripomienky a návr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8. Schválenie Kódexu orgánmi firmy (ako napríklad Výkonný výbor, Predstavenstvo, Dozorná rad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9. Grafický Design a Distribúcia doku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0. Realizá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ntiqueOliTCE-ReguItal"/>
                <a:ea typeface="Times New Roman"/>
              </a:rPr>
              <a:t>11. Priesku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ccecff"/>
                </a:solidFill>
                <a:latin typeface="Arial"/>
                <a:ea typeface="Times New Roman"/>
              </a:rPr>
              <a:t>Etický kódex skupiny Slovnaf</a:t>
            </a:r>
            <a:r>
              <a:rPr b="0" lang="sk-SK" sz="3600" spc="-1" strike="noStrike">
                <a:solidFill>
                  <a:srgbClr val="ccec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ccecff"/>
                </a:solidFill>
                <a:latin typeface="Arial"/>
              </a:rPr>
              <a:t>- Obsah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7320" y="1294920"/>
            <a:ext cx="8591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Preambu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. Vzťahy so zákazník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. Vzťahy s dodávateľmi a ver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II. Vzťahy s konkurenci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V. Vzťahy so štátnymi a vládnymi orgánmi,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giónom a spoločnosť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. Vzťahy s prostred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. Vzťahy s medzinárodnými firma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. Vzťahy s majiteľ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VIII. Vzťahy vo vnútri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Rešpektovanie ľudských bytostí – základ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nterpersonálnych vzťahov vo fi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Dôstojná prá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komunikácie, jej šírenie a ochr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Ochrana majetku a dobrého mena fi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Konflikt záuj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• </a:t>
            </a: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Etika urovnávania spor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IX. Etické zodpovednosti manaž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ntiqueOliveTCE-Light"/>
                <a:ea typeface="Times New Roman"/>
              </a:rPr>
              <a:t>X. Záverečné opatren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ntiqueOliveTCE-Light"/>
                <a:ea typeface="Times New Roman"/>
              </a:rPr>
              <a:t>Pochopenie a aplikovanie etického kódexu podnikani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240" y="23623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ípadov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štúdi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lovens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telekomunikác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a. 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neywell, I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et – iné zd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8076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usiness for Social Responsibility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sue Briefs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bsr.org/CSRResources/IssueBriefsList.cf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LÁHA, J., DYTRT, Z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anažerská etika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Management Press 2003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eskum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tisícročia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poločenskej zodpovednosti firiem </a:t>
            </a:r>
            <a:r>
              <a:rPr b="0" i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he Millenniu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l on Corporate Social Responsibility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l zrealizovaný firm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., v spolupráci so spoločnosťou the Prin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f Wales Business Leaders Forum a The Conference Board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.globescan.com/news_archives/MPExecBrief.pdf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OLNÝ, I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v podnikové strategii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skovice: Albert, 199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KNIČKA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Úvod do hospodářské etiky.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aha: ASPI,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lo di Florio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Ethics and Sustainability: Building the Bot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e Through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rporate Citizenshi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referát pripravený firmou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icewaterhouseCoopers pre výročné stretnutie Svetovej banky/IMF, 2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ptember 200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ystém pravidel a principů, které řídí chování jednotlivců a skupin, a které se zaobírají tím, co je dobré (morální) a co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sah kodexu vyplývá ze souboru hodnot, které podnik vyzná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říve – „jen“ dodržování zákonů, od 70. let 20. stol vý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Co je etický kodex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vodce pro zaměstnance a manažery, ale i ostatní stakeholders – pochopení a dodržování zákonného a čestného jednání v rámci provádění práce + (vědět, kde žádat o pomoc, Ahol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eší především VZTAHY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obsahuje však odpověď a lék na „vš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řínosy zavedení etického ko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ansparentnější a zdravější podnikatelské prostředí =</a:t>
            </a: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mj. růst zahraničních inve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ede k omezení korup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výšení loajality zaměstna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siluje jméno firmy (Sh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ýzkumy potvrzují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Lidé stále více upřednostňují etické principy před komerčními fak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nvironics International, Ltd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vlivňuje rozhodování obchodních partnerů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Business for Social Responsibi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tický kodex má vliv na hodnotu akcií </a:t>
            </a: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Business &amp; Socie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Základní směrnice etického kódexu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spektování lidských prá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incipi společenské zodpověd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majetku a dobrého jména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ezpečnost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chrana životního prostř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rovnávání sp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exuální obtěž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ika komun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akcionář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munik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Řízení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e zaměst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lad se Zákoníkem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onální poli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dodavate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produktů a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spekt a důvě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ota ke kompromi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konkuren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ání zákon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estný přístup ke konkuren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kalá soutě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dnikové vztahy III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vlád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latit da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držovat vládní n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oj proti korup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04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Vztah s zákaz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chrana inform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valita výrobku -mezinárodní no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užby zákazníků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9:26:10Z</dcterms:created>
  <dc:creator>76258</dc:creator>
  <dc:description/>
  <dc:language>en-US</dc:language>
  <cp:lastModifiedBy>Ondřej Částek</cp:lastModifiedBy>
  <dcterms:modified xsi:type="dcterms:W3CDTF">2006-11-23T08:59:01Z</dcterms:modified>
  <cp:revision>45</cp:revision>
  <dc:subject/>
  <dc:title>ETICKÝ KÓDEX PODNIKANIA</dc:title>
</cp:coreProperties>
</file>