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8809-4444-4352-974F-B1A23AA4B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D6E7-37E1-4818-A7F5-7BFAE714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A42C-0236-40FA-886F-66067BAD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B1C9-5BB4-4443-8D91-73E2CD47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EA94-3B1B-46F7-8827-CA3F00252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3A65-DA3F-4716-9A03-2FD99C97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BB3F-8411-4876-AC3D-F51C018C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22BF-9DFF-4E8A-8BB0-E6CCEC62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AA4A-69A8-4C3E-9AE2-A5B75F5E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C88A-9812-4F69-8513-B96B79C5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7997-DB68-44D2-BAF0-C5CF3B34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F2A8-30F8-4354-AB6C-3FF260DF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94C4-8A5C-4B88-9494-C0AE1458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1383-514F-4F6D-9CAB-B1480A7C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7C64-9364-4259-A807-9732EFA2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B84D-0EA1-44FB-9FE8-CAD819C3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D0EC-E6E6-4AAB-A7A6-997692EB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AE2B-1815-477C-8A9D-87F1E196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E65F-C0A5-4BD7-BB85-42000336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145E-F791-40EF-8E8E-1C135A41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5DBE-D38F-4B90-9025-156DD20E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2377-4078-49D9-BE76-82F2E786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754E-E398-4679-BF75-55F9F322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FD39-72C7-409E-A554-0DFD59B6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1C04-63F9-498C-950A-155C34825DDD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0980-8D6F-46A8-BC71-F70C27096D0A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3344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75248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Úloha vlády ve vývoji společenských systémů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71280" y="5950080"/>
            <a:ext cx="772308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Veronika Křížová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Ivana Kleinová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Jan Čerbá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Friedrich August von Hayek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ystém tržní koordinace je jedinečný, v rozvinuté společnosti velmi křehký a složitý – tržní mechanismus (nemůže být nahrazen žádným plánování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dyž se stát rozhodne centrálně sledovat jakýkoli cíl, nutně omezuje svobodu jednotlivc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olečenské procesy jsou výsledkem zcela spontánního jednání jednotlivců, kteří sledují své vlastní zájm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eorie spontánního ř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John Maynard Keynes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xistují oblasti ekonomické aktivity, v nichž hraje soukromý sektor hlavní roli a do nichž by stát neměl zasahovat, přičemž existují i oblasti, v nichž stát operuje lépe než soukromý sek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viditelná ruka trhu“ by měla být doplněna „viditelnou rukou státu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Úloha vlády v tržních ekonomikách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ahoma"/>
              </a:rPr>
              <a:t>•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rh: Friedman vs. Key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loha „malé vlády“ (Friedma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naha o plnou zaměstnanost (Keyn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neužívání státních zásahů zájmovými skupinami (např. ČMKO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hrozba pro demokracii podle Friedm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dporuje přirozenou soutěž názorových proudů (a rozvíjí tradic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8edf2"/>
                </a:solidFill>
                <a:latin typeface="Tahoma"/>
              </a:rPr>
              <a:t>Úloha vlády v CP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etailní centrální pláno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dmítá trad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připouští evoluční vývoj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ede k extrémism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trh existuje jen v omezené míř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ostává se do rozporu s přirozeným řádem 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vede k nerespektování řádu umělé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8edf2"/>
                </a:solidFill>
                <a:latin typeface="Tahoma"/>
              </a:rPr>
              <a:t>Použitá literatura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Malé dějiny ekonomického myšlen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D.Brožová, VŠE Praha, Praha 200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Management II, Průvodce studiem, Brno 20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Svoboda volb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Manželé Friedmanovi, LI Praha 199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Právo, zákonodárství a svobo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F.A.Haye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Osudná domýšlivost, omyly socialism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F.A. Hayek, SLON, Praha 199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J.M.Keynes a současná ekonomi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ahoma"/>
              </a:rPr>
              <a:t>Milan Sojka, Grada Publishing 199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50560" y="2133360"/>
            <a:ext cx="7093080" cy="43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ěkujeme za pozor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Veronika Křížová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Ivana Kleinová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ahoma"/>
              </a:rPr>
              <a:t>Jan Čerbák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ahoma"/>
              </a:rPr>
              <a:t>Evoluční teorie podle Hayeka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voluce vedoucí k vytváření řádů ve společnosti, navazující na odkaz Adama Smit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ůvodní evoluční teori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irozené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 síly příro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mělé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 člověk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řád“ podle Haye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ako vedlejší produk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ahoma"/>
              </a:rPr>
              <a:t>Evoluční teorie podle Hayeka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irozený x umělý řá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člověk podílející se na spontánním ř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2 pojetí ř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ahoma"/>
              </a:rPr>
              <a:t>Evoluční teorie podle Hayeka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láda jako specifická organiz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Historický vývoj politického vlivu na společenský systém</a:t>
            </a:r>
            <a:br>
              <a:rPr sz="4000"/>
            </a:b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Platon  X  Aristoteles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773360"/>
            <a:ext cx="377172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át je realizací ideje spravedlnosti, která se uplatňuje ve všem a u vše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Tři tří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oukromé vlastnictví jen pro 3. třídu – potřebovali ho k výrobě a směně zbož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6120" y="1773360"/>
            <a:ext cx="377172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řirozená spravedlnost – to co člověk potřebuje k přežit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át – garant této spravedlnosti a práva na 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emokracie s otroctví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oukromé vlastnictví a větší svoboda při zacházení s ní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8edf2"/>
                </a:solidFill>
                <a:latin typeface="Tahoma"/>
              </a:rPr>
              <a:t>        </a:t>
            </a:r>
            <a:r>
              <a:rPr b="0" lang="cs-CZ" sz="2800" spc="-1" strike="noStrike">
                <a:solidFill>
                  <a:srgbClr val="e8edf2"/>
                </a:solidFill>
                <a:latin typeface="Tahoma"/>
              </a:rPr>
              <a:t>Merkantilisté   X   Filozofové přirozených</a:t>
            </a:r>
            <a:br>
              <a:rPr sz="2800"/>
            </a:br>
            <a:r>
              <a:rPr b="0" lang="cs-CZ" sz="2800" spc="-1" strike="noStrike">
                <a:solidFill>
                  <a:srgbClr val="e8edf2"/>
                </a:solidFill>
                <a:latin typeface="Tahoma"/>
              </a:rPr>
              <a:t>            zákonů</a:t>
            </a:r>
            <a:endParaRPr b="0" lang="en-US" sz="28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773360"/>
            <a:ext cx="377172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elká koloniální expan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ilná instituce stát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droj růstu národního bohatství – zahraniční obchod (aktivní obchodní bilan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statní národy považovány za soupeř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Richard II., Thomas Mu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6120" y="1773360"/>
            <a:ext cx="377172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ávo na život, právo na svobodu a právo na vlastnictv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mezení lidské svobody pouze z důvodu ochrany této svobody samotn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vantitativní teorie peně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ohn Locke, David Hu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Adam Smith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árodní hospodářství má svůj přirozený řád a řídí se přirozenými záko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viditelná ruka trhu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ontánní soulad sobeckého individuálního zájmu se zájmem společenský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 procesu konkurence každý výrobce poznává, že nejvýhodnější je uspokojovat potřeby druhých a přes uspokojování potřeb druhých pak vede cesta k uspokojení potřeb vlastní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Karl Heinrich Marx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idská společnost se neustále mění a vyvíjí – proto nemohou existovat žádné přirozené zákony, které by byly platné jednou provždy ani žádný společenský řá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át má odpovědnost za uspořádání společnosti a musí hrát významnou roli v životě společnosti i v národním hospodářstv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1T12:43:52Z</dcterms:created>
  <dc:creator>CIKT</dc:creator>
  <dc:description/>
  <cp:keywords/>
  <dc:language>en-US</dc:language>
  <cp:lastModifiedBy>CIKT</cp:lastModifiedBy>
  <dcterms:modified xsi:type="dcterms:W3CDTF">2006-10-03T08:44:45Z</dcterms:modified>
  <cp:revision>10</cp:revision>
  <dc:subject/>
  <dc:title>Úloha vlády ve vývoji společenských systémů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7991029</vt:lpwstr>
  </property>
</Properties>
</file>