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32FF-0F79-45AC-AF2A-E67A76BA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5AB2-E492-496B-96DD-FA3CA267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B8F-519B-4EA5-A308-1865B235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9DE-6851-45E5-9A7F-417A55DE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907A-5334-445B-90AB-45E0662E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2B9D-55BE-48D9-B16A-2DA41DF4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7968-727A-4C51-AC2C-66B60EA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25FB-3CC2-473A-A8B8-8ED940C7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54E0-2A9C-499C-91DC-CADAE629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416-C72E-4643-A7A6-0097F3D4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F504-297A-4BC1-9087-D65B18CD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57B-57B7-468E-B9B9-E3D1FC23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B6D-3135-48A4-A849-A14E496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EB50-A6D3-48D6-9EEB-8358D93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933-6D6F-40F9-A125-6133AF6E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3261-267E-4491-B7E9-C9F17BBD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820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26560" y="175248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820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26560" y="3981600"/>
            <a:ext cx="26744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380-8AFB-433D-A167-6A00A7D0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EEDA-6084-4CEA-AF9C-70B08FC2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02F-1791-47CA-9396-9EE84E57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7FA-5DEE-47DE-9CB2-04A6C709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76360" y="380880"/>
            <a:ext cx="55623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B77-AAB9-4B95-8ED9-C10F81F3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5F2-5A41-401E-B896-D11E5A9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5760" y="398160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236-5279-4008-A3B7-DE68AC5C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5760" y="1752480"/>
            <a:ext cx="405324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81600"/>
            <a:ext cx="830592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CF2-16DD-4177-A270-26D03616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0713-F027-4814-B26B-917115A7FE09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A7FB-F3BC-4BD3-9510-7F3EB52EFEA2}" type="slidenum">
              <a:rPr b="0" lang="cs-CZ" sz="10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33360" y="8377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1120" y="48765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Michal Kozub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liam Štefánik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Arial"/>
              </a:rPr>
              <a:t>Petr Novotný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165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ff3ff"/>
                </a:solidFill>
                <a:latin typeface="Arial"/>
              </a:rPr>
              <a:t>17.10.2006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podobování procesů, které příroda dělá efektivněji než člově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oužívání materiálů v úplných uzavřených cyklech s vyloučením odpadu a toxic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roda dokáže leckdy produkovat kvalitnější materiály než člověk při tělěsné teplotě, pod nízkým tlakem a za použití sluneční energi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Cesta vede přes poznání přírodních procesů a jejich napodobe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2AF-61FD-445E-9808-C8FAB87A5C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Biologické mimikry – příklad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Pavouci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rodukují ze stráveného hmyzu hedvábí jež je pevnější než kterékoliv průmyslově vyráběné umělé vlákno bez toho, aniž by museli vařit kyselinu sírovou a používat vysokotlaké lis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Některé druhy škeblí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vytváří vnitřní skořápku dvakrát pevnější než naše nejlepší keramika – za použití mořské vod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405-FF0E-4E2D-BAE3-F7A5A26B69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Namísto ekonomiky prodeje zboží nastoupí ekonomika poskytování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Výrobci nebudou prodejci produktů, ale poskytovateli služeb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Cílem výrobců bude místo přístrojů prodávat výsledky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E36-BE45-4757-8B26-85E790B12B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 - příklad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potřebitel nekupuje pračku ale službu „vyprání prádla“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ačka má jakési počítadlo, výrobce je zodpovědný za její bezproblémový chod, servisuje ji, v případě poruchy opraví nebo vymění bez dodatečných nákladů pro spotřebitel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odpovědný i za likvidaci, recyklaci – nese náklady s tím spojené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Tento koncept je použitelný téměř pro všechno zboží dlouhodobé spotřeby – lednice, auta, kamery, počítače,.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2AA-6E3B-4ED4-82D5-8B799B3E3A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Služby a toky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je prostředkem, nikoliv cílem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ek zůstává pro výrobce aktivem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robce je motivován vyrábět co nejtrvanlivější produkty, snadno opravitelné, lehce recyklovatelné (uložení nebezpečného či nerecyklovatelného odpadu je velkým nákladem)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Motivace udržovat výrobky co nejdéle v produktivním stavu místo aby je předčasně vyřazovali (jak se to děje dnes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563-60F9-49DE-AABA-6E2CA69301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Investování do přírodního kapitál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Jde o takové investice, které zvyšují zásobu přírodního kapitálu k tomu, aby biosféra mohla produkovat více „ekosystémových služeb“ a přírodních zdroj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bnova lesů, ochrana ekosystémů, rekultivace, čiřtění řek a moří,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560-6975-4B98-88E3-34FB36BCDD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Závěr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 lze považovat spíše za prostředek, nežli cíl řešení široké variety problémů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Ideově není ani konzervativní ani liberální, avšak obě tyto polohy oslovuj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roto společnost může usilovat o produktivitu zdrojů již nyní, aniž musí čekat na to, jak se vyřeší spor mezi jednotlivými politikam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4AB-B209-460A-8141-69A44AB952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Děkuji za pozornost</a:t>
            </a:r>
            <a:endParaRPr b="0" lang="en-US" sz="48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0B8-FF57-43AC-9B56-52BDBE97ED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Alvin Toffler – Třetí vlna</a:t>
            </a:r>
            <a:br>
              <a:rPr sz="3200"/>
            </a:b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98840" y="1752480"/>
            <a:ext cx="4516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ývoj společnosti ve vlná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třídání vln je doprovázeno bouřlivými událostmi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současnosti se ocitáme na prahu 3. vývojové vln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5132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968-5795-436E-92AD-1A3D876E19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Jaká bude společnost „třetí vlny“?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é hospodářství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Ohromná neefektivita ve výrobních procesech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adměrné čerpání neobnovitelných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odukce velkého množství odpad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fektivní využívá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cká motivace k úsporám a ochraně životního prostřed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D04F-8832-41BB-A60E-D9036422F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Od dnešního systému se liší ve své filosofii, cílech i základních procesec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Současný stav je dlouhodobě neudržitelný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Změna, která nastane v souvislosti s úsporami neobnovitelných zdrojů nemusí vést k útlumu hospodářství, NAOPAK!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12D-AEC5-44B2-8521-6E0A909BA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Změna vzácnosti přírodních statků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onedávna bylo zacházeno s přírodním kapitálem, jako by ho bylo neomezené množstv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V dnešní době se právě příroda stává „nedostatkovým zbožím“ a začíná nabývat na hodnot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ůležité nejsou jen suroviny získané z přírody (dřevo, ryby, potrava,..), ale především </a:t>
            </a:r>
            <a:r>
              <a:rPr b="1" lang="cs-CZ" sz="2800" spc="-1" strike="noStrike">
                <a:solidFill>
                  <a:srgbClr val="336699"/>
                </a:solidFill>
                <a:latin typeface="Arial"/>
              </a:rPr>
              <a:t>služby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, které nám poskytuje (tvorba a čištění vzduchu, pitné vody, regenerace, zpracování odpadu,..)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B41-D804-4E28-9E64-B361867BD7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ff66"/>
                </a:solidFill>
                <a:latin typeface="Arial Black"/>
              </a:rPr>
              <a:t>Problém současného kapitalismu</a:t>
            </a:r>
            <a:endParaRPr b="0" lang="en-US" sz="32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Kapitalismus v dnešní podobě je finančně ziskový, avšak do budoucna dlouhodobě neudržitelný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růmyslový kapitalismus“ v účetnictví nezohledňuje cenu přírodního kapitálu, která je však obrovská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ní lehké přiřadit hodnotu přírodnímu kapitálu, leč chovat se tak, že nemá hodnotu žádnou nás může přivést ke katastrofě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1C8-B7C1-4E97-88B2-27E374AA4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Přírodní kapitalismus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Existují </a:t>
            </a:r>
            <a:r>
              <a:rPr b="1" lang="cs-CZ" sz="3200" spc="-1" strike="noStrike">
                <a:solidFill>
                  <a:srgbClr val="336699"/>
                </a:solidFill>
                <a:latin typeface="Arial"/>
              </a:rPr>
              <a:t>4 centrální strategie</a:t>
            </a: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 přírodního kapitalismu, umožňující všem subjektům jednat tak, jako by byly oceňovány všechny formy kapitálu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Biologické mimikr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konomika služeb a tok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Investování do přírodního kapitálu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AB2-4F06-4367-B42F-3A3B5CD35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Radikální produktivita zdrojů znamená dosahovat stejné množství užitku (produktu) při snížené spotřebě vstup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Empirie dokazuje, ze taková opatření jsou praktická a snižují náklad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Nedochází pouze k úspoře nákladů, může zlepšovat i kvalitu života!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Případy neúčinnosti způsobující degradaci prostředí jsou takřka vždy nákladnější než opatření, která by tuto degradaci zastavil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824-5F1A-4E7A-AE1D-0C0C58B55C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380880"/>
            <a:ext cx="556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ff66"/>
                </a:solidFill>
                <a:latin typeface="Arial Black"/>
              </a:rPr>
              <a:t>Radikální produktivita zdrojů</a:t>
            </a:r>
            <a:endParaRPr b="0" lang="en-US" sz="3600" spc="-1" strike="noStrike">
              <a:solidFill>
                <a:srgbClr val="ccff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99"/>
                </a:solidFill>
                <a:latin typeface="Arial"/>
              </a:rPr>
              <a:t>Radikální zvýšení produktivity je podstatnou podmínkou přírodního kapitalismu, protože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Zpomaluje plenění zdrojů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Snižuje znečištění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Arial"/>
              </a:rPr>
              <a:t>Dává základnu ke zvyšování světové zaměstnanosti především v oblasti „smysluplných povolání“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649-9554-43DE-9395-A42009A1E5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8:22:02Z</dcterms:created>
  <dc:creator>Petr Novotny</dc:creator>
  <dc:description/>
  <dc:language>en-US</dc:language>
  <cp:lastModifiedBy>Michal Kozub</cp:lastModifiedBy>
  <dcterms:modified xsi:type="dcterms:W3CDTF">2006-10-16T13:05:52Z</dcterms:modified>
  <cp:revision>17</cp:revision>
  <dc:subject/>
  <dc:title>Přírodní kapitalismus</dc:title>
</cp:coreProperties>
</file>