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823-31F7-4C16-B295-0A5EDF685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9FC2-BC5E-4CB0-AF6E-6131963D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A8B-F63E-4DB4-BF61-73C3C553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065-AAB6-4577-9513-A1E10DE6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0999-E321-464C-9A47-D6BB527A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3731-8389-4306-A0EB-118BEEE3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6828-B701-45B6-ABAE-7A8B09CD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FE3D-6982-4C35-939A-FEE90D9A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70CB-6437-4ACB-AECE-80CE691E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1B63-786A-4EA2-A422-7277C5F0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A878-7BA3-4B50-9B58-1F302F61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DD4-9F00-4DBD-B8A5-6375F649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AD02-C2F9-4BFF-8C67-7B04F085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B046-8CFE-4E43-983C-791C3B68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B4C5-8A02-4D2D-AA14-702D9C4D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F4AD-C128-4D52-86A9-3CD1F72B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2AF5-8699-4BF3-AF09-E99269A2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FE1-3EAC-4DEE-86E2-F92D36EA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EDD-C4A7-46E4-A71F-36F03F1D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413-98CA-4F91-880A-0DB73279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39A-5220-4DDC-989F-7474D9CC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D70-7F50-4851-A139-56E3D036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DFD-A62E-4BE0-A304-AFAFFE6C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467-DC82-4C39-AB8C-C51ECCB3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FEF0-8D5C-4436-A092-4262466E88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2D9B-90A4-4C61-8869-F0FE50BA9D7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Nová ekonomika a její důsledky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ahoma"/>
              </a:rPr>
              <a:t>Seminární skupina č.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ina Cah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minik Zbí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ub Fiš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ará ekonom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líčové korporace plánovaly a realizovaly výrobu velkého množství zbož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lkovýroba vedla ke značným úsporá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ížení jednotkových nákladů na výro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chá dohoda mezi všemi zúčastněnými: manažery firem, investory, odbory a veřejnosti zastupované vládou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ová ekonom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é formy komunikace, nové způsoby prodeje, nová konkurence z jiných částí svě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ychlý růst produktivity způsoben rozvojem informačních technologi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ana poptávky nabývá v tržních vztazích dominantní postavení a významně ovlivňuje strukturu nabízených výrobků a služeb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Výhody a nevýhody nové ekonomik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lé podniky mohou pracovat mnohem efektivněji než dří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íky internetu přímý přístup na trh i pro podniky ze třetích zem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konomický růst v jiných částech světa má za následek zvýšenou konkurenci pro podniky d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dniky v nové ekonomic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ční hierarchické struktury se začínají rozvolňovat a mění se na uspořádání pružnějšího typ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soce zhodnocující podniky se podobají pavoučí síti, kde v prostředku jsou strategičtí zprostředkovatelé a v každém místě sítě pracuje poměrně malý počet li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fektivnost vysoce zhodnocující podniku je založena na neustálém hledání a řešení nových příležitost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ůsledky nové ekonomik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evírání platových nůžek mezi vysoce a málo kvalifikovanými profesem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tráta zaměstnání a pokles reálných mezd u zaměstnanců s nedostatečnou kvalifik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ychle měnící se ekonomika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šší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roky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podniky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šší nároky na zaměstnance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dloužení pracovní d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á ekonomika nabízí nové příležitosti a neustále širší výběr úžasných obcho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šší produktivita, lepší, rychlejší, lacinější výrobky všeho druh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šak vyšší intenzita práce u vysoce kvalifikovaných pracovní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Životy lidí se stávají méně předvídatelné, méně zajištěné, ekonomicky divergentnější a sociálně stratifikovaněj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ich, B.R. Slušná společnost. Praha: Moraviapress, 200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pping, R.CH. Průvodce globální ekonomikou. Praha: Portál, 200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lektiv autorů. Management 2: Průvodce studi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7:49:02Z</dcterms:created>
  <dc:creator>KUBA</dc:creator>
  <dc:description/>
  <dc:language>en-US</dc:language>
  <cp:lastModifiedBy>KUBA</cp:lastModifiedBy>
  <dcterms:modified xsi:type="dcterms:W3CDTF">2006-10-24T21:37:42Z</dcterms:modified>
  <cp:revision>5</cp:revision>
  <dc:subject/>
  <dc:title>Nová ekonomika a její důsledky</dc:title>
</cp:coreProperties>
</file>