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86E-308B-46C1-8C22-F7E97C2F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EDE-C452-4176-87AA-48CF8FE2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D3C-9EA8-4A85-A1F0-C467710F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BC7-6B9F-4562-9F09-462D6DE4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CC19-F5B8-41EC-BB13-0AD6E75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001C-7FD4-42E5-BE6F-7A81BBBB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8794-AD90-4FB7-87E1-795B9EE4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B0D-9A46-40F3-B0C6-7EF25E58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FBEC-5532-48FF-82B1-7E4E878F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64C3-CA8F-4999-964E-3A913AA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DDC7-4B2F-44E2-B518-9F884B08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40E-7D47-4802-8BC8-B602E42D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1EF4-B622-43CD-AAF2-B5E7E5AC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4FF0-3CE5-4259-8019-D2DC53A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379D-83DF-4943-9801-D7BCBFD1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CE1-328D-413C-B5E6-11C10D10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A6C-08D8-42A1-AA3C-8070BDB8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E111-61AF-4325-A976-EEC065BF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27C-C41E-4595-8360-B5F2EAC8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75F-807A-4F11-93FD-BC6E4E8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029-187F-4C93-B02D-44E64040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744-6631-424C-B2A7-C7C9044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463-9F19-44F5-A155-3ACC316C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A4A-D808-4C9F-919E-9034BD89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ED1E-74E1-41C7-BBB9-139512C7363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5086-222B-47DD-81F0-BC9F84DF686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voj českého management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ezentující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Eva Paseková, Aleš Havránek, Radovan Hol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kupina č.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.11.200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45676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Historie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8954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klinace k přejímání cizích koncepcí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dobí masarykovské republiky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důraz na české národní hodn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aplikování rakouských a německých tra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orientace na 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Tomáš Baťa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ejvětší osobnost českého managemen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lánovité řízení ekonomi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znárodnění průmyslu a zemědělst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sovětský systém centrálního plánování a říz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konomi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Tomáš Baťa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( 3.4.1876 – 12.7.1932)</a:t>
            </a:r>
            <a:r>
              <a:rPr b="0" lang="cs-CZ" sz="2500" spc="-1" strike="noStrike">
                <a:solidFill>
                  <a:srgbClr val="ffcc66"/>
                </a:solidFill>
                <a:latin typeface="Arial"/>
              </a:rPr>
              <a:t>       </a:t>
            </a:r>
            <a:endParaRPr b="0" lang="en-US" sz="2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Než něco řeknu, musím přemýšlet, co mi ten druhý odpoví“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rincipy řízení podnik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samospráva jednotlivých úseků a díle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účast zaměstnanců na zisku a na řízení obchod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ém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personální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ociální péče o pracovník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ffffff"/>
                </a:solidFill>
                <a:latin typeface="Times New Roman"/>
              </a:rPr>
              <a:t>systematický výcvik a vzdělávání zaměstnanců a mládež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Formování nového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2 tendence uvažování 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návrat k tradičním českým hodnotá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kopírování úspěšných zahraničních koncepcí a přístup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ýhody / nevýhody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řekonání překážek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hierarchie řídících vztah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acovníci chápáni jako „ vykonavatelé příkazů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tendence soustředit se „krátkozrace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Dimenze národní kultury</a:t>
            </a:r>
            <a:br>
              <a:rPr sz="3500"/>
            </a:b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Geert Hofsted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- první zformuloval kulturní dimen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Rozpětí moci v hierarchii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ndividualismus / Kolektivismu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Vyhýbání se nejistotě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askulinita / Fem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louhodobá / 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Vztah českého managementu</a:t>
            </a:r>
            <a:br>
              <a:rPr sz="3500"/>
            </a:br>
            <a:r>
              <a:rPr b="0" lang="cs-CZ" sz="2000" spc="-1" strike="noStrike">
                <a:solidFill>
                  <a:srgbClr val="ffcc66"/>
                </a:solidFill>
                <a:latin typeface="Arial"/>
              </a:rPr>
              <a:t>k jednotlivým dimenzím národní kultury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ocenský odstup a problém komunik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Dilema českého individualismu / kolektivismu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Česká maskulinit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Obava z nejistoty a „švejkovská“ tradice v Čechách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Krátkodobá orienta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Atypické podmínky českého managementu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Neg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Přežitky minulé ér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Nedodržování závazk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tráta východních trhů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Pozi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ásobování českého trhu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aměření na expor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Zlepšení sociálních podmínek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cc66"/>
                </a:solidFill>
                <a:latin typeface="Arial"/>
              </a:rPr>
              <a:t>Seznam literatury :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a kolektiv, Interkulturální management, Praha : Grada publishing, 1996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IVAN NOVÝ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SYLVIA SCHROLL - MACHL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polupráce přes hranice kultur, Praha : Management Press, 2005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575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Times New Roman"/>
              </a:rPr>
              <a:t>MIROSLAV IVANOV, </a:t>
            </a:r>
            <a:r>
              <a:rPr b="0" lang="cs-CZ" sz="2300" spc="-1" strike="noStrike">
                <a:solidFill>
                  <a:srgbClr val="ffffff"/>
                </a:solidFill>
                <a:latin typeface="Times New Roman"/>
              </a:rPr>
              <a:t>Sága o životě a smrti Jana Bati a jeho bratra Tomáše, Vizovice : nakladatelství „LÍPA“, 1998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ěkujeme za pozornost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7:37Z</dcterms:created>
  <dc:creator>Eva Pasekova</dc:creator>
  <dc:description/>
  <dc:language>en-US</dc:language>
  <cp:lastModifiedBy>Eva Pasekova</cp:lastModifiedBy>
  <dcterms:modified xsi:type="dcterms:W3CDTF">2006-11-19T15:56:49Z</dcterms:modified>
  <cp:revision>25</cp:revision>
  <dc:subject/>
  <dc:title>Vývoj českého managementu</dc:title>
</cp:coreProperties>
</file>