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2D5-1B86-43E3-A490-D2C8691F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5DA-2B35-446A-B6D0-96960582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A9DF-D728-4752-A5F1-070A55C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666-EAB0-4CAF-8667-6BDF52D5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B227-FB53-47DA-9DC9-52DC2816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1B7-84ED-43DA-AF20-0DC9E238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6573-8B1D-40D6-9746-9FC69534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09EC-21D5-4211-8993-A805E8A0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CAE1-4A94-4FD9-A76F-F107D361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C29B-DC45-4B1C-B4A5-2167DDB7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E4D2-8B9B-4270-AD50-29568522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4A92-D04C-482E-8EAB-968B326B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381-5BF6-443B-9C98-07195A60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811B-4F5B-4155-97A7-F5B7C4E2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AC10-8519-4FF1-B3ED-0AA89AEB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CC6B-7EBA-4F85-A08C-A0BE9AE8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6ACE-DD4E-43BF-B47F-F551DC4A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DF3-1E81-42C1-816D-18043703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089-E168-469E-8D26-7E84E755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BE1-B357-44A4-B1B8-CDB9D700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149-8CF2-4E94-A066-027AEA3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FBA-9475-4CCD-AD98-B5C92F7A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4A47-9B9D-4DE5-B2DC-7DD417C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918-D6DC-4187-AD73-FF724377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0D7-9260-4434-B8FE-D3FE48CECE91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C881-1586-4878-949F-962008EA627E}" type="slidenum">
              <a:rPr b="0" lang="cs-CZ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seminarky.cz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Georgia"/>
                <a:ea typeface="Times New Roman"/>
              </a:rPr>
              <a:t>Metody soudobého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Tým 8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na Eliášová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 12. 2006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artina Vaisharová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Koncepce jednoduchosti (McKinseye)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Prosazuje se ve strojírenství a v činnosti výrobců součástek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Tato metoda vychází z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na rozhodující potřeby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Snížení počtu zákazníků i dodavatelů při současném zainteresování spolupráce s ni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ládnutí vnitřní kompetentnosti řízení, jež je zaměřeno na jednoduché cíle a přehledné, průhledné i málo složité postup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Reengineering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d počátku 90. le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ozumí se tím zásadní přehodnocení a radikální přeměna podnikových procesů tak, aby mohlo být dosaženo výrazného zdokonalení z hlediska kritických měřítek výkonnosti jako jsou náklady, kvalita, rychlost a na produkt navazující služby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Jde o restrukturalizaci podnikových procesů s cílem dosáhnout větší konkurenční výhody, lepším uspokojováním potřeb zákazníků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Základy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, Doc. Ing. Václav Lednický, CSc., Ostrava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seminarky.c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Tahoma"/>
              </a:rPr>
              <a:t>Děkujeme za pozornost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Vývoj managemen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řed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lasick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Postklasické období (moderní managemen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časné obdob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Zvyšování tržních podílů využíváním konkurenční výh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nižování nákladů na produk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yšování jakosti produk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čas v podobě pohotovosti a rychlosti dodáv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Manažerské metody</a:t>
            </a: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3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Metoda dynamických  7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Jasný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Turnaro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enchmark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„</a:t>
            </a: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Štíhlá výroba“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Koncepce jednoduch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Reenginee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3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ákazník (Customer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Konkurence (Competitio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měna (Chang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Metoda dynamických 7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takeholders satisfaction (uspokojování nároků spotřebitelů a okol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oohsaying (předvídání příležitost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peed (rychlos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urprice (moment překvap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ignals (vysílání signálů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ocks (zásahy do tržní rovnová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hifts (posuny na trhu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Turnaround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Soustředění se na jádro podnik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atraktivnosti výrobků a služeb cestou inovac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nového a přitažlivého jména fir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Realizace sjednoceného a svorného top managementu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Tahoma"/>
              </a:rPr>
              <a:t>Benchma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Základem benchmarkingu je sedm kroků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tanovení kritéria benchmarkingu – koncipování dotaz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říprava interních dat pro srovnávání – přesné určení ukazatel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ýběr podniku pro srovnání – zásadně ten nejlep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hromáždění externích dat s využitím všech možných zdroj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nalýza a interpretace dat při použití i znalostí exper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Odvození cílů specifických pro podnik, jež s ebudou opírat o výsledky analýzy – zadat vysoké cí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Vytvoření plánu opatření k dosažení cílů cestou tvůrčích řešení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„</a:t>
            </a: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Štíhlá výroba“ </a:t>
            </a:r>
            <a:br>
              <a:rPr sz="3600"/>
            </a:br>
            <a:r>
              <a:rPr b="1" lang="cs-CZ" sz="3600" spc="-1" strike="noStrike">
                <a:solidFill>
                  <a:srgbClr val="660066"/>
                </a:solidFill>
                <a:latin typeface="Tahoma"/>
                <a:ea typeface="Times New Roman"/>
              </a:rPr>
              <a:t>(Lean Production)</a:t>
            </a:r>
            <a:r>
              <a:rPr b="1" lang="cs-CZ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Vznik v automobilovém průmysl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ílem je udržet se na trhu, přežít a pokud možno vyniknout při  využívání podpory dílčích cílů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produktiv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výšení kv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edením podniku a pracovní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Zlepšení vztahů mezi výrobcem a zákazníkem či odběratele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32:47Z</dcterms:created>
  <dc:creator>Janicka</dc:creator>
  <dc:description/>
  <dc:language>en-US</dc:language>
  <cp:lastModifiedBy>Rodina</cp:lastModifiedBy>
  <dcterms:modified xsi:type="dcterms:W3CDTF">2006-11-20T15:13:04Z</dcterms:modified>
  <cp:revision>4</cp:revision>
  <dc:subject/>
  <dc:title>Management II</dc:title>
</cp:coreProperties>
</file>