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BDB-8AA3-423F-B93F-A6C8533C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7BA-ED9A-4F17-BDA1-68F9503A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9A4-A8AC-4FD0-9EE6-DEEA6D07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114-A1BD-42F6-8E1F-58FF9B53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8E71-BCA1-4FC0-8A12-FF604B91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494D-2390-43DB-88A7-3B87350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8FEF-0FBF-455A-838C-57517E5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5A5A-9F0A-4BC0-8934-AB7B998D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40C-9F21-43C9-8CE7-49D6042A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1E09-7DDA-4666-92FC-10E0679A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E027-74A5-4FBE-A2D7-64EFC89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ABA-5C52-4DF5-9992-C9DBCAF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A3C5-895D-4C60-AF51-E308AE7A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DE71-F54C-406B-9A1D-A3313EEE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C6FD-9A89-406F-A3DF-EAD9031D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447-FD97-4CCE-B702-63BCB34E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FA22-5B59-417E-8155-789B325E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81DC-2296-4EF9-A724-A6EAC612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0F0-797B-4262-9069-C30FEBA7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F1E-170C-45BA-BDBF-FFFC0EBF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D48-1B22-42C0-9961-97973CF2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17F-60EB-4CE2-B0D8-1BF29ABE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649-77BD-4350-B115-BD9FBE29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D2B-EF89-4224-A364-DE0E8FA4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970-04F3-48C8-A7DC-AF4420A3B5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812E-BB5B-4F79-9503-D485253C06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Metody a nástroje podnikatelské etiky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563640" y="5157720"/>
            <a:ext cx="52880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ý audit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Sociální audit zahrnuje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Garamond"/>
              </a:rPr>
              <a:t>analýzu a kontrolu 4 základních podnikových dimenzí: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Zaměstnanecká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konomický rozvoj společnost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Enviromentální politik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Dobročinnos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Cíle: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cs-CZ" sz="1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říze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Transparentnost pro všechny zainteresované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a sociálního klimatu 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ffff"/>
                </a:solidFill>
                <a:uFillTx/>
                <a:latin typeface="Garamond"/>
              </a:rPr>
              <a:t>Efekty plynoucí z auditu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Analýzy morálky a sociálního klimatu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lepšení motivac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Ozdravení mezilidských vztah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stresové zátěže zaměstnanců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Kontrola moci v podniku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Zvýšení transparentnosti pro všechny skupiny participující na podnikání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Hodnocení účinnosti etických hodno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Garamond"/>
              </a:rPr>
              <a:t>Snížení rozsahu morálních konfliktů ve společnost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48320" y="1484280"/>
          <a:ext cx="4038480" cy="47451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 u="sng">
                          <a:solidFill>
                            <a:srgbClr val="ffffff"/>
                          </a:solidFill>
                          <a:uFillTx/>
                          <a:latin typeface="Garamond"/>
                        </a:rPr>
                        <a:t>Nefinanční audity</a:t>
                      </a: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etický a sociální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jí přesně definovaný právní řá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Řády jsou podnikové, srovnání s konkurenc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up je v každé organizaci shodný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e určen především pro vlastní podni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pakuje 1x ročně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dit se obvykle opakuje za 18 až 24 měsíc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Výcvik zaměstnanců k etickému jednání zaměstnanců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Výzkum provedený britským Institue of business Ethics ukázal, že mezi zkoumanými podniky bylo v roce 20001 nejběžnější formou etického výcviku zaměstnanců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anuál pro zaměstnance ( 64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emináře v organizaci (6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tranet (5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ukové video, hraní rolí atd. (16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statní (20%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aník P., Řezbová L., T. van Zavřel: Metody a nástroje podnikatelské etiky, Praha: Oeconomica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iala B.: Podnikatelská etika, Olomouc: UP v Olomouc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ytrt Z. a kol. : Etika v podnikatelském prostředí, Praha: Grada Publishing, 20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metoda konsensu a dialog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 nutné zvážit, zda přiměřeným stylem rozhodování se stane přístup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utokratick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ýmová příprava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blém je řešen v rámci týmu, ale o konečném rozhodnutí rozhoduje jedin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kupinové rozhodování –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členové týmu problém společně řeší i rozhoduj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Metoda konsensu a dialog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ezi přednosti </a:t>
            </a:r>
            <a:r>
              <a:rPr b="1" i="1" lang="cs-CZ" sz="2400" spc="-1" strike="noStrike" u="sng">
                <a:solidFill>
                  <a:srgbClr val="ffffff"/>
                </a:solidFill>
                <a:uFillTx/>
                <a:latin typeface="Garamond"/>
              </a:rPr>
              <a:t>skupinového rozhodování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 patří např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íce informací a znal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Kombinace různých přístupů a dovednost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Širší spektrum přístupů k řeš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pší pochopení problé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přijatelnost řeš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timulace myšlení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výhod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Dominance některých členů skupiny, podřízenost jiný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rosazování preferované varian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Zamlčování nesouhlasu, preference konsenzu za každou cen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Skupinové myšlení ( nadměrná loajalit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„nákazy“ chybami jiných členů tým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Možnost vyloučení inovativních řešení hlasování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yšší časová náročno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tody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takeholderská analýza a plánování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legitimnější a efektivnější implementace etických principů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přináší větší účinnost, zabezpečuje hospodárnost, posiluje udržitelnost a udržitelný dopad, zajišťuje větší transparentnost a odpovědnost a v neposlední řadě také větší spravedlnost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Stakeholdrem ( podílník či zainteresovaný) je myšlen takový jedinec či skupina, která má určitý vztah k podnikatelskému subjektu a může ovlivňovat jeho podnikatelskou činnost. Technika analyzující klíčové zainteresované skupiny se označuje jako stakeholderská analýzy. Ta ukazuje jejich zájmy vzhledem k cílům projektu, jejich význam v sociální síti i jejich vliv na podnik a úspěšnost projektu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Vedle skupiny  vlastníků (akcionářů), mohou mezi další stakeholderské skupiny patřit zaměstnanci, zákazníci, dodavatelé, konkurence, vlády, stát a místní zastupitelství, veřejnost atd.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aměstnanci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 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Udržení stabilní zaměstnanosti ve firm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pravedlivá odměna za prá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ráce v bezpečném a příjemném prostřed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-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Možnost kolektivně vyjednáv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táv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ublicit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Zákazníci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zájmu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Dosažení „spravedlivého“ nákupu (nakupované zboží musí hodnotou odpovídat vynaloženým prostředků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ískání bezpečných a spolehlivých výrob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dstata </a:t>
            </a: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moc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Nákup zboží od konkurenčních fire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jkot firem, které uplatňují nepřijatelnou politiku či jejichž zboží je nekvalitn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ská analýz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Jednotlivé kroky stakeholderské anylýzy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1. Identifikace podnikových stakeholdrů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2. Seřazení stakeholdrů dle důležitosti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důležitý je vliv a význa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3. Pochopení klíčových stakeholdrů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jištění relevantních údajů – jak smýšlí o našem podniku, jak s nimi co nejlépe komunikovat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22320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ástroje podnikatelské etik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kode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zační struktury na podporu etického program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ý a sociální aud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ýcvik zaměstnanců k etickému jedn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tické vz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tické kodexy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dnikové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 konkrétních podniků či jejich část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rofesní etické kodex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– kodexy různých asociací a sdruž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Garamond"/>
              </a:rPr>
              <a:t>Řada předností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Eliminuje nežádoucí praktiky, které působí pokles přízně zákazníků, zaměstnanců, investorů, veřejnosti atd. a které mohou vést k dlouhodobým ekonomickým ztrátá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bjasňuje politiku firmy v morálně problematických otázkách, definuje akceptovatelné a neakceptovatelné jednání (korupce, úplatky, zneužívání pravomoci apod.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jednodušuje zavádění inovací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ozitivně motivuje zaměstnance posílením jejich vědomí, že pracují v etickém prostředí s jasnými pravidly, která platí pro všechny bez výjimk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lepšuje reputaci firmy na veřejnosti i u zákazníků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abraňuje nadřízeným zneužívat svého postavení vůči ostatním zaměstnanců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rganizační struktury na podporu etického programu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apř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úřad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je odpovědný za každodenní vedení a implementaci podnikového etického programu. Provádí dozor nad dodržováním etického kodexu a chodem podnikové politi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Pracovník odpovědný za etické postupy firmy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- provádí poradenství v záležitostech etické povahy, monitoruje rozvoj etického programu, jeho případné nedostatky, případy neetického jednání at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á rada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poradce v záležitostech nastavení etické politiky organizace, monitoruje program implementace etických principů do každodenního chodu organiz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Etický výbor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celkový dozor nad dodržováním etického programu, úzce spolupracuje se všemi, kteří jsou odpovědni za dohled a správu nad etickým programem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Garamond"/>
              </a:rPr>
              <a:t>Ombudsman</a:t>
            </a:r>
            <a:r>
              <a:rPr b="1" lang="cs-CZ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– zcela  nezávislý na podnikovém managementu. Místo, kde zaměstnanci či další zainteresované skupiny zcela bez obav a volně předkládají své podněty nebo kde žádají o radu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0:58:44Z</dcterms:created>
  <dc:creator>CIKT</dc:creator>
  <dc:description/>
  <dc:language>en-US</dc:language>
  <cp:lastModifiedBy>absolonm</cp:lastModifiedBy>
  <dcterms:modified xsi:type="dcterms:W3CDTF">2006-11-16T20:28:13Z</dcterms:modified>
  <cp:revision>20</cp:revision>
  <dc:subject/>
  <dc:title>Snímek 1</dc:title>
</cp:coreProperties>
</file>