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54E1-BF57-4586-B903-638687CDE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5720" y="411444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44BB-B5C2-4DB0-BCBC-132877DAF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336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6960-3043-4C57-9FAB-54F154ECD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0264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4920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572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0264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4920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28EA-63C2-46EE-9357-4F351F596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EBFEF-F8C9-40FD-AC0A-89F811247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6511C-B344-4913-806A-6397C9CEA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CF9A4-899C-4E7E-8CB9-D812EF15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08C22-BE7D-4F66-A757-B508C0BC7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8A060-77E6-4322-8245-140929FCB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120" y="22860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61EA9-A8DB-4617-A717-05D95E79D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4D96D-FAEC-4678-BD98-97C8E8D7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6D9F-4CB5-404A-A5DD-2654246D5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6336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57239-F1E6-48D7-A494-63A28983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4316B-6C00-4271-82E9-A1F81C32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5720" y="411444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7573B-5D3E-4E5C-8720-94A21C960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6336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17AB2-F6F0-4B9B-9141-33F645FA4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0264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4920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572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0264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4920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55A54-C1C6-4B26-BE77-653051CC2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66DA-4FA8-43B4-AE51-B709AC6D2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FADA-314D-45DB-85F1-9ADAA16BF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CCA3-582D-4F8D-877E-EF6991C4E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120" y="22860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C21D-58D9-4BF5-85D6-2164A673E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725F-828A-4925-8C76-5E179574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336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2584-3000-4098-94CA-D3446C49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6485-9D42-4038-9949-3AB3E211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F772A-7CDE-4746-B81F-52BFE63B286E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2840" y="3657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7c5b5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d7c5b5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66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66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8CC8C-0374-41C1-938A-BFC1B06187DC}" type="slidenum">
              <a:rPr b="0" lang="cs-CZ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b2b2b2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6633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6633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6633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6633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6633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56000" y="3860280"/>
            <a:ext cx="669744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7c5b5"/>
                </a:solidFill>
                <a:latin typeface="Verdana"/>
              </a:rPr>
              <a:t>Proměny práce a jejich vliv na soudobou společnost</a:t>
            </a:r>
            <a:r>
              <a:rPr b="0" lang="cs-CZ" sz="3600" spc="-1" strike="noStrike">
                <a:solidFill>
                  <a:srgbClr val="d7c5b5"/>
                </a:solidFill>
                <a:latin typeface="Verdana"/>
              </a:rPr>
              <a:t> </a:t>
            </a:r>
            <a:br>
              <a:rPr sz="3600"/>
            </a:br>
            <a:br>
              <a:rPr sz="3600"/>
            </a:br>
            <a:r>
              <a:rPr b="0" lang="cs-CZ" sz="3600" spc="-1" strike="noStrike">
                <a:solidFill>
                  <a:srgbClr val="d7c5b5"/>
                </a:solidFill>
                <a:latin typeface="Verdana"/>
              </a:rPr>
              <a:t>        </a:t>
            </a:r>
            <a:r>
              <a:rPr b="0" lang="cs-CZ" sz="1600" spc="-1" strike="noStrike">
                <a:solidFill>
                  <a:srgbClr val="d7c5b5"/>
                </a:solidFill>
                <a:latin typeface="Verdana"/>
              </a:rPr>
              <a:t>Mandovec Zdeněk, Sedláček Milan, Schön Lukáš</a:t>
            </a:r>
            <a:endParaRPr b="0" lang="en-US" sz="1600" spc="-1" strike="noStrike">
              <a:solidFill>
                <a:srgbClr val="d7c5b5"/>
              </a:solidFill>
              <a:latin typeface="Verdan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716360" y="1052640"/>
            <a:ext cx="20163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Verdana"/>
              </a:rPr>
              <a:t>Proměny práce</a:t>
            </a:r>
            <a:r>
              <a:rPr b="0" lang="cs-CZ" sz="4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55720" y="1916280"/>
            <a:ext cx="723600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90000"/>
              </a:lnSpc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Verdana"/>
              </a:rPr>
              <a:t>Rukodělná výrob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90000"/>
              </a:lnSpc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Verdana"/>
              </a:rPr>
              <a:t>Industriální společno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90000"/>
              </a:lnSpc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Verdana"/>
              </a:rPr>
              <a:t>Humanizace prá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90000"/>
              </a:lnSpc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Verdana"/>
              </a:rPr>
              <a:t>Computerizace prá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Verdana"/>
              </a:rPr>
              <a:t>Soudobá společnost</a:t>
            </a:r>
            <a:r>
              <a:rPr b="0" lang="cs-CZ" sz="4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55720" y="1989000"/>
            <a:ext cx="7236000" cy="45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Práce opět komplexní, poměrně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náročnou na kreativit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Vyšší příjmy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Konkurence  -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&gt;</a:t>
            </a: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  inovace  -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&gt;</a:t>
            </a: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&gt;</a:t>
            </a: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  intenzivnější prá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Verdana"/>
              </a:rPr>
              <a:t>R.B.Reich</a:t>
            </a:r>
            <a:r>
              <a:rPr b="0" lang="cs-CZ" sz="4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02920" y="2060280"/>
            <a:ext cx="7588440" cy="44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550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Verdana"/>
              </a:rPr>
              <a:t>Povznést z chudoby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550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Verdana"/>
              </a:rPr>
              <a:t>Vzdělání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550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ff"/>
                </a:solidFill>
                <a:latin typeface="Verdana"/>
              </a:rPr>
              <a:t>Podnik vs. Zaměstnanec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70000"/>
              </a:lnSpc>
              <a:spcBef>
                <a:spcPts val="4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Verdana"/>
              </a:rPr>
              <a:t>Pracovní místa přívětivá vůči rodině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70000"/>
              </a:lnSpc>
              <a:spcBef>
                <a:spcPts val="4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Verdana"/>
              </a:rPr>
              <a:t>Příspěvky - zdravotní péče, důchody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70000"/>
              </a:lnSpc>
              <a:spcBef>
                <a:spcPts val="4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Verdana"/>
              </a:rPr>
              <a:t>Investice do lidského kapitálu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70000"/>
              </a:lnSpc>
              <a:spcBef>
                <a:spcPts val="4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Verdana"/>
              </a:rPr>
              <a:t>Partnerství se svými zaměstnanci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763640" y="115920"/>
            <a:ext cx="100980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971640" y="1700280"/>
            <a:ext cx="8020080" cy="48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Ať je nová ekonomika jakkoli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řínosná, neztrácíme kvůli ní určité stránky svého života – rodinný život, přátelství, pocit společenství … 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HANDY, CH. </a:t>
            </a:r>
            <a:r>
              <a:rPr b="0" i="1" lang="cs-CZ" sz="2000" spc="-1" strike="noStrike">
                <a:solidFill>
                  <a:srgbClr val="ffffff"/>
                </a:solidFill>
                <a:latin typeface="Verdana"/>
              </a:rPr>
              <a:t>Hlad ducha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. Praha: Management Press, 1999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REICH, R.B.  </a:t>
            </a:r>
            <a:r>
              <a:rPr b="0" i="1" lang="cs-CZ" sz="2000" spc="-1" strike="noStrike">
                <a:solidFill>
                  <a:srgbClr val="ffffff"/>
                </a:solidFill>
                <a:latin typeface="Verdana"/>
              </a:rPr>
              <a:t>Slušná společnost.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 Praha: Vize 97, 2003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Verdana"/>
              </a:rPr>
              <a:t>Za pozornost děkují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16000" y="2023560"/>
            <a:ext cx="72360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Mandovec Zdeně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Sedláček Mi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Schön Luká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258920" y="4400640"/>
            <a:ext cx="763416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Použitá literatur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Verdana"/>
              </a:rPr>
              <a:t>BLAŽEK, L. </a:t>
            </a:r>
            <a:r>
              <a:rPr b="0" i="1" lang="cs-CZ" sz="1400" spc="-1" strike="noStrike">
                <a:solidFill>
                  <a:srgbClr val="ffffff"/>
                </a:solidFill>
                <a:latin typeface="Verdana"/>
              </a:rPr>
              <a:t>Management II - průvodce studiem.</a:t>
            </a:r>
            <a:r>
              <a:rPr b="0" lang="cs-CZ" sz="1400" spc="-1" strike="noStrike">
                <a:solidFill>
                  <a:srgbClr val="ffffff"/>
                </a:solidFill>
                <a:latin typeface="Verdana"/>
              </a:rPr>
              <a:t> Masarykova univerzita, 200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Verdana"/>
              </a:rPr>
              <a:t>HANDY, CH. </a:t>
            </a:r>
            <a:r>
              <a:rPr b="0" i="1" lang="cs-CZ" sz="1400" spc="-1" strike="noStrike">
                <a:solidFill>
                  <a:srgbClr val="ffffff"/>
                </a:solidFill>
                <a:latin typeface="Verdana"/>
              </a:rPr>
              <a:t>Hlad ducha</a:t>
            </a:r>
            <a:r>
              <a:rPr b="0" lang="cs-CZ" sz="1400" spc="-1" strike="noStrike">
                <a:solidFill>
                  <a:srgbClr val="ffffff"/>
                </a:solidFill>
                <a:latin typeface="Verdana"/>
              </a:rPr>
              <a:t>. Praha: Management Press, 199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Verdana"/>
              </a:rPr>
              <a:t>REICH, R.B.  </a:t>
            </a:r>
            <a:r>
              <a:rPr b="0" i="1" lang="cs-CZ" sz="1400" spc="-1" strike="noStrike">
                <a:solidFill>
                  <a:srgbClr val="ffffff"/>
                </a:solidFill>
                <a:latin typeface="Verdana"/>
              </a:rPr>
              <a:t>Slušná společnost.</a:t>
            </a:r>
            <a:r>
              <a:rPr b="0" lang="cs-CZ" sz="1400" spc="-1" strike="noStrike">
                <a:solidFill>
                  <a:srgbClr val="ffffff"/>
                </a:solidFill>
                <a:latin typeface="Verdana"/>
              </a:rPr>
              <a:t> Praha: Vize 97,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Verdana"/>
              </a:rPr>
              <a:t>RICH, A.  </a:t>
            </a:r>
            <a:r>
              <a:rPr b="0" i="1" lang="cs-CZ" sz="1400" spc="-1" strike="noStrike">
                <a:solidFill>
                  <a:srgbClr val="ffffff"/>
                </a:solidFill>
                <a:latin typeface="Verdana"/>
              </a:rPr>
              <a:t>Etika hospodářství. </a:t>
            </a:r>
            <a:r>
              <a:rPr b="0" lang="cs-CZ" sz="1400" spc="-1" strike="noStrike">
                <a:solidFill>
                  <a:srgbClr val="ffffff"/>
                </a:solidFill>
                <a:latin typeface="Verdana"/>
              </a:rPr>
              <a:t>Sv.II. Praha: OIKOYMENH, 199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4:42:57Z</dcterms:created>
  <dc:creator>Lukáš Schön</dc:creator>
  <dc:description/>
  <cp:keywords/>
  <dc:language>en-US</dc:language>
  <cp:lastModifiedBy>Lukáš Schön</cp:lastModifiedBy>
  <dcterms:modified xsi:type="dcterms:W3CDTF">2006-10-23T18:16:43Z</dcterms:modified>
  <cp:revision>10</cp:revision>
  <dc:subject/>
  <dc:title>Proměny práce a jejich vliv na soudobou společnost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321029</vt:lpwstr>
  </property>
</Properties>
</file>