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2C14-BF20-4196-A6E2-603F077B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95AE-A654-4E54-9C7D-93734052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40E4-BCA3-4034-891D-93912CA8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DA9-6D74-467A-8F75-3EE2B9DE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1A87-0715-425F-BFB5-2643B015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CB30-4949-4359-8879-CC200949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13F8-4FDB-49E0-BBB8-158039C9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D606-539A-403F-A16B-456C0043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B983-C765-40E8-94DB-38384D14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AA06-B1E6-4C5B-9D58-2F8E6841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51A2-F93C-4F1D-BA06-642C7461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3B80-DF14-40E2-9859-6CED9300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8ABF-50AE-4C8D-967B-B4CD1ED5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340C-B1E0-4358-ADB6-5A91ED9F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FA3C-658B-41EE-8B99-B2111846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1C06-9E7B-4679-B57A-3FEFBB93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A487-BF8B-4B1E-AAB9-A1E7269E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617-CA4E-4AE7-835F-E2B87FF5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000-A319-4FC0-B03E-BF6769E4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2D01-2FF4-4F59-85D1-DED6E001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61D0-3702-4526-96B3-711E3C70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D273-C458-4717-A140-565FCA8E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EFE2-9B9D-4CE3-AA5F-8B2BC03C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C07C-D817-471C-874D-AE6B8494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7161-93C3-4E85-AA84-C6847DEEB20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D734-EDD8-4597-AC61-2C204638572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Vývoj systémů –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řirozená a kulturní evoluc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9640" y="508428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artina Hanák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reza Obšil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reza Bárt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Vývoj jako proces postupného zdokonalování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Antientropický děj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Proces konstitutivní (podstatný, základní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Proces, který hledá, experimentuje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lastnost, která nepřísluší jen jedinci, ale celému systému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Život je nerozlučně spojen s evoluc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Erwin Schrödinger: vlastností života je vytvářet stále větší řád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zdánlivě nepravděpodobná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uspořádání věc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Život je chemický systém schopný sebe sama udržovat, v němž probíhá darwinovská evolu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Charles Darwin: Všechny současné druhy mají společné předky, kteří existovali před dávnými věky. Původ druhu spočívá v proměnách způsobených náhodnými mutacemi a ve výběru prostřednictvím boje o omezené zdro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280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formace se podílí na evoluc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ekvátní informace vzniká až spolu se systémem a ten je určován nahodilými faktory uvnitř i vně tohoto systém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ložitější systém potřebuje více informací k dalšímu vývoj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)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řirozená (biotická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informac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genetická (dědičná) a epigenetická (získaná zkušeností a učením, je základem kulturní informac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)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kulturní informace (umělá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vzniká kontaktem s okol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formace a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znikala rozpoznáváním a hodnocením podnětů důležitých pro přežití a spolupráci lid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tvořila se lidskými smysly a rozum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uchovní kultura, společenské vědom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tváří ji konkrétní jedinci a institu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inform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16720" y="3357720"/>
            <a:ext cx="194472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irozená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Nositelem je příroda sa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Započala prudkou expanzí hmoty – tzv. velký třes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Systémy jsou složitější a sebeorganizovanější (náš předek - sirná bakteri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Arial"/>
              </a:rPr>
              <a:t>Pokročilé organismy obsahují mnoho miliard buněk a jsou organizovány do velmi propracovaných struktu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227640" y="1108080"/>
            <a:ext cx="21607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ulturní evolu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sitelem je člově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avazuje na dosaženou úroveň přirozené evoluce, ale je mnohem rychlejší a stále akceleruj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Výsledkem je kultura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Vývoj umožnilo a urychlilo využívání symbolů (jazyk, písmo)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80071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voluce je proces s otevřeným koncem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511344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Šmajs, J.  Drama evoluce. Praha: Hynek, 200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Šmajs, J. Konflikt přirozené a kulturní evoluce. Brno: Masarykova univerzita, 199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Coveney, P., Highfiled, R. Mezi chaosem řádem. Praha: Mladá Fronta, 2003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Prigogine, I., Stengersová, I. Řád z chaosu. Praha: Mladá Fronta, 200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Arial"/>
              </a:rPr>
              <a:t>Kolektiv autorů, Akademický slovník cizích slov, Praha: Academia, 199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07:39:26Z</dcterms:created>
  <dc:creator>Franta Konopásek</dc:creator>
  <dc:description/>
  <dc:language>en-US</dc:language>
  <cp:lastModifiedBy>99782</cp:lastModifiedBy>
  <dcterms:modified xsi:type="dcterms:W3CDTF">2006-09-26T15:39:47Z</dcterms:modified>
  <cp:revision>5</cp:revision>
  <dc:subject/>
  <dc:title>Vývoj systémů-přirozená a kulturní evoluce</dc:title>
</cp:coreProperties>
</file>