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3D1-11A7-4F05-BEB1-C868AACA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A70-800B-490A-B1BA-E9A22341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412-FBA9-4432-89A4-955462EB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0FD-4CF1-4C71-9DC7-FDF00FB2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07C8-6FCC-4352-B62E-4F2632C2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80F9-9766-4CB5-A18C-13148A71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6A9E-EC15-4D11-96BF-B15C3AC8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40E8-36C6-42D7-ABEC-C814E88F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0822-3A60-4363-9AC7-90681705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D976-662A-49BA-9E8A-C466B443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DD33-D1BC-44D9-B6A8-D0F3F2B5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4C2-AE12-4278-8BE4-C1404E06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BD78-7FCE-4D7D-95C6-A81D18ED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40D7-08FF-4CB7-B64A-1CA37311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A199-170E-4411-9ADF-E14567A2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7A57-A2CB-44B2-BB21-90AD7B36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E47F-DCF9-478D-B9FA-C1CD27BA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1B6-1F69-4C0A-A2B5-39F45E00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BDA-5299-45F5-B34C-A213E338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9A6-B3E5-4184-9F2F-1174EC68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E67-E027-406C-8CDF-702ED768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E3E-085D-467C-A992-EEBD430A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B3C-04B8-4983-8E67-7CA196D9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CD2-22C5-45DF-8BF9-FE492D19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68D9-3948-4F11-B4C8-E0E3D38D037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8535-EBD8-45FD-9E19-D8626922433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c66"/>
                </a:solidFill>
                <a:latin typeface="Arial"/>
              </a:rPr>
              <a:t>Současné a budoucí tendence společnosti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723888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pracoval: Jan Fronček, David Malík, Nikola Zacha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Gary Hamel – globální konkurence 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urence není naším nepříte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tváření budoucnosti bez použití starých strategických nástro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ě špatné chápání globální konkurence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onkurenci nelze chápat jako souboj mezi stá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16560" y="1981080"/>
            <a:ext cx="22716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Gary Hamel – globální konkurence I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jem kontinentální krátkozrak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nagement a budoucnost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ávod může vyhrát jen ten, kdo chce dát dohromady účelnou strateg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ořit v podniku hierarchii představiv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át větší slovo lidem, kteří byli doposud z procesu tvorby strategie vyloučeni </a:t>
            </a:r>
            <a:r>
              <a:rPr b="0" lang="cs-CZ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mladí lid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Michael Hammer – koncepce týmu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nagement utvořený podle předrevolučního 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říve pojem nemyslícího dělníka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nes není potře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třeba výkonných procesů, které vedou k výsledku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oncepce tý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29280" y="1981080"/>
            <a:ext cx="28479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Společná myšlenka autorů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Orientace na asijský trh, dotváření fungujícího kapitalismu a spolupráce na všech podnikových úrovní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Zdroj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ibson, R.: Nový obraz budoucnosti. Management Press, Praha, 2002, 2. vyd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kripta Management II, Brno, 2006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ttp://en.wikipedia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společnost - histor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dobí druhé poloviny sedmnáctého a první poloviny osmnáctého století můžeme datovat jako nástup Druhé vlny - počátek industriální společnosti v nejvyspělejších zemích světa daného obdob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íčiny vzniku druhé vl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jev Nového světa, růst počtu obyvatelstva, který povzbuzoval přesuny do měs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čerpání lesů, vedoucí k využívání uhlí → parní stroj → nebývalé možnosti rozšíření výrob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šiřování vědeckých poznatků využitelných v technické praxi, rozvoj "industriálního" myšlen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nalezení knihtisku, růst gramotnos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společnost - charakteristik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incipy industriální společnosti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dominantní princip industriální společnosti lze považovat princip oddělení výroby a spotřeby. Na tento princip pak navazují další principy, a to princi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ělby práce na základě speci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ynchron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andardizac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centr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im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entr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Postindustriální společnost - histor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60. léta 20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agonista myšlenky postindustriální společnosti - Daniel B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olečnost informační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polečnost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dividualizace, universalismus, decentralizace, územním rozptýlení a rozvolnění časových strukt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Postindustriální spol. - charakteristik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ustá komunikační sítˇ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á ekon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ační technologie (intern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lobaliz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lečnost konzumní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sychická stránka a prožívá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kolog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x Postindustriální společno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voj  výroby x Rozvoj služeb a informační techni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tšinoví reprezentanti: Dělníci x Bílé límeč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života: Hrubý domácí produkt x Míra kultivace a uplatnění jejího lidského potenciá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iority: materiální x postmateri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konomie hlavního proudu x Nová ekon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Obraz budoucnost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ec postindustriální éry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í informační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růst informací a informačních systém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hmotnění informací, ochota za ně zaplat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udoucí vývoj společnost z pohledu tří významných světových autorů, viz. dá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Charles Handy - budoucno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udoucnost není pokračováním minu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nezbytné mít náskok před problémy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elze je pak vyřešit bez ztrá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třeba podílet se na utváření budouc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lečnost začíná být nezvladatelná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á již vlastní rozu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75280" y="1981080"/>
            <a:ext cx="29559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Charles Handy – hospodářský pokrok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spodářský pokrok = planý přís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yšující se sociální rozdí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nba za hospodářským růstem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še na úkor životního prostředí a pracujících li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pitalismus jako systém závislý na lidech a jako mechanismus, který nemá cíle a představuje sociální b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06-10-16T19:31:09Z</dcterms:modified>
  <cp:revision>24</cp:revision>
  <dc:subject/>
  <dc:title>PowerPoint Presentation</dc:title>
</cp:coreProperties>
</file>