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wmf" ContentType="image/x-wmf"/>
  <Override PartName="/ppt/media/image6.wmf" ContentType="image/x-wmf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CBB72-D848-4C27-9BE9-4F6F420D4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8AF31-B2DE-48B7-AA26-0224F3CFE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F4AEA-9264-42BA-B695-93223C2E6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0B14E-DFC7-4C14-A5F3-54FE544BD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8D0E4-A7B6-4DBB-BE98-2D9A3DD04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3209B-2B22-40E3-A588-7B33D5010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FC61A-488B-4F42-9455-C3238A662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23D78-873A-4044-9137-7E515197F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FDA5B-0C2B-40F0-8C2E-6E20B45E9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056FF-AD00-40CE-B86D-4D75A0DFC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156DB-0A4B-4F5B-B98B-AFBAEA6CF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22040-0614-47F2-9957-577FB94CB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5EC87-6395-4F07-9906-06F967437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F492B-D422-4C75-B291-E1CCF9C1D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31285-105E-4F9A-97AE-E9E1EEBFC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B4A73-1E23-48CE-9B59-EA0974A48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02914-EAB5-4E2E-9D01-6B0C03100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3A98E-49AE-46F8-8156-059D2717F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0885E-E78A-4CEE-B3FF-5DECE2EC3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40EA2-F43E-46BF-8CAA-2F94EC020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FAF47-1A3C-4D9D-B4A6-10DD6DEC5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B32A4-B165-4242-A159-475073C3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AF62D-41A5-4D39-9631-AA0D931B1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4D7BC-8B9F-4B9E-951D-A6772E29E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53CB6-90ED-4920-83FD-87FFDD68081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13BFA-A8D0-4414-95D2-ECF65814403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75708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e5e5ff"/>
                </a:solidFill>
                <a:latin typeface="Garamond"/>
              </a:rPr>
              <a:t>Tretia vlna</a:t>
            </a:r>
            <a:br>
              <a:rPr sz="6000"/>
            </a:br>
            <a:r>
              <a:rPr b="1" lang="en-GB" sz="2800" spc="-1" strike="noStrike">
                <a:solidFill>
                  <a:srgbClr val="e5e5ff"/>
                </a:solidFill>
                <a:latin typeface="Garamond"/>
              </a:rPr>
              <a:t>(Post-industrialna spolocnost)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48436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B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Tomas Dona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Iveta Pecharov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Kristián Sema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55640" y="3357720"/>
            <a:ext cx="3378240" cy="25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77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" dur="770" fill="hold"/>
                                        <p:tgtEl>
                                          <p:spTgt spid="1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" dur="77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" dur="77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500"/>
                            </p:stCondLst>
                            <p:childTnLst>
                              <p:par>
                                <p:cTn id="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..druhy pohlad.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Riesman: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Populacny pokles v postindustiralnej spolocnost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Terciarna sfera v zamestnanosti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Zkracovanie pracovnej doby -&gt; zvysovanie volneho casu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‘</a:t>
            </a: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vonkajsie riadenie’ – jednotlivec ovplyvnovany viac vrstovnikmi, ludmi na spolocnej ‘vlne’ x rodinne tradici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Uloha medii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Masivny rozvoj -&gt;</a:t>
            </a: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 kontakt so širším okruhom vrstovníkov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Garamond"/>
              </a:rPr>
              <a:t>Anonymita </a:t>
            </a: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+ </a:t>
            </a:r>
            <a:r>
              <a:rPr b="0" lang="sk-SK" sz="2800" spc="-1" strike="noStrike">
                <a:solidFill>
                  <a:srgbClr val="ffffff"/>
                </a:solidFill>
                <a:latin typeface="Garamond"/>
              </a:rPr>
              <a:t>kritika vrstovnikov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332000" y="3645000"/>
            <a:ext cx="1825560" cy="1260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924360" y="4653000"/>
            <a:ext cx="1868400" cy="17733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6156360" y="3573360"/>
            <a:ext cx="1312920" cy="11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5e5ff"/>
                </a:solidFill>
                <a:latin typeface="Garamond"/>
              </a:rPr>
              <a:t>Ďakujeme za pozornosť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276720" y="2492280"/>
            <a:ext cx="26096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5e5ff"/>
                </a:solidFill>
                <a:latin typeface="Garamond"/>
              </a:rPr>
              <a:t>Stupne industrializacie spolocnosti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Predindustrialna (agrarna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Industrialna – priemyslovny sekto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Postindustrialna – pohltenie sluzbam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076720" y="1413000"/>
            <a:ext cx="1673280" cy="1704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093080" y="4941720"/>
            <a:ext cx="1866600" cy="17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Postindustrialna spolocnos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30.rok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Nove zavery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Vladnuca elit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Pracovna sila do sektoru sluzie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Vyznam technologi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Vedenie – teoretick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hra medzi ludmi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Intenzivny rozvoj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Technologi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Intelektualn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Strojove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vedla sektoru dopravy, sluzieb, trhu, financnej zmeny, vzdelanie vyskum,…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Odraz v kulture profesii -&gt;dominancia univerzi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419640" y="4437000"/>
            <a:ext cx="2065320" cy="21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Klucove pojm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Primat teoretickeho veden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Technicka tried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Planovanie technologi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Uloha zen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Society of knowledge – spolocnost veden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Knowledge class – trieda vladnuci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Strukturalne zmen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1. Vznik globalnej ekonomik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2. Rozvoj komunikaci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3. Technolog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Rozdiely socialnych struktu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57200" y="1600200"/>
          <a:ext cx="8229600" cy="47163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429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ocialna sfera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yp spolocnost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4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edindustrialna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ustrialna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ostindustrialna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zdroj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erastne suroviny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nergia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formaci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zim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obyvani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yroba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pracovani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echnologia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a pracovnej sil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a kapitalu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a know-how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cena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ra proti prirod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ra proti vytvorenej vyrob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ra medzi ludmi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Charakteristik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Vyroba </a:t>
            </a: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tovaru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x sluzb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Technicke, humanitne, odborne -&gt; zmena v profesnej strukture spolocnosti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Doraz na vzdelanie – podmienka</a:t>
            </a: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 čoho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Kvalifikaci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Pristupu k moci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6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…</a:t>
            </a: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charakteristika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Spolocnost meritokraticka (zasluhova; cenenie zasluh) x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neptismus – preferovanie pribuznych, priatelov,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protekcionizmu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Dolezite kvoli DELBE PR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Kvalifikovani x nekvalifikovan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09:20:12Z</dcterms:created>
  <dc:creator>Tomas Donat</dc:creator>
  <dc:description/>
  <dc:language>en-US</dc:language>
  <cp:lastModifiedBy>Tomas Donat</cp:lastModifiedBy>
  <dcterms:modified xsi:type="dcterms:W3CDTF">2006-10-17T12:36:31Z</dcterms:modified>
  <cp:revision>2</cp:revision>
  <dc:subject/>
  <dc:title>Tretia vlna (Post-industrialna spolocnost)</dc:title>
</cp:coreProperties>
</file>