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985-CB96-4EFD-94BB-C8CB4B8F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514-EF90-4A3C-9904-4EEE8D1C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201-AD56-4A13-8ADA-983F33DF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0DC-F849-4AE4-B3EE-F912FBBF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F975-B5EB-4D36-9339-452189EE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3FA3-E1AA-47C2-8448-D0356288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BCDA-F56B-40E5-9BE0-13BC4378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18A1-5545-4446-8BB5-AB115A6A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3D07-8BC2-4E93-9D6E-3E19DB01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44AC-73B7-45DE-A30C-58CEF2DC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6737-A7BD-401C-97CE-E1326FC1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051-B1DB-4691-BA9E-2A741784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A946-46C1-4AF7-97ED-D09656C0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9EFA-989B-4890-BD59-E3B48CA8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EDE4-FA13-4049-84EF-111ADA19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D65E-F10F-464E-899A-6ADFAED6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8B30-BBDF-4146-A408-CBEFCA9D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22F-4EAB-461F-BCD5-A5C89B02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EFD-DF5C-491A-9D85-21CD2A8A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CA6-2F0D-4ECD-93F2-83D2D0C8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158-00E8-4F7F-922C-AA76A0EB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D57-BDE2-41DD-9385-0B89D8C8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F3D-28D0-49E1-84C6-9F52DC6E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AF2-21EB-401F-A946-FDBC0357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0C8A-A3B6-4FCD-8559-FE4DFD94C77F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49F9-2AF6-4628-BF76-67E0EB28CB46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Michal Kozub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liam Štefánik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Petr Novotn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ff3ff"/>
                </a:solidFill>
                <a:latin typeface="Arial"/>
              </a:rPr>
              <a:t>17.10.2006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podobování procesů, které příroda dělá efektivněji než člově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užívání materiálů v úplných uzavřených cyklech s vyloučením odpadu a toxic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roda dokáže leckdy produkovat kvalitnější materiály než člověk při tělěsné teplotě, pod nízkým tlakem a za použití sluneční energi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Cesta vede přes poznání přírodních procesů a jejich napodobe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9C7-B8AE-43B9-820E-9F4C3BCE3D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 – příklad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Pavouci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rodukují ze stráveného hmyzu hedvábí jež je pevnější než kterékoliv průmyslově vyráběné umělé vlákno bez toho, aniž by museli vařit kyselinu sírovou a používat vysokotlaké lis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Některé druhy škeblí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vytváří vnitřní skořápku dvakrát pevnější než naše nejlepší keramika – za použití mořské vod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645-24C9-4925-86A1-EAEF8C32A2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místo ekonomiky prodeje zboží nastoupí ekonomika poskytování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Výrobci nebudou prodejci produktů, ale poskytovateli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Cílem výrobců bude místo přístrojů prodávat výsledk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FB4-EDD3-438F-AC1C-3BCB097FFF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 - příklad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potřebitel nekupuje pračku ale službu „vyprání prádla“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ačka má jakési počítadlo, výrobce je zodpovědný za její bezproblémový chod, servisuje ji, v případě poruchy opraví nebo vymění bez dodatečných nákladů pro spotřebite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odpovědný i za likvidaci, recyklaci – nese náklady s tím spojen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Tento koncept je použitelný téměř pro všechno zboží dlouhodobé spotřeby – lednice, auta, kamery, počítače,.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228-4813-4EF2-B00F-D6968DFCD2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je prostředkem, nikoliv cílem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zůstává pro výrobce aktiv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motivován vyrábět co nejtrvanlivější produkty, snadno opravitelné, lehce recyklovatelné (uložení nebezpečného či nerecyklovatelného odpadu je velkým nákladem)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otivace udržovat výrobky co nejdéle v produktivním stavu místo aby je předčasně vyřazovali (jak se to děje dne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BD6-741D-43A3-B3F8-9C17735DD5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Investování do přírodního kapitál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de o takové investice, které zvyšují zásobu přírodního kapitálu k tomu, aby biosféra mohla produkovat více „ekosystémových služeb“ a přírodních zdroj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bnova lesů, ochrana ekosystémů, rekultivace, čiřtění řek a moří,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4C8-1B60-435A-BEF3-C8D34C3AE7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Závěr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 lze považovat spíše za prostředek, nežli cíl řešení široké variety problém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Ideově není ani konzervativní ani liberální, avšak obě tyto polohy oslovuj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o společnost může usilovat o produktivitu zdrojů již nyní, aniž musí čekat na to, jak se vyřeší spor mezi jednotlivými politikam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256-B78A-4638-8178-A2A4407712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Děkuji za pozornost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1E11-F263-48DB-B4D6-12B95EDAAA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Alvin Toffler – Třetí vlna</a:t>
            </a:r>
            <a:br>
              <a:rPr sz="3200"/>
            </a:b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98840" y="1752480"/>
            <a:ext cx="4516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voj společnosti ve vlná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ídání vln je doprovázeno bouřlivými událostm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současnosti se ocitáme na prahu 3. vývojové vln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45132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43A-A9BC-4179-913F-9CACF4E091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Jaká bude společnost „třetí vlny“?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é hospodářství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Ohromná neefektivita ve výrobních procese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dměrné čerpání neobnovitelných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dukce velkého množství odpad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fektivní využívá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cká motivace k úsporám a ochraně životního prostřed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CD0-5261-4C38-AE59-44D303384B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d dnešního systému se liší ve své filosofii, cílech i základních proces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ý stav je dlouhodobě neudržitelný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měna, která nastane v souvislosti s úsporami neobnovitelných zdrojů nemusí vést k útlumu hospodářství, NAOPAK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6CA-D25E-4D07-8BE8-F6CF6FBC12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Změna vzácnosti přírodních statků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onedávna bylo zacházeno s přírodním kapitálem, jako by ho bylo neomezené množstv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dnešní době se právě příroda stává „nedostatkovým zbožím“ a začíná nabývat na hodnot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ůležité nejsou jen suroviny získané z přírody (dřevo, ryby, potrava,..), ale především </a:t>
            </a: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služby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, které nám poskytuje (tvorba a čištění vzduchu, pitné vody, regenerace, zpracování odpadu,..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B72-EB6B-40C8-ACE8-A2A2BAD37C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blém současného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Kapitalismus v dnešní podobě je finančně ziskový, avšak do budoucna dlouhodobě neudržitelný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ůmyslový kapitalismus“ v účetnictví nezohledňuje cenu přírodního kapitálu, která je však obrovská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ní lehké přiřadit hodnotu přírodnímu kapitálu, leč chovat se tak, že nemá hodnotu žádnou nás může přivést ke katastrof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64C-E093-4401-9420-52E11E451D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Existují 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4 centrální strategie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řírodního kapitalismu, umožňující všem subjektům jednat tak, jako by byly oceňovány všechny formy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Biologické mimikr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ka služeb a tok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Investování do přírodního kapitál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E45-309B-4D4B-A6EF-4DE0E36EB3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 znamená dosahovat stejné množství užitku (produktu) při snížené spotřebě vstup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mpirie dokazuje, ze taková opatření jsou praktická a snižují náklad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dochází pouze k úspoře nákladů, může zlepšovat i kvalitu života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pady neúčinnosti způsobující degradaci prostředí jsou takřka vždy nákladnější než opatření, která by tuto degradaci zastavil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244-3837-4DAC-8B5F-CE767ECBE1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Radikální zvýšení produktivity je podstatnou podmínkou přírodního kapitalismu, protože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pomaluje pleně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nižuje znečiště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ává základnu ke zvyšování světové zaměstnanosti především v oblasti „smysluplných povolání“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694-9803-40F5-A659-E891C26587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8:22:02Z</dcterms:created>
  <dc:creator>Petr Novotny</dc:creator>
  <dc:description/>
  <dc:language>en-US</dc:language>
  <cp:lastModifiedBy>Michal Kozub</cp:lastModifiedBy>
  <dcterms:modified xsi:type="dcterms:W3CDTF">2006-10-16T13:05:52Z</dcterms:modified>
  <cp:revision>17</cp:revision>
  <dc:subject/>
  <dc:title>Přírodní kapitalismus</dc:title>
</cp:coreProperties>
</file>