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BB5-413C-4CCE-AE85-4A9FB9EB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B25-408E-4FE4-A4E3-1505A405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798-B19A-44E9-93A9-CE5370F1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BBD-EEB8-42FC-8632-312D2F49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6EFF-ED65-488F-958D-ECED3CDE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C328-5AC2-4535-BE51-2DF0ADD4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EC59-5F74-42F0-8945-8DA97F9E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FC0D-2B53-4141-B4CA-BA5434D9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C8B7-46C6-4075-8C7C-6C0A4FAB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58E0-33DE-4D15-81A3-811764CD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C87A-20C5-47E2-B224-B2C87EF2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AFD-C8F6-4112-9156-5D4C0CFD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1794-23AE-4265-841C-1C5DC99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9596-0202-491B-86D7-A359C635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9EBF-1549-4A7E-A0D8-35839B55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608C-383D-4993-83C0-45DCACEC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757C-33CA-41DA-9BED-3E123BFD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CEA-409D-4B8C-A348-43EEF5BD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086-E562-40AD-9E29-4B43C8E6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C3E-7173-47BA-825A-FC3F86E8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D44-393D-433B-A051-A0CCB79D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DE8-C3CF-4B58-BD3F-D1FBDEFF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837-DCBE-470E-9A89-CA4D2034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3CB-B33F-44FA-9CA3-5FDBA0E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006D-6EB6-4EEF-9D87-0ACC6D25246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FC82-8AC8-4754-B505-967739819E8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Současné a budoucí tendence společnosti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723888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racoval: Jan Fronček, David Malík, Nikola Zacha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 není naším nepříte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tváření budoucnosti bez použití starých strategických nástro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ě špatné chápání globální konkurenc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kurenci nelze chápat jako souboj mezi stá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16560" y="1981080"/>
            <a:ext cx="22716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kontinentální krátkozra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nagement a budoucnost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ávod může vyhrát jen ten, kdo chce dát dohromady účelnou strateg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ořit v podniku hierarchii představiv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át větší slovo lidem, kteří byli doposud z procesu tvorby strategie vyloučeni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mladí lid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Michael Hammer – koncepce týmu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nagement utvořený podle předrevolučního 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říve pojem nemyslícího dělníka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nes není potře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výkonných procesů, které vedou k výsledku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cepce tý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29280" y="1981080"/>
            <a:ext cx="2847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Společná myšlenka autorů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Orientace na asijský trh, dotváření fungujícího kapitalismu a spolupráce na všech podnikových úrovní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, R.: Nový obraz budoucnosti. Management Press, Praha, 2002, 2. vyd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kripta Management II, Brno, 200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ttp://en.wikipedi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dobí druhé poloviny sedmnáctého a první poloviny osmnáctého století můžeme datovat jako nástup Druhé vlny - počátek industriální společnosti v nejvyspělejších zemích světa daného obdob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íčiny vzniku druhé vl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 Nového světa, růst počtu obyvatelstva, který povzbuzoval přesuny do mě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čerpání lesů, vedoucí k využívání uhlí → parní stroj → nebývalé možnosti rozšíření výrob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šiřování vědeckých poznatků využitelných v technické praxi, rozvoj "industriálního" myšle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nalezení knihtisku, růst gramotnos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ncipy industriální společnosti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ělby práce na základě speci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dardizac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centr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ntr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0. léta 20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agonista myšlenky postindustriální společnosti - Daniel B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informační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polečnost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lizace, universalismus, decentralizace, územním rozptýlení a rozvolnění časových strukt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.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ustá komunikační sítˇ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ční technologie (intern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lobaliz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konzumní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sychická stránka a prožívá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x Postindustriální společ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  výroby x Rozvoj služeb a informační techni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oví reprezentanti: Dělníci x Bílé límeč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života: Hrubý domácí produkt x Míra kultivace a uplatnění jejího lidského potenc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ority: materiální x postmateri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nomie hlavního proudu x 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Obraz budoucnost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ec postindustriální éry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í informační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růst informací a informačních systém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hmotnění informací, ochota za ně zaplat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udoucí vývoj společnost z pohledu tří významných světových autorů, viz. dá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- budouc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udoucnost není pokračováním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ezbytné mít náskok před problémy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lze je pak vyřešit bez ztr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podílet se na utváření budouc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začíná být nezvladatelná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á již vlastní rozu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5280" y="1981080"/>
            <a:ext cx="2955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– hospodářský pokro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spodářský pokrok = planý přís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yšující se sociální rozdí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nba za hospodářským růstem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še na úkor životního prostředí a pracujících li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smus jako systém závislý na lidech a jako mechanismus, který nemá cíle a představuje sociální b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6-10-16T19:31:09Z</dcterms:modified>
  <cp:revision>24</cp:revision>
  <dc:subject/>
  <dc:title>PowerPoint Presentation</dc:title>
</cp:coreProperties>
</file>