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765-C6F5-4E0E-8782-EA42CBD0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D6A-CC90-40E2-9F6B-3F4D903A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DB7-3EDC-484D-A0D0-60B974F5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815-C52F-4340-8E45-EF4F6E17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036E-FB6F-4FF1-A2FC-EA6125CA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7C01-FC8D-4502-9840-10AC51E0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2E25-4C00-4987-A3F3-159A39C0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AAED-BC53-4BBB-95CD-071D473C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4C57-716D-4253-9A4F-24ADC70D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FEDB-9373-417C-A826-F3C65CE4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E7B9-F7A6-483B-A482-9F8B2EB3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4ED-2491-4AD9-8F1D-7F3A6517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DBB7-8306-45B0-B803-753C3D9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9999-92AC-4AB6-9272-23F76281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0617-15A9-4C1E-BB8A-D3920ADC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38CE-70C3-4BB6-AF76-A2FE5628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0FF0-FF0A-467E-A2DB-0732AD68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683-7BC2-4297-9DC9-B3B08D8C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B3F-9A62-46EB-9C19-2B74154B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10B-1FD3-44D9-B7C5-3577501F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1B3-03E0-4180-9D98-216221C2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298-0924-43F0-BEE9-6E56C2CE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10C-32E0-44E0-AA73-2EBA1B71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E59-829E-4D49-97F2-64CFEE9F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EA5B-1E6E-4F1E-B426-3A2A1AA28960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8469-6A02-44C1-B5F9-A4D18594BE07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Michal Kozub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liam Štefánik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Petr Novotn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ff3ff"/>
                </a:solidFill>
                <a:latin typeface="Arial"/>
              </a:rPr>
              <a:t>17.10.2006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podobování procesů, které příroda dělá efektivněji než člově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užívání materiálů v úplných uzavřených cyklech s vyloučením odpadu a toxic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roda dokáže leckdy produkovat kvalitnější materiály než člověk při tělěsné teplotě, pod nízkým tlakem a za použití sluneční energi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Cesta vede přes poznání přírodních procesů a jejich napodobe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31A-CEBB-4525-8030-8D316DC1AF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 – příklad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avouci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rodukují ze stráveného hmyzu hedvábí jež je pevnější než kterékoliv průmyslově vyráběné umělé vlákno bez toho, aniž by museli vařit kyselinu sírovou a používat vysokotlaké lis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Některé druhy škeblí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vytváří vnitřní skořápku dvakrát pevnější než naše nejlepší keramika – za použití mořské vod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710-18A0-4951-8815-A16B7BF56E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místo ekonomiky prodeje zboží nastoupí ekonomika poskytování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Výrobci nebudou prodejci produktů, ale poskytovateli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Cílem výrobců bude místo přístrojů prodávat výsledk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4A2-B17D-471E-8CAC-3512345483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 - příklad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potřebitel nekupuje pračku ale službu „vyprání prádla“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ačka má jakési počítadlo, výrobce je zodpovědný za její bezproblémový chod, servisuje ji, v případě poruchy opraví nebo vymění bez dodatečných nákladů pro spotřebite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odpovědný i za likvidaci, recyklaci – nese náklady s tím spojen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Tento koncept je použitelný téměř pro všechno zboží dlouhodobé spotřeby – lednice, auta, kamery, počítače,.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115-731C-4CC8-BEB9-81EAF5FC04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je prostředkem, nikoliv cílem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zůstává pro výrobce aktiv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motivován vyrábět co nejtrvanlivější produkty, snadno opravitelné, lehce recyklovatelné (uložení nebezpečného či nerecyklovatelného odpadu je velkým nákladem)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otivace udržovat výrobky co nejdéle v produktivním stavu místo aby je předčasně vyřazovali (jak se to děje dn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DBE-0DC7-4422-9F75-6D2365807F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Investování do přírodního kapitál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de o takové investice, které zvyšují zásobu přírodního kapitálu k tomu, aby biosféra mohla produkovat více „ekosystémových služeb“ a přírodních zdroj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bnova lesů, ochrana ekosystémů, rekultivace, čiřtění řek a moří,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45F-D638-45A1-B94E-D8D2F0F454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Závěr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 lze považovat spíše za prostředek, nežli cíl řešení široké variety problém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Ideově není ani konzervativní ani liberální, avšak obě tyto polohy oslovuj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o společnost může usilovat o produktivitu zdrojů již nyní, aniž musí čekat na to, jak se vyřeší spor mezi jednotlivými politikam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133-0F77-4A00-BA98-B8D8702DE2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Děkuji za pozornost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B0C-7473-4E37-A08D-DE9F3723B6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Alvin Toffler – Třetí vlna</a:t>
            </a:r>
            <a:br>
              <a:rPr sz="3200"/>
            </a:b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98840" y="1752480"/>
            <a:ext cx="4516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voj společnosti ve vlná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ídání vln je doprovázeno bouřlivými událostm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současnosti se ocitáme na prahu 3. vývojové vln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45132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00F-D2A8-42D5-BAF1-A49B021682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Jaká bude společnost „třetí vlny“?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é hospodářství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Ohromná neefektivita ve výrobních procese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dměrné čerpání neobnovitelných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dukce velkého množství odpad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fektivní využívá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cká motivace k úsporám a ochraně životního prostřed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BA8-C774-4C89-8ACF-F83AF75FA7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d dnešního systému se liší ve své filosofii, cílech i základních proces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ý stav je dlouhodobě neudržitelný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měna, která nastane v souvislosti s úsporami neobnovitelných zdrojů nemusí vést k útlumu hospodářství, NAOPAK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7CA-C0EA-482B-AD3C-9D87F19683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Změna vzácnosti přírodních statků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onedávna bylo zacházeno s přírodním kapitálem, jako by ho bylo neomezené množstv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dnešní době se právě příroda stává „nedostatkovým zbožím“ a začíná nabývat na hodnot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ůležité nejsou jen suroviny získané z přírody (dřevo, ryby, potrava,..), ale především </a:t>
            </a: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služby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, které nám poskytuje (tvorba a čištění vzduchu, pitné vody, regenerace, zpracování odpadu,..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27E-498D-41FE-82B9-F30CC419F6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blém současného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Kapitalismus v dnešní podobě je finančně ziskový, avšak do budoucna dlouhodobě neudržitelný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ůmyslový kapitalismus“ v účetnictví nezohledňuje cenu přírodního kapitálu, která je však obrovská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ní lehké přiřadit hodnotu přírodnímu kapitálu, leč chovat se tak, že nemá hodnotu žádnou nás může přivést ke katastrof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171-8055-47CA-B16F-18A09CEED2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Existují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4 centrální strategie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řírodního kapitalismu, umožňující všem subjektům jednat tak, jako by byly oceňovány všechny formy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Biologické mimik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ka služeb a tok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Investování do přírodního kapitál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A34-2BAD-45FD-BC11-5D5B5C1611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 znamená dosahovat stejné množství užitku (produktu) při snížené spotřebě vstup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mpirie dokazuje, ze taková opatření jsou praktická a snižují náklad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dochází pouze k úspoře nákladů, může zlepšovat i kvalitu života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pady neúčinnosti způsobující degradaci prostředí jsou takřka vždy nákladnější než opatření, která by tuto degradaci zastavil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1EF-7E11-4F6C-8A2D-9F3BCB53F3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Radikální zvýšení produktivity je podstatnou podmínkou přírodního kapitalismu, protože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pomaluje pleně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nižuje znečiště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ává základnu ke zvyšování světové zaměstnanosti především v oblasti „smysluplných povolání“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E2C-A81F-4DA3-8561-43C80956D3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8:22:02Z</dcterms:created>
  <dc:creator>Petr Novotny</dc:creator>
  <dc:description/>
  <dc:language>en-US</dc:language>
  <cp:lastModifiedBy>Michal Kozub</cp:lastModifiedBy>
  <dcterms:modified xsi:type="dcterms:W3CDTF">2006-10-16T13:05:52Z</dcterms:modified>
  <cp:revision>17</cp:revision>
  <dc:subject/>
  <dc:title>Přírodní kapitalismus</dc:title>
</cp:coreProperties>
</file>