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C3C-0840-421F-B62E-D5B55D74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B83-F799-42C2-AD94-E23B1AAF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83E-020F-46E1-AA84-C89FFDE8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FC0-F9FC-4F94-8BD1-36143A68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5C91-8C87-4462-8AB5-C1A9C7EC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B76E-E031-419C-A618-E9B6B35F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13CD-564F-4420-A62A-1FD35F21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4552-FA81-410D-9390-4896F726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1B87-55F3-4776-B190-CE3EE9F9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B1B8-567B-4571-A137-8F870FD0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C5AE-0043-4580-B5D1-D2C15DF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4F1-EE0A-45ED-AAE7-9EB69C4D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9C17-641C-4089-85A4-AC0A86FE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E078-2A09-4B27-ACDA-0003FB3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D9BC-6422-41E2-A4CD-84691EA5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317D-68BA-4A12-8EC9-D3576AA7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316D-5023-4DD7-B3E5-B734AE42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2BB-3DD5-454D-9B09-E24C439D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F5D-E61E-4804-A22A-B2A9B17F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CA9-BD94-46C3-B153-BFA52B65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174-6552-483B-8D13-2672EA9F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3BC-E71A-48A4-823E-368B51E3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750-0FE1-469F-B18C-04539580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4B6-2ED1-4397-A0B0-BD14EA60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27B3-05EF-463D-9A1C-52A956354CB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C27-1940-4E0F-B30E-A4C7F82FA0E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leonóra Baculá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enka Kotou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rie Kutí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30481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30481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NEC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RITZER, G.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Bell, D.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Kulturní rozpory kapitalism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 ce"/>
              </a:rPr>
              <a:t>Článek - Informačná spoločnosť – globálna výzva v novom miléniu, </a:t>
            </a: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Jana Stadtruck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Článek Nová ekonomika a globální společnost, Radek Froulí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Vývoj</a:t>
            </a:r>
            <a:br>
              <a:rPr sz="5100"/>
            </a:b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industriální společnost ( začátek před 250 až 350 léty) se vyvinula do společnosti industriál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60. létech 20. století se objevují názory, že i industriální společnost je překonaným pojmem a začíná se pracovat s fenoménem jménem informač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Hlavní rysy informační společnosti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vaha práce s informace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raktiv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grace a globalizační ten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Informační společnost znamená soustavné využívání prvků všech dostupných moderních informačních technolo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e zpracování informací se stává velmi důležitá ekonomická aktivita, vytvářející zcela nové příležitosti a činnosti, které ovlivňují charakter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c3aa"/>
                </a:solidFill>
                <a:latin typeface="Arial"/>
              </a:rPr>
              <a:t>Reprezentanty informační společnosti se stávají administrativní pracovníci, kteří se: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izují na produkci a zprac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yto informace jsou digitálně zpracovány, uchovávány a přenášen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možňují rychlou reakci na změny v pracovním prostředí, což je jednou z podmínek úspěšné adaptace na stále se měnící podmín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4c3aa"/>
                </a:solidFill>
                <a:latin typeface="Arial"/>
              </a:rPr>
              <a:t>Nejen jednotlivci a firmy, ale i národní ekonomiky jsou nuceny využívat informace ve stále větší míře, neboť investice a pracovní příležitosti se přesouvají do zemí, které vykazují nejvyšší míru adaptace s touto situací</a:t>
            </a:r>
            <a:br>
              <a:rPr sz="4300"/>
            </a:br>
            <a:endParaRPr b="0" lang="en-US" sz="43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 a globaliz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nzivní využívání a možnost rychlé výměny všech druhů informací jsou jednou z podmínek, které daly vzniknout globalizac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obalizace – všechny změny ve společnosti a ve světové ekonomice, které jsou důsledkem dramatického vzrůstu mezinárodního obchod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bližování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munik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 využitím všech nejnovějších prvků informační společnosti se komunikace stává stále obtížněj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Žijeme v otevřených systémech, musíme zvažovat naše (i globální) okolí, vše s ohledem na budouc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oto je jedním z důvodů, proč se vyvin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polečnost věděn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ává se logickým následníkem informační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ědění samo o sobě se stává klíčovým faktorem produk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zrychlily a zlevnily přístup k vědění a informac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55:54Z</dcterms:created>
  <dc:creator>Marie Kutílková</dc:creator>
  <dc:description/>
  <dc:language>en-US</dc:language>
  <cp:lastModifiedBy>CIKT</cp:lastModifiedBy>
  <dcterms:modified xsi:type="dcterms:W3CDTF">2006-10-16T09:09:08Z</dcterms:modified>
  <cp:revision>5</cp:revision>
  <dc:subject/>
  <dc:title>Informační společnost</dc:title>
</cp:coreProperties>
</file>