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2BD1-0058-48C7-8D97-B580D9BC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AE92B-55C7-4724-A2B9-6AF18DF9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377FE-7209-4995-88F2-DA07C7DE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46D16-0327-4852-B7B9-BF1CCF89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0DE4-8F2F-43F4-8489-97955AE0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86F4-26A8-48A1-AF9D-27ED7776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FB44-6263-4AF8-96F6-320BE891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C80F-1399-4CC7-89B6-C551188B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4E3D-1C85-41F4-BFFD-A6F0EF61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65EE-845A-4911-9B57-A6BAE7EB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F063-28E0-45F6-8D64-94ED5FE2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DDF1-4F18-4888-B1B9-1DC2EA17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D2DD-4FBB-414A-8F94-73573BBD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3EBE-C41D-4CF8-A2CC-FEA3FBFB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3D1C-BA1D-4347-8F18-39310EE9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95E2-750B-4738-BFEF-DA92F729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D37A-C30C-4ED6-A96B-2515BC07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4A9DA-530E-41BE-8700-B9B84F54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E1C44-59A1-487A-A066-80EC9897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5CF7-A4CA-4AE1-85D6-A450D45F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3DCE6-4F83-4C8F-B2D9-8892BC55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E7826-27F0-48CF-B91C-BDBE8297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D893-993A-48EC-807B-BA27EBFC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12686-6934-4D9B-8E65-80446AA1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585A-6282-4235-960A-8D581DF5FE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5795-0D29-45F5-B62C-C1685106C0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7570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Tretia vlna</a:t>
            </a:r>
            <a:br>
              <a:rPr sz="6000"/>
            </a:br>
            <a:r>
              <a:rPr b="1" lang="en-GB" sz="2800" spc="-1" strike="noStrike">
                <a:solidFill>
                  <a:srgbClr val="e5e5ff"/>
                </a:solidFill>
                <a:latin typeface="Garamond"/>
              </a:rPr>
              <a:t>(Post-industrialna spolocnost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8436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omas Don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veta Pecharov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Kristián Sem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3378240" cy="25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..druhy pohlad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iesman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opulacny pokles v postindustiralnej spoloc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erciarna sfera v zamestnanosti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Zkracovanie pracovnej doby -&gt; zvysovanie volneho ca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‘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onkajsie riadenie’ – jednotlivec ovplyvnovany viac vrstovnikmi, ludmi na spolocnej ‘vlne’ x rodinne tradic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Uloha med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asivny rozvoj -&gt;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 kontakt so širším okruhom vrstovníko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Anonymita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kritika vrstovniko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3645000"/>
            <a:ext cx="1825560" cy="126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24360" y="4653000"/>
            <a:ext cx="1868400" cy="1773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1312920" cy="11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Ďakujeme za pozornosť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Stupne industrializacie spolocnost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edindustrialna (agrar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dustrialna – priemyslovny sek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ostindustrialna – pohltenie sluzbam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1673280" cy="1704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093080" y="4941720"/>
            <a:ext cx="18666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ostindustrialna spolocno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30.ro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Nove zaver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ladnuca eli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racovna sila do sektoru sluzie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yznam technologi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edenie – teoretic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hra medzi ludmi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ntenzivny rozvoj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echnologi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ntelektual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ojov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edla sektoru dopravy, sluzieb, trhu, financnej zmeny, vzdelanie vyskum,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draz v kulture profesii -&gt;dominancia univerz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19640" y="4437000"/>
            <a:ext cx="2065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Klucove pojm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imat teoretickeho vede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echnicka trie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lanovanie technolog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loha ze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ociety of knowledge – spolocnost vede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Knowledge class – trieda vladnuci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trukturalne zme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1. Vznik globalnej ekonomi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2. Rozvoj komunikac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3. Technolog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zdiely socialnych struktu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7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29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ocialna sfer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yp spolocnos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industrialn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ustrialn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stindustrialn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droj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rastne surovin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ergi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formaci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zim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byvani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rob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pracovani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echnologi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 pracovnej sil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 kapital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 know-how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cen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ra proti priro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ra proti vytvorenej vyrob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ra medzi lud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harakteristik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Vyroba 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tovaru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x sluz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Technicke, humanitne, odborne -&gt; zmena v profesnej strukture spolocnost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oraz na vzdelanie – podmienka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 čoho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Kvalifikac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Pristupu k moc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…</a:t>
            </a: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harakteristika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polocnost meritokraticka (zasluhova; cenenie zasluh) x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neptismus – preferovanie pribuznych, priatelov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protekcionizm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olezite kvoli DELBE PR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Kvalifikovani x nekvalifikova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9:20:12Z</dcterms:created>
  <dc:creator>Tomas Donat</dc:creator>
  <dc:description/>
  <dc:language>en-US</dc:language>
  <cp:lastModifiedBy>Tomas Donat</cp:lastModifiedBy>
  <dcterms:modified xsi:type="dcterms:W3CDTF">2006-10-17T12:36:31Z</dcterms:modified>
  <cp:revision>2</cp:revision>
  <dc:subject/>
  <dc:title>Tretia vlna (Post-industrialna spolocnost)</dc:title>
</cp:coreProperties>
</file>