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CBBF3-8441-4B75-9E76-DEB58410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AC479-0408-443B-AE90-E2BE20E1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9A422-EA39-4BA3-B74A-67D345DB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84165-B401-48D1-A9A4-01F6C191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F369-CABD-4917-B70F-2753CE5C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06B3-1013-42ED-86B4-6376D6B5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34EE-84F8-4363-90BD-73BB3196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8E56-A013-4F64-BFF6-D6FC4514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40E4-3D32-4F24-A0EB-39CF5C36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6290-72F8-4719-AD7B-612566A3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7130-5F38-44CC-BC9A-1C98B00A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5473B-7C7E-44D6-A0E5-6A85B0BB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8DC5-E0B0-449A-9CAC-E06F34F4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0976-2FDE-4CBD-965B-EDC5FCEE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73CF-292C-4AEC-81DE-147EED94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E877-5484-4EFC-ADED-6A2AD39C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4ACC-AECC-4843-B71F-9F21111E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4E770-7582-437F-9991-DBB4F255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2AB67-0147-4236-8E72-EB434F9E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64203-12AE-43D2-B59F-290494CD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06042-EE25-433C-B668-079EB70F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6F138-BB9F-4FFE-A999-DDD21FFD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0BCB2-AF35-445D-BBA9-C96D9448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7AD87-7DD7-40A4-B2FF-8D00FE38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2C6A9-ED8E-474D-AC99-94F0E81B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812EF-6823-43A2-A1C5-05AB4211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7739D-CD53-43A9-8101-275671B0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458D5-5903-485C-825C-10B47A96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997A9-3549-41DD-B0DE-E7689A0C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29CEA-43BF-4A39-BD13-227A8368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9561B-CD47-42E6-8DD3-A36E6350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9C8F1-AAE0-43C8-AF3B-63AD4CD9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9601C-661C-4CAE-B1A0-C86D6EDF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99B08-58A4-44B2-90F7-9AD45586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6541C-F2EC-49AE-82DB-1F8156C5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BB5C6-A2F5-40A7-B17D-ACAE6B12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18430-0374-42E7-BB61-47871A5E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B2936-9671-4F14-B021-FAD6938B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D01C9-9685-4B90-B8B7-BD116A62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3C412-C0EA-4052-BEA7-31C3339A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3EF0A-F367-4D5A-8F2B-307D3929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87D5B-B09F-4C83-B3B0-03445E98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32180-94C9-4349-930D-D4B221C5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2F54A-C819-47E0-A236-CF1D2318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0AC6F-DCED-4236-9E81-34DFAF5C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5C425-E6DB-4B80-9D79-369A8C7D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9B3BD-A5AF-43E0-89AF-F45AD936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3501B-90A1-4BFB-A9F8-5AD92238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5085B-2DEA-4DC6-A080-7D17E11C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DC8DD-6D09-49CD-AB9D-D6F721D8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FDEC9-968C-46AA-A8A7-7C8E3E45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9E51B-CD34-45EB-B4E3-6A984805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E78EC-2AC5-4B81-9E4D-F996DD56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748D9-F04D-444C-A37C-49ED7525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4FC9E-0A98-45B5-AA1B-6D4BDA58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0D97E-740A-4CE1-BE18-9B2D5F95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DC007-12C0-46C4-8FF4-F33685DC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B1CF5-6F4D-4D54-B314-A35753BD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86F2A-12CE-435E-88F6-9F3CBAC1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49646-5EC3-4BCB-A43F-3ED7CB4B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BF77-D30E-4B4D-9C27-7122DE4BA9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34B3-AAFF-4755-B64E-646FD2169C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EE8E-164E-4741-80BE-34B1ADBAF54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7EE9-093F-491B-AEE5-A6C63D8F592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CE43-EFB8-426F-B3C3-97140CFA1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>
                <a:solidFill>
                  <a:srgbClr val="ffffcc"/>
                </a:solidFill>
                <a:latin typeface="Garamond"/>
              </a:rPr>
              <a:t>Toffler </a:t>
            </a:r>
            <a:r>
              <a:rPr b="1" i="1" lang="cs-CZ" sz="2500" spc="-1" strike="noStrike">
                <a:solidFill>
                  <a:srgbClr val="ffffcc"/>
                </a:solidFill>
                <a:latin typeface="Garamond"/>
              </a:rPr>
              <a:t>vs.</a:t>
            </a:r>
            <a:r>
              <a:rPr b="1" i="1" lang="cs-CZ" sz="4200" spc="-1" strike="noStrike">
                <a:solidFill>
                  <a:srgbClr val="ffffcc"/>
                </a:solidFill>
                <a:latin typeface="Garamond"/>
              </a:rPr>
              <a:t> McDonaldiza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43280" y="3938400"/>
            <a:ext cx="404352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Zpracoval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Jiří Gaw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Lenka Říh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Jana Škvařil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787320" y="1600200"/>
            <a:ext cx="2900520" cy="4356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352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Úv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Tofflerovy vlny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1. vl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2. vl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3. vl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851280" y="2276640"/>
            <a:ext cx="475128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3. vl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robní fakto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nehmotné hodno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demasifik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prá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inov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měřítk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organiz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systémová integr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infrastruktu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zrychlen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992840" y="1628640"/>
            <a:ext cx="33480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4400" spc="-1" strike="noStrike">
                <a:solidFill>
                  <a:srgbClr val="000000"/>
                </a:solidFill>
                <a:latin typeface="Garamond"/>
              </a:rPr>
              <a:t>McDonald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550872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charakteristika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hlavní zna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efektiv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vypočita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předpovědi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iracionalita rac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2438640" cy="1905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726160" y="2422440"/>
            <a:ext cx="26636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Zamyšlen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egmentace x unifikace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ypočitatelnost?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iracionalita racionality, prostor pro inovace?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budoucnost franšíz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140360" y="2135160"/>
            <a:ext cx="2912760" cy="29131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 rot="444000">
            <a:off x="6948000" y="836640"/>
            <a:ext cx="16272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6000" spc="-1" strike="noStrike">
                <a:solidFill>
                  <a:srgbClr val="e5e5ff"/>
                </a:solidFill>
                <a:latin typeface="Garamond"/>
              </a:rPr>
              <a:t>Děkujeme za pozornost…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offler, A., Tofflerová, H.: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Nová civilizace (Třetí vlna a její důsledky)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Praha 2001, Nakladatelství Dokořán, 125 s., ISBN 80-86569-00-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itzer, G.: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cDonaldizace společ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Praha 1996, Academia, 176 s., ISBN 80-20005-71-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0:43:13Z</dcterms:created>
  <dc:creator>Jana Skvarilova</dc:creator>
  <dc:description/>
  <dc:language>en-US</dc:language>
  <cp:lastModifiedBy>Jana Skvarilova</cp:lastModifiedBy>
  <dcterms:modified xsi:type="dcterms:W3CDTF">2006-10-16T11:56:07Z</dcterms:modified>
  <cp:revision>33</cp:revision>
  <dc:subject/>
  <dc:title>Snímek 1</dc:title>
</cp:coreProperties>
</file>