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89A-68EA-48DE-8EF9-65F21E42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7E6-5A55-4FC2-B9DD-EA81489B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FBB-62C8-4246-BA15-81465097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5FD-C388-4DFA-A883-0435A689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E413-A94E-4EE6-8DC1-7B0D8614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F386-8501-41A8-9CB6-16561974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DFFB-7DCA-4E80-ABEF-0C5D1A63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E49E-36A8-47AF-9D6C-DEFA850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6F6B-6539-45F8-B39A-BB0563F6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38C8-874A-4AC0-91A3-3E62281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060F-CFAD-4327-97EB-D5C738FC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517-299B-497B-8B62-803B8609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6758-D1BB-4C1B-A073-7C3911C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CA27-655C-4857-B5BF-D8A12FF1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E38D-09A0-40B2-B31E-1F386C02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1A32-8002-4AA7-A70C-2435AF67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F549-65E1-4FDF-9011-D21EF4C8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8F5-0D6A-4757-BE34-395F8932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B08-E6BE-42E9-A179-D38393BE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FF2-E24E-435C-8765-CAF73D60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086-C73E-4EA8-BB71-38BA8E4D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9D7-A3ED-479D-8912-34C120D3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4B4-474B-4790-AFEA-E6A98D9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E38-CCA4-40EB-B75E-31D4EE2C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7AFF-B26D-4681-971E-574A43BFBD1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D1A9-306B-46CE-912D-0531DBD7C10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leonóra Baculá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enka Kotou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rie Kutí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0481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0481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NEC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RITZER, G.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ell, D.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Kulturní rozpory kapitalism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 ce"/>
              </a:rPr>
              <a:t>Článek - Informačná spoločnosť – globálna výzva v novom miléniu, </a:t>
            </a: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Jana Stadtruck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Článek Nová ekonomika a globální společnost, Radek Froulí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Vývoj</a:t>
            </a:r>
            <a:br>
              <a:rPr sz="5100"/>
            </a:b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industriální společnost ( začátek před 250 až 350 léty) se vyvinula do společnosti industri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60. létech 20. století se objevují názory, že i industriální společnost je překonaným pojmem a začíná se pracovat s fenoménem jménem informač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Hlavní rysy informační společnosti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vaha práce s informace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raktiv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grace a globalizační t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Informační společnost znamená soustavné využívání prvků všech dostupných moderních informačních technolo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 zpracování informací se stává velmi důležitá ekonomická aktivita, vytvářející zcela nové příležitosti a činnosti, které ovlivňují charakter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c3aa"/>
                </a:solidFill>
                <a:latin typeface="Arial"/>
              </a:rPr>
              <a:t>Reprezentanty informační společnosti se stávají administrativní pracovníci, kteří se: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izují na produkci a zprac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to informace jsou digitálně zpracovány, uchovávány a přenášen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možňují rychlou reakci na změny v pracovním prostředí, což je jednou z podmínek úspěšné adaptace na stále se měnící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4c3aa"/>
                </a:solidFill>
                <a:latin typeface="Arial"/>
              </a:rPr>
              <a:t>Nejen jednotlivci a firmy, ale i národní ekonomiky jsou nuceny využívat informace ve stále větší míře, neboť investice a pracovní příležitosti se přesouvají do zemí, které vykazují nejvyšší míru adaptace s touto situací</a:t>
            </a:r>
            <a:br>
              <a:rPr sz="4300"/>
            </a:br>
            <a:endParaRPr b="0" lang="en-US" sz="43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 a globaliz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zivní využívání a možnost rychlé výměny všech druhů informací jsou jednou z podmínek, které daly vzniknout globalizac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obalizace – všechny změny ve společnosti a ve světové ekonomice, které jsou důsledkem dramatického vzrůstu mezinárodního obcho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bližování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munik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 využitím všech nejnovějších prvků informační společnosti se komunikace stává stále obtížněj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Žijeme v otevřených systémech, musíme zvažovat naše (i globální) okolí, vše s ohledem na budouc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oto je jedním z důvodů, proč se vyvin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polečnost věděn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ává se logickým následníkem informační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ědění samo o sobě se stává klíčovým faktorem produ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zrychlily a zlevnily přístup k vědění a informa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55:54Z</dcterms:created>
  <dc:creator>Marie Kutílková</dc:creator>
  <dc:description/>
  <dc:language>en-US</dc:language>
  <cp:lastModifiedBy>CIKT</cp:lastModifiedBy>
  <dcterms:modified xsi:type="dcterms:W3CDTF">2006-10-16T09:09:08Z</dcterms:modified>
  <cp:revision>5</cp:revision>
  <dc:subject/>
  <dc:title>Informační společnost</dc:title>
</cp:coreProperties>
</file>