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1419-27A9-4852-91E2-D7DBAD20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65CC3-CD5F-4913-A0C7-0EDC732C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252E-4D71-4A10-A6B8-1B69D6DE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01FCB-B750-418F-B2E0-3F25C659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47ED-B6B6-4400-B579-12D1877C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9388-35B2-4196-BF87-18C3496D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EDF8-12DF-4326-8469-0777465D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47A8-67C7-4F03-AA11-414596E9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4102-D221-4834-8F0D-2552AD95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3086-83B1-43DF-B77A-D9528305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7254-88D0-441E-8089-D4334F7B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B907-4419-47B4-A796-D734F7C4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9575-CA19-4005-AD37-67D7DF4E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D53F-4360-46DB-8367-8A6B5892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9AF0-2FB7-4F1C-9899-92AB2CEC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F461-5F19-4A9F-9A53-3C5DD0AB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CD4D-C6E9-48A2-9750-75F8EFB3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E039-0D16-46E5-86C5-667CEED9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0EF4-42B0-417C-9F8B-5BE5485F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9230-70F2-4816-A342-FD689579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18FDE-0790-4A8B-B5EC-602320BF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AD94-1563-4E92-A86D-7D6C9E34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B214-3F9A-4FFB-988B-0E6B69DE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6E63-D122-4D58-9584-7BC48DC4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18BB-D503-42D1-B6E2-0389C2DC8C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CA1B-A854-4A8C-82FC-3253B9D629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7570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Tretia vlna</a:t>
            </a:r>
            <a:br>
              <a:rPr sz="6000"/>
            </a:br>
            <a:r>
              <a:rPr b="1" lang="en-GB" sz="2800" spc="-1" strike="noStrike">
                <a:solidFill>
                  <a:srgbClr val="e5e5ff"/>
                </a:solidFill>
                <a:latin typeface="Garamond"/>
              </a:rPr>
              <a:t>(Post-industrialna spolocnost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84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mas Don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veta Pecharo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Kristián Sem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3378240" cy="25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..druhy pohlad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iesman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opulacny pokles v postindustiralnej spoloc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erciarna sfera v zamestnanost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Zkracovanie pracovnej doby -&gt; zvysovanie volneho ca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onkajsie riadenie’ – jednotlivec ovplyvnovany viac vrstovnikmi, ludmi na spolocnej ‘vlne’ x rodinne tradic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Uloha med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asivny rozvoj -&gt;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 kontakt so širším okruhom vrstovník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Anonymita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kritika vrstovniko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3645000"/>
            <a:ext cx="182556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24360" y="465300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31292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Ďakujeme za pozornosť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Stupne industrializacie spolocnost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edindustrialna (agrar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ustrialna – priemyslovny sek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ostindustrialna – pohltenie sluzba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1673280" cy="1704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8666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ostindustrialna spolocn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0.ro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Nove zave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ladnuca eli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acovna sila do sektoru sluzie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yznam technologi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edenie – teoretic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ra medzi ludmi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ntenzivny rozvoj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ologi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telektual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ojov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edla sektoru dopravy, sluzieb, trhu, financnej zmeny, vzdelanie vyskum,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draz v kulture profesii -&gt;dominancia univerz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19640" y="4437000"/>
            <a:ext cx="2065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Klucove pojm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imat teoretickeho ved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icka trie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lanovanie technolo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loha ze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ociety of knowledge – spolocnost ved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Knowledge class – trieda vladnuci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trukturalne zme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1. Vznik globalnej ekonomi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 Rozvoj komunikac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. Technolog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zdiely socialnych struktu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29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cialna sfer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yp spolocnos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t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dro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rastne surovin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erg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formac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zi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byvan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rob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pracovan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chnolog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pracovnej sil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kapital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know-ho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c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proti priro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proti vytvorenej vyrob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medzi lud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harakteristi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Vyroba 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tovaru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x sluz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Technicke, humanitne, odborne -&gt; zmena v profesnej strukture spolocnos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raz na vzdelanie – podmienka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 čoho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Kvalifikac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istupu k moc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…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harakteristika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polocnost meritokraticka (zasluhova; cenenie zasluh) x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neptismus – preferovanie pribuznych, priatelov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otekcionizm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lezite kvoli DELBE PR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Kvalifikovani x nekvalifikova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9:20:12Z</dcterms:created>
  <dc:creator>Tomas Donat</dc:creator>
  <dc:description/>
  <dc:language>en-US</dc:language>
  <cp:lastModifiedBy>Tomas Donat</cp:lastModifiedBy>
  <dcterms:modified xsi:type="dcterms:W3CDTF">2006-10-17T12:36:31Z</dcterms:modified>
  <cp:revision>2</cp:revision>
  <dc:subject/>
  <dc:title>Tretia vlna (Post-industrialna spolocnost)</dc:title>
</cp:coreProperties>
</file>