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EAC-E008-43DC-B3D4-A19BBF62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B1CA-D931-4565-881B-F5A0D6BF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3E8-26D8-46C0-B555-97EA4840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C32-B89A-4009-862B-7B148405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FB2C-AB6B-4ED6-A233-D0E43B44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A3F5-9D92-46AD-B1D7-358573CF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C2EF-984C-47AF-8170-7FAAB084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17D7-1549-43BF-8BD4-CCCF5936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77A7-8912-42EC-ABF9-20AF1610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4352-7F93-4CB7-BDD4-722B4D90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7417-18F3-4F19-81C2-7CE940C4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6B6D-AA55-4514-9118-EF8CEAB3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2E9C-D6D1-4398-90E1-7E530AFC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EA05-89D6-464F-B6F7-4C9AABBA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2AFA-B8C1-4BBD-A245-21440AA5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EDC8-320E-4F8F-A8A7-020F2E37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69E6-2E2B-4495-8990-752AF15F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09F6-7588-454C-9388-15AC398B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9982-7247-4442-8AC6-081EF547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8A6F-8970-426A-835A-22943F23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932-B017-4E9F-8176-4C5F8A83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4F2-0200-4E11-948B-50D128DD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3993-DBD9-4ADF-86CC-1319FA94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ACE-5178-4426-A68E-E0466338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D638-FB50-4734-AA65-2B429D50E48E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D6D6-2AEC-4D7E-BA43-28F04C7E7E4F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řírodní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Arial"/>
              </a:rPr>
              <a:t>Michal Kozub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Viliam Štefánik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Arial"/>
              </a:rPr>
              <a:t>Petr Novotný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ff3ff"/>
                </a:solidFill>
                <a:latin typeface="Arial"/>
              </a:rPr>
              <a:t>17.10.2006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Biologické mimikr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apodobování procesů, které příroda dělá efektivněji než člově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oužívání materiálů v úplných uzavřených cyklech s vyloučením odpadu a toxic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říroda dokáže leckdy produkovat kvalitnější materiály než člověk při tělěsné teplotě, pod nízkým tlakem a za použití sluneční energi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Cesta vede přes poznání přírodních procesů a jejich napodoben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B71-17E1-4DBC-9CB6-EB2AE9C28B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Biologické mimikry – příklad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Pavouci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produkují ze stráveného hmyzu hedvábí jež je pevnější než kterékoliv průmyslově vyráběné umělé vlákno bez toho, aniž by museli vařit kyselinu sírovou a používat vysokotlaké lis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Některé druhy škeblí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vytváří vnitřní skořápku dvakrát pevnější než naše nejlepší keramika – za použití mořské vod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72D-DFDC-4A17-85E7-9F333530C0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Služby a tok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amísto ekonomiky prodeje zboží nastoupí ekonomika poskytování služe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Výrobci nebudou prodejci produktů, ale poskytovateli služe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Cílem výrobců bude místo přístrojů prodávat výsledk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43F7-0CEA-4AFE-9B36-BDBFB41C49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Služby a toky - příklad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potřebitel nekupuje pračku ale službu „vyprání prádla“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ačka má jakési počítadlo, výrobce je zodpovědný za její bezproblémový chod, servisuje ji, v případě poruchy opraví nebo vymění bez dodatečných nákladů pro spotřebitel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ce je odpovědný i za likvidaci, recyklaci – nese náklady s tím spojené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Tento koncept je použitelný téměř pro všechno zboží dlouhodobé spotřeby – lednice, auta, kamery, počítače,.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EFAA-C237-4102-8B78-C2A9C6FBB2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Služby a tok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ek je prostředkem, nikoliv cílem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ek zůstává pro výrobce aktive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ce je motivován vyrábět co nejtrvanlivější produkty, snadno opravitelné, lehce recyklovatelné (uložení nebezpečného či nerecyklovatelného odpadu je velkým nákladem)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Motivace udržovat výrobky co nejdéle v produktivním stavu místo aby je předčasně vyřazovali (jak se to děje dnes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47D5-D8F2-4F84-999B-9B780D8CF3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Investování do přírodního kapitálu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Jde o takové investice, které zvyšují zásobu přírodního kapitálu k tomu, aby biosféra mohla produkovat více „ekosystémových služeb“ a přírodních zdrojů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Obnova lesů, ochrana ekosystémů, rekultivace, čiřtění řek a moří,…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D558-8AC0-4755-AB4D-A6FCF3556A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Závěr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řírodní kapitalismus lze považovat spíše za prostředek, nežli cíl řešení široké variety problémů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Ideově není ani konzervativní ani liberální, avšak obě tyto polohy oslovuj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to společnost může usilovat o produktivitu zdrojů již nyní, aniž musí čekat na to, jak se vyřeší spor mezi jednotlivými politikam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0EA-C8A2-4A1F-A0CB-6C0A7A08D5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cecff"/>
                </a:solidFill>
                <a:latin typeface="Times New Roman"/>
              </a:rPr>
              <a:t>Děkuji za pozornost</a:t>
            </a:r>
            <a:endParaRPr b="0" lang="en-US" sz="4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5F7C-88BB-495C-9688-CA91179491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Alvin Toffler – Třetí vlna</a:t>
            </a:r>
            <a:br>
              <a:rPr sz="3200"/>
            </a:b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98840" y="1752480"/>
            <a:ext cx="4516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voj společnosti ve vlnác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třídání vln je doprovázeno bouřlivými událostmi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 současnosti se ocitáme na prahu 3. vývojové vln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45132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9ED2-05BC-4267-A000-EC318C7739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Jaká bude společnost „třetí vlny“?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oučasné hospodářství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Ohromná neefektivita ve výrobních procesec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adměrné čerpání neobnovitelných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odukce velkého množství odpad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řírodní kapitalismu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fektivní využívání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konomická motivace k úsporám a ochraně životního prostřed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B4E-94B7-48DB-8487-9961797B1D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řírodní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Od dnešního systému se liší ve své filosofii, cílech i základních procesech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oučasný stav je dlouhodobě neudržitelný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měna, která nastane v souvislosti s úsporami neobnovitelných zdrojů nemusí vést k útlumu hospodářství, NAOPAK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9606-EA25-4C07-B3D6-654DD82E2D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Změna vzácnosti přírodních statků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Donedávna bylo zacházeno s přírodním kapitálem, jako by ho bylo neomezené množstv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 dnešní době se právě příroda stává „nedostatkovým zbožím“ a začíná nabývat na hodnotě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Důležité nejsou jen suroviny získané z přírody (dřevo, ryby, potrava,..), ale především </a:t>
            </a: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služby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, které nám poskytuje (tvorba a čištění vzduchu, pitné vody, regenerace, zpracování odpadu,..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3209-37F8-4F79-BD55-11B3C208BF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roblém současného kapitalismu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Kapitalismus v dnešní podobě je finančně ziskový, avšak do budoucna dlouhodobě neudržitelný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ůmyslový kapitalismus“ v účetnictví nezohledňuje cenu přírodního kapitálu, která je však obrovská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ení lehké přiřadit hodnotu přírodnímu kapitálu, leč chovat se tak, že nemá hodnotu žádnou nás může přivést ke katastrofě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FAC1-280D-440B-A635-25567FC280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řírodní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Existují </a:t>
            </a: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4 centrální strategie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přírodního kapitalismu, umožňující všem subjektům jednat tak, jako by byly oceňovány všechny formy kapitál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Radikální produktivita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Biologické mimikr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konomika služeb a tok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Investování do přírodního kapitálu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D29-03EA-4002-8425-A53A52F0B9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Radikální produktivita zdrojů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Radikální produktivita zdrojů znamená dosahovat stejné množství užitku (produktu) při snížené spotřebě vstup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mpirie dokazuje, ze taková opatření jsou praktická a snižují náklad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edochází pouze k úspoře nákladů, může zlepšovat i kvalitu života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řípady neúčinnosti způsobující degradaci prostředí jsou takřka vždy nákladnější než opatření, která by tuto degradaci zastavil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5648-8C9F-4A82-B03A-9EC21E614E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Radikální produktivita zdrojů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Radikální zvýšení produktivity je podstatnou podmínkou přírodního kapitalismu, protože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Zpomaluje plenění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nižuje znečištěn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Dává základnu ke zvyšování světové zaměstnanosti především v oblasti „smysluplných povolání“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BBBB-3B44-4BEB-A1BC-1ED44C3537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8:22:02Z</dcterms:created>
  <dc:creator>Petr Novotny</dc:creator>
  <dc:description/>
  <dc:language>en-US</dc:language>
  <cp:lastModifiedBy>Michal Kozub</cp:lastModifiedBy>
  <dcterms:modified xsi:type="dcterms:W3CDTF">2006-10-16T13:05:52Z</dcterms:modified>
  <cp:revision>17</cp:revision>
  <dc:subject/>
  <dc:title>Přírodní kapitalismus</dc:title>
</cp:coreProperties>
</file>