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6F9-6CAA-43AA-AF0F-BFA631BB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44A-57AF-4562-B942-01E65D2D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58D-2DAD-4CB7-9E83-7358ADF5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F5F-AC60-42E8-B8A7-FD0D2315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B613-21F8-4265-93D3-BE7EAD6A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1E6F-1370-42F6-92E2-5FF103CF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F802-C343-4C7E-A510-33258B7D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29F5-F95D-4086-9538-DE295935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CCD4-BE3C-4C20-820E-4BAF5AC0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01C4-FE56-4A17-B25F-2BE8D55F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6B39-6125-46D0-A2BF-EE9C6E7F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C0C4-1420-445D-B6EA-B7BE4513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0114-47AC-4B5D-9C4D-CE63D3B1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9F6C-5A6C-44BD-9F5B-63213853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E4D0-38E0-4E76-8ED1-5CF4108E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6E79-8368-47FA-A130-BA4580C5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51C3-97FA-4FD9-B675-587B6577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D48-2C8B-4472-9F0E-FB2262D7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6E7-B4F1-489C-B4E6-BCCD2522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729-9AC8-43F7-BFF7-8E28598A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F183-2DA6-417A-BBF0-4E5B7D8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7E4-4204-44E4-8928-2AD12C12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498-21C7-46DD-849D-BF96AB7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4B7-F12B-430C-A713-CB49531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9C0D-FB91-4226-995C-BAC7488608D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109B-2195-4D09-A0EE-E9BE88697368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Současné a budoucí tendence společnosti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723888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racoval: Jan Fronček, David Malík, Nikola Zacha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 není naším nepříte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tváření budoucnosti bez použití starých strategických nástro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ě špatné chápání globální konkurenc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kurenci nelze chápat jako souboj mezi stá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16560" y="1981080"/>
            <a:ext cx="22716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kontinentální krátkozra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nagement a budoucnost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ávod může vyhrát jen ten, kdo chce dát dohromady účelnou strateg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ořit v podniku hierarchii představiv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át větší slovo lidem, kteří byli doposud z procesu tvorby strategie vyloučeni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mladí lid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Michael Hammer – koncepce týmu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nagement utvořený podle předrevolučního 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říve pojem nemyslícího dělníka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nes není potře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výkonných procesů, které vedou k výsledku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cepce tý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29280" y="1981080"/>
            <a:ext cx="2847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Společná myšlenka autorů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Orientace na asijský trh, dotváření fungujícího kapitalismu a spolupráce na všech podnikových úrovní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, R.: Nový obraz budoucnosti. Management Press, Praha, 2002, 2. vyd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kripta Management II, Brno, 200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ttp://en.wikipedi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dobí druhé poloviny sedmnáctého a první poloviny osmnáctého století můžeme datovat jako nástup Druhé vlny - počátek industriální společnosti v nejvyspělejších zemích světa daného obdob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íčiny vzniku druhé vl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 Nového světa, růst počtu obyvatelstva, který povzbuzoval přesuny do mě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čerpání lesů, vedoucí k využívání uhlí → parní stroj → nebývalé možnosti rozšíření výrob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šiřování vědeckých poznatků využitelných v technické praxi, rozvoj "industriálního" myšle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nalezení knihtisku, růst gramotnos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ncipy industriální společnosti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ělby práce na základě speci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dardizac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centr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ntr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0. léta 20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agonista myšlenky postindustriální společnosti - Daniel B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informační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polečnost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lizace, universalismus, decentralizace, územním rozptýlení a rozvolnění časových strukt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.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ustá komunikační sítˇ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ční technologie (intern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lobaliz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konzumní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sychická stránka a prožívá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x Postindustriální společ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  výroby x Rozvoj služeb a informační techni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oví reprezentanti: Dělníci x Bílé límeč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života: Hrubý domácí produkt x Míra kultivace a uplatnění jejího lidského potenc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ority: materiální x postmateri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nomie hlavního proudu x 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Obraz budoucnost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ec postindustriální éry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í informační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růst informací a informačních systém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hmotnění informací, ochota za ně zaplat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udoucí vývoj společnost z pohledu tří významných světových autorů, viz. dá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- budouc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udoucnost není pokračováním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ezbytné mít náskok před problémy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lze je pak vyřešit bez ztr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podílet se na utváření budouc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začíná být nezvladatelná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á již vlastní rozu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5280" y="1981080"/>
            <a:ext cx="2955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– hospodářský pokro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spodářský pokrok = planý přís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yšující se sociální rozdí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nba za hospodářským růstem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še na úkor životního prostředí a pracujících li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smus jako systém závislý na lidech a jako mechanismus, který nemá cíle a představuje sociální b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6-10-16T19:31:09Z</dcterms:modified>
  <cp:revision>24</cp:revision>
  <dc:subject/>
  <dc:title>PowerPoint Presentation</dc:title>
</cp:coreProperties>
</file>