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CDF67-49FC-44DE-8D42-17AB9B70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824A-4EF9-4A8F-A8BD-07EF77A5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1F0E-FA04-4CE1-9985-556D6812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768D-E130-4979-B9E7-508B074C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A067-6646-4D04-9F80-E2F8EF6A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6402-84BD-4B0D-A1B2-3DC9A93F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2BC3-9B07-49BD-9EA9-2714FBF6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9262-9569-454D-BA11-7774A7DE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6889-5B29-4A26-BE16-42C123F9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235E-822F-4277-9DF4-4598D22A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85A7-4790-4D0C-8C91-EE502038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8B66A-9C0B-4F92-A365-34A12FBB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173C-FA62-47CB-B24C-EFDEE82F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505A-8775-4C9A-86DC-463BD9C0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80EB-0A26-4699-A53B-3217A4FD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2DD1-06C3-4097-A02E-177CE9C1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BFA0-55D4-4A03-A291-E338298F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EE01D-BE68-4C80-A058-C064D49B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624A4-F228-435A-A165-B60730F8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4503E-984B-468A-A63C-BA1141E5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DD559-1EDE-4759-BE00-94C8C973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23CE6-A7F3-43A2-A9B6-ED1D8D08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1A337-2A15-45A9-AC3D-2BF84740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5F34D-0A40-4537-88EF-AA903D7A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E4D38-ECB2-4BB8-AB01-1E4D9AC7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FCD4E-E500-4B9E-BCE1-14D5AE33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D7159-0ADF-4751-B3BF-D4DAECC3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3F026-ADD6-4995-AD99-39EE5AA3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E6CAF-C9A1-4BF9-8A67-D1B4B018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84AB2D-8D67-4DEB-A6EE-2218F53B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EE006-16D9-408D-9565-FD61F048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32E6A-0BA0-49EB-A3DD-2F18C6EF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22133-595D-4C49-96DE-97E975F4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CCEA4-FE59-4A09-8DC4-20839BBE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80B1C-8C6E-4BFB-9DCA-4CF0EFEB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49B94-9C20-4A70-8103-BA9DC42D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AFB03-36E9-46D1-BE78-CDAC4E34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5E9E5-311A-4A2D-B3CB-430EF5CC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0F4BD-4C51-4B8C-9103-2D65C8A0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360B1-B06A-4546-B483-689838C2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B099E-7C58-4FBE-82CD-57076296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CDCD9-7496-4B7E-97D4-267C570D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18E15-1566-48D1-92DF-FBC9A34E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8D82F-85B8-4F72-9087-D6232879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4B72B-76FB-4CD5-A475-D367280E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1324A-9521-4A28-BE4C-DEBB9D54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34C31-FEC9-44FC-8010-1D1504D4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981BD-58CC-42F6-B67C-A2E8A1AF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D421F-1A55-4178-8634-B3454F23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D62A2-C16D-440C-A473-6CD21D3F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A2E47-B1CC-4A5C-B144-33F4CFA4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46210-203B-42D3-9E89-5F768940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1AF01-25D7-448C-9414-3F55F802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7D0D8-B8DB-449C-BB84-EA56F59B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AA9B2-8B02-46A1-A8E7-F578529E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A3BAD-C7C0-4494-AB9D-495096A3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AD94D-1C65-44CF-A65E-115DD913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2181-3C75-4941-97AE-EA05E06C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BEE89-AFA8-41A3-AA2F-578FAEFF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86770-68AF-4954-BFFC-B5A87D2E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5E91-D581-49FC-B83B-E883384347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D6CC-FAFF-4285-BCF4-E3F72A9394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B5AD-A784-4938-8478-53E8E60A98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6F4E-529B-44F0-B09E-840128F5F49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C1E7-8B28-4217-8A3D-EA0DBB856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>
                <a:solidFill>
                  <a:srgbClr val="ffffcc"/>
                </a:solidFill>
                <a:latin typeface="Garamond"/>
              </a:rPr>
              <a:t>Toffler </a:t>
            </a:r>
            <a:r>
              <a:rPr b="1" i="1" lang="cs-CZ" sz="2500" spc="-1" strike="noStrike">
                <a:solidFill>
                  <a:srgbClr val="ffffcc"/>
                </a:solidFill>
                <a:latin typeface="Garamond"/>
              </a:rPr>
              <a:t>vs.</a:t>
            </a:r>
            <a:r>
              <a:rPr b="1" i="1" lang="cs-CZ" sz="4200" spc="-1" strike="noStrike">
                <a:solidFill>
                  <a:srgbClr val="ffffcc"/>
                </a:solidFill>
                <a:latin typeface="Garamond"/>
              </a:rPr>
              <a:t> McDonaldiza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43280" y="3938400"/>
            <a:ext cx="404352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Zpracoval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Jiří Gaw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Lenka Říh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Jana Škvařil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87320" y="1600200"/>
            <a:ext cx="2900520" cy="4356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352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Úv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Tofflerovy vlny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1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2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3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851280" y="2276640"/>
            <a:ext cx="475128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3. vl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robní fakt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nehmotné hodno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demasifik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prá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ov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měřítk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organiz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systémová integr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frastruktu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zrychlen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992840" y="1628640"/>
            <a:ext cx="33480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4400" spc="-1" strike="noStrike">
                <a:solidFill>
                  <a:srgbClr val="000000"/>
                </a:solidFill>
                <a:latin typeface="Garamond"/>
              </a:rPr>
              <a:t>McDonald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55087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charakteristika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hlavní zna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efektiv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vypočita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předpovědi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iracionalita rac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438640" cy="1905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726160" y="2422440"/>
            <a:ext cx="26636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Zamyšlen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egmentace x unifikace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ypočitatelnost?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iracionalita racionality, prostor pro inovace?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budoucnost franšíz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140360" y="2135160"/>
            <a:ext cx="2912760" cy="2913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 rot="444000">
            <a:off x="6948000" y="836640"/>
            <a:ext cx="1627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6000" spc="-1" strike="noStrike">
                <a:solidFill>
                  <a:srgbClr val="e5e5ff"/>
                </a:solidFill>
                <a:latin typeface="Garamond"/>
              </a:rPr>
              <a:t>Děkujeme za pozornost…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, Tofflerová, H.: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Nová civilizace (Třetí vlna a její důsledky)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Praha 2001, Nakladatelství Dokořán, 125 s., ISBN 80-86569-00-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itzer, G.: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cDonaldizace společ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Praha 1996, Academia, 176 s., ISBN 80-20005-71-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0:43:13Z</dcterms:created>
  <dc:creator>Jana Skvarilova</dc:creator>
  <dc:description/>
  <dc:language>en-US</dc:language>
  <cp:lastModifiedBy>Jana Skvarilova</cp:lastModifiedBy>
  <dcterms:modified xsi:type="dcterms:W3CDTF">2006-10-16T11:56:07Z</dcterms:modified>
  <cp:revision>33</cp:revision>
  <dc:subject/>
  <dc:title>Snímek 1</dc:title>
</cp:coreProperties>
</file>