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B988-9947-40C8-B742-1CD8600C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1E34-6A0B-40F9-A4DF-A0F98BBE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6724-A9BA-4D7F-BF9B-1E684C1E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0386-6820-4F4C-BF85-0268999F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660B-C99A-41BE-AD77-1ECBC75E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D5BF-02BF-4A14-80CE-A2A935AE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FA81-26ED-446C-B984-CB047AC7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493B-18E0-4198-B517-8418175E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D643-9FCF-44F0-B049-4879C569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F6B3-381C-4894-90F1-60B3F97F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3557-1D9C-4F53-978D-984DCBE0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9061-0642-4C54-906C-0A09B7D2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7BCA-5C8B-49F5-974B-D14E1F48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7AA8-8929-4A3C-BD66-1617DEF7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EDAF-6803-4B73-96AC-DBD0DD92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B44A-0084-46CB-9C3F-D48EB714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5977-0F7A-44E5-B355-C7F46847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7EC3-06FC-4528-AB12-35A85786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1EDD-2D40-4966-93A9-60134959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7E26-7727-4E85-95D2-4894C356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7CA9-0C89-4691-AFC5-715CB954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B714-906C-4711-898E-27E91AA8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2189-98AB-4107-9737-382C8AC0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218A-9BA7-4C86-AA54-D04B862C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15DD-17AB-4F69-B01C-ADDD834070A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C8FD-84F6-4970-AA0A-690CEF59DA8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Informační společnos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leonóra Baculák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Lenka Kotoulk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rie Kutílk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30481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19320" y="30481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809720"/>
            <a:ext cx="77724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KONEC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RITZER, G.  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Mcdonaldizace společnosti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Bell, D. 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Kulturní rozpory kapitalismu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 ce"/>
              </a:rPr>
              <a:t>Článek - Informačná spoločnosť – globálna výzva v novom miléniu, </a:t>
            </a:r>
            <a:r>
              <a:rPr b="0" i="1" lang="cs-CZ" sz="3200" spc="-1" strike="noStrike">
                <a:solidFill>
                  <a:srgbClr val="ffffff"/>
                </a:solidFill>
                <a:latin typeface="arial ce"/>
              </a:rPr>
              <a:t>Jana Stadtrucker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 ce"/>
              </a:rPr>
              <a:t>Článek Nová ekonomika a globální společnost, Radek Froulí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Vývoj</a:t>
            </a:r>
            <a:br>
              <a:rPr sz="5100"/>
            </a:b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eindustriální společnost ( začátek před 250 až 350 léty) se vyvinula do společnosti industriál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 60. létech 20. století se objevují názory, že i industriální společnost je překonaným pojmem a začíná se pracovat s fenoménem jménem informační společn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Hlavní rysy informační společnosti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vaha práce s informacem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nteraktivi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ntegrace a globalizační tend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Informační společnost znamená soustavné využívání prvků všech dostupných moderních informačních technologi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e zpracování informací se stává velmi důležitá ekonomická aktivita, vytvářející zcela nové příležitosti a činnosti, které ovlivňují charakter společ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4c3aa"/>
                </a:solidFill>
                <a:latin typeface="Arial"/>
              </a:rPr>
              <a:t>Reprezentanty informační společnosti se stávají administrativní pracovníci, kteří se:</a:t>
            </a:r>
            <a:endParaRPr b="0" lang="en-US" sz="2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cializují na produkci a zpracování inform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yto informace jsou digitálně zpracovány, uchovávány a přenášeny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možňují rychlou reakci na změny v pracovním prostředí, což je jednou z podmínek úspěšné adaptace na stále se měnící podmín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4c3aa"/>
                </a:solidFill>
                <a:latin typeface="Arial"/>
              </a:rPr>
              <a:t>Nejen jednotlivci a firmy, ale i národní ekonomiky jsou nuceny využívat informace ve stále větší míře, neboť investice a pracovní příležitosti se přesouvají do zemí, které vykazují nejvyšší míru adaptace s touto situací</a:t>
            </a:r>
            <a:br>
              <a:rPr sz="4300"/>
            </a:br>
            <a:endParaRPr b="0" lang="en-US" sz="43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Informační společnost a globalizace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nzivní využívání a možnost rychlé výměny všech druhů informací jsou jednou z podmínek, které daly vzniknout globalizaci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lobalizace – všechny změny ve společnosti a ve světové ekonomice, které jsou důsledkem dramatického vzrůstu mezinárodního obchodu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sbližování kult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Komunikace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75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s využitím všech nejnovějších prvků informační společnosti se komunikace stává stále obtížnějš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Žijeme v otevřených systémech, musíme zvažovat naše (i globální) okolí, vše s ohledem na budoucn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toto je jedním z důvodů, proč se vyvinu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polečnost vědění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ává se logickým následníkem informační společ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ědění samo o sobě se stává klíčovým faktorem produk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zrychlily a zlevnily přístup k vědění a informací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5:55:54Z</dcterms:created>
  <dc:creator>Marie Kutílková</dc:creator>
  <dc:description/>
  <dc:language>en-US</dc:language>
  <cp:lastModifiedBy>CIKT</cp:lastModifiedBy>
  <dcterms:modified xsi:type="dcterms:W3CDTF">2006-10-16T09:09:08Z</dcterms:modified>
  <cp:revision>5</cp:revision>
  <dc:subject/>
  <dc:title>Informační společnost</dc:title>
</cp:coreProperties>
</file>