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6CAAF-EF8C-48FA-8771-5398FA88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B0EF9-FE07-4330-A5CF-9FB1455D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13B39-6BB0-4432-B529-D40E0294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A18D-B7AE-4932-B3ED-406A1D5A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1849-5EE3-4152-9FB8-11D4826E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CED5-8E37-4197-A218-8F8D2EAE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22D7-A2A7-4A89-9661-5521A1A0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9F21-50D8-4EEA-808F-6891A0C6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769A-27CC-4D14-89A7-76FAC04A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4CF2-61F8-443E-8737-A5CF86D4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5AB1-2256-46CF-8749-F39CE24A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634B-2D8B-47A3-A36A-55808119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6AE3-CD5D-44F2-912E-33BC29C3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3918-F8EA-4E5E-A260-5CC17238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5F32-4385-4592-9CA5-13EAA76C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4847-78A9-4502-9D8F-581DDB23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A398-D026-4FFC-9FC5-DCDD30B1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68E1F-950B-492F-A397-266FC08E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D37BE-1ACC-4455-88EE-A8613CF1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D3E87-C70A-41B9-AEA2-925A1EC2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43A16-B91C-4C08-BC19-3C1FA835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3096-AF6A-4E47-9853-F7B994A4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05A82-DBC5-4A32-82B4-A3681FAA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9A1E0-93D2-4A59-AA3D-103B624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4B3A-F3FE-4585-8218-2D602D3103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1AF8-6F76-40B3-BD90-8AEB6F07A5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7570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Tretia vlna</a:t>
            </a:r>
            <a:br>
              <a:rPr sz="6000"/>
            </a:br>
            <a:r>
              <a:rPr b="1" lang="en-GB" sz="2800" spc="-1" strike="noStrike">
                <a:solidFill>
                  <a:srgbClr val="e5e5ff"/>
                </a:solidFill>
                <a:latin typeface="Garamond"/>
              </a:rPr>
              <a:t>(Post-industrialna spolocnost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84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mas Don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veta Pecharo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Kristián Sem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3378240" cy="25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..druhy pohlad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iesman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opulacny pokles v postindustiralnej spoloc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erciarna sfera v zamestnanost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Zkracovanie pracovnej doby -&gt; zvysovanie volneho ca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onkajsie riadenie’ – jednotlivec ovplyvnovany viac vrstovnikmi, ludmi na spolocnej ‘vlne’ x rodinne tradic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Uloha med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asivny rozvoj -&gt;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 kontakt so širším okruhom vrstovník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Anonymita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kritika vrstovniko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3645000"/>
            <a:ext cx="182556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24360" y="465300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31292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Ďakujeme za pozornosť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Stupne industrializacie spolocnost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edindustrialna (agrar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ustrialna – priemyslovny sek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ostindustrialna – pohltenie sluzba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1673280" cy="1704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8666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ostindustrialna spolocn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0.ro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Nove zave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ladnuca eli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acovna sila do sektoru sluzie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yznam technologi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edenie – teoretic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ra medzi ludmi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ntenzivny rozvoj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ologi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telektual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ojov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edla sektoru dopravy, sluzieb, trhu, financnej zmeny, vzdelanie vyskum,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draz v kulture profesii -&gt;dominancia univerz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19640" y="4437000"/>
            <a:ext cx="2065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Klucove pojm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imat teoretickeho ved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icka trie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lanovanie technolo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loha ze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ociety of knowledge – spolocnost ved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Knowledge class – trieda vladnuci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trukturalne zme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1. Vznik globalnej ekonomi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 Rozvoj komunikac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. Technolog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zdiely socialnych struktu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29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cialna sfer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yp spolocnos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t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dro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rastne surovin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erg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formac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zi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byvan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rob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pracovan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chnolog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pracovnej sil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kapital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know-ho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c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proti priro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proti vytvorenej vyrob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medzi lud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harakteristi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Vyroba 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tovaru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x sluz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Technicke, humanitne, odborne -&gt; zmena v profesnej strukture spolocnos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raz na vzdelanie – podmienka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 čoho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Kvalifikac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istupu k moc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…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harakteristika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polocnost meritokraticka (zasluhova; cenenie zasluh) x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neptismus – preferovanie pribuznych, priatelov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otekcionizm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lezite kvoli DELBE PR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Kvalifikovani x nekvalifikova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9:20:12Z</dcterms:created>
  <dc:creator>Tomas Donat</dc:creator>
  <dc:description/>
  <dc:language>en-US</dc:language>
  <cp:lastModifiedBy>Tomas Donat</cp:lastModifiedBy>
  <dcterms:modified xsi:type="dcterms:W3CDTF">2006-10-17T12:36:31Z</dcterms:modified>
  <cp:revision>2</cp:revision>
  <dc:subject/>
  <dc:title>Tretia vlna (Post-industrialna spolocnost)</dc:title>
</cp:coreProperties>
</file>