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A34-384D-4A79-9597-D0BBC650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83F-9821-45E5-9E7F-6908BA37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D59-CF94-49DD-9E42-29D1DBB4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B46-4959-40A9-8671-371E38CC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C89D-E840-44D0-9D43-E94302FF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81A8-E969-418B-8977-37B5DEB3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3B12-BCDD-4FFC-9A97-ED45B28B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62F8-3968-403F-ACDA-EB326DC7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C8F9-42E3-41BF-81CF-021AC9E1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9490-2078-4C9A-9753-6F8A3F07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5E1A-E836-4F4B-AB91-38A642B1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F50-5963-42C8-BFEC-B1D0F299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6A7F-47AC-4D3F-A314-74268674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941B-78E9-4C27-86F1-10CB69D9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6412-9964-4E52-90FF-4A18F0F4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79C7-5176-4AA0-AEC8-D98D26E2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833E-7841-46E9-9C14-E4698402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DB9-74D2-4C91-8C6E-857A5FD4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3F9-E938-4B6A-A8D6-627C81BF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D3C-8FF8-462C-A903-DF94740A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387-C037-4B2F-ACE2-779F950E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B90-BA02-43BC-ADC1-982B6FAF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4B0-6CDF-4751-BE9E-A46C7B40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410-2309-4B93-AEBA-3CD2D5AC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817D-9F26-475F-846D-F6BCEA5EAB6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E09F-7AD2-421F-852D-EDC9ABDFB02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ývoj podniků v industriální společnosti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čátky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čátek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kce pro vlastní výrob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ovýroba -  produkce jen pro lokální tr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derní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padající úloha zemědělství (rostla produktivita moderního zemědělstv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e podíl pracovních sil zaměstnaných v terciální sféř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ívání stroj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vé neživé zdroje ener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lší aspekty výv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. století – průmyslová revol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ste produktivita, zvyšuje efektivita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voj institucí (právo – Obchodní zákoní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užívání vědy v průmysl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silování stabil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centrace (růst objemu kapitál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ce práce kapitálem (růst kapitálového vybavení prá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ižování počtu firem (likvid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Vznik oligopol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vestiční nároky vedly ke vzniku větších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mogenní struktur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heterogenní (oligopo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nažerská revol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znik velkých korporací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 vznik akciových společností → potřeba oddělení vlastnictví od ří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Zisk už není hlavním cílem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naha o zhodnocení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ldingové společnosti – řídí další korpor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užitá literatura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ameron, R. : Stručné ekonomické dějiny světa. Praha: Victoria publishing,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ich, R.B.: Dílo národů. Praha: Prostor, 1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lažek, L. : Management II, Průvodce studi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9:09:33Z</dcterms:created>
  <dc:creator>Franta Konopásek</dc:creator>
  <dc:description/>
  <dc:language>en-US</dc:language>
  <cp:lastModifiedBy>Franta Konopásek</cp:lastModifiedBy>
  <dcterms:modified xsi:type="dcterms:W3CDTF">2006-10-16T10:04:49Z</dcterms:modified>
  <cp:revision>3</cp:revision>
  <dc:subject/>
  <dc:title>Vývoj podniků v industriální společnosti</dc:title>
</cp:coreProperties>
</file>