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A48-5975-4FC8-B92F-DDDECA91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99B-19F7-41CC-A558-901679DE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298-0A43-4379-816F-4953BCB8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E9B-1229-4573-91EE-F07139DA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9D04-4FC1-4EE7-A009-611A0E7E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EF6B-AF87-42EB-B155-32573A82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6BDD-3984-4984-84A5-95431BCF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EDB5-0ED0-4FF7-B821-1256410F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380D-4BE5-4B33-A444-B23A93BA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20A2-2FFD-4BF1-A9D9-692AE6EC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9310-18A2-4C9B-BA36-A262FF1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C63-5A20-483B-9C2D-83CAE007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9B85-83AA-4DF7-8A3E-8747B9C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00CD-ECAD-4B50-94CB-264136D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42CA-CC8F-4859-8615-4BA845F3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502D-8D9E-4678-9B73-3C4236E7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3674-B076-4FD9-9F8B-AE6C5F5D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ADD-2FC9-4297-9338-BD28AB5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B0A-7F60-4690-8B9C-4C5BD082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224-6463-4EA8-A33C-B1C048EA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7CB-5F20-44AB-A6C3-8D3296A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C43-DCE2-484D-97C6-BE78633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631-3177-49A3-B3DD-72B9CBA1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555-D3D8-4E4D-9960-B6888E16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AF79-CB73-415A-AAD3-50807F866BE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4E8D-1024-44FA-967A-8AAC10478B7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 a 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vana Klein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onika Kříž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 Čerbá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xistence termínu v ek. literatuře od 1999, řada empirických studií z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vě se prosazující systém organizace (finanční, průmyslové a obchodní aktivit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nové prostory pro růst + velké konkurenční výhody v globálním měřítk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↓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flace + ↓ UNE + ↑produktivi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 základní rys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yšší ekonomický růst (IT, efektivnější mechanism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vlivnění cyklických procesů (↓UNE, ↓ inflace pomocí 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ýnosy ze síťových efektů a external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+ systém tvorby bohatství založený na znaloste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Nová ekonomika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stor pro podnikání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univerzálního paradigmatu vs. široký výběr operativních přístup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řechod od industriální společnosti k postindustriál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 = f(K,L,e) již neplatí absolut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vislosti s rozvojem vysoce zhodnocujících podnik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Zásadní charakteristik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nové ekonomiky pro podnikatel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se stávají základem růstu bohatstv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valý a důrazný růst konkur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od hierarchií k sítí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ický pokrok vytváří nové tržní podmín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rbulentní prostředí prohlubuje sociální nerovnos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ástup znalostní společnosti úzce souvisí s rozvojem „vysoce zhodnocujících podniků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vystupují jako nejvýznamnější faktor růs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á ekonomika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paradigmatu, nebo jen výsledek přechodu k postindustriální společnosti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EČEK J. Znalostní podnik ve znalostní společnosti. Praha : Kamil Minařík – PROFESSIONAL PUBLISHING,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ŽEK L. Průvodce studiem. Brno : Masarykova univerzita – Katedra podnikového hospodářství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Historicky: po II. světové válce -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važné komplexní jevy ve vyspělých tržních ekonomiká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Jeden z nejdůležitějších jevů v celospolečenské rovině: 1) společnost industriální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znalost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sadní princip:1) dělba prá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řízení procesů, IT/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ráce v týmech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á kultura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é okolí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ění se od spojitého 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k nespojitému-turbulentnímu ( globální, neustále se měnící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knihy „Nový obraz budoucnosti“ R. Gibs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Žádná doposud osvědčená cesta vedoucí kupředu neexistuj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lineární cesty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soci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industriálního paradigma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poválečného kapit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udoucnost: chaos a nejisto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konomika založená na intelektuálním kapitál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třeba nových organizací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ovace původních organizačních struktu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(bude obtížné je ovládat a říd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   „</a:t>
            </a: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Kdo se nechce změnit, je odsouzen k zániku…“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J.Welche GE, o změně uvnitř a v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atím poslední ve vývojové řadě změ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oretický přístup opírající se o poslední ekonomické úspěchy USA ( vývojový trend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dnikové řízení směřující k managementu znalos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 krajní přístupy k pojmu „ Nová ekonomika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adox Nové ekonomi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) Václav Klaus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I) Jiří Zlatuška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ti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pojmu, neschopnost jinak pojmenovat nové jev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ré principy ekonomie stále pla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prokázána přímá souvislost mezi IT a hospodářským rů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4:51:22Z</dcterms:created>
  <dc:creator>OEM</dc:creator>
  <dc:description/>
  <dc:language>en-US</dc:language>
  <cp:lastModifiedBy>Michal</cp:lastModifiedBy>
  <dcterms:modified xsi:type="dcterms:W3CDTF">2006-10-23T21:31:16Z</dcterms:modified>
  <cp:revision>58</cp:revision>
  <dc:subject/>
  <dc:title>Strategická analýza společnosti Metropolis</dc:title>
</cp:coreProperties>
</file>