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D58-9880-4DEB-983F-89E7FDD9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0C8-C97D-4541-8056-00D3F57B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E54-430E-4AA2-A342-530B0D20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A12-AAEB-4391-9F88-59AF54B2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30F6-D0A4-47F7-B4D2-EC8F80B1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EADC-C05D-440A-8CF8-C3A74475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3F90-9D01-4A4C-8965-87FF5C88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8478-53C4-46D9-9330-AA936C86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7857-0F41-40BF-923F-6D34BB5E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7EA5-8647-4B75-9E31-09532DB6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01CC-E975-4562-BE96-861B09AA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914-7968-4BDE-8785-CBB9E492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D36A-E80D-4B35-AE3E-9276E3AF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6F31-FCC9-4A54-A8C7-2CF0E424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17DB-CE2D-45F5-B366-2B931217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BC9B-F489-46D2-B922-68894D12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F35E-333B-4B6F-847E-90ED9943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838-170C-4044-BF6F-A84C70BA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A08-D4AE-44BB-9A72-894CF3E2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2A5-C19E-4C17-ABC4-C2430BE0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AB2-3B39-468F-AFC0-BE603AA0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BE1-5147-4850-BE2A-F4ACB59C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292-2079-4061-96A8-95205AEE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803-F799-44B0-B016-9864AA7A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D65-66B6-4913-93C4-DD6FEFF84A9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60C0-A8AD-4B0A-98C2-EB41CA8F1337}" type="slidenum"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6000" y="3860280"/>
            <a:ext cx="6697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7c5b5"/>
                </a:solidFill>
                <a:latin typeface="Verdana"/>
              </a:rPr>
              <a:t>Proměny práce a jejich vliv na soudobou společnost</a:t>
            </a: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       </a:t>
            </a:r>
            <a:r>
              <a:rPr b="0" lang="cs-CZ" sz="1600" spc="-1" strike="noStrike">
                <a:solidFill>
                  <a:srgbClr val="d7c5b5"/>
                </a:solidFill>
                <a:latin typeface="Verdana"/>
              </a:rPr>
              <a:t>Mandovec Zdeněk, Sedláček Milan, Schön Lukáš</a:t>
            </a:r>
            <a:endParaRPr b="0" lang="en-US" sz="1600" spc="-1" strike="noStrike">
              <a:solidFill>
                <a:srgbClr val="d7c5b5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Proměny práce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5720" y="1916280"/>
            <a:ext cx="72360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Rukodělná výro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Human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Computer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Soudobá společnost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5720" y="1989000"/>
            <a:ext cx="72360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ráce opět komplexní, poměr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náročnou na kreativi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yšší příjm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Konkurence  -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ovace  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tenzivnější prá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R.B.Reich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7588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vznést z chudob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Vzděl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dnik vs. Zaměstnane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racovní místa přívětivá vůči rodině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říspěvky - zdravotní péče, důcho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Investice do lidského kapitálu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artnerství se svými zaměstnanci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115920"/>
            <a:ext cx="10098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80200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ť je nová ekonomika jakkol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nosná, neztrácíme kvůli ní určité stránky svého života – rodinný život, přátelství, pocit společenství …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Za pozornost děkují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23560"/>
            <a:ext cx="72360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ndovec Zdeně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edláček Mi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chön Luká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4400640"/>
            <a:ext cx="76341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užitá literatu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BLAŽEK, L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Management II - průvodce studiem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Masarykova univerzita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ICH, A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Etika hospodářství. 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Sv.II. Praha: OIKOYMENH,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4:42:57Z</dcterms:created>
  <dc:creator>Lukáš Schön</dc:creator>
  <dc:description/>
  <cp:keywords/>
  <dc:language>en-US</dc:language>
  <cp:lastModifiedBy>Lukáš Schön</cp:lastModifiedBy>
  <dcterms:modified xsi:type="dcterms:W3CDTF">2006-10-23T18:16:43Z</dcterms:modified>
  <cp:revision>10</cp:revision>
  <dc:subject/>
  <dc:title>Proměny práce a jejich vliv na soudobou společnos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29</vt:lpwstr>
  </property>
</Properties>
</file>