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48D48-404B-471D-8339-BDB3CD7E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87DD-A365-4013-A9D9-37B63CFF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9961-EC38-4B5A-866F-CE270DBA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FC39-2CBD-468B-A484-EB548696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C156-61E2-4936-AF4D-BDE4A1EA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E89E-DD35-432B-8B03-6491781C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9F75-A465-445F-BD1B-7676B52F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2380-83FB-49EC-8881-48E9589B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71C3-E0FB-4381-AD0D-A7E640E0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3B80-5A61-40B1-8ECA-8FEA1CDE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3347-D946-434E-B77D-BD1EA70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121C-FA19-49F1-B573-80C0339F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7E8E-66EE-4E74-A345-C791AB56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9B35-A131-472D-8E8D-74DF8B7E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66E3-1F8C-454F-B474-DC10DC7B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D4FA-D171-4F7C-BECF-70E30553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F8F2-D20C-4EE5-A2BD-C7C9378A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04B4-F84D-4462-86E3-13A2B75A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3B38-8529-4066-B225-D1E4DAB4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BF84-A43F-450E-B10D-4C1711C9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73D2-FD80-41DD-A355-B889599C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604B-079A-477D-95A4-5452E665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D911-F879-4DFC-BC8A-E6E3338F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95C4-3A5C-4CD0-8D9A-1E76B5A8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A371-379C-4A51-9E40-9D80BFCE958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5FB4-0D2A-4FBC-932F-A7FD5D5A52C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Courier New"/>
              </a:rPr>
              <a:t>OUTSOURC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ýblo, J.: Outsourcing a outplacement: praxe a právní souvislosti, Praha: ASP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equensová, H.: Lidské zdroje?, Havířov: Question Marks, 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skočil, V.: Podpůrné procesy a snižování režijních nákladů (facility management), Praha: Professional Publishing,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ruckner, T.: outsourcing informačních systémů, Praha: Ekopress, 199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jem americké obchodní angličti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takový stav (nebo činnost k němu vedoucí), kdy vstup, který by firma získala z takového zdroje, koupí od jiného (podnikatelského) subjektu jako službu (nebo zbož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smluvní vztah s externí firmou za účelem přenesení odpovědnosti za určitou část funkční oblasti (účelové vymezen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hrnuje především oblasti, které bezprostředně nesouvisejí s hlavním předmětem činnosti podniku a dosud bylo obvyklé je provádět v podniku samé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problémy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o vytěsnit a zda vůbec vytěs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efekty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výhoda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Historie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číná již dělbou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ematicky se jím podniky začínají zabývat v 60. letech 20. stole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 zlom v jeho rozšíření a začátek jeho masového využití (v USA) – outsourcing informačního systému firmou Kod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ojné využití vrcholí od počátku 90. 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poskytovatel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lcí poskytovatelé služeb v určité funkční oblasti jsou často podniky, jejichž původní zaměření je ji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kládání s rozvinutou funkční oblastí je vytěsnění vlastní organizační jednotky – ta se osamostatní a poskytuje služby svému mateřskému podniku i dalším zákazník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Důvody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 obla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– důvody strategické, zaměření na získání konkurenční výhody, cíl dlouhodob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ěcné – zdokonalení v oblasti hl. činnosti, zajištění přístupu ke zdrojům nutným pro rozvoj hl. obla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– snížení nákladů a zvýšení výnos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rganizační – zjednodušení manažerské práce a zploštění organizační struktury podniku – rostoucí specializace podniku, pracovníků i stř. management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Proces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ealizace prostřednictvím proje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áze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rategická analýza funkčních oblas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určení funkčních oblastí, které budou vytěsně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efinice rozhraní „podnik – poskytovatel“ a definice požadavků na poskytovate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běr poskytovatel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rans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ízení vzta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ýhody outsourcingu pro podni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tup ke světové úrov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vé technologie bez vedlejších náklad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ychlejší nástup nových technologi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padá odpovědnost za oblast a za její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ložení nákladů (plateb za služby) a redukce inve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un peně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žnost snadnější fúze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Nevýhody outsourcingu pro podni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ízká operabil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vratnost rozhodnutí (lack of flexibilit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náklady případné změ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utnost řízení vzta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zika zadavatele (riziko nízké úrovně služby…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kontrovatelné toky vnitřních informací mim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tížně kvalifikovatelné přínos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8:04:26Z</dcterms:created>
  <dc:creator>CIKT</dc:creator>
  <dc:description/>
  <dc:language>en-US</dc:language>
  <cp:lastModifiedBy>Ucitel</cp:lastModifiedBy>
  <dcterms:modified xsi:type="dcterms:W3CDTF">2006-10-22T08:41:56Z</dcterms:modified>
  <cp:revision>4</cp:revision>
  <dc:subject/>
  <dc:title>OUTSOURCING</dc:title>
</cp:coreProperties>
</file>