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2774-1C0F-4FCC-AC63-E5C81FEB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E5E2-581C-4F82-8181-C9396795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3E78-0530-4CC4-A144-0FE5994D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ABB5-979A-45A8-9A23-0FCFA12B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EC14-F438-4F08-8C69-56C53437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E9A4-FEA8-4C7E-B184-DF3EF1CF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6EF3-397A-46E4-841B-A961A2C4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EEEF-059A-4D21-AF9F-03A52D12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61C5-1CA0-42F9-BCDB-FA2E9ED3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0BB9-B60F-4381-A2A3-9162AED0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B8C2-F8DD-43A0-950B-1937FF04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6BC7-77BC-44F8-8B38-2805281C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1C42-D2CA-4590-9652-F34156B1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26CD-DE0E-4FCB-A953-828E1A4C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0A43-AD3A-4BBE-BC6F-F8C12A34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209B-642C-4A90-8AAD-E9E5DC2D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0602-CC3C-47D4-9E10-29E9961A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1DCD-5201-4F77-AC03-205A2278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F025-B349-42F6-8823-57EB8A93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31D7E-3C6A-4A50-937A-83DD0DD1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03C8-8969-4F4D-9862-C4AAC069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3B58-837B-422B-AB45-8B18A944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3313-8BAA-4C36-BE4F-C6CC756D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F6A6-9E6B-421C-818C-16F308FF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FAC6-F131-433D-8A74-EE2C98FE3D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E467-2544-4B84-B52D-AAA439D158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ostindustriální společnos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seková, Havránek, Holek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1. seminární skupina - 2. tý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voj společenských struktu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nik postindustriální společnosti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aky přechodu od industriální k postindustriální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ývoj společenských struktu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dindustriální „agrární“ společnost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dustriální společnost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tindustriální „informační“ spol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Vznik postindustriální společnost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. léta – poprvé se objevuje pojem postindustriální společnos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6 – zlomový rok v US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rozvojem IT nahrazeno pojmem informační spole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Znaky přechodu od industriální k postindustriální společnost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ůvodní znaky nástupu nové ér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á Ekonomik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ční společnost a společnost věděn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hrnut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ínosy a nedostatky postindustriální společnos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7:22:57Z</dcterms:created>
  <dc:creator>Radek</dc:creator>
  <dc:description/>
  <dc:language>en-US</dc:language>
  <cp:lastModifiedBy>Radek</cp:lastModifiedBy>
  <dcterms:modified xsi:type="dcterms:W3CDTF">2006-10-23T21:34:44Z</dcterms:modified>
  <cp:revision>6</cp:revision>
  <dc:subject/>
  <dc:title> Postindustriální společnost</dc:title>
</cp:coreProperties>
</file>