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C7B-1ABD-48EF-A962-9F45B283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F11-0704-44C5-B830-49AD50E6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4C4-D7E8-4DA2-B7DD-9D11DB47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E74-5607-482A-B106-4874A465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29C1-FBE0-43C8-B767-259D9B7D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61B6-21EF-4133-897C-EE8CEA32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95E5-39C3-446C-B200-BFCC47E7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A342-EDD2-4F46-85E2-B6322A74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201C-6DCB-48DF-8125-E30207AE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976D-89D8-431A-8FFA-C82A6EB6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F71B-78FA-43CA-A2C3-617482A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C98-9B9E-46F9-AE5C-4E361F5A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A554-F243-4EE1-B95B-57813ACD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1E9D-BB0D-40D6-B170-467550AB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521A-1075-4EA8-9B11-A23BE5C8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B569-07D0-44F1-8F38-DE810726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C785-F563-4B38-9D43-101D62C3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AC5-A696-47D6-9247-3F85380E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83B-1812-4523-85D0-27CF8824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8EF-574D-42DF-B7AA-C9B91388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9D0-7BAC-4024-8AE3-C4AD1A4C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33F-51B0-417F-93C8-213E42D0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E99-6442-409F-B1BE-00F10E82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2A6-C849-4434-A178-350CEB6C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0B78-D1C2-4C42-B4BF-AAF5C2F8EFD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A2F1-893A-4003-8C2E-BA0F5D1423B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ývoj podniků v industriální společnost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čátky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čátek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kce pro vlastní výrob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ovýroba -  produkce jen pro lokální tr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erní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adající úloha zemědělství (rostla produktivita moderního zemědělstv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e podíl pracovních sil zaměstnaných v terciální sféř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ívání stroj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vé neživé zdroje ener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lší aspekty výv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. století – průmyslová revol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ste produktivita, zvyšuje efektivita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voj institucí (právo – Obchodní zákoní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užívání vědy v průmysl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ilování stabil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centrace (růst objemu kapitál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ce práce kapitálem (růst kapitálového vybavení prá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ižování počtu firem (likvid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Vznik oligopol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estiční nároky vedly ke vzniku větších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mogenní struktur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heterogenní (oligop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nažerská revol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znik velkých korporací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 vznik akciových společností → potřeba oddělení vlastnictví od ří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Zisk už není hlavním cílem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naha o zhodnocení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ldingové společnosti – řídí další korpor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užitá literatura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ameron, R. : Stručné ekonomické dějiny světa. Praha: Victoria publishing,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ich, R.B.: Dílo národů. Praha: Prostor,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lažek, L. : Management II, Průvodce studi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9:09:33Z</dcterms:created>
  <dc:creator>Franta Konopásek</dc:creator>
  <dc:description/>
  <dc:language>en-US</dc:language>
  <cp:lastModifiedBy>Franta Konopásek</cp:lastModifiedBy>
  <dcterms:modified xsi:type="dcterms:W3CDTF">2006-10-16T10:04:49Z</dcterms:modified>
  <cp:revision>3</cp:revision>
  <dc:subject/>
  <dc:title>Vývoj podniků v industriální společnosti</dc:title>
</cp:coreProperties>
</file>