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032-B944-48C8-9839-94888545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0D6-B695-4BA0-9D87-D733C141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448-2013-4903-AE29-5348175B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C73-4221-4D8E-A810-A398AFCA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DE6F-8CC3-409A-B4E6-8BEE6546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B4C5-478E-437C-902E-BCAADEA1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DEA3-61DB-4C06-BE05-E14C4620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3C3B-8D7F-4349-A375-7C15E952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3C1A-ABB3-4CED-92DE-B3EA933D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8D4C-9372-4F43-A544-E83F8A91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7A72-257F-470E-9D0B-3AF34756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072-61E9-436D-B570-F802941B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B180-2ECF-4135-A295-54C49F73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870D-AB6F-4819-8F4D-E3B8970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313-CBC6-46F0-B534-60B3BA9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0B9E-8CDF-4642-B89A-3521746A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87D5-FABB-4D49-910F-DDAB505F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39D-30B7-4751-8F74-1D6E0388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189-6A61-4214-B4E5-9B54D85E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C50-D737-44F1-AB33-FBC66CA4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E92-E02F-43A6-BAA7-04B1847A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F99-0F5D-495C-942F-4A755E4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BEE-6BBB-4495-A7C9-8CC5BFF0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113-E62B-4145-A203-427DA12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47AE-7D1C-488D-9034-FB19216DB5A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47C-7740-44E3-A8FC-E8A1F031701B}" type="slidenum"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3860280"/>
            <a:ext cx="6697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7c5b5"/>
                </a:solidFill>
                <a:latin typeface="Verdana"/>
              </a:rPr>
              <a:t>Proměny práce a jejich vliv na soudobou společnost</a:t>
            </a: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       </a:t>
            </a:r>
            <a:r>
              <a:rPr b="0" lang="cs-CZ" sz="1600" spc="-1" strike="noStrike">
                <a:solidFill>
                  <a:srgbClr val="d7c5b5"/>
                </a:solidFill>
                <a:latin typeface="Verdana"/>
              </a:rPr>
              <a:t>Mandovec Zdeněk, Sedláček Milan, Schön Lukáš</a:t>
            </a:r>
            <a:endParaRPr b="0" lang="en-US" sz="16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Proměny práce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5720" y="1916280"/>
            <a:ext cx="7236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Rukodělná výr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Human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omputer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Soudobá společnost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989000"/>
            <a:ext cx="72360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áce opět komplexní, poměr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náročnou na kreativ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šší příj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Konkurence  -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ovace 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tenzivnější prá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R.B.Reich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588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vznést z chudob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Vzděl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dnik vs. Zaměstnane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racovní místa přívětivá vůči rodině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íspěvky - zdravotní péče, důcho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Investice do lidského kapitál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artnerství se svými zaměstnanc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15920"/>
            <a:ext cx="10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ť je nová ekonomika jakko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nosná, neztrácíme kvůli ní určité stránky svého života – rodinný život, přátelství, pocit společenství …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Za pozornost děkuj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23560"/>
            <a:ext cx="7236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dovec Zden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edláček Mi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chön Luká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400640"/>
            <a:ext cx="7634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užitá literatu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BLAŽEK, L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Management II - průvodce studiem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Masarykova univerzita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ICH, A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Etika hospodářství. 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Sv.II. Praha: OIKOYMENH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4:42:57Z</dcterms:created>
  <dc:creator>Lukáš Schön</dc:creator>
  <dc:description/>
  <cp:keywords/>
  <dc:language>en-US</dc:language>
  <cp:lastModifiedBy>Lukáš Schön</cp:lastModifiedBy>
  <dcterms:modified xsi:type="dcterms:W3CDTF">2006-10-23T18:16:43Z</dcterms:modified>
  <cp:revision>10</cp:revision>
  <dc:subject/>
  <dc:title>Proměny práce a jejich vliv na soudobou společnos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29</vt:lpwstr>
  </property>
</Properties>
</file>