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B568-1C05-4347-9164-FD752366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51D6-552D-423B-B2E7-1CA6635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D522-3998-47EB-BFB2-D4F4DA44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A347-B3DC-4196-A2D7-7DAB5B81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849B-6296-46E5-BEDA-54FA5432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2BCA-5200-4D87-ADC3-8B733F3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0F8D-C0DC-4D89-A926-C6815E89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31F2-C7ED-4A97-A426-ACE14017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C84A-5A97-4EAD-A1D0-032929CB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19D6-E725-4E03-A2D8-A946E0B2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2CC0-5CB7-40EA-8B9E-2CBB616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D999-E474-47A0-9588-0C5F2DA8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CF79-D743-498C-9E47-64B4D07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E0C5-CC35-4A84-8930-73B923B3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9A9B-E5C9-430E-BBEE-8D31D4D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9378-6A42-4AFD-B436-F6793521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CA54-D829-4B37-8B84-2C7C49A0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6DA3-A412-4FB2-AC7F-09BB75E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5F83-EB80-4A24-8A07-F7EE5F20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9E36-884D-4AB8-831D-A7E0DA19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8F43-27A7-4A6D-92FA-9660D69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0504-FCDD-4B9A-BE01-1D251984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46F4-EEC2-439E-8527-1BAF483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EDED-4B9F-4D99-A628-C8AC12BC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E185-B0FB-40D9-BB10-1C4D0902093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619-E406-4B61-BC39-9D816D22559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urier New"/>
              </a:rPr>
              <a:t>OUTSOUR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ýblo, J.: Outsourcing a outplacement: praxe a právní souvislosti, Praha: ASP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quensová, H.: Lidské zdroje?, Havířov: Question Marks, 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skočil, V.: Podpůrné procesy a snižování režijních nákladů (facility management), Praha: Professional Publishing,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uckner, T.: outsourcing informačních systémů, Praha: Ekopress, 199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jem americké obchodní anglič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takový stav (nebo činnost k němu vedoucí), kdy vstup, který by firma získala z takového zdroje, koupí od jiného (podnikatelského) subjektu jako službu (nebo zbož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mluvní vztah s externí firmou za účelem přenesení odpovědnosti za určitou část funkční oblasti (účelové vymezen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nuje především oblasti, které bezprostředně nesouvisejí s hlavním předmětem činnosti podniku a dosud bylo obvyklé je provádět v podniku samé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problémy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vytěsnit a zda vůbec vytěs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efekty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výhoda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Historie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číná již dělbou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ematicky se jím podniky začínají zabývat v 60. letech 20. stole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 zlom v jeho rozšíření a začátek jeho masového využití (v USA) – outsourcing informačního systému firmou Kod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ojné využití vrcholí od počátku 90.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poskytovatel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cí poskytovatelé služeb v určité funkční oblasti jsou často podniky, jejichž původní zaměření je ji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kládání s rozvinutou funkční oblastí je vytěsnění vlastní organizační jednotky – ta se osamostatní a poskytuje služby svému mateřskému podniku i dalším zákazní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ůvody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obla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– důvody strategické, zaměření na získání konkurenční výhody, cíl dlouhodob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cné – zdokonalení v oblasti hl. činnosti, zajištění přístupu ke zdrojům nutným pro rozvoj hl. obla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– snížení nákladů a zvýšení výno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rganizační – zjednodušení manažerské práce a zploštění organizační struktury podniku – rostoucí specializace podniku, pracovníků i stř. management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Proces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ealizace prostřednictvím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áze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á analýza funkčních oblas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rčení funkčních oblastí, které budou vytěsn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efinice rozhraní „podnik – poskytovatel“ a definice požadavků na poskyto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běr poskytovatel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ízení vzta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ýhody outsourcingu pro podni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tup ke světové úrov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é technologie bez vedlejších náklad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ychlejší nástup nových technologi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padá odpovědnost za oblast a za její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ložení nákladů (plateb za služby) a redukce inve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un peně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žnost snadnější fúze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Nevýhody outsourcingu pro pod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á operabil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vratnost rozhodnutí (lack of flexi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klady případné změ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utnost řízení vzt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zika zadavatele (riziko nízké úrovně služby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kontrovatelné toky vnitřních informací mim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tížně kvalifikovatelné přínos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8:04:26Z</dcterms:created>
  <dc:creator>CIKT</dc:creator>
  <dc:description/>
  <dc:language>en-US</dc:language>
  <cp:lastModifiedBy>Ucitel</cp:lastModifiedBy>
  <dcterms:modified xsi:type="dcterms:W3CDTF">2006-10-22T08:41:56Z</dcterms:modified>
  <cp:revision>4</cp:revision>
  <dc:subject/>
  <dc:title>OUTSOURCING</dc:title>
</cp:coreProperties>
</file>