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95B2-260E-44A8-A70B-9C4625F5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0265-41D8-42DC-AB68-DA38780F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3867-659E-4A2A-8F3C-BF303C46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BDE8-8609-497D-A5FB-CA2E92B0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78AB-7EA0-40CC-8B2C-56EFB59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8815-9D27-432D-90C2-5800F3A6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D402-7D86-450C-BDC6-631740D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8150-DA00-4A33-946F-E380A2E7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9B34-338B-4DDF-9ABD-EF585090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6BCA-95E7-4B8F-971D-E77D5C2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6A78-2D70-416F-8A21-0E65E7E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9112-0715-4D9D-BB49-B1196C48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F1E3-1344-4134-A9D6-E323142D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9F87-DAAD-498A-AC88-C21E366F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B5B2-6063-43A4-A450-7F46985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9FEA-FA60-419A-B9B0-1A122C72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2320-54D1-4B35-9589-81274516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6EB4-7C90-494B-A388-BD784630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A42A-D576-4EB3-9EB7-AAE98FD6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AE57-52E5-4393-BA30-7E493687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9B9B-112D-4155-8C50-7A5C597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DC24-7A6C-44F8-8343-275F0AF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76F7-2D38-4DE4-8748-41AF826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7F5F-17AD-44FA-AC14-618F70C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FFA0-4053-4F7F-B82B-146635E19A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1EB0-AD29-4162-82E8-19F39E799F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ostindustriální společ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seková, Havránek, Hole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. seminární skupina - 2. tý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 společenských strukt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postindustriální společnost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aky přechodu od industriální k postindustriál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ývoj společenských strukt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industriální „agrární“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ustriální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industriální „informační“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zni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. léta – poprvé se objevuje pojem postindustriální společno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 – zlomový rok v US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ozvojem IT nahrazeno pojmem inform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Znaky přechodu od industriální 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vodní znaky nástupu nové é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ční společnost a společnost vědě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nosy a nedostatky postindustriální společ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7:22:57Z</dcterms:created>
  <dc:creator>Radek</dc:creator>
  <dc:description/>
  <dc:language>en-US</dc:language>
  <cp:lastModifiedBy>Radek</cp:lastModifiedBy>
  <dcterms:modified xsi:type="dcterms:W3CDTF">2006-10-23T21:34:44Z</dcterms:modified>
  <cp:revision>6</cp:revision>
  <dc:subject/>
  <dc:title> Postindustriální společnost</dc:title>
</cp:coreProperties>
</file>