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EDA-F54D-43CC-ACE0-7A4C3DC1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BFEC-EB12-4F65-85D5-56B88DA9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1456-244D-4B1D-8F1C-C4273B16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3556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69988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3556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69988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5B24-56FD-40B1-AAB2-C6D1F3D1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DAE4-8065-4961-AD09-FF7E55EA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BE47-7A48-46C7-8BF3-91C267F6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1559-C93E-4E56-8F7D-A5408F74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E21C-A9F3-4F36-AB4D-F6478A57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AADF-334F-4994-BFAA-897464CF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3152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8CA0-C267-4232-A0BE-452BBD1F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68DC-1DEE-4C5E-B28C-1C48D911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A89C-111F-449B-B789-602B1120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E258-04F4-46F3-AB73-1E42D82B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80E3-B928-47A3-ABCB-F41AED68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678F-8FEA-48BF-8905-6EFD0F2E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A3C4-E5D0-4A0D-9AE7-D437EA1F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3556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9988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3556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69988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327A-A390-42CE-AA4C-013FBDC6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5FEA-C3E4-4D6F-B586-4A336088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B72-2AB6-4379-ABC8-1663FDA4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02B2-4605-4510-A71E-DCA1897E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3152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6C19-D605-414E-AAF1-D820DA58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759-3B41-4A45-8BDA-0D08DB62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AC5C-E534-496E-A8B3-BEA1972A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A54-BD97-4AD7-9B19-BB435FEE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5DD2-EA68-4C80-8565-9358100C5C8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0D4C-1E75-45D5-97D0-06684C24BF7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 a nová ekonomik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vana Kleinová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eronika Křížová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an Čerbá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 – pro…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Existence termínu v ek. literatuře od 1999, řada empirických studií z US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Nově se prosazující systém organizace (finanční, průmyslové a obchodní aktivity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nové prostory pro růst + velké konkurenční výhody v globálním měřítk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↓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flace + ↓ UNE + ↑produktivi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 – pro…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3 základní rys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vyšší ekonomický růst (IT, efektivnější mechanismy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ovlivnění cyklických procesů (↓UNE, ↓ inflace pomocí I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Výnosy ze síťových efektů a externali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+ systém tvorby bohatství založený na znalostec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Nová ekonomika 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prostor pro podnikání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existence univerzálního paradigmatu vs. široký výběr operativních přístupů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řechod od industriální společnosti k postindustriáln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 = f(K,L,e) již neplatí absolutn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ouvislosti s rozvojem vysoce zhodnocujících podniků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Zásadní charakteristik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nové ekonomiky pro podnikatele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Znalosti se stávají základem růstu bohatstv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rvalý a důrazný růst konkure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sun od hierarchií k sítí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chnologický pokrok vytváří nové tržní podmínk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urbulentní prostředí prohlubuje sociální nerovnost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ástup znalostní společnosti úzce souvisí s rozvojem „vysoce zhodnocujících podniků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Znalosti vystupují jako nejvýznamnější faktor růst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ová ekonomika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sun paradigmatu, nebo jen výsledek přechodu k postindustriální společnosti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NEČEK J. Znalostní podnik ve znalostní společnosti. Praha : Kamil Minařík – PROFESSIONAL PUBLISHING, 200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ŽEK L. Průvodce studiem. Brno : Masarykova univerzita – Katedra podnikového hospodářství, 2006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Historicky: po II. světové válce -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závažné komplexní jevy ve vyspělých tržních ekonomikác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Jeden z nejdůležitějších jevů v celospolečenské rovině: 1) společnost industriální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&gt;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) znalostn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zásadní princip:1) dělba prá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) řízení procesů, IT/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ráce v týmech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niková kultura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reengineer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nikové okolí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mění se od spojitého =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&gt;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k nespojitému-turbulentnímu ( globální, neustále se měnící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le knihy „Nový obraz budoucnosti“ R. Gibs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Žádná doposud osvědčená cesta vedoucí kupředu neexistuje…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lineární cesty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socialism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industriálního paradigmat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poválečného kapitalism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udoucnost: chaos a nejisto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konomika založená na intelektuálním kapitál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otřeba nových organizací…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ovace původních organizačních struktu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(bude obtížné je ovládat a řídi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 Narrow"/>
              </a:rPr>
              <a:t>   „</a:t>
            </a:r>
            <a:r>
              <a:rPr b="0" lang="cs-CZ" sz="3600" spc="-1" strike="noStrike">
                <a:solidFill>
                  <a:srgbClr val="000000"/>
                </a:solidFill>
                <a:latin typeface="Arial Narrow"/>
              </a:rPr>
              <a:t>Kdo se nechce změnit, je odsouzen k zániku…“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le J.Welche GE, o změně uvnitř a vn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Zatím poslední ve vývojové řadě změ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oretický přístup opírající se o poslední ekonomické úspěchy USA ( vývojový trend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dnikové řízení směřující k managementu znalost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 krajní přístupy k pojmu „ Nová ekonomika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radox Nové ekonomik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) Václav Klaus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t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I) Jiří Zlatuška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 – proti…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existence pojmu, neschopnost jinak pojmenovat nové jev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taré principy ekonomie stále plat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prokázána přímá souvislost mezi IT a hospodářským růste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14:51:22Z</dcterms:created>
  <dc:creator>OEM</dc:creator>
  <dc:description/>
  <dc:language>en-US</dc:language>
  <cp:lastModifiedBy>Michal</cp:lastModifiedBy>
  <dcterms:modified xsi:type="dcterms:W3CDTF">2006-10-23T21:31:16Z</dcterms:modified>
  <cp:revision>58</cp:revision>
  <dc:subject/>
  <dc:title>Strategická analýza společnosti Metropolis</dc:title>
</cp:coreProperties>
</file>