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5AE2-1F81-46E2-BEA7-09E6C36D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91B7-CF6B-4A92-983C-B47F70FF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5B19-63E1-44F1-9A35-36D3E252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C959-7501-47FA-A740-64E36D93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5B2C-99E1-4DE9-8065-B0B9CAE1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1713-C58D-4B1D-8112-CDE554E0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9CC9-CACD-4B63-A9BC-160CCFA5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BE45-C6E5-4169-861F-85EA2CF4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1D5A-C65F-492A-8268-1DF7AF7F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07E1-909A-4D46-A1B2-09FB6916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9F66-F7D9-4173-97BC-0E1C9088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3D4C-6128-4DB7-89E1-A14254E0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99BA-0A71-44D1-877E-5180D9E5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9984-BBF0-48CE-91BF-18925776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6441-4613-4FE3-8A13-C65E1D18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2463-1D99-4687-AD65-0CC0F197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2E7D-DA49-4E9C-990A-B4B84A55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D57C-C660-4D5F-ADF1-13D8614A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1416-A8F6-4AE4-BD5F-5DC48C82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F4CC-84F2-4330-9F26-BADDC86A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AA64-7545-44EE-899B-FD85B3D9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CCFB-D92C-4B9C-8098-FC24EA65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1644-0D9E-44AC-A206-07BD0BC6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2E14-0B37-4892-A07D-F8665801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A25C-59D7-4C04-9DDE-C11D01EB69D9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0CFC-F315-4996-8E5A-FAFCB3AE270B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mir.cz/clanek.php3?CID=3878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Úvod do Obecné teorie systémů (OTS)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seková, Holek, Havrán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Úvo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fin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lyticko-mechanický x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lektický přístu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storie a vývoj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ěkolik systémových pojm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sté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v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form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uktu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Říz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lavní principy 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. OTS jako logické vyústění historického vývoje filosofie a přírodních vě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. Sepjetí OTS s výzkumem a řízením sociálních systém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I. Orientace OTS na řešení globálních problém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lavní principy 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V. Sepjetí OTS s praktickým řešením systémových úlo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. Zdůrazňování principiálních odlišností fungování a vývoje různých druhů systém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. Paradoxnost systémového myšl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I. OTS je otevřený, dynamický, složitě organizovaný systé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ěkujeme za pozornost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lý, J.V., Vítek, M.:Teorie systémů II (Gaudeamus, 2003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iener, N.:Kybernetika  (SNTL, 1960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Fiala, L.:Hnulo se systémové hnutí? (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vesmir.cz/clanek.php3?CID=3878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ertalanffy, L. von:Člověk-robot a myšlení (Svoboda, 1972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18:13:23Z</dcterms:created>
  <dc:creator>AHa</dc:creator>
  <dc:description/>
  <dc:language>en-US</dc:language>
  <cp:lastModifiedBy>AHa</cp:lastModifiedBy>
  <dcterms:modified xsi:type="dcterms:W3CDTF">2006-10-02T20:45:24Z</dcterms:modified>
  <cp:revision>6</cp:revision>
  <dc:subject/>
  <dc:title>Snímek 1</dc:title>
</cp:coreProperties>
</file>