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90E-940E-41D7-A4F3-A42692BE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7F6-BB48-430A-B242-AF96D876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B66-6D08-4CB3-AA06-4D1B9451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FE6-7BB8-41D3-A316-54064175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B03C-8544-465B-8A90-C1CEC790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85A-7E83-4C70-A0B9-0718B0F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25A1-B76D-4346-9F4F-5470287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547-D275-45FF-AA14-3E32694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251F-8254-4AB5-8E5B-B74B577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DCC-C46A-43F0-B1BA-9618CE93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7F4F-42D6-4D3C-9676-7750A93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8D8-807E-488D-A888-B21E861F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1676-2221-4A82-AEC3-938C45F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7201-1099-4F71-BF58-BDAE29C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A48C-89C4-4BF3-B55A-D598309F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46CA-AD26-48C4-AEE0-ABD4E864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E963-BAA2-4CD1-872A-20FC5FFF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563-B1D8-4F52-8FC5-202E5E7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7A4-A277-4254-9267-F632AE6C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277-87D1-41B0-AB77-10B23FD1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594-1081-417A-946F-42C14CB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323-4E96-48B3-B07F-6BF9B5D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A23-A9FC-48CC-8A43-8BAFA5E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0FE-AD0E-4282-8EC2-DB99D53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CF1-0EC7-4A33-872A-F1D02E6D3070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B8B-BFE7-463E-8CB2-08FDE341FCB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298F-B402-47C6-8BC4-DF5D35B29FEF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050-3A78-4503-9C40-2A95617A401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8284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Teorie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jako v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ě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da o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v technických, biologických a spole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ens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eněk Mando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Sedlá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káš Schö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F0E5-D0CD-423D-BC36-F3401FFCA0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ování systémových věd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0. léta – biologie, L. von Bertalanffy – obecná teorie systé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světová v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0. léta – kyberne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. léta - provoz automatizovaných informačních systémů v oblasti říz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955-8EAD-4B30-A2F8-67B0120AFA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udvig von Bertalanff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lečnost pro pokroky v obecné teor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mětem teorie systémů je studium abstraktních systémů, které mají význam pro analýzu systémových vlastností libovolné konkrétní re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BC3-0959-46AE-A25D-1B18C7696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ův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ložení nové vědy (Bertalanff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á tendence ke sjednocování různých přírodních 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olečenských věd. Takové sjednocení může být předmětem zkoumání obecné teorie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to teorie se může stát významným prostředkem formování exaktních teorií ve vědách o živé přírodě a společ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Rozvíjení sjednocujících principů, s nimiž se setkává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ch oblastech vědění, nás obecná teorie řízení přibližuje k dosažení cíle, a to vytvoření jednotné vě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 to může vést k jednotnosti vzděl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1D8-FEF7-458F-A1B7-4C1DE22429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ec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obecné abstraktní modely systémových je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ál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systémy definované na konkrétních reálných objekte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ké a dynamic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rdé a měk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976-1128-4BD4-91CE-E58F4405D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rbert Wie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Předmětem kybernetiky je zkoumání procesů řízení a zpracování informací v technických systémech i živých organismech a kolektivech skládajících se z živých organismů a technických systémů.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E40-9E3C-4907-B27A-30DB0ECB41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bernetický myšlenkový přístup se zaměřuje na zjišťování analogií mezi systémy z hlediska řídících procesů, které v nich probíhají.“ (Jančurová, 1998, s.52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kladními pojmy kybernetiky jsou řízení a inform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FD7-2E1E-490E-842E-500A20BDB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lení kybernetik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oretická kybernet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á kyberneti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bernetické aplik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98E-07E8-486C-A39A-63D4A944B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kujeme za pozor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843-8C02-43E2-B2A2-3E711274A2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ŽITÁ LITERATURA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SHBY, W.R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Kybernetika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aha: Orbis, 19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BLAŽEK, L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nagement II - průvodce studiem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Masarykova univerzita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BR, J. - VEPŘ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ová analýza a syntéz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Praha: SNTL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ÁLEK, I. A KOL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y řízení – sylabus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sarykova univerzita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JANČAROVÁ, V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Úvod do systémových věd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raha: Vysoká škola ekonomická, 1998. ISBN 8O – 7079 – 933 –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Č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y systémového inženýrství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ha: SNTL, 1984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732-E563-4DFA-813A-D38CC71FDD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 a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výraz odvozený z řeckého slova "syn" , které v překladu znamená dohromady, a slova "histemi" – sestavov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. von Bertalanffyho: „ Systém je komplex prvků nacházejících se ve vzájemné interakci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ní defin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systém považujeme složitý reálný nebo abstraktní objekt, v němž rozlišujeme části, vztahy mezi nimi, vlastnosti. Vůči okolí vystupuje systém jako celek. Části systému jsou ve vzájemné interakci a integrují se i se systémem jako celkem. Označujeme je jako prvky systému a vztahy mezi nimi nazýváme vazbami systému. “ (Habr, 198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C28-2A94-45B7-8D3E-B4C09F8B4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ákladní typy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ysté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vztah k okolí není definován, systém nemá hraniční pr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lativně 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přesně definovány jak vztahy, kterými je systém z okolí ovlivňován, tak vztahy, kterými systém okolí ovlivňu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e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uvažovány všechny možné účinky okolí na systém a naopa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EBF-035F-43B1-BC97-8C70D84D1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edstavuje vědomé působení na systém, které vymezuje cíle systému a s využitím zpětných vazeb působí na systém tak, aby těchto cílů bylo dosahováno.“ ( Jančarová, 1998, s. 136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1BB-9E4A-4628-AD0B-D00785542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Vývoj vědy o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 v technických systém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cký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hrnoval pojem celku, který se úplně rovnal součtu svých částí, který mohl běžet pozpátku a který by se choval přesně tímtéž způsobem bez ohledu na to, jak často byly ony díly rozebírány a zase dávány dohromady, a bez ohledu na sled, v kterém by k tomuto rozebírání a novému skládání docházelo. “ ( Deutsch, 1971, s. 93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976-19CF-4463-8ACD-9C8E6BD66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 biologic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 je v devatenáctém nahrazen pojmem „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, který se stal novým východiskem nejen v biologii, ale i ve společenských vědách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anismus se nedá analyzovat, alespoň v některých svých podstatných částech. Nemůže být rozebrán a zase beze škody složen dohromady. Každá část klasického organismu, pokud vůbec může být identifikována, obsahuje ve své struktuře t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láštní funkci, která ji byla přidělena. Zpravidla nemohou být tyto části použity pro žádné jiné funkce, aniž by se organismus zničil.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9F0-7B7F-4530-8D9F-5049FF02D8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e 20. století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ové vá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oblasti komunikační a výpočetní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vé 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y, které oz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jeme jako systémov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ystémov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ní disciplíny a 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3E1-F481-45F1-A768-B9A1C71BC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57200"/>
            <a:ext cx="8076960" cy="6019920"/>
            <a:chOff x="685800" y="457200"/>
            <a:chExt cx="8076960" cy="6019920"/>
          </a:xfrm>
        </p:grpSpPr>
        <p:sp>
          <p:nvSpPr>
            <p:cNvPr id="100" name=""/>
            <p:cNvSpPr/>
            <p:nvPr/>
          </p:nvSpPr>
          <p:spPr>
            <a:xfrm>
              <a:off x="2919240" y="457200"/>
              <a:ext cx="20617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á vě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1764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teor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7920" y="1176480"/>
              <a:ext cx="154620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aplik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5760" y="2891880"/>
              <a:ext cx="17179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Kyberneti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840" y="2036520"/>
              <a:ext cx="137412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Obecná  teorie systémů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1749960"/>
              <a:ext cx="0" cy="1431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2323080"/>
              <a:ext cx="51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82040"/>
              <a:ext cx="34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5960" y="1462680"/>
              <a:ext cx="326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4960" y="889920"/>
              <a:ext cx="0" cy="57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3120" y="189288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á analý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120" y="289584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inženýrst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3120" y="37558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Operační výzk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3120" y="590436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Jiné aplik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3120" y="4615200"/>
              <a:ext cx="18896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programován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9480" y="1749960"/>
              <a:ext cx="0" cy="444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480" y="619056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9480" y="490140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9480" y="4042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9480" y="318204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9480" y="2179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0A8-BB2C-45F7-8D20-B069205D89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ový příst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deme považovat způsob myšlení, způsob řešení problému a či způsob jednání, při němž jsou jevy chápány komplexně ve svých vnitřních a vnějších souvisloste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edpokládá existenci speciálních metod, formálního aparátu a technických prostředků pro práci se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551-794E-4E06-8A8D-07C2034495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deněk Mandovec</cp:lastModifiedBy>
  <dcterms:modified xsi:type="dcterms:W3CDTF">2006-10-02T19:57:03Z</dcterms:modified>
  <cp:revision>2</cp:revision>
  <dc:subject/>
  <dc:title>Prezentace aplikace PowerPoint</dc:title>
</cp:coreProperties>
</file>