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SVIST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1E19-7A67-4838-A4EC-4C8BF7AD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0C0B-C092-4861-A9C6-52E9AB0A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2292-A641-4F3F-84CA-B251E12E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6BF3-5AB1-4C09-897C-30E69CFD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8BE1-18C8-4FBF-AA11-95517078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AB7F-CF38-4ECD-9C35-1DA42554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AF2A-964A-4BD1-847A-2B7F98AA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23AE-EC90-4E9A-B613-850424A8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A0F0-F868-443C-B76E-267B3427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A522-6BF0-4656-A8FD-1585740D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2948-DBE2-4487-8D03-2E574A3B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0582-D2B3-4DEF-8471-58C34009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7161-9574-446A-921A-023F4E1A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ACA0-0732-4A07-920E-9A31B555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6EDE-6EC6-454C-A334-2109335B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8258-F6FC-4AB7-B4ED-38D2C7C2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B9CF-75CD-427B-A4D4-1FEE726A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D85E-2D4A-400B-8C20-2B705065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067B-3400-48E2-B7E6-A3590082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D78-3853-48D3-A5F0-D58C2F11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58D9-B706-4801-834C-91C79FE9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1A99-7B93-437D-A3F8-18A90E39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B743-566F-4628-BB31-9CD9CB66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E88A-212F-4808-BC6B-027B6FE0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1546-1F8A-4C13-B8A1-3D7EE68C4A5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E7F9-7435-46C8-9D7E-850A42DB7E1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occa.com.au/" TargetMode="External"/><Relationship Id="rId2" Type="http://schemas.openxmlformats.org/officeDocument/2006/relationships/hyperlink" Target="http://www.tocca.com.au/" TargetMode="External"/><Relationship Id="rId3" Type="http://schemas.openxmlformats.org/officeDocument/2006/relationships/hyperlink" Target="http://www.tocca.com.au/" TargetMode="External"/><Relationship Id="rId4" Type="http://schemas.openxmlformats.org/officeDocument/2006/relationships/hyperlink" Target="http://www.tocca.com.au/" TargetMode="External"/><Relationship Id="rId5" Type="http://schemas.openxmlformats.org/officeDocument/2006/relationships/hyperlink" Target="http://www.tocca.com.au/" TargetMode="External"/><Relationship Id="rId6" Type="http://schemas.openxmlformats.org/officeDocument/2006/relationships/hyperlink" Target="http://www.toc-goldratt.com/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SVIST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vojové tendence managementu na prahu postindustriální ér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ypracovali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Daniel Nová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Lucie Absolon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arbora Říh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Kniha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fektivnost informačních systémů Molnár, Z. 200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Článek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erní management závisí na modernosti architektur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aroslav Král, Michal Žemličk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Soubor přednášek z předmětu Podnikové informační systémy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g. Jaromír Skorkovský, CS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tocca</a:t>
            </a: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com</a:t>
            </a: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.au/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www.toc-goldratt.co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Klíčová role informace v organiza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Hodnota informace v č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právná informace ve správný čas na správném míst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íklady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ff"/>
                </a:solidFill>
                <a:latin typeface="Verdana"/>
              </a:rPr>
              <a:t>Snížení nebo odstranění skladových záso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ff"/>
                </a:solidFill>
                <a:latin typeface="Verdana"/>
              </a:rPr>
              <a:t>Kontrola časových rezerv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ff"/>
                </a:solidFill>
                <a:latin typeface="Verdana"/>
              </a:rPr>
              <a:t>Informace o předpokládaných odběrech (SCM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ff"/>
                </a:solidFill>
                <a:latin typeface="Verdana"/>
              </a:rPr>
              <a:t>Informace o stavu vlastních zásob poskytnutých dodavatel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ff"/>
                </a:solidFill>
                <a:latin typeface="Verdana"/>
              </a:rPr>
              <a:t>Elektronické komunik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Využití informac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Dřív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formace o vlastním podnik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formace evidenčního charakteru (účetnictví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formace podporují snížení nákladů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tegrace dat a technických prostředků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Nemáme dost údajů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859280" y="1484280"/>
            <a:ext cx="402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Nyní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formace o okol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formace podporuje rozhodování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formace podporuje prodej zboží a služ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Komunikace využívaná pro spolupráci obchodních partner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Máme příliš mnoho údaj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1080" y="5715000"/>
            <a:ext cx="53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Times New Roman"/>
              </a:rPr>
              <a:t>Problém : Rostoucí objemy d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Knowledge management (KM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Verdana"/>
              </a:rPr>
              <a:t>Cíl KM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:vytvoření „ učících systémů“ integrovaných do informačních a logistických  systému podnik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Verdana"/>
              </a:rPr>
              <a:t>Základ KM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: data warehouse (datový sklad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Verdana"/>
              </a:rPr>
              <a:t>Predikce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(předpovědi, prognózy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Rozhodování na základě strukturovaných i nestrukturovaných d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Workflow Management (řízení toku úkolů v podniku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Verdana"/>
              </a:rPr>
              <a:t>Problémy s datovými odpady a bezpečností d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Nástroj KM = ERP systé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ERP =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Enterprise Resource Plann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business operations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 (operační využití znalostí – např. zpracování zákazek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business intelligence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(práce s datovými sklady na úrovni managementu podniku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business management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(oblast řízení podniku jako celk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Workflo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nteligentní směrování inform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orkflow=„tok dokumentů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líčová aplikace budouc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ožnost spolupráce skupiny  na vytváření dokument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měrování dokumentů na základě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onkrétní uživatel (konkrétní adresa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funkce nebo dovedno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ředstavení Teorie omeze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ychází se systémového přístup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dnik (organizaci) chápe jako řetěz závislých proces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03280" y="3357720"/>
            <a:ext cx="6481800" cy="936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84360" y="4508640"/>
            <a:ext cx="778644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existuje jen několik málo a často jen jeden prvek, pomocí kterého můžeme řídit celý systé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Tento prvek je v TOC nazýván omezením systém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VI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Teorie omeze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oč omezení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mezení zabraňuje (omezuje) systém v dosahování jeho cí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Cíl  podnikání dle TOC - „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Make money now and in the future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aždý systém má alespoň jedno omezení, kdyby tomu tak nebylo, dosahoval by svého cíle v nekonečném objem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5 kroků teorie omeze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2997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ccecff"/>
                </a:solidFill>
                <a:latin typeface="Arial"/>
              </a:rPr>
              <a:t>Děkujeme za pozornost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09:20:01Z</dcterms:created>
  <dc:creator>Danny</dc:creator>
  <dc:description/>
  <dc:language>en-US</dc:language>
  <cp:lastModifiedBy>Danny</cp:lastModifiedBy>
  <dcterms:modified xsi:type="dcterms:W3CDTF">2006-10-01T19:57:33Z</dcterms:modified>
  <cp:revision>5</cp:revision>
  <dc:subject/>
  <dc:title>Vývojové tendence managementu na prahu postindustriální éry</dc:title>
</cp:coreProperties>
</file>