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367CA-EE8B-4ABD-9C2E-70CA421D2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D5D41-4C22-4852-BAA6-F6DACB00F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F517D-8F03-4458-B79D-9AC54A224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7AC6C-7CA8-42A8-951E-DBF3C3448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4F0AA-EB60-46F5-99DF-B1786CAFC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49B63-C20F-47F9-9DC0-59DD36390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6C8AD-BA24-4DA3-8054-011439C75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2489C-0E18-4B2A-9570-88330AE01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102E9-92DC-4FF7-BCFE-D84CCF573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12B0A-9262-44C2-8677-70F202C36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34FA3-00C7-4C73-86A9-B3FE96CB3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320D9-0EA9-4AD1-9890-80910D214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08B20-B6CE-41AC-B818-C7F7B50B6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B5CD5-FC37-4F0C-896C-587B2D4B7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103DC-3D9E-4F26-B005-2179712CC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82CFC-C14B-456F-8779-0468987E2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21E43-0BDE-4ECD-B4E2-1854FAC96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7EC5E-4296-4CB6-A5B6-19913ECD5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289F9-6255-4D9E-8A81-8EA92BA6A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04E2C-10CF-42CF-95F9-196B2B807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89951-DB74-461F-B594-A10A53AEA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3899C-5528-427A-9523-7A211E031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A09B9-4C91-4A17-AB7F-2A3BFE249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96C56-6EB8-4CC2-A3C4-A2565B81A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2F5CD-512B-4AA0-8D71-30E722B51FC8}" type="slidenum"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4911F-08FF-4A7C-87A2-206AA3A36EDF}" type="slidenum"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Vývoj systémů –</a:t>
            </a:r>
            <a:br>
              <a:rPr sz="5400"/>
            </a:b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přirozená a kulturní evoluce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539640" y="5084280"/>
            <a:ext cx="64008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Martina Hanáková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Tereza Obšilová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Tereza Bártová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Evoluc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96472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876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500" spc="-1" strike="noStrike">
                <a:solidFill>
                  <a:srgbClr val="ffffff"/>
                </a:solidFill>
                <a:latin typeface="Arial"/>
              </a:rPr>
              <a:t>Vývoj jako proces postupného zdokonalování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76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500" spc="-1" strike="noStrike">
                <a:solidFill>
                  <a:srgbClr val="ffffff"/>
                </a:solidFill>
                <a:latin typeface="Arial"/>
              </a:rPr>
              <a:t>Antientropický děj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76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500" spc="-1" strike="noStrike">
                <a:solidFill>
                  <a:srgbClr val="ffffff"/>
                </a:solidFill>
                <a:latin typeface="Arial"/>
              </a:rPr>
              <a:t>Proces konstitutivní (podstatný, základní)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76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500" spc="-1" strike="noStrike">
                <a:solidFill>
                  <a:srgbClr val="ffffff"/>
                </a:solidFill>
                <a:latin typeface="Arial"/>
              </a:rPr>
              <a:t>Proces, který hledá, experimentuje 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292720" y="2133720"/>
            <a:ext cx="194472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323640" y="475920"/>
            <a:ext cx="856908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Vlastnost, která nepřísluší jen jedinci, ale celému systému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Život je nerozlučně spojen s evolucí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Erwin Schrödinger: vlastností života je vytvářet stále větší řád a 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zdánlivě nepravděpodobná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uspořádání věcí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Život je chemický systém schopný sebe sama udržovat, v němž probíhá darwinovská evoluc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Charles Darwin: Všechny současné druhy mají společné předky, kteří existovali před dávnými věky. Původ druhu spočívá v proměnách způsobených náhodnými mutacemi a ve výběru prostřednictvím boje o omezené zdroje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394920" y="1413000"/>
            <a:ext cx="828036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Informace se podílí na evoluci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Adekvátní informace vzniká až spolu se systémem a ten je určován nahodilými faktory uvnitř i vně tohoto systému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ložitější systém potřebuje více informací k dalšímu vývoji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1.) </a:t>
            </a:r>
            <a:r>
              <a:rPr b="0" i="1" lang="en-US" sz="2200" spc="-1" strike="noStrike">
                <a:solidFill>
                  <a:srgbClr val="ffffff"/>
                </a:solidFill>
                <a:latin typeface="Arial"/>
              </a:rPr>
              <a:t>přirozená (biotická)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200" spc="-1" strike="noStrike">
                <a:solidFill>
                  <a:srgbClr val="ffffff"/>
                </a:solidFill>
                <a:latin typeface="Arial"/>
              </a:rPr>
              <a:t>informace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: genetická (dědičná) a epigenetická (získaná zkušeností a učením, je základem kulturní informace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2.) </a:t>
            </a:r>
            <a:r>
              <a:rPr b="0" i="1" lang="en-US" sz="2200" spc="-1" strike="noStrike">
                <a:solidFill>
                  <a:srgbClr val="ffffff"/>
                </a:solidFill>
                <a:latin typeface="Arial"/>
              </a:rPr>
              <a:t>kulturní informace (umělá)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: vzniká kontaktem s okolím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Informace a evoluc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Vznikala rozpoznáváním a hodnocením podnětů důležitých pro přežití a spolupráci lidí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Vytvořila se lidskými smysly a rozumem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uchovní kultura, společenské vědomí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Vytváří ji konkrétní jedinci a instituc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Kulturní informac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6516720" y="3357720"/>
            <a:ext cx="1944720" cy="14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řirozená evoluc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Arial"/>
              </a:rPr>
              <a:t>Nositelem je příroda sama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Arial"/>
              </a:rPr>
              <a:t>Započala prudkou expanzí hmoty – tzv. velký třesk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Arial"/>
              </a:rPr>
              <a:t>Systémy jsou složitější a sebeorganizovanější (náš předek - sirná bakterie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Arial"/>
              </a:rPr>
              <a:t>Pokročilé organismy obsahují mnoho miliard buněk a jsou organizovány do velmi propracovaných struktur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6227640" y="1108080"/>
            <a:ext cx="2160720" cy="160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Kulturní evoluc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7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ositelem je člověk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7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avazuje na dosaženou úroveň přirozené evoluce, ale je mnohem rychlejší a stále akceleruje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7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Výsledkem je kultura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7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Vývoj umožnilo a urychlilo využívání symbolů (jazyk, písmo).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684360" y="549360"/>
            <a:ext cx="800712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Evoluce je proces s otevřeným koncem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124000" y="2565360"/>
            <a:ext cx="5113440" cy="349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oužitá literatura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Arial"/>
              </a:rPr>
              <a:t>Šmajs, J.  Drama evoluce. Praha: Hynek, 2000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Arial"/>
              </a:rPr>
              <a:t>Šmajs, J. Konflikt přirozené a kulturní evoluce. Brno: Masarykova univerzita, 1997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Arial"/>
              </a:rPr>
              <a:t>Coveney, P., Highfiled, R. Mezi chaosem řádem. Praha: Mladá Fronta, 2003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Arial"/>
              </a:rPr>
              <a:t>Prigogine, I., Stengersová, I. Řád z chaosu. Praha: Mladá Fronta, 2001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Arial"/>
              </a:rPr>
              <a:t>Kolektiv autorů, Akademický slovník cizích slov, Praha: Academia, 1995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6T07:39:26Z</dcterms:created>
  <dc:creator>Franta Konopásek</dc:creator>
  <dc:description/>
  <dc:language>en-US</dc:language>
  <cp:lastModifiedBy>99782</cp:lastModifiedBy>
  <dcterms:modified xsi:type="dcterms:W3CDTF">2006-09-26T15:39:47Z</dcterms:modified>
  <cp:revision>5</cp:revision>
  <dc:subject/>
  <dc:title>Vývoj systémů-přirozená a kulturní evoluce</dc:title>
</cp:coreProperties>
</file>