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54C-2AE0-4EEA-B9D5-DF0C299C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E53-D114-43C6-A642-08BC05A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6E7-2D34-4C3E-8961-8668554A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A2F-C806-47AA-940C-7A017662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E293-B621-4A94-AE69-AFB078F7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FA07-6413-4DE9-86FF-62B95BF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DC7F-2A8D-4BB0-AF23-1ED3051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FEA7-7AB8-44FB-8184-253E9881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F688-EB4E-4FC8-B414-DF18E9AB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C043-E70D-4F69-9C2E-1A94BC33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AF6-08E9-4920-835D-D2AFFB2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ECF-0154-449F-8B71-1E4940C7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B0F9-9C0D-452D-B701-852D948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530-7FC6-47D9-98C0-71D42B4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B1BB-C36B-47F3-86EF-8C5FFE59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965A-7DE2-488C-ADDF-DE1E45E9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3DE-60D0-4FA0-B6D8-B42BC1D8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CCB-351D-46DB-83D7-E5EE6981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369-B38B-44EB-8E4D-04DE5FC4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E2B-4424-4AE8-BAD3-1317D8F3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E6C-C459-426E-ABCA-51DF125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F27-9811-4352-8079-6A32A6C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B9E-B012-4788-A3A4-9003B502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DA5-D02C-4D6E-ADBC-F715B5C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D8A6-58B5-4F79-8399-20FBB57B04F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521E-6D2F-40AE-8902-B65727A22EF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e vývoji společenských systémů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595008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Friedrich August von Hayek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stém tržní koordinace je jedinečný, v rozvinuté společnosti velmi křehký a složitý – tržní mechanismus (nemůže být nahrazen žádným plánování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yž se stát rozhodne centrálně sledovat jakýkoli cíl, nutně omezuje svobodu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čenské procesy jsou výsledkem zcela spontánního jednání jednotlivců, kteří sledují své vlastní záj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orie spontánního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John Maynard Keyn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oblasti ekonomické aktivity, v nichž hraje soukromý sektor hlavní roli a do nichž by stát neměl zasahovat, přičemž existují i oblasti, v nichž stát operuje lépe než soukromý s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viditelná ruka trhu“ by měla být doplněna „viditelnou rukou stát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 tržních ekonomikác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h: Friedman vs. Key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loha „malé vlády“ (Friedm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o plnou zaměstnanost (Key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eužívání státních zásahů zájmovými skupinami (např. ČMK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rozba pro demokracii podle Fried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poruje přirozenou soutěž názorových proudů (a rozvíjí tradic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Úloha vlády v CP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tailní centrální plán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ítá trad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připouští evoluční výv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e k extrémism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 existuje jen v omezené mí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stává se do rozporu s přirozeným řádem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ede k nerespektování řádu uměl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lé dějiny ekonomického myšle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D.Brožová, VŠE Praha, Praha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agement II, Průvodce studiem, Brno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oboda vol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želé Friedmanovi, LI Praha 199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rávo, zákonodárství a svob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Hay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Osudná domýšlivost, omyly socialis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 Hayek, SLON, Praha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.M.Keynes a současná ekonom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ilan Sojka, Grada Publishing 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oluce vedoucí k vytváření řádů ve společnosti, navazující na odkaz Adama Smit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vodní evoluční teori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rozen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síly přír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ěl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člověk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ád“ podle Hay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vedlejší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ý x uměl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podílející se na spontánním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 pojetí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jako specifická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Historický vývoj politického vlivu na společenský systém</a:t>
            </a:r>
            <a:br>
              <a:rPr sz="4000"/>
            </a:b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laton  X  Aristotel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je realizací ideje spravedlnosti, která se uplatňuje ve všem a u vš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ři tří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jen pro 3. třídu – potřebovali ho k výrobě a směně zbož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rozená spravedlnost – to co člověk potřebuje k přeži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– garant této spravedlnosti a práva na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mokracie s otroctv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a větší svoboda při zacházení s 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Merkantilisté   X   Filozofové přirozených</a:t>
            </a:r>
            <a:br>
              <a:rPr sz="2800"/>
            </a:b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    zákonů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á koloniální expa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ilná instituce s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 růstu národního bohatství – zahraniční obchod (aktivní obchodní bil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atní národy považovány za soupeř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ichard II., Thomas M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o na život, právo na svobodu a právo na vlastnic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mezení lidské svobody pouze z důvodu ochrany této svobody samot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antitativní teorie peně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ohn Locke, David H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Adam Smit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spodářství má svůj přirozený řád a řídí se přirozenými zák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viditelná ruka trh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soulad sobeckého individuálního zájmu se zájmem společensk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ocesu konkurence každý výrobce poznává, že nejvýhodnější je uspokojovat potřeby druhých a přes uspokojování potřeb druhých pak vede cesta k uspokojení potřeb vlastn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Karl Heinrich Marx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ská společnost se neustále mění a vyvíjí – proto nemohou existovat žádné přirozené zákony, které by byly platné jednou provždy ani žádný společensk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 má odpovědnost za uspořádání společnosti a musí hrát významnou roli v životě společnosti i v národním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43:52Z</dcterms:created>
  <dc:creator>CIKT</dc:creator>
  <dc:description/>
  <cp:keywords/>
  <dc:language>en-US</dc:language>
  <cp:lastModifiedBy>CIKT</cp:lastModifiedBy>
  <dcterms:modified xsi:type="dcterms:W3CDTF">2006-10-03T08:44:45Z</dcterms:modified>
  <cp:revision>10</cp:revision>
  <dc:subject/>
  <dc:title>Úloha vlády ve vývoji společenských systém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