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CFA6-7AE8-42F5-9C01-BC83E27E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D18DA-CBEA-4406-A8B8-1F74CB7F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BF31-0225-4438-87C9-982A753D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D5E9-8C1F-49AD-92F5-CF2D4CAB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B558-C3B3-48C2-9014-0BA02D4C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1140-CA8F-48A6-86C8-1B921145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A1A3-3459-43F1-B98A-94B997B6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2817-28D8-446F-8040-69DFDE01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0AA9-3E2F-4F96-BD2F-118F635C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8DA5-4347-41B1-A652-9F417BD6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1C8A-7CFA-47C5-8A1B-E5FCFA3F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43F1B-1BA6-4AC5-B2FC-816F3663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056C-E6A9-442A-9EAC-651955E5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2D13-397F-4490-8910-D9618CE4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4CF4-D5C3-430A-BE90-5FA6A6E4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DDBB-29B9-4084-ABE3-F89391D3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36B2-79F3-49A4-8A07-C53F25A0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D6F1-C138-44C3-A249-6F5DFE61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7FA4-A0B3-4163-AA70-E9957B89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8EF09-DF7B-4D24-A97E-08329D75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EE5FD-B103-4F6C-BFF2-5E0F4092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2A74-D147-4AA4-8EC6-F4BEF4A6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1803-BAE0-4951-B59A-BEA26F91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E219-5C67-496E-863A-74D69642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ED97-E33F-4FFC-9B4A-3004D4CC7E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C977-136B-4E72-8BD0-68747886FE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240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000" spc="-1" strike="noStrike">
                <a:solidFill>
                  <a:srgbClr val="e5e5ff"/>
                </a:solidFill>
                <a:latin typeface="Garamond"/>
              </a:rPr>
              <a:t>Family busines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Tomáš Don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Iveta Pecharo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Kristián Sem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Hrozby pre existenci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Nepotiz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yndróm zhýčkaného dieťať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duch otca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dojenie´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Kritický okami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92000" y="2421000"/>
            <a:ext cx="583236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ff"/>
                </a:solidFill>
                <a:latin typeface="Garamond"/>
              </a:rPr>
              <a:t>NÁSTUPNÍCTVO..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Príklady 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Ford Motor Comp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. C. Johnson &amp; S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Procter &amp; Gambl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al-Mart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udva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tella Artoi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Guinnes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Mart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Zildjia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Faber-Cast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hristie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h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l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eretta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iff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ivoli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iemen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Encyclopædia Britannic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Lloyd's of Lond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ank of New York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JPMorgan Chas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American Expres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HSBC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estern Uni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itibank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North West Comp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ilkins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Goldsmith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DuPon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Pfizer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lgat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oper, Erving &amp; Savag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he Guardia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Inquirer &amp; Mirro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he Saturday Evening Post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New York Tim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Referenc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Kotey, B. (2005)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‘Are performance differences between family and non-family SMEs uniform across all firm sizes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International Journal of entrepreneurial behaviour and research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ol.11 (6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hrisman, J. J. (2005) ‘Trends and directions in the development of a strategic management theory of the family firm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Entrepreneurship: Theory and practice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lackwell Publishing Ltd., Sept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arney, M. (2005) ‘Corporate governance and competitive advantage in family-controlled firms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Entrepreneurship: Theory and practice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lackwell Publishing Ltd., M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Hanzelkova, A. (2004) ‘Re-establishing traditional czech family businesses’ Publishing Unit, University Library of Jyvaskyla, ISBN 951-39-1909-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Ďakujeme za pozornosť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Definíc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Rôzne kritá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ercentuálny podiel na fir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očet generácií spojených s podnik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Veľkosť podni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Budúce zámery (zapojenia firm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Kontrola nad strategickým rozhodovaní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očet rodinných príslušníkov vo fir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Charakteristika 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amily business je spoločnosť vlastnená, kontrolovaná a riadená členmi jednej alebo niekoľkých rodí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lastnost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kúposť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ersonalizmus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artikularismus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Rodinn</a:t>
            </a: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é podniky v Českej Republik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1. tento druh podnikov – oficiálne ešte nerozpoznaný ako špecifická forma obchodnej jednotky (na úrovni akademickej i vládnej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2. unikátna história –&gt; niekoľko špecifických skupín podnik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3. dôsledok = väčšia výzva než v rozvinutejších ekonomiká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Kategór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62744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2592360"/>
                <a:gridCol w="2962440"/>
              </a:tblGrid>
              <a:tr h="5205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oba pôsoben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l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rát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Veľkosť podnik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Veľk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obnovené tradičné rodinné 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vo založené rodinné 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Mal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obnovené tradičné živnosti a iné mikro-obch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vo založené živnosti a iné mikro-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Dôležitosť rodinných podniko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otec a syn´ x nadnárodné korporácie, ale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Benetton, Ferrerro, Ford, Estee Lauder,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Ekonomická hodnota a význ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GDP, zamestanosť – 45 - 70% (sve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Zastúpenie medzi firmamy – 70 - 95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Percento rodinných firiem z registrovaných firi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raj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Percen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Portugal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pojené Kráľovst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paniel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vajčiar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véd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alian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tredný vých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U.S.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8360" y="6308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6381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Garamond"/>
                <a:ea typeface="Arial"/>
              </a:rPr>
              <a:t>Zdroj: Neubauer a Lank,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Family vs. Non-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Práca s vlastným / cudzím kapitál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lastník = /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≠ CE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Odpovednosť rodine / vlastník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Byrokracia / možnosť obísť 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naha o dlhodobé a priateľské vzťahy / neosobnosť, formálnosť a komplexnosť v partnerských vzťaho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Prítomnosť rodiny – plus/mín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úbežné ro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Zdieľaná ident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Citové zaujatie a ambival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ýznam rodinného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13:58Z</dcterms:created>
  <dc:creator>something</dc:creator>
  <dc:description/>
  <dc:language>en-US</dc:language>
  <cp:lastModifiedBy>Tomas Donat</cp:lastModifiedBy>
  <dcterms:modified xsi:type="dcterms:W3CDTF">2006-11-06T22:47:46Z</dcterms:modified>
  <cp:revision>3</cp:revision>
  <dc:subject/>
  <dc:title>Family business</dc:title>
</cp:coreProperties>
</file>