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FE2E-F789-4813-8308-277FCB7EE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9C91-22DA-4D08-896F-A74C679F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EF52-5057-4F74-B591-C1CA4F41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0E04-5513-4F5E-920D-CE76DB1A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5276-8468-4C38-A948-9E2CCF51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2515-243B-4E8B-A56C-C5E01DEA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4C23-BEBC-4703-BE66-22DE189D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D5D4-A347-482C-BC6F-19DF5DA4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26DD-8207-4FF5-AE36-25B425B6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C228-6C52-4FDE-965A-F3709F9A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80AC-87F7-48AF-84C8-1B7AF467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9559-0193-43DE-9362-24998416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EBEA-50A9-4BD3-96CA-C3920337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C44D-718A-4BEF-BF8A-4B95B3D0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D555-CDF3-4EBB-9980-F76016CE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B72B-D0B5-4497-BA1D-6EB13CC4B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38FC-B15E-43BE-B9BC-D53B2180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F7AD-759D-48AC-A176-84E8EF3E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4BDE-ED44-4809-BEAE-AC3033C2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A5B3-CD25-4F44-A34F-918A01B4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11EF-273C-4247-BEBF-6E1EA0F4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5196-A96E-4A93-B91B-D0BB57BA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3321-72F4-479E-8CB4-4F1B4DCB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2CF4-EA55-45D2-922B-E9473CDD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D7A3-3DCA-4CD9-9B50-58C46895D6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A6E3-5A53-4295-88A8-77839F836D5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Stakeholder a identifikácia stakeholder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racovali:  Marie Kutíl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ka Kotoul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onóra Baculá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átum prezentácie: 7.11.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Čakajúci stakeholderi – 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s dvoma atribútm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489040" y="2060640"/>
            <a:ext cx="6372000" cy="4322160"/>
            <a:chOff x="2489040" y="2060640"/>
            <a:chExt cx="6372000" cy="4322160"/>
          </a:xfrm>
        </p:grpSpPr>
        <p:sp>
          <p:nvSpPr>
            <p:cNvPr id="142" name=""/>
            <p:cNvSpPr/>
            <p:nvPr/>
          </p:nvSpPr>
          <p:spPr>
            <a:xfrm>
              <a:off x="4292280" y="206064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16960" y="367740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92000" y="367740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203800" y="2859120"/>
              <a:ext cx="134820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pokoj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10160" y="4854240"/>
              <a:ext cx="168336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ľubovoľ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3360" y="4788360"/>
              <a:ext cx="177192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požadujú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61400" y="3790440"/>
              <a:ext cx="148824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nebezpeč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05360" y="3790440"/>
              <a:ext cx="147780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dominant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24040" y="5052240"/>
              <a:ext cx="92916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závisl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82480" y="4322160"/>
              <a:ext cx="132516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definitív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37320" y="2327400"/>
              <a:ext cx="66240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mo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89040" y="4254480"/>
              <a:ext cx="128268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dôležitos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77360" y="4254480"/>
              <a:ext cx="118368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legitimi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inant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legitímny nárok s mocou presadiť h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žiadna dôležitosť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ávisl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dôležitý, legitímny nárok bez moci presadiť s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závislý od ostatných (dominantných) stakeholderov alebo priazni manažérov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bezpeč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dôležitý, nelegitímny nárok s možnosťou násilného presad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Definitívni stakeholderi – 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so všetkými troma atribútm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489040" y="2060640"/>
            <a:ext cx="6372000" cy="4322160"/>
            <a:chOff x="2489040" y="2060640"/>
            <a:chExt cx="6372000" cy="4322160"/>
          </a:xfrm>
        </p:grpSpPr>
        <p:sp>
          <p:nvSpPr>
            <p:cNvPr id="158" name=""/>
            <p:cNvSpPr/>
            <p:nvPr/>
          </p:nvSpPr>
          <p:spPr>
            <a:xfrm>
              <a:off x="4292280" y="206064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16960" y="367740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92000" y="367740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03800" y="2859120"/>
              <a:ext cx="134820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pokoj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10160" y="4854240"/>
              <a:ext cx="168336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ľubovoľ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3360" y="4788360"/>
              <a:ext cx="177192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požadujú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61400" y="3790440"/>
              <a:ext cx="148824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nebezpeč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805360" y="3790440"/>
              <a:ext cx="147780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dominant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24040" y="5052240"/>
              <a:ext cx="92916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závisl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82480" y="4322160"/>
              <a:ext cx="132516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definitív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37320" y="2327400"/>
              <a:ext cx="66240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mo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89040" y="4254480"/>
              <a:ext cx="128268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dôležitos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77360" y="4254480"/>
              <a:ext cx="118368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legitimi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legitímny nárok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možnosť presaden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dôležitosť požiadavk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vyžaduje okamžitú reakciu manažment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Typológia stakeholder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43280" y="1484280"/>
            <a:ext cx="3313080" cy="2930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08360" y="3235320"/>
            <a:ext cx="3313080" cy="2930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87480" y="3235320"/>
            <a:ext cx="3313080" cy="2930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96360" y="14842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cc66"/>
                </a:solidFill>
                <a:latin typeface="Arial"/>
              </a:rPr>
              <a:t>kľud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566100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cc66"/>
                </a:solidFill>
                <a:latin typeface="Arial"/>
              </a:rPr>
              <a:t>ľubovoľ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56360" y="566100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cc66"/>
                </a:solidFill>
                <a:latin typeface="Arial"/>
              </a:rPr>
              <a:t>požadujú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0920" y="328464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ff9933"/>
                </a:solidFill>
                <a:latin typeface="Arial"/>
              </a:rPr>
              <a:t>nebezpečn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8160" y="3284640"/>
            <a:ext cx="10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ff9933"/>
                </a:solidFill>
                <a:latin typeface="Arial"/>
              </a:rPr>
              <a:t>dominantn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40000" y="5516640"/>
            <a:ext cx="68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ff9933"/>
                </a:solidFill>
                <a:latin typeface="Arial"/>
              </a:rPr>
              <a:t>závisl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22560" y="4292640"/>
            <a:ext cx="10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0000"/>
                </a:solidFill>
                <a:latin typeface="Arial"/>
              </a:rPr>
              <a:t>definitív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12000" y="177336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4360" y="38606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dôležitos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78880" y="38606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legitim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44120" y="2060640"/>
            <a:ext cx="389052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investori (prevzat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masmédi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prepustený zamestnanec (amo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03800" y="4437000"/>
            <a:ext cx="2572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jeden nespokojn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amestnan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10320" y="4292640"/>
            <a:ext cx="24778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org. pre ochran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v. prostr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univerz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obyvate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66240" y="3284640"/>
            <a:ext cx="167148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terorizm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štraj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sabotáž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44200" y="3357720"/>
            <a:ext cx="17751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zamestnan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dodávate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vlastní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22760" y="3573360"/>
            <a:ext cx="14749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-nespo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kojn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vlastní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78760" y="4630680"/>
            <a:ext cx="18802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-nespokojn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zákazní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Použitá literetúr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uknič, A.: Štvrtý rozmer podnikania – etika, Bratislava: SAP, 19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nagement II (Průvodce studiem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SF MU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itchell, R.K., Agle, B.R., Wood, D.J.: Toward a theory of stakeholder identification and salience: Defining the principle of who and what really counts, Academy of 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Kto je stakeholder?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takeholderom je každá skupina alebo individum, ktoré môže ovplyvniť dosiahnutie podnikových cieľov alebo je ovplyvnený snahou podniku  o dosiahnutie týchto cieľov“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reeman, Strategický management, 19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jednotlivec alebo skupina s určitou „stávkou“ v podni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odnik je stretom záujmu rôznych subjektov, ktorých požiadavky a záujmy treba zohľadňova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achycuje podnik v celom jeho sociálno-ekonomickom kontex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Chápe podnik ako množinu vzťah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Stakeholderské pojatie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Identifikácia stakeholder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i základné atribú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Moc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ovplyvniť podni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Legitimi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vzťahu stakeholdera ku podnik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Dôležitosť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požiadavky na podni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c0c0c0"/>
                </a:solidFill>
                <a:latin typeface="Arial"/>
              </a:rPr>
              <a:t>Tri základné atribú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M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chopnosť ovplyvniť podnik, a to nezávisle na vôli pod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aložená  na troch zdroj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átlaková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utilitárska (prospechársk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ormatívn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800" spc="-1" strike="noStrike">
                <a:solidFill>
                  <a:srgbClr val="c0c0c0"/>
                </a:solidFill>
                <a:latin typeface="Arial"/>
              </a:rPr>
              <a:t>Tri základné atribú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Legitim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edpoklad, že chovanie stakeholde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je sociálne akceptovateľné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sa zhoduje so sociálnymi hodnotami a normam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je sociálne žiadanou vlastnosť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c0c0c0"/>
                </a:solidFill>
                <a:latin typeface="Arial"/>
              </a:rPr>
              <a:t>Tri základné atribú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Dôležitos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tupeň naliehavosti, s akou si požiadavky stakeholderov vyžadujú okamžitú pozornos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ávisí 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časovej citlivos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kritickosti (teda aká je kritická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Typológia stakeholder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84360" y="1484280"/>
            <a:ext cx="7378200" cy="4681440"/>
            <a:chOff x="684360" y="1484280"/>
            <a:chExt cx="7378200" cy="4681440"/>
          </a:xfrm>
        </p:grpSpPr>
        <p:sp>
          <p:nvSpPr>
            <p:cNvPr id="111" name=""/>
            <p:cNvSpPr/>
            <p:nvPr/>
          </p:nvSpPr>
          <p:spPr>
            <a:xfrm>
              <a:off x="2843280" y="1484280"/>
              <a:ext cx="3313080" cy="2930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08360" y="3235320"/>
              <a:ext cx="3313080" cy="2930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87480" y="3235320"/>
              <a:ext cx="3313080" cy="2930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25800" y="2349360"/>
              <a:ext cx="13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cc66"/>
                  </a:solidFill>
                  <a:latin typeface="Arial"/>
                </a:rPr>
                <a:t>pokoj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66160" y="4508640"/>
              <a:ext cx="168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cc66"/>
                  </a:solidFill>
                  <a:latin typeface="Arial"/>
                </a:rPr>
                <a:t>ľubovoľ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80360" y="4437000"/>
              <a:ext cx="177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cc66"/>
                  </a:solidFill>
                  <a:latin typeface="Arial"/>
                </a:rPr>
                <a:t>požadujú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18160" y="3357720"/>
              <a:ext cx="148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ff9933"/>
                  </a:solidFill>
                  <a:latin typeface="Arial"/>
                </a:rPr>
                <a:t>nebezpeč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44000" y="3357720"/>
              <a:ext cx="147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ff9933"/>
                  </a:solidFill>
                  <a:latin typeface="Arial"/>
                </a:rPr>
                <a:t>dominant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69440" y="472428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ff9933"/>
                  </a:solidFill>
                  <a:latin typeface="Arial"/>
                </a:rPr>
                <a:t>závisl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80720" y="3933720"/>
              <a:ext cx="132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ff0000"/>
                  </a:solidFill>
                  <a:latin typeface="Arial"/>
                </a:rPr>
                <a:t>definitív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12000" y="177336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000000"/>
                  </a:solidFill>
                  <a:latin typeface="Arial"/>
                </a:rPr>
                <a:t>mo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360" y="386064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000000"/>
                  </a:solidFill>
                  <a:latin typeface="Arial"/>
                </a:rPr>
                <a:t>dôležitos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78880" y="3860640"/>
              <a:ext cx="118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000000"/>
                  </a:solidFill>
                  <a:latin typeface="Arial"/>
                </a:rPr>
                <a:t>legitimi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2489040" y="2060640"/>
            <a:ext cx="6372000" cy="4322160"/>
            <a:chOff x="2489040" y="2060640"/>
            <a:chExt cx="6372000" cy="4322160"/>
          </a:xfrm>
        </p:grpSpPr>
        <p:sp>
          <p:nvSpPr>
            <p:cNvPr id="125" name=""/>
            <p:cNvSpPr/>
            <p:nvPr/>
          </p:nvSpPr>
          <p:spPr>
            <a:xfrm>
              <a:off x="4292280" y="206064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16960" y="367740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92000" y="367740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04160" y="2859120"/>
              <a:ext cx="136476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Pokoj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10160" y="4854240"/>
              <a:ext cx="168336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ľubovoľ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73360" y="4788360"/>
              <a:ext cx="177192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požadujú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61400" y="3790440"/>
              <a:ext cx="148824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nebezpeč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05360" y="3790440"/>
              <a:ext cx="147780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dominant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24040" y="5052240"/>
              <a:ext cx="92916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závisl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82480" y="4322160"/>
              <a:ext cx="132516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definitív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7320" y="2327400"/>
              <a:ext cx="66240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mo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89040" y="4254480"/>
              <a:ext cx="128268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dôležitos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77360" y="4254480"/>
              <a:ext cx="118368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legitimi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8840" y="299520"/>
            <a:ext cx="79563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Latentní stakeholderi – 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s jedným atribút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koj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moc a schopnosť presadiť sa sú k dispozíci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legitimita a dôležitosť chýbaj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ľubovoľ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majú legitímny nár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chýba im moc a dôležitosť požiadavi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žadujú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dôležitá, ale nelegitímna požiadavka, vyžadujú pozornosť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žiadna moc presadiť sa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14:15:00Z</dcterms:created>
  <dc:creator> Nonuly</dc:creator>
  <dc:description/>
  <dc:language>en-US</dc:language>
  <cp:lastModifiedBy> Nonuly</cp:lastModifiedBy>
  <dcterms:modified xsi:type="dcterms:W3CDTF">2006-11-06T07:58:10Z</dcterms:modified>
  <cp:revision>16</cp:revision>
  <dc:subject/>
  <dc:title>Snímek 1</dc:title>
</cp:coreProperties>
</file>