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FA9C-00B1-4A72-9176-E6733E15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F83-B1AD-4EF2-8ACB-63C04832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793-84AB-44A1-BB8C-615307C3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C0B-2707-4E63-B2B5-05FCFB88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59C4-AADE-431A-BCF1-2099426F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0EBF-6C1B-4BCF-8DC3-F86BAF65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5675-D22F-4C90-9914-6FE8884E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7AFA-1777-49AC-86C4-8479D1EC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783D-6660-4818-AD75-6995B02E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347D-8B3F-49A5-87A1-A321393B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63A7-F632-4D93-ADE4-4E6BEDCD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4AB-2AA3-44D4-8AC2-E1626E96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46A3-4F43-4C1D-9504-67187966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CB39-2D24-4608-98AC-A76E3D81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8D6B-3A17-4B21-9CF4-41999694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8AC9-AFB4-4FB6-8BA9-2080F9F6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C3DF-7800-4044-B739-BEA57F27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61978-B126-4CD3-8973-5D87CD4F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047C5-C46B-4F08-A86E-E5AF3134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5C76A-31C9-45E5-9C62-51BD4220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D60E2-8835-4694-AA31-156EF719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926CF-27E4-4578-94D7-A251727E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2042-05CE-4B61-A2E6-212FF099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102A2-EB52-4A5D-B4EA-298960AA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DCCDD-6522-416F-8337-70CBF856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BD789-682A-4173-8D49-FB4BD8F8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55F42-A028-49D7-A80C-77CBC52B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B2104-C5CB-4F3F-A830-27CF7F25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671CD-0BA3-4C22-B803-8C5EC83B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CDADB-EC17-427A-BD6C-66404E83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595C6-41E3-4C75-B2B9-FD6097A7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3F611-0AE7-46BC-9ABB-71937084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25465-25A3-4F0A-9BFD-6210383A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4E0-80EE-4A6D-A29C-79C7C1FD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C617A-DE54-47CC-BAB0-6ACE68D8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99EF5-BD87-49CF-BDE3-02BC265B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DD09A-EE12-4626-9613-6EC2C775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DD68F-5EDE-45EA-B94F-DB808D84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79A51-0AFE-4E23-AE82-FB67535A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958C6-F14B-442D-B371-36BA729B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327B3-428E-4F8B-BED2-A7F0B8FF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34C42-9DAE-45A3-A735-FCF071EA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9CBDC-B366-4A88-81C6-5768A6C4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426-CEEA-4088-9958-B13C17A8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9F2-94BA-432E-80AC-4411AE28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FE7-5D97-479E-B9EC-938FBE2F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460-803E-493F-AE83-195B75AE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2392-7547-47C3-A1D1-537774BB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576B-D396-4CBC-9B5A-001D306BB75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2135160"/>
            <a:ext cx="518148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4C8A-C2FD-4292-B23B-9772BA96A6EF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cifair_INSIDE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0FE5-9350-49EE-8E89-74C851E7EDF0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scifair_front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D09C-000D-4BCA-9F26-E406B5BB85E2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7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ítě podniků –Japonské řídící systém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248520" y="51051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Michal Kozub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etr Novotný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liam Štefánik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1.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Výroba je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v čase konstant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Nedochází 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řetěžován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výrobních faktorů, ale ani k jejich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zahál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Opak výroby „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lyn – brzda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Výroba je rozdělena ja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odle množstv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, ta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odle druhů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vyráběné produ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růměruje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objednávky za určitou časovou periodu a rozdělí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Každý den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je vyráběno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stejné množstv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a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stejný produktový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CD28F-C738-46A1-BB3E-B58CC9E903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rovnání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705520" cy="5548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72000" y="762120"/>
            <a:ext cx="0" cy="556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685800"/>
            <a:ext cx="0" cy="5791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6179F-8C52-4690-88A0-4EE401FD3C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diční způsob výroby Obr.: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Nejvíce vyrábí ten druh výrobku, kterého potřebuje vyrobit nejví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K výrobě jiného druhu výrobku potřeba předělat lin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Tradiční způsob výroby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s sebou nese následující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roblémy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Zákazníci nekupují zbož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předvídatelně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, když bude chtít velké traktory počátkem týdne, musí si počkat do pátk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Riziko, že se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zbož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neprodá a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skonč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ve sklad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Nevyrovnané užití přístroj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Nárazové objednávky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u dodavatel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DB3E0-4664-43E3-B419-C3D4CA2429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 Obr.: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Univerzální výrobní linka – odpadá potřeba přenastav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Linka je schopná produkovat různé typy traktorů v libovolném pořad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imes New Roman"/>
              </a:rPr>
              <a:t>Tento systém má následující výhody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Systém schopný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ružně reagovat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na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řání zákazník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Snižuje se riziko neprodaného zboží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Užití pracovní síly a strojů v čase je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konstantní 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– nedochází ani k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řetěžování 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ani k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nevyužití kapaci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Spotřeba materiálu je předvídatelná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, po dodavatelích je vyžadováno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rovnoměrné zásobování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Heijunka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omezuje plýtvání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tím, že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rozkládá požadavky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na své pracovníky, strojní vybavení a dodavatel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92345-1807-446C-803C-946AB8A95E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4600" y="2666880"/>
            <a:ext cx="84567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Vznik v Toyot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Založen na tzv. signálních kartá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Základ tzv. pull systém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5244E-464E-4591-8CAD-9048034204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Výhody Kanbanu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2680" y="2666880"/>
            <a:ext cx="86090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Jednoduché proc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oskytuje rychlou a přesnou inform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Nízké náklady spojené ze získáním informac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Minimalizuje odp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řenáší zodpovědnost na konkrétní zaměstnance ve výrob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4F2FA-95D5-42BB-800A-E548695400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 v Japonsk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Modulární produk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Výrobní linky ve tvaru „U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reventivní údržba/maximální zabránění poruchám a vad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Hromadná výroba několika model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A7BA0-5235-4B0E-ADD2-CB4D38D337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kladový Kanban v TP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Každému materiálu je přiřazeno referenční čís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kombinace 10 písmen a čísl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registrované v Shizai systému (systému evidence zásob a jejich dodavatel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Při odběru ze skladu – automatická objednáv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Zamezení zbytečného objedná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455D6-1322-4AD0-B1B4-528E602113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kladový Kanban v TP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Dodavatel povinen potvrdit objednávku do 2 ho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Zároveň tisk očekávané objednávky a příprava nové Kanban k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CBEBA-7E76-408A-BD43-3CFDA10D4B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 kar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001000" cy="430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D1927-DC24-461B-A4C3-70E2C7B15A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ítě podniků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2680" y="2666880"/>
            <a:ext cx="86090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Změny organizačních strukt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Rozmach outsorcing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naha minimalizovat nákl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pojování do sí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4495680"/>
            <a:ext cx="8380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D8A43-60D2-41D4-889A-3321519492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užitá literatur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Just In Time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3 [cit. 2006-11-02]. Dostupný z WWW: &lt;http://www.prd.usp.br/disciplinas/docs/pro5760/JIT_HOPP&amp;SPEARMAN.pdf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OLSSON, Johan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Kanban-an Integrated JIT System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1996 [cit. 2006-11-02]. Dostupný z WWW: &lt;http://www.geocities.com/timessquare/1848/japan21.html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FUKSA, Radim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Kanbanový systém ve společnosti TPCA Czech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5 , 17.2.2005 [cit. 2006-11-04]. Dostupný z WWW: &lt;http://www.cvis.cz/index_cz.htm&gt;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JAKOUBKOVÁ, Iva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Just-in-time : přínosy, negativní stránky, uplatnění v praxi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. Brno, 2003. 37 s. Masarykova Univerzisa v Brně, Ekonomicko-správní fakulta. Vedoucí bakalářské práce Ing. Radoslav Škapa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McBRIDE, David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Heijunka : Leveling the Load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4 [cit. 2006-11-06]. Dostupný z WWW: &lt;http://www.emsstrategies.com/dm090804article.html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49902-00FE-402E-B6E4-17B6CCEABC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-360" y="2209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99"/>
                </a:solidFill>
                <a:latin typeface="Times New Roman"/>
              </a:rPr>
              <a:t>Děkujeme za pozorno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1F00-5D4C-43A3-A8D3-BF4AA1E5C3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Supply </a:t>
            </a: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hain </a:t>
            </a: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polupráce  podniků v určitých oblastech za ůčelem získání konkurenční výhod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 algn="ctr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Základy v japonském stylu říz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CM vs. kar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maximalizace zisku cestou znižování nákladů prostř. koordinace a komunikace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78c6f"/>
                </a:solidFill>
                <a:latin typeface="Times New Roman"/>
              </a:rPr>
              <a:t>vs</a:t>
            </a:r>
            <a:r>
              <a:rPr b="0" lang="cs-CZ" sz="3200" spc="-1" strike="noStrike">
                <a:solidFill>
                  <a:srgbClr val="7beb8e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max. zisku omezením konku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D4B38-98AE-4F18-851B-CC1A57893A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SC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48006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upply chain management – jen logistický ob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" y="1752480"/>
            <a:ext cx="74592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Základní kámen SCM = „win-win“ situ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=spolupráce v co největší míř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       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maximální důvě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396252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7beb8e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BB25D-85F2-4585-8157-6B1823DCCC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učásti SC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trategie držení zás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řesun materiálů nebo výrobků (včetně fyzické manipulace, sběru, shromažďování a doprav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odpůrné procesy (marketing, výzkum a vývoj, zpracování objednávek, fakturace a přijímání plate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IT systémy  (e-busi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optimalizaci služeb zákazníků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výrobu produkt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333B-64FC-4773-A2CF-74E9778F12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Just in ti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Cíl: minimalizace ztrát během celého procesu výro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Působí  na své okolí – stakehodl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Toyota Production System (T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even zer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6E6C5-6410-49CA-823E-3EB4E17E96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Seven zero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á zmetkovost (zero defect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časy seřizování (zero setup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zásoby(zero lot siz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žádná manipulace(zero handling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žádné přerušení (zero breakdown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časy dodávky(zero lead ti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kolísání (zero surf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254B0-9A3F-4713-9AEF-0E0BB4278A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vky JI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6699"/>
                </a:solidFill>
                <a:latin typeface="Times New Roman"/>
              </a:rPr>
              <a:t>Heijunka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-  fixní množství vstupů a výstup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6699"/>
                </a:solidFill>
                <a:latin typeface="Times New Roman"/>
              </a:rPr>
              <a:t>Jidoka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- zaměstnancům zodpovědnost za produkc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       </a:t>
            </a: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- pravomoc zastavit výrob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A7784-8BCC-4412-92D4-03A643FADE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The slower but consistent tortoise causes less waste and is much more desirable than the speedy hare that races ahead and then stops occasionally to doze“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895480" y="3657600"/>
            <a:ext cx="3048120" cy="24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E4F0D-D999-4219-AC0D-B3D915CE8E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l Kozub</cp:lastModifiedBy>
  <dcterms:modified xsi:type="dcterms:W3CDTF">2006-11-06T22:58:2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