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F8D-CA1A-42A6-9A7D-625BEA71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5A0-C8EB-4F1D-A30F-4F07F6C5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024-B4DB-4DA9-87D1-2712F084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21A-05BE-432A-900A-7F21E318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03CF-83AE-4EDF-A10E-A677CA23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B9C1-2290-4936-9864-C1B3BDEE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2439-28E3-4DEA-8D6D-4F842990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1F62-1EAC-4413-ACCD-29619E8F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3BDE-FF29-407B-A411-0922DCB5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39DB-C253-48BE-B160-2D10EF79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6FCD-AF7D-4181-B84F-B18264AC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983-DF81-414C-9A8D-AB368D67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530F-AC86-4C28-8C15-71F9FC8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9BA9-702C-4BD4-B07E-8A5C54B4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F37B-0D6B-425A-9748-10937F8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9DB4-A6DF-4331-9AEA-09E3EFA4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7F99-CCAA-4155-95FD-49A0767B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D09-4EFE-4A45-BA40-30252C2B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63C-1F8E-4EB9-95DA-F878953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E6A-E102-4C5B-BD9D-867DE85F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37B-00C9-4319-A9CE-728FA7A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7C4-073E-47CD-91FF-BBB7628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AE6-7E83-4181-B56A-5818D6AB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6B6-1B4A-48EE-9432-9CEF944F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F322-A3A1-4037-B3E2-F0EA09BF3F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819B-5F81-4414-83C1-3C75EDC64F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žerská kuchař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pt na vysoce zhodnoc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3198960"/>
            <a:ext cx="37324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ůležité, ale zaměřme se na „jak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751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s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pitál, ale ne mn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hadem 3 os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k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řeš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3232080"/>
            <a:ext cx="4390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to namíchat? Aneb podniková kul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izpůsobovat lidi úkolům, ale úkoly li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vztah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íl na riziku i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ředí pro dozrání „nápadů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4288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čení aneb ekonomická stránka vě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2550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é produkty spojené se služb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ávat „řešení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jít „nicku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 najímat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ízká míra fixní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4487760"/>
            <a:ext cx="363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ůžeme servírovat aneb jak by to mělo dopadno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inu zisku berou 3 klíčové po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ej podniku větš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na „tradiční“ podni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62400" y="1905120"/>
            <a:ext cx="3436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630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ngující podnik – Y soft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o prodat – </a:t>
            </a:r>
            <a:r>
              <a:rPr b="0" lang="cs-CZ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youtub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– www.googl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2376360" cy="88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7372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…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 a těšíme se na příš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CH, R. B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ílo národů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ha: Prostor, 1995. ISBN 80-85190-34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ŽEK, L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MENT 2 – průvodce studiem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no: ESF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00:55Z</dcterms:created>
  <dc:creator>Loser</dc:creator>
  <dc:description/>
  <dc:language>en-US</dc:language>
  <cp:lastModifiedBy>Loser</cp:lastModifiedBy>
  <dcterms:modified xsi:type="dcterms:W3CDTF">2006-11-06T20:54:25Z</dcterms:modified>
  <cp:revision>2</cp:revision>
  <dc:subject/>
  <dc:title>Manažerská kuchařka</dc:title>
</cp:coreProperties>
</file>