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3790-6C00-4DAF-9C5E-6440F6B6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712B-E645-4750-9F43-38A88FBD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C0EE-B6DB-4E32-8B15-45E7FD85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C3DA-47FF-41DF-8384-FFF759C7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EAB3-2293-4487-8B18-B70A74A4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8445-33DA-4684-9BBA-61DBA452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A4EE-F133-408D-BE81-16190972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C3F2-1A15-4BFE-9B13-ADB07A53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6D1E-8637-4C55-A5FB-9C0B1396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237F-B032-4CEB-8542-49807879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1B0C-8151-4C17-9CCC-E18062E1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5022-BE0D-4661-9A6F-52A585BD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5611-12D8-49EB-98E2-D41705BE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E4F1-85CE-48B3-9ABA-2DCFE99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80F7-E205-4C60-9D9B-63449A4F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B10F-4600-422C-A5FD-496BB186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82FC-D35D-498D-9814-13CA24FA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45DA-08DF-4F10-918B-20B23F84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D47A-058F-47F2-A312-2A25A6E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5DFD-4912-419A-8E2B-4BF14D13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FE04-6633-48BC-B0E4-4AD0D21F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CAC6-EC99-4C33-8AC7-3AE98B65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3647-7FD7-4F9D-B6C2-A22854D1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62EA-6A8A-4AF0-AC03-322BDCE9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44B2-0ADB-4932-B72B-0C89BCA44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C0EE-CDE5-4361-829E-4A3A0B1926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240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e5e5ff"/>
                </a:solidFill>
                <a:latin typeface="Garamond"/>
              </a:rPr>
              <a:t>Family busine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máš Don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Iveta Pechar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Hrozby pre existenci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Nepot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yndróm zhýčkaného dieťať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uch otca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ojenie´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ritický okami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92000" y="2421000"/>
            <a:ext cx="583236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ff"/>
                </a:solidFill>
                <a:latin typeface="Garamond"/>
              </a:rPr>
              <a:t>NÁSTUPNÍCTVO..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klady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ord Motor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. C. Johnson &amp; S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rocter &amp; Gambl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al-Mar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udva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tella Artoi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uinn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Mar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Zildj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aber-Cas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hristie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h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eretta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ff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voli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iemen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Encyclopædia Britannic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Lloyd's of Lond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ank of New Yor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JPMorgan Chas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American Expr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HSBC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estern Uni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itiban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orth West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ilkins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oldsmith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DuPo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fizer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ga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oper, Erving &amp; Savag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Guard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Inquirer &amp; Mirr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Saturday Evening Pos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Referenc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Kotey, B. (2005)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‘Are performance differences between family and non-family SMEs uniform across all firm size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International Journal of entrepreneurial behaviour and research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ol.11 (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hrisman, J. J. (2005) ‘Trends and directions in the development of a strategic management theory of the family firm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Sept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arney, M. (2005) ‘Corporate governance and competitive advantage in family-controlled firm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M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anzelkova, A. (2004) ‘Re-establishing traditional czech family businesses’ Publishing Unit, University Library of Jyvaskyla, ISBN 951-39-1909-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efiníc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Rôzne kritá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ercentuálny podiel na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generácií spojených s podnik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Veľkosť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udúce zámery (zapojenia firm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ontrola nad strategickým rozhodovaní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rodinných príslušníkov vo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Charakteristika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amily business je spoločnosť vlastnená, kontrolovaná a riadená členmi jednej alebo niekoľkých rodí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o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kúposť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ersonaliz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rtikularis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odinn</a:t>
            </a: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é podniky v Českej Republik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1. tento druh podnikov – oficiálne ešte nerozpoznaný ako špecifická forma obchodnej jednotky (na úrovni akademickej i vládnej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2. unikátna história –&gt; niekoľko špecifických skupín podni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3. dôsledok = väčšia výzva než v rozvinutejších ekonomik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ategór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62744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2592360"/>
                <a:gridCol w="2962440"/>
              </a:tblGrid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oba pôsoben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l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át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osť podni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Mal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živnosti a iné mikro-obch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živnosti a iné mikro-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ôležitosť rodinných podniko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otec a syn´ x nadnárodné korporácie, ale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enetton, Ferrerro, Ford, Estee Lauder,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Ekonomická hodnota a význ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GDP, zamestanosť – 45 - 70% (sve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Zastúpenie medzi firmamy – 70 - 9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Percento rodinných firiem z registrovaných firi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aj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ercen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ortuga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pojené Kráľovst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panie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ajčiar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éd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alian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tredný výc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U.S.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8360" y="6308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6381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  <a:ea typeface="Arial"/>
              </a:rPr>
              <a:t>Zdroj: Neubauer a Lank,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Family vs. Non-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Práca s vlastným / cudzím kapitál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ík = /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≠ CE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Odpovednosť rodine / vlastník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Byrokracia / možnosť obísť 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naha o dlhodobé a priateľské vzťahy / neosobnosť, formálnosť a komplexnosť v partnerských vzťah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tomnosť rodiny – plus/mín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úbežné ro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Zdieľaná ident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Citové zaujatie a ambival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ýznam rodinného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13:58Z</dcterms:created>
  <dc:creator>something</dc:creator>
  <dc:description/>
  <dc:language>en-US</dc:language>
  <cp:lastModifiedBy>Tomas Donat</cp:lastModifiedBy>
  <dcterms:modified xsi:type="dcterms:W3CDTF">2006-11-06T22:47:46Z</dcterms:modified>
  <cp:revision>3</cp:revision>
  <dc:subject/>
  <dc:title>Family business</dc:title>
</cp:coreProperties>
</file>