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B69-5129-406E-B0F7-ADEC227A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2B1-66FA-4E8F-BA96-1D963AFB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838-1EF2-4454-9DF3-4C339018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227-7C38-45A5-83E3-B3B7383A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053B-54F0-4FD6-8F39-DF671F7F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E0FC-8E9F-4BEC-A722-2BB3ED18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E513-0015-4217-B54E-E71C0608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7FA6-13FA-4BEB-A605-C7BFDD9F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F87A-0A69-4DB3-91A9-C0C61F17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3798-ED1F-4D44-AC69-BAC51523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2A52-DCBE-465E-B272-4CEFD2BE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A88-ACE0-4464-9F21-BB409F8C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4422-40EA-408F-812A-278E3849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36C0-C75D-4FFF-80D3-5893B0D7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1C69-56CC-463B-98E4-F926FBF4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4B7C-BC2A-4AB2-8F94-686DEFA2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1BEF-8D64-417E-AA76-23C1B5B2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8201-6C0A-4FA8-88EE-9A73C257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238F9-2730-4F8C-9D6E-0D34EA17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0416-738A-4CB8-B468-1F3A82CA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9A16-A555-4FC1-90D7-515FB2A4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3FB5-C5E2-43E6-AEC3-208FB62F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3C9-B090-423E-95A0-34D63D02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9982B-9A64-4788-9094-128AEE8F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B5C6-6A4A-49D5-B57B-34485D0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4C7F-B1F1-478F-A93D-3932A57E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A260-5981-4E52-B923-FEDD89A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B4DA-E68B-4C88-80DD-B81FA0C3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E2F57-2F0C-4CF9-8F66-3ACD4857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078B-FFAE-42D5-BA02-40ED7100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2D77D-A62D-4B62-8387-7D4F493E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D9D1-9AC6-47EF-917E-46B16148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386A9-071C-4037-AD0B-DADFEBF2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B4B-0698-4011-BA08-49002B9A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5356-B690-40CE-B1A9-D26A061D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E9A5-4154-41D5-AF67-EF497792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13CB4-BA34-4E2E-AC8F-118C5FDE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B8161-0759-4B3C-8346-6C3F2F1B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590D6-160F-4B96-9EA2-8AED7354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A9D4F-B45B-4ECE-A12C-16A077B5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57043-D74F-40AA-BF4C-E511F3A8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38FB9-7856-4FFB-861A-7FF39B0F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51E8-C2B2-457D-83B9-EDDED88D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F52-8C8E-4F39-9924-72D79319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F5D-2FC3-4222-9E84-333FAC30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DB0-688B-48E6-81C4-6FE51303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660-31B0-4834-9F83-F39DE20C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D4F-20E1-438D-A74C-8016E54F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AF27-9C36-4772-BC79-42644666003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E274-1539-4672-B4A9-45D9ED627EB9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cifair_INSIDE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3356-960F-4EFA-8311-A0A230045450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cifair_front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2682-B2A3-4278-82D0-36B7DDE3E169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ítě podniků –Japonské řídící systém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248520" y="51051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ichal Kozub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etr Novotný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liam Štefánik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1.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v čase konstan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Nedochází 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řetěžován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ýrobních faktorů, ale ani k jejich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zahál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Opak výroby „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lyn – brzda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rozdělena j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, t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druhů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yráběné produ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ůměruje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objednávky za určitou časovou periodu a rozděl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aždý den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je vyráběno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é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a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ý produktový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8510-B5B1-4440-99D7-E0E8CFB1A0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rovnán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705520" cy="5548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0" y="762120"/>
            <a:ext cx="0" cy="556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685800"/>
            <a:ext cx="0" cy="5791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70A1-FACC-4B08-9B74-EDED9D6151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diční způsob výroby Obr.: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Nejvíce vyrábí ten druh výrobku, kterého potřebuje vyrobit nejví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 výrobě jiného druhu výrobku potřeba předělat lin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Tradiční způsob výrob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s sebou nese následující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oblém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ákazníci nekupují 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předvídatelně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, když bude chtít velké traktory počátkem týdne, musí si počkat do pátk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Riziko, že se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neprodá a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skonč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ve sklad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evyrovnané užití přístroj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árazové objednávky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u dodavatel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E5CC-1BC6-41E9-AB14-6648BB8D8C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 Obr.: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Univerzální výrobní linka – odpadá potřeba přenastav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Linka je schopná produkovat různé typy traktorů v libovolném pořad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Tento systém má následující výhody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Systém schopný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ružně reagovat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ání zákazník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nižuje se riziko neprodaného zbož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Užití pracovní síly a strojů v čase j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konstant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– nedochází 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etěžová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nevyužití kapac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potřeba materiálu je předvídatelná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, po dodavatelích je vyžadováno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vnoměrné zásobován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Heijunk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omezuje plýtvání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tím, ž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zkládá požadavky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své pracovníky, strojní vybavení a dodavate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BA18-98D0-4D9B-8D97-0AF1F009EE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4600" y="2666880"/>
            <a:ext cx="8456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Vznik v Toyo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aložen na tzv. signálních kartá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áklad tzv. pull systém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94C7-10C1-462A-A1E3-0AC36F25FE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Výhody Kanbanu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Jednoduché proc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skytuje rychlou a přesnou info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Nízké náklady spojené ze získáním informa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inimalizuje od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náší zodpovědnost na konkrétní zaměstnance ve výrob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4E51-4EBC-41E0-BC8A-14BD1EE560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v Japonsk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odulární produk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Výrobní linky ve tvaru „U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reventivní údržba/maximální zabránění poruchám a vad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Hromadná výroba několika mode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CF4C-3FE6-44CA-BCB9-57B325AAE2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aždému materiálu je přiřazeno referenční čís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ombinace 10 písmen a čís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registrované v Shizai systému (systému evidence zásob a jejich dodavate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Při odběru ze skladu – automatická objednáv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Zamezení zbytečného objedn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028C3-D622-4981-A365-9FB31338E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Dodavatel povinen potvrdit objednávku do 2 ho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ároveň tisk očekávané objednávky a příprava nové Kanban k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36D4-F74A-4974-9140-54396A9664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kar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001000" cy="43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7BBBB-31FE-4815-9613-ADEE8DB8F2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ítě podnik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měny organizačních strukt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Rozmach outsorcin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naha minimalizovat nákl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pojování do sí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495680"/>
            <a:ext cx="8380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9738-B9B6-40EF-9C1C-0595ECD2FF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užitá literatur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 In Time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3 [cit. 2006-11-02]. Dostupný z WWW: &lt;http://www.prd.usp.br/disciplinas/docs/pro5760/JIT_HOPP&amp;SPEARMAN.pdf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OLSSON, Johan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-an Integrated JIT System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1996 [cit. 2006-11-02]. Dostupný z WWW: &lt;http://www.geocities.com/timessquare/1848/japan21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FUKSA, Radim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ový systém ve společnosti TPCA Czech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5 , 17.2.2005 [cit. 2006-11-04]. Dostupný z WWW: &lt;http://www.cvis.cz/index_cz.htm&gt;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JAKOUBKOVÁ, Iva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-in-time : přínosy, negativní stránky, uplatnění v praxi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. Brno, 2003. 37 s. Masarykova Univerzisa v Brně, Ekonomicko-správní fakulta. Vedoucí bakalářské práce Ing. Radoslav Škapa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McBRIDE, David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Heijunka : Leveling the Load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4 [cit. 2006-11-06]. Dostupný z WWW: &lt;http://www.emsstrategies.com/dm090804article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D4315-435B-46C3-9064-DA812B565F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Times New Roman"/>
              </a:rPr>
              <a:t>Děkujeme za pozorno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3D7A-31DB-4B6D-8E9C-218AD9062B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upply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hain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olupráce  podniků v určitých oblastech za ůčelem získání konkurenční výhod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Základy v japonském stylu ří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CM vs. kar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imalizace zisku cestou znižování nákladů prostř. koordinace a komunikace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78c6f"/>
                </a:solidFill>
                <a:latin typeface="Times New Roman"/>
              </a:rPr>
              <a:t>vs</a:t>
            </a:r>
            <a:r>
              <a:rPr b="0" lang="cs-CZ" sz="3200" spc="-1" strike="noStrike">
                <a:solidFill>
                  <a:srgbClr val="7beb8e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. zisku omezením konku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7803-EE12-46A8-B03F-EF8258B742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4800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upply chain management – jen logistický o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" y="1752480"/>
            <a:ext cx="74592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Základní kámen SCM = „win-win“ situ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=spolupráce v co největší míř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maximální důvě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396252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7beb8e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00D9-F64E-4970-BA82-1D1CE9BB1F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části 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trategie držení zás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sun materiálů nebo výrobků (včetně fyzické manipulace, sběru, shromažďování a doprav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dpůrné procesy (marketing, výzkum a vývoj, zpracování objednávek, fakturace a přijímání plat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IT systémy  (e-busi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optimalizaci služeb zákazníků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výrobu produk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B9C0-4F60-4401-8D2F-362381D6D0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Just in ti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Cíl: minimalizace ztrát během celého procesu výro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ůsobí  na své okolí – stakehodl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Toyota Production System (T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even ze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DAF3-EF79-4EB6-8A3D-F91B0B4255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even zero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á zmetkovost (zero defect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seřizování (zero setup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zásoby(zero lot siz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á manipulace(zero handling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é přerušení (zero breakdown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dodávky(zero lead ti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kolísání (zero surf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D9DB-9526-4B8F-B56B-1DC339A87D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vky JI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Heijun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 fixní množství vstupů a výstup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Jido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zaměstnancům zodpovědnost za produk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       </a:t>
            </a: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- pravomoc zastavit výrob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658B2-C22B-4401-91B2-D0C3606DAD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he slower but consistent tortoise causes less waste and is much more desirable than the speedy hare that races ahead and then stops occasionally to doze“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048120" cy="24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0C2FD-42AC-45D0-9A88-88025D2989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l Kozub</cp:lastModifiedBy>
  <dcterms:modified xsi:type="dcterms:W3CDTF">2006-11-06T22:58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