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09DE-6828-4ADC-8D5A-C092E45A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A57-8840-4FEA-AAFC-6AAEC9D6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C98-959A-469E-A206-A4BD39E5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C1A-E4E6-46D1-A830-62B4FEB9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A731-989A-4AA3-995E-8FE012F0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06D7-7AF9-48C7-8EF1-C6C9158C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C321-17BB-4A11-A788-61F01B1D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12D9-FA2A-4091-B925-6005216A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830E-3BAE-40B0-A474-34FF98B7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82E1-DC21-4CA0-8485-811B9758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759F-25C7-4F07-82FD-FE426899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8D9-8467-47C5-B1A6-1B592CCA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6D3D-EEA0-44AD-B3CE-62A64273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E72B-42A9-469C-B196-81799F7D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0C60-4362-4D86-BD8A-441B89A8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5715-84E6-4372-AF2E-7BF17F92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AF14-A510-48DA-AA21-A1BC8C3F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186-7E77-450B-96FA-7B59E7BD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5C3-262A-40A3-8825-1469AE0F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46C-36D8-4FBC-B898-1120C770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7CB-6995-47CC-8AB4-2C015B56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2AC-DB6C-4926-98F9-C8C2D72E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05BC-FAB0-42A3-82B0-BD1CBBDE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03D-DF94-4A4C-9B10-160DA6CE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9565-5961-41AA-8F66-957A788A5A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4928-79F6-40F1-B37F-98A72C990C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Stakeholder a identifikácia stakeholder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racovali:  Marie Kutíl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ka Kotoul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onóra Bacul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átum prezentácie: 7.11.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Čakajúci stakeholderi –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 dvoma atribút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489040" y="2060640"/>
            <a:ext cx="6372000" cy="4322160"/>
            <a:chOff x="2489040" y="2060640"/>
            <a:chExt cx="6372000" cy="4322160"/>
          </a:xfrm>
        </p:grpSpPr>
        <p:sp>
          <p:nvSpPr>
            <p:cNvPr id="142" name=""/>
            <p:cNvSpPr/>
            <p:nvPr/>
          </p:nvSpPr>
          <p:spPr>
            <a:xfrm>
              <a:off x="4292280" y="206064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1696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9200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03800" y="2859120"/>
              <a:ext cx="134820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10160" y="4854240"/>
              <a:ext cx="16833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3360" y="4788360"/>
              <a:ext cx="177192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61400" y="3790440"/>
              <a:ext cx="148824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05360" y="3790440"/>
              <a:ext cx="147780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24040" y="5052240"/>
              <a:ext cx="929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2480" y="4322160"/>
              <a:ext cx="1325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37320" y="2327400"/>
              <a:ext cx="6624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89040" y="4254480"/>
              <a:ext cx="1282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77360" y="4254480"/>
              <a:ext cx="1183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inant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legitímny nárok s mocou presadiť h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žiadna dôležitos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ávisl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ý, legitímny nárok bez moci presadiť 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závislý od ostatných (dominantných) stakeholderov alebo priazni manažér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bezpeč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ý, nelegitímny nárok s možnosťou násilného presad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Definitívni stakeholderi –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o všetkými troma atribút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489040" y="2060640"/>
            <a:ext cx="6372000" cy="4322160"/>
            <a:chOff x="2489040" y="2060640"/>
            <a:chExt cx="6372000" cy="4322160"/>
          </a:xfrm>
        </p:grpSpPr>
        <p:sp>
          <p:nvSpPr>
            <p:cNvPr id="158" name=""/>
            <p:cNvSpPr/>
            <p:nvPr/>
          </p:nvSpPr>
          <p:spPr>
            <a:xfrm>
              <a:off x="4292280" y="206064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1696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9200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03800" y="2859120"/>
              <a:ext cx="134820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10160" y="4854240"/>
              <a:ext cx="16833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3360" y="4788360"/>
              <a:ext cx="177192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61400" y="3790440"/>
              <a:ext cx="148824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05360" y="3790440"/>
              <a:ext cx="147780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24040" y="5052240"/>
              <a:ext cx="929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82480" y="4322160"/>
              <a:ext cx="1325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37320" y="2327400"/>
              <a:ext cx="6624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89040" y="4254480"/>
              <a:ext cx="1282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77360" y="4254480"/>
              <a:ext cx="1183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legitímny nárok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možnosť presaden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dôležitosť požiadavk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vyžaduje okamžitú reakciu manažment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Typológia stakeholde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43280" y="1484280"/>
            <a:ext cx="331308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08360" y="3235320"/>
            <a:ext cx="331308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87480" y="3235320"/>
            <a:ext cx="331308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6360" y="14842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cc66"/>
                </a:solidFill>
                <a:latin typeface="Arial"/>
              </a:rPr>
              <a:t>kľud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56610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cc66"/>
                </a:solidFill>
                <a:latin typeface="Arial"/>
              </a:rPr>
              <a:t>ľubovoľ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56360" y="566100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cc66"/>
                </a:solidFill>
                <a:latin typeface="Arial"/>
              </a:rPr>
              <a:t>požadujú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0920" y="328464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ff9933"/>
                </a:solidFill>
                <a:latin typeface="Arial"/>
              </a:rPr>
              <a:t>nebezpečn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8160" y="3284640"/>
            <a:ext cx="10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ff9933"/>
                </a:solidFill>
                <a:latin typeface="Arial"/>
              </a:rPr>
              <a:t>dominantn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40000" y="551664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ff9933"/>
                </a:solidFill>
                <a:latin typeface="Arial"/>
              </a:rPr>
              <a:t>závisl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2560" y="429264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Arial"/>
              </a:rPr>
              <a:t>definitív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2000" y="1773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38606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ôležitos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8880" y="38606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egitim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44120" y="2060640"/>
            <a:ext cx="38905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investori (prevzat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masmédi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prepustený zamestnanec (amo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3800" y="4437000"/>
            <a:ext cx="2572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jeden nespokojn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mestnan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10320" y="4292640"/>
            <a:ext cx="2477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org. pre ochran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v. prostr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univerz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obyvate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66240" y="3284640"/>
            <a:ext cx="16714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terorizm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štraj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sabotáž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44200" y="3357720"/>
            <a:ext cx="17751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zamestnan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dodávate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vlastní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22760" y="3573360"/>
            <a:ext cx="14749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-nesp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kojn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lastní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78760" y="4630680"/>
            <a:ext cx="18802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-nespokojn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zákazní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Použitá literetú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knič, A.: Štvrtý rozmer podnikania – etika, Bratislava: SAP,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II (Průvodce studiem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F MU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tchell, R.K., Agle, B.R., Wood, D.J.: Toward a theory of stakeholder identification and salience: Defining the principle of who and what really counts, Academy of 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Kto je stakeholder?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takeholderom je každá skupina alebo individum, ktoré môže ovplyvniť dosiahnutie podnikových cieľov alebo je ovplyvnený snahou podniku  o dosiahnutie týchto cieľov“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reeman, Strategický management, 1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dnotlivec alebo skupina s určitou „stávkou“ v podn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nik je stretom záujmu rôznych subjektov, ktorých požiadavky a záujmy treba zohľadňova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chycuje podnik v celom jeho sociálno-ekonomickom kon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hápe podnik ako množinu vzťah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Stakeholderské pojatie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Identifikácia stakeholde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i základné atribú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Moc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ovplyvniť podni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Legitimi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vzťahu stakeholdera ku podnik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os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požiadavky na podni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c0c0c0"/>
                </a:solidFill>
                <a:latin typeface="Arial"/>
              </a:rPr>
              <a:t>Tri základné atribú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M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chopnosť ovplyvniť podnik, a to nezávisle na vôli pod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aložená  na troch zdroj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átlaková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utilitárska (prospechársk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ormatív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c0c0c0"/>
                </a:solidFill>
                <a:latin typeface="Arial"/>
              </a:rPr>
              <a:t>Tri základné atribú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Legitim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edpoklad, že chovanie stakeholde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je sociálne akceptovateľné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sa zhoduje so sociálnymi hodnotami a norma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 sociálne žiadanou vlastnosť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c0c0c0"/>
                </a:solidFill>
                <a:latin typeface="Arial"/>
              </a:rPr>
              <a:t>Tri základné atribú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Dôležitos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tupeň naliehavosti, s akou si požiadavky stakeholderov vyžadujú okamžitú pozor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ávisí 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časovej citliv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kritickosti (teda aká je kritická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Typológia stakeholde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84360" y="1484280"/>
            <a:ext cx="7378200" cy="4681440"/>
            <a:chOff x="684360" y="1484280"/>
            <a:chExt cx="7378200" cy="4681440"/>
          </a:xfrm>
        </p:grpSpPr>
        <p:sp>
          <p:nvSpPr>
            <p:cNvPr id="111" name=""/>
            <p:cNvSpPr/>
            <p:nvPr/>
          </p:nvSpPr>
          <p:spPr>
            <a:xfrm>
              <a:off x="2843280" y="1484280"/>
              <a:ext cx="3313080" cy="293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08360" y="3235320"/>
              <a:ext cx="3313080" cy="293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87480" y="3235320"/>
              <a:ext cx="3313080" cy="293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25800" y="234936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cc66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66160" y="4508640"/>
              <a:ext cx="168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cc66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0360" y="443700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cc66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8160" y="3357720"/>
              <a:ext cx="148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9933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4000" y="335772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9933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69440" y="47242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9933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80720" y="393372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0000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12000" y="177336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360" y="3860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78880" y="386064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2489040" y="2060640"/>
            <a:ext cx="6372000" cy="4322160"/>
            <a:chOff x="2489040" y="2060640"/>
            <a:chExt cx="6372000" cy="4322160"/>
          </a:xfrm>
        </p:grpSpPr>
        <p:sp>
          <p:nvSpPr>
            <p:cNvPr id="125" name=""/>
            <p:cNvSpPr/>
            <p:nvPr/>
          </p:nvSpPr>
          <p:spPr>
            <a:xfrm>
              <a:off x="4292280" y="206064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1696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9200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04160" y="2859120"/>
              <a:ext cx="13647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10160" y="4854240"/>
              <a:ext cx="16833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73360" y="4788360"/>
              <a:ext cx="177192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61400" y="3790440"/>
              <a:ext cx="148824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05360" y="3790440"/>
              <a:ext cx="147780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24040" y="5052240"/>
              <a:ext cx="929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82480" y="4322160"/>
              <a:ext cx="1325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7320" y="2327400"/>
              <a:ext cx="6624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89040" y="4254480"/>
              <a:ext cx="1282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77360" y="4254480"/>
              <a:ext cx="1183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8840" y="299520"/>
            <a:ext cx="7956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Latentní stakeholderi –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 jedným atribút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koj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moc a schopnosť presadiť sa sú k dispozíci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legitimita a dôležitosť chýbaj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ľubovoľ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majú legitímny ná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hýba im moc a dôležitosť požiadavi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žadujú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á, ale nelegitímna požiadavka, vyžadujú pozornos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žiadna moc presadiť s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4:15:00Z</dcterms:created>
  <dc:creator> Nonuly</dc:creator>
  <dc:description/>
  <dc:language>en-US</dc:language>
  <cp:lastModifiedBy> Nonuly</cp:lastModifiedBy>
  <dcterms:modified xsi:type="dcterms:W3CDTF">2006-11-06T07:58:10Z</dcterms:modified>
  <cp:revision>16</cp:revision>
  <dc:subject/>
  <dc:title>Snímek 1</dc:title>
</cp:coreProperties>
</file>