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C0C-C097-4366-895A-6F191F47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628-9DC0-4FAB-9718-8113723F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DA2-FEB0-401A-B7AA-423ABD23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211-D766-4795-AD19-D5751D88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07B1-99E2-4902-BE14-E51C9589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C6CF-2207-483C-A578-2D200E3D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6FD7-75FD-46D4-AD10-377A15E2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736F-7598-4CF8-A240-B161FEA8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76DE-43C8-4B8F-9A36-E6710CBC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A498-0CA1-487F-A1B4-35F976C9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AE60-5061-4E0D-B95D-28DF26F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540-62D0-47DB-AC46-EDFC2806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BE58-61B8-46A4-AD8D-9F43006E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C446-92C7-43FD-95D4-B7ED21F6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496E-C6C3-4B2B-85A1-3593B2E3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A45B-9249-4174-B945-C0FD9666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0E81-2EAC-4F51-BBB6-B2E9BF69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CBF-1513-4D10-8174-5E7DAED1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BE9-6BC2-4651-A36C-C0539654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5F0-90FD-4D18-A4BF-874B9BF5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6B6-60FA-463F-9AE6-D45A6A1D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AF7-17DD-402B-8E76-CF85FBF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21D-BE8A-481E-B153-B14F44F3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464-D4B5-4D93-870E-C1A60C77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83F0-28AB-4CF5-A006-2941AE6F3A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840F-C067-4E73-8106-7F8AF6E9B4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MĚNY PRÁCE A VÝVOJE PODNIK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Tým č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industriální = vlastní 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up industriáln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ypická malovýroba; bez vlivu na cenu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ncentrace kapitálu ve firm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ůběhu 19.století se začíná využívat parní stroje a el.energi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vyšování efektivnosti prá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ysoké investiční nároky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znik velkých podniků s kapitá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I - US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ýraznější je vývoj v USA, kde vzniká cenová konkuren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avádění přísných zák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na fúzí počátkem 20.stolet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rporace General Motors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3 gigantické korporace v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é podniky zaplňovali mez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á organizovaný trh a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ývoj podniků III – trh akcií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cie = výnosná forma j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livňovala úspory obyv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ělování vlastnictví od ří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ídící činnost v rukou profesioná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žerská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 již není chápán jako základní c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zainteresovanost oproti akcio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kolem manažerů je soulad zájm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V - Evrop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pně se význam řídících pracovníků přesouvá i do Ev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50.letech 20.století vznik velkých podniků s profesio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za jiných podmíne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lavní úlohu měl rodin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íc často centrálně plánované ekonomik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átní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Glob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obřích nadnárodních společností působících 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to subjekty mají obrovský ekonomický potenci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národní společnosti využívají konkurenčních vý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očné řízení pro man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nost úspěchu i neúspě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oužitá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literatura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OVETSKY, 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umrak povinnost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: Prostor, 1999. ISBN 80-7260-008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, R.B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ušná společno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 : Vize 97, 2003. ISBN 80-86181-60-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, A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ika hospodářství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.II. Praha: OIKOYMENH, 1994. ISBN 80-85241-62-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84360" y="2707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ěkujeme za pozornost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Řemeslo vs. Manufak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Klíčové výrobn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práce </a:t>
            </a:r>
            <a:r>
              <a:rPr b="0" lang="en-US" sz="2800" spc="-1" strike="noStrike">
                <a:solidFill>
                  <a:srgbClr val="e4005c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  <a:ea typeface="Arial"/>
              </a:rPr>
              <a:t>Vlastnictví výrobního faktor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grovány v osobě jediného nositele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lastnictví výrobního faktoru práce a kapitálu bylo oddě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Dělb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orientovaná na výrobek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rientovaná na proces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ozvoj uplatnění strojů = RACION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onalizaci lze rozdělit do několika et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tapa - první stroje jen vylepšení nástroj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íla potřebná pro pohon stroje byla nahrazena silou pohonného stroj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zv. stroje nesamostatné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upeň - typicky je běžící výrobní p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rientace na velkovýro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ýrobní proces rozdělen na velké množství dílčích op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ělník vykonává pouze tzv. zbytkové ope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gativní důsledk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ělníkovi zůstávala atomizovaná monotónní manuální prá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áce se stává nepřiměřenou a nedokáže motivov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le méně lidí ochotno takovou práci vykonávat, roste fluktuace a absentérství, produktivita stagnuje, náklady rostou, efektivnost se snižu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řechod k flexibilní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výrobě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novení komplexnosti prá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ámci humanizace přechod k tzv. „rozšiřování práce“ („job enlargement“) a „obohacování práce“ („job enrichment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autonomních pracovních tý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ástup 3.etapy - COMPUTER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roli přístroje výpočetní a komunikační techni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em této nové vlny racionalizace se v oblasti výroby se stala CNC-technika (computerized numerical control) a počítačově řízená výroba (CAM - computer aided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ren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spělé země masivní nahrazování pracovní síly zmíněnou technikou, nebo výroba přesouvána do méně vyspělých zemích, kde je realizována spíše na tradičních strojích a zařízeních s vyšším podílem pracovní síly, ovšem mzdově mén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hrazování lidské práce počítači a obdobnými zařízeními je patrný též v administrativě i jiných oblastech duševní prá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razný růst produktivity práce vede v poslední době k podstatnému zkracování pracovní doby a růstu volného ča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vojové trendy závěru dvacátého století avizující ve vyspělých zemích nástup postindustriální společnosti, představují, byť v kvalitativně zcela odlišných podmínkách, návrat k některým charakteristikám práce typickým pro společnost preindustriál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polečenská a etická stránk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říve naplnění něčích potře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ůst mezd z atraktivnil volný č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nes mimopracovní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kracování pracovní doby v důsledku úpadku morálky, současné odstraňování monotó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vují se značné profesní rozdí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ůst reálných příjmů u vysokoškol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d „bílých a modrých límečk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stup „zlatých límečků“ – nositelé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9:54:17Z</dcterms:created>
  <dc:creator>Nikos</dc:creator>
  <dc:description/>
  <dc:language>en-US</dc:language>
  <cp:lastModifiedBy>pc</cp:lastModifiedBy>
  <dcterms:modified xsi:type="dcterms:W3CDTF">2006-11-07T07:21:24Z</dcterms:modified>
  <cp:revision>7</cp:revision>
  <dc:subject/>
  <dc:title>PROMĚNY PRÁCE A VÝVOJE PODNIKŮ</dc:title>
</cp:coreProperties>
</file>