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FCCC0-7FC5-4870-A06B-89A0C198D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D35F2-239A-4516-AFBF-594B81C6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4CD2C-8316-4F33-8F5F-7A2BA2BAA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75198-4CBE-409C-AE87-CE260C587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88C30-D462-4B30-ABB1-98A8E2D0B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744D-B5A0-4FD6-A607-08AB343D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D286-A065-4DE8-BFDA-D0FAA310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18F3-F8DE-4E93-A7CB-5C202991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775F-0530-4FF6-85D7-29F26A10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2322-F4D0-45F1-8450-F5982A68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7828-1477-483F-A3B9-8A4A8A8B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017E4-B898-4BC5-A6E4-14B40358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E897-8560-4B5A-AC97-75ED5BF7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10C9-1FB6-491D-9DB3-9B7D72A1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C41D-E6D3-411D-889F-01569DFE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9AA5-B098-4C9D-A463-D1666F250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A264-0DA9-49FE-8FC6-2EC6BFABF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9BF25-9332-4A07-9A4D-BDAD36D4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149D8-3164-4004-9364-F617E59B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C8466-4349-41E7-A51E-1C6AFA93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C7C1F-E889-4F2A-8BA4-A6AC5004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F40B1-E04B-4723-823A-25EB44F1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D531C-D925-4B9B-9744-5208384C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B7B7F-9727-428F-908D-B9C0020B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845E-DE9A-4E5D-A8DB-1AC776563D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1B55-AAF7-4682-B405-F4D694BEF7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2400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6000" spc="-1" strike="noStrike">
                <a:solidFill>
                  <a:srgbClr val="e5e5ff"/>
                </a:solidFill>
                <a:latin typeface="Garamond"/>
              </a:rPr>
              <a:t>Family busines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Tomáš Doná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Iveta Pecharová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Kristián Sem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Hrozby pre existenci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Nepotizm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Syndróm zhýčkaného dieťať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´duch otca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´dojenie´ podnik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Kritický okami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92000" y="2421000"/>
            <a:ext cx="583236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ffff"/>
                </a:solidFill>
                <a:latin typeface="Garamond"/>
              </a:rPr>
              <a:t>NÁSTUPNÍCTVO..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Príklady Family busin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Ford Motor Company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S. C. Johnson &amp; So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Procter &amp; Gamble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Wal-Mart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Budvar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Stella Artois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Guinness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Martell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Zildjian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Faber-Castell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Christies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Shell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Col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Beretta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Tiffany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Tivoli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Siemens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Encyclopædia Britannic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Lloyd's of Londo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Bank of New York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JPMorgan Chase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American Express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HSBC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Western Union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Citibank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North West Company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Wilkinson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Goldsmiths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DuPon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Pfizer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Colgat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Cooper, Erving &amp; Savage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The Guardian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Inquirer &amp; Mirror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The Saturday Evening Post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New York Time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Referenc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Garamond"/>
              </a:rPr>
              <a:t>Kotey, B. (2005) 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‘Are performance differences between family and non-family SMEs uniform across all firm sizes’ </a:t>
            </a:r>
            <a:r>
              <a:rPr b="0" i="1" lang="en-GB" sz="2400" spc="-1" strike="noStrike">
                <a:solidFill>
                  <a:srgbClr val="ffffff"/>
                </a:solidFill>
                <a:latin typeface="Garamond"/>
              </a:rPr>
              <a:t>International Journal of entrepreneurial behaviour and research, 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Vol.11 (6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Chrisman, J. J. (2005) ‘Trends and directions in the development of a strategic management theory of the family firm’ </a:t>
            </a:r>
            <a:r>
              <a:rPr b="0" i="1" lang="en-GB" sz="2400" spc="-1" strike="noStrike">
                <a:solidFill>
                  <a:srgbClr val="ffffff"/>
                </a:solidFill>
                <a:latin typeface="Garamond"/>
              </a:rPr>
              <a:t>Entrepreneurship: Theory and practice, 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Blackwell Publishing Ltd., Septemb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Carney, M. (2005) ‘Corporate governance and competitive advantage in family-controlled firms’ </a:t>
            </a:r>
            <a:r>
              <a:rPr b="0" i="1" lang="en-GB" sz="2400" spc="-1" strike="noStrike">
                <a:solidFill>
                  <a:srgbClr val="ffffff"/>
                </a:solidFill>
                <a:latin typeface="Garamond"/>
              </a:rPr>
              <a:t>Entrepreneurship: Theory and practice, 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Blackwell Publishing Ltd., M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Hanzelkova, A. (2004) ‘Re-establishing traditional czech family businesses’ Publishing Unit, University Library of Jyvaskyla, ISBN 951-39-1909-9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Ďakujeme za pozornosť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Definíci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Rôzne kritár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Percentuálny podiel na fir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Počet generácií spojených s podniko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Veľkosť podnik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Budúce zámery (zapojenia firm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Kontrola nad strategickým rozhodovaní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Počet rodinných príslušníkov vo fir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Charakteristika Family busin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Family business je spoločnosť vlastnená, kontrolovaná a riadená členmi jednej alebo niekoľkých rodí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Vlastnosti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kúposť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ersonalizmus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artikularismus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Rodinn</a:t>
            </a:r>
            <a:r>
              <a:rPr b="1" lang="sk-SK" sz="4000" spc="-1" strike="noStrike">
                <a:solidFill>
                  <a:srgbClr val="e5e5ff"/>
                </a:solidFill>
                <a:latin typeface="Garamond"/>
              </a:rPr>
              <a:t>é podniky v Českej Republik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1. tento druh podnikov – oficiálne ešte nerozpoznaný ako špecifická forma obchodnej jednotky (na úrovni akademickej i vládnej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2. unikátna história –&gt; niekoľko špecifických skupín podniko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3. dôsledok = väčšia výzva než v rozvinutejších ekonomiká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Kategór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4627440"/>
        </p:xfrm>
        <a:graphic>
          <a:graphicData uri="http://schemas.openxmlformats.org/drawingml/2006/table">
            <a:tbl>
              <a:tblPr/>
              <a:tblGrid>
                <a:gridCol w="1522440"/>
                <a:gridCol w="1152360"/>
                <a:gridCol w="2592360"/>
                <a:gridCol w="2962440"/>
              </a:tblGrid>
              <a:tr h="52056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Doba pôsoben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Dlh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Krátk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0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Veľkosť podnik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Veľk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obnovené tradičné rodinné podnik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novo založené rodinné podnik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Mal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obnovené tradičné živnosti a iné mikro-obchod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novo založené živnosti a iné mikro-podnik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Dôležitosť rodinných podnikov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´otec a syn´ x nadnárodné korporácie, ale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Benetton, Ferrerro, Ford, Estee Lauder,..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Ekonomická hodnota a význ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GDP, zamestanosť – 45 - 70% (sve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Zastúpenie medzi firmamy – 70 - 95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e5e5ff"/>
                </a:solidFill>
                <a:latin typeface="Garamond"/>
              </a:rPr>
              <a:t>Percento rodinných firiem z registrovaných firiem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600200"/>
          <a:ext cx="8229600" cy="4657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Kraji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Percen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Portugalsk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Spojené Kráľovstv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Španielsk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Švajčiarsk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Švédsk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&gt;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Taliansk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&gt;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Stredný vých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&gt;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U.S.A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&gt;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468360" y="630864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638172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Garamond"/>
                <a:ea typeface="Arial"/>
              </a:rPr>
              <a:t>Zdroj: Neubauer a Lank, 199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Family vs. Non-family busin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Práca s vlastným / cudzím kapitálo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Vlastník = /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≠ CE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Odpovednosť rodine / vlastníko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Byrokracia / možnosť obísť j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Snaha o dlhodobé a priateľské vzťahy / neosobnosť, formálnosť a komplexnosť v partnerských vzťaho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Prítomnosť rodiny – plus/mín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Súbežné ro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Zdieľaná identi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Citové zaujatie a ambivalenc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Význam rodinného podnik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13:13:58Z</dcterms:created>
  <dc:creator>something</dc:creator>
  <dc:description/>
  <dc:language>en-US</dc:language>
  <cp:lastModifiedBy>Tomas Donat</cp:lastModifiedBy>
  <dcterms:modified xsi:type="dcterms:W3CDTF">2006-11-06T22:47:46Z</dcterms:modified>
  <cp:revision>3</cp:revision>
  <dc:subject/>
  <dc:title>Family business</dc:title>
</cp:coreProperties>
</file>