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2FCE-732F-41EB-8235-D0783092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9847-9E94-4ECB-A4BF-E283368A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902E-4F59-41EF-855F-54B0E817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0F1-D01A-4587-99C6-C9BD3BA4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5CF4-9FD9-4CB2-A459-750B9518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B2C6-D70C-495D-ABF9-53309D82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2E52-C5F1-4A87-B68C-A0125059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A7EF-856D-4BA6-8328-40F130D0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B41D-781E-45F8-BFC6-625D57BA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73BA-6596-4F5C-91A9-1C2E9098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CCE8-ADEA-48BC-83EA-58E85B5F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C77-9BB9-4713-8A75-9BAF7105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91DD-82E8-4A75-84C8-8A70E67F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23A4-FE44-45E9-8E6E-3D8D71EE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07D7-4194-4AD9-8626-34AC5F3E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4A8F-E80B-4F13-8EE1-3EB38DB2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52D0-C994-4F2B-8BE2-FAD3C870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6736-5053-46A5-96B1-0DC08305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75A-42D9-402B-89CF-7410CCBD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316F-AFAB-4726-82D8-2ABD953C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5FD0-6CCA-482E-A4C2-3ADC7F5E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988-2F12-41E2-B205-B110FCBB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006-DDB7-4C35-816A-57894B39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37C-7161-4A32-BDCA-959BBA2A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78E0-E36B-4288-90FC-AD633D2A1D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A32D-3DEF-4FF1-AC11-A2576B18F7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ŘÍZENÍ PROJEKT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tr Smutn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lišnosti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ím se PM liší od běžného operativního řízení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č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idělení zdrojů podle potřeb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hody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ůsledné přiřazení odpovědnosti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 jsou přiděleny podle potřeby a poté uvolněny =&gt; flexibilit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tváří podmínky pro sledování skutečného průběhu oproti plánu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émový příst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výhody / rizika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pecifické požadavky zákazníků se často objevují až v průběhu realiza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častých org. změn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plánovat a oceňovat v předstihu před realizací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proje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é úsilí vynaložené na vytvoření unikátního výsledku (produktu / služb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časnost = je stanoven začátek a kone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kát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í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olo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d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nější vlivy a rizi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 jedinečnost = každý projekt se provádí pouz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dn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Základny PM - trojimperat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je jedinečný sled aktivit a úkolů, který má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án specifický cí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ována časová omezení působnost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 stanoven rámec pro čerpání zdrojů na realizac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672000" cy="2617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0" y="3573360"/>
            <a:ext cx="38876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blém vzájemné podmíněn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otlivé kategorie trojimperativu jsou vzájemně  propoje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pecifická povaha projekt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rčuje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relativ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důležitost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ždé podmín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rojimperativ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=&gt; je nutno hledat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yvážené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řešení. Jde spíše o optimalizační problém (x maximalizace jednotlivých kategorií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527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1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provedením (kvalito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špatná komunikace mezi zákazníkem a dodavatele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ambiciózní předpokl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dodavatele při plánování či realiza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2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émy s čas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dostatek zdrojů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dměrný důraz na kvalit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532764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3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těž lhářů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sledek řešení časových skluzů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optimistické počáteční odh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při kalkulac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ákladní procesní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777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Životní cyklus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6920" y="2063880"/>
            <a:ext cx="806616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ůběh procesů v rámci životního cyklu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6327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ovení cílů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íl projektu = nová hodnota, která je výsledkem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.M.A.R.T. (Specicic, Measurable, Assignable, Realistic, Time-boun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 kritéria dosažení úspěc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kládací listina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ormalizuje existenci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děluje manažerovi projektu pravomoci pro použití zdroj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efinuje odpovědnost manažera za naplnění požadavků projekt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áklady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edběžný rozpočet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stanovení ceny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dodavatele = náklady + zi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zákazníka = rozhodování o návrat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ové strate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trategie nejnižší nabíd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odcenění prvního projektu (buy-in/bail-out s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. s. často leží mimo odpovědnost proj. manažer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podklad pro uzavření kontra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působ poříze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ákup vs. vlastní realiz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ř. nákl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pacity pro realiza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rganizační náro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izika změ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et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ba návrat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iskont peněžních tok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ntabilita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kontra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hoda o provedení určitého pracovního výkonu nebo o dodávce produktu /služ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nákladových cen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kázané náklady + proměnná část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lačí dodavatele ke snižování nákla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ákazník musí mít silné kontrolní pravomo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pevné ce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a zahrnuje i přiměřenou rezerv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často bývá doplněna o cílovou odmě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třeba plán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ii a met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éma plánová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42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odrobný rozpis prací </a:t>
            </a:r>
            <a:r>
              <a:rPr b="0" lang="cs-CZ" sz="1200" spc="-1" strike="noStrike">
                <a:solidFill>
                  <a:srgbClr val="333399"/>
                </a:solidFill>
                <a:latin typeface="Tahoma"/>
              </a:rPr>
              <a:t>(Work Breakdown Structure)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chází z definice předmět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ozepisuje požadovaný produkt do logické hierarchie úloh (činností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důležitým východiskem pro řízení všech tří složek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rozpis úseků práce (kdo co dělá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časový rozvrh projektu (kdy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lán čerpání nákladů (rozpoč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ánování čas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efinuje v jakých termínech a časových sledech budou práce na projektu probíha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ástroj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úsečkové grafy (Ganntův diaga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jednoduchost konstruk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neukazují závislosti mezi úkoly (činnostmi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změna v délce jedné činnosti se (automaticky) nepromítne do zbývající části hramonogram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síťové graf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.E.R.T. – dobu trvání stanovují na základě optimistických realistických a pesimistických variant odhadů trvání činností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G.E.R.T – zdokonalení metody PE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C.P.M. – založena na analýze tzv. kritické cesty = nejdelšího sledu úkolů, který neobsahuje žádné časové rezerv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souhrnně prezentují souvislost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umožňují hledat alternativ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mají definovanou kritickou cest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složit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ne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zpočet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ově fázový plán reprezentovaný peněžními nebo pracovními jednotkam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 čerpání zdrojů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celkovém souhr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rozpisu do detailních polož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časovém fázování podle předpokladu postupu čerp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ody: viz specializované předmě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okace zdrojů – problém omezených zdrojů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ožňuje dlouhodobě efektivní využití zdroj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mezí konfliktu při použití konkrétního zdro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mpromis mezi časem a nákl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hlazení použití zdrojů – vyhladí špičky využití pracovních sil v dílčích úsecích =&gt; ovlivňuje délk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místění zdrojů – hledá nejkratší možnou kritickou cestu vzhledem k limitovaným zdrojů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ALIZAČNÍ FÁZE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alizační fá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jektu zpravidla vyžaduje největší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úsilí a největší náklady. Spočívá v řízení a k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aných prací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bíhá v reálném čase podle plá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ují se odchylky od plánu způsobené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předvídatelnými rušivými vlivy, ale také chybami v koncepční fázi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 základě odchylek v čase, nákladech či kvalitě se přijímají korekční opatř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émem řízení realizační fáze je skutečnost, že odchylky jsou na sobě vzájemně závislé a korekce času, nákladů a kvality představují optimalizační úloh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Zájmové subjekty v řízení podniků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109960"/>
            <a:ext cx="77724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inci nebo organizace, kteří jsou zapojeni do projektu anebo jejichž zájmy jsou ovlivněny realizací projekt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hou mít zcela rozdílné zájmy a proto jejich sladění bývá největším problémem projektového říz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 nejdůležitějším z nich patří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ákazník – objednavatel (uživatel) výstup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stor – poskytuje finanční zdroje na projek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ktový manažer – zodpovědný za realizaci projektu na operativní úrov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Členové projektového týmu – pracovníc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ládní instituce, místní sprá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notliví občan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jektový tý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083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jektový tým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hraný tým pracovníků s minimálními konfliktními vztahy, zaměřený a motivovaný dosáhnout cíle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ým musí být motivován na dosažení cí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týmu musí být vytvořena atmosféra důvěry a odhodlání dosáhnout očekávaného výsled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členové týmu musí mít možnost projevit svůj názor - týmově analyzovat a řešit problé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ěnící se charakter prostředí a jeho vliv na řízení podnik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žadavky podniků na uchazeče o manažerské pozi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le manažera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mbinace řízení a ved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valifika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dbor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oft-skills – vedení lidí, motiv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munik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kontrol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417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trola průběhu projektu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součástí 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bíhá ve všech třech dimenzích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provedení (kv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asového postupu prac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erpání náklad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ceptace = schválení výstupů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edání výsled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dnocení průběhu projektu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plnění cíl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dnocení kvality výstupu i proces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vantifikace rizik, která nastala (odhad možného opakován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teratura ke studi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VOZILOVÁ, Alena. Projektový Management. Grada: Praha, 2006. (ŘÍZ 539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SENAU, Milton D. Řízení projektů. Computer Press. Praha, 2003. (ŘÍZ 4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IALA, Petr. Projektové řízení. Modely, metody, analýzy. Professional Publishing: Praha, 2004. (ORG 47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GROS, Ivan. Kvantitativní metody v manažerském rozhodování. Grada: Praha, 2003. (ORG 38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ěkuji za pozor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d 1) měnící se charakter prostředí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ý rychlý vývoj nových produkt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é časté a rychlé změny proces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izace produkce podle požadavků zákazník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šechny tyto faktory vyžadují užití jednorázového řízeného sledu činností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d 2) požadavky podniků na manaže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&gt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stoucí důležitost znalosti PM pr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niky i absolven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 je to projektový managemen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hrn aktivit spočívajících v plánování, organizování, řízení a kontrole zdrojů za účelem splnění (relativně) krátkodobého cíle, který byl stanoven pro realizaci specifických cílů a záměrů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5:53:31Z</dcterms:created>
  <dc:creator>Doc.Ing.Ivan Hálek, CSc.</dc:creator>
  <dc:description/>
  <dc:language>en-US</dc:language>
  <cp:lastModifiedBy>Petr Smutný</cp:lastModifiedBy>
  <dcterms:modified xsi:type="dcterms:W3CDTF">2006-10-12T08:56:53Z</dcterms:modified>
  <cp:revision>80</cp:revision>
  <dc:subject/>
  <dc:title>PROJEKTOVÉ ŘÍZENÍ</dc:title>
</cp:coreProperties>
</file>