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E9AE-B219-440D-924B-72EFD7061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EBDF-0C5F-41B7-AA79-764596C2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2472-FB18-4041-8C0A-3EDB8A640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1E4D-C6F5-410B-995C-10CF2F5E3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63FF0-83D5-4993-868E-5CFFF8971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7BC7-A909-4E12-A2B0-E63F475E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3D8A-D745-49F1-B3E2-F07F2809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FCC5-1C52-4663-A242-6D1AF637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75D9-2D5F-4BBA-9384-A1A7276F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3C5E-063D-4C8F-8E87-D1A8FE18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1202-4F9A-4045-B538-446F092A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52DC-36D7-4640-9D33-3148E22B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D327A-04F2-40AC-8915-9A569AB1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1609-620D-43C7-8E97-C32FF5AB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4C7A-9366-444D-968B-7B9C0B6E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2AD3-4F69-42A2-8AB7-2B0EEB777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49D3-B30D-4799-B7E1-6A0FC5B5D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5B6A-DFFE-423B-8A72-0A04EBB4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6925-7EBE-4C62-B39B-71B1B8DC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BEAB-F921-42A3-8329-52294B42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BF64-6FD2-4354-827C-081032CA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035E-1AB8-4DC1-B03E-EB3D5F73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11EC-43C3-4434-901D-EB6D858B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1F6D-42CB-408C-99CB-64DA4F31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F57D-2D29-47C8-A747-610D3D033A65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F66F-0DF4-40A9-8B4B-C5E31B3D94B3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Oblasti.cinnosti.obci.CR.pdf/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mvcr.cz/sprava/index.html" TargetMode="External"/><Relationship Id="rId2" Type="http://schemas.openxmlformats.org/officeDocument/2006/relationships/hyperlink" Target="http://www.mvcr.cz/sprava/index.html" TargetMode="External"/><Relationship Id="rId3" Type="http://schemas.openxmlformats.org/officeDocument/2006/relationships/hyperlink" Target="http://www.mvcr.cz/sprava/index.html" TargetMode="External"/><Relationship Id="rId4" Type="http://schemas.openxmlformats.org/officeDocument/2006/relationships/hyperlink" Target="http://www.mvcr.cz/sprava/index.html" TargetMode="External"/><Relationship Id="rId5" Type="http://schemas.openxmlformats.org/officeDocument/2006/relationships/hyperlink" Target="http://www.mvcr.cz/sprava/index.html" TargetMode="External"/><Relationship Id="rId6" Type="http://schemas.openxmlformats.org/officeDocument/2006/relationships/hyperlink" Target="http://www.mvcr.cz/sprava/index.html" TargetMode="External"/><Relationship Id="rId7" Type="http://schemas.openxmlformats.org/officeDocument/2006/relationships/hyperlink" Target="http://www.mvcr.cz/sprava/index.html" TargetMode="External"/><Relationship Id="rId8" Type="http://schemas.openxmlformats.org/officeDocument/2006/relationships/hyperlink" Target="http://www.mvcr.cz/sprava/index.html" TargetMode="External"/><Relationship Id="rId9" Type="http://schemas.openxmlformats.org/officeDocument/2006/relationships/hyperlink" Target="http://www.vlada.cz/cs/urad/default.html" TargetMode="External"/><Relationship Id="rId10" Type="http://schemas.openxmlformats.org/officeDocument/2006/relationships/hyperlink" Target="http://www.vlada.cz/cs/urad/default.html" TargetMode="External"/><Relationship Id="rId11" Type="http://schemas.openxmlformats.org/officeDocument/2006/relationships/hyperlink" Target="http://www.vlada.cz/cs/urad/default.html" TargetMode="External"/><Relationship Id="rId12" Type="http://schemas.openxmlformats.org/officeDocument/2006/relationships/hyperlink" Target="http://www.vlada.cz/cs/urad/default.html" TargetMode="External"/><Relationship Id="rId13" Type="http://schemas.openxmlformats.org/officeDocument/2006/relationships/hyperlink" Target="http://www.vlada.cz/cs/urad/default.html" TargetMode="External"/><Relationship Id="rId14" Type="http://schemas.openxmlformats.org/officeDocument/2006/relationships/hyperlink" Target="http://www.vlada.cz/cs/urad/default.html" TargetMode="External"/><Relationship Id="rId15" Type="http://schemas.openxmlformats.org/officeDocument/2006/relationships/hyperlink" Target="http://www.vlada.cz/cs/urad/default.html" TargetMode="External"/><Relationship Id="rId16" Type="http://schemas.openxmlformats.org/officeDocument/2006/relationships/hyperlink" Target="http://www.vlada.cz/cs/urad/default.html" TargetMode="External"/><Relationship Id="rId17" Type="http://schemas.openxmlformats.org/officeDocument/2006/relationships/hyperlink" Target="http://www.vlada.cz/cs/urad/default.html" TargetMode="External"/><Relationship Id="rId18" Type="http://schemas.openxmlformats.org/officeDocument/2006/relationships/hyperlink" Target="http://www.vlada.cz/cs/urad/default.html" TargetMode="External"/><Relationship Id="rId19" Type="http://schemas.openxmlformats.org/officeDocument/2006/relationships/hyperlink" Target="http://www.psp.cz/sqw/hp.sqw?k=30" TargetMode="External"/><Relationship Id="rId20" Type="http://schemas.openxmlformats.org/officeDocument/2006/relationships/hyperlink" Target="http://www.psp.cz/sqw/hp.sqw?k=30" TargetMode="External"/><Relationship Id="rId21" Type="http://schemas.openxmlformats.org/officeDocument/2006/relationships/hyperlink" Target="http://www.psp.cz/sqw/hp.sqw?k=30" TargetMode="External"/><Relationship Id="rId22" Type="http://schemas.openxmlformats.org/officeDocument/2006/relationships/hyperlink" Target="http://www.psp.cz/sqw/hp.sqw?k=30" TargetMode="External"/><Relationship Id="rId23" Type="http://schemas.openxmlformats.org/officeDocument/2006/relationships/hyperlink" Target="http://www.psp.cz/sqw/hp.sqw?k=30" TargetMode="External"/><Relationship Id="rId24" Type="http://schemas.openxmlformats.org/officeDocument/2006/relationships/hyperlink" Target="http://www.psp.cz/sqw/hp.sqw?k=30" TargetMode="External"/><Relationship Id="rId25" Type="http://schemas.openxmlformats.org/officeDocument/2006/relationships/hyperlink" Target="http://www.psp.cz/sqw/hp.sqw?k=30" TargetMode="External"/><Relationship Id="rId26" Type="http://schemas.openxmlformats.org/officeDocument/2006/relationships/hyperlink" Target="http://www.psp.cz/sqw/hp.sqw?k=30" TargetMode="External"/><Relationship Id="rId27" Type="http://schemas.openxmlformats.org/officeDocument/2006/relationships/hyperlink" Target="http://www.psp.cz/sqw/hp.sqw?k=30" TargetMode="External"/><Relationship Id="rId28" Type="http://schemas.openxmlformats.org/officeDocument/2006/relationships/hyperlink" Target="http://www.psp.cz/sqw/hp.sqw?k=30" TargetMode="External"/><Relationship Id="rId29" Type="http://schemas.openxmlformats.org/officeDocument/2006/relationships/hyperlink" Target="http://www.psp.cz/sqw/hp.sqw?k=30" TargetMode="External"/><Relationship Id="rId30" Type="http://schemas.openxmlformats.org/officeDocument/2006/relationships/hyperlink" Target="http://www.micr.cz/" TargetMode="External"/><Relationship Id="rId31" Type="http://schemas.openxmlformats.org/officeDocument/2006/relationships/hyperlink" Target="http://www.micr.cz/" TargetMode="External"/><Relationship Id="rId32" Type="http://schemas.openxmlformats.org/officeDocument/2006/relationships/hyperlink" Target="http://www.micr.cz/" TargetMode="External"/><Relationship Id="rId33" Type="http://schemas.openxmlformats.org/officeDocument/2006/relationships/hyperlink" Target="http://www.micr.cz/" TargetMode="External"/><Relationship Id="rId34" Type="http://schemas.openxmlformats.org/officeDocument/2006/relationships/hyperlink" Target="http://www.micr.cz/" TargetMode="External"/><Relationship Id="rId3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oucasny.system.VS.CR.2006.pdf/" TargetMode="Externa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mvcr.cz/odbor/reforma/seznam.html" TargetMode="External"/><Relationship Id="rId2" Type="http://schemas.openxmlformats.org/officeDocument/2006/relationships/hyperlink" Target="http://www.mvcr.cz/odbor/reforma/seznam.html" TargetMode="External"/><Relationship Id="rId3" Type="http://schemas.openxmlformats.org/officeDocument/2006/relationships/hyperlink" Target="http://www.mvcr.cz/odbor/reforma/seznam.html" TargetMode="External"/><Relationship Id="rId4" Type="http://schemas.openxmlformats.org/officeDocument/2006/relationships/hyperlink" Target="http://www.mvcr.cz/odbor/reforma/seznam.html" TargetMode="External"/><Relationship Id="rId5" Type="http://schemas.openxmlformats.org/officeDocument/2006/relationships/hyperlink" Target="http://www.mvcr.cz/odbor/reforma/seznam.html" TargetMode="External"/><Relationship Id="rId6" Type="http://schemas.openxmlformats.org/officeDocument/2006/relationships/hyperlink" Target="http://www.mvcr.cz/odbor/reforma/seznam.html" TargetMode="External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mvcr.cz/odbor/reforma/seznam.html" TargetMode="External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Problemy.ustredni.SS.doc/" TargetMode="External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řejná správa a její reforma v Č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858920" y="4508640"/>
            <a:ext cx="306540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ng. David Špaček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KVE ESF MU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EVS - září 2006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) Interdisciplinár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8960" y="1557360"/>
            <a:ext cx="76611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) (new) public management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(př. 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Hughes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*</a:t>
            </a:r>
            <a:br>
              <a:rPr sz="24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úředníci mají manažerské role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           (včetně řízení vztahů byrokracie </a:t>
            </a:r>
            <a:r>
              <a:rPr b="0" lang="cs-CZ" sz="2000" spc="-1" strike="noStrike">
                <a:solidFill>
                  <a:srgbClr val="292929"/>
                </a:solidFill>
                <a:latin typeface="Symbol"/>
                <a:ea typeface="Symbol"/>
              </a:rPr>
              <a:t>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politika)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„mohou se objevit vážné otázky, které se týkají etiky 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dpovědnosti, avšak přínosy PM jsou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pravděpodobně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mnohem větší než náklady“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změny se dosud odehrály především v teorii než v praxi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znalosti?, neochota?, legislativa?, funguje řízen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 soukromém sektoru?...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Public management NEZNAMENÁ nekritické převzetí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praktik soukromého sektoru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výrazný nedostatek prax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- manažerské změny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podníceny z centra, aniž by byla následně věnován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dostatečná pozornost procesu jejich implementac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OECD 2005: pozornost a) specifikům vlastní veřejné správy,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b) nedostatkům nástrojů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) Interdisciplinár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48960" y="1628640"/>
            <a:ext cx="76611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) (good) governance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= diskuze o způsobu uplatnění moci v situaci demokratického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deficitu, která staví na kritice NPM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soukromý sektor vs. veřejný sektor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manažerismus vs. myšlenky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demokraci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(proces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292929"/>
                </a:solidFill>
                <a:latin typeface="Arial"/>
              </a:rPr>
              <a:t>Citizens and the new governance - </a:t>
            </a:r>
            <a:r>
              <a:rPr b="0" i="1" lang="en-GB" sz="1800" spc="-1" strike="noStrike" u="sng">
                <a:solidFill>
                  <a:srgbClr val="292929"/>
                </a:solidFill>
                <a:uFillTx/>
                <a:latin typeface="Arial"/>
              </a:rPr>
              <a:t>Beyond</a:t>
            </a:r>
            <a:r>
              <a:rPr b="0" i="1" lang="en-GB" sz="1800" spc="-1" strike="noStrike">
                <a:solidFill>
                  <a:srgbClr val="292929"/>
                </a:solidFill>
                <a:latin typeface="Arial"/>
              </a:rPr>
              <a:t> New Public 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292929"/>
                </a:solidFill>
                <a:latin typeface="Arial"/>
              </a:rPr>
              <a:t>Management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)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zákazník/spotřebitel služeb vs.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pluralita a formální rovnost 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občanů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a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participac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v komunitních záležitostech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jiné pojetí efektivnosti? - Dahl: „</a:t>
            </a:r>
            <a:r>
              <a:rPr b="0" i="1" lang="cs-CZ" sz="1600" spc="-1" strike="noStrike">
                <a:solidFill>
                  <a:srgbClr val="292929"/>
                </a:solidFill>
                <a:latin typeface="Arial"/>
              </a:rPr>
              <a:t>Efektivnost zde chápu tak, že orgány </a:t>
            </a:r>
            <a:br>
              <a:rPr sz="1600"/>
            </a:br>
            <a:r>
              <a:rPr b="0" i="1" lang="cs-CZ" sz="1600" spc="-1" strike="noStrike">
                <a:solidFill>
                  <a:srgbClr val="292929"/>
                </a:solidFill>
                <a:latin typeface="Arial"/>
              </a:rPr>
              <a:t>   státní moci se zabývají problematikou, kterou občané považují za důležitou </a:t>
            </a:r>
            <a:br>
              <a:rPr sz="1600"/>
            </a:br>
            <a:r>
              <a:rPr b="0" i="1" lang="cs-CZ" sz="1600" spc="-1" strike="noStrike">
                <a:solidFill>
                  <a:srgbClr val="292929"/>
                </a:solidFill>
                <a:latin typeface="Arial"/>
              </a:rPr>
              <a:t>   a aktuální a o níž jsou přesvědčeni, že si žádá řešení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"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i zde 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realita není často v souladu s rétorikou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znalosti?, neochota?, legislativa?,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železný zákon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ligarchie?, aktivní občanství?) </a:t>
            </a: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) Interdisciplinár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48960" y="1628640"/>
            <a:ext cx="76611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) a b) = SPOR O RELEVANCI PRAKTICKÉ APLIKACE RŮZNÝCH TEORIÍ?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c) východiska nové definice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: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N(PM) a (G)G se navzájem spíše doplňují, než vylučují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veřejná správa specifickým nástrojem společenského řízení, který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však musí podléhat určitým řídicím procesům ("vnitřní" řízení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řídícího subjektu)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praxi řízení ovlivňuje: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a) kde se řídí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cs-CZ" sz="18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co se řídí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c) jakým způsobem (jaká volnost řízení a odpovědnost)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d) s jakým cílem (v čí prospěch?)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e) s jakými zdroji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- významnými prvky/funkcemi řízení je plánování a kontrola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(vyhodnocování účinnosti) (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↑ legitimity)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důraz na využití existujících znalostí a vytváření nových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poznatků (učení se) (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↑ racionality)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) Interdisciplinár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48960" y="1483920"/>
            <a:ext cx="80154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Ve</a:t>
            </a: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řejná správa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292929"/>
                </a:solidFill>
                <a:uFillTx/>
                <a:latin typeface="Arial"/>
              </a:rPr>
              <a:t>v rámci systému veřejné moci / institucionálně </a:t>
            </a:r>
            <a:br>
              <a:rPr sz="26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jeden z institucionálních nástrojů pro dosahování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funkcí státu nebo nižšího územně-správního celku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292929"/>
                </a:solidFill>
                <a:uFillTx/>
                <a:latin typeface="Arial"/>
              </a:rPr>
              <a:t>materiálně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6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mix činností tradiční správy a řízení,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který vyplývá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z úlohy veřejné správy ve veřejném sektoru (část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eřejného sektoru garantující – vlastní činností či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jinak - zabezpečování jeho funkcí)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řízení společnosti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(prvek institucionalizované kontroly a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regulace)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a zdrojů k dosahování cílů vlády (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Waldo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),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které by v moderním státě mělo stavět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na racionalitě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(NPM)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a také odrážet potřeby občanů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(GG)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) Interdisciplinár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48960" y="1483920"/>
            <a:ext cx="80154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Ve</a:t>
            </a: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řejná správa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Stillman: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2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1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e exekutivní složkou státní moci (která nicméně souvis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 důležitých směrech se složkou státní moci legislativní 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ustiční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2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e subjektem formulujícím a implementujícím veřejné politik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3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e subjektem, který ve své činnosti zahrnuje významný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rozsah problémů týkajících se lidského chování 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kooperačních snah lidí;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4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e subjektem, jehož činnost může být v několika směrech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dlišována od soukromé správy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5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e subjektem produkujícím veřejné statky;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6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e subjektem zakotveným v právu a současně subjektem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ykonávajícím právo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00"/>
                </a:solidFill>
                <a:latin typeface="Arial"/>
              </a:rPr>
              <a:t>2) Reforma VS v ČR</a:t>
            </a:r>
            <a:br>
              <a:rPr sz="40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literatura a jiné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8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SCHELLE, K.</a:t>
            </a:r>
            <a:r>
              <a:rPr b="0" i="1" lang="fr-FR" sz="2000" spc="-1" strike="noStrike">
                <a:solidFill>
                  <a:srgbClr val="292929"/>
                </a:solidFill>
                <a:latin typeface="Arial"/>
              </a:rPr>
              <a:t>Vývoj veřejné správy v letech 1848 - 1948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. </a:t>
            </a:r>
            <a:br>
              <a:rPr sz="2000"/>
            </a:b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Praha: EUROLEX BOHEMIA 2002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ČECHÁK, V.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Vývoj veřejné správy v Československu a České republice (1945 - 2004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. Praha: EUPRESS 2004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www stránky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Ministerstva vnitra -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mvcr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cz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/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sprava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/index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8"/>
              </a:rPr>
              <a:t>html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Úřadu vlády -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9"/>
              </a:rPr>
              <a:t>http://www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0"/>
              </a:rPr>
              <a:t>vlada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1"/>
              </a:rPr>
              <a:t>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2"/>
              </a:rPr>
              <a:t>cz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3"/>
              </a:rPr>
              <a:t>/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4"/>
              </a:rPr>
              <a:t>cs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5"/>
              </a:rPr>
              <a:t>/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6"/>
              </a:rPr>
              <a:t>urad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7"/>
              </a:rPr>
              <a:t>/default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8"/>
              </a:rPr>
              <a:t>html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 Poslanecké sněmovny: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9"/>
              </a:rPr>
              <a:t>http://www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0"/>
              </a:rPr>
              <a:t>psp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1"/>
              </a:rPr>
              <a:t>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2"/>
              </a:rPr>
              <a:t>cz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3"/>
              </a:rPr>
              <a:t>/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4"/>
              </a:rPr>
              <a:t>sqw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5"/>
              </a:rPr>
              <a:t>/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6"/>
              </a:rPr>
              <a:t>hp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7"/>
              </a:rPr>
              <a:t>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8"/>
              </a:rPr>
              <a:t>sqw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9"/>
              </a:rPr>
              <a:t>?k=30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) Ministerstva informatiky: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0"/>
              </a:rPr>
              <a:t>http://www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1"/>
              </a:rPr>
              <a:t>micr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2"/>
              </a:rPr>
              <a:t>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3"/>
              </a:rPr>
              <a:t>cz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4"/>
              </a:rPr>
              <a:t>/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) Reforma a současný model veřejné správy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oučasný model - </a:t>
            </a:r>
            <a:r>
              <a:rPr b="0" lang="en-US" sz="32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zd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987480" y="2133720"/>
            <a:ext cx="69692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b) Vymezení reformy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84464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5840" indent="-37584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REFORMA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=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něco zlepšit, zdokonalit nebo odstranit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problémy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mnoho aspektů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politický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, právní, institucionální, technický, finanční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sociální, psychologický ...)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centralizace vs. dekoncentrace a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decentralizace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fáze: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a) teoretická vs. praktická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b) přípravy vs. realizace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o</a:t>
            </a:r>
            <a:r>
              <a:rPr b="0" lang="pl-PL" sz="2600" spc="-1" strike="noStrike">
                <a:solidFill>
                  <a:srgbClr val="292929"/>
                </a:solidFill>
                <a:latin typeface="Arial"/>
              </a:rPr>
              <a:t> rozsahu a zaměření rozhoduje veřejnou </a:t>
            </a:r>
            <a:r>
              <a:rPr b="0" lang="pl-PL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2600" spc="-1" strike="noStrike">
                <a:solidFill>
                  <a:srgbClr val="292929"/>
                </a:solidFill>
                <a:latin typeface="Arial"/>
              </a:rPr>
              <a:t>volbou přijatá </a:t>
            </a:r>
            <a:r>
              <a:rPr b="0" lang="pl-PL" sz="2600" spc="-1" strike="noStrike" u="sng">
                <a:solidFill>
                  <a:srgbClr val="292929"/>
                </a:solidFill>
                <a:uFillTx/>
                <a:latin typeface="Arial"/>
              </a:rPr>
              <a:t>strategie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(existuje?)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c) Hodnotový rámec současných reforem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NPM a GG </a:t>
            </a:r>
            <a:r>
              <a:rPr b="0" lang="cs-CZ" sz="2600" spc="-1" strike="noStrike">
                <a:solidFill>
                  <a:srgbClr val="292929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cs-CZ" sz="2600" spc="-1" strike="noStrike" u="sng">
                <a:solidFill>
                  <a:srgbClr val="292929"/>
                </a:solidFill>
                <a:uFillTx/>
                <a:latin typeface="Arial"/>
              </a:rPr>
              <a:t>PRINCIPY VS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: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a) principy </a:t>
            </a:r>
            <a:r>
              <a:rPr b="0" lang="pt-BR" sz="2600" spc="-1" strike="noStrike">
                <a:solidFill>
                  <a:srgbClr val="292929"/>
                </a:solidFill>
                <a:latin typeface="Arial"/>
              </a:rPr>
              <a:t>ideálního fungování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6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základní zásady (čím legitimované?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ideový rámec reformátorům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hodnotový základ vzorců chování úředníků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normativní charakter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souvisí s dynamikou VS (sebereformování) 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společnosti (tlaky k reformě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backoffice a frontoffice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b) principy reálného fungování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blíže později - byrokracie, korupce ...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c) Hodnotový rámec současných reforem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-39852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ideální principy VS činností</a:t>
            </a:r>
            <a:br>
              <a:rPr sz="32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výsledkem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správně-právní globalizace ("EAS")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souvisí s prvníma dvěma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fázemi aproximace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práva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Pomahače: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harmonizační</a:t>
            </a:r>
            <a:br>
              <a:rPr sz="24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=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důraz na sbližování a sladění různorodých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právních postupů a kritérií</a:t>
            </a:r>
            <a:br>
              <a:rPr sz="18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standardizačn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= výběr a doporučení adekvátních vzorů a principů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c) unifikačn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=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propojení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s cílem vytváření vyšších typů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inovací nejen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v právním řádu jako takovém, ale i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ve způsobech jeho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implementace v rozdílném socioekonomickém, politickém a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institucionálním prostředí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0000"/>
                </a:solidFill>
                <a:latin typeface="Arial"/>
              </a:rPr>
              <a:t>D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-438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esej na téma:</a:t>
            </a:r>
            <a:br>
              <a:rPr sz="3200"/>
            </a:b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3200" spc="-1" strike="noStrike">
                <a:solidFill>
                  <a:srgbClr val="292929"/>
                </a:solidFill>
                <a:latin typeface="Arial"/>
              </a:rPr>
              <a:t>Proč být či nebýt úředníkem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a) náležitosti:</a:t>
            </a:r>
            <a:br>
              <a:rPr sz="3200"/>
            </a:b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řádkování 1, min. 3 str., max 2,5 cm okraje,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    písmo 12, VLASTNÍ NÁZOR</a:t>
            </a:r>
            <a:br>
              <a:rPr sz="2200"/>
            </a:b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název: Esej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_VS_Prijmeni.doc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do pátku 20. 10. do odevzdavárn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d) Možné nedostatky refo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-434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Vidláková: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3200"/>
            </a:b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Špatný start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především nedostatek informací,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č. historického kontextu = neracionáln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Imitace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(institucionální xerox)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, nikoli inovace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Nesprávná diagnóza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a nesplnitelnost cílů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Nerozhodný přístup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reformátorů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5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Chyby v plánován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6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Nedostatek zpětné vazby a monitorování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7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Neschopnost disponovat zdroji a interní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podporou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) Historické pozadí reformy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0) Vybrané prvky reforem 1848 - 1918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1. Československá republika a VS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1918 -1938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2. ČSR, okupace a období protektorátu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c) 1945 - 1948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d) 1948 - 1960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e) 1960 - 1968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?SAMOSPRÁVA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f) 1968 - 1989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3850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)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BECNÉ CHARAKTERISTIK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6040" indent="-5360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oučást transformace společnosti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6040" indent="-5360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totální strukturální přestavba dřívější centralizované státní správy v decentralizovanou veřejnou správu (princip subsidiarity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6040" indent="-5360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změna totalitního státu ve stát demokratický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→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renesance samospráv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6040" indent="-5360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elká rychlost změny a s tím způsobené problémy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 kvalitou přípravných fází reformy - následné legislativní smrště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)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Strecková - příčiny reformy v ČR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: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naše VS je silně etatistická (silný vliv státní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správy)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velmi centralistická (státní správa)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resortismus, nízká koordinace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slabá veřejná kontrola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nízká úroveň používání moderních metod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managementu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nízká profesionální úroveň </a:t>
            </a:r>
            <a:r>
              <a:rPr b="0" lang="cs-CZ" sz="2400" spc="-1" strike="noStrike" u="sng">
                <a:solidFill>
                  <a:srgbClr val="292929"/>
                </a:solidFill>
                <a:uFillTx/>
                <a:latin typeface="Arial"/>
              </a:rPr>
              <a:t>úředníků i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400" spc="-1" strike="noStrike" u="sng">
                <a:solidFill>
                  <a:srgbClr val="292929"/>
                </a:solidFill>
                <a:uFillTx/>
                <a:latin typeface="Arial"/>
              </a:rPr>
              <a:t>zastupitelů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)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A/ ČSFR (1989 - 1992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Nebyla přijata ústava ve formě jednoho ústavního dokumentu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- vše řešeno jednotlivými ústavními zákony: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úst. z. č. 135/1989 Sb.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- zrušil čl. 4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úst. z. č. 294/1990 Sb.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ze dne 18. července, kterým se mění a doplňuje ústavní zákon č. 100/1960 Sb., Ústava ČSSR, a ústavní zákon č. 143/1968 Sb., o čs. federaci a kterým se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zkracuje volební období národních výborů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(zvolených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v r. 1986, do dne voleb do zastupitelstev obcí - 23. - 24. 11.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úst. z. č. 23/1991, Listina základních práv a svobo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úst. z. č. 91/1991, o Ústavním soudu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úst. z. č. 327/1991, o referendu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.......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)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48960" y="1341000"/>
            <a:ext cx="766116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FEDERÁLNÍ A REPUBLIKOVÁ ÚROVEŇ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od počátku tendence zvyšovat úlohu republik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 tomto trendu pokračoval i úst. z. č. 556/1990 Sb. z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prosince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právo ČR a SR zřizovat vlastní ozbrojené </a:t>
            </a:r>
            <a:br>
              <a:rPr sz="2200"/>
            </a:b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  bezpečnostní sbory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rozlišuje výlučnou působnost federace a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výlučnou působnost republik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5. - 6. června 1992 -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volby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do FS, ČNR a SNR - výsledky předznamenaly rozpad federace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1. září schválila SNR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Ústavu SR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úst. z. 493/1992 (tzv.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druhý kompetenční zákon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)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z 8. října - přesun kompetencí na republik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)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07084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89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ÚZEMNÍ VEŘEJNÁ SPRÁV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základní územní správní jednotkou se stala 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OBEC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 ČR postavení obcí upraveno zákonem ČNR 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č. 367/1990 Sb. ze 4. září 1990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odlišil státní správu a samosprávu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hovořil o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obcích, městech a statutárních městech, a </a:t>
            </a:r>
            <a:br>
              <a:rPr sz="2200"/>
            </a:b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   Praze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(vůči zák. o obcích speciálním zákonem č. 418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legislativou ustaven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JEDNOSTUPŇOVÝ SYSTÉM SAMOSPRÁVY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- obecní zastupitelstvo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smíšený / spojený model veřejné správy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- státní správa na prvním stupni vykonávána rovněž orgány samospráv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orgány obce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: obecní zastupitelstvo, obecní rada, starosta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(primátor) a zástupce starosty, komise, odbory, obecní úřad, tajemník (podle počtu pracovníků OÚ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)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0520" indent="-38052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KRESNÍ ÚŘAD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0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zřízeny zákonem ČNR č. 425/1990 Sb. ve městech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ve kterých byly ONV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(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zemní členění zůstalo v podstatě nezměněné 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 od r. 1960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„velké kraje“ a „velké okresy“)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ke dni zřízení OkÚ v ČR 76 okresů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„decentralizovaný orgán SS se všeobecnou 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působností“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rgány OkÚ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přednosta, okresní shromáždění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referáty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 Plzni, Brně a Ostravě vykonávaly činnost OkÚ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magistráty, v Praze Magistrát města Prahy a úřady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městských částí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jejich řízení v kompetenci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lády republik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řídící a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kontrolní činnost především MV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48960" y="1844280"/>
            <a:ext cx="76611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/ V SAMOSTATNÉ ČESKÉ REPUBLI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RECEPČNÍ ZÁKON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s účinností od 31. 12. 1992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ČNR zákon č. 4/1993 Sb. o opatřeních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souvisejících se zánikem ČSFR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ÚZEMNÍ VEŘEJNÁ 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ýraznou změnu pro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BECNÍ ZŘÍZENÍ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znamenala až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oncepce reformy veřejné správy z roku 1999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na jejím základě přijat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ákon č. 128/2000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Sb.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činnosti jednotlivých druhů obcí zde: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mvcr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cz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/odbor/reforma/seznam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htm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89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/ V SAMOSTATNÉ ČESKÉ REPUBLI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ÚZEMNÍ VEŘEJNÁ 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KRESNÍ ÚŘADY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- 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ákon č. 425/1990 Sb.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platil až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do 12. 11. 2000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16. 5. 2000 byl schválen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ákon č. 147/2000 Sb.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o okresních úřadech - pozbyl účinnosti k 31.12. 2002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charakterizoval OkÚ jako „správní úřady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vykonávající státní správu ve správních obvodech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které se nazývají okresy“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vykonávaly státní správu ve věcech, které stanovily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zvláštní zákony,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přezkoumávaly rozhodnutí orgánů obcí a rozhodnut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 pověřených obecních úřadů vydaná ve správním řízen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 + dozor nad činností obcí + odborná pomoc obcím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 + přezkoumával jejich hospodařen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00"/>
                </a:solidFill>
                <a:latin typeface="Arial"/>
              </a:rPr>
              <a:t>1) Vymezení veřejné s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773360"/>
            <a:ext cx="7661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ROVINA: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32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a) právní (ústavní a správní)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b) ekonomická (veřejná ekonomie a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související disciplíny)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c) interdisciplinární (současný?)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správně vědní?, manažerující?)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VŽDY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snaha specifikovat roli veřejné správy ve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      veřejném sektoru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vztah k legitimitě (potvrzení/vyvrácení)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 jejích činností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OKRESNÍ ÚŘADY*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Okresní úřady byly zrušeny na základě zákona </a:t>
            </a:r>
            <a:br>
              <a:rPr sz="2200"/>
            </a:b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č. 320/2002 Sb. s účinností od 1. 1. 2003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"Dnem nabytí účinnosti tohoto zákona se zrušují okresní úřady."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Čl. CXIX 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1. Pokud zvláštní zákon stanoví působnost okresního úřadu nebo </a:t>
            </a:r>
            <a:br>
              <a:rPr sz="1800"/>
            </a:b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okresního národního výboru a tato působnost nebyla tímto nebo </a:t>
            </a:r>
            <a:br>
              <a:rPr sz="1800"/>
            </a:b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zvláštním zákonem převedena na územní samosprávné celky, </a:t>
            </a:r>
            <a:br>
              <a:rPr sz="1800"/>
            </a:b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vykonává tuto působnost obecní úřad obce s rozšířenou </a:t>
            </a:r>
            <a:br>
              <a:rPr sz="1800"/>
            </a:b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působností jako výkon přenesené působnosti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2. Pokud okresní úřad vykonával činnosti, které mu nebyly stanoveny   </a:t>
            </a:r>
            <a:br>
              <a:rPr sz="1800"/>
            </a:b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obecně závazným právním předpisem, přechází tyto činnosti na </a:t>
            </a:r>
            <a:br>
              <a:rPr sz="1800"/>
            </a:b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obecní úřad obce s rozšířenou působností jako výkon přenesené </a:t>
            </a:r>
            <a:br>
              <a:rPr sz="1800"/>
            </a:b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působnosti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KRESNÍ ÚŘADY*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ákon č. 320/2002 Sb.,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Čl.CXIX* 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3. Pokud zvláštní zákon stanoví působnost orgánu, který zanikl, a nejedná se o případy uvedené v bodě 1, a tato působnost nebyla přenesena na jiný orgán, je věcně příslušný ústřední správní úřad, do jehož působnosti rozhodovaná věc náleží, popřípadě ústřední správní úřad, jehož obor působnosti je rozhodované věci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nejbližší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48960" y="1844280"/>
            <a:ext cx="76611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Zpráva o postupu prací na reformě veřejné správy za II. čtvrtletí roku 200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a) Problematika malých obcí - nové formy meziobecní spolupráce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květen 2005 - Návrh nové formy meziobecní spolupráce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- tzv.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Společenství obc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- na principu dobrovolného vstupu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- dohodnut rozsah nepřenositelných činnost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b) Příspěvek na výkon státní správ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analýza MV - 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vyplynulo, že u obcí s rozšířenou působností jsou výdaje na výkon státní správy kryty z 84 % a u obcí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s pověřeným obecním úřadem z 51 %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YŠŠÍ ÚZEMNÍ SPRÁVNÍ CELKY - OBECNÉ FUNK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integrační funk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koordinační funk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dozorová funk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poradní funk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přidělování finančních prostředků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funkce právní pomoci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92929"/>
                </a:solidFill>
                <a:latin typeface="Arial"/>
              </a:rPr>
              <a:t>funkce regionálního plánování a územního plánování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zprostředkující funk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funkce krizového řízení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koordinace ochrany a péče o životní prostředí v regionu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292929"/>
                </a:solidFill>
                <a:latin typeface="Arial"/>
              </a:rPr>
              <a:t>(Grospič, J. Úloha krajů v územní reformě veřejné správy. In Grospič, J., Vostrá, L.: Reforma veřejné správy v teorii a praxi (Sborník z mezinárodní konference). Aleš Čeněk, s. r. o., 2004, s. 29 - 30)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VYŠŠÍ ÚZEMNÍ SPRÁVNÍ CELK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v době vzniku ČR ani na základě převzatého právního řádu fakticky neexistovaly VÚSC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již v období federace navrženy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4 alternativy uspořádání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- zemská, regionální, kombinovaná a federativní - nebyly zákonodárným sborem projednán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úst. zákon č. 1/1993, Ústava ČR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- „kraje či země“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v r. 1994 -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Záměry vlády ČR v oblasti reformy veřejné správy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do soustavy VS měly přibýt VÚSC,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en-US" sz="2200" spc="-1" strike="noStrike" u="sng">
                <a:solidFill>
                  <a:srgbClr val="292929"/>
                </a:solidFill>
                <a:uFillTx/>
                <a:latin typeface="Arial"/>
              </a:rPr>
              <a:t>počítaly se zachováním okresních úřadů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láda uvedla, že se jí nepodařilo rozhodnout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o institucionálním uspořádání SS a S na úrovni VÚSC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VYŠŠÍ ÚZEMNÍ SPRÁVNÍ CELKY*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změna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: až ústavní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zákon č. 347/1997 Sb.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- 14 krajů - právní postavení upraveno ALE pozdější §§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(z. č. 129/2000 s účinností ode dne voleb do ZK, ustanovení o státní správě od 1. 1. 2001, </a:t>
            </a:r>
            <a:r>
              <a:rPr b="0" lang="en-US" sz="22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činnosti</a:t>
            </a:r>
            <a:r>
              <a:rPr b="0" lang="en-US" sz="2200" spc="-1" strike="noStrike" u="sng">
                <a:solidFill>
                  <a:srgbClr val="292929"/>
                </a:solidFill>
                <a:uFillTx/>
                <a:latin typeface="Arial"/>
              </a:rPr>
              <a:t>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problémy související s přípravou realizace krajského zřízení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a) po přijetí zákona č. 347/1997 Sb. existovalo dvojí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  platné územní vymezení krajů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b) VÚSC menší než NUTSII -  „regionů soudržnosti“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c) otázky stanovení hranic krajů z hlediska historického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  vývoje, mínění občanů, infrastruktury ..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relevantní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Koncepce reformy veřejné správy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(1999)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láda „vzala na vědomí“ usnesením č. 258/1999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48960" y="1989000"/>
            <a:ext cx="766116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Zpráva o postupu prací na reformě veřejné správy za II. čtvrtletí roku 200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Návrh zákona o územně správním členění státu a návrh zákona, kterým se mění některé zákony v souvislosti s přijetím zákona o územně správním členění státu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materiál postoupený k projednání vládě 1. června 2005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rozpracována varianta s tzv.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„oblastí“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modifikovaná  podoba krajů stanovených zák. č. 36/1960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Sb. - navrženo 8, </a:t>
            </a:r>
            <a:br>
              <a:rPr sz="2000"/>
            </a:b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STŘEDNÍ STÁTNÍ SPRÁVA*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reforma separována od územní samospráv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dlouhou dobu malá pozornost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pouze strukturální změny - zrušení či nahrazení ministerstev a ústředních správních úřadů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negativní charakteristiky ústřední státní správy -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 materiálech teze </a:t>
            </a:r>
            <a:r>
              <a:rPr b="0" lang="cs-CZ" sz="22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Centra pro sociální a ekonomické strategi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ýznamnou změnou až usnesení vlády č. 619 ze dne 20. června 2001 - projednala návrh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oncepce modernizace ústřední státní správy se zvláštním přihlédnutím k systemizaci a organizačnímu uspořádání správních úřadů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79261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STŘEDNÍ STÁTNÍ SPRÁVA*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oncepce (2001) - priority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rátkodobé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červen 2001 - prosinec 2003):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harmonizace vnitřní organizace ministerstev a jiných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ústředních správních úřadů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střednědobé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(červenec 2002 - prosinec 2003):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zvýšení efektivnosti a zlepšení koordinace při výkonu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horizontálních funkcí a procesů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konsolidace systému ústřední státní správy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posílení koncepční, koordinační a kontrolní úlohy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ministerstev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zvýšení úrovně řízení v ministerstvech a jiných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ústředních správních úřadech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→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i projekty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Phar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4000" y="1841040"/>
            <a:ext cx="792612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ÚSTŘEDNÍ STÁTNÍ SPRÁV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Cíle nové vlády ustavené v roce 2002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jednou programovou prioritou „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zahájení modernizace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ústřední státní správy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, jejímž cílem je zefektivnit, </a:t>
            </a:r>
            <a:br>
              <a:rPr sz="2000"/>
            </a:b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 racionalizovat a zvýšit horizontální koordinaci činností veřejné </a:t>
            </a:r>
            <a:br>
              <a:rPr sz="2000"/>
            </a:b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 správy za širšího využití moderních technologií (elektronické </a:t>
            </a:r>
            <a:br>
              <a:rPr sz="2000"/>
            </a:b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 veřejné správy) a manažerských metod řízení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“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Reformu a modernizaci ústřední státní správy zastřešuje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od 1. 4. 2004 na základě rozhodnutí vlády 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Úřad vlády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usnesení vlády ze dne 17. března 2004 č. 237 „Postup a hlavní směry reformy a modernizace ústřední státní správy obsahující vyřešení gesce a organizačního zabezpečení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“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) Právní vymezení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„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nelze pominout Fosthoffův výrok, že veřejná správa může být jen popsána, nikoli však definována“ (Hendrych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PRÁVA: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ražák - 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činnost(i) sledující záměrně nějaký cíl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nebo ...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činnost(i) nesoucí se za trvalým účelem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řídit ty které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záležitosti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omahač - 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jde o řídící činnosti, a to činnosti záměrné,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účelové, kontinutální a organizované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+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institucionalizované kontrolní a regulativní činnosti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růcha - 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správou se v podstatě chápe společenské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řízení, které však má určité specifické rysy a realizuje se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ve specifických formách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79261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ÚSTŘEDNÍ STÁTNÍ SPRÁV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Postup a hlavní směry reformy a modernizace ústřední státní správy obsahující vyřešení gesce a organizačního zabezpečení (2004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koncepce rozlišuje změny dvojího druhu: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modernizace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- zlepšování současného systému;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reforma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- hlubší jednorázový proces měnící nebo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  zásadním způsobem upravující vlastní systém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k tomu pět hlavních směrů s celkem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patnácti konkrétními projekty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- navázáno na cíle předchozích dokumentů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Vrcholným pracovním orgánem reformy je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Řídící tým reformy ústřední státní správy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mají mu být předkládány všechny výstupy schválené usnesením vlády k reformě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ÚSTŘEDNÍ STÁTNÍ 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projektového řízení využito pro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„“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zvýšení meziresortní spolupráce,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zajištění provázanosti jednotlivých projektů reformy a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yužití obecných principů projektového řízení, kterými jsou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ětší flexibilita,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ětší uvědomění si nákladů,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ětší orientace na cíl,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ětší angažovanost,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ětší průhlednost a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ětší odpovědnost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792612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84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ÚSTŘEDNÍ STÁTNÍ SPRÁV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Směry a projekty reformy a moderniza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A: Racionalizace procesů v ústřední státní správě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.1 Identifikace poslání (cílů) ústředních správních úřadů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.2 Popis a analýza procesů v ústředních správních úřadech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.3 Vypracování pravidel pro fungování tzv. agentur pro ústřední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   státní správu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.4 Reorganizace ústřední státní správ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B: Zlepšení řízení v ústřední státní správě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.1 Efektivní horizontální komunikace a podpora tvorby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  celostátních strategií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.2 Moderní manažerské techniky v ústředních správních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   úřadech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.3 Lepší koordinace ústřední státní správy směrem k územní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   veřejné správě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.4 Řízení znalost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792612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5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STŘEDNÍ STÁTNÍ SPRÁV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75840" indent="-375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Směry a projekty reformy a moderniza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75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C: Zvýšení kvality ústřední státní správ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.1 Zavádění a rozvoj řízení kvality v ústřední státní správě</a:t>
            </a:r>
            <a:br>
              <a:rPr sz="2000"/>
            </a:b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C.2 Reforma regulace v ústřední státní správě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.3 E-governmen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75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D. Implementace a zlepšování státní služby v ústředních správních úřadech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.1 Implementace služebního zákon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75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E. Racionalizace financování ústřední státní správ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E.1 Rozvoj finančního a výkonového managementu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E.2 Využití soukromých zdrojů pro veřejné investice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E.3 Sjednocení a prohloubení kontroly v ústřední státní správě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758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!Současný stav projektů  - webové stránky Úřadu vlády! </a:t>
            </a:r>
            <a:br>
              <a:rPr sz="2000"/>
            </a:br>
            <a:r>
              <a:rPr b="1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(UŽ NE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0520" indent="-380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REFORMA VEŘEJNÉ SPRÁVY A ZVYŠOVÁNÍ KVALIFIKACE ÚŘEDNÍKŮ</a:t>
            </a:r>
            <a:br>
              <a:rPr sz="24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dlouho dobu reformě VS vytýkána absence právní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úpravy postavení zaměstnanců ve VS 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neexistoval 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 systém řízení lidských zdrojů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- usnesení vlády č. 601/1999 Sb. –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koncepce příprav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0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EK 2001: „politováníhodné“, že v ČR stále chybí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legislativa určující status úředníků veřejné správy -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předpokladem pro úspěšné převzetí požadavků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vyplývajících z 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acquis communautaire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práva a povinnosti zaměstnanců dány zejména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zákoníkem práce + zákon o platu a odměně (143/1992)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odex etiky zaměstnanců ve veřejné správě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(vláda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schválila 2001)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komplexní legislativa až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 r. 2002 - 312, </a:t>
            </a:r>
            <a:r>
              <a:rPr b="1" lang="cs-CZ" sz="2200" spc="-1" strike="noStrike" u="sng">
                <a:solidFill>
                  <a:srgbClr val="292929"/>
                </a:solidFill>
                <a:uFillTx/>
                <a:latin typeface="Arial"/>
              </a:rPr>
              <a:t>218 </a:t>
            </a:r>
            <a:r>
              <a:rPr b="0" lang="cs-CZ" sz="2200" spc="-1" strike="noStrike" u="sng">
                <a:solidFill>
                  <a:srgbClr val="292929"/>
                </a:solidFill>
                <a:uFillTx/>
                <a:latin typeface="Arial"/>
              </a:rPr>
              <a:t>(2009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VÝZNAMNÉ SOUČÁSTI REFORMY KONTROLY VEŘEJNÉ SPRÁVY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(SAMOSTUDIUM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Nejvyšší správní soud v Ústavě ČR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(1993), jeho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  postavení upravil až zákon č. 150/2002 Sb. s 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  účinností od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1. 1. 2003 - kompeten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Veřejný ochránce práv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  - zákon č. 349/1999 Sb.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Svobodný přístup k informacím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  - zákon č. 106/1999 Sb., zák. č. 123/1998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) Právní vymezení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98120" y="1844640"/>
            <a:ext cx="766116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PECIFIČNOST VEŘEJNÉ SPRÁV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br>
              <a:rPr sz="20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eřejnoprávní charakter subjektu veřejného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pravování (tj. nositel veřejné moci),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objekt správy - „veřejné záležitosti“ legitimované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„veřejným zájmem“,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= odvozenost cílů od funkcí státu či územního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 samosprávného celku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zákonné založením subjektu i objektu tohoto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druhu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polečenského řízení (v různé míře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konkrétnosti), = rule of law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) Právní vymezení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-3985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pozitivní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negativ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materiální (funkční)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formální (organizační / institucionální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státní správa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samo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KONOMICKÉ ASPEKTY VEŘEJNÉ SPRÁVY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v oblasti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samosprávy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větší prostor pro konkretizaci cílů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(žádoucích stavů) a kroků k jejich dosažení (a tím i pro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inovaci – a tím i pro řízení)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předpokládá znalosti: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) u reformátorů VS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) u úředníků / politiků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) u hodnotitelů VS činností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... a jiné kapacit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) Veřejná ekonomie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 veřejná s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8960" y="1557360"/>
            <a:ext cx="76611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-420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zahraniční literatura - např. Stiglitz, Musgrave a Musgravová či Jackson a Brown - termín „vláda“ (= stát = regulace = intervence... = systém veřejné moci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česká literatura se někdy snaží specifikovat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yužívá tezí správního práva, nebo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ymezuje obsahově odlišně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správní odvětví jako podskupiny veřejno-správní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kompetence vs.  postavení veřejné správy v národním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hospodářstv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úhly pohledu na veřejnou správu: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subjekt s kompetencí zakládat, řídit / spravovat subjekty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veřejného sektoru (ovlivňuje tak i jeho selhávání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producent veřejných statků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specifický prostor pro uplatnění osobních či jiných zájmů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byrokratů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Symbol"/>
                <a:ea typeface="Symbol"/>
              </a:rPr>
              <a:t>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mohou se překrývat, vždy důraz na aspekt EFEKTIVNOSTI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) Veřejná ekonomie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 veřejná s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699920"/>
            <a:ext cx="766116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-420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chrana, F. Veřejný sektor a efektivní rozhodován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+ způsob přijetí rozhodnutí: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 veřejná volb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86756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) Interdisciplinár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557360"/>
            <a:ext cx="76611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93840" indent="-393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 současnosti ohraničovány dvě základní koncepce / filozofie / přístup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) (new) public management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(př. 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Hughes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)</a:t>
            </a:r>
            <a:br>
              <a:rPr sz="24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vychází z ekonomie a managementu soukromé sfér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tzv. tradiční správa (Weber, Wilson) vs.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manažerismus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 (byrokracie vs.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trh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do sebe zahleděné řízení vs. zaměření se na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  <a:ea typeface="Arial"/>
              </a:rPr>
              <a:t>klient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inputově dominující struktura vs.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  <a:ea typeface="Arial"/>
              </a:rPr>
              <a:t>efektivní výstup a výsledk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krátkodobé vs.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  <a:ea typeface="Arial"/>
              </a:rPr>
              <a:t>strategické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uvažování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souvisí s prostorem, který je věnován řízení a především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kontrole výkonů a výsledků a (osobní) odpovědnost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za výsledk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→ funkce správy užší a limitovanější, než funkce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    managementu – spravování jeho součástí: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1600" spc="-1" strike="noStrike">
                <a:solidFill>
                  <a:srgbClr val="292929"/>
                </a:solidFill>
                <a:latin typeface="Arial"/>
                <a:ea typeface="Arial"/>
              </a:rPr>
              <a:t>Základní rozdíl je ve významové odlišnosti mezi „sloužit“ a </a:t>
            </a:r>
            <a:r>
              <a:rPr b="0" i="1" lang="cs-CZ" sz="1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1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1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1600" spc="-1" strike="noStrike">
                <a:solidFill>
                  <a:srgbClr val="292929"/>
                </a:solidFill>
                <a:latin typeface="Arial"/>
                <a:ea typeface="Arial"/>
              </a:rPr>
              <a:t>„kontrolovat výsledky nebo dosahovat výsledků“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  <a:ea typeface="Arial"/>
              </a:rPr>
              <a:t>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0:30:58Z</dcterms:created>
  <dc:creator>Eman</dc:creator>
  <dc:description/>
  <dc:language>en-US</dc:language>
  <cp:lastModifiedBy>77120</cp:lastModifiedBy>
  <dcterms:modified xsi:type="dcterms:W3CDTF">2006-10-13T08:16:06Z</dcterms:modified>
  <cp:revision>54</cp:revision>
  <dc:subject/>
  <dc:title>Vymezení správní vědy a veřejné správy</dc:title>
</cp:coreProperties>
</file>