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EBA-DE88-40AF-8D21-A1892E5B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280-01C9-4543-A32D-D41CDC0D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E3B-BC91-4C4C-8318-0FE04B78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9BA-BBB8-45E8-8382-4132AF24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7511-2612-4E28-A385-77A0FB2B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C006-9D11-44A0-A099-0B0572A0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1A91-630D-4DAD-9128-355D22F7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0278-F623-41D3-A51D-5A695996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E740-8715-4CB9-A6C3-AA629D9C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7E72-082B-41BA-B64A-C05B9A2D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1087-EAA6-46B4-9C07-C9E8A26A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D0F-E996-4ACC-BABD-E477F328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020F-FCEF-48C3-B1F7-A1682070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1DCA-960B-4639-AECA-70BD1E9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63AA-5771-4324-879F-9B358089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535B-0F69-4153-984A-D63A3BBE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38D9-A581-4540-ACC1-7AA37860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741-9253-41E8-9D7E-B469A76C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58D-143D-45C7-B933-1C197BA8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924-7867-4AC0-9AA1-8BC2679B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925-FD28-464E-9DB9-DC2066BE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6F3-0779-48AC-9649-1161644B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2D0-F3EF-4EB4-9562-11D6120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216-521F-4C29-9AA3-B1D2DE3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ED7B-4225-44D8-A35B-79577AD7FA4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B0CB-7DB1-4AE1-ABF4-A68F7CDC33E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lasti.cinnosti.obci.CR.pdf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oucasny.system.VS.CR.2006.pdf/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řejná správa a její reforma 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858920" y="4508640"/>
            <a:ext cx="3065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KVE ESF MU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S - září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ředníci mají manažerské ro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      (včetně řízení vztahů byrokracie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olitika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mohou se objevit vážné otázky, které se týkají etiky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povědnosti, avšak přínosy PM jso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vděpodob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mnohem větší než náklad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měny se dosud odehrály především v teorii než v praxi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znalosti?, neochota?, legislativa?, funguje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soukromém sektoru?...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ublic management NEZNAMENÁ nekritické převzet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aktik soukromého sektor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výrazný nedostatek prax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manažerské změ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podníceny z centra, aniž by byla následně věnován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ostatečná pozornost procesu jejich implement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OECD 2005: pozornost a) specifikům vlastní veřejné správy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b) nedostatkům nástroj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(good) governan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= diskuze o způsobu uplatnění moci v situaci demokratické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deficitu, která staví na kritice NP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kromý sektor vs. veřejný sektor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nažerismus vs. myšlenky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demokraci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proces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Citizens and the new governance - </a:t>
            </a:r>
            <a:r>
              <a:rPr b="0" i="1" lang="en-GB" sz="1800" spc="-1" strike="noStrike" u="sng">
                <a:solidFill>
                  <a:srgbClr val="292929"/>
                </a:solidFill>
                <a:uFillTx/>
                <a:latin typeface="Arial"/>
              </a:rPr>
              <a:t>Beyond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 New Public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292929"/>
                </a:solidFill>
                <a:latin typeface="Arial"/>
              </a:rPr>
              <a:t>Managemen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azník/spotřebitel služeb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luralita a formální rovnost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občan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articipac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komunitních záležitost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iné pojetí efektivnosti? - Dahl: „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Efektivnost zde chápu tak, že orgány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státní moci se zabývají problematikou, kterou občané považují za důležitou </a:t>
            </a:r>
            <a:br>
              <a:rPr sz="1600"/>
            </a:br>
            <a:r>
              <a:rPr b="0" i="1" lang="cs-CZ" sz="1600" spc="-1" strike="noStrike">
                <a:solidFill>
                  <a:srgbClr val="292929"/>
                </a:solidFill>
                <a:latin typeface="Arial"/>
              </a:rPr>
              <a:t>   a aktuální a o níž jsou přesvědčeni, že si žádá řeše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 zde </a:t>
            </a: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realita není často v souladu s rétoriko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znalosti?, neochota?, legislativa?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železný zákon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ligarchie?, aktivní občanství?) </a:t>
            </a:r>
            <a:r>
              <a:rPr b="0" lang="en-GB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a b) = SPOR O RELEVANCI PRAKTICKÉ APLIKACE RŮZNÝCH TEORIÍ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východiska nové defini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(PM) a (G)G se navzájem spíše doplňují, než vylučuj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veřejná správa specifickým nástrojem společenského řízení, který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však musí podléhat určitým řídicím procesům ("vnitřní" řízen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řídícího subjektu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praxi řízení ovlivňuje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kde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o se říd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jakým způsobem (jaká volnost řízení a odpovědnost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s jakým cílem (v čí prospěch?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s jakými zdroji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významnými prvky/funkcemi řízení je plánování a kontrol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(vyhodnocování účinnosti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legitim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ůraz na využití existujících znalostí a vytváření nov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oznatků (učení se) (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↑ racionali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v rámci systému veřejné moci / institucionálně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eden z institucionálních nástrojů pro dosahová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í státu nebo nižšího územně-správního celk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materiálně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x činností tradiční správy a řízení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ý vyplýv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 úlohy veřejné správy ve veřejném sektoru (čás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eřejného sektoru garantující – vlastní činností či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nak - zabezpečování jeho funkcí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ízení společnosti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prvek institucionalizované kontroly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regulace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zdrojů k dosahování cílů vlády (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Wald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teré by v moderním státě mělo stavě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racionalitě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NPM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také odrážet potřeby občan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GG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483920"/>
            <a:ext cx="8015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Ve</a:t>
            </a: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řejná správ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tillman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exekutivní složkou státní moci (která nicméně souvis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důležitých směrech se složkou státní moci legislativ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ustiční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formulujícím a implementujícím veřejné politi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3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který ve své činnosti zahrnuje významný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ozsah problémů týkajících se lidského chování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operačních snah lidí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4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, jehož činnost může být v několika směre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dlišována od soukromé správy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5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produkujícím veřejné statky;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6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 subjektem zakotveným v právu a současně subjekt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konávajícím práv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2) Reforma VS v ČR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literatura a jiné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 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b)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c)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0000"/>
                </a:solidFill>
                <a:latin typeface="Arial"/>
              </a:rPr>
              <a:t>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esej na téma:</a:t>
            </a:r>
            <a:br>
              <a:rPr sz="3200"/>
            </a:b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3200" spc="-1" strike="noStrike">
                <a:solidFill>
                  <a:srgbClr val="292929"/>
                </a:solidFill>
                <a:latin typeface="Arial"/>
              </a:rPr>
              <a:t>Proč být či nebýt úředník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a) náležitosti: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řádkování 1, min. 3 str., max 2,5 cm okraje,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písmo 12, VLASTNÍ NÁZOR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ázev: Esej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_VS_Prijmeni.do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o pátku 20. 10. do odevzdavárn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)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)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)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ve městech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členění zůstalo v podstatě nezměně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od r. 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Arial"/>
              </a:rPr>
              <a:t>1) Vymezení veřejné s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ávní (ústavní a správ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ekonomická (veřejná ekonomi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ouvisející disciplíny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) interdisciplinární (současný?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ě vědní?, manažerující?)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snaha specifikovat roli veřejné správy ve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    veřejném sektoru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vztah k legitimitě (potvrzení/vyvrácení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jejích činností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en-US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en-US" sz="2200" spc="-1" strike="noStrike" u="sng">
                <a:solidFill>
                  <a:srgbClr val="292929"/>
                </a:solidFill>
                <a:uFillTx/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nelze pominout Fosthoffův výrok, že veřejná správa může být jen popsána, nikoli však definována“ (Hendrych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ÁVA: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ažák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sledující záměrně nějaký cíl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nebo ..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činnost(i) nesoucí se za trvalým účelem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dit ty kter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ležit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mahač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jde o řídící činnosti, a to činnosti záměrné,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účelové, kontinutální a organizovan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institucionalizované kontrolní a regulativní čin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ůcha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právou se v podstatě chápe společenské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řízení, které však má určité specifické rysy a realizuje s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e specifických formá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-375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75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 </a:t>
            </a: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(UŽ N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en-US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8120" y="1844640"/>
            <a:ext cx="7661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ECIFIČNOST VEŘEJN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oprávní charakter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(tj. nositel veřejné moci)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bjekt správy 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odvozenost cílů od funkcí státu či územní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samosprávného celk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onné založením subjektu i objektu tohot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ruh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olečenského řízení (v různé míře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nkrétnosti), = rule of la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) Právní vymezení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pozitivní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negativ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materiální (funkční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formální (organizační / institucionální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tátní správa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KONOMICKÉ ASPEKTY VEŘEJNÉ SPRÁVY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v oblasti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samosprávy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větší prostor pro konkretizaci cílů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(žádoucích stavů) a kroků k jejich dosažení (a tím i pro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ovaci – a tím i pro řízení) 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- předpokládá znalosti: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) u reformátorů VS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) u úředníků / politiků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) u hodnotitelů VS činností</a:t>
            </a:r>
            <a:br>
              <a:rPr sz="2000"/>
            </a:b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... a jiné kapac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hraniční literatura - např. Stiglitz, Musgrave a Musgravová či Jackson a Brown - termín „vláda“ (= stát = regulace = intervence... = systém veřejné moci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ská literatura se někdy snaží specifikovat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užívá tezí správního práva, neb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mezuje obsahově odlišně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rávní odvětví jako podskupiny veřejno-správ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ompetence vs.  postavení veřejné správy v národn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hospodářstv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úhly pohledu na veřejnou správu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ubjekt s kompetencí zakládat, řídit / spravovat subjekt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ho sektoru (ovlivňuje tak i jeho selhávání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oducent veřejných stat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pecifický prostor pro uplatnění osobních či jiných zájmů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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mohou se překrývat, vždy důraz na aspekt 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chrana, F. Veřejný sektor a efektivní rozhodo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působ přijetí rozhodnutí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veřejná volb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67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) Interdisciplin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557360"/>
            <a:ext cx="7661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současnosti ohraničovány dvě základní koncepce / filozofie / přístup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(new) public management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ř.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Hugh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chází z ekonomie a managementu soukromé sfér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tzv. tradiční správa (Weber, Wilson)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manažerismus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(byrokracie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tr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do sebe zahleděné řízení vs. zaměření se na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klien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inputově dominující struktura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efektivní výstup a výsledk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krátkodobé vs. 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  <a:ea typeface="Arial"/>
              </a:rPr>
              <a:t>strategic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uvažová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prostorem, který je věnován řízení a předevší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ntrole výkonů a výsledků a (osobní) odpovědnos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výsledk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funkce správy užší a limitovanější, než funkc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managementu – spravování jeho součástí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Základní rozdíl je ve významové odlišnosti mezi „sloužit“ a 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„kontrolovat výsledky nebo dosahovat výsledků“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0:30:58Z</dcterms:created>
  <dc:creator>Eman</dc:creator>
  <dc:description/>
  <dc:language>en-US</dc:language>
  <cp:lastModifiedBy>77120</cp:lastModifiedBy>
  <dcterms:modified xsi:type="dcterms:W3CDTF">2006-10-13T08:16:06Z</dcterms:modified>
  <cp:revision>54</cp:revision>
  <dc:subject/>
  <dc:title>Vymezení správní vědy a veřejné správy</dc:title>
</cp:coreProperties>
</file>