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838-31B9-469B-A036-AFD04249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2842-CA28-4057-B514-7C730D2A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877E-E8D0-404C-91E2-0DB604BF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54F0-02E3-4313-8875-46A76117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E128-8FBC-42C2-A290-2DB8ED10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60CC-0E29-4D86-ADDA-840912F7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4D30-6A99-4490-BCB3-3F95B206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B9F7-0A0E-46FB-BD8E-C3C11A25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9295-4799-43B1-9FC5-0A5784A5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79B8-00E0-4CCD-83E5-FE39E608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D2E0-62DF-43E3-9A69-DF2FBCF0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9EA2-C26F-4CA8-8EFC-AA6AE331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254A-36F6-4A13-BC32-A4A9DE4D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9CF5-8A4A-4D80-87C0-03015084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760B-B113-4FB5-A29E-7A14BD6D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4E0A-EAD3-4F24-B645-25E68AC3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5EC5-AD51-4344-BEA5-2E66DD3A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BE86-FADD-4B23-B90E-1362C50E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DB11-5647-444D-9CE6-FE46CDB9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6172-9EBA-4AF0-97B7-EBEB0F24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54E5-32AC-4AEE-A377-AF3A3525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FBF0-D824-4064-90A7-45BB96E6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39DB-BA0E-40A4-AA06-4FAA972A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74A0-BFEE-49F9-8BB7-4A7032C8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2F1A-38BE-4F90-B1CE-D6521CC4CD9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96D9-2EC5-4D53-81EE-0D3208471B7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blasti.cinnosti.obci.CR.pdf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vcr.cz/sprava/index.html" TargetMode="External"/><Relationship Id="rId2" Type="http://schemas.openxmlformats.org/officeDocument/2006/relationships/hyperlink" Target="http://www.mvcr.cz/sprava/index.html" TargetMode="External"/><Relationship Id="rId3" Type="http://schemas.openxmlformats.org/officeDocument/2006/relationships/hyperlink" Target="http://www.mvcr.cz/sprava/index.html" TargetMode="External"/><Relationship Id="rId4" Type="http://schemas.openxmlformats.org/officeDocument/2006/relationships/hyperlink" Target="http://www.mvcr.cz/sprava/index.html" TargetMode="External"/><Relationship Id="rId5" Type="http://schemas.openxmlformats.org/officeDocument/2006/relationships/hyperlink" Target="http://www.mvcr.cz/sprava/index.html" TargetMode="External"/><Relationship Id="rId6" Type="http://schemas.openxmlformats.org/officeDocument/2006/relationships/hyperlink" Target="http://www.mvcr.cz/sprava/index.html" TargetMode="External"/><Relationship Id="rId7" Type="http://schemas.openxmlformats.org/officeDocument/2006/relationships/hyperlink" Target="http://www.mvcr.cz/sprava/index.html" TargetMode="External"/><Relationship Id="rId8" Type="http://schemas.openxmlformats.org/officeDocument/2006/relationships/hyperlink" Target="http://www.mvcr.cz/sprava/index.html" TargetMode="External"/><Relationship Id="rId9" Type="http://schemas.openxmlformats.org/officeDocument/2006/relationships/hyperlink" Target="http://www.vlada.cz/cs/urad/default.html" TargetMode="External"/><Relationship Id="rId10" Type="http://schemas.openxmlformats.org/officeDocument/2006/relationships/hyperlink" Target="http://www.vlada.cz/cs/urad/default.html" TargetMode="External"/><Relationship Id="rId11" Type="http://schemas.openxmlformats.org/officeDocument/2006/relationships/hyperlink" Target="http://www.vlada.cz/cs/urad/default.html" TargetMode="External"/><Relationship Id="rId12" Type="http://schemas.openxmlformats.org/officeDocument/2006/relationships/hyperlink" Target="http://www.vlada.cz/cs/urad/default.html" TargetMode="External"/><Relationship Id="rId13" Type="http://schemas.openxmlformats.org/officeDocument/2006/relationships/hyperlink" Target="http://www.vlada.cz/cs/urad/default.html" TargetMode="External"/><Relationship Id="rId14" Type="http://schemas.openxmlformats.org/officeDocument/2006/relationships/hyperlink" Target="http://www.vlada.cz/cs/urad/default.html" TargetMode="External"/><Relationship Id="rId15" Type="http://schemas.openxmlformats.org/officeDocument/2006/relationships/hyperlink" Target="http://www.vlada.cz/cs/urad/default.html" TargetMode="External"/><Relationship Id="rId16" Type="http://schemas.openxmlformats.org/officeDocument/2006/relationships/hyperlink" Target="http://www.vlada.cz/cs/urad/default.html" TargetMode="External"/><Relationship Id="rId17" Type="http://schemas.openxmlformats.org/officeDocument/2006/relationships/hyperlink" Target="http://www.vlada.cz/cs/urad/default.html" TargetMode="External"/><Relationship Id="rId18" Type="http://schemas.openxmlformats.org/officeDocument/2006/relationships/hyperlink" Target="http://www.vlada.cz/cs/urad/default.html" TargetMode="External"/><Relationship Id="rId19" Type="http://schemas.openxmlformats.org/officeDocument/2006/relationships/hyperlink" Target="http://www.psp.cz/sqw/hp.sqw?k=30" TargetMode="External"/><Relationship Id="rId20" Type="http://schemas.openxmlformats.org/officeDocument/2006/relationships/hyperlink" Target="http://www.psp.cz/sqw/hp.sqw?k=30" TargetMode="External"/><Relationship Id="rId21" Type="http://schemas.openxmlformats.org/officeDocument/2006/relationships/hyperlink" Target="http://www.psp.cz/sqw/hp.sqw?k=30" TargetMode="External"/><Relationship Id="rId22" Type="http://schemas.openxmlformats.org/officeDocument/2006/relationships/hyperlink" Target="http://www.psp.cz/sqw/hp.sqw?k=30" TargetMode="External"/><Relationship Id="rId23" Type="http://schemas.openxmlformats.org/officeDocument/2006/relationships/hyperlink" Target="http://www.psp.cz/sqw/hp.sqw?k=30" TargetMode="External"/><Relationship Id="rId24" Type="http://schemas.openxmlformats.org/officeDocument/2006/relationships/hyperlink" Target="http://www.psp.cz/sqw/hp.sqw?k=30" TargetMode="External"/><Relationship Id="rId25" Type="http://schemas.openxmlformats.org/officeDocument/2006/relationships/hyperlink" Target="http://www.psp.cz/sqw/hp.sqw?k=30" TargetMode="External"/><Relationship Id="rId26" Type="http://schemas.openxmlformats.org/officeDocument/2006/relationships/hyperlink" Target="http://www.psp.cz/sqw/hp.sqw?k=30" TargetMode="External"/><Relationship Id="rId27" Type="http://schemas.openxmlformats.org/officeDocument/2006/relationships/hyperlink" Target="http://www.psp.cz/sqw/hp.sqw?k=30" TargetMode="External"/><Relationship Id="rId28" Type="http://schemas.openxmlformats.org/officeDocument/2006/relationships/hyperlink" Target="http://www.psp.cz/sqw/hp.sqw?k=30" TargetMode="External"/><Relationship Id="rId29" Type="http://schemas.openxmlformats.org/officeDocument/2006/relationships/hyperlink" Target="http://www.psp.cz/sqw/hp.sqw?k=30" TargetMode="External"/><Relationship Id="rId30" Type="http://schemas.openxmlformats.org/officeDocument/2006/relationships/hyperlink" Target="http://www.micr.cz/" TargetMode="External"/><Relationship Id="rId31" Type="http://schemas.openxmlformats.org/officeDocument/2006/relationships/hyperlink" Target="http://www.micr.cz/" TargetMode="External"/><Relationship Id="rId32" Type="http://schemas.openxmlformats.org/officeDocument/2006/relationships/hyperlink" Target="http://www.micr.cz/" TargetMode="External"/><Relationship Id="rId33" Type="http://schemas.openxmlformats.org/officeDocument/2006/relationships/hyperlink" Target="http://www.micr.cz/" TargetMode="External"/><Relationship Id="rId34" Type="http://schemas.openxmlformats.org/officeDocument/2006/relationships/hyperlink" Target="http://www.micr.cz/" TargetMode="External"/><Relationship Id="rId3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oucasny.system.VS.CR.2006.pdf/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mvcr.cz/odbor/reforma/seznam.html" TargetMode="External"/><Relationship Id="rId2" Type="http://schemas.openxmlformats.org/officeDocument/2006/relationships/hyperlink" Target="http://www.mvcr.cz/odbor/reforma/seznam.html" TargetMode="External"/><Relationship Id="rId3" Type="http://schemas.openxmlformats.org/officeDocument/2006/relationships/hyperlink" Target="http://www.mvcr.cz/odbor/reforma/seznam.html" TargetMode="External"/><Relationship Id="rId4" Type="http://schemas.openxmlformats.org/officeDocument/2006/relationships/hyperlink" Target="http://www.mvcr.cz/odbor/reforma/seznam.html" TargetMode="External"/><Relationship Id="rId5" Type="http://schemas.openxmlformats.org/officeDocument/2006/relationships/hyperlink" Target="http://www.mvcr.cz/odbor/reforma/seznam.html" TargetMode="External"/><Relationship Id="rId6" Type="http://schemas.openxmlformats.org/officeDocument/2006/relationships/hyperlink" Target="http://www.mvcr.cz/odbor/reforma/seznam.html" TargetMode="External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mvcr.cz/odbor/reforma/seznam.html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Problemy.ustredni.SS.doc/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řejná správa a její reforma v Č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858920" y="4508640"/>
            <a:ext cx="30654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g. David Špače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KVE ESF MU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VS - září 2006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557360"/>
            <a:ext cx="7661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(new) public management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př.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Hughe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*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ředníci mají manažerské role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          (včetně řízení vztahů byrokracie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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politika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„mohou se objevit vážné otázky, které se týkají etiky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dpovědnosti, avšak přínosy PM jsou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avděpodobně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mnohem větší než náklady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měny se dosud odehrály především v teorii než v praxi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znalosti?, neochota?, legislativa?, funguje říze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soukromém sektoru?...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ublic management NEZNAMENÁ nekritické převzetí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aktik soukromého sektoru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výrazný nedostatek prax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manažerské změn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podníceny z centra, aniž by byla následně věnován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dostatečná pozornost procesu jejich implement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OECD 2005: pozornost a) specifikům vlastní veřejné správy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b) nedostatkům nástroj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(good) governan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= diskuze o způsobu uplatnění moci v situaci demokratickéh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deficitu, která staví na kritice NP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oukromý sektor vs. veřejný sektor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manažerismus vs. myšlenky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demokraci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proces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292929"/>
                </a:solidFill>
                <a:latin typeface="Arial"/>
              </a:rPr>
              <a:t>Citizens and the new governance - </a:t>
            </a:r>
            <a:r>
              <a:rPr b="0" i="1" lang="en-GB" sz="1800" spc="-1" strike="noStrike" u="sng">
                <a:solidFill>
                  <a:srgbClr val="292929"/>
                </a:solidFill>
                <a:uFillTx/>
                <a:latin typeface="Arial"/>
              </a:rPr>
              <a:t>Beyond</a:t>
            </a:r>
            <a:r>
              <a:rPr b="0" i="1" lang="en-GB" sz="1800" spc="-1" strike="noStrike">
                <a:solidFill>
                  <a:srgbClr val="292929"/>
                </a:solidFill>
                <a:latin typeface="Arial"/>
              </a:rPr>
              <a:t> New Public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292929"/>
                </a:solidFill>
                <a:latin typeface="Arial"/>
              </a:rPr>
              <a:t>Managemen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ákazník/spotřebitel služeb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luralita a formální rovnost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občan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a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articip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v komunitních záležitostech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jiné pojetí efektivnosti? - Dahl: „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</a:rPr>
              <a:t>Efektivnost zde chápu tak, že orgány </a:t>
            </a:r>
            <a:br>
              <a:rPr sz="1600"/>
            </a:br>
            <a:r>
              <a:rPr b="0" i="1" lang="cs-CZ" sz="1600" spc="-1" strike="noStrike">
                <a:solidFill>
                  <a:srgbClr val="292929"/>
                </a:solidFill>
                <a:latin typeface="Arial"/>
              </a:rPr>
              <a:t>   státní moci se zabývají problematikou, kterou občané považují za důležitou </a:t>
            </a:r>
            <a:br>
              <a:rPr sz="1600"/>
            </a:br>
            <a:r>
              <a:rPr b="0" i="1" lang="cs-CZ" sz="1600" spc="-1" strike="noStrike">
                <a:solidFill>
                  <a:srgbClr val="292929"/>
                </a:solidFill>
                <a:latin typeface="Arial"/>
              </a:rPr>
              <a:t>   a aktuální a o níž jsou přesvědčeni, že si žádá řešení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"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i zde 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realita není často v souladu s rétorikou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znalosti?, neochota?, legislativa?,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železný zákon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ligarchie?, aktivní občanství?) 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a b) = SPOR O RELEVANCI PRAKTICKÉ APLIKACE RŮZNÝCH TEORIÍ?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východiska nové defini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N(PM) a (G)G se navzájem spíše doplňují, než vylučuj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veřejná správa specifickým nástrojem společenského řízení, který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však musí podléhat určitým řídicím procesům ("vnitřní" řízení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řídícího subjektu)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praxi řízení ovlivňuje: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kde se říd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co se říd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c) jakým způsobem (jaká volnost řízení a odpovědnost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d) s jakým cílem (v čí prospěch?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e) s jakými zdroji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- významnými prvky/funkcemi řízení je plánování a kontrola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(vyhodnocování účinnosti) (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↑ legitimity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důraz na využití existujících znalostí a vytváření nových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poznatků (učení se) (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↑ racionality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483920"/>
            <a:ext cx="8015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Ve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řejná správ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v rámci systému veřejné moci / institucionálně </a:t>
            </a:r>
            <a:br>
              <a:rPr sz="2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jeden z institucionálních nástrojů pro dosahován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í státu nebo nižšího územně-správního celk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materiálně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mix činností tradiční správy a řízení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terý vyplývá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 úlohy veřejné správy ve veřejném sektoru (část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eřejného sektoru garantující – vlastní činností či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jinak - zabezpečování jeho funkcí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řízení společnosti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prvek institucionalizované kontroly 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regulace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a zdrojů k dosahování cílů vlády (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Waldo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)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teré by v moderním státě mělo stavět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a racionalitě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NPM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a také odrážet potřeby občanů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GG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483920"/>
            <a:ext cx="8015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Ve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řejná správ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Stillman: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1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exekutivní složkou státní moci (která nicméně souvis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důležitých směrech se složkou státní moci legislativn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ustiční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2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 formulujícím a implementujícím veřejné politik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3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, který ve své činnosti zahrnuje významný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rozsah problémů týkajících se lidského chován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ooperačních snah lidí;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4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, jehož činnost může být v několika směre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dlišována od soukromé správy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5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 produkujícím veřejné statky;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6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 zakotveným v právu a současně subjekte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konávajícím práv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00"/>
                </a:solidFill>
                <a:latin typeface="Arial"/>
              </a:rPr>
              <a:t>2) Reforma VS v ČR</a:t>
            </a:r>
            <a:br>
              <a:rPr sz="40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literatura a jiné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8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CHELLE, K.</a:t>
            </a:r>
            <a:r>
              <a:rPr b="0" i="1" lang="fr-FR" sz="2000" spc="-1" strike="noStrike">
                <a:solidFill>
                  <a:srgbClr val="292929"/>
                </a:solidFill>
                <a:latin typeface="Arial"/>
              </a:rPr>
              <a:t>Vývoj veřejné správy v letech 1848 - 1948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. </a:t>
            </a:r>
            <a:br>
              <a:rPr sz="2000"/>
            </a:b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raha: EUROLEX BOHEMIA 2002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ČECHÁK, V.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ývoj veřejné správy v Československu a České republice (1945 - 2004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 Praha: EUPRESS 2004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www stránk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Ministerstva vnitra -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mv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sprava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/index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html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Úřadu vlády -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vlada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cs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urad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7"/>
              </a:rPr>
              <a:t>/default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8"/>
              </a:rPr>
              <a:t>html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Poslanecké sněmovny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9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0"/>
              </a:rPr>
              <a:t>psp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1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2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3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4"/>
              </a:rPr>
              <a:t>sqw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6"/>
              </a:rPr>
              <a:t>hp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7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8"/>
              </a:rPr>
              <a:t>sqw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9"/>
              </a:rPr>
              <a:t>?k=30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Ministerstva informatiky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0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1"/>
              </a:rPr>
              <a:t>mi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2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3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4"/>
              </a:rPr>
              <a:t>/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) Reforma a současný model veřejné správy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oučasný model - </a:t>
            </a:r>
            <a:r>
              <a:rPr b="0" lang="en-US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zd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87480" y="2133720"/>
            <a:ext cx="6969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b) Vymezení reformy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844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-375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REFORMA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=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něco zlepšit, zdokonalit nebo odstranit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problémy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mnoho aspektů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olitický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právní, institucionální, technický, finanční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ociální, psychologický ...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centralizace vs. dekoncentrace a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decentralizac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fáze: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teoretická vs. praktická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přípravy vs. realizace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o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 rozsahu a zaměření rozhoduje veřejnou 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volbou přijatá </a:t>
            </a:r>
            <a:r>
              <a:rPr b="0" lang="pl-PL" sz="2600" spc="-1" strike="noStrike" u="sng">
                <a:solidFill>
                  <a:srgbClr val="292929"/>
                </a:solidFill>
                <a:uFillTx/>
                <a:latin typeface="Arial"/>
              </a:rPr>
              <a:t>strategi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(existuje?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c)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NPM a GG </a:t>
            </a:r>
            <a:r>
              <a:rPr b="0" lang="cs-CZ" sz="26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PRINCIPY VS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principy </a:t>
            </a:r>
            <a:r>
              <a:rPr b="0" lang="pt-BR" sz="2600" spc="-1" strike="noStrike">
                <a:solidFill>
                  <a:srgbClr val="292929"/>
                </a:solidFill>
                <a:latin typeface="Arial"/>
              </a:rPr>
              <a:t>ideálního fungová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ákladní zásady (čím legitimované?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ideový rámec reformátorů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hodnotový základ vzorců chování úředníků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ormativní charakter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ouvisí s dynamikou VS (sebereformování)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společnosti (tlaky k reformě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backoffice a frontoffi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principy reálného fungová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blíže později - byrokracie, korupce ...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c)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ideální principy VS činností</a:t>
            </a:r>
            <a:br>
              <a:rPr sz="32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ýsledkem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právně-právní globalizace ("EAS"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souvisí s prvníma dvěma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ázemi aproximace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práva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Pomahače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harmonizační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=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důraz na sbližování a sladění různorodých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právních postupů a kritérií</a:t>
            </a:r>
            <a:br>
              <a:rPr sz="18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standardizač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= výběr a doporučení adekvátních vzorů a principů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unifikač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=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propojení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s cílem vytváření vyšších typů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novací nejen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v právním řádu jako takovém, ale i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ve způsobech jeho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mplementace v rozdílném socioekonomickém, politickém 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nstitucionálním prostředí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D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esej na téma:</a:t>
            </a:r>
            <a:br>
              <a:rPr sz="3200"/>
            </a:b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3200" spc="-1" strike="noStrike">
                <a:solidFill>
                  <a:srgbClr val="292929"/>
                </a:solidFill>
                <a:latin typeface="Arial"/>
              </a:rPr>
              <a:t>Proč být či nebýt úředníke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a) náležitosti: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řádkování 1, min. 3 str., max 2,5 cm okraje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  písmo 12, VLASTNÍ NÁZOR</a:t>
            </a:r>
            <a:br>
              <a:rPr sz="2200"/>
            </a:b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ázev: Esej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_VS_Prijmeni.do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do pátku 20. 10. do odevzdavárn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d) Možné nedostatky ref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Vidláková: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Špatný start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především nedostatek informací,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č. historického kontextu = neracionál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Imitace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(institucionální xerox)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, nikoli inova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správná diagnóza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a nesplnitelnost cílů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rozhodný přístup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reformátorů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5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Chyby v plánová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6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dostatek zpětné vazby a monitorování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7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schopnost disponovat zdroji a interní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podporo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) Historické pozadí reformy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0) Vybrané prvky reforem 1848 - 191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1. Československá republika a VS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1918 -193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2. ČSR, okupace a období protektorát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1945 - 194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) 1948 - 1960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) 1960 - 1968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?SAMOSPRÁVA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f) 1968 - 1989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385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BECNÉ CHARAKTERISTIK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oučást transformace společnost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totální strukturální přestavba dřívější centralizované státní správy v decentralizovanou veřejnou správu (princip subsidiarity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měna totalitního státu ve stát demokratický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→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renesance samo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lká rychlost změny a s tím způsobené problémy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 kvalitou přípravných fází reformy - následné legislativní smrště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trecková - příčiny reformy v ČR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aše VS je silně etatistická (silný vliv státn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správy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elmi centralistická (státní správa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resortismus, nízká koordinac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slabá veřejná kontrola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ízká úroveň používání moderních metod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managementu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ízká profesionální úroveň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úředníků i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zastupitel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/ ČSFR (1989 - 199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Nebyla přijata ústava ve formě jednoho ústavního dokumentu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vše řešeno jednotlivými ústavními zákony: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135/1989 Sb.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- zrušil čl. 4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294/1990 Sb.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ze dne 18. července, kterým se mění a doplňuje ústavní zákon č. 100/1960 Sb., Ústava ČSSR, a ústavní zákon č. 143/1968 Sb., o čs. federaci a kterým se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zkracuje volební období národních výborů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(zvolených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 r. 1986, do dne voleb do zastupitelstev obcí - 23. - 24. 11.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23/1991, Listina základních práv a svobo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91/1991, o Ústavním soud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327/1991, o referend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341000"/>
            <a:ext cx="76611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FEDERÁLNÍ A REPUBLIKOVÁ ÚROVEŇ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od počátku tendence zvyšovat úlohu republik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 tomto trendu pokračoval i úst. z. č. 556/1990 Sb. z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prosince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rávo ČR a SR zřizovat vlastní ozbrojené </a:t>
            </a:r>
            <a:br>
              <a:rPr sz="2200"/>
            </a:b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  bezpečnostní sbory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rozlišuje výlučnou působnost federace a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výlučnou působnost republik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5. - 6. června 1992 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olb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do FS, ČNR a SNR - výsledky předznamenaly rozpad federace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1. září schválila SNR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avu SR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úst. z. 493/1992 (tzv.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druhý kompetenční zákon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)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z 8. října - přesun kompetencí na republik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0708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základní územní správní jednotkou se stala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OBE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 ČR postavení obcí upraveno zákonem ČNR 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č. 367/1990 Sb. ze 4. září 1990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dlišil státní správu a samosprávu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hovořil o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bcích, městech a statutárních městech, a </a:t>
            </a:r>
            <a:br>
              <a:rPr sz="2200"/>
            </a:b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   Praze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(vůči zák. o obcích speciálním zákonem č. 418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legislativou ustaven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JEDNOSTUPŇOVÝ SYSTÉM SAMO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obecní zastupitelstvo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smíšený / spojený model veřejné 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státní správa na prvním stupni vykonávána rovněž orgány samo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rgány obce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: obecní zastupitelstvo, obecní rada, starosta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(primátor) a zástupce starosty, komise, odbory, obecní úřad, tajemník (podle počtu pracovníků OÚ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-380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ÚŘAD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řízeny zákonem ČNR č. 425/1990 Sb. ve městech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e kterých byly ONV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(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zemní členění zůstalo v podstatě nezměněné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od r. 1960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„velké kraje“ a „velké okresy“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e dni zřízení OkÚ v ČR 76 okres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„decentralizovaný orgán SS se všeobecnou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ůsobností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rgány OkÚ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přednosta, okresní shromáždění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referát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Plzni, Brně a Ostravě vykonávaly činnost OkÚ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agistráty, v Praze Magistrát města Prahy a úřad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ěstských částí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jich řízení v kompetenci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lády republik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řídící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kontrolní činnost především MV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V SAMOSTATNÉ ČESKÉ REPUBLI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RECEPČNÍ ZÁKON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s účinností od 31. 12. 1992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ČNR zákon č. 4/1993 Sb. o opatřeních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souvisejících se zánikem ČSFR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ýraznou změnu pro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BECNÍ ZŘÍZE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znamenala a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reformy veřejné správy z roku 1999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na jejím základě přijat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128/2000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Sb.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činnosti jednotlivých druhů obcí zde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mv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/odbor/reforma/seznam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htm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V SAMOSTATNÉ ČESKÉ REPUBLI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NÍ ÚŘAD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- 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425/1990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platil až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o 12. 11. 2000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16. 5. 2000 byl schválen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147/2000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o okresních úřadech - pozbyl účinnosti k 31.12. 2002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charakterizoval OkÚ jako „správní úřady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ykonávající státní správu ve správních obvodech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které se nazývají okresy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ykonávaly státní správu ve věcech, které stanovil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zvláštní zákony,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řezkoumávaly rozhodnutí orgánů obcí a rozhodnut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pověřených obecních úřadů vydaná ve správním říze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+ dozor nad činností obcí + odborná pomoc obcím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+ přezkoumával jejich hospodaře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00"/>
                </a:solidFill>
                <a:latin typeface="Arial"/>
              </a:rPr>
              <a:t>1) Vymezení veřejné s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ROVINA: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právní (ústavní a správní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ekonomická (veřejná ekonomie a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související disciplíny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c) interdisciplinární (současný?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správně vědní?, manažerující?)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VŽDY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snaha specifikovat roli veřejné správy ve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     veřejném sektoru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vztah k legitimitě (potvrzení/vyvrácení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jejích činností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OKRESNÍ ÚŘADY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kresní úřady byly zrušeny na základě zákona </a:t>
            </a:r>
            <a:br>
              <a:rPr sz="2200"/>
            </a:b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č. 320/2002 Sb. s účinností od 1. 1. 2003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"Dnem nabytí účinnosti tohoto zákona se zrušují okresní úřady."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Čl. CXIX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. Pokud zvláštní zákon stanoví působnost okresního úřadu nebo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okresního národního výboru a tato působnost nebyla tímto nebo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zvláštním zákonem převedena na územní samosprávné celky,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vykonává tuto působnost obecní úřad obce s rozšířenou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působností jako výkon přenesené působnos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. Pokud okresní úřad vykonával činnosti, které mu nebyly stanoveny  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obecně závazným právním předpisem, přechází tyto činnosti na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obecní úřad obce s rozšířenou působností jako výkon přenesené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působnos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ÚŘADY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320/2002 Sb.,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Čl.CXIX* 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3. Pokud zvláštní zákon stanoví působnost orgánu, který zanikl, a nejedná se o případy uvedené v bodě 1, a tato působnost nebyla přenesena na jiný orgán, je věcně příslušný ústřední správní úřad, do jehož působnosti rozhodovaná věc náleží, popřípadě ústřední správní úřad, jehož obor působnosti je rozhodované věc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ejbližší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práva o postupu prací na reformě veřejné správy za II. čtvrtletí roku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a) Problematika malých obcí - nové formy meziobecní spoluprá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květen 2005 - Návrh nové formy meziobecní spoluprá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- tzv.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polečenství obc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na principu dobrovolného vstupu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- dohodnut rozsah nepřenositelných činnost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b) Příspěvek na výkon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analýza MV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yplynulo, že u obcí s rozšířenou působností jsou výdaje na výkon státní správy kryty z 84 % a u obcí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s pověřeným obecním úřadem z 51 %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YŠŠÍ ÚZEMNÍ SPRÁVNÍ CELKY - OBECNÉ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integrač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ordinač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ozorová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orad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řidělování finančních prostředků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e právní pomoci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92929"/>
                </a:solidFill>
                <a:latin typeface="Arial"/>
              </a:rPr>
              <a:t>funkce regionálního plánování a územního plánová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prostředkujíc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e krizového říze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ordinace ochrany a péče o životní prostředí v region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292929"/>
                </a:solidFill>
                <a:latin typeface="Arial"/>
              </a:rPr>
              <a:t>(Grospič, J. Úloha krajů v územní reformě veřejné správy. In Grospič, J., Vostrá, L.: Reforma veřejné správy v teorii a praxi (Sborník z mezinárodní konference). Aleš Čeněk, s. r. o., 2004, s. 29 - 30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YŠŠÍ ÚZEMNÍ SPRÁVNÍ CELK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v době vzniku ČR ani na základě převzatého právního řádu fakticky neexistovaly VÚS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již v období federace navrženy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4 alternativy uspořádání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zemská, regionální, kombinovaná a federativní - nebyly zákonodárným sborem projednán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. zákon č. 1/1993, Ústava ČR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„kraje či země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v r. 1994 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Záměry vlády ČR v oblasti reformy veřejné 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do soustavy VS měly přibýt VÚSC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en-US" sz="2200" spc="-1" strike="noStrike" u="sng">
                <a:solidFill>
                  <a:srgbClr val="292929"/>
                </a:solidFill>
                <a:uFillTx/>
                <a:latin typeface="Arial"/>
              </a:rPr>
              <a:t>počítaly se zachováním okresních úřadů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láda uvedla, že se jí nepodařilo rozhodnout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o institucionálním uspořádání SS a S na úrovni VÚS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YŠŠÍ ÚZEMNÍ SPRÁVNÍ CELKY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změna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: až ústavní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zákon č. 347/1997 Sb.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14 krajů - právní postavení upraveno ALE pozdější §§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(z. č. 129/2000 s účinností ode dne voleb do ZK, ustanovení o státní správě od 1. 1. 2001, </a:t>
            </a:r>
            <a:r>
              <a:rPr b="0" lang="en-US" sz="2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činnosti</a:t>
            </a:r>
            <a:r>
              <a:rPr b="0" lang="en-US" sz="2200" spc="-1" strike="noStrike" u="sng">
                <a:solidFill>
                  <a:srgbClr val="292929"/>
                </a:solidFill>
                <a:uFillTx/>
                <a:latin typeface="Arial"/>
              </a:rPr>
              <a:t>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roblémy související s přípravou realizace krajského zřízení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a) po přijetí zákona č. 347/1997 Sb. existovalo dvojí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platné územní vymezení krajů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b) VÚSC menší než NUTSII -  „regionů soudržnosti“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) otázky stanovení hranic krajů z hlediska historického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vývoje, mínění občanů, infrastruktury ..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relevantní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Koncepce reformy veřejné 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(1999)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láda „vzala na vědomí“ usnesením č. 258/1999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9000"/>
            <a:ext cx="766116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Zpráva o postupu prací na reformě veřejné správy za II. čtvrtletí roku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Návrh zákona o územně správním členění státu a návrh zákona, kterým se mění některé zákony v souvislosti s přijetím zákona o územně správním členění státu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materiál postoupený k projednání vládě 1. června 2005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rozpracována varianta s tzv.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„oblastí“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modifikovaná  podoba krajů stanovených zák. č. 36/1960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Sb. - navrženo 8, 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reforma separována od územní samo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louhou dobu malá pozornost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ouze strukturální změny - zrušení či nahrazení ministerstev a ústředních správních úřad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egativní charakteristiky ústřední státní správy -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materiálech teze </a:t>
            </a:r>
            <a:r>
              <a:rPr b="0" lang="cs-CZ" sz="2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Centra pro sociální a ekonomické strategi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ýznamnou změnou až usnesení vlády č. 619 ze dne 20. června 2001 - projednala návrh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modernizace ústřední státní správy se zvláštním přihlédnutím k systemizaci a organizačnímu uspořádání správních úřadů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9261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(2001) - priorit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rátkodobé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červen 2001 - prosinec 2003)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harmonizace vnitřní organizace ministerstev a jiných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středních správních úřad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třednědobé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červenec 2002 - prosinec 2003)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výšení efektivnosti a zlepšení koordinace při výkonu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horizontálních funkcí a proces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onsolidace systému ústřední státní správ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osílení koncepční, koordinační a kontrolní úloh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inisterstev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výšení úrovně řízení v ministerstvech a jiných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středních správních úřadech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i projekt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Phar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2612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Cíle nové vlády ustavené v roce 2002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jednou programovou prioritou „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zahájení modernizace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ústřední státní správy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, jejímž cílem je zefektivnit,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racionalizovat a zvýšit horizontální koordinaci činností veřejné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správy za širšího využití moderních technologií (elektronické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veřejné správy) a manažerských metod řízení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Reformu a modernizaci ústřední státní správy zastřešuje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od 1. 4. 2004 na základě rozhodnutí vlády 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řad vlád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usnesení vlády ze dne 17. března 2004 č. 237 „Postup a hlavní směry reformy a modernizace ústřední státní správy obsahující vyřešení gesce a organizačního zabezpečení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“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elze pominout Fosthoffův výrok, že veřejná správa může být jen popsána, nikoli však definována“ (Hendrych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RÁVA: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ažák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činnost(i) sledující záměrně nějaký cíl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nebo ...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činnost(i) nesoucí se za trvalým účelem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řídit ty které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záležit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omahač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jde o řídící činnosti, a to činnosti záměrné,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účelové, kontinutální a organizované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+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institucionalizované kontrolní a regulativní činn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ůcha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správou se v podstatě chápe společenské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řízení, které však má určité specifické rysy a realizuje se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e specifických formách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9261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ostup a hlavní směry reformy a modernizace ústřední státní správy obsahující vyřešení gesce a organizačního zabezpečení (2004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koncepce rozlišuje změny dvojího druhu: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modernizace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zlepšování současného systému;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reforma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hlubší jednorázový proces měnící nebo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zásadním způsobem upravující vlastní systém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k tomu pět hlavních směrů s celkem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atnácti konkrétními projekt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navázáno na cíle předchozích dokument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Vrcholným pracovním orgánem reformy je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Řídící tým reformy ústřední státní správy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mají mu být předkládány všechny výstupy schválené usnesením vlády k reformě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rojektového řízení využito pro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„“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zvýšení meziresortní spolupráce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zajištění provázanosti jednotlivých projektů reformy a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yužití obecných principů projektového řízení, kterými jsou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flexibilita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uvědomění si nákladů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orientace na cíl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angažovanost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průhlednost a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odpovědnost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261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Směry a projekty reformy a moderniz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A: Racionalizace procesů v ústřední státní správě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1 Identifikace poslání (cílů) ústředních správních úřadů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2 Popis a analýza procesů v ústředních správních úřadech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3 Vypracování pravidel pro fungování tzv. agentur pro ústřední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státní správu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4 Reorganizace ústřední státní sprá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: Zlepšení řízení v ústřední státní správě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1 Efektivní horizontální komunikace a podpora tvorby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celostátních strategií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2 Moderní manažerské techniky v ústředních správních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úřadech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3 Lepší koordinace ústřední státní správy směrem k územní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veřejné správě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4 Řízení znalost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261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měry a projekty reformy a moderniz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C: Zvýšení kvality ústřední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.1 Zavádění a rozvoj řízení kvality v ústřední státní správě</a:t>
            </a:r>
            <a:br>
              <a:rPr sz="2000"/>
            </a:b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.2 Reforma regulace v ústřední státní správě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.3 E-governmen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D. Implementace a zlepšování státní služby v ústředních správních úřadech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.1 Implementace služebního zákon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E. Racionalizace financování ústřední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1 Rozvoj finančního a výkonového managementu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2 Využití soukromých zdrojů pro veřejné investi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3 Sjednocení a prohloubení kontroly v ústřední státní správě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5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!Současný stav projektů  - webové stránky Úřadu vlády! </a:t>
            </a:r>
            <a:br>
              <a:rPr sz="2000"/>
            </a:br>
            <a:r>
              <a:rPr b="1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(UŽ N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-380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REFORMA VEŘEJNÉ SPRÁVY A ZVYŠOVÁNÍ KVALIFIKACE ÚŘEDNÍKŮ</a:t>
            </a:r>
            <a:br>
              <a:rPr sz="24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dlouho dobu reformě VS vytýkána absence právn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pravy postavení zaměstnanců ve VS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existoval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systém řízení lidských zdrojů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- usnesení vlády č. 601/1999 Sb. –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ncepce přípra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EK 2001: „politováníhodné“, že v ČR stále chyb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legislativa určující status úředníků veřejné správy -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ředpokladem pro úspěšné převzetí požadavků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yplývajících z 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acquis communautaire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ráva a povinnosti zaměstnanců dány zejmén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zákoníkem práce + zákon o platu a odměně (143/1992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dex etiky zaměstnanců ve veřejné správě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vlád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schválila 2001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omplexní legislativa a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 r. 2002 - 312, </a:t>
            </a:r>
            <a:r>
              <a:rPr b="1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218 </a:t>
            </a: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(2009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VÝZNAMNÉ SOUČÁSTI REFORMY KONTROLY VEŘEJNÉ SPRÁVY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(SAMOSTUDIUM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Nejvyšší správní soud v Ústavě ČR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(1993), jeho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postavení upravil až zákon č. 150/2002 Sb. s 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účinností od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1. 1. 2003 - kompeten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eřejný ochránce práv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- zákon č. 349/1999 Sb.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Svobodný přístup k informacím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- zákon č. 106/1999 Sb., zák. č. 123/1998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8120" y="1844640"/>
            <a:ext cx="7661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ECIFIČNOST VEŘEJNÉ SPRÁV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br>
              <a:rPr sz="20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řejnoprávní charakter subjektu veřejnéh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ravování (tj. nositel veřejné moci),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bjekt správy - „veřejné záležitosti“ legitimované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„veřejným zájmem“,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odvozenost cílů od funkcí státu či územníh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samosprávného celku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ákonné založením subjektu i objektu tohot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ruhu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olečenského řízení (v různé míře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onkrétnosti), = rule of law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pozitivní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negativ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materiální (funkční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formální (organizační / institucionální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tátní správa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samo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KONOMICKÉ ASPEKTY VEŘEJNÉ SPRÁVY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 oblasti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samosprávy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větší prostor pro konkretizaci cílů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(žádoucích stavů) a kroků k jejich dosažení (a tím i pro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ovaci – a tím i pro řízení)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předpokládá znalosti: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) u reformátorů VS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) u úředníků / politiků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) u hodnotitelů VS činností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.. a jiné kapac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) Veřejná ekonomi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 veřejná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557360"/>
            <a:ext cx="7661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ahraniční literatura - např. Stiglitz, Musgrave a Musgravová či Jackson a Brown - termín „vláda“ (= stát = regulace = intervence... = systém veřejné moci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česká literatura se někdy snaží specifikovat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užívá tezí správního práva, neb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mezuje obsahově odlišně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právní odvětví jako podskupiny veřejno-správ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kompetence vs.  postavení veřejné správy v národní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hospodářstv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hly pohledu na veřejnou správu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ubjekt s kompetencí zakládat, řídit / spravovat subjekt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eřejného sektoru (ovlivňuje tak i jeho selhávání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roducent veřejných statk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pecifický prostor pro uplatnění osobních či jiných zájmů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byrokrat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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mohou se překrývat, vždy důraz na aspekt EFEKTIVN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) Veřejná ekonomi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 veřejná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699920"/>
            <a:ext cx="7661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chrana, F. Veřejný sektor a efektivní rozhodová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+ způsob přijetí rozhodnutí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veřejná volb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8675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557360"/>
            <a:ext cx="7661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93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současnosti ohraničovány dvě základní koncepce / filozofie / přístup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(new) public management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př.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Hughe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ychází z ekonomie a managementu soukromé sfér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tzv. tradiční správa (Weber, Wilson)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manažerismus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(byrokracie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trh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do sebe zahleděné řízení vs. zaměření se na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klient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inputově dominující struktura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efektivní výstup a výsledk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krátkodobé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strategické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uvažová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ouvisí s prostorem, který je věnován řízení a předevší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ontrole výkonů a výsledků a (osobní) odpovědnost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a výsledk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→ funkce správy užší a limitovanější, než funkce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 managementu – spravování jeho součástí: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Základní rozdíl je ve významové odlišnosti mezi „sloužit“ a 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„kontrolovat výsledky nebo dosahovat výsledků“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0:30:58Z</dcterms:created>
  <dc:creator>Eman</dc:creator>
  <dc:description/>
  <dc:language>en-US</dc:language>
  <cp:lastModifiedBy>77120</cp:lastModifiedBy>
  <dcterms:modified xsi:type="dcterms:W3CDTF">2006-10-13T08:16:06Z</dcterms:modified>
  <cp:revision>54</cp:revision>
  <dc:subject/>
  <dc:title>Vymezení správní vědy a veřejné správy</dc:title>
</cp:coreProperties>
</file>